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0A7-EF70-475D-9286-B7BF29BE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0DB-F837-4C92-BC06-2C2E354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F60-0320-4867-997E-83BCFC70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AB9-A3DD-4CEC-AA48-EE72A8C0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E7B-8B30-4958-B066-0B53901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03C-AD46-4208-AC53-CD7CEE4F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3DE-9A31-4081-8AE3-F59BC117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A5E-72FC-4157-AB59-0991BD64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133-1631-43B4-8730-314EC168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2DD-2183-49E1-BB18-F8C7DA22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985-81E3-4DC4-A19F-13FA109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620-9D80-4D02-B9AC-9CE14A6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F0D4-35F4-4BC6-AC92-0BD52090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Договор социального най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Текущий ремонт жилого по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текущему ремонту занимаемого жилого помещения, выполняемому Нанимателем за свой счет, относятся следующие работы: побелка, окраска и оклейка стен, потолков, окраска полов, дверей, подоконников, оконных переплетов с внутренней стороны, радиаторов, а также замена оконных и дверных приборов, ремонт внутриквартирного инженерного оборудования (электропроводки, холодного и горячего водоснабжения, теплоснабжения, газоснабж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нимателем работ по текущему ремонту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ймодателем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 не установлены виды работ по проведению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оговоре социального найма не классифицированы отношения нанимателя с третьими лицами (УО, ОО, ТСЖ, ЖСК, РСО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 -принимать участие в надлежащем содержании и в ремонте общего имущества в многоквартирном доме, в котором находится сданное внаем жилое поме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-обеспечивать предоставление нанимателю необходимых коммунальных услуг надлежащего каче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установлен механизм внесения нанимателем платы за жилое помещение и коммунальные услуги при способах управления (непосредственный и управление ТСЖ, ЖК, ЖСК, СП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говор социального най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договору социального найма жилого помещения одна сторона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ственник жилого помещ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государственного жилищного фонда или муниципального жилищного фонда (действующие от его имени уполномоченный государственный орган или уполномоченный орган местного самоуправления) либо управомоченное им лицо (наймодатель) обязуется передать другой стороне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ждани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нанимателю) жилое помещение во владение и в пользование для проживания в нем на условиях, установленных Жилищным кодекс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Права сторон по договору социального най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400" y="79632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5400" y="1943640"/>
            <a:ext cx="8228160" cy="4456080"/>
            <a:chOff x="365400" y="1943640"/>
            <a:chExt cx="8228160" cy="4456080"/>
          </a:xfrm>
        </p:grpSpPr>
        <p:sp>
          <p:nvSpPr>
            <p:cNvPr id="48" name=""/>
            <p:cNvSpPr/>
            <p:nvPr/>
          </p:nvSpPr>
          <p:spPr>
            <a:xfrm>
              <a:off x="365400" y="3086280"/>
              <a:ext cx="377100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жилого помещения по договору социального найма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право требовать своевременного внесения платы за жилое помещение и коммунальные услуг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3280" y="194364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/>
            <p:nvPr/>
          </p:nvCxnSpPr>
          <p:spPr>
            <a:xfrm>
              <a:off x="225072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5051520" y="194364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22200" y="3086280"/>
              <a:ext cx="377136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ебовать от наймодателя своевременного проведения капитального ремонта жилого помещения, надлежащего участия в содержании общего имущества в многоквартирном доме, а также предоставления коммунальных услу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/>
            <p:nvPr/>
          </p:nvCxnSpPr>
          <p:spPr>
            <a:xfrm flipH="1">
              <a:off x="670716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65400" y="590400"/>
            <a:ext cx="8227080" cy="5714640"/>
            <a:chOff x="365400" y="590400"/>
            <a:chExt cx="8227080" cy="5714640"/>
          </a:xfrm>
        </p:grpSpPr>
        <p:sp>
          <p:nvSpPr>
            <p:cNvPr id="56" name=""/>
            <p:cNvSpPr/>
            <p:nvPr/>
          </p:nvSpPr>
          <p:spPr>
            <a:xfrm>
              <a:off x="365400" y="1733400"/>
              <a:ext cx="3771000" cy="4113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pPr marL="343080" indent="-343080"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уществлять капитальны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нимать участие в надлежащем содержании и в ремонте общего имущества в многоквартирном доме, в котором находится сданное внаем жилое помеще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предоставление нанимателю необходимых коммунальных услуг надлежащего качест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3280" y="59040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/>
            <p:nvPr/>
          </p:nvCxnSpPr>
          <p:spPr>
            <a:xfrm>
              <a:off x="225072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5051520" y="59040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22200" y="1733400"/>
              <a:ext cx="3770280" cy="45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спользовать жилое помещение по назначению и в пределах, которые установлены ЖК РФ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сохранность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держивать надлежащее состояние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водить текущи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воевременно вносить плату за жилое помещение и коммунальные услуг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формировать наймодателя в установленные договором сроки об изменении оснований и условий, дающих право пользования жилы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мещением по договору социального найм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670716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Взаимодействие ОМСУ с нанимателями жилых помещений и управляющей организ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1611000"/>
            <a:ext cx="8456760" cy="4457520"/>
            <a:chOff x="250920" y="1611000"/>
            <a:chExt cx="8456760" cy="4457520"/>
          </a:xfrm>
        </p:grpSpPr>
        <p:sp>
          <p:nvSpPr>
            <p:cNvPr id="68" name=""/>
            <p:cNvSpPr/>
            <p:nvPr/>
          </p:nvSpPr>
          <p:spPr>
            <a:xfrm>
              <a:off x="1965240" y="2639880"/>
              <a:ext cx="159948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5720" y="2525400"/>
              <a:ext cx="17118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2639880"/>
              <a:ext cx="159876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ОМС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5240" y="4240080"/>
              <a:ext cx="1599480" cy="685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22640" y="4240080"/>
              <a:ext cx="2514240" cy="68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/>
            <p:nvPr/>
          </p:nvCxnSpPr>
          <p:spPr>
            <a:xfrm>
              <a:off x="3564360" y="2982240"/>
              <a:ext cx="801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/>
            <p:nvPr/>
          </p:nvCxnSpPr>
          <p:spPr>
            <a:xfrm flipH="1">
              <a:off x="6077160" y="2982240"/>
              <a:ext cx="803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/>
            <p:nvPr/>
          </p:nvCxnSpPr>
          <p:spPr>
            <a:xfrm rot="5400000">
              <a:off x="6478920" y="3383280"/>
              <a:ext cx="1257840" cy="114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/>
            <p:nvPr/>
          </p:nvCxnSpPr>
          <p:spPr>
            <a:xfrm flipH="1">
              <a:off x="3564000" y="4582800"/>
              <a:ext cx="4582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 flipV="1" rot="5400000">
              <a:off x="3193920" y="1467360"/>
              <a:ext cx="743400" cy="1600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6194520" y="1896480"/>
              <a:ext cx="148572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4365720" y="1611000"/>
              <a:ext cx="1828800" cy="5713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920" y="3439800"/>
              <a:ext cx="114012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 flipV="1" rot="10800000">
              <a:off x="820080" y="2981520"/>
              <a:ext cx="1144800" cy="457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/>
            <p:nvPr/>
          </p:nvCxnSpPr>
          <p:spPr>
            <a:xfrm flipH="1" rot="16200000">
              <a:off x="1221480" y="3839040"/>
              <a:ext cx="343440" cy="114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2193840" y="3554280"/>
              <a:ext cx="1142280" cy="4572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"/>
            <p:cNvCxnSpPr/>
            <p:nvPr/>
          </p:nvCxnSpPr>
          <p:spPr>
            <a:xfrm flipV="1">
              <a:off x="2765160" y="40111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 flipV="1">
              <a:off x="2765160" y="33253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4022640" y="5268600"/>
              <a:ext cx="2514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/>
            <p:nvPr/>
          </p:nvCxnSpPr>
          <p:spPr>
            <a:xfrm flipH="1">
              <a:off x="6536880" y="2982240"/>
              <a:ext cx="1942560" cy="2686680"/>
            </a:xfrm>
            <a:prstGeom prst="bentConnector3">
              <a:avLst>
                <a:gd name="adj1" fmla="val -117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rot="10800000">
              <a:off x="2764800" y="4925160"/>
              <a:ext cx="125784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1508040" y="3782880"/>
              <a:ext cx="572040" cy="114120"/>
            </a:xfrm>
            <a:custGeom>
              <a:avLst/>
              <a:gdLst>
                <a:gd name="textAreaLeft" fmla="*/ 100080 w 572040"/>
                <a:gd name="textAreaRight" fmla="*/ 414720 w 5720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6680" y="2296800"/>
              <a:ext cx="914760" cy="114120"/>
            </a:xfrm>
            <a:custGeom>
              <a:avLst/>
              <a:gdLst>
                <a:gd name="textAreaLeft" fmla="*/ 159840 w 914760"/>
                <a:gd name="textAreaRight" fmla="*/ 663120 w 9147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6680" y="5040360"/>
              <a:ext cx="915480" cy="114120"/>
            </a:xfrm>
            <a:custGeom>
              <a:avLst/>
              <a:gdLst>
                <a:gd name="textAreaLeft" fmla="*/ 160200 w 915480"/>
                <a:gd name="textAreaRight" fmla="*/ 663840 w 9154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несение нанимателем платы за Ж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нимат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жилых помещений по договору социального найма и договору найма жилых помещений государственного или муниципального жилищного фонда в многоквартирном доме, управление которым осуществляется юридическим лицом независимо от организационно-правовой формы или индивидуальным предпринимателем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ят пла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 содержание и ремонт жилого помещения, а также плату за коммунальные услуги эт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яющей орган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размер вносимой нанимателем жилого помещения платы меньше, чем размер платы, установленный договором управления, оставшаяся часть платы вносится наймодателем этого жилого помещения в согласованном с управляющей организацией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наем жилого помещения, предоставленного по договору социального найм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6720" y="1125360"/>
            <a:ext cx="8486280" cy="5371920"/>
            <a:chOff x="216720" y="1125360"/>
            <a:chExt cx="8486280" cy="5371920"/>
          </a:xfrm>
        </p:grpSpPr>
        <p:sp>
          <p:nvSpPr>
            <p:cNvPr id="99" name=""/>
            <p:cNvSpPr/>
            <p:nvPr/>
          </p:nvSpPr>
          <p:spPr>
            <a:xfrm>
              <a:off x="3154680" y="2382480"/>
              <a:ext cx="152352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4000" y="2268360"/>
              <a:ext cx="1631160" cy="91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2760" y="2382480"/>
              <a:ext cx="152244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6320" y="4668480"/>
              <a:ext cx="174024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0880" y="4668480"/>
              <a:ext cx="1957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"/>
            <p:cNvCxnSpPr/>
            <p:nvPr/>
          </p:nvCxnSpPr>
          <p:spPr>
            <a:xfrm>
              <a:off x="4677840" y="2725200"/>
              <a:ext cx="32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6634800" y="2725200"/>
              <a:ext cx="327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/>
            <p:nvPr/>
          </p:nvCxnSpPr>
          <p:spPr>
            <a:xfrm rot="5400000">
              <a:off x="6534720" y="3821760"/>
              <a:ext cx="1943640" cy="436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/>
            <p:nvPr/>
          </p:nvCxnSpPr>
          <p:spPr>
            <a:xfrm flipH="1">
              <a:off x="4785840" y="5011200"/>
              <a:ext cx="544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/>
            <p:nvPr/>
          </p:nvCxnSpPr>
          <p:spPr>
            <a:xfrm flipH="1" flipV="1" rot="5400000">
              <a:off x="3977280" y="1463760"/>
              <a:ext cx="857880" cy="97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>
              <a:off x="6635880" y="1524960"/>
              <a:ext cx="1089000" cy="85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895640" y="1125360"/>
              <a:ext cx="1740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25520" y="3525480"/>
              <a:ext cx="163188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1080" y="3525480"/>
              <a:ext cx="978480" cy="79992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0880" y="5697360"/>
              <a:ext cx="21758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7506720" y="2725560"/>
              <a:ext cx="979200" cy="3372480"/>
            </a:xfrm>
            <a:prstGeom prst="bentConnector3">
              <a:avLst>
                <a:gd name="adj1" fmla="val -222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rot="10800000">
              <a:off x="3915720" y="5353920"/>
              <a:ext cx="1415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3699000" y="3639960"/>
              <a:ext cx="325800" cy="114120"/>
            </a:xfrm>
            <a:custGeom>
              <a:avLst/>
              <a:gdLst>
                <a:gd name="textAreaLeft" fmla="*/ 56880 w 325800"/>
                <a:gd name="textAreaRight" fmla="*/ 236160 w 3258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48320" y="2039760"/>
              <a:ext cx="435600" cy="114120"/>
            </a:xfrm>
            <a:custGeom>
              <a:avLst/>
              <a:gdLst>
                <a:gd name="textAreaLeft" fmla="*/ 75960 w 435600"/>
                <a:gd name="textAreaRight" fmla="*/ 315720 w 435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01000" y="5468760"/>
              <a:ext cx="543960" cy="114120"/>
            </a:xfrm>
            <a:custGeom>
              <a:avLst/>
              <a:gdLst>
                <a:gd name="textAreaLeft" fmla="*/ 95040 w 543960"/>
                <a:gd name="textAreaRight" fmla="*/ 394560 w 5439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3640" y="1353600"/>
              <a:ext cx="119664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поднай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6-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880" y="1582200"/>
              <a:ext cx="174096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>
              <a:off x="2176200" y="1810800"/>
              <a:ext cx="21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652680" y="2268360"/>
              <a:ext cx="1305000" cy="11426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под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/>
            <p:nvPr/>
          </p:nvCxnSpPr>
          <p:spPr>
            <a:xfrm>
              <a:off x="1305000" y="2039760"/>
              <a:ext cx="144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 flipH="1" flipV="1" rot="5400000">
              <a:off x="1885680" y="2143080"/>
              <a:ext cx="686160" cy="1850040"/>
            </a:xfrm>
            <a:prstGeom prst="bentConnector4">
              <a:avLst>
                <a:gd name="adj1" fmla="val -33333"/>
                <a:gd name="adj2" fmla="val 67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 flipV="1">
              <a:off x="3808080" y="181044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89560" y="1810800"/>
              <a:ext cx="218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66760" y="2496960"/>
              <a:ext cx="433440" cy="114120"/>
            </a:xfrm>
            <a:custGeom>
              <a:avLst/>
              <a:gdLst>
                <a:gd name="textAreaLeft" fmla="*/ 75600 w 433440"/>
                <a:gd name="textAreaRight" fmla="*/ 314280 w 4334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/>
            <p:nvPr/>
          </p:nvCxnSpPr>
          <p:spPr>
            <a:xfrm rot="10800000">
              <a:off x="434160" y="1810080"/>
              <a:ext cx="2176560" cy="2115360"/>
            </a:xfrm>
            <a:prstGeom prst="bentConnector3">
              <a:avLst>
                <a:gd name="adj1" fmla="val 110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 flipH="1" flipV="1" rot="5400000">
              <a:off x="3143520" y="3078720"/>
              <a:ext cx="457560" cy="435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 rot="16200000">
              <a:off x="4149360" y="2833920"/>
              <a:ext cx="457560" cy="925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V="1" rot="16200000">
              <a:off x="3336480" y="4088520"/>
              <a:ext cx="343440" cy="81648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/>
            <p:nvPr/>
          </p:nvCxnSpPr>
          <p:spPr>
            <a:xfrm rot="5400000">
              <a:off x="4288320" y="4061880"/>
              <a:ext cx="343440" cy="8708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ременные жи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1360" y="1250640"/>
            <a:ext cx="8799480" cy="5371920"/>
            <a:chOff x="171360" y="1250640"/>
            <a:chExt cx="8799480" cy="5371920"/>
          </a:xfrm>
        </p:grpSpPr>
        <p:sp>
          <p:nvSpPr>
            <p:cNvPr id="137" name=""/>
            <p:cNvSpPr/>
            <p:nvPr/>
          </p:nvSpPr>
          <p:spPr>
            <a:xfrm>
              <a:off x="2114280" y="2165040"/>
              <a:ext cx="1600560" cy="79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4760" y="2050560"/>
              <a:ext cx="2171520" cy="102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  Ст.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3480" y="2279160"/>
              <a:ext cx="1599120" cy="571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4794120"/>
              <a:ext cx="217152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3360" y="4794120"/>
              <a:ext cx="2172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>
              <a:off x="3714840" y="2564640"/>
              <a:ext cx="800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/>
            <p:nvPr/>
          </p:nvCxnSpPr>
          <p:spPr>
            <a:xfrm flipH="1">
              <a:off x="6685920" y="25646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/>
            <p:nvPr/>
          </p:nvCxnSpPr>
          <p:spPr>
            <a:xfrm rot="5400000">
              <a:off x="6285240" y="3480120"/>
              <a:ext cx="228672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/>
            <p:nvPr/>
          </p:nvCxnSpPr>
          <p:spPr>
            <a:xfrm flipH="1">
              <a:off x="3828240" y="5136480"/>
              <a:ext cx="91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/>
            <p:nvPr/>
          </p:nvCxnSpPr>
          <p:spPr>
            <a:xfrm flipH="1" flipV="1" rot="5400000">
              <a:off x="3371760" y="1022040"/>
              <a:ext cx="686520" cy="1599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/>
            <p:nvPr/>
          </p:nvCxnSpPr>
          <p:spPr>
            <a:xfrm>
              <a:off x="6914880" y="1479240"/>
              <a:ext cx="102852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514760" y="1250640"/>
              <a:ext cx="240012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8680" y="3536640"/>
              <a:ext cx="1141920" cy="91440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4000" y="3536640"/>
              <a:ext cx="1029600" cy="9144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0640" y="5822640"/>
              <a:ext cx="297180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>
              <a:off x="7372080" y="2565000"/>
              <a:ext cx="1370520" cy="3658320"/>
            </a:xfrm>
            <a:prstGeom prst="bentConnector3">
              <a:avLst>
                <a:gd name="adj1" fmla="val -1668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/>
            <p:nvPr/>
          </p:nvCxnSpPr>
          <p:spPr>
            <a:xfrm rot="10800000">
              <a:off x="2742480" y="5479200"/>
              <a:ext cx="1658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2571480" y="34225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28800" y="182196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3640" y="5594040"/>
              <a:ext cx="571680" cy="114120"/>
            </a:xfrm>
            <a:custGeom>
              <a:avLst/>
              <a:gdLst>
                <a:gd name="textAreaLeft" fmla="*/ 100080 w 571680"/>
                <a:gd name="textAreaRight" fmla="*/ 414720 w 5716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360" y="2050560"/>
              <a:ext cx="1599480" cy="102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ременные жиль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3360" y="3765240"/>
              <a:ext cx="21715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полнительное соглашение 12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>
              <a:off x="3715200" y="2564640"/>
              <a:ext cx="1028520" cy="14864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 flipV="1" rot="10800000">
              <a:off x="6914160" y="2563920"/>
              <a:ext cx="22932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1770840" y="2564640"/>
              <a:ext cx="343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543640" y="330804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/>
            <p:nvPr/>
          </p:nvCxnSpPr>
          <p:spPr>
            <a:xfrm rot="10800000">
              <a:off x="970920" y="3078720"/>
              <a:ext cx="342720" cy="91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V="1" rot="16200000">
              <a:off x="2114280" y="4165200"/>
              <a:ext cx="343440" cy="9140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/>
            <p:nvPr/>
          </p:nvCxnSpPr>
          <p:spPr>
            <a:xfrm flipH="1" flipV="1" rot="5400000">
              <a:off x="2086560" y="2707560"/>
              <a:ext cx="572040" cy="108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/>
            <p:nvPr/>
          </p:nvCxnSpPr>
          <p:spPr>
            <a:xfrm flipH="1" rot="16200000">
              <a:off x="2971440" y="2908440"/>
              <a:ext cx="572040" cy="684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/>
            <p:nvPr/>
          </p:nvCxnSpPr>
          <p:spPr>
            <a:xfrm rot="5400000">
              <a:off x="2999160" y="4194000"/>
              <a:ext cx="343440" cy="85716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лены семьи наним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19320" y="1157040"/>
            <a:ext cx="8571960" cy="5600880"/>
            <a:chOff x="319320" y="1157040"/>
            <a:chExt cx="8571960" cy="5600880"/>
          </a:xfrm>
        </p:grpSpPr>
        <p:sp>
          <p:nvSpPr>
            <p:cNvPr id="177" name=""/>
            <p:cNvSpPr/>
            <p:nvPr/>
          </p:nvSpPr>
          <p:spPr>
            <a:xfrm>
              <a:off x="3404880" y="2185560"/>
              <a:ext cx="137160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0600" y="2071440"/>
              <a:ext cx="2055240" cy="114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 (ДСН) Ст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2120" y="2300040"/>
              <a:ext cx="160092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90840" y="4929120"/>
              <a:ext cx="1827360" cy="799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6840" y="5043600"/>
              <a:ext cx="28573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>
              <a:off x="4776840" y="2642760"/>
              <a:ext cx="1144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/>
            <p:nvPr/>
          </p:nvCxnSpPr>
          <p:spPr>
            <a:xfrm flipH="1">
              <a:off x="6945480" y="2642760"/>
              <a:ext cx="1166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 rot="5400000">
              <a:off x="6576120" y="4043520"/>
              <a:ext cx="2343960" cy="228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/>
            <p:nvPr/>
          </p:nvCxnSpPr>
          <p:spPr>
            <a:xfrm flipH="1">
              <a:off x="4317480" y="5328720"/>
              <a:ext cx="45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/>
            <p:nvPr/>
          </p:nvCxnSpPr>
          <p:spPr>
            <a:xfrm flipH="1" flipV="1" rot="5400000">
              <a:off x="4204440" y="1384560"/>
              <a:ext cx="686160" cy="91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7404120" y="1499760"/>
              <a:ext cx="45900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005080" y="1271160"/>
              <a:ext cx="239904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1720" y="3557520"/>
              <a:ext cx="14857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3640" y="3557520"/>
              <a:ext cx="1027800" cy="914040"/>
            </a:xfrm>
            <a:prstGeom prst="flowChartTerminator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76840" y="5958000"/>
              <a:ext cx="33145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СН-ДУ 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/>
            <p:nvPr/>
          </p:nvCxnSpPr>
          <p:spPr>
            <a:xfrm flipH="1">
              <a:off x="8091360" y="2642400"/>
              <a:ext cx="572400" cy="3715560"/>
            </a:xfrm>
            <a:prstGeom prst="bentConnector3">
              <a:avLst>
                <a:gd name="adj1" fmla="val -3983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/>
            <p:nvPr/>
          </p:nvCxnSpPr>
          <p:spPr>
            <a:xfrm rot="10800000">
              <a:off x="3403440" y="5728680"/>
              <a:ext cx="1373400" cy="62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3290760" y="37861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9480" y="184284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7720" y="5729400"/>
              <a:ext cx="570600" cy="114120"/>
            </a:xfrm>
            <a:custGeom>
              <a:avLst/>
              <a:gdLst>
                <a:gd name="textAreaLeft" fmla="*/ 99720 w 570600"/>
                <a:gd name="textAreaRight" fmla="*/ 413640 w 570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9320" y="2185560"/>
              <a:ext cx="148572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5040" y="4586400"/>
              <a:ext cx="453240" cy="114120"/>
            </a:xfrm>
            <a:custGeom>
              <a:avLst/>
              <a:gdLst>
                <a:gd name="textAreaLeft" fmla="*/ 79200 w 453240"/>
                <a:gd name="textAreaRight" fmla="*/ 328680 w 4532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9320" y="3443040"/>
              <a:ext cx="1485720" cy="1143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вший 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H="1">
              <a:off x="1804680" y="401436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1118880" y="4929120"/>
              <a:ext cx="114084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/>
            <p:nvPr/>
          </p:nvCxnSpPr>
          <p:spPr>
            <a:xfrm>
              <a:off x="2259360" y="5328720"/>
              <a:ext cx="23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/>
            <p:nvPr/>
          </p:nvCxnSpPr>
          <p:spPr>
            <a:xfrm flipH="1" rot="16200000">
              <a:off x="718560" y="4928760"/>
              <a:ext cx="743400" cy="5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348200" y="1157040"/>
              <a:ext cx="18288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идарная 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/>
            <p:nvPr/>
          </p:nvCxnSpPr>
          <p:spPr>
            <a:xfrm flipV="1" rot="16200000">
              <a:off x="1575360" y="2585160"/>
              <a:ext cx="45756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 flipH="1" flipV="1" rot="5400000">
              <a:off x="3090240" y="2556720"/>
              <a:ext cx="457560" cy="1543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 rot="5400000">
              <a:off x="3975120" y="4699800"/>
              <a:ext cx="972000" cy="2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6200000">
              <a:off x="2746800" y="4271400"/>
              <a:ext cx="457560" cy="856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4090320" y="31003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 flipH="1" rot="16200000">
              <a:off x="4289400" y="3242520"/>
              <a:ext cx="114840" cy="515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/>
            <p:nvPr/>
          </p:nvCxnSpPr>
          <p:spPr>
            <a:xfrm flipH="1" flipV="1" rot="5400000">
              <a:off x="918720" y="1756080"/>
              <a:ext cx="572040" cy="286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3177000" y="1613880"/>
              <a:ext cx="228240" cy="1028880"/>
            </a:xfrm>
            <a:prstGeom prst="bentConnector3">
              <a:avLst>
                <a:gd name="adj1" fmla="val 497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36:34Z</dcterms:created>
  <dc:creator>фИЛИМОНОВ</dc:creator>
  <dc:description/>
  <dc:language>en-US</dc:language>
  <cp:lastModifiedBy>фИЛИМОНОВ</cp:lastModifiedBy>
  <dcterms:modified xsi:type="dcterms:W3CDTF">2007-11-25T18:10:02Z</dcterms:modified>
  <cp:revision>3</cp:revision>
  <dc:subject/>
  <dc:title>Договор социального найма</dc:title>
</cp:coreProperties>
</file>