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2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25.jpeg" ContentType="image/jpeg"/>
  <Override PartName="/ppt/media/image26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7FC-0D6D-40AC-B1E5-32B182C7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062-7726-441D-86D5-31B7B65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E91-95CB-48AD-9300-D6FC96B3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F6C-3380-4F42-8949-9853AC0D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172-5754-4B78-8F5E-487CC177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E42-A474-4148-BF5F-D2DF6806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CB1-BC22-428B-B932-3F7BCEC9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D5D-B32C-42F6-977D-525236D7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B80-EB87-457A-B227-CC0E528B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7D2-6CD5-44AA-B879-AD6208B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74D-ADC5-49BD-AAB0-E0FB5D8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938-D04B-40E2-8B01-CCB6C3D1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fffffa"/>
            </a:gs>
            <a:gs pos="100000">
              <a:srgbClr val="ffff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F59E-E4A0-45E5-8ECB-49FF20A48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28960" y="1856880"/>
            <a:ext cx="621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Гостюхина</a:t>
            </a:r>
            <a:br>
              <a:rPr sz="4000"/>
            </a:br>
            <a:r>
              <a:rPr b="0" lang="ru-RU" sz="4000" spc="-1" strike="noStrike">
                <a:solidFill>
                  <a:srgbClr val="7e7e00"/>
                </a:solidFill>
                <a:latin typeface="Arial"/>
              </a:rPr>
              <a:t>Светлана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4" descr="DSCN4978.jpg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2786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143160" y="214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СОШ с УИОП г. Кир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ской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286160" y="35719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итель конкурса лучших учителей Кировской области и Российской Федерации ПНП  «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ж педагогической работы  34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H01046J.JPG"/>
          <p:cNvPicPr/>
          <p:nvPr/>
        </p:nvPicPr>
        <p:blipFill>
          <a:blip r:embed="rId2"/>
          <a:stretch/>
        </p:blipFill>
        <p:spPr>
          <a:xfrm>
            <a:off x="714240" y="4357800"/>
            <a:ext cx="1428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642960" y="1214280"/>
            <a:ext cx="7689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их часовых поясах располаг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олько раз на территории России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речать Новый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изменяется поясное врем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ижении с запада на вост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PH01046J"/>
          <p:cNvPicPr/>
          <p:nvPr/>
        </p:nvPicPr>
        <p:blipFill>
          <a:blip r:embed="rId1"/>
          <a:stretch/>
        </p:blipFill>
        <p:spPr>
          <a:xfrm>
            <a:off x="7956720" y="115920"/>
            <a:ext cx="10299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214280" y="1357200"/>
            <a:ext cx="7143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у равна разница межд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овыми  поясами по долго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ремен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часовой пояс принято счи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уле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зойдут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ени при    пересечении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дат с запада    на восток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востока на запа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H01046J"/>
          <p:cNvPicPr/>
          <p:nvPr/>
        </p:nvPicPr>
        <p:blipFill>
          <a:blip r:embed="rId1"/>
          <a:stretch/>
        </p:blipFill>
        <p:spPr>
          <a:xfrm>
            <a:off x="7858080" y="142920"/>
            <a:ext cx="1030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-153000" y="117360"/>
            <a:ext cx="987228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Алгоритм определения поясного време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ример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пределите поясное время в Якут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в Москве 10.00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Последовательность выполнения зад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, в каких часовых поясах нахо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нные пун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ва – во 2-м;   Якутск – в 8-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Определить разницу между часовыми пояс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 -  2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Определить поясное время в заданном пунк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ывая, что к западу время уменьша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востоку – увеличив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+ 6 = 1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Ответ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Якутске 16 ча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37620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57120" y="428760"/>
            <a:ext cx="8642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полнит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елки часов  пассажир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летевшим из Санкт- Петербур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оскв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агада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Перми  8.00 часов ут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PH01046J"/>
          <p:cNvPicPr/>
          <p:nvPr/>
        </p:nvPicPr>
        <p:blipFill>
          <a:blip r:embed="rId1"/>
          <a:stretch/>
        </p:blipFill>
        <p:spPr>
          <a:xfrm>
            <a:off x="7880400" y="115920"/>
            <a:ext cx="1123920" cy="16574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357120" y="492912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Москв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 Якутске  18.00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57160" y="57168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времени будет в Якут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Благовещенске 10.00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ли получить  поздравлени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Новым Годом в Ставрополе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я, если оно было послан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дивостока 1 январ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 поясн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857160" y="45007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колько и куда надо переве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 пассажирам прилетевшим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кутска в Перм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324000" y="12682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 науч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для вас наиболее тру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было легко и понят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фортно ли вам было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вызвало у вас наибольш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ем захотелось побольше узн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195320"/>
          <p:cNvPicPr/>
          <p:nvPr/>
        </p:nvPicPr>
        <p:blipFill>
          <a:blip r:embed="rId1"/>
          <a:stretch/>
        </p:blipFill>
        <p:spPr>
          <a:xfrm>
            <a:off x="250920" y="189000"/>
            <a:ext cx="1584360" cy="11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H01046J"/>
          <p:cNvPicPr/>
          <p:nvPr/>
        </p:nvPicPr>
        <p:blipFill>
          <a:blip r:embed="rId2"/>
          <a:stretch/>
        </p:blipFill>
        <p:spPr>
          <a:xfrm>
            <a:off x="7812000" y="5229360"/>
            <a:ext cx="1054080" cy="14475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2998080" y="428760"/>
            <a:ext cx="299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668160" y="1071720"/>
            <a:ext cx="8128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§ 2. стр. учебника 10 –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думать несколько примеров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оясн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Почему, находясь в следующ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овом поясе, в наше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ует московское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95069"/>
          <p:cNvPicPr/>
          <p:nvPr/>
        </p:nvPicPr>
        <p:blipFill>
          <a:blip r:embed="rId1"/>
          <a:stretch/>
        </p:blipFill>
        <p:spPr>
          <a:xfrm>
            <a:off x="250920" y="189000"/>
            <a:ext cx="1830240" cy="131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H01046J"/>
          <p:cNvPicPr/>
          <p:nvPr/>
        </p:nvPicPr>
        <p:blipFill>
          <a:blip r:embed="rId2"/>
          <a:stretch/>
        </p:blipFill>
        <p:spPr>
          <a:xfrm>
            <a:off x="7812000" y="5300640"/>
            <a:ext cx="9540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0" r="85" b="36"/>
          <a:stretch/>
        </p:blipFill>
        <p:spPr>
          <a:xfrm>
            <a:off x="324000" y="333360"/>
            <a:ext cx="8497800" cy="612936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 rot="20889000">
            <a:off x="1692360" y="3644640"/>
            <a:ext cx="5900760" cy="11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739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 о с с и й с к а я Ф е д е р а ц и 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1476360" y="1916280"/>
            <a:ext cx="648180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территории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овые пояса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250200" y="260280"/>
            <a:ext cx="877248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на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лощадь и форму  территор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оссии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чем преимущества и недостат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большой территории страны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ак отсчитывают время н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рритории России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3300"/>
                </a:solidFill>
                <a:latin typeface="Arial"/>
              </a:rPr>
              <a:t>Уметь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аботать с картой атлас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определять поясное время по карт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часовых поясов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«линия перемены дат»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H01046J"/>
          <p:cNvPicPr/>
          <p:nvPr/>
        </p:nvPicPr>
        <p:blipFill>
          <a:blip r:embed="rId1"/>
          <a:stretch/>
        </p:blipFill>
        <p:spPr>
          <a:xfrm>
            <a:off x="7956720" y="260280"/>
            <a:ext cx="98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900000" y="260280"/>
            <a:ext cx="75819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меры и 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5" descr="справка"/>
          <p:cNvPicPr/>
          <p:nvPr/>
        </p:nvPicPr>
        <p:blipFill>
          <a:blip r:embed="rId1"/>
          <a:srcRect l="0" t="0" r="52" b="58"/>
          <a:stretch/>
        </p:blipFill>
        <p:spPr>
          <a:xfrm>
            <a:off x="179280" y="1413000"/>
            <a:ext cx="5168880" cy="525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921840" y="1413000"/>
            <a:ext cx="550872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ощадь РФ – 17,1 млн.км</a:t>
            </a: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cc3300"/>
                </a:solidFill>
                <a:latin typeface="Arial"/>
              </a:rPr>
              <a:t>                   </a:t>
            </a:r>
            <a:r>
              <a:rPr b="1" lang="ru-RU" sz="3600" spc="-1" strike="noStrike" baseline="30000">
                <a:solidFill>
                  <a:srgbClr val="cc3300"/>
                </a:solidFill>
                <a:latin typeface="Arial"/>
              </a:rPr>
              <a:t>1/8 часть мировой суш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1/3 часть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вр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Территория Росс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е нац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остояние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PH01046J"/>
          <p:cNvPicPr/>
          <p:nvPr/>
        </p:nvPicPr>
        <p:blipFill>
          <a:blip r:embed="rId2"/>
          <a:stretch/>
        </p:blipFill>
        <p:spPr>
          <a:xfrm>
            <a:off x="7667640" y="5013360"/>
            <a:ext cx="11239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справка 002"/>
          <p:cNvPicPr/>
          <p:nvPr/>
        </p:nvPicPr>
        <p:blipFill>
          <a:blip r:embed="rId1"/>
          <a:srcRect l="0" t="49756" r="70735" b="-27"/>
          <a:stretch/>
        </p:blipFill>
        <p:spPr>
          <a:xfrm>
            <a:off x="324000" y="260280"/>
            <a:ext cx="8496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справка 002"/>
          <p:cNvPicPr/>
          <p:nvPr/>
        </p:nvPicPr>
        <p:blipFill>
          <a:blip r:embed="rId1"/>
          <a:srcRect l="81914" t="0" r="-1013" b="56972"/>
          <a:stretch/>
        </p:blipFill>
        <p:spPr>
          <a:xfrm>
            <a:off x="250920" y="1773360"/>
            <a:ext cx="4033800" cy="417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 rot="254400">
            <a:off x="1619280" y="115920"/>
            <a:ext cx="6983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рма территории России</a:t>
            </a:r>
            <a:endParaRPr b="0" lang="en-US" sz="1800" spc="1" strike="noStrike">
              <a:ln w="9360">
                <a:solidFill>
                  <a:srgbClr val="cc00cc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286880" y="1341360"/>
            <a:ext cx="48513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крайние то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шите фор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на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ческий цент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лияет вытянут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на прир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763640" y="278136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6,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.ш. 94,25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124000" y="2565360"/>
            <a:ext cx="216000" cy="21600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H01046J"/>
          <p:cNvPicPr/>
          <p:nvPr/>
        </p:nvPicPr>
        <p:blipFill>
          <a:blip r:embed="rId2"/>
          <a:stretch/>
        </p:blipFill>
        <p:spPr>
          <a:xfrm>
            <a:off x="250920" y="115920"/>
            <a:ext cx="102708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116000" y="189000"/>
            <a:ext cx="77817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имущества и недостатки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льших размеров территории Росси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3" name="Rectangle 5"/>
          <p:cNvGrpSpPr/>
          <p:nvPr/>
        </p:nvGrpSpPr>
        <p:grpSpPr>
          <a:xfrm>
            <a:off x="1560600" y="1517760"/>
            <a:ext cx="2706480" cy="841320"/>
            <a:chOff x="1560600" y="1517760"/>
            <a:chExt cx="2706480" cy="841320"/>
          </a:xfrm>
        </p:grpSpPr>
        <p:pic>
          <p:nvPicPr>
            <p:cNvPr id="64" name="Rectangle 5" descr=""/>
            <p:cNvPicPr/>
            <p:nvPr/>
          </p:nvPicPr>
          <p:blipFill>
            <a:blip r:embed="rId1"/>
            <a:stretch/>
          </p:blipFill>
          <p:spPr>
            <a:xfrm>
              <a:off x="1560600" y="1517760"/>
              <a:ext cx="2706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763640" y="1557360"/>
              <a:ext cx="2303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имущ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Rectangle 6"/>
          <p:cNvGrpSpPr/>
          <p:nvPr/>
        </p:nvGrpSpPr>
        <p:grpSpPr>
          <a:xfrm>
            <a:off x="500040" y="3176640"/>
            <a:ext cx="2760840" cy="907920"/>
            <a:chOff x="500040" y="3176640"/>
            <a:chExt cx="2760840" cy="907920"/>
          </a:xfrm>
        </p:grpSpPr>
        <p:pic>
          <p:nvPicPr>
            <p:cNvPr id="67" name="Rectangle 6" descr=""/>
            <p:cNvPicPr/>
            <p:nvPr/>
          </p:nvPicPr>
          <p:blipFill>
            <a:blip r:embed="rId2"/>
            <a:stretch/>
          </p:blipFill>
          <p:spPr>
            <a:xfrm>
              <a:off x="500040" y="3176640"/>
              <a:ext cx="2760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11280" y="3213000"/>
              <a:ext cx="259236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ое разнообраз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Rectangle 7"/>
          <p:cNvGrpSpPr/>
          <p:nvPr/>
        </p:nvGrpSpPr>
        <p:grpSpPr>
          <a:xfrm>
            <a:off x="334800" y="2230560"/>
            <a:ext cx="2865600" cy="1019160"/>
            <a:chOff x="334800" y="2230560"/>
            <a:chExt cx="2865600" cy="1019160"/>
          </a:xfrm>
        </p:grpSpPr>
        <p:pic>
          <p:nvPicPr>
            <p:cNvPr id="70" name="Rectangle 7" descr=""/>
            <p:cNvPicPr/>
            <p:nvPr/>
          </p:nvPicPr>
          <p:blipFill>
            <a:blip r:embed="rId3"/>
            <a:stretch/>
          </p:blipFill>
          <p:spPr>
            <a:xfrm>
              <a:off x="334800" y="2230560"/>
              <a:ext cx="28656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95280" y="2357280"/>
              <a:ext cx="2747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статочно места д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я насе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Rectangle 8"/>
          <p:cNvGrpSpPr/>
          <p:nvPr/>
        </p:nvGrpSpPr>
        <p:grpSpPr>
          <a:xfrm>
            <a:off x="1176480" y="4962600"/>
            <a:ext cx="2712960" cy="822240"/>
            <a:chOff x="1176480" y="4962600"/>
            <a:chExt cx="2712960" cy="822240"/>
          </a:xfrm>
        </p:grpSpPr>
        <p:pic>
          <p:nvPicPr>
            <p:cNvPr id="73" name="Rectangle 8" descr=""/>
            <p:cNvPicPr/>
            <p:nvPr/>
          </p:nvPicPr>
          <p:blipFill>
            <a:blip r:embed="rId4"/>
            <a:stretch/>
          </p:blipFill>
          <p:spPr>
            <a:xfrm>
              <a:off x="1176480" y="4962600"/>
              <a:ext cx="27129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85920" y="5000760"/>
              <a:ext cx="2448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ую территор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удно завоев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9"/>
          <p:cNvGrpSpPr/>
          <p:nvPr/>
        </p:nvGrpSpPr>
        <p:grpSpPr>
          <a:xfrm>
            <a:off x="450720" y="3981600"/>
            <a:ext cx="3114720" cy="1035000"/>
            <a:chOff x="450720" y="3981600"/>
            <a:chExt cx="3114720" cy="1035000"/>
          </a:xfrm>
        </p:grpSpPr>
        <p:pic>
          <p:nvPicPr>
            <p:cNvPr id="76" name="Rectangle 9" descr=""/>
            <p:cNvPicPr/>
            <p:nvPr/>
          </p:nvPicPr>
          <p:blipFill>
            <a:blip r:embed="rId5"/>
            <a:stretch/>
          </p:blipFill>
          <p:spPr>
            <a:xfrm>
              <a:off x="450720" y="3981600"/>
              <a:ext cx="31147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9640" y="4076640"/>
              <a:ext cx="295272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озможность сохра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нарушенных человек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ем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Rectangle 10"/>
          <p:cNvGrpSpPr/>
          <p:nvPr/>
        </p:nvGrpSpPr>
        <p:grpSpPr>
          <a:xfrm>
            <a:off x="1504800" y="5767560"/>
            <a:ext cx="2513160" cy="961920"/>
            <a:chOff x="1504800" y="5767560"/>
            <a:chExt cx="2513160" cy="961920"/>
          </a:xfrm>
        </p:grpSpPr>
        <p:pic>
          <p:nvPicPr>
            <p:cNvPr id="79" name="Rectangle 10" descr=""/>
            <p:cNvPicPr/>
            <p:nvPr/>
          </p:nvPicPr>
          <p:blipFill>
            <a:blip r:embed="rId6"/>
            <a:stretch/>
          </p:blipFill>
          <p:spPr>
            <a:xfrm>
              <a:off x="1504800" y="5767560"/>
              <a:ext cx="25131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619280" y="5805360"/>
              <a:ext cx="2303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громные запас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родных богатст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Rectangle 11"/>
          <p:cNvGrpSpPr/>
          <p:nvPr/>
        </p:nvGrpSpPr>
        <p:grpSpPr>
          <a:xfrm>
            <a:off x="5254560" y="4906800"/>
            <a:ext cx="3071880" cy="897120"/>
            <a:chOff x="5254560" y="4906800"/>
            <a:chExt cx="3071880" cy="897120"/>
          </a:xfrm>
        </p:grpSpPr>
        <p:pic>
          <p:nvPicPr>
            <p:cNvPr id="82" name="Rectangle 11" descr=""/>
            <p:cNvPicPr/>
            <p:nvPr/>
          </p:nvPicPr>
          <p:blipFill>
            <a:blip r:embed="rId7"/>
            <a:stretch/>
          </p:blipFill>
          <p:spPr>
            <a:xfrm>
              <a:off x="5254560" y="4906800"/>
              <a:ext cx="30718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64000" y="4941720"/>
              <a:ext cx="27352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громные транспорт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атр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Rectangle 12"/>
          <p:cNvGrpSpPr/>
          <p:nvPr/>
        </p:nvGrpSpPr>
        <p:grpSpPr>
          <a:xfrm>
            <a:off x="5602320" y="3249720"/>
            <a:ext cx="2975040" cy="841320"/>
            <a:chOff x="5602320" y="3249720"/>
            <a:chExt cx="2975040" cy="841320"/>
          </a:xfrm>
        </p:grpSpPr>
        <p:pic>
          <p:nvPicPr>
            <p:cNvPr id="85" name="Rectangle 12" descr=""/>
            <p:cNvPicPr/>
            <p:nvPr/>
          </p:nvPicPr>
          <p:blipFill>
            <a:blip r:embed="rId8"/>
            <a:stretch/>
          </p:blipFill>
          <p:spPr>
            <a:xfrm>
              <a:off x="5602320" y="3249720"/>
              <a:ext cx="2975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5715000" y="3286080"/>
              <a:ext cx="2808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еограф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общенность нац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5108400" y="5767560"/>
            <a:ext cx="2664000" cy="961920"/>
            <a:chOff x="5108400" y="5767560"/>
            <a:chExt cx="2664000" cy="96192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5108400" y="5767560"/>
              <a:ext cx="2664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219640" y="5805360"/>
              <a:ext cx="2495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ложность защ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ерритории и грани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ectangle 14"/>
          <p:cNvGrpSpPr/>
          <p:nvPr/>
        </p:nvGrpSpPr>
        <p:grpSpPr>
          <a:xfrm>
            <a:off x="5657760" y="4108320"/>
            <a:ext cx="3132360" cy="828720"/>
            <a:chOff x="5657760" y="4108320"/>
            <a:chExt cx="3132360" cy="828720"/>
          </a:xfrm>
        </p:grpSpPr>
        <p:pic>
          <p:nvPicPr>
            <p:cNvPr id="91" name="Rectangle 14" descr=""/>
            <p:cNvPicPr/>
            <p:nvPr/>
          </p:nvPicPr>
          <p:blipFill>
            <a:blip r:embed="rId10"/>
            <a:stretch/>
          </p:blipFill>
          <p:spPr>
            <a:xfrm>
              <a:off x="5657760" y="4108320"/>
              <a:ext cx="31323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715000" y="4143240"/>
              <a:ext cx="3022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ожность </a:t>
              </a: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тра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Rectangle 15"/>
          <p:cNvGrpSpPr/>
          <p:nvPr/>
        </p:nvGrpSpPr>
        <p:grpSpPr>
          <a:xfrm>
            <a:off x="5962680" y="2266920"/>
            <a:ext cx="3022560" cy="1030320"/>
            <a:chOff x="5962680" y="2266920"/>
            <a:chExt cx="3022560" cy="1030320"/>
          </a:xfrm>
        </p:grpSpPr>
        <p:pic>
          <p:nvPicPr>
            <p:cNvPr id="94" name="Rectangle 15" descr=""/>
            <p:cNvPicPr/>
            <p:nvPr/>
          </p:nvPicPr>
          <p:blipFill>
            <a:blip r:embed="rId11"/>
            <a:stretch/>
          </p:blipFill>
          <p:spPr>
            <a:xfrm>
              <a:off x="5962680" y="2266920"/>
              <a:ext cx="3022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072120" y="2357280"/>
              <a:ext cx="2857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ольшие затрат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редств и времени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своение террито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Rectangle 16"/>
          <p:cNvGrpSpPr/>
          <p:nvPr/>
        </p:nvGrpSpPr>
        <p:grpSpPr>
          <a:xfrm>
            <a:off x="4724280" y="1517760"/>
            <a:ext cx="2419560" cy="841320"/>
            <a:chOff x="4724280" y="1517760"/>
            <a:chExt cx="2419560" cy="841320"/>
          </a:xfrm>
        </p:grpSpPr>
        <p:pic>
          <p:nvPicPr>
            <p:cNvPr id="97" name="Rectangle 16" descr=""/>
            <p:cNvPicPr/>
            <p:nvPr/>
          </p:nvPicPr>
          <p:blipFill>
            <a:blip r:embed="rId12"/>
            <a:stretch/>
          </p:blipFill>
          <p:spPr>
            <a:xfrm>
              <a:off x="4724280" y="1517760"/>
              <a:ext cx="2419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788000" y="1557360"/>
              <a:ext cx="2303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17"/>
          <p:cNvSpPr/>
          <p:nvPr/>
        </p:nvSpPr>
        <p:spPr>
          <a:xfrm>
            <a:off x="341964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 flipH="1">
            <a:off x="3143160" y="2276640"/>
            <a:ext cx="852480" cy="3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 flipH="1">
            <a:off x="3203640" y="2276640"/>
            <a:ext cx="79200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 flipH="1">
            <a:off x="3492360" y="2276640"/>
            <a:ext cx="503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3714840" y="2276640"/>
            <a:ext cx="280800" cy="27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3924360" y="2276640"/>
            <a:ext cx="7128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78800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4788000" y="22766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4788000" y="2276640"/>
            <a:ext cx="863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6"/>
          <p:cNvSpPr/>
          <p:nvPr/>
        </p:nvSpPr>
        <p:spPr>
          <a:xfrm>
            <a:off x="4788000" y="2276640"/>
            <a:ext cx="576000" cy="26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788000" y="2276640"/>
            <a:ext cx="431640" cy="36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8" descr="PH01046J"/>
          <p:cNvPicPr/>
          <p:nvPr/>
        </p:nvPicPr>
        <p:blipFill>
          <a:blip r:embed="rId13"/>
          <a:stretch/>
        </p:blipFill>
        <p:spPr>
          <a:xfrm>
            <a:off x="179280" y="115920"/>
            <a:ext cx="9320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440" y="-49320"/>
            <a:ext cx="893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чему на территории России существу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ница во 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правка 002"/>
          <p:cNvPicPr/>
          <p:nvPr/>
        </p:nvPicPr>
        <p:blipFill>
          <a:blip r:embed="rId1"/>
          <a:srcRect l="53405" t="69817" r="2717" b="43"/>
          <a:stretch/>
        </p:blipFill>
        <p:spPr>
          <a:xfrm>
            <a:off x="324000" y="981000"/>
            <a:ext cx="8496000" cy="2548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50560" y="3573360"/>
            <a:ext cx="822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на территории нашей планеты 24 часо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градусов в одном часовом пояс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мест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поясное время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уда начинается утр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линия перемены дат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«декретное время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PH01046J"/>
          <p:cNvPicPr/>
          <p:nvPr/>
        </p:nvPicPr>
        <p:blipFill>
          <a:blip r:embed="rId2"/>
          <a:stretch/>
        </p:blipFill>
        <p:spPr>
          <a:xfrm>
            <a:off x="7524720" y="4581360"/>
            <a:ext cx="13240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правка 003"/>
          <p:cNvPicPr/>
          <p:nvPr/>
        </p:nvPicPr>
        <p:blipFill>
          <a:blip r:embed="rId1"/>
          <a:srcRect l="0" t="0" r="16" b="-53"/>
          <a:stretch/>
        </p:blipFill>
        <p:spPr>
          <a:xfrm>
            <a:off x="250920" y="907920"/>
            <a:ext cx="8640720" cy="576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H01046J"/>
          <p:cNvPicPr/>
          <p:nvPr/>
        </p:nvPicPr>
        <p:blipFill>
          <a:blip r:embed="rId2"/>
          <a:stretch/>
        </p:blipFill>
        <p:spPr>
          <a:xfrm>
            <a:off x="179280" y="18900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3:39:31Z</dcterms:created>
  <dc:creator>user</dc:creator>
  <dc:description/>
  <dc:language>en-US</dc:language>
  <cp:lastModifiedBy>User</cp:lastModifiedBy>
  <dcterms:modified xsi:type="dcterms:W3CDTF">2011-09-25T08:25:1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d0000000000010250300207f7000400038000</vt:lpwstr>
  </property>
</Properties>
</file>