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2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28.wmf" ContentType="image/x-wmf"/>
  <Override PartName="/ppt/media/image5.jpeg" ContentType="image/jpeg"/>
  <Override PartName="/ppt/media/image4.jpeg" ContentType="image/jpeg"/>
  <Override PartName="/ppt/media/image25.jpeg" ContentType="image/jpeg"/>
  <Override PartName="/ppt/media/image26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9E9F-7A12-48E4-8BDF-3879A78F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76FE-8AE7-483C-8D9A-85ECB806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27D8-06F7-4526-977A-38C17761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1939-60DC-4E97-840C-AE23A9DF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D469-6084-4006-AE9B-D35F7EA2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C3E-8108-4123-9062-CA5B397D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E355-3801-473D-A035-81221FBC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6C0-E290-41E0-88AA-EE368F7F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705B-2C7F-489C-9955-9F77EAF0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714F-A730-47C5-8491-DEC6410A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34E3-2536-45D1-A4AE-49AED8DB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AF5-D45E-46B6-BD49-0A10323B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50000">
              <a:srgbClr val="fffffa"/>
            </a:gs>
            <a:gs pos="100000">
              <a:srgbClr val="ffffd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3B58-0C6E-4941-923B-A2B8375397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28960" y="185688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e7e00"/>
                </a:solidFill>
                <a:latin typeface="Arial"/>
              </a:rPr>
              <a:t>Гостюхина</a:t>
            </a:r>
            <a:br>
              <a:rPr sz="4000"/>
            </a:br>
            <a:r>
              <a:rPr b="0" lang="ru-RU" sz="4000" spc="-1" strike="noStrike">
                <a:solidFill>
                  <a:srgbClr val="7e7e00"/>
                </a:solidFill>
                <a:latin typeface="Arial"/>
              </a:rPr>
              <a:t>Светлана Никола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4" descr="DSCN4978.jpg"/>
          <p:cNvPicPr/>
          <p:nvPr/>
        </p:nvPicPr>
        <p:blipFill>
          <a:blip r:embed="rId1"/>
          <a:stretch/>
        </p:blipFill>
        <p:spPr>
          <a:xfrm>
            <a:off x="214200" y="214200"/>
            <a:ext cx="2357640" cy="27860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3143160" y="214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СОШ с УИОП г. Кир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ск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4286160" y="35719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итель конкурса лучших учителей Кировской области и Российской Федерации ПНП  «Образ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педагогической работы  3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PH01046J.JPG"/>
          <p:cNvPicPr/>
          <p:nvPr/>
        </p:nvPicPr>
        <p:blipFill>
          <a:blip r:embed="rId2"/>
          <a:stretch/>
        </p:blipFill>
        <p:spPr>
          <a:xfrm>
            <a:off x="714240" y="4357800"/>
            <a:ext cx="1428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642960" y="1214280"/>
            <a:ext cx="76899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ких часовых поясах располаг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с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лько раз на территории России мо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речать Новый г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изменяется поясное время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ижении с запада на вост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востока на запа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PH01046J"/>
          <p:cNvPicPr/>
          <p:nvPr/>
        </p:nvPicPr>
        <p:blipFill>
          <a:blip r:embed="rId1"/>
          <a:stretch/>
        </p:blipFill>
        <p:spPr>
          <a:xfrm>
            <a:off x="7956720" y="115920"/>
            <a:ext cx="102996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1214280" y="1357200"/>
            <a:ext cx="7143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у равна разница межд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овыми  поясами по долгот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време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часовой пояс принято счит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улев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изменения произойдут 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емени при    пересечении ли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мены дат с запада    на восток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востока на запа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PH01046J"/>
          <p:cNvPicPr/>
          <p:nvPr/>
        </p:nvPicPr>
        <p:blipFill>
          <a:blip r:embed="rId1"/>
          <a:stretch/>
        </p:blipFill>
        <p:spPr>
          <a:xfrm>
            <a:off x="7858080" y="142920"/>
            <a:ext cx="103032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-153000" y="117360"/>
            <a:ext cx="9872280" cy="67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Алгоритм определения поясного време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ример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пределите поясное время в Якутс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в Москве 10.00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оследовательность выполнения зад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ь, в каких часовых поясах находя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нные пунк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сква – во 2-м;   Якутск – в 8-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Определить разницу между часовыми пояс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  -  2 = 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Определить поясное время в заданном пунк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ывая, что к западу время уменьшает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востоку – увеличив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+ 6 = 1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 Якутске 16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37620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57120" y="428760"/>
            <a:ext cx="8642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ыполните 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сколько и куда надо переве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елки часов  пассажир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летевшим из Санкт- Петербур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оскв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времени будет в Магадан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 Перми  8.00 часов ут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PH01046J"/>
          <p:cNvPicPr/>
          <p:nvPr/>
        </p:nvPicPr>
        <p:blipFill>
          <a:blip r:embed="rId1"/>
          <a:stretch/>
        </p:blipFill>
        <p:spPr>
          <a:xfrm>
            <a:off x="7880400" y="115920"/>
            <a:ext cx="1123920" cy="16574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4"/>
          <p:cNvSpPr/>
          <p:nvPr/>
        </p:nvSpPr>
        <p:spPr>
          <a:xfrm>
            <a:off x="357120" y="492912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времени будет в Москв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  Якутске  18.00 час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857160" y="571680"/>
            <a:ext cx="77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времени будет в Якутск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 Благовещенске 10.00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но ли получить  поздравление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Новым Годом в Ставрополе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кабря, если оно было послано 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адивостока 1 январ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 поясн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857160" y="4500720"/>
            <a:ext cx="828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сколько и куда надо переве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ы  пассажирам прилетевшим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ркутска в Пермь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24000" y="1268280"/>
            <a:ext cx="856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нового вы узн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 научил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было для вас наиболее труд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было легко и понят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фортно ли вам было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вызвало у вас наибольш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чем захотелось побольше узн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J0195320"/>
          <p:cNvPicPr/>
          <p:nvPr/>
        </p:nvPicPr>
        <p:blipFill>
          <a:blip r:embed="rId1"/>
          <a:stretch/>
        </p:blipFill>
        <p:spPr>
          <a:xfrm>
            <a:off x="250920" y="189000"/>
            <a:ext cx="1584360" cy="1139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PH01046J"/>
          <p:cNvPicPr/>
          <p:nvPr/>
        </p:nvPicPr>
        <p:blipFill>
          <a:blip r:embed="rId2"/>
          <a:stretch/>
        </p:blipFill>
        <p:spPr>
          <a:xfrm>
            <a:off x="7812000" y="5229360"/>
            <a:ext cx="1054080" cy="14475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2998080" y="428760"/>
            <a:ext cx="299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668160" y="1071720"/>
            <a:ext cx="8128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                    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§ 2. стр. учебника 10 – 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думать несколько примеров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ение поясного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Почему, находясь в следующ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овом поясе, в нашем гор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ует московское врем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J0295069"/>
          <p:cNvPicPr/>
          <p:nvPr/>
        </p:nvPicPr>
        <p:blipFill>
          <a:blip r:embed="rId1"/>
          <a:stretch/>
        </p:blipFill>
        <p:spPr>
          <a:xfrm>
            <a:off x="250920" y="189000"/>
            <a:ext cx="1830240" cy="1315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PH01046J"/>
          <p:cNvPicPr/>
          <p:nvPr/>
        </p:nvPicPr>
        <p:blipFill>
          <a:blip r:embed="rId2"/>
          <a:stretch/>
        </p:blipFill>
        <p:spPr>
          <a:xfrm>
            <a:off x="7812000" y="5300640"/>
            <a:ext cx="95400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rcRect l="0" t="0" r="85" b="36"/>
          <a:stretch/>
        </p:blipFill>
        <p:spPr>
          <a:xfrm>
            <a:off x="324000" y="333360"/>
            <a:ext cx="8497800" cy="6129360"/>
          </a:xfrm>
          <a:prstGeom prst="rect">
            <a:avLst/>
          </a:prstGeom>
          <a:ln w="0">
            <a:noFill/>
          </a:ln>
        </p:spPr>
      </p:pic>
      <p:sp>
        <p:nvSpPr>
          <p:cNvPr id="47" name="WordArt 6"/>
          <p:cNvSpPr txBox="1"/>
          <p:nvPr/>
        </p:nvSpPr>
        <p:spPr>
          <a:xfrm rot="20889000">
            <a:off x="1692360" y="3644640"/>
            <a:ext cx="5900760" cy="115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739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 о с с и й с к а я Ф е д е р а ц и я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" name="WordArt 7"/>
          <p:cNvSpPr txBox="1"/>
          <p:nvPr/>
        </p:nvSpPr>
        <p:spPr>
          <a:xfrm>
            <a:off x="1476360" y="1916280"/>
            <a:ext cx="6481800" cy="33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меры территории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асовые пояса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250200" y="260280"/>
            <a:ext cx="8772480" cy="63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нать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площадь и форму  территори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оссии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 чем преимущества и недостатк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большой территории страны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как отсчитывают время н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территории России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3300"/>
                </a:solidFill>
                <a:latin typeface="Arial"/>
              </a:rPr>
              <a:t>Уметь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аботать с картой атласа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определять поясное время по карт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часовых поясов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«линия перемены дат»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H01046J"/>
          <p:cNvPicPr/>
          <p:nvPr/>
        </p:nvPicPr>
        <p:blipFill>
          <a:blip r:embed="rId1"/>
          <a:stretch/>
        </p:blipFill>
        <p:spPr>
          <a:xfrm>
            <a:off x="7956720" y="260280"/>
            <a:ext cx="981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900000" y="260280"/>
            <a:ext cx="75819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cc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меры и форма территории России</a:t>
            </a:r>
            <a:endParaRPr b="0" lang="en-US" sz="1800" spc="1" strike="noStrike">
              <a:ln w="9360">
                <a:solidFill>
                  <a:srgbClr val="cc00cc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5" descr="справка"/>
          <p:cNvPicPr/>
          <p:nvPr/>
        </p:nvPicPr>
        <p:blipFill>
          <a:blip r:embed="rId1"/>
          <a:srcRect l="0" t="0" r="52" b="58"/>
          <a:stretch/>
        </p:blipFill>
        <p:spPr>
          <a:xfrm>
            <a:off x="179280" y="1413000"/>
            <a:ext cx="5168880" cy="5256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921840" y="1413000"/>
            <a:ext cx="550872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лощадь РФ – 17,1 млн.км</a:t>
            </a:r>
            <a:r>
              <a:rPr b="1" lang="ru-RU" sz="28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cc3300"/>
                </a:solidFill>
                <a:latin typeface="Arial"/>
              </a:rPr>
              <a:t>                   </a:t>
            </a:r>
            <a:r>
              <a:rPr b="1" lang="ru-RU" sz="3600" spc="-1" strike="noStrike" baseline="30000">
                <a:solidFill>
                  <a:srgbClr val="cc3300"/>
                </a:solidFill>
                <a:latin typeface="Arial"/>
              </a:rPr>
              <a:t>1/8 часть мировой суш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1/3 часть площ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Евраз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ерритория Росси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е национа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достояние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PH01046J"/>
          <p:cNvPicPr/>
          <p:nvPr/>
        </p:nvPicPr>
        <p:blipFill>
          <a:blip r:embed="rId2"/>
          <a:stretch/>
        </p:blipFill>
        <p:spPr>
          <a:xfrm>
            <a:off x="7667640" y="5013360"/>
            <a:ext cx="11239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справка 002"/>
          <p:cNvPicPr/>
          <p:nvPr/>
        </p:nvPicPr>
        <p:blipFill>
          <a:blip r:embed="rId1"/>
          <a:srcRect l="0" t="49756" r="70735" b="-27"/>
          <a:stretch/>
        </p:blipFill>
        <p:spPr>
          <a:xfrm>
            <a:off x="324000" y="260280"/>
            <a:ext cx="849600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справка 002"/>
          <p:cNvPicPr/>
          <p:nvPr/>
        </p:nvPicPr>
        <p:blipFill>
          <a:blip r:embed="rId1"/>
          <a:srcRect l="81914" t="0" r="-1013" b="56972"/>
          <a:stretch/>
        </p:blipFill>
        <p:spPr>
          <a:xfrm>
            <a:off x="250920" y="1773360"/>
            <a:ext cx="4033800" cy="4176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7" name="WordArt 5"/>
          <p:cNvSpPr txBox="1"/>
          <p:nvPr/>
        </p:nvSpPr>
        <p:spPr>
          <a:xfrm rot="254400">
            <a:off x="1619280" y="115920"/>
            <a:ext cx="6983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cc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орма территории России</a:t>
            </a:r>
            <a:endParaRPr b="0" lang="en-US" sz="1800" spc="1" strike="noStrike">
              <a:ln w="9360">
                <a:solidFill>
                  <a:srgbClr val="cc00cc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286880" y="1341360"/>
            <a:ext cx="48513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крайние то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шите фор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рритории стра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де на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ографический цент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влияет вытянут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рритории на прир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н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763640" y="2781360"/>
            <a:ext cx="182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6,5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.ш. 94,25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2124000" y="2565360"/>
            <a:ext cx="216000" cy="21600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PH01046J"/>
          <p:cNvPicPr/>
          <p:nvPr/>
        </p:nvPicPr>
        <p:blipFill>
          <a:blip r:embed="rId2"/>
          <a:stretch/>
        </p:blipFill>
        <p:spPr>
          <a:xfrm>
            <a:off x="250920" y="115920"/>
            <a:ext cx="102708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1116000" y="189000"/>
            <a:ext cx="77817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имущества и недостатки 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ольших размеров территории России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3" name="Rectangle 5"/>
          <p:cNvGrpSpPr/>
          <p:nvPr/>
        </p:nvGrpSpPr>
        <p:grpSpPr>
          <a:xfrm>
            <a:off x="1560600" y="1517760"/>
            <a:ext cx="2706480" cy="841320"/>
            <a:chOff x="1560600" y="1517760"/>
            <a:chExt cx="2706480" cy="841320"/>
          </a:xfrm>
        </p:grpSpPr>
        <p:pic>
          <p:nvPicPr>
            <p:cNvPr id="64" name="Rectangle 5" descr=""/>
            <p:cNvPicPr/>
            <p:nvPr/>
          </p:nvPicPr>
          <p:blipFill>
            <a:blip r:embed="rId1"/>
            <a:stretch/>
          </p:blipFill>
          <p:spPr>
            <a:xfrm>
              <a:off x="1560600" y="1517760"/>
              <a:ext cx="27064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763640" y="1557360"/>
              <a:ext cx="23036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еимущ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Rectangle 6"/>
          <p:cNvGrpSpPr/>
          <p:nvPr/>
        </p:nvGrpSpPr>
        <p:grpSpPr>
          <a:xfrm>
            <a:off x="500040" y="3176640"/>
            <a:ext cx="2760840" cy="907920"/>
            <a:chOff x="500040" y="3176640"/>
            <a:chExt cx="2760840" cy="907920"/>
          </a:xfrm>
        </p:grpSpPr>
        <p:pic>
          <p:nvPicPr>
            <p:cNvPr id="67" name="Rectangle 6" descr=""/>
            <p:cNvPicPr/>
            <p:nvPr/>
          </p:nvPicPr>
          <p:blipFill>
            <a:blip r:embed="rId2"/>
            <a:stretch/>
          </p:blipFill>
          <p:spPr>
            <a:xfrm>
              <a:off x="500040" y="3176640"/>
              <a:ext cx="27608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11280" y="3213000"/>
              <a:ext cx="259236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ьшое разнообраз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р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Rectangle 7"/>
          <p:cNvGrpSpPr/>
          <p:nvPr/>
        </p:nvGrpSpPr>
        <p:grpSpPr>
          <a:xfrm>
            <a:off x="334800" y="2230560"/>
            <a:ext cx="2865600" cy="1019160"/>
            <a:chOff x="334800" y="2230560"/>
            <a:chExt cx="2865600" cy="1019160"/>
          </a:xfrm>
        </p:grpSpPr>
        <p:pic>
          <p:nvPicPr>
            <p:cNvPr id="70" name="Rectangle 7" descr=""/>
            <p:cNvPicPr/>
            <p:nvPr/>
          </p:nvPicPr>
          <p:blipFill>
            <a:blip r:embed="rId3"/>
            <a:stretch/>
          </p:blipFill>
          <p:spPr>
            <a:xfrm>
              <a:off x="334800" y="2230560"/>
              <a:ext cx="28656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95280" y="2357280"/>
              <a:ext cx="27478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статочно места дл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мещения насе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хозяй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Rectangle 8"/>
          <p:cNvGrpSpPr/>
          <p:nvPr/>
        </p:nvGrpSpPr>
        <p:grpSpPr>
          <a:xfrm>
            <a:off x="1176480" y="4962600"/>
            <a:ext cx="2712960" cy="822240"/>
            <a:chOff x="1176480" y="4962600"/>
            <a:chExt cx="2712960" cy="822240"/>
          </a:xfrm>
        </p:grpSpPr>
        <p:pic>
          <p:nvPicPr>
            <p:cNvPr id="73" name="Rectangle 8" descr=""/>
            <p:cNvPicPr/>
            <p:nvPr/>
          </p:nvPicPr>
          <p:blipFill>
            <a:blip r:embed="rId4"/>
            <a:stretch/>
          </p:blipFill>
          <p:spPr>
            <a:xfrm>
              <a:off x="1176480" y="4962600"/>
              <a:ext cx="27129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285920" y="5000760"/>
              <a:ext cx="2448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ьшую территор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удно завоевы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Rectangle 9"/>
          <p:cNvGrpSpPr/>
          <p:nvPr/>
        </p:nvGrpSpPr>
        <p:grpSpPr>
          <a:xfrm>
            <a:off x="450720" y="3981600"/>
            <a:ext cx="3114720" cy="1035000"/>
            <a:chOff x="450720" y="3981600"/>
            <a:chExt cx="3114720" cy="1035000"/>
          </a:xfrm>
        </p:grpSpPr>
        <p:pic>
          <p:nvPicPr>
            <p:cNvPr id="76" name="Rectangle 9" descr=""/>
            <p:cNvPicPr/>
            <p:nvPr/>
          </p:nvPicPr>
          <p:blipFill>
            <a:blip r:embed="rId5"/>
            <a:stretch/>
          </p:blipFill>
          <p:spPr>
            <a:xfrm>
              <a:off x="450720" y="3981600"/>
              <a:ext cx="311472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39640" y="4076640"/>
              <a:ext cx="295272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зможность сохран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нарушенных человек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ем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Rectangle 10"/>
          <p:cNvGrpSpPr/>
          <p:nvPr/>
        </p:nvGrpSpPr>
        <p:grpSpPr>
          <a:xfrm>
            <a:off x="1504800" y="5767560"/>
            <a:ext cx="2513160" cy="961920"/>
            <a:chOff x="1504800" y="5767560"/>
            <a:chExt cx="2513160" cy="961920"/>
          </a:xfrm>
        </p:grpSpPr>
        <p:pic>
          <p:nvPicPr>
            <p:cNvPr id="79" name="Rectangle 10" descr=""/>
            <p:cNvPicPr/>
            <p:nvPr/>
          </p:nvPicPr>
          <p:blipFill>
            <a:blip r:embed="rId6"/>
            <a:stretch/>
          </p:blipFill>
          <p:spPr>
            <a:xfrm>
              <a:off x="1504800" y="5767560"/>
              <a:ext cx="251316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1619280" y="5805360"/>
              <a:ext cx="2303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громные запас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родных богатст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Rectangle 11"/>
          <p:cNvGrpSpPr/>
          <p:nvPr/>
        </p:nvGrpSpPr>
        <p:grpSpPr>
          <a:xfrm>
            <a:off x="5254560" y="4906800"/>
            <a:ext cx="3071880" cy="897120"/>
            <a:chOff x="5254560" y="4906800"/>
            <a:chExt cx="3071880" cy="897120"/>
          </a:xfrm>
        </p:grpSpPr>
        <p:pic>
          <p:nvPicPr>
            <p:cNvPr id="82" name="Rectangle 11" descr=""/>
            <p:cNvPicPr/>
            <p:nvPr/>
          </p:nvPicPr>
          <p:blipFill>
            <a:blip r:embed="rId7"/>
            <a:stretch/>
          </p:blipFill>
          <p:spPr>
            <a:xfrm>
              <a:off x="5254560" y="4906800"/>
              <a:ext cx="30718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364000" y="4941720"/>
              <a:ext cx="2735280" cy="7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громные транспорт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затра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Rectangle 12"/>
          <p:cNvGrpSpPr/>
          <p:nvPr/>
        </p:nvGrpSpPr>
        <p:grpSpPr>
          <a:xfrm>
            <a:off x="5602320" y="3249720"/>
            <a:ext cx="2975040" cy="841320"/>
            <a:chOff x="5602320" y="3249720"/>
            <a:chExt cx="2975040" cy="841320"/>
          </a:xfrm>
        </p:grpSpPr>
        <p:pic>
          <p:nvPicPr>
            <p:cNvPr id="85" name="Rectangle 12" descr=""/>
            <p:cNvPicPr/>
            <p:nvPr/>
          </p:nvPicPr>
          <p:blipFill>
            <a:blip r:embed="rId8"/>
            <a:stretch/>
          </p:blipFill>
          <p:spPr>
            <a:xfrm>
              <a:off x="5602320" y="3249720"/>
              <a:ext cx="29750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5715000" y="3286080"/>
              <a:ext cx="28083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еографиче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зобщенность нац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Rectangle 13"/>
          <p:cNvGrpSpPr/>
          <p:nvPr/>
        </p:nvGrpSpPr>
        <p:grpSpPr>
          <a:xfrm>
            <a:off x="5108400" y="5767560"/>
            <a:ext cx="2664000" cy="961920"/>
            <a:chOff x="5108400" y="5767560"/>
            <a:chExt cx="2664000" cy="961920"/>
          </a:xfrm>
        </p:grpSpPr>
        <p:pic>
          <p:nvPicPr>
            <p:cNvPr id="88" name="Rectangle 13" descr=""/>
            <p:cNvPicPr/>
            <p:nvPr/>
          </p:nvPicPr>
          <p:blipFill>
            <a:blip r:embed="rId9"/>
            <a:stretch/>
          </p:blipFill>
          <p:spPr>
            <a:xfrm>
              <a:off x="5108400" y="5767560"/>
              <a:ext cx="26640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5219640" y="5805360"/>
              <a:ext cx="2495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ложность защ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ерритории и грани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Rectangle 14"/>
          <p:cNvGrpSpPr/>
          <p:nvPr/>
        </p:nvGrpSpPr>
        <p:grpSpPr>
          <a:xfrm>
            <a:off x="5657760" y="4108320"/>
            <a:ext cx="3132360" cy="828720"/>
            <a:chOff x="5657760" y="4108320"/>
            <a:chExt cx="3132360" cy="828720"/>
          </a:xfrm>
        </p:grpSpPr>
        <p:pic>
          <p:nvPicPr>
            <p:cNvPr id="91" name="Rectangle 14" descr=""/>
            <p:cNvPicPr/>
            <p:nvPr/>
          </p:nvPicPr>
          <p:blipFill>
            <a:blip r:embed="rId10"/>
            <a:stretch/>
          </p:blipFill>
          <p:spPr>
            <a:xfrm>
              <a:off x="5657760" y="4108320"/>
              <a:ext cx="31323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715000" y="4143240"/>
              <a:ext cx="302256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ложность </a:t>
              </a: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пр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тра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Rectangle 15"/>
          <p:cNvGrpSpPr/>
          <p:nvPr/>
        </p:nvGrpSpPr>
        <p:grpSpPr>
          <a:xfrm>
            <a:off x="5962680" y="2266920"/>
            <a:ext cx="3022560" cy="1030320"/>
            <a:chOff x="5962680" y="2266920"/>
            <a:chExt cx="3022560" cy="1030320"/>
          </a:xfrm>
        </p:grpSpPr>
        <p:pic>
          <p:nvPicPr>
            <p:cNvPr id="94" name="Rectangle 15" descr=""/>
            <p:cNvPicPr/>
            <p:nvPr/>
          </p:nvPicPr>
          <p:blipFill>
            <a:blip r:embed="rId11"/>
            <a:stretch/>
          </p:blipFill>
          <p:spPr>
            <a:xfrm>
              <a:off x="5962680" y="2266920"/>
              <a:ext cx="30225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072120" y="2357280"/>
              <a:ext cx="285768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ольшие затрат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редств и времени 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своение террито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Rectangle 16"/>
          <p:cNvGrpSpPr/>
          <p:nvPr/>
        </p:nvGrpSpPr>
        <p:grpSpPr>
          <a:xfrm>
            <a:off x="4724280" y="1517760"/>
            <a:ext cx="2419560" cy="841320"/>
            <a:chOff x="4724280" y="1517760"/>
            <a:chExt cx="2419560" cy="841320"/>
          </a:xfrm>
        </p:grpSpPr>
        <p:pic>
          <p:nvPicPr>
            <p:cNvPr id="97" name="Rectangle 16" descr=""/>
            <p:cNvPicPr/>
            <p:nvPr/>
          </p:nvPicPr>
          <p:blipFill>
            <a:blip r:embed="rId12"/>
            <a:stretch/>
          </p:blipFill>
          <p:spPr>
            <a:xfrm>
              <a:off x="4724280" y="1517760"/>
              <a:ext cx="24195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788000" y="1557360"/>
              <a:ext cx="23032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робле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Line 17"/>
          <p:cNvSpPr/>
          <p:nvPr/>
        </p:nvSpPr>
        <p:spPr>
          <a:xfrm>
            <a:off x="341964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8"/>
          <p:cNvSpPr/>
          <p:nvPr/>
        </p:nvSpPr>
        <p:spPr>
          <a:xfrm flipH="1">
            <a:off x="3143160" y="2276640"/>
            <a:ext cx="852480" cy="36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 flipH="1">
            <a:off x="3203640" y="2276640"/>
            <a:ext cx="79200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 flipH="1">
            <a:off x="3492360" y="2276640"/>
            <a:ext cx="50328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1"/>
          <p:cNvSpPr/>
          <p:nvPr/>
        </p:nvSpPr>
        <p:spPr>
          <a:xfrm flipH="1">
            <a:off x="3714840" y="2276640"/>
            <a:ext cx="280800" cy="27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 flipH="1">
            <a:off x="3924360" y="2276640"/>
            <a:ext cx="71280" cy="35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>
            <a:off x="4788000" y="2276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4"/>
          <p:cNvSpPr/>
          <p:nvPr/>
        </p:nvSpPr>
        <p:spPr>
          <a:xfrm>
            <a:off x="4788000" y="2276640"/>
            <a:ext cx="93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5"/>
          <p:cNvSpPr/>
          <p:nvPr/>
        </p:nvSpPr>
        <p:spPr>
          <a:xfrm>
            <a:off x="4788000" y="2276640"/>
            <a:ext cx="86364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6"/>
          <p:cNvSpPr/>
          <p:nvPr/>
        </p:nvSpPr>
        <p:spPr>
          <a:xfrm>
            <a:off x="4788000" y="2276640"/>
            <a:ext cx="576000" cy="26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7"/>
          <p:cNvSpPr/>
          <p:nvPr/>
        </p:nvSpPr>
        <p:spPr>
          <a:xfrm>
            <a:off x="4788000" y="2276640"/>
            <a:ext cx="431640" cy="36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8" descr="PH01046J"/>
          <p:cNvPicPr/>
          <p:nvPr/>
        </p:nvPicPr>
        <p:blipFill>
          <a:blip r:embed="rId13"/>
          <a:stretch/>
        </p:blipFill>
        <p:spPr>
          <a:xfrm>
            <a:off x="179280" y="115920"/>
            <a:ext cx="93204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1440" y="-49320"/>
            <a:ext cx="893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очему на территории России существу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разница во  време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справка 002"/>
          <p:cNvPicPr/>
          <p:nvPr/>
        </p:nvPicPr>
        <p:blipFill>
          <a:blip r:embed="rId1"/>
          <a:srcRect l="53405" t="69817" r="2717" b="43"/>
          <a:stretch/>
        </p:blipFill>
        <p:spPr>
          <a:xfrm>
            <a:off x="324000" y="981000"/>
            <a:ext cx="8496000" cy="25480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250560" y="3573360"/>
            <a:ext cx="822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на территории нашей планеты 24 часов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я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градусов в одном часовом пояс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«местное время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«поясное время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уда начинается утр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«линия перемены дат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«декретное время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PH01046J"/>
          <p:cNvPicPr/>
          <p:nvPr/>
        </p:nvPicPr>
        <p:blipFill>
          <a:blip r:embed="rId2"/>
          <a:stretch/>
        </p:blipFill>
        <p:spPr>
          <a:xfrm>
            <a:off x="7524720" y="4581360"/>
            <a:ext cx="13240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справка 003"/>
          <p:cNvPicPr/>
          <p:nvPr/>
        </p:nvPicPr>
        <p:blipFill>
          <a:blip r:embed="rId1"/>
          <a:srcRect l="0" t="0" r="16" b="-53"/>
          <a:stretch/>
        </p:blipFill>
        <p:spPr>
          <a:xfrm>
            <a:off x="250920" y="907920"/>
            <a:ext cx="8640720" cy="5762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PH01046J"/>
          <p:cNvPicPr/>
          <p:nvPr/>
        </p:nvPicPr>
        <p:blipFill>
          <a:blip r:embed="rId2"/>
          <a:stretch/>
        </p:blipFill>
        <p:spPr>
          <a:xfrm>
            <a:off x="179280" y="189000"/>
            <a:ext cx="1079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3:39:31Z</dcterms:created>
  <dc:creator>user</dc:creator>
  <dc:description/>
  <dc:language>en-US</dc:language>
  <cp:lastModifiedBy>User</cp:lastModifiedBy>
  <dcterms:modified xsi:type="dcterms:W3CDTF">2011-09-25T08:25:13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d0000000000010250300207f7000400038000</vt:lpwstr>
  </property>
</Properties>
</file>