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8.jpeg" ContentType="image/jpeg"/>
  <Override PartName="/ppt/media/image29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27.jpeg" ContentType="image/jpeg"/>
  <Override PartName="/ppt/media/image28.wmf" ContentType="image/x-wmf"/>
  <Override PartName="/ppt/media/image5.jpeg" ContentType="image/jpeg"/>
  <Override PartName="/ppt/media/image4.jpeg" ContentType="image/jpeg"/>
  <Override PartName="/ppt/media/image25.jpeg" ContentType="image/jpeg"/>
  <Override PartName="/ppt/media/image26.wmf" ContentType="image/x-wmf"/>
  <Override PartName="/ppt/media/image21.jpeg" ContentType="image/jpeg"/>
  <Override PartName="/ppt/media/image16.png" ContentType="image/png"/>
  <Override PartName="/ppt/media/image19.png" ContentType="image/png"/>
  <Override PartName="/ppt/media/image17.png" ContentType="image/png"/>
  <Override PartName="/ppt/media/image14.png" ContentType="image/png"/>
  <Override PartName="/ppt/media/image22.jpeg" ContentType="image/jpeg"/>
  <Override PartName="/ppt/media/image1.jpeg" ContentType="image/jpeg"/>
  <Override PartName="/ppt/media/image15.png" ContentType="image/pn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1784-4F46-4AAE-987A-97DFD1E8A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DBE2-BAF2-4AA8-ACC3-FBB2240F6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D800-E382-46D8-BB73-F89A2EFB4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30A2-E8DA-4180-8619-6B8E22E2B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D316-BF6D-4FBB-AACD-ECCD32B51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1D7C-CFF6-492A-A8A2-00868F66E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85EB-8D13-436C-B1A5-1793CC977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9B32-541A-4D4D-80AD-21324859A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75DA-BD89-4A52-89E7-B1155FED1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C3A3-AE5C-4895-A308-DF612572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C8D6-543A-4E14-98F2-765FA5B5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613E-E696-4DBE-A056-47BD9B5F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9"/>
            </a:gs>
            <a:gs pos="50000">
              <a:srgbClr val="fffffa"/>
            </a:gs>
            <a:gs pos="100000">
              <a:srgbClr val="ffffd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33192-663F-4409-AB0C-360D8544FA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image" Target="../media/image21.jpe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28960" y="1856880"/>
            <a:ext cx="621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e7e00"/>
                </a:solidFill>
                <a:latin typeface="Arial"/>
              </a:rPr>
              <a:t>Гостюхина</a:t>
            </a:r>
            <a:br>
              <a:rPr sz="4000"/>
            </a:br>
            <a:r>
              <a:rPr b="0" lang="ru-RU" sz="4000" spc="-1" strike="noStrike">
                <a:solidFill>
                  <a:srgbClr val="7e7e00"/>
                </a:solidFill>
                <a:latin typeface="Arial"/>
              </a:rPr>
              <a:t>Светлана Николаев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4" descr="DSCN4978.jpg"/>
          <p:cNvPicPr/>
          <p:nvPr/>
        </p:nvPicPr>
        <p:blipFill>
          <a:blip r:embed="rId1"/>
          <a:stretch/>
        </p:blipFill>
        <p:spPr>
          <a:xfrm>
            <a:off x="214200" y="214200"/>
            <a:ext cx="2357640" cy="278604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5"/>
          <p:cNvSpPr/>
          <p:nvPr/>
        </p:nvSpPr>
        <p:spPr>
          <a:xfrm>
            <a:off x="3143160" y="2142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КОУ СОШ с УИОП г. Кирс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ровской обла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6"/>
          <p:cNvSpPr/>
          <p:nvPr/>
        </p:nvSpPr>
        <p:spPr>
          <a:xfrm>
            <a:off x="4286160" y="357192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геогра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шей катег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бедитель конкурса лучших учителей Кировской области и Российской Федерации ПНП  «Образова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ж педагогической работы  34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6" descr="PH01046J.JPG"/>
          <p:cNvPicPr/>
          <p:nvPr/>
        </p:nvPicPr>
        <p:blipFill>
          <a:blip r:embed="rId2"/>
          <a:stretch/>
        </p:blipFill>
        <p:spPr>
          <a:xfrm>
            <a:off x="714240" y="4357800"/>
            <a:ext cx="14288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5"/>
          <p:cNvSpPr/>
          <p:nvPr/>
        </p:nvSpPr>
        <p:spPr>
          <a:xfrm>
            <a:off x="642960" y="1214280"/>
            <a:ext cx="768996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Зад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каких часовых поясах располагае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сс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олько раз на территории России мож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стречать Новый год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 изменяется поясное время пр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вижении с запада на восток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 востока на запад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7" descr="PH01046J"/>
          <p:cNvPicPr/>
          <p:nvPr/>
        </p:nvPicPr>
        <p:blipFill>
          <a:blip r:embed="rId1"/>
          <a:stretch/>
        </p:blipFill>
        <p:spPr>
          <a:xfrm>
            <a:off x="7956720" y="115920"/>
            <a:ext cx="102996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1"/>
          <p:cNvSpPr/>
          <p:nvPr/>
        </p:nvSpPr>
        <p:spPr>
          <a:xfrm>
            <a:off x="1214280" y="1357200"/>
            <a:ext cx="71438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ему равна разница между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асовыми  поясами по долгот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времен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ой часовой пояс принято счит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улевы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ие изменения произойдут 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ремени при    пересечении лин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емены дат с запада    на восток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 востока на запад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PH01046J"/>
          <p:cNvPicPr/>
          <p:nvPr/>
        </p:nvPicPr>
        <p:blipFill>
          <a:blip r:embed="rId1"/>
          <a:stretch/>
        </p:blipFill>
        <p:spPr>
          <a:xfrm>
            <a:off x="7858080" y="142920"/>
            <a:ext cx="103032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-153000" y="117360"/>
            <a:ext cx="9872280" cy="67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Алгоритм определения поясного времен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Пример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Определите поясное время в Якутск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ли в Москве 10.00 ча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Последовательность выполнения зад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ределить, в каких часовых поясах находя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нные пунк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сква – во 2-м;   Якутск – в 8-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) Определить разницу между часовыми пояса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  -  2 = 6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) Определить поясное время в заданном пункт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итывая, что к западу время уменьшаетс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 востоку – увеличивае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0 + 6 = 16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Ответ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в Якутске 16 ча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6"/>
          <p:cNvSpPr/>
          <p:nvPr/>
        </p:nvSpPr>
        <p:spPr>
          <a:xfrm>
            <a:off x="37620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357120" y="428760"/>
            <a:ext cx="86425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Выполните зад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сколько и куда надо переве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релки часов  пассажира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летевшим из Санкт- Петербург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Москв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колько времени будет в Магадан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ли в Перми  8.00 часов утр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8" descr="PH01046J"/>
          <p:cNvPicPr/>
          <p:nvPr/>
        </p:nvPicPr>
        <p:blipFill>
          <a:blip r:embed="rId1"/>
          <a:stretch/>
        </p:blipFill>
        <p:spPr>
          <a:xfrm>
            <a:off x="7880400" y="115920"/>
            <a:ext cx="1123920" cy="1657440"/>
          </a:xfrm>
          <a:prstGeom prst="rect">
            <a:avLst/>
          </a:prstGeom>
          <a:ln w="0">
            <a:noFill/>
          </a:ln>
        </p:spPr>
      </p:pic>
      <p:sp>
        <p:nvSpPr>
          <p:cNvPr id="125" name="Прямоугольник 4"/>
          <p:cNvSpPr/>
          <p:nvPr/>
        </p:nvSpPr>
        <p:spPr>
          <a:xfrm>
            <a:off x="357120" y="4929120"/>
            <a:ext cx="785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колько времени будет в Москв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ли в  Якутске  18.00 час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1"/>
          <p:cNvSpPr/>
          <p:nvPr/>
        </p:nvSpPr>
        <p:spPr>
          <a:xfrm>
            <a:off x="857160" y="571680"/>
            <a:ext cx="77868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колько времени будет в Якутск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ли в Благовещенске 10.00 ча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н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жно ли получить  поздравление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 Новым Годом в Ставрополе 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кабря, если оно было послано и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ладивостока 1 января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ет поясни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2"/>
          <p:cNvSpPr/>
          <p:nvPr/>
        </p:nvSpPr>
        <p:spPr>
          <a:xfrm>
            <a:off x="857160" y="4500720"/>
            <a:ext cx="8286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сколько и куда надо переве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асы  пассажирам прилетевшим и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ркутска в Пермь?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324000" y="1268280"/>
            <a:ext cx="8569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нового вы узнали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му научилис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было для вас наиболее трудны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было легко и понят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мфортно ли вам было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вызвало у вас наибольш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тере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 чем захотелось побольше узн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J0195320"/>
          <p:cNvPicPr/>
          <p:nvPr/>
        </p:nvPicPr>
        <p:blipFill>
          <a:blip r:embed="rId1"/>
          <a:stretch/>
        </p:blipFill>
        <p:spPr>
          <a:xfrm>
            <a:off x="250920" y="189000"/>
            <a:ext cx="1584360" cy="1139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PH01046J"/>
          <p:cNvPicPr/>
          <p:nvPr/>
        </p:nvPicPr>
        <p:blipFill>
          <a:blip r:embed="rId2"/>
          <a:stretch/>
        </p:blipFill>
        <p:spPr>
          <a:xfrm>
            <a:off x="7812000" y="5229360"/>
            <a:ext cx="1054080" cy="1447560"/>
          </a:xfrm>
          <a:prstGeom prst="rect">
            <a:avLst/>
          </a:prstGeom>
          <a:ln w="0">
            <a:noFill/>
          </a:ln>
        </p:spPr>
      </p:pic>
      <p:sp>
        <p:nvSpPr>
          <p:cNvPr id="131" name="TextBox 4"/>
          <p:cNvSpPr/>
          <p:nvPr/>
        </p:nvSpPr>
        <p:spPr>
          <a:xfrm>
            <a:off x="2998080" y="428760"/>
            <a:ext cx="299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Рефлекс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668160" y="1071720"/>
            <a:ext cx="8128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                      </a:t>
            </a: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Домашнее зада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§ 2. стр. учебника 10 – 1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думать несколько примеров 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ределение поясного време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 Почему, находясь в следующе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асовом поясе, в нашем город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йствует московское врем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J0295069"/>
          <p:cNvPicPr/>
          <p:nvPr/>
        </p:nvPicPr>
        <p:blipFill>
          <a:blip r:embed="rId1"/>
          <a:stretch/>
        </p:blipFill>
        <p:spPr>
          <a:xfrm>
            <a:off x="250920" y="189000"/>
            <a:ext cx="1830240" cy="13158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PH01046J"/>
          <p:cNvPicPr/>
          <p:nvPr/>
        </p:nvPicPr>
        <p:blipFill>
          <a:blip r:embed="rId2"/>
          <a:stretch/>
        </p:blipFill>
        <p:spPr>
          <a:xfrm>
            <a:off x="7812000" y="5300640"/>
            <a:ext cx="95400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rcRect l="0" t="0" r="85" b="36"/>
          <a:stretch/>
        </p:blipFill>
        <p:spPr>
          <a:xfrm>
            <a:off x="324000" y="333360"/>
            <a:ext cx="8497800" cy="6129360"/>
          </a:xfrm>
          <a:prstGeom prst="rect">
            <a:avLst/>
          </a:prstGeom>
          <a:ln w="0">
            <a:noFill/>
          </a:ln>
        </p:spPr>
      </p:pic>
      <p:sp>
        <p:nvSpPr>
          <p:cNvPr id="47" name="WordArt 6"/>
          <p:cNvSpPr txBox="1"/>
          <p:nvPr/>
        </p:nvSpPr>
        <p:spPr>
          <a:xfrm rot="20889000">
            <a:off x="1692360" y="3644640"/>
            <a:ext cx="5900760" cy="11570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87394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 о с с и й с к а я Ф е д е р а ц и я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8" name="WordArt 7"/>
          <p:cNvSpPr txBox="1"/>
          <p:nvPr/>
        </p:nvSpPr>
        <p:spPr>
          <a:xfrm>
            <a:off x="1476360" y="1916280"/>
            <a:ext cx="6481800" cy="330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азмеры территории.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Часовые пояса.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6"/>
          <p:cNvSpPr/>
          <p:nvPr/>
        </p:nvSpPr>
        <p:spPr>
          <a:xfrm>
            <a:off x="250200" y="260280"/>
            <a:ext cx="8772480" cy="636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Знать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площадь и форму  территории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России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в чем преимущества и недостатк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большой территории страны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как отсчитывают время на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территории России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ff3300"/>
                </a:solidFill>
                <a:latin typeface="Arial"/>
              </a:rPr>
              <a:t>Уметь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работать с картой атласа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определять поясное время по карт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часовых поясов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«линия перемены дат»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PH01046J"/>
          <p:cNvPicPr/>
          <p:nvPr/>
        </p:nvPicPr>
        <p:blipFill>
          <a:blip r:embed="rId1"/>
          <a:stretch/>
        </p:blipFill>
        <p:spPr>
          <a:xfrm>
            <a:off x="7956720" y="260280"/>
            <a:ext cx="9810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4"/>
          <p:cNvSpPr txBox="1"/>
          <p:nvPr/>
        </p:nvSpPr>
        <p:spPr>
          <a:xfrm>
            <a:off x="900000" y="260280"/>
            <a:ext cx="75819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cc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азмеры и форма территории России</a:t>
            </a:r>
            <a:endParaRPr b="0" lang="en-US" sz="1800" spc="1" strike="noStrike">
              <a:ln w="9360">
                <a:solidFill>
                  <a:srgbClr val="cc00cc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2" name="Picture 5" descr="справка"/>
          <p:cNvPicPr/>
          <p:nvPr/>
        </p:nvPicPr>
        <p:blipFill>
          <a:blip r:embed="rId1"/>
          <a:srcRect l="0" t="0" r="52" b="58"/>
          <a:stretch/>
        </p:blipFill>
        <p:spPr>
          <a:xfrm>
            <a:off x="179280" y="1413000"/>
            <a:ext cx="5168880" cy="5256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3921840" y="1413000"/>
            <a:ext cx="5508720" cy="38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Площадь РФ – 17,1 млн.км</a:t>
            </a:r>
            <a:r>
              <a:rPr b="1" lang="ru-RU" sz="2800" spc="-1" strike="noStrike" baseline="30000">
                <a:solidFill>
                  <a:srgbClr val="cc33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baseline="30000">
                <a:solidFill>
                  <a:srgbClr val="cc3300"/>
                </a:solidFill>
                <a:latin typeface="Arial"/>
              </a:rPr>
              <a:t>                   </a:t>
            </a:r>
            <a:r>
              <a:rPr b="1" lang="ru-RU" sz="3600" spc="-1" strike="noStrike" baseline="30000">
                <a:solidFill>
                  <a:srgbClr val="cc3300"/>
                </a:solidFill>
                <a:latin typeface="Arial"/>
              </a:rPr>
              <a:t>1/8 часть мировой суш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1/3 часть площа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                       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Евраз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                 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Территория России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               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ее национальн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               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достояние 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PH01046J"/>
          <p:cNvPicPr/>
          <p:nvPr/>
        </p:nvPicPr>
        <p:blipFill>
          <a:blip r:embed="rId2"/>
          <a:stretch/>
        </p:blipFill>
        <p:spPr>
          <a:xfrm>
            <a:off x="7667640" y="5013360"/>
            <a:ext cx="112392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справка 002"/>
          <p:cNvPicPr/>
          <p:nvPr/>
        </p:nvPicPr>
        <p:blipFill>
          <a:blip r:embed="rId1"/>
          <a:srcRect l="0" t="49756" r="70735" b="-27"/>
          <a:stretch/>
        </p:blipFill>
        <p:spPr>
          <a:xfrm>
            <a:off x="324000" y="260280"/>
            <a:ext cx="8496000" cy="63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справка 002"/>
          <p:cNvPicPr/>
          <p:nvPr/>
        </p:nvPicPr>
        <p:blipFill>
          <a:blip r:embed="rId1"/>
          <a:srcRect l="81914" t="0" r="-1013" b="56972"/>
          <a:stretch/>
        </p:blipFill>
        <p:spPr>
          <a:xfrm>
            <a:off x="250920" y="1773360"/>
            <a:ext cx="4033800" cy="4176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7" name="WordArt 5"/>
          <p:cNvSpPr txBox="1"/>
          <p:nvPr/>
        </p:nvSpPr>
        <p:spPr>
          <a:xfrm rot="254400">
            <a:off x="1619280" y="115920"/>
            <a:ext cx="69832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969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cc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Форма территории России</a:t>
            </a:r>
            <a:endParaRPr b="0" lang="en-US" sz="1800" spc="1" strike="noStrike">
              <a:ln w="9360">
                <a:solidFill>
                  <a:srgbClr val="cc00cc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4286880" y="1341360"/>
            <a:ext cx="485136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Зад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зовите крайние точ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ан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ишите форм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рритории стран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де находи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еографический цент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ан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 влияет вытянут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рритории на природ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аны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1763640" y="2781360"/>
            <a:ext cx="182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66,5</a:t>
            </a:r>
            <a:r>
              <a:rPr b="1" lang="ru-RU" sz="1400" spc="-1" strike="noStrike" baseline="30000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.ш. 94,25</a:t>
            </a:r>
            <a:r>
              <a:rPr b="1" lang="ru-RU" sz="1400" spc="-1" strike="noStrike" baseline="30000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.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8"/>
          <p:cNvSpPr/>
          <p:nvPr/>
        </p:nvSpPr>
        <p:spPr>
          <a:xfrm>
            <a:off x="2124000" y="2565360"/>
            <a:ext cx="216000" cy="216000"/>
          </a:xfrm>
          <a:prstGeom prst="su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9" descr="PH01046J"/>
          <p:cNvPicPr/>
          <p:nvPr/>
        </p:nvPicPr>
        <p:blipFill>
          <a:blip r:embed="rId2"/>
          <a:stretch/>
        </p:blipFill>
        <p:spPr>
          <a:xfrm>
            <a:off x="250920" y="115920"/>
            <a:ext cx="1027080" cy="15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WordArt 4"/>
          <p:cNvSpPr txBox="1"/>
          <p:nvPr/>
        </p:nvSpPr>
        <p:spPr>
          <a:xfrm>
            <a:off x="1116000" y="189000"/>
            <a:ext cx="77817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еимущества и недостатки 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ольших размеров территории России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63" name="Rectangle 5"/>
          <p:cNvGrpSpPr/>
          <p:nvPr/>
        </p:nvGrpSpPr>
        <p:grpSpPr>
          <a:xfrm>
            <a:off x="1560600" y="1517760"/>
            <a:ext cx="2706480" cy="841320"/>
            <a:chOff x="1560600" y="1517760"/>
            <a:chExt cx="2706480" cy="841320"/>
          </a:xfrm>
        </p:grpSpPr>
        <p:pic>
          <p:nvPicPr>
            <p:cNvPr id="64" name="Rectangle 5" descr=""/>
            <p:cNvPicPr/>
            <p:nvPr/>
          </p:nvPicPr>
          <p:blipFill>
            <a:blip r:embed="rId1"/>
            <a:stretch/>
          </p:blipFill>
          <p:spPr>
            <a:xfrm>
              <a:off x="1560600" y="1517760"/>
              <a:ext cx="270648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1763640" y="1557360"/>
              <a:ext cx="230364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реимуществ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Rectangle 6"/>
          <p:cNvGrpSpPr/>
          <p:nvPr/>
        </p:nvGrpSpPr>
        <p:grpSpPr>
          <a:xfrm>
            <a:off x="500040" y="3176640"/>
            <a:ext cx="2760840" cy="907920"/>
            <a:chOff x="500040" y="3176640"/>
            <a:chExt cx="2760840" cy="907920"/>
          </a:xfrm>
        </p:grpSpPr>
        <p:pic>
          <p:nvPicPr>
            <p:cNvPr id="67" name="Rectangle 6" descr=""/>
            <p:cNvPicPr/>
            <p:nvPr/>
          </p:nvPicPr>
          <p:blipFill>
            <a:blip r:embed="rId2"/>
            <a:stretch/>
          </p:blipFill>
          <p:spPr>
            <a:xfrm>
              <a:off x="500040" y="3176640"/>
              <a:ext cx="276084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11280" y="3213000"/>
              <a:ext cx="2592360" cy="78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ольшое разнообраз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ирод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Rectangle 7"/>
          <p:cNvGrpSpPr/>
          <p:nvPr/>
        </p:nvGrpSpPr>
        <p:grpSpPr>
          <a:xfrm>
            <a:off x="334800" y="2230560"/>
            <a:ext cx="2865600" cy="1019160"/>
            <a:chOff x="334800" y="2230560"/>
            <a:chExt cx="2865600" cy="1019160"/>
          </a:xfrm>
        </p:grpSpPr>
        <p:pic>
          <p:nvPicPr>
            <p:cNvPr id="70" name="Rectangle 7" descr=""/>
            <p:cNvPicPr/>
            <p:nvPr/>
          </p:nvPicPr>
          <p:blipFill>
            <a:blip r:embed="rId3"/>
            <a:stretch/>
          </p:blipFill>
          <p:spPr>
            <a:xfrm>
              <a:off x="334800" y="2230560"/>
              <a:ext cx="2865600" cy="101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395280" y="2357280"/>
              <a:ext cx="274788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остаточно места дл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змещения насел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 хозяйств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Rectangle 8"/>
          <p:cNvGrpSpPr/>
          <p:nvPr/>
        </p:nvGrpSpPr>
        <p:grpSpPr>
          <a:xfrm>
            <a:off x="1176480" y="4962600"/>
            <a:ext cx="2712960" cy="822240"/>
            <a:chOff x="1176480" y="4962600"/>
            <a:chExt cx="2712960" cy="822240"/>
          </a:xfrm>
        </p:grpSpPr>
        <p:pic>
          <p:nvPicPr>
            <p:cNvPr id="73" name="Rectangle 8" descr=""/>
            <p:cNvPicPr/>
            <p:nvPr/>
          </p:nvPicPr>
          <p:blipFill>
            <a:blip r:embed="rId4"/>
            <a:stretch/>
          </p:blipFill>
          <p:spPr>
            <a:xfrm>
              <a:off x="1176480" y="4962600"/>
              <a:ext cx="271296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1285920" y="5000760"/>
              <a:ext cx="24480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ольшую территорию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рудно завоевыва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Rectangle 9"/>
          <p:cNvGrpSpPr/>
          <p:nvPr/>
        </p:nvGrpSpPr>
        <p:grpSpPr>
          <a:xfrm>
            <a:off x="450720" y="3981600"/>
            <a:ext cx="3114720" cy="1035000"/>
            <a:chOff x="450720" y="3981600"/>
            <a:chExt cx="3114720" cy="1035000"/>
          </a:xfrm>
        </p:grpSpPr>
        <p:pic>
          <p:nvPicPr>
            <p:cNvPr id="76" name="Rectangle 9" descr=""/>
            <p:cNvPicPr/>
            <p:nvPr/>
          </p:nvPicPr>
          <p:blipFill>
            <a:blip r:embed="rId5"/>
            <a:stretch/>
          </p:blipFill>
          <p:spPr>
            <a:xfrm>
              <a:off x="450720" y="3981600"/>
              <a:ext cx="3114720" cy="103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539640" y="4076640"/>
              <a:ext cx="2952720" cy="8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озможность сохран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енарушенных человек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еме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Rectangle 10"/>
          <p:cNvGrpSpPr/>
          <p:nvPr/>
        </p:nvGrpSpPr>
        <p:grpSpPr>
          <a:xfrm>
            <a:off x="1504800" y="5767560"/>
            <a:ext cx="2513160" cy="961920"/>
            <a:chOff x="1504800" y="5767560"/>
            <a:chExt cx="2513160" cy="961920"/>
          </a:xfrm>
        </p:grpSpPr>
        <p:pic>
          <p:nvPicPr>
            <p:cNvPr id="79" name="Rectangle 10" descr=""/>
            <p:cNvPicPr/>
            <p:nvPr/>
          </p:nvPicPr>
          <p:blipFill>
            <a:blip r:embed="rId6"/>
            <a:stretch/>
          </p:blipFill>
          <p:spPr>
            <a:xfrm>
              <a:off x="1504800" y="5767560"/>
              <a:ext cx="251316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1619280" y="5805360"/>
              <a:ext cx="230328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громные запасы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иродных богатст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Rectangle 11"/>
          <p:cNvGrpSpPr/>
          <p:nvPr/>
        </p:nvGrpSpPr>
        <p:grpSpPr>
          <a:xfrm>
            <a:off x="5254560" y="4906800"/>
            <a:ext cx="3071880" cy="897120"/>
            <a:chOff x="5254560" y="4906800"/>
            <a:chExt cx="3071880" cy="897120"/>
          </a:xfrm>
        </p:grpSpPr>
        <p:pic>
          <p:nvPicPr>
            <p:cNvPr id="82" name="Rectangle 11" descr=""/>
            <p:cNvPicPr/>
            <p:nvPr/>
          </p:nvPicPr>
          <p:blipFill>
            <a:blip r:embed="rId7"/>
            <a:stretch/>
          </p:blipFill>
          <p:spPr>
            <a:xfrm>
              <a:off x="5254560" y="4906800"/>
              <a:ext cx="307188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5364000" y="4941720"/>
              <a:ext cx="2735280" cy="77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Огромные транспортны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затра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Rectangle 12"/>
          <p:cNvGrpSpPr/>
          <p:nvPr/>
        </p:nvGrpSpPr>
        <p:grpSpPr>
          <a:xfrm>
            <a:off x="5602320" y="3249720"/>
            <a:ext cx="2975040" cy="841320"/>
            <a:chOff x="5602320" y="3249720"/>
            <a:chExt cx="2975040" cy="841320"/>
          </a:xfrm>
        </p:grpSpPr>
        <p:pic>
          <p:nvPicPr>
            <p:cNvPr id="85" name="Rectangle 12" descr=""/>
            <p:cNvPicPr/>
            <p:nvPr/>
          </p:nvPicPr>
          <p:blipFill>
            <a:blip r:embed="rId8"/>
            <a:stretch/>
          </p:blipFill>
          <p:spPr>
            <a:xfrm>
              <a:off x="5602320" y="3249720"/>
              <a:ext cx="297504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5715000" y="3286080"/>
              <a:ext cx="280836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Географическ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разобщенность нац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Rectangle 13"/>
          <p:cNvGrpSpPr/>
          <p:nvPr/>
        </p:nvGrpSpPr>
        <p:grpSpPr>
          <a:xfrm>
            <a:off x="5108400" y="5767560"/>
            <a:ext cx="2664000" cy="961920"/>
            <a:chOff x="5108400" y="5767560"/>
            <a:chExt cx="2664000" cy="961920"/>
          </a:xfrm>
        </p:grpSpPr>
        <p:pic>
          <p:nvPicPr>
            <p:cNvPr id="88" name="Rectangle 13" descr=""/>
            <p:cNvPicPr/>
            <p:nvPr/>
          </p:nvPicPr>
          <p:blipFill>
            <a:blip r:embed="rId9"/>
            <a:stretch/>
          </p:blipFill>
          <p:spPr>
            <a:xfrm>
              <a:off x="5108400" y="5767560"/>
              <a:ext cx="266400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5219640" y="5805360"/>
              <a:ext cx="249552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ложность защи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территории и грани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Rectangle 14"/>
          <p:cNvGrpSpPr/>
          <p:nvPr/>
        </p:nvGrpSpPr>
        <p:grpSpPr>
          <a:xfrm>
            <a:off x="5657760" y="4108320"/>
            <a:ext cx="3132360" cy="828720"/>
            <a:chOff x="5657760" y="4108320"/>
            <a:chExt cx="3132360" cy="828720"/>
          </a:xfrm>
        </p:grpSpPr>
        <p:pic>
          <p:nvPicPr>
            <p:cNvPr id="91" name="Rectangle 14" descr=""/>
            <p:cNvPicPr/>
            <p:nvPr/>
          </p:nvPicPr>
          <p:blipFill>
            <a:blip r:embed="rId10"/>
            <a:stretch/>
          </p:blipFill>
          <p:spPr>
            <a:xfrm>
              <a:off x="5657760" y="4108320"/>
              <a:ext cx="313236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5715000" y="4143240"/>
              <a:ext cx="302256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Сложность </a:t>
              </a: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управл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страно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Rectangle 15"/>
          <p:cNvGrpSpPr/>
          <p:nvPr/>
        </p:nvGrpSpPr>
        <p:grpSpPr>
          <a:xfrm>
            <a:off x="5962680" y="2266920"/>
            <a:ext cx="3022560" cy="1030320"/>
            <a:chOff x="5962680" y="2266920"/>
            <a:chExt cx="3022560" cy="1030320"/>
          </a:xfrm>
        </p:grpSpPr>
        <p:pic>
          <p:nvPicPr>
            <p:cNvPr id="94" name="Rectangle 15" descr=""/>
            <p:cNvPicPr/>
            <p:nvPr/>
          </p:nvPicPr>
          <p:blipFill>
            <a:blip r:embed="rId11"/>
            <a:stretch/>
          </p:blipFill>
          <p:spPr>
            <a:xfrm>
              <a:off x="5962680" y="2266920"/>
              <a:ext cx="302256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6072120" y="2357280"/>
              <a:ext cx="2857680" cy="85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Большие затраты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редств и времени н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освоение территор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Rectangle 16"/>
          <p:cNvGrpSpPr/>
          <p:nvPr/>
        </p:nvGrpSpPr>
        <p:grpSpPr>
          <a:xfrm>
            <a:off x="4724280" y="1517760"/>
            <a:ext cx="2419560" cy="841320"/>
            <a:chOff x="4724280" y="1517760"/>
            <a:chExt cx="2419560" cy="841320"/>
          </a:xfrm>
        </p:grpSpPr>
        <p:pic>
          <p:nvPicPr>
            <p:cNvPr id="97" name="Rectangle 16" descr=""/>
            <p:cNvPicPr/>
            <p:nvPr/>
          </p:nvPicPr>
          <p:blipFill>
            <a:blip r:embed="rId12"/>
            <a:stretch/>
          </p:blipFill>
          <p:spPr>
            <a:xfrm>
              <a:off x="4724280" y="1517760"/>
              <a:ext cx="24195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4788000" y="1557360"/>
              <a:ext cx="230328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Проблем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Line 17"/>
          <p:cNvSpPr/>
          <p:nvPr/>
        </p:nvSpPr>
        <p:spPr>
          <a:xfrm>
            <a:off x="3419640" y="227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8"/>
          <p:cNvSpPr/>
          <p:nvPr/>
        </p:nvSpPr>
        <p:spPr>
          <a:xfrm flipH="1">
            <a:off x="3143160" y="2276640"/>
            <a:ext cx="852480" cy="36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9"/>
          <p:cNvSpPr/>
          <p:nvPr/>
        </p:nvSpPr>
        <p:spPr>
          <a:xfrm flipH="1">
            <a:off x="3203640" y="2276640"/>
            <a:ext cx="792000" cy="12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0"/>
          <p:cNvSpPr/>
          <p:nvPr/>
        </p:nvSpPr>
        <p:spPr>
          <a:xfrm flipH="1">
            <a:off x="3492360" y="2276640"/>
            <a:ext cx="503280" cy="21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1"/>
          <p:cNvSpPr/>
          <p:nvPr/>
        </p:nvSpPr>
        <p:spPr>
          <a:xfrm flipH="1">
            <a:off x="3714840" y="2276640"/>
            <a:ext cx="280800" cy="272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2"/>
          <p:cNvSpPr/>
          <p:nvPr/>
        </p:nvSpPr>
        <p:spPr>
          <a:xfrm flipH="1">
            <a:off x="3924360" y="2276640"/>
            <a:ext cx="71280" cy="35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3"/>
          <p:cNvSpPr/>
          <p:nvPr/>
        </p:nvSpPr>
        <p:spPr>
          <a:xfrm>
            <a:off x="4788000" y="2276640"/>
            <a:ext cx="1296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24"/>
          <p:cNvSpPr/>
          <p:nvPr/>
        </p:nvSpPr>
        <p:spPr>
          <a:xfrm>
            <a:off x="4788000" y="2276640"/>
            <a:ext cx="93636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5"/>
          <p:cNvSpPr/>
          <p:nvPr/>
        </p:nvSpPr>
        <p:spPr>
          <a:xfrm>
            <a:off x="4788000" y="2276640"/>
            <a:ext cx="863640" cy="20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6"/>
          <p:cNvSpPr/>
          <p:nvPr/>
        </p:nvSpPr>
        <p:spPr>
          <a:xfrm>
            <a:off x="4788000" y="2276640"/>
            <a:ext cx="576000" cy="26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7"/>
          <p:cNvSpPr/>
          <p:nvPr/>
        </p:nvSpPr>
        <p:spPr>
          <a:xfrm>
            <a:off x="4788000" y="2276640"/>
            <a:ext cx="431640" cy="36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8" descr="PH01046J"/>
          <p:cNvPicPr/>
          <p:nvPr/>
        </p:nvPicPr>
        <p:blipFill>
          <a:blip r:embed="rId13"/>
          <a:stretch/>
        </p:blipFill>
        <p:spPr>
          <a:xfrm>
            <a:off x="179280" y="115920"/>
            <a:ext cx="932040" cy="13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5"/>
          <p:cNvSpPr/>
          <p:nvPr/>
        </p:nvSpPr>
        <p:spPr>
          <a:xfrm>
            <a:off x="1440" y="-49320"/>
            <a:ext cx="8930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Почему на территории России существу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разница во  времен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справка 002"/>
          <p:cNvPicPr/>
          <p:nvPr/>
        </p:nvPicPr>
        <p:blipFill>
          <a:blip r:embed="rId1"/>
          <a:srcRect l="53405" t="69817" r="2717" b="43"/>
          <a:stretch/>
        </p:blipFill>
        <p:spPr>
          <a:xfrm>
            <a:off x="324000" y="981000"/>
            <a:ext cx="8496000" cy="254808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7"/>
          <p:cNvSpPr/>
          <p:nvPr/>
        </p:nvSpPr>
        <p:spPr>
          <a:xfrm>
            <a:off x="250560" y="3573360"/>
            <a:ext cx="8225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чему на территории нашей планеты 24 часов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яс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колько градусов в одном часовом пояс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такое «местное время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такое «поясное время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куда начинается утр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такое «линия перемены дат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такое «декретное время»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8" descr="PH01046J"/>
          <p:cNvPicPr/>
          <p:nvPr/>
        </p:nvPicPr>
        <p:blipFill>
          <a:blip r:embed="rId2"/>
          <a:stretch/>
        </p:blipFill>
        <p:spPr>
          <a:xfrm>
            <a:off x="7524720" y="4581360"/>
            <a:ext cx="132408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справка 003"/>
          <p:cNvPicPr/>
          <p:nvPr/>
        </p:nvPicPr>
        <p:blipFill>
          <a:blip r:embed="rId1"/>
          <a:srcRect l="0" t="0" r="16" b="-53"/>
          <a:stretch/>
        </p:blipFill>
        <p:spPr>
          <a:xfrm>
            <a:off x="250920" y="907920"/>
            <a:ext cx="8640720" cy="5762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PH01046J"/>
          <p:cNvPicPr/>
          <p:nvPr/>
        </p:nvPicPr>
        <p:blipFill>
          <a:blip r:embed="rId2"/>
          <a:stretch/>
        </p:blipFill>
        <p:spPr>
          <a:xfrm>
            <a:off x="179280" y="189000"/>
            <a:ext cx="107964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13:39:31Z</dcterms:created>
  <dc:creator>user</dc:creator>
  <dc:description/>
  <dc:language>en-US</dc:language>
  <cp:lastModifiedBy>User</cp:lastModifiedBy>
  <dcterms:modified xsi:type="dcterms:W3CDTF">2011-09-25T08:25:13Z</dcterms:modified>
  <cp:revision>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00d0000000000010250300207f7000400038000</vt:lpwstr>
  </property>
</Properties>
</file>