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AEF-1129-467B-B984-95EAC068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899-E68D-40D6-8F31-F5EEFB5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CDA-FAA9-4635-96FC-FCC7051C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6E0-DF22-4C58-89E0-81A64605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177-7A04-4F67-9101-552E2B59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84BA-29BD-4A1C-A728-5E8906F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389-4CDE-47EF-8830-D4E5D65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AB18-0547-4350-BDED-C044566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261-2E74-4512-AFEB-F9E02A38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FACC-6898-47B5-9CEB-80E73B1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469-C570-4F4A-8414-0178D9B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0E0-D39C-41A2-9323-8E9B36A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225D-56F5-4CC7-85A6-0C3BBED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F489-0AB4-49D6-AC79-0BFF43C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67F2-49BC-4AC1-B0E0-E455BEAA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038-7B6B-42C5-B550-48B3EDE9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5098-A347-4F70-87F1-B83A3EA4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0C0-9180-426B-8518-62516295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5F0-D027-4A82-A8FE-4DE86D94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BB4-18D5-4763-BBB9-4089955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5DE6-023B-49CC-BB03-08EF111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D71-972F-452D-AEA5-E16C0BFB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D63-1782-4D22-91D1-4EBC9DA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FC6-70E5-46CB-94A0-71252BD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c9e6fa"/>
              </a:gs>
              <a:gs pos="100000">
                <a:srgbClr val="5fb5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FB15-8587-488B-A3CA-7DCEA4849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sp>
        <p:nvSpPr>
          <p:cNvPr id="8" name="Text Box 21"/>
          <p:cNvSpPr/>
          <p:nvPr/>
        </p:nvSpPr>
        <p:spPr>
          <a:xfrm>
            <a:off x="7047360" y="646596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22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10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Rectangle 16"/>
          <p:cNvSpPr/>
          <p:nvPr/>
        </p:nvSpPr>
        <p:spPr>
          <a:xfrm rot="1759800">
            <a:off x="8013240" y="263160"/>
            <a:ext cx="901800" cy="90180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7"/>
          <p:cNvSpPr/>
          <p:nvPr/>
        </p:nvSpPr>
        <p:spPr>
          <a:xfrm rot="682200">
            <a:off x="7283520" y="210960"/>
            <a:ext cx="1022400" cy="102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04"/>
          <p:cNvPicPr/>
          <p:nvPr/>
        </p:nvPicPr>
        <p:blipFill>
          <a:blip r:embed="rId6"/>
          <a:stretch/>
        </p:blipFill>
        <p:spPr>
          <a:xfrm>
            <a:off x="7746840" y="0"/>
            <a:ext cx="190800" cy="30492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18" descr="03"/>
          <p:cNvPicPr/>
          <p:nvPr/>
        </p:nvPicPr>
        <p:blipFill>
          <a:blip r:embed="rId7"/>
          <a:stretch/>
        </p:blipFill>
        <p:spPr>
          <a:xfrm>
            <a:off x="8674200" y="193680"/>
            <a:ext cx="16488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7"/>
          <p:cNvSpPr/>
          <p:nvPr/>
        </p:nvSpPr>
        <p:spPr>
          <a:xfrm rot="21127200">
            <a:off x="380880" y="304920"/>
            <a:ext cx="4267440" cy="426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 rot="20388600">
            <a:off x="762120" y="1219320"/>
            <a:ext cx="4876560" cy="48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01"/>
          <p:cNvPicPr/>
          <p:nvPr/>
        </p:nvPicPr>
        <p:blipFill>
          <a:blip r:embed="rId4"/>
          <a:srcRect l="15327" t="0" r="0" b="6250"/>
          <a:stretch/>
        </p:blipFill>
        <p:spPr>
          <a:xfrm>
            <a:off x="2467080" y="0"/>
            <a:ext cx="210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Freeform 7"/>
          <p:cNvSpPr/>
          <p:nvPr/>
        </p:nvSpPr>
        <p:spPr>
          <a:xfrm>
            <a:off x="2895480" y="0"/>
            <a:ext cx="6248520" cy="685800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89c8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772760" y="6186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9" descr="03"/>
          <p:cNvPicPr/>
          <p:nvPr/>
        </p:nvPicPr>
        <p:blipFill>
          <a:blip r:embed="rId5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04"/>
          <p:cNvPicPr/>
          <p:nvPr/>
        </p:nvPicPr>
        <p:blipFill>
          <a:blip r:embed="rId6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4" descr="06"/>
          <p:cNvPicPr/>
          <p:nvPr/>
        </p:nvPicPr>
        <p:blipFill>
          <a:blip r:embed="rId7"/>
          <a:stretch/>
        </p:blipFill>
        <p:spPr>
          <a:xfrm>
            <a:off x="3657600" y="488484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C43-31DC-47C7-9E7A-2A24BC3A5E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mlab.chemistry.002i.om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72;&#1078;&#1085;&#1086;&#1089;&#1090;&#1100;%20&#1093;&#1080;&#1084;&#1080;&#1080;" TargetMode="External"/><Relationship Id="rId2" Type="http://schemas.openxmlformats.org/officeDocument/2006/relationships/hyperlink" Target="file:///&#1063;&#1090;&#1086;%20&#1090;&#1072;&#1082;&#1086;&#1077;%20&#1093;&#1080;&#1084;&#1080;&#1103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7760" y="129528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ЭТА УВЛЕКАТЕЛЬНАЯ ХИМИЯ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785760" y="3357360"/>
            <a:ext cx="495324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урок химии в 8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рамова С.И., учитель химии МОУ «Лихославльская СОШ №2» Тве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Светлана Ивановна\Рабочий стол\Первый урок химии в 8 классе\фото учёных\Р.ВУД.jpg"/>
          <p:cNvPicPr/>
          <p:nvPr/>
        </p:nvPicPr>
        <p:blipFill>
          <a:blip r:embed="rId1"/>
          <a:stretch/>
        </p:blipFill>
        <p:spPr>
          <a:xfrm>
            <a:off x="714240" y="357120"/>
            <a:ext cx="3143520" cy="387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Светлана Ивановна\Рабочий стол\Первый урок химии в 8 классе\фото учёных\Н.Н.ЗИНИН.jpg"/>
          <p:cNvPicPr/>
          <p:nvPr/>
        </p:nvPicPr>
        <p:blipFill>
          <a:blip r:embed="rId2"/>
          <a:stretch/>
        </p:blipFill>
        <p:spPr>
          <a:xfrm>
            <a:off x="4429080" y="1285920"/>
            <a:ext cx="4038480" cy="44877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6"/>
          <p:cNvSpPr/>
          <p:nvPr/>
        </p:nvSpPr>
        <p:spPr>
          <a:xfrm>
            <a:off x="1143000" y="47149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берт В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4929120" y="592920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ЗИ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ассоциации вызывает у вас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какой группе наук относится наука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ятся слова «география»,»геометрия», «биолог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еводится слово «хим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4280" y="250020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Точки зрения на происхождение слова «химия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5929200" y="357192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ь 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592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кторин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Такая ли уж сложная наука «химия»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26431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гра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Угадайте веществ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1430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1"/>
              </a:rPr>
              <a:t>ВАЖНОСТЬ </a:t>
            </a: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f8a858"/>
                </a:solidFill>
                <a:uFillTx/>
                <a:latin typeface="Arial"/>
                <a:hlinkClick r:id="rId2"/>
              </a:rPr>
              <a:t>И ЗНАЧЕНИЕ ХИМИ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нтересные факты из жизни учёных-химико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Светлана Ивановна\Рабочий стол\Первый урок химии в 8 классе\фото учёных\Берцелиус.jpg"/>
          <p:cNvPicPr/>
          <p:nvPr/>
        </p:nvPicPr>
        <p:blipFill>
          <a:blip r:embed="rId1"/>
          <a:stretch/>
        </p:blipFill>
        <p:spPr>
          <a:xfrm>
            <a:off x="1143000" y="1766880"/>
            <a:ext cx="2928960" cy="3724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214280" y="571500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Светлана Ивановна\Рабочий стол\Первый урок химии в 8 классе\фото учёных\Менделеев.jpg"/>
          <p:cNvPicPr/>
          <p:nvPr/>
        </p:nvPicPr>
        <p:blipFill>
          <a:blip r:embed="rId2"/>
          <a:stretch/>
        </p:blipFill>
        <p:spPr>
          <a:xfrm>
            <a:off x="5286240" y="1785960"/>
            <a:ext cx="2792520" cy="3660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5214960" y="564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Иванович Менде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Светлана Ивановна\Рабочий стол\Первый урок химии в 8 классе\фото учёных\bunzen.jpg"/>
          <p:cNvPicPr/>
          <p:nvPr/>
        </p:nvPicPr>
        <p:blipFill>
          <a:blip r:embed="rId1"/>
          <a:stretch/>
        </p:blipFill>
        <p:spPr>
          <a:xfrm>
            <a:off x="571680" y="777960"/>
            <a:ext cx="3500280" cy="41544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124" name="TextBox 5"/>
          <p:cNvSpPr/>
          <p:nvPr/>
        </p:nvSpPr>
        <p:spPr>
          <a:xfrm>
            <a:off x="928800" y="521496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В.БУНЗ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Светлана Ивановна\Рабочий стол\Первый урок химии в 8 классе\фото учёных\Август Кекуле.jpg"/>
          <p:cNvPicPr/>
          <p:nvPr/>
        </p:nvPicPr>
        <p:blipFill>
          <a:blip r:embed="rId2"/>
          <a:stretch/>
        </p:blipFill>
        <p:spPr>
          <a:xfrm>
            <a:off x="4572000" y="728640"/>
            <a:ext cx="3154320" cy="4291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26" name="TextBox 7"/>
          <p:cNvSpPr/>
          <p:nvPr/>
        </p:nvSpPr>
        <p:spPr>
          <a:xfrm>
            <a:off x="5072040" y="53578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.А.КЕК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Светлана Ивановна\Рабочий стол\Первый урок химии в 8 классе\фото учёных\Beketov.jpg"/>
          <p:cNvPicPr/>
          <p:nvPr/>
        </p:nvPicPr>
        <p:blipFill>
          <a:blip r:embed="rId1"/>
          <a:stretch/>
        </p:blipFill>
        <p:spPr>
          <a:xfrm>
            <a:off x="428760" y="214200"/>
            <a:ext cx="3071520" cy="412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Светлана Ивановна\Рабочий стол\Первый урок химии в 8 классе\фото учёных\arrhenius.jpg"/>
          <p:cNvPicPr/>
          <p:nvPr/>
        </p:nvPicPr>
        <p:blipFill>
          <a:blip r:embed="rId2"/>
          <a:stretch/>
        </p:blipFill>
        <p:spPr>
          <a:xfrm>
            <a:off x="4429080" y="1214280"/>
            <a:ext cx="3268800" cy="4526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571680" y="4714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Н.БЕ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786200" y="6072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А.АРРЕН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Ивановна</cp:lastModifiedBy>
  <dcterms:modified xsi:type="dcterms:W3CDTF">2012-02-28T14:03:04Z</dcterms:modified>
  <cp:revision>8</cp:revision>
  <dc:subject/>
  <dc:title>ЭТА УВЛЕКАТЕЛЬНАЯ ХИМИЯ…</dc:title>
</cp:coreProperties>
</file>