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529-B8BC-43D4-B185-1A26B4B4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931-1D84-477E-B5BB-62D0A521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825-5D97-434B-B683-5E1F24CF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F69-30EC-44DB-BD83-617690CF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3171-A2E8-4354-A854-E6FCB500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B72F-B255-439D-9D3C-39E06425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23A1-1502-4CDC-A31B-BFEE8334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0046-81AB-4390-BE35-17742807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7819-6E28-485C-831D-6E4CCCE4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3747-AEBC-46BF-B809-993E67F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2D54-7694-4530-965F-58911929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8B4-0663-46DB-BDFB-6E81DCCA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FF13-0B38-4C2C-8312-BDB53FE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10B9-E5D2-42DB-A419-0075D0C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F282-7CF5-4DD9-BB93-8E4085D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09F7-682F-4F4A-940C-D397C496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700-FC75-4606-B4BF-378FDA8E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D5F-FB45-4505-8C37-FDE70CD7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5E1-4291-4D3D-B235-27EDC4CC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918-C285-489D-ACC4-7C1B7D39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666-85D9-44D5-B508-21FAE0E2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028-77C9-4D31-92CE-CDD07926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BCC-530E-4022-B33C-9938E0D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116-0747-47D4-B6D4-287F300A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01"/>
          <p:cNvPicPr/>
          <p:nvPr/>
        </p:nvPicPr>
        <p:blipFill>
          <a:blip r:embed="rId2"/>
          <a:srcRect l="8527" t="0" r="0" b="6250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9"/>
          <p:cNvSpPr/>
          <p:nvPr/>
        </p:nvSpPr>
        <p:spPr>
          <a:xfrm>
            <a:off x="228600" y="0"/>
            <a:ext cx="8915400" cy="6883560"/>
          </a:xfrm>
          <a:prstGeom prst="pie">
            <a:avLst/>
          </a:prstGeom>
          <a:gradFill rotWithShape="0">
            <a:gsLst>
              <a:gs pos="0">
                <a:srgbClr val="c9e6fa"/>
              </a:gs>
              <a:gs pos="100000">
                <a:srgbClr val="5fb5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5A96-A9F1-44CF-949F-14C3F63A9B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sp>
        <p:nvSpPr>
          <p:cNvPr id="8" name="Text Box 21"/>
          <p:cNvSpPr/>
          <p:nvPr/>
        </p:nvSpPr>
        <p:spPr>
          <a:xfrm>
            <a:off x="7047360" y="646596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22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10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Rectangle 16"/>
          <p:cNvSpPr/>
          <p:nvPr/>
        </p:nvSpPr>
        <p:spPr>
          <a:xfrm rot="1759800">
            <a:off x="8013240" y="263160"/>
            <a:ext cx="901800" cy="90180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7"/>
          <p:cNvSpPr/>
          <p:nvPr/>
        </p:nvSpPr>
        <p:spPr>
          <a:xfrm rot="682200">
            <a:off x="7283520" y="210960"/>
            <a:ext cx="1022400" cy="102240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04"/>
          <p:cNvPicPr/>
          <p:nvPr/>
        </p:nvPicPr>
        <p:blipFill>
          <a:blip r:embed="rId6"/>
          <a:stretch/>
        </p:blipFill>
        <p:spPr>
          <a:xfrm>
            <a:off x="7746840" y="0"/>
            <a:ext cx="190800" cy="30492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18" descr="03"/>
          <p:cNvPicPr/>
          <p:nvPr/>
        </p:nvPicPr>
        <p:blipFill>
          <a:blip r:embed="rId7"/>
          <a:stretch/>
        </p:blipFill>
        <p:spPr>
          <a:xfrm>
            <a:off x="8674200" y="193680"/>
            <a:ext cx="16488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7"/>
          <p:cNvSpPr/>
          <p:nvPr/>
        </p:nvSpPr>
        <p:spPr>
          <a:xfrm rot="21127200">
            <a:off x="380880" y="304920"/>
            <a:ext cx="426744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6"/>
          <p:cNvSpPr/>
          <p:nvPr/>
        </p:nvSpPr>
        <p:spPr>
          <a:xfrm rot="20388600">
            <a:off x="762120" y="1219320"/>
            <a:ext cx="4876560" cy="48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01"/>
          <p:cNvPicPr/>
          <p:nvPr/>
        </p:nvPicPr>
        <p:blipFill>
          <a:blip r:embed="rId4"/>
          <a:srcRect l="15327" t="0" r="0" b="6250"/>
          <a:stretch/>
        </p:blipFill>
        <p:spPr>
          <a:xfrm>
            <a:off x="2467080" y="0"/>
            <a:ext cx="2104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Freeform 7"/>
          <p:cNvSpPr/>
          <p:nvPr/>
        </p:nvSpPr>
        <p:spPr>
          <a:xfrm>
            <a:off x="2895480" y="0"/>
            <a:ext cx="6248520" cy="6858000"/>
          </a:xfrm>
          <a:prstGeom prst="pie">
            <a:avLst/>
          </a:prstGeom>
          <a:gradFill rotWithShape="0">
            <a:gsLst>
              <a:gs pos="0">
                <a:srgbClr val="5fb5ef"/>
              </a:gs>
              <a:gs pos="100000">
                <a:srgbClr val="89c8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772760" y="61866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9" descr="03"/>
          <p:cNvPicPr/>
          <p:nvPr/>
        </p:nvPicPr>
        <p:blipFill>
          <a:blip r:embed="rId5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04"/>
          <p:cNvPicPr/>
          <p:nvPr/>
        </p:nvPicPr>
        <p:blipFill>
          <a:blip r:embed="rId6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06"/>
          <p:cNvPicPr/>
          <p:nvPr/>
        </p:nvPicPr>
        <p:blipFill>
          <a:blip r:embed="rId7"/>
          <a:stretch/>
        </p:blipFill>
        <p:spPr>
          <a:xfrm>
            <a:off x="3657600" y="488484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B4A1-428D-444D-B993-6FBBB51D3A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mlab.chemistry.002i.om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2;&#1072;&#1078;&#1085;&#1086;&#1089;&#1090;&#1100;%20&#1093;&#1080;&#1084;&#1080;&#1080;" TargetMode="External"/><Relationship Id="rId2" Type="http://schemas.openxmlformats.org/officeDocument/2006/relationships/hyperlink" Target="file:///&#1063;&#1090;&#1086;%20&#1090;&#1072;&#1082;&#1086;&#1077;%20&#1093;&#1080;&#1084;&#1080;&#1103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7760" y="1295280"/>
            <a:ext cx="56386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ТА УВЛЕКАТЕЛЬНАЯ ХИМИЯ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785760" y="3357360"/>
            <a:ext cx="495324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урок химии в 8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брамова С.И., учитель химии МОУ «Лихославльская СОШ №2» Тве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Светлана Ивановна\Рабочий стол\Первый урок химии в 8 классе\фото учёных\Р.ВУД.jpg"/>
          <p:cNvPicPr/>
          <p:nvPr/>
        </p:nvPicPr>
        <p:blipFill>
          <a:blip r:embed="rId1"/>
          <a:stretch/>
        </p:blipFill>
        <p:spPr>
          <a:xfrm>
            <a:off x="714240" y="357120"/>
            <a:ext cx="3143520" cy="387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Светлана Ивановна\Рабочий стол\Первый урок химии в 8 классе\фото учёных\Н.Н.ЗИНИН.jpg"/>
          <p:cNvPicPr/>
          <p:nvPr/>
        </p:nvPicPr>
        <p:blipFill>
          <a:blip r:embed="rId2"/>
          <a:stretch/>
        </p:blipFill>
        <p:spPr>
          <a:xfrm>
            <a:off x="4429080" y="1285920"/>
            <a:ext cx="4038480" cy="44877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1143000" y="47149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берт В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929120" y="592920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.ЗИ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ассоциации вызывает у вас слово «хим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акой группе наук относится наука «хим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еводятся слова «география»,»геометрия», «биолог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еводится слово «хим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4280" y="250020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8a858"/>
                </a:solidFill>
                <a:uFillTx/>
                <a:latin typeface="Arial"/>
                <a:hlinkClick r:id="rId1"/>
              </a:rPr>
              <a:t>Точки зрения на происхождение слова «химия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5929200" y="357192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 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5920" y="26431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Такая ли уж сложная наука «химия»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0080" y="26431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гра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Угадайте вещество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14308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8a858"/>
                </a:solidFill>
                <a:uFillTx/>
                <a:latin typeface="Arial"/>
                <a:hlinkClick r:id="rId1"/>
              </a:rPr>
              <a:t>ВАЖНОСТЬ 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8a858"/>
                </a:solidFill>
                <a:uFillTx/>
                <a:latin typeface="Arial"/>
                <a:hlinkClick r:id="rId2"/>
              </a:rPr>
              <a:t>И ЗНАЧЕНИЕ ХИМИ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нтересные факты из жизни учёных-химико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Documents and Settings\Светлана Ивановна\Рабочий стол\Первый урок химии в 8 классе\фото учёных\Берцелиус.jpg"/>
          <p:cNvPicPr/>
          <p:nvPr/>
        </p:nvPicPr>
        <p:blipFill>
          <a:blip r:embed="rId1"/>
          <a:stretch/>
        </p:blipFill>
        <p:spPr>
          <a:xfrm>
            <a:off x="1143000" y="1766880"/>
            <a:ext cx="2928960" cy="3724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214280" y="571500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ЕНС ЯКОБ БЕРЦЕ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Светлана Ивановна\Рабочий стол\Первый урок химии в 8 классе\фото учёных\Менделеев.jpg"/>
          <p:cNvPicPr/>
          <p:nvPr/>
        </p:nvPicPr>
        <p:blipFill>
          <a:blip r:embed="rId2"/>
          <a:stretch/>
        </p:blipFill>
        <p:spPr>
          <a:xfrm>
            <a:off x="5286240" y="1785960"/>
            <a:ext cx="2792520" cy="3660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5214960" y="564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Иванович Менде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Светлана Ивановна\Рабочий стол\Первый урок химии в 8 классе\фото учёных\bunzen.jpg"/>
          <p:cNvPicPr/>
          <p:nvPr/>
        </p:nvPicPr>
        <p:blipFill>
          <a:blip r:embed="rId1"/>
          <a:stretch/>
        </p:blipFill>
        <p:spPr>
          <a:xfrm>
            <a:off x="571680" y="777960"/>
            <a:ext cx="3500280" cy="415440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124" name="TextBox 5"/>
          <p:cNvSpPr/>
          <p:nvPr/>
        </p:nvSpPr>
        <p:spPr>
          <a:xfrm>
            <a:off x="928800" y="521496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В.БУНЗ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Светлана Ивановна\Рабочий стол\Первый урок химии в 8 классе\фото учёных\Август Кекуле.jpg"/>
          <p:cNvPicPr/>
          <p:nvPr/>
        </p:nvPicPr>
        <p:blipFill>
          <a:blip r:embed="rId2"/>
          <a:stretch/>
        </p:blipFill>
        <p:spPr>
          <a:xfrm>
            <a:off x="4572000" y="728640"/>
            <a:ext cx="3154320" cy="4291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26" name="TextBox 7"/>
          <p:cNvSpPr/>
          <p:nvPr/>
        </p:nvSpPr>
        <p:spPr>
          <a:xfrm>
            <a:off x="5072040" y="53578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.А.КЕК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Светлана Ивановна\Рабочий стол\Первый урок химии в 8 классе\фото учёных\Beketov.jpg"/>
          <p:cNvPicPr/>
          <p:nvPr/>
        </p:nvPicPr>
        <p:blipFill>
          <a:blip r:embed="rId1"/>
          <a:stretch/>
        </p:blipFill>
        <p:spPr>
          <a:xfrm>
            <a:off x="428760" y="214200"/>
            <a:ext cx="3071520" cy="412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Светлана Ивановна\Рабочий стол\Первый урок химии в 8 классе\фото учёных\arrhenius.jpg"/>
          <p:cNvPicPr/>
          <p:nvPr/>
        </p:nvPicPr>
        <p:blipFill>
          <a:blip r:embed="rId2"/>
          <a:stretch/>
        </p:blipFill>
        <p:spPr>
          <a:xfrm>
            <a:off x="4429080" y="1214280"/>
            <a:ext cx="3268800" cy="4526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571680" y="47149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.БЕК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786200" y="60721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.А.АРРЕН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Ивановна</cp:lastModifiedBy>
  <dcterms:modified xsi:type="dcterms:W3CDTF">2012-02-28T14:03:04Z</dcterms:modified>
  <cp:revision>8</cp:revision>
  <dc:subject/>
  <dc:title>ЭТА УВЛЕКАТЕЛЬНАЯ ХИМИЯ…</dc:title>
</cp:coreProperties>
</file>