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A6E-970A-47CA-A21C-A25D31E8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4D6-A636-40F7-8040-315E384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EBA-EA1C-4118-8717-C80E5E89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77A-0E96-4BE2-9512-6036F1A5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93D-7F35-45C8-A854-82D13C5F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EC6-CE1D-4D4B-85D9-A402C74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CB2-AE4C-48E2-A37C-6207C74C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C12-69BC-4C70-A5AB-85D85B10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E8C-1A90-433B-AF88-8EE542E1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D4F-1F59-42FE-851F-8A34E88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F23-7F28-41EC-8DFC-42F4BC0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420-E674-4AD1-B91D-3F6A13AA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2FE1-7553-45FB-A404-84C17807ED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240" y="304812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787560"/>
            <a:ext cx="8380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ниагарский водопад"/>
          <p:cNvPicPr/>
          <p:nvPr/>
        </p:nvPicPr>
        <p:blipFill>
          <a:blip r:embed="rId1"/>
          <a:stretch/>
        </p:blipFill>
        <p:spPr>
          <a:xfrm>
            <a:off x="0" y="0"/>
            <a:ext cx="4724280" cy="6705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4876920" y="228600"/>
            <a:ext cx="4105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иагарский водопа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23623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арлсбадские пещеры- это национальный парк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оторый находится в 25 к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 западу  от города Карлсбад на юго-востоке штата Нью-Максико. Спелеолог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Было открыто более 80 карстовых полостей, карстовых полостей, но главная из них- это система  Карлсбадских пещер, хот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По длине  она и уступает величайшей на Земле Мамонтовой пещер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карлсбадские пищеры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4952880" y="0"/>
            <a:ext cx="3962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рлсбадские пище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6320"/>
            <a:ext cx="2438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240" y="11430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Кунгурская  ледяная пещера- жемчужина Урала, спрятанная в недрах Ледяной горы, что на берегу реки Сылвы. Это уникальный природный памятник, с которым связано множес тво легенд.  Приблизительный возраст пещеры 10-12 тыс.лет, длина всех  ходов составляет 5,6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Общая площадь этого удивительного объекта равна 65 тыс.м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кунгу́рская ледяна́я пеще́ра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4952880" y="0"/>
            <a:ext cx="41911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унгурская леденая пеще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0920"/>
            <a:ext cx="3276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0" y="129528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Ладожское озеро</a:t>
            </a:r>
            <a:r>
              <a:rPr b="0" lang="ru-RU" sz="32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9900ff"/>
                </a:solidFill>
                <a:latin typeface="Tahoma"/>
              </a:rPr>
              <a:t>является самым большим в Европе. Котловина, в которой расположилось это красивейшее озеро ледникового происхождения, около 12 тыс. лет назад освободилась ото льда, благодаря чему в ней образовалось озер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ладожское озеро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>
            <a:off x="5029200" y="152280"/>
            <a:ext cx="384804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адожское озер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30481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Собор Святой Варвары построен в юго-зпадной части городка  Кутная Гора  и гармонично дополняет историческую  панораму. Идея закладки собора скрыто в папских указах-буллах. Первая булла, датированная 1381году, была своего рода лицензией на строительство, а последняя, от 1403году, призвала иерархическое положение церкви. Строительство собора началось в 1388году на скалистом утесе с видом на долину  реки Врчлице. С 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XIII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. На этом месте разрабатывались серебряные рудники и чеканились чешские грош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собор святой варвары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952880" y="152280"/>
            <a:ext cx="41911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бор Святой Варвар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2760"/>
            <a:ext cx="3200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Пизанская башня- э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Колокольная башня знаменитого собора Санта-Мария Маджоре, которая была построена в городе Пизе в 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XII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Высота башни с самой низкой ее стороны составляет 55,86м, а с самой высокой- 56,70м. Ширена стен у основания равна 4,09 м, а вверху- 2,48 м. По оценкам специалистов, масса башни-14 700</a:t>
            </a:r>
            <a:r>
              <a:rPr b="0" lang="en-US" sz="1800" spc="-1" strike="noStrike">
                <a:solidFill>
                  <a:srgbClr val="9900ff"/>
                </a:solidFill>
                <a:latin typeface="Tahoma"/>
              </a:rPr>
              <a:t>m.</a:t>
            </a:r>
            <a:r>
              <a:rPr b="0" lang="ru-RU" sz="1800" spc="-1" strike="noStrike">
                <a:solidFill>
                  <a:srgbClr val="9900ff"/>
                </a:solidFill>
                <a:latin typeface="Tahoma"/>
              </a:rPr>
              <a:t> А имеющийся наклон- около 5,5градусов. В башне насчитывается 294 ступень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пизанская башня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5181480" y="152280"/>
            <a:ext cx="35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изанская башн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78160"/>
            <a:ext cx="3809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86040" y="83772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ов Киж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ходящийся на Онежском озере в Карелии, известен тем что на нём расположился известный на весь мир архитектурный ансамбль, который состоит из многочисленных деревянных строений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рквей, домов, часовен и различных хозяйственных построек. Название этого острова, вероятнее всего, прибалтийско-финского происхожд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кижи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5638680" y="0"/>
            <a:ext cx="2743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Остров Киж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152280" y="15228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рковь Преображения Господня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Line 7"/>
          <p:cNvSpPr/>
          <p:nvPr/>
        </p:nvSpPr>
        <p:spPr>
          <a:xfrm>
            <a:off x="914400" y="762120"/>
            <a:ext cx="38088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4:57:02Z</dcterms:created>
  <dc:creator>алёна</dc:creator>
  <dc:description/>
  <dc:language>en-US</dc:language>
  <cp:lastModifiedBy>Пользователь</cp:lastModifiedBy>
  <dcterms:modified xsi:type="dcterms:W3CDTF">2014-01-27T14:53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