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B29D-928D-450A-99AF-2C1BECABF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5AF1-A5BD-4912-9C44-3D1FB3D3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5E1D-8E55-493C-AA61-112020C17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4D36-B5C0-409D-AF89-BBE7F5CEC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5A87-A537-42BE-9BFA-53A8C21F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C684-0A46-4160-844D-0B90AD0C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1C27-74F7-4379-B17F-62434511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5BFF-4727-4563-B8F2-9FED08C4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4B3A-7964-4C81-BB54-407D3D91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B9B7-2980-4771-BCF7-64310236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2ED0-8BA1-4FDD-9D07-282AC83B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6CE4-9144-4F84-B3F8-C847DEA1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D5E8-8250-48E6-BDDD-79EFC01E649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00240" y="304812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787560"/>
            <a:ext cx="838080" cy="19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4" descr="ниагарский водопад"/>
          <p:cNvPicPr/>
          <p:nvPr/>
        </p:nvPicPr>
        <p:blipFill>
          <a:blip r:embed="rId1"/>
          <a:stretch/>
        </p:blipFill>
        <p:spPr>
          <a:xfrm>
            <a:off x="0" y="0"/>
            <a:ext cx="4724280" cy="670572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4876920" y="228600"/>
            <a:ext cx="41050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Ниагарский водопа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6320"/>
            <a:ext cx="23623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8840" y="1752120"/>
            <a:ext cx="3429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Tahoma"/>
              </a:rPr>
              <a:t>Карлсбадские пещеры- это национальный парк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Tahoma"/>
              </a:rPr>
              <a:t>Который находится в 25 к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Tahoma"/>
              </a:rPr>
              <a:t>К западу  от города Карлсбад на юго-востоке штата Нью-Максико. Спелеолога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Tahoma"/>
              </a:rPr>
              <a:t>Было открыто более 80 карстовых полостей, карстовых полостей, но главная из них- это система  Карлсбадских пещер, хот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Tahoma"/>
              </a:rPr>
              <a:t>По длине  она и уступает величайшей на Земле Мамонтовой пещер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4" descr="карлсбадские пищеры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>
            <a:off x="4952880" y="0"/>
            <a:ext cx="39625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арлсбадские пищер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66320"/>
            <a:ext cx="2438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00240" y="11430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Tahoma"/>
              </a:rPr>
              <a:t>Кунгурская  ледяная пещера- жемчужина Урала, спрятанная в недрах Ледяной горы, что на берегу реки Сылвы. Это уникальный природный памятник, с которым связано множес тво легенд.  Приблизительный возраст пещеры 10-12 тыс.лет, длина всех  ходов составляет 5,6 к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Tahoma"/>
              </a:rPr>
              <a:t>Общая площадь этого удивительного объекта равна 65 тыс.м2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4" descr="кунгу́рская ледяна́я пеще́ра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WordArt 5"/>
          <p:cNvSpPr txBox="1"/>
          <p:nvPr/>
        </p:nvSpPr>
        <p:spPr>
          <a:xfrm>
            <a:off x="4952880" y="0"/>
            <a:ext cx="41911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унгурская леденая пещер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90920"/>
            <a:ext cx="32767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0" y="1295280"/>
            <a:ext cx="3657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Tahoma"/>
              </a:rPr>
              <a:t>Ладожское озеро</a:t>
            </a:r>
            <a:r>
              <a:rPr b="0" lang="ru-RU" sz="32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9900ff"/>
                </a:solidFill>
                <a:latin typeface="Tahoma"/>
              </a:rPr>
              <a:t>является самым большим в Европе. Котловина, в которой расположилось это красивейшее озеро ледникового происхождения, около 12 тыс. лет назад освободилась ото льда, благодаря чему в ней образовалось озер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4" descr="ладожское озеро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WordArt 5"/>
          <p:cNvSpPr txBox="1"/>
          <p:nvPr/>
        </p:nvSpPr>
        <p:spPr>
          <a:xfrm>
            <a:off x="5029200" y="152280"/>
            <a:ext cx="3848040" cy="8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Ладожское озер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539640"/>
            <a:ext cx="3048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800240" y="106632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Tahoma"/>
              </a:rPr>
              <a:t>Собор Святой Варвары построен в юго-зпадной части городка  Кутная Гора  и гармонично дополняет историческую  панораму. Идея закладки собора скрыто в папских указах-буллах. Первая булла, датированная 1381году, была своего рода лицензией на строительство, а последняя, от 1403году, призвала иерархическое положение церкви. Строительство собора началось в 1388году на скалистом утесе с видом на долину  реки Врчлице. С </a:t>
            </a:r>
            <a:r>
              <a:rPr b="0" lang="en-US" sz="1800" spc="-1" strike="noStrike">
                <a:solidFill>
                  <a:srgbClr val="9900ff"/>
                </a:solidFill>
                <a:latin typeface="Tahoma"/>
              </a:rPr>
              <a:t>XIII</a:t>
            </a:r>
            <a:r>
              <a:rPr b="0" lang="ru-RU" sz="1800" spc="-1" strike="noStrike">
                <a:solidFill>
                  <a:srgbClr val="9900ff"/>
                </a:solidFill>
                <a:latin typeface="Tahoma"/>
              </a:rPr>
              <a:t>в. На этом месте разрабатывались серебряные рудники и чеканились чешские грош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4" descr="собор святой варвары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WordArt 5"/>
          <p:cNvSpPr txBox="1"/>
          <p:nvPr/>
        </p:nvSpPr>
        <p:spPr>
          <a:xfrm>
            <a:off x="4952880" y="152280"/>
            <a:ext cx="419112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обор Святой Варвар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push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2760"/>
            <a:ext cx="3200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0" y="13716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Tahoma"/>
              </a:rPr>
              <a:t>Пизанская башня- эт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Tahoma"/>
              </a:rPr>
              <a:t>Колокольная башня знаменитого собора Санта-Мария Маджоре, которая была построена в городе Пизе в </a:t>
            </a:r>
            <a:r>
              <a:rPr b="0" lang="en-US" sz="1800" spc="-1" strike="noStrike">
                <a:solidFill>
                  <a:srgbClr val="9900ff"/>
                </a:solidFill>
                <a:latin typeface="Tahoma"/>
              </a:rPr>
              <a:t>XII</a:t>
            </a:r>
            <a:r>
              <a:rPr b="0" lang="ru-RU" sz="1800" spc="-1" strike="noStrike">
                <a:solidFill>
                  <a:srgbClr val="9900ff"/>
                </a:solidFill>
                <a:latin typeface="Tahoma"/>
              </a:rPr>
              <a:t>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Tahoma"/>
              </a:rPr>
              <a:t>Высота башни с самой низкой ее стороны составляет 55,86м, а с самой высокой- 56,70м. Ширена стен у основания равна 4,09 м, а вверху- 2,48 м. По оценкам специалистов, масса башни-14 700</a:t>
            </a:r>
            <a:r>
              <a:rPr b="0" lang="en-US" sz="1800" spc="-1" strike="noStrike">
                <a:solidFill>
                  <a:srgbClr val="9900ff"/>
                </a:solidFill>
                <a:latin typeface="Tahoma"/>
              </a:rPr>
              <a:t>m.</a:t>
            </a:r>
            <a:r>
              <a:rPr b="0" lang="ru-RU" sz="1800" spc="-1" strike="noStrike">
                <a:solidFill>
                  <a:srgbClr val="9900ff"/>
                </a:solidFill>
                <a:latin typeface="Tahoma"/>
              </a:rPr>
              <a:t> А имеющийся наклон- около 5,5градусов. В башне насчитывается 294 ступень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4" descr="пизанская башня"/>
          <p:cNvPicPr/>
          <p:nvPr/>
        </p:nvPicPr>
        <p:blipFill>
          <a:blip r:embed="rId1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WordArt 5"/>
          <p:cNvSpPr txBox="1"/>
          <p:nvPr/>
        </p:nvSpPr>
        <p:spPr>
          <a:xfrm>
            <a:off x="5181480" y="152280"/>
            <a:ext cx="35816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изанская башн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cover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578160"/>
            <a:ext cx="38098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486040" y="837720"/>
            <a:ext cx="3352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тров Киж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ходящийся на Онежском озере в Карелии, известен тем что на нём расположился известный на весь мир архитектурный ансамбль, который состоит из многочисленных деревянных строений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ерквей, домов, часовен и различных хозяйственных построек. Название этого острова, вероятнее всего, прибалтийско-финского происхожд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4" descr="кижи"/>
          <p:cNvPicPr/>
          <p:nvPr/>
        </p:nvPicPr>
        <p:blipFill>
          <a:blip r:embed="rId1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WordArt 5"/>
          <p:cNvSpPr txBox="1"/>
          <p:nvPr/>
        </p:nvSpPr>
        <p:spPr>
          <a:xfrm>
            <a:off x="5638680" y="0"/>
            <a:ext cx="27432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Остров Киж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9" name="WordArt 6"/>
          <p:cNvSpPr txBox="1"/>
          <p:nvPr/>
        </p:nvSpPr>
        <p:spPr>
          <a:xfrm>
            <a:off x="152280" y="152280"/>
            <a:ext cx="480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рковь Преображения Господня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Line 7"/>
          <p:cNvSpPr/>
          <p:nvPr/>
        </p:nvSpPr>
        <p:spPr>
          <a:xfrm>
            <a:off x="914400" y="762120"/>
            <a:ext cx="38088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14:57:02Z</dcterms:created>
  <dc:creator>алёна</dc:creator>
  <dc:description/>
  <dc:language>en-US</dc:language>
  <cp:lastModifiedBy>Пользователь</cp:lastModifiedBy>
  <dcterms:modified xsi:type="dcterms:W3CDTF">2014-01-27T14:53:5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