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DD75-EE76-45BA-80E1-8D1290AE4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4383-E998-4FC4-8F62-9EE401C3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638D-AF12-45B2-B3DB-AB2488E89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0DB7-310C-42F1-9F67-E2D36AFF4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2D17-36D6-419D-9C08-6A7004CC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6C80-83B3-413E-B960-D1A30650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1657-5359-42DA-9A95-9B185C1C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177D-5B7B-40A0-9689-DE571528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564E-931A-4FA8-96CA-ACC5160A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24EC-D95B-489B-981C-559AFD78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9FD5-1051-4F3B-B77F-55272A70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F2AE-4E3A-45A2-AE53-6314DFBA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47FF-FE27-4F51-9338-845DE186F93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00240" y="304812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787560"/>
            <a:ext cx="838080" cy="19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4" descr="ниагарский водопад"/>
          <p:cNvPicPr/>
          <p:nvPr/>
        </p:nvPicPr>
        <p:blipFill>
          <a:blip r:embed="rId1"/>
          <a:stretch/>
        </p:blipFill>
        <p:spPr>
          <a:xfrm>
            <a:off x="0" y="0"/>
            <a:ext cx="4724280" cy="670572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4876920" y="228600"/>
            <a:ext cx="41050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Ниагарский водопа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6320"/>
            <a:ext cx="23623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8840" y="1752120"/>
            <a:ext cx="3429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Tahoma"/>
              </a:rPr>
              <a:t>Карлсбадские пещеры- это национальный парк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Tahoma"/>
              </a:rPr>
              <a:t>Который находится в 25 к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Tahoma"/>
              </a:rPr>
              <a:t>К западу  от города Карлсбад на юго-востоке штата Нью-Максико. Спелеолога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Tahoma"/>
              </a:rPr>
              <a:t>Было открыто более 80 карстовых полостей, карстовых полостей, но главная из них- это система  Карлсбадских пещер, хот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Tahoma"/>
              </a:rPr>
              <a:t>По длине  она и уступает величайшей на Земле Мамонтовой пещер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4" descr="карлсбадские пищеры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>
            <a:off x="4952880" y="0"/>
            <a:ext cx="39625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арлсбадские пищер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66320"/>
            <a:ext cx="2438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00240" y="11430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Tahoma"/>
              </a:rPr>
              <a:t>Кунгурская  ледяная пещера- жемчужина Урала, спрятанная в недрах Ледяной горы, что на берегу реки Сылвы. Это уникальный природный памятник, с которым связано множес тво легенд.  Приблизительный возраст пещеры 10-12 тыс.лет, длина всех  ходов составляет 5,6 к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Tahoma"/>
              </a:rPr>
              <a:t>Общая площадь этого удивительного объекта равна 65 тыс.м2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4" descr="кунгу́рская ледяна́я пеще́ра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WordArt 5"/>
          <p:cNvSpPr txBox="1"/>
          <p:nvPr/>
        </p:nvSpPr>
        <p:spPr>
          <a:xfrm>
            <a:off x="4952880" y="0"/>
            <a:ext cx="41911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унгурская леденая пещер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90920"/>
            <a:ext cx="32767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0" y="1295280"/>
            <a:ext cx="3657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Tahoma"/>
              </a:rPr>
              <a:t>Ладожское озеро</a:t>
            </a:r>
            <a:r>
              <a:rPr b="0" lang="ru-RU" sz="32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9900ff"/>
                </a:solidFill>
                <a:latin typeface="Tahoma"/>
              </a:rPr>
              <a:t>является самым большим в Европе. Котловина, в которой расположилось это красивейшее озеро ледникового происхождения, около 12 тыс. лет назад освободилась ото льда, благодаря чему в ней образовалось озер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4" descr="ладожское озеро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WordArt 5"/>
          <p:cNvSpPr txBox="1"/>
          <p:nvPr/>
        </p:nvSpPr>
        <p:spPr>
          <a:xfrm>
            <a:off x="5029200" y="152280"/>
            <a:ext cx="3848040" cy="8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Ладожское озер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539640"/>
            <a:ext cx="3048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800240" y="106632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Tahoma"/>
              </a:rPr>
              <a:t>Собор Святой Варвары построен в юго-зпадной части городка  Кутная Гора  и гармонично дополняет историческую  панораму. Идея закладки собора скрыто в папских указах-буллах. Первая булла, датированная 1381году, была своего рода лицензией на строительство, а последняя, от 1403году, призвала иерархическое положение церкви. Строительство собора началось в 1388году на скалистом утесе с видом на долину  реки Врчлице. С </a:t>
            </a:r>
            <a:r>
              <a:rPr b="0" lang="en-US" sz="1800" spc="-1" strike="noStrike">
                <a:solidFill>
                  <a:srgbClr val="9900ff"/>
                </a:solidFill>
                <a:latin typeface="Tahoma"/>
              </a:rPr>
              <a:t>XIII</a:t>
            </a:r>
            <a:r>
              <a:rPr b="0" lang="ru-RU" sz="1800" spc="-1" strike="noStrike">
                <a:solidFill>
                  <a:srgbClr val="9900ff"/>
                </a:solidFill>
                <a:latin typeface="Tahoma"/>
              </a:rPr>
              <a:t>в. На этом месте разрабатывались серебряные рудники и чеканились чешские грош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4" descr="собор святой варвары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WordArt 5"/>
          <p:cNvSpPr txBox="1"/>
          <p:nvPr/>
        </p:nvSpPr>
        <p:spPr>
          <a:xfrm>
            <a:off x="4952880" y="152280"/>
            <a:ext cx="419112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обор Святой Варвар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push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2760"/>
            <a:ext cx="3200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0" y="13716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Tahoma"/>
              </a:rPr>
              <a:t>Пизанская башня- эт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Tahoma"/>
              </a:rPr>
              <a:t>Колокольная башня знаменитого собора Санта-Мария Маджоре, которая была построена в городе Пизе в </a:t>
            </a:r>
            <a:r>
              <a:rPr b="0" lang="en-US" sz="1800" spc="-1" strike="noStrike">
                <a:solidFill>
                  <a:srgbClr val="9900ff"/>
                </a:solidFill>
                <a:latin typeface="Tahoma"/>
              </a:rPr>
              <a:t>XII</a:t>
            </a:r>
            <a:r>
              <a:rPr b="0" lang="ru-RU" sz="1800" spc="-1" strike="noStrike">
                <a:solidFill>
                  <a:srgbClr val="9900ff"/>
                </a:solidFill>
                <a:latin typeface="Tahoma"/>
              </a:rPr>
              <a:t>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Tahoma"/>
              </a:rPr>
              <a:t>Высота башни с самой низкой ее стороны составляет 55,86м, а с самой высокой- 56,70м. Ширена стен у основания равна 4,09 м, а вверху- 2,48 м. По оценкам специалистов, масса башни-14 700</a:t>
            </a:r>
            <a:r>
              <a:rPr b="0" lang="en-US" sz="1800" spc="-1" strike="noStrike">
                <a:solidFill>
                  <a:srgbClr val="9900ff"/>
                </a:solidFill>
                <a:latin typeface="Tahoma"/>
              </a:rPr>
              <a:t>m.</a:t>
            </a:r>
            <a:r>
              <a:rPr b="0" lang="ru-RU" sz="1800" spc="-1" strike="noStrike">
                <a:solidFill>
                  <a:srgbClr val="9900ff"/>
                </a:solidFill>
                <a:latin typeface="Tahoma"/>
              </a:rPr>
              <a:t> А имеющийся наклон- около 5,5градусов. В башне насчитывается 294 ступень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4" descr="пизанская башня"/>
          <p:cNvPicPr/>
          <p:nvPr/>
        </p:nvPicPr>
        <p:blipFill>
          <a:blip r:embed="rId1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WordArt 5"/>
          <p:cNvSpPr txBox="1"/>
          <p:nvPr/>
        </p:nvSpPr>
        <p:spPr>
          <a:xfrm>
            <a:off x="5181480" y="152280"/>
            <a:ext cx="35816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изанская башн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cover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578160"/>
            <a:ext cx="38098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486040" y="837720"/>
            <a:ext cx="3352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тров Киж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ходящийся на Онежском озере в Карелии, известен тем что на нём расположился известный на весь мир архитектурный ансамбль, который состоит из многочисленных деревянных строений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ерквей, домов, часовен и различных хозяйственных построек. Название этого острова, вероятнее всего, прибалтийско-финского происхожд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4" descr="кижи"/>
          <p:cNvPicPr/>
          <p:nvPr/>
        </p:nvPicPr>
        <p:blipFill>
          <a:blip r:embed="rId1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WordArt 5"/>
          <p:cNvSpPr txBox="1"/>
          <p:nvPr/>
        </p:nvSpPr>
        <p:spPr>
          <a:xfrm>
            <a:off x="5638680" y="0"/>
            <a:ext cx="27432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Остров Киж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9" name="WordArt 6"/>
          <p:cNvSpPr txBox="1"/>
          <p:nvPr/>
        </p:nvSpPr>
        <p:spPr>
          <a:xfrm>
            <a:off x="152280" y="152280"/>
            <a:ext cx="480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рковь Преображения Господня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Line 7"/>
          <p:cNvSpPr/>
          <p:nvPr/>
        </p:nvSpPr>
        <p:spPr>
          <a:xfrm>
            <a:off x="914400" y="762120"/>
            <a:ext cx="38088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14:57:02Z</dcterms:created>
  <dc:creator>алёна</dc:creator>
  <dc:description/>
  <dc:language>en-US</dc:language>
  <cp:lastModifiedBy>Пользователь</cp:lastModifiedBy>
  <dcterms:modified xsi:type="dcterms:W3CDTF">2014-01-27T14:53:5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