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71AC-A114-45E5-8086-ED78E66A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60DC-A6E0-4241-95A7-2EABF439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D357-F3E7-4818-9E61-0D93F33E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2D6-9F6A-43EA-B2AD-8677C1D7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2DF-C726-4123-8760-A27C49DC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1067-0476-4FCF-AFDF-8FBCC9BB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5D7-AA6D-4BC0-9EB4-FF4F3AE5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1F34-EE52-4C2A-B1D5-BFDC4C6F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EF1-8BA8-44AE-A01E-815F8FB6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BE03-75BC-4146-B2B2-2BFF9885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86B-FA4A-484F-B948-21C620B3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ADC-E06C-4B5F-94F5-F4DEAAD3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66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литературы Мещеряк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BB5F-28A8-49FF-86B2-033C2A5CB2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gu.ru/rus_hist/authors/?aid=72" TargetMode="External"/><Relationship Id="rId2" Type="http://schemas.openxmlformats.org/officeDocument/2006/relationships/hyperlink" Target="http://www.sgu.ru/rus_hist/authors/?aid=72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gu.ru/rus_hist/authors/?aid=637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gu.ru/rus_hist/authors/?aid=20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4500720" cy="54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9900cc"/>
                </a:solidFill>
                <a:uFillTx/>
                <a:latin typeface="Arial"/>
              </a:rPr>
              <a:t>«Пётр Великий   русской литературы» (В.Г.Белински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slide0001_image002"/>
          <p:cNvPicPr/>
          <p:nvPr/>
        </p:nvPicPr>
        <p:blipFill>
          <a:blip r:embed="rId1"/>
          <a:stretch/>
        </p:blipFill>
        <p:spPr>
          <a:xfrm>
            <a:off x="4643280" y="549360"/>
            <a:ext cx="432144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4723920"/>
            <a:ext cx="267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«Ломоносов представляется Елизавете Петровне»</a:t>
            </a:r>
            <a:br>
              <a:rPr sz="1800"/>
            </a:b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Автор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Чориков Б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348000" y="333000"/>
            <a:ext cx="579600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Эпоха Елизаветы — яркая страница в летописи русской культуры. Во время ее правления были основаны Московский университет (1755 г.), построен первый постоянный драматический театр (1756 г.), открыта Академия художеств (1757 г.). С середины 40-х годов из Петербургской Академии наук стали постепенно вытесняться ученые-иностранцы и на первые роли вышли ученые отечественные,возглавляемые М.В.Ломоносо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x2-t_102"/>
          <p:cNvPicPr/>
          <p:nvPr/>
        </p:nvPicPr>
        <p:blipFill>
          <a:blip r:embed="rId3"/>
          <a:stretch/>
        </p:blipFill>
        <p:spPr>
          <a:xfrm>
            <a:off x="179280" y="260280"/>
            <a:ext cx="331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00cc"/>
                </a:solidFill>
                <a:uFillTx/>
                <a:latin typeface="Arial"/>
              </a:rPr>
              <a:t>Каким настроением и интонацией должно быть окрашено чтение од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48000" y="1988640"/>
            <a:ext cx="3609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«Елиза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Петро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                                                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в  Царском Сел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cc"/>
                </a:solidFill>
                <a:latin typeface="Arial"/>
              </a:rPr>
              <a:t>                                                          </a:t>
            </a:r>
            <a:r>
              <a:rPr b="0" i="1" lang="ru-RU" sz="2400" spc="-1" strike="noStrike">
                <a:solidFill>
                  <a:srgbClr val="9900cc"/>
                </a:solidFill>
                <a:latin typeface="Arial"/>
              </a:rPr>
              <a:t>Автор: 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Лансере Е.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x1-079_small"/>
          <p:cNvPicPr/>
          <p:nvPr/>
        </p:nvPicPr>
        <p:blipFill>
          <a:blip r:embed="rId1"/>
          <a:stretch/>
        </p:blipFill>
        <p:spPr>
          <a:xfrm>
            <a:off x="108000" y="1916280"/>
            <a:ext cx="5003640" cy="46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356000" y="162864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Вступление .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Мир –основа блага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Главная часть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. Величие России, её процвет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1)хвала щедротам Елиза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2)заслуга Петра перед Отече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3)неисчерпаемые богатства и красота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4)призыв к российской молодёжи овладевать    нау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5)наука и её роль в российском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3.   Заключение.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Традиционная благодарность монархине за деяния на благо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x1-084_small"/>
          <p:cNvPicPr/>
          <p:nvPr/>
        </p:nvPicPr>
        <p:blipFill>
          <a:blip r:embed="rId1"/>
          <a:stretch/>
        </p:blipFill>
        <p:spPr>
          <a:xfrm>
            <a:off x="179280" y="1628640"/>
            <a:ext cx="4032360" cy="33130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250920" y="5118120"/>
            <a:ext cx="37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«Портрет царевен Анны Петровны и Елизаветы Петровны»</a:t>
            </a:r>
            <a:br>
              <a:rPr sz="1800"/>
            </a:b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Автор: </a:t>
            </a: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Каравакк Л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00cc"/>
                </a:solidFill>
                <a:uFillTx/>
                <a:latin typeface="Arial"/>
              </a:rPr>
              <a:t>Составим план 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0" y="189000"/>
            <a:ext cx="4114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  </a:t>
            </a:r>
            <a:r>
              <a:rPr b="0" lang="ru-RU" sz="4400" spc="-1" strike="noStrike" u="sng">
                <a:solidFill>
                  <a:srgbClr val="9900cc"/>
                </a:solidFill>
                <a:uFillTx/>
                <a:latin typeface="Arial"/>
              </a:rPr>
              <a:t>Давайте сравним портрет императрицы с её описанием в од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Изображение:Elizabeth empress.jpg"/>
          <p:cNvPicPr/>
          <p:nvPr/>
        </p:nvPicPr>
        <p:blipFill>
          <a:blip r:embed="rId1"/>
          <a:stretch/>
        </p:blipFill>
        <p:spPr>
          <a:xfrm>
            <a:off x="108000" y="115920"/>
            <a:ext cx="41767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00cc"/>
                </a:solidFill>
                <a:uFillTx/>
                <a:latin typeface="Arial"/>
              </a:rPr>
              <a:t>Каким стилем написана о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Рубль Елизаветы I золотом. 1756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392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2195640" y="616500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Рубль Елизаветы I золотом. 17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Какие приёмы, характерные для стиля русской классической оды, встречаются в этом произве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71680" y="2103480"/>
          <a:ext cx="8229600" cy="475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Художественный приё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Метафо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Сравн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Употребление образцов античной миф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Архаические слова и выра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Олицетвор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Гипербо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Риторические вопросы и восклиц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21200" y="1557360"/>
            <a:ext cx="4798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Какой стихотворный размер выбирает авто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x1-241_small"/>
          <p:cNvPicPr/>
          <p:nvPr/>
        </p:nvPicPr>
        <p:blipFill>
          <a:blip r:embed="rId1"/>
          <a:stretch/>
        </p:blipFill>
        <p:spPr>
          <a:xfrm>
            <a:off x="108000" y="260280"/>
            <a:ext cx="4103640" cy="5905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4284720" y="4076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«Портрет Елизаветы Петров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Неизвестный  автор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00cc"/>
                </a:solidFill>
                <a:uFillTx/>
                <a:latin typeface="Arial"/>
              </a:rPr>
              <a:t>Можно ли эту оду считать по содержанию и форме классицистическ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«Елизавета Петровн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императрица   Всероссийск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                                                      </a:t>
            </a: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Автор: 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Антропов 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2"/>
          <p:cNvPicPr/>
          <p:nvPr/>
        </p:nvPicPr>
        <p:blipFill>
          <a:blip r:embed="rId1"/>
          <a:stretch/>
        </p:blipFill>
        <p:spPr>
          <a:xfrm>
            <a:off x="250920" y="1628640"/>
            <a:ext cx="3673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00cc"/>
                </a:solidFill>
                <a:uFillTx/>
                <a:latin typeface="Arial"/>
              </a:rPr>
              <a:t>Чтобы упрочить ваши знания -даю 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За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таблицу  приме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1в-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  Подготови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подборку   высказы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о   Р.Г. Держав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( презентац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2в-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     Судьб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личность   Г.Р.Держа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(презента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Елизавета Петровна"/>
          <p:cNvPicPr/>
          <p:nvPr/>
        </p:nvPicPr>
        <p:blipFill>
          <a:blip r:embed="rId1"/>
          <a:stretch/>
        </p:blipFill>
        <p:spPr>
          <a:xfrm>
            <a:off x="250920" y="1341360"/>
            <a:ext cx="3817800" cy="4606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179280" y="594216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«Портрет Елизаветы Петров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Неизвестный  автор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9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1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00cc"/>
                </a:solidFill>
                <a:uFillTx/>
                <a:latin typeface="Arial"/>
              </a:rPr>
              <a:t>Жанр оды- любимый жанр Ломонос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slide0007_image014"/>
          <p:cNvPicPr/>
          <p:nvPr/>
        </p:nvPicPr>
        <p:blipFill>
          <a:blip r:embed="rId1"/>
          <a:stretch/>
        </p:blipFill>
        <p:spPr>
          <a:xfrm>
            <a:off x="4932360" y="1413000"/>
            <a:ext cx="3600360" cy="4751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4932360" y="609300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cc"/>
                </a:solidFill>
                <a:latin typeface="Arial"/>
              </a:rPr>
              <a:t>Скульптор А.А.Ива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cc"/>
                </a:solidFill>
                <a:latin typeface="Arial"/>
              </a:rPr>
              <a:t>Отрок Ломоносов на берегу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95280" y="162864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cc"/>
                </a:solidFill>
                <a:uFillTx/>
                <a:latin typeface="Arial"/>
              </a:rPr>
              <a:t>Ода</a:t>
            </a:r>
            <a:r>
              <a:rPr b="0" i="1" lang="ru-RU" sz="3200" spc="-1" strike="noStrike">
                <a:solidFill>
                  <a:srgbClr val="9900cc"/>
                </a:solidFill>
                <a:latin typeface="Arial"/>
              </a:rPr>
              <a:t>(от греческого «песнь»)- жанр лирической поэзии; стихотворение восторженного характера в честь какого-то лица, собы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литературы Мещеряк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Жанр «ода» возник в античности, сначала представлял собой песнь с широким лирическим содержанием. В русской теории классицизма ода осознаётся как жанр героической лирики с 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« высоким» содерж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The Judgment of Solomon"/>
          <p:cNvPicPr/>
          <p:nvPr/>
        </p:nvPicPr>
        <p:blipFill>
          <a:blip r:embed="rId1"/>
          <a:stretch/>
        </p:blipFill>
        <p:spPr>
          <a:xfrm>
            <a:off x="108000" y="1773360"/>
            <a:ext cx="7200720" cy="4895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7392960" y="5013360"/>
            <a:ext cx="175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50021"/>
                </a:solidFill>
                <a:latin typeface="Arial"/>
              </a:rPr>
              <a:t>RAFFAELLO </a:t>
            </a:r>
            <a:br>
              <a:rPr sz="1800"/>
            </a:br>
            <a:r>
              <a:rPr b="0" i="1" lang="en-US" sz="1800" spc="-1" strike="noStrike">
                <a:solidFill>
                  <a:srgbClr val="a50021"/>
                </a:solidFill>
                <a:latin typeface="Arial"/>
              </a:rPr>
              <a:t>SANZIO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уд Солом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780000" y="6021360"/>
            <a:ext cx="511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Н.И.Кисля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Юный Ломоносов на пути в Мос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slide0008_image016"/>
          <p:cNvPicPr/>
          <p:nvPr/>
        </p:nvPicPr>
        <p:blipFill>
          <a:blip r:embed="rId1"/>
          <a:stretch/>
        </p:blipFill>
        <p:spPr>
          <a:xfrm>
            <a:off x="4788000" y="549360"/>
            <a:ext cx="3916440" cy="54514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179280" y="115920"/>
            <a:ext cx="4033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cc"/>
                </a:solidFill>
                <a:latin typeface="Arial"/>
              </a:rPr>
              <a:t>Ломоносов написал 20 больших од. Они положили начало </a:t>
            </a:r>
            <a:r>
              <a:rPr b="1" i="1" lang="ru-RU" sz="3200" spc="-1" strike="noStrike" u="sng">
                <a:solidFill>
                  <a:srgbClr val="9900cc"/>
                </a:solidFill>
                <a:uFillTx/>
                <a:latin typeface="Arial"/>
              </a:rPr>
              <a:t>ангажированной поэзии</a:t>
            </a:r>
            <a:r>
              <a:rPr b="0" i="1" lang="ru-RU" sz="3200" spc="-1" strike="noStrike">
                <a:solidFill>
                  <a:srgbClr val="9900cc"/>
                </a:solidFill>
                <a:latin typeface="Arial"/>
              </a:rPr>
              <a:t>( поэзии заказной, поэзии государственного служения). Они стали образцом для одописцев второй половины 18 века и даже начала 19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859280" y="602136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М. В. Ломоносов. Полтавская баталия. Мозаика. Фраг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slide0013_image026"/>
          <p:cNvPicPr/>
          <p:nvPr/>
        </p:nvPicPr>
        <p:blipFill>
          <a:blip r:embed="rId1"/>
          <a:stretch/>
        </p:blipFill>
        <p:spPr>
          <a:xfrm>
            <a:off x="4932360" y="260280"/>
            <a:ext cx="4033800" cy="5761080"/>
          </a:xfrm>
          <a:prstGeom prst="rect">
            <a:avLst/>
          </a:prstGeom>
          <a:ln w="0">
            <a:noFill/>
          </a:ln>
        </p:spPr>
      </p:pic>
      <p:grpSp>
        <p:nvGrpSpPr>
          <p:cNvPr id="57" name="Diagram 6"/>
          <p:cNvGrpSpPr/>
          <p:nvPr/>
        </p:nvGrpSpPr>
        <p:grpSpPr>
          <a:xfrm>
            <a:off x="295200" y="1096920"/>
            <a:ext cx="4448160" cy="4448160"/>
            <a:chOff x="295200" y="1096920"/>
            <a:chExt cx="4448160" cy="4448160"/>
          </a:xfrm>
        </p:grpSpPr>
        <p:sp>
          <p:nvSpPr>
            <p:cNvPr id="58" name="_s1028"/>
            <p:cNvSpPr/>
            <p:nvPr/>
          </p:nvSpPr>
          <p:spPr>
            <a:xfrm flipH="1">
              <a:off x="1406520" y="3321000"/>
              <a:ext cx="55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29"/>
            <p:cNvSpPr/>
            <p:nvPr/>
          </p:nvSpPr>
          <p:spPr>
            <a:xfrm>
              <a:off x="295200" y="2765520"/>
              <a:ext cx="1111320" cy="111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еро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гос-ву служили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0"/>
            <p:cNvSpPr/>
            <p:nvPr/>
          </p:nvSpPr>
          <p:spPr>
            <a:xfrm>
              <a:off x="2519280" y="3876840"/>
              <a:ext cx="0" cy="55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1"/>
            <p:cNvSpPr/>
            <p:nvPr/>
          </p:nvSpPr>
          <p:spPr>
            <a:xfrm>
              <a:off x="1963800" y="4434120"/>
              <a:ext cx="1111320" cy="1110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Ми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процвета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государ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2"/>
            <p:cNvSpPr/>
            <p:nvPr/>
          </p:nvSpPr>
          <p:spPr>
            <a:xfrm>
              <a:off x="3075120" y="3321000"/>
              <a:ext cx="55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3"/>
            <p:cNvSpPr/>
            <p:nvPr/>
          </p:nvSpPr>
          <p:spPr>
            <a:xfrm>
              <a:off x="3632400" y="2765520"/>
              <a:ext cx="1110960" cy="111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еографич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ост-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могуществ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ос-в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4"/>
            <p:cNvSpPr/>
            <p:nvPr/>
          </p:nvSpPr>
          <p:spPr>
            <a:xfrm flipV="1">
              <a:off x="2519280" y="2208240"/>
              <a:ext cx="0" cy="55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5"/>
            <p:cNvSpPr/>
            <p:nvPr/>
          </p:nvSpPr>
          <p:spPr>
            <a:xfrm>
              <a:off x="1963800" y="1096920"/>
              <a:ext cx="1111320" cy="111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онар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олиц-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ос-во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6"/>
            <p:cNvSpPr/>
            <p:nvPr/>
          </p:nvSpPr>
          <p:spPr>
            <a:xfrm>
              <a:off x="1963800" y="2765520"/>
              <a:ext cx="1111320" cy="111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68360" y="6093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cc"/>
                </a:solidFill>
                <a:latin typeface="Arial"/>
              </a:rPr>
              <a:t>Ученический рисунок М. В. Ломоно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slide0010_image022"/>
          <p:cNvPicPr/>
          <p:nvPr/>
        </p:nvPicPr>
        <p:blipFill>
          <a:blip r:embed="rId1"/>
          <a:stretch/>
        </p:blipFill>
        <p:spPr>
          <a:xfrm>
            <a:off x="611280" y="1125360"/>
            <a:ext cx="8350200" cy="47451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1079640" y="115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Ода « На день восшествия…»- типичное произведение в духе классиц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796000" y="6021360"/>
            <a:ext cx="30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cc"/>
                </a:solidFill>
                <a:latin typeface="Arial"/>
              </a:rPr>
              <a:t>Студент немецкого университета. </a:t>
            </a:r>
            <a:r>
              <a:rPr b="1" i="1" lang="en-US" sz="1600" spc="-1" strike="noStrike">
                <a:solidFill>
                  <a:srgbClr val="9900cc"/>
                </a:solidFill>
                <a:latin typeface="Arial"/>
              </a:rPr>
              <a:t>XVII </a:t>
            </a:r>
            <a:r>
              <a:rPr b="1" i="1" lang="ru-RU" sz="1600" spc="-1" strike="noStrike">
                <a:solidFill>
                  <a:srgbClr val="9900cc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slide0012_image024"/>
          <p:cNvPicPr/>
          <p:nvPr/>
        </p:nvPicPr>
        <p:blipFill>
          <a:blip r:embed="rId1"/>
          <a:stretch/>
        </p:blipFill>
        <p:spPr>
          <a:xfrm>
            <a:off x="5435640" y="0"/>
            <a:ext cx="3506760" cy="59515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0" y="476280"/>
            <a:ext cx="52927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В оде поэт бескорыстен: он не ничтожным событиям собственной жизни радуется, не об них сетует, он вещает правду и суд Промысла, торжествует о величии родимого края, межует перуны в сопостатов, блажит праведника, клянёт извер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М.В. Ломон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00cc"/>
                </a:solidFill>
                <a:uFillTx/>
                <a:latin typeface="Arial"/>
              </a:rPr>
              <a:t>Когда и в связи с чем написана од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4221000"/>
            <a:ext cx="3673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«Портрет Елизаветы Петровны ребенк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Автор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икитин 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x1-t_elizaveta-1"/>
          <p:cNvPicPr/>
          <p:nvPr/>
        </p:nvPicPr>
        <p:blipFill>
          <a:blip r:embed="rId2"/>
          <a:stretch/>
        </p:blipFill>
        <p:spPr>
          <a:xfrm>
            <a:off x="179280" y="1197000"/>
            <a:ext cx="2198880" cy="2519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3203640" y="1484280"/>
            <a:ext cx="576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cc"/>
                </a:solidFill>
                <a:latin typeface="Arial"/>
              </a:rPr>
              <a:t>День восшествия на престол занимал центральное место в годовом цикле придворных праздников. В 1747 году отмечалась пятая годовщина воцарения Елиза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cc"/>
                </a:solidFill>
                <a:latin typeface="Arial"/>
              </a:rPr>
              <a:t>Но эта ода была написана ещё по одному конкретному поводу: Российской Академии наук был «дарован» новый устав. Ломоносов возлагал на него большие надежды в деле распространения просвещения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4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4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4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6021000"/>
            <a:ext cx="36100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«Елизавета Петровна»</a:t>
            </a:r>
            <a:br>
              <a:rPr sz="1800"/>
            </a:b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Автор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Де Преннер 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00720" y="0"/>
            <a:ext cx="46432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Елизавета Петровна</a:t>
            </a:r>
            <a:br>
              <a:rPr sz="2000"/>
            </a:b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(1709 — 1761) — российская императрица, дочь императора Петра I и Екатерины I. Елизавета Петровна родилась 18 декабря 1709 г., в день, когда Петр I с триумфом вошел в Москву, чтобы отпраздновать победу в Полтавской битве. Она была внебрачным ребенком (ее родители обвенчались в 1712 г.), и это обстоятельство в значительной степени отразилось на дальнейшей судьбе будущей императри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1"/>
          <p:cNvPicPr/>
          <p:nvPr/>
        </p:nvPicPr>
        <p:blipFill>
          <a:blip r:embed="rId2"/>
          <a:stretch/>
        </p:blipFill>
        <p:spPr>
          <a:xfrm>
            <a:off x="395280" y="476280"/>
            <a:ext cx="431496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04:02:51Z</dcterms:created>
  <dc:creator>Admin</dc:creator>
  <dc:description/>
  <dc:language>en-US</dc:language>
  <cp:lastModifiedBy>COMP</cp:lastModifiedBy>
  <dcterms:modified xsi:type="dcterms:W3CDTF">2011-09-25T18:45:22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07000000000001023620</vt:lpwstr>
  </property>
</Properties>
</file>