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CD2-DE94-47D8-A4EA-09A5E930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037-8886-41BE-B226-8C88BF7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749-0A44-4BF4-A51F-23B7A1E1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A89-DD7D-4AA3-B260-87808FA1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C3B-D374-4C6C-88BC-CA1D570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796-8188-43B2-BFF5-9145493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1D1-DECF-4823-8AD9-7CFD26E8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BCF-DF24-4AFE-AB17-12D76C3A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615-6972-4DFA-8147-10BC30F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DCD-BF78-4FFF-9DEC-E8559D9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322-83F5-4430-AFB1-F76A8BC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84B-FA69-4933-9060-733D1E8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66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литературы Мещеря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4ED1-B0AD-49C4-95FA-6ACCA81CF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72" TargetMode="External"/><Relationship Id="rId2" Type="http://schemas.openxmlformats.org/officeDocument/2006/relationships/hyperlink" Target="http://www.sgu.ru/rus_hist/authors/?aid=7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637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gu.ru/rus_hist/authors/?aid=20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450072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«Пётр Великий   русской литературы» (В.Г.Белин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lide0001_image002"/>
          <p:cNvPicPr/>
          <p:nvPr/>
        </p:nvPicPr>
        <p:blipFill>
          <a:blip r:embed="rId1"/>
          <a:stretch/>
        </p:blipFill>
        <p:spPr>
          <a:xfrm>
            <a:off x="4643280" y="549360"/>
            <a:ext cx="43214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47239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Ломоносов представляется Елизавете Петровне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ориков Б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48000" y="333000"/>
            <a:ext cx="57960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Эпоха Елизаветы — яркая страница в летописи русской культуры. Во время ее правления были основаны Московский университет (1755 г.), построен первый постоянный драматический театр (1756 г.), открыта Академия художеств (1757 г.). С середины 40-х годов из Петербургской Академии наук стали постепенно вытесняться ученые-иностранцы и на первые роли вышли ученые отечественные,возглавляемые М.В.Ломонос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x2-t_102"/>
          <p:cNvPicPr/>
          <p:nvPr/>
        </p:nvPicPr>
        <p:blipFill>
          <a:blip r:embed="rId3"/>
          <a:stretch/>
        </p:blipFill>
        <p:spPr>
          <a:xfrm>
            <a:off x="179280" y="260280"/>
            <a:ext cx="331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аким настроением и интонацией должно быть окрашено чтение 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8000" y="1988640"/>
            <a:ext cx="3609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«Елиза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Пет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в  Царском Се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</a:t>
            </a: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Лансере Е.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x1-079_small"/>
          <p:cNvPicPr/>
          <p:nvPr/>
        </p:nvPicPr>
        <p:blipFill>
          <a:blip r:embed="rId1"/>
          <a:stretch/>
        </p:blipFill>
        <p:spPr>
          <a:xfrm>
            <a:off x="108000" y="1916280"/>
            <a:ext cx="500364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356000" y="162864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ступление .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Мир –основа благ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Главная часть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. Величие России, её процвет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1)хвала щедротам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2)заслуга Петра перед Оте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3)неисчерпаемые богатства и красот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4)призыв к российской молодёжи овладевать    на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5)наука и её роль в российском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3.   Заключение.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Традиционная благодарность монархине за деяния на благ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x1-084_small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3313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50920" y="511812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царевен Анны Петровны и Елизаветы Петровны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аравакк Л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Составим план 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Давайте сравним портрет императрицы с её описанием в 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Изображение:Elizabeth empress.jpg"/>
          <p:cNvPicPr/>
          <p:nvPr/>
        </p:nvPicPr>
        <p:blipFill>
          <a:blip r:embed="rId1"/>
          <a:stretch/>
        </p:blipFill>
        <p:spPr>
          <a:xfrm>
            <a:off x="108000" y="115920"/>
            <a:ext cx="41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Каким стилем написана 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Рубль Елизаветы I золотом. 1756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9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195640" y="61650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Рубль Елизаветы I золотом. 17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Какие приёмы, характерные для стиля русской классической оды, встречаются в этом произве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1680" y="210348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Художественный при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Метаф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равн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Употребление образцов античной миф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рхаические слова и вы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Олицетвор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Гиперб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Риторические вопросы и восклиц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21200" y="1557360"/>
            <a:ext cx="4798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Какой стихотворный размер выбирает ав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x1-241_small"/>
          <p:cNvPicPr/>
          <p:nvPr/>
        </p:nvPicPr>
        <p:blipFill>
          <a:blip r:embed="rId1"/>
          <a:stretch/>
        </p:blipFill>
        <p:spPr>
          <a:xfrm>
            <a:off x="108000" y="260280"/>
            <a:ext cx="4103640" cy="590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284720" y="40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Неизвестный  авто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cc"/>
                </a:solidFill>
                <a:uFillTx/>
                <a:latin typeface="Arial"/>
              </a:rPr>
              <a:t>Можно ли эту оду считать по содержанию и форме классицистичес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«Елизавета Петров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императрица   Всероссийск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нтропов 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250920" y="1628640"/>
            <a:ext cx="367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cc"/>
                </a:solidFill>
                <a:uFillTx/>
                <a:latin typeface="Arial"/>
              </a:rPr>
              <a:t>Чтобы упрочить ваши знания -даю 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За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таблицу  приме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в-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Подгото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подборку  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о   Р.Г. Держав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( презент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в-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Судьб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личность   Г.Р.Держа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(презент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Елизавета Петровна"/>
          <p:cNvPicPr/>
          <p:nvPr/>
        </p:nvPicPr>
        <p:blipFill>
          <a:blip r:embed="rId1"/>
          <a:stretch/>
        </p:blipFill>
        <p:spPr>
          <a:xfrm>
            <a:off x="250920" y="1341360"/>
            <a:ext cx="3817800" cy="4606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79280" y="59421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Неизвестный  авто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Жанр оды- любимый жанр Ломоно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lide0007_image014"/>
          <p:cNvPicPr/>
          <p:nvPr/>
        </p:nvPicPr>
        <p:blipFill>
          <a:blip r:embed="rId1"/>
          <a:stretch/>
        </p:blipFill>
        <p:spPr>
          <a:xfrm>
            <a:off x="4932360" y="1413000"/>
            <a:ext cx="3600360" cy="4751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932360" y="60930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Скульптор А.А.Ив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Отрок Ломоносов на берегу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95280" y="162864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Ода</a:t>
            </a: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(от греческого «песнь»)- жанр лирической поэзии; стихотворение восторженного характера в честь какого-то лица, со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литературы Мещеря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Жанр «ода» возник в античности, сначала представлял собой песнь с широким лирическим содержанием. В русской теории классицизма ода осознаётся как жанр героической лирики с 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« высоким» содерж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he Judgment of Solomon"/>
          <p:cNvPicPr/>
          <p:nvPr/>
        </p:nvPicPr>
        <p:blipFill>
          <a:blip r:embed="rId1"/>
          <a:stretch/>
        </p:blipFill>
        <p:spPr>
          <a:xfrm>
            <a:off x="108000" y="1773360"/>
            <a:ext cx="7200720" cy="489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7392960" y="5013360"/>
            <a:ext cx="17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RAFFAELLO </a:t>
            </a:r>
            <a:br>
              <a:rPr sz="1800"/>
            </a:br>
            <a:r>
              <a:rPr b="0" i="1" lang="en-US" sz="1800" spc="-1" strike="noStrike">
                <a:solidFill>
                  <a:srgbClr val="a50021"/>
                </a:solidFill>
                <a:latin typeface="Arial"/>
              </a:rPr>
              <a:t>SANZIO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д Соло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780000" y="6021360"/>
            <a:ext cx="51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Н.И.Кисля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Юный Ломоносов на пути в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slide0008_image016"/>
          <p:cNvPicPr/>
          <p:nvPr/>
        </p:nvPicPr>
        <p:blipFill>
          <a:blip r:embed="rId1"/>
          <a:stretch/>
        </p:blipFill>
        <p:spPr>
          <a:xfrm>
            <a:off x="4788000" y="549360"/>
            <a:ext cx="3916440" cy="5451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79280" y="115920"/>
            <a:ext cx="403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Ломоносов написал 20 больших од. Они положили начало </a:t>
            </a:r>
            <a:r>
              <a:rPr b="1" i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ангажированной поэзии</a:t>
            </a: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( поэзии заказной, поэзии государственного служения). Они стали образцом для одописцев второй половины 18 века и даже начала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859280" y="602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lide0013_image026"/>
          <p:cNvPicPr/>
          <p:nvPr/>
        </p:nvPicPr>
        <p:blipFill>
          <a:blip r:embed="rId1"/>
          <a:stretch/>
        </p:blipFill>
        <p:spPr>
          <a:xfrm>
            <a:off x="4932360" y="260280"/>
            <a:ext cx="4033800" cy="5761080"/>
          </a:xfrm>
          <a:prstGeom prst="rect">
            <a:avLst/>
          </a:prstGeom>
          <a:ln w="0">
            <a:noFill/>
          </a:ln>
        </p:spPr>
      </p:pic>
      <p:grpSp>
        <p:nvGrpSpPr>
          <p:cNvPr id="57" name="Diagram 6"/>
          <p:cNvGrpSpPr/>
          <p:nvPr/>
        </p:nvGrpSpPr>
        <p:grpSpPr>
          <a:xfrm>
            <a:off x="295200" y="1096920"/>
            <a:ext cx="4448160" cy="4448160"/>
            <a:chOff x="295200" y="1096920"/>
            <a:chExt cx="4448160" cy="4448160"/>
          </a:xfrm>
        </p:grpSpPr>
        <p:sp>
          <p:nvSpPr>
            <p:cNvPr id="58" name="_s1028"/>
            <p:cNvSpPr/>
            <p:nvPr/>
          </p:nvSpPr>
          <p:spPr>
            <a:xfrm flipH="1">
              <a:off x="1406520" y="332100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295200" y="27655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ро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гос-ву служил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>
              <a:off x="2519280" y="3876840"/>
              <a:ext cx="0" cy="5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1963800" y="4434120"/>
              <a:ext cx="1111320" cy="1110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процвета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3075120" y="3321000"/>
              <a:ext cx="55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632400" y="2765520"/>
              <a:ext cx="111096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ич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ст-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могу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с-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 flipV="1">
              <a:off x="2519280" y="2208240"/>
              <a:ext cx="0" cy="5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1963800" y="10969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нар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олиц-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с-во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1963800" y="2765520"/>
              <a:ext cx="1111320" cy="111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68360" y="6093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Ученический рисунок М. В. Ломоно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lide0010_image022"/>
          <p:cNvPicPr/>
          <p:nvPr/>
        </p:nvPicPr>
        <p:blipFill>
          <a:blip r:embed="rId1"/>
          <a:stretch/>
        </p:blipFill>
        <p:spPr>
          <a:xfrm>
            <a:off x="611280" y="1125360"/>
            <a:ext cx="8350200" cy="4745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79640" y="115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Ода « На день восшествия…»- типичное произведение в духе классиц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796000" y="602136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cc"/>
                </a:solidFill>
                <a:latin typeface="Arial"/>
              </a:rPr>
              <a:t>Студент немецкого университета. </a:t>
            </a:r>
            <a:r>
              <a:rPr b="1" i="1" lang="en-US" sz="1600" spc="-1" strike="noStrike">
                <a:solidFill>
                  <a:srgbClr val="9900cc"/>
                </a:solidFill>
                <a:latin typeface="Arial"/>
              </a:rPr>
              <a:t>XVII </a:t>
            </a:r>
            <a:r>
              <a:rPr b="1" i="1" lang="ru-RU" sz="1600" spc="-1" strike="noStrike">
                <a:solidFill>
                  <a:srgbClr val="9900cc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slide0012_image024"/>
          <p:cNvPicPr/>
          <p:nvPr/>
        </p:nvPicPr>
        <p:blipFill>
          <a:blip r:embed="rId1"/>
          <a:stretch/>
        </p:blipFill>
        <p:spPr>
          <a:xfrm>
            <a:off x="5435640" y="0"/>
            <a:ext cx="3506760" cy="5951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476280"/>
            <a:ext cx="52927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В оде поэт бескорыстен: он не ничтожным событиям собственной жизни радуется, не об них сетует, он вещает правду и суд Промысла, торжествует о величии родимого края, межует перуны в сопостатов, блажит праведника, клянёт изв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огда и в связи с чем написана 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221000"/>
            <a:ext cx="3673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Портрет Елизаветы Петровны ребе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икитин 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x1-t_elizaveta-1"/>
          <p:cNvPicPr/>
          <p:nvPr/>
        </p:nvPicPr>
        <p:blipFill>
          <a:blip r:embed="rId2"/>
          <a:stretch/>
        </p:blipFill>
        <p:spPr>
          <a:xfrm>
            <a:off x="179280" y="1197000"/>
            <a:ext cx="219888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203640" y="148428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День восшествия на престол занимал центральное место в годовом цикле придворных праздников. В 1747 году отмечалась пятая годовщина воцарения Елиза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Но эта ода была написана ещё по одному конкретному поводу: Российской Академии наук был «дарован» новый устав. Ломоносов возлагал на него большие надежды в деле распространения просвещения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4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4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6021000"/>
            <a:ext cx="3610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«Елизавета Петровна»</a:t>
            </a:r>
            <a:br>
              <a:rPr sz="1800"/>
            </a:b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Автор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е Преннер 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0720" y="0"/>
            <a:ext cx="4643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Елизавета Петровна</a:t>
            </a:r>
            <a:br>
              <a:rPr sz="2000"/>
            </a:b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1709 — 1761) — российская императрица, дочь императора Петра I и Екатерины I. Елизавета Петровна родилась 18 декабря 1709 г., в день, когда Петр I с триумфом вошел в Москву, чтобы отпраздновать победу в Полтавской битве. Она была внебрачным ребенком (ее родители обвенчались в 1712 г.), и это обстоятельство в значительной степени отразилось на дальнейшей судьбе будущей императр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"/>
          <p:cNvPicPr/>
          <p:nvPr/>
        </p:nvPicPr>
        <p:blipFill>
          <a:blip r:embed="rId2"/>
          <a:stretch/>
        </p:blipFill>
        <p:spPr>
          <a:xfrm>
            <a:off x="395280" y="476280"/>
            <a:ext cx="4314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04:02:51Z</dcterms:created>
  <dc:creator>Admin</dc:creator>
  <dc:description/>
  <dc:language>en-US</dc:language>
  <cp:lastModifiedBy>COMP</cp:lastModifiedBy>
  <dcterms:modified xsi:type="dcterms:W3CDTF">2011-09-25T18:45:2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7000000000001023620</vt:lpwstr>
  </property>
</Properties>
</file>