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831-D956-42C6-A821-B77FDE30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68D-795A-495B-8A51-45D638F9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EEF-9EA4-412F-9251-28C754B6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DB9-A933-4332-A408-A7F418D4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FE4C-1B6E-4BB4-B837-2135A38F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39B8-D972-452D-A7F3-9EE55A66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B32E-1CCF-40D7-A2E1-E603713C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898B-9FD2-43DA-AF19-FC26415F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0076-53D6-47D9-8914-E743209C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D3E7-8D62-4304-99D9-4D875996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385A-CC13-4936-9C8F-044EA5B5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2F27-3977-483D-8081-72D04791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DB50-D914-4196-B62D-845BFD57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DF62-2844-4782-ADB1-86E6EFB1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281A-32E7-4F73-848C-6FCC62E1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8B74-5900-4B4D-AC4A-BB4DDCF7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5255-EFBD-4741-A448-67C61BC0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9F7-ADB5-496D-A7FA-311A9B02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02F-EFFB-4136-B9FD-F1D1710E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9CF-FBF3-4FFA-B922-5694DE1E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B8B-4473-48A1-9809-B4AE8D42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CEC-8842-4EBA-8562-9413CEAC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D8B-CEF0-4989-A69E-295091BA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3B3-46E3-43D7-A05F-90CFD41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C9C2-317D-494D-AD6B-5C0422703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EBD0-1F94-455A-812C-23651E071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Наследственные заболева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76360" y="5013360"/>
            <a:ext cx="64008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нформатик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У «СОШ № 9», г. Ангарс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ычёва Юлия Дмитри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1220252909_photo-01471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ндром Клайнфелте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речается 2 на 1000 мальч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ы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ственные браки, пожил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т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тяжёлыми металлами, высокотоксичных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ществ (диоксины, бензопирен), некотор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арства, наркотики, алкоголизм, вирус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болевания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признаки проявляются только в пери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ового созревания – высокий рост, ожирени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нский тип телосложения, скудное оволосени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тисоциальное поведение, дебильн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Кляйнтефера"/>
          <p:cNvPicPr/>
          <p:nvPr/>
        </p:nvPicPr>
        <p:blipFill>
          <a:blip r:embed="rId1"/>
          <a:stretch/>
        </p:blipFill>
        <p:spPr>
          <a:xfrm>
            <a:off x="2771640" y="260280"/>
            <a:ext cx="34610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ндром Вольфа - Хиршхор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н встречается с одинаковой частотой у мальч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 девоч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результат терминальной д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откого плеча 4-й хромосо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задержка роста, расщелина губы и неб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ирокий или клювовидный нос; асимметрия кос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репа, низко расположенные деформирова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шные раковины; гематомы кожи небольших разме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области лиц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гут быть поражены внутрен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95350"/>
          <p:cNvPicPr/>
          <p:nvPr/>
        </p:nvPicPr>
        <p:blipFill>
          <a:blip r:embed="rId1"/>
          <a:stretch/>
        </p:blipFill>
        <p:spPr>
          <a:xfrm>
            <a:off x="611280" y="765000"/>
            <a:ext cx="7885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индром Эдвардс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рождаются у пожилых матерей. Причи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болевания является наличие дополнительной 18-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ромосом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низкий рост, маленький вес, аномал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згового и лицевого черепа, нижняя челюсть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товое отверстие маленькие. Глазные щели узкие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роткие. Мочка и козелок часто отсутствую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жный слуховой проход сужен, иног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у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Дефекты внутренних органов, лица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s92798"/>
          <p:cNvPicPr/>
          <p:nvPr/>
        </p:nvPicPr>
        <p:blipFill>
          <a:blip r:embed="rId1"/>
          <a:stretch/>
        </p:blipFill>
        <p:spPr>
          <a:xfrm>
            <a:off x="2195640" y="549360"/>
            <a:ext cx="4841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филактика наследственных заболевани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допущение родственных бра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иболее эффективной мерой профилактики наследственных заболеваний является выявление гетерозиготных носителей мута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дупреждение о зачатии или наличии больного ребен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следование беременной женщ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ерегите своё здоровье и здоровье своих будущих детей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5" descr="CA91BBUV"/>
          <p:cNvPicPr/>
          <p:nvPr/>
        </p:nvPicPr>
        <p:blipFill>
          <a:blip r:embed="rId1"/>
          <a:stretch/>
        </p:blipFill>
        <p:spPr>
          <a:xfrm>
            <a:off x="3419640" y="2781360"/>
            <a:ext cx="2265120" cy="338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чина наследственного заболевания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4000" y="1557360"/>
            <a:ext cx="8281800" cy="32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ефекты в генетическом аппарате (мутации)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нные заболевания – повреждение ген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ромосомные заболевания – изменение числа и качества хромос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5" descr="ген"/>
          <p:cNvPicPr/>
          <p:nvPr/>
        </p:nvPicPr>
        <p:blipFill>
          <a:blip r:embed="rId1"/>
          <a:stretch/>
        </p:blipFill>
        <p:spPr>
          <a:xfrm>
            <a:off x="6659640" y="4365720"/>
            <a:ext cx="221436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акторы риска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следственного заболев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ственные бр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жилые родите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тяжёлыми металлами, высокотоксичных веществ (диоксины, бензопир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которые лекар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котики, алкого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русные заболевания во время беремен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плод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32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олезнь «Даун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а болезн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мать 30-40 лет, наркоти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аивается хромосома по 21 па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голова с уплощенным затылко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косые глаза, плоская переносица, малень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ши, на ладони поперечная складка, большой язы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стая короткая ше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Врожденные пороки различ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рганов, умственная отстал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ече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НЕ ВОЗМОЖ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Даун"/>
          <p:cNvPicPr/>
          <p:nvPr/>
        </p:nvPicPr>
        <p:blipFill>
          <a:blip r:embed="rId1"/>
          <a:stretch/>
        </p:blipFill>
        <p:spPr>
          <a:xfrm>
            <a:off x="1979640" y="549360"/>
            <a:ext cx="4962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индром Шерешевского - Терне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родственные браки, пожилые родит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ркотики, алкоголизм, вирусные заболевания 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ремя берем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бывает только у девочек – низкий рос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лосы на шее, на лб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Бесплодие, 50 % - умствен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стал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ечен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Гормон – рос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Тернер"/>
          <p:cNvPicPr/>
          <p:nvPr/>
        </p:nvPicPr>
        <p:blipFill>
          <a:blip r:embed="rId1"/>
          <a:stretch/>
        </p:blipFill>
        <p:spPr>
          <a:xfrm>
            <a:off x="395280" y="333360"/>
            <a:ext cx="2665440" cy="623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s40857"/>
          <p:cNvPicPr/>
          <p:nvPr/>
        </p:nvPicPr>
        <p:blipFill>
          <a:blip r:embed="rId2"/>
          <a:stretch/>
        </p:blipFill>
        <p:spPr>
          <a:xfrm>
            <a:off x="3419640" y="333360"/>
            <a:ext cx="5068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индром «Патау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тречается 1 на 700 ро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ждаются как мальчики, так и девочки 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ндромом «Пата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ичин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родственные браки, пожилые родит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тяжёлыми металлами, высокотоксичных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ществ (диоксины, бензопирен), некотор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арства, наркотики, алкоголизм, вирус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болевания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импт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«заячья губа» или «волчья пасть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омалия глаз, другие поро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оследств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Часто смер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Патау"/>
          <p:cNvPicPr/>
          <p:nvPr/>
        </p:nvPicPr>
        <p:blipFill>
          <a:blip r:embed="rId1"/>
          <a:stretch/>
        </p:blipFill>
        <p:spPr>
          <a:xfrm>
            <a:off x="1835280" y="333360"/>
            <a:ext cx="523368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4:38:23Z</dcterms:created>
  <dc:creator>user</dc:creator>
  <dc:description/>
  <dc:language>en-US</dc:language>
  <cp:lastModifiedBy>Василий</cp:lastModifiedBy>
  <dcterms:modified xsi:type="dcterms:W3CDTF">2011-09-19T15:10:09Z</dcterms:modified>
  <cp:revision>6</cp:revision>
  <dc:subject/>
  <dc:title>Наследственные заболе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