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7FA-D507-4BAD-8CA4-49FC41A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2A6-44CE-4A67-8833-3BD63BCA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266-0BCD-4C21-8295-ADE6D99E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1E0-8C90-411C-97C5-2E691DC2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93B6-2904-47C6-BBDD-F8D84573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4ED-731B-4CC1-9296-A5E77A4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581E-3C58-4D94-923B-5641E60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236-0BE3-403E-83B3-3709FF7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EEB0-83CA-4BE8-AACC-DF3CC72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EE9C-7B71-47A6-9A7D-86B248D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5A0-2CE5-47C2-9BA8-8767DA9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4D0-5FA9-4D30-92E8-AB04C0B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ABB-223F-4CE4-A350-21BC5DE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4C7F-8F3C-4921-8869-ED6D27B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0067-BF61-4CBD-89B5-E2735D2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E2C-2FD3-4134-A92C-7275D6FA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7A01-B943-413B-8F4E-AADA855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45C-8DD4-49D2-9614-04577D0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0F1-4C86-4EA9-95E6-F38C04C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DBD-374A-44F9-A63C-6B28D21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2EC-B61B-4CD7-85F8-8703619B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776-D00C-4A4F-91D4-483D403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36D-FB1E-466C-B961-5F40791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A9E-E0CD-4E7E-A3F2-1999644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0BB7-F30F-4333-BE65-0B46AA3E8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EA7-571B-4CEB-9EC1-876AD1D71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Наследственные заболева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нформати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ОШ № 9», г. Ангар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ычёва Юлия Дмитри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1220252909_photo-01471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Клайнфелте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2 на 1000 мальч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, пожил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признаки проявляются только в пери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го созревания – высокий рост, ожир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нский тип телосложения, скудное оволос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социальное поведение, деби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Кляйнтефера"/>
          <p:cNvPicPr/>
          <p:nvPr/>
        </p:nvPicPr>
        <p:blipFill>
          <a:blip r:embed="rId1"/>
          <a:stretch/>
        </p:blipFill>
        <p:spPr>
          <a:xfrm>
            <a:off x="2771640" y="260280"/>
            <a:ext cx="34610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Вольфа - Хиршхо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встречается с одинаковой частотой у маль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девоч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езультат терминальной д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ткого плеча 4-й 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задержка роста, расщелина губы и не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ий или клювовидный нос; асимметрия кос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репа, низко расположенные деформиров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ные раковины; гематомы кожи небольших разме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бласти л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гут быть поражены 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95350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ндром Эдвард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ждаются у пожилых матерей. Причи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является наличие дополнительной 18-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низкий рост, маленький вес, аномал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згового и лицевого черепа, нижняя челюсть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товое отверстие маленькие. Глазные щели узкие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ткие. Мочка и козелок часто отсутству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жный слуховой проход сужен, иног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Дефекты внутренних органов, лица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92798"/>
          <p:cNvPicPr/>
          <p:nvPr/>
        </p:nvPicPr>
        <p:blipFill>
          <a:blip r:embed="rId1"/>
          <a:stretch/>
        </p:blipFill>
        <p:spPr>
          <a:xfrm>
            <a:off x="2195640" y="549360"/>
            <a:ext cx="4841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наследственных заболеван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допущение родственных бра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эффективной мерой профилактики наследственных заболеваний является выявление гетерозиготных носителей мут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упреждение о зачатии или наличии больного ребен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следование беременной женщ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регите своё здоровье и здоровье своих будущих детей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CA91BBUV"/>
          <p:cNvPicPr/>
          <p:nvPr/>
        </p:nvPicPr>
        <p:blipFill>
          <a:blip r:embed="rId1"/>
          <a:stretch/>
        </p:blipFill>
        <p:spPr>
          <a:xfrm>
            <a:off x="3419640" y="2781360"/>
            <a:ext cx="2265120" cy="338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чина наследственного заболевания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557360"/>
            <a:ext cx="8281800" cy="3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фекты в генетическом аппарате (мутации)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нные заболевания – повреждение ген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омосомные заболевания – изменение числа и качества хромос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5" descr="ген"/>
          <p:cNvPicPr/>
          <p:nvPr/>
        </p:nvPicPr>
        <p:blipFill>
          <a:blip r:embed="rId1"/>
          <a:stretch/>
        </p:blipFill>
        <p:spPr>
          <a:xfrm>
            <a:off x="6659640" y="4365720"/>
            <a:ext cx="2214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акторы риска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следственного заболев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жилые родит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 веществ (диоксины, бензопир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ные заболевания во время берем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плод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32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олезнь «Даун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 болез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мать 30-40 лет, нарко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аивается хромосома по 21 па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лова с уплощенным затылк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осые глаза, плоская переносица, малень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и, на ладони поперечная складка, большой язы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стая короткая ше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Врожденные пороки различ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ов, умственная 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НЕ ВОЗ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Даун"/>
          <p:cNvPicPr/>
          <p:nvPr/>
        </p:nvPicPr>
        <p:blipFill>
          <a:blip r:embed="rId1"/>
          <a:stretch/>
        </p:blipFill>
        <p:spPr>
          <a:xfrm>
            <a:off x="1979640" y="549360"/>
            <a:ext cx="4962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индром Шерешевского - Терне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, вирусные заболевания 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бывает только у девочек – низкий ро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лосы на шее, на лб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Бесплодие, 50 % - умстве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рмон – ро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Тернер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623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40857"/>
          <p:cNvPicPr/>
          <p:nvPr/>
        </p:nvPicPr>
        <p:blipFill>
          <a:blip r:embed="rId2"/>
          <a:stretch/>
        </p:blipFill>
        <p:spPr>
          <a:xfrm>
            <a:off x="3419640" y="333360"/>
            <a:ext cx="5068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«Пата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1 на 700 ро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ждаются как мальчики, так и девочки 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дромом «Пата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заячья губа» или «волчья пасть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омалия глаз, другие поро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Часто смер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Патау"/>
          <p:cNvPicPr/>
          <p:nvPr/>
        </p:nvPicPr>
        <p:blipFill>
          <a:blip r:embed="rId1"/>
          <a:stretch/>
        </p:blipFill>
        <p:spPr>
          <a:xfrm>
            <a:off x="1835280" y="333360"/>
            <a:ext cx="52336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38:23Z</dcterms:created>
  <dc:creator>user</dc:creator>
  <dc:description/>
  <dc:language>en-US</dc:language>
  <cp:lastModifiedBy>Василий</cp:lastModifiedBy>
  <dcterms:modified xsi:type="dcterms:W3CDTF">2011-09-19T15:10:09Z</dcterms:modified>
  <cp:revision>6</cp:revision>
  <dc:subject/>
  <dc:title>Наследственные заболе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