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573-8AC7-4982-8C5A-467349D6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E1B-32E7-4CD9-8D9A-A4B6C6E8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293-141E-452F-9ED0-6204CCDD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783-2C25-477A-B356-F1527D20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10EC-8A7E-4B2E-A3F9-895E9493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236D-AAB5-4E9C-8721-440EB5E0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BCA5-C70A-49E6-8C76-532F581B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5287-2ADD-45DD-835E-26105BE3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F85F-8376-4A12-97F9-CA2B0D38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D7CF-16F7-41B9-9EF1-D7905018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91E1-33CC-4C5C-BF9B-62AA9270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F32-679A-4ABC-97B1-5DE4A5A1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1C59-FFED-4C93-81D8-2CC0A947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D61C-4D65-4AEB-84DF-B1EBB00F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100D-62AB-49C8-B245-8391C9D1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CE1D-E53D-4079-9D8F-479AD9E4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CE18-3AB2-4CF0-BB64-A9A7BC0A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C60-F3ED-4C38-BB8E-CDFEAEEC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2DE-426D-44B6-A1BF-67E8E952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F13-82A6-4F06-8214-3B9D6037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9BE-EAF9-48F2-BFDD-C01465AB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F01-20A5-4F77-A102-36C4A448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449-CB1F-4185-A1D3-9D4D3957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74B-10D3-4749-B29C-4A71BDDC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F1A8-4C33-42B5-8CE5-1805B0EAC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FEC6-48F8-499F-8660-294F47997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Наследственные заболевания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76360" y="5013360"/>
            <a:ext cx="64008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информатик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У «СОШ № 9», г. Ангарс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ычёва Юлия Дмитри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1220252909_photo-01471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индром Клайнфелтер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тречается 2 на 1000 мальч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ы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ственные браки, пожил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те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тяжёлыми металлами, высокотоксичных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ществ (диоксины, бензопирен), некотор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карства, наркотики, алкоголизм, вирус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болевания во время берем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признаки проявляются только в пери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ового созревания – высокий рост, ожирени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енский тип телосложения, скудное оволосени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тисоциальное поведение, дебиль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Кляйнтефера"/>
          <p:cNvPicPr/>
          <p:nvPr/>
        </p:nvPicPr>
        <p:blipFill>
          <a:blip r:embed="rId1"/>
          <a:stretch/>
        </p:blipFill>
        <p:spPr>
          <a:xfrm>
            <a:off x="2771640" y="260280"/>
            <a:ext cx="346104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индром Вольфа - Хиршхор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н встречается с одинаковой частотой у мальчи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 девоче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результат терминальной де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откого плеча 4-й хромосо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задержка роста, расщелина губы и неб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ирокий или клювовидный нос; асимметрия кост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репа, низко расположенные деформирова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шные раковины; гематомы кожи небольших разме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области лиц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следствия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огут быть поражены внутрен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рга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95350"/>
          <p:cNvPicPr/>
          <p:nvPr/>
        </p:nvPicPr>
        <p:blipFill>
          <a:blip r:embed="rId1"/>
          <a:stretch/>
        </p:blipFill>
        <p:spPr>
          <a:xfrm>
            <a:off x="611280" y="765000"/>
            <a:ext cx="7885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индром Эдвардс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рождаются у пожилых матерей. Причи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болевания является наличие дополнительной 18-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ромосо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низкий рост, маленький вес, аномал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згового и лицевого черепа, нижняя челюсть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товое отверстие маленькие. Глазные щели узкие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откие. Мочка и козелок часто отсутствую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жный слуховой проход сужен, иног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утству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следств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Дефекты внутренних органов, лица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s92798"/>
          <p:cNvPicPr/>
          <p:nvPr/>
        </p:nvPicPr>
        <p:blipFill>
          <a:blip r:embed="rId1"/>
          <a:stretch/>
        </p:blipFill>
        <p:spPr>
          <a:xfrm>
            <a:off x="2195640" y="549360"/>
            <a:ext cx="4841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офилактика наследственных заболевани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допущение родственных бра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иболее эффективной мерой профилактики наследственных заболеваний является выявление гетерозиготных носителей мута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дупреждение о зачатии или наличии больного ребенк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следование беременной женщи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ерегите своё здоровье и здоровье своих будущих детей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5" descr="CA91BBUV"/>
          <p:cNvPicPr/>
          <p:nvPr/>
        </p:nvPicPr>
        <p:blipFill>
          <a:blip r:embed="rId1"/>
          <a:stretch/>
        </p:blipFill>
        <p:spPr>
          <a:xfrm>
            <a:off x="3419640" y="2781360"/>
            <a:ext cx="2265120" cy="338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ичина наследственного заболевания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24000" y="1557360"/>
            <a:ext cx="8281800" cy="32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ефекты в генетическом аппарате (мутации)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енные заболевания – повреждение ген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ромосомные заболевания – изменение числа и качества хромос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5" descr="ген"/>
          <p:cNvPicPr/>
          <p:nvPr/>
        </p:nvPicPr>
        <p:blipFill>
          <a:blip r:embed="rId1"/>
          <a:stretch/>
        </p:blipFill>
        <p:spPr>
          <a:xfrm>
            <a:off x="6659640" y="4365720"/>
            <a:ext cx="221436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Факторы риска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следственного заболев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495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ственные бр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жилые родите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тяжёлыми металлами, высокотоксичных веществ (диоксины, бензопире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которые лекар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котики, алкого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русные заболевания во время беремен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5" descr="плод"/>
          <p:cNvPicPr/>
          <p:nvPr/>
        </p:nvPicPr>
        <p:blipFill>
          <a:blip r:embed="rId1"/>
          <a:stretch/>
        </p:blipFill>
        <p:spPr>
          <a:xfrm>
            <a:off x="4500720" y="1844640"/>
            <a:ext cx="4319280" cy="326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олезнь «Даун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а болезн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мать 30-40 лет, наркот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траивается хромосома по 21 па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голова с уплощенным затылко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косые глаза, плоская переносица, маленьк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ши, на ладони поперечная складка, большой язык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стая короткая ше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следстви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Врожденные пороки различ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рганов, умственная отстал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Лечен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НЕ ВОЗМОЖНО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Даун"/>
          <p:cNvPicPr/>
          <p:nvPr/>
        </p:nvPicPr>
        <p:blipFill>
          <a:blip r:embed="rId1"/>
          <a:stretch/>
        </p:blipFill>
        <p:spPr>
          <a:xfrm>
            <a:off x="1979640" y="549360"/>
            <a:ext cx="4962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индром Шерешевского - Тернер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родственные браки, пожилые родите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ркотики, алкоголизм, вирусные заболевания 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ремя берем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бывает только у девочек – низкий рос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лосы на шее, на лб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следстви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Бесплодие, 50 % - умствен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стал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Лечен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Гормон – рос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Тернер"/>
          <p:cNvPicPr/>
          <p:nvPr/>
        </p:nvPicPr>
        <p:blipFill>
          <a:blip r:embed="rId1"/>
          <a:stretch/>
        </p:blipFill>
        <p:spPr>
          <a:xfrm>
            <a:off x="395280" y="333360"/>
            <a:ext cx="2665440" cy="623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s40857"/>
          <p:cNvPicPr/>
          <p:nvPr/>
        </p:nvPicPr>
        <p:blipFill>
          <a:blip r:embed="rId2"/>
          <a:stretch/>
        </p:blipFill>
        <p:spPr>
          <a:xfrm>
            <a:off x="3419640" y="333360"/>
            <a:ext cx="5068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индром «Патау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тречается 1 на 700 рож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ждаются как мальчики, так и девочки 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ндромом «Патау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родственные браки, пожилые родите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тяжёлыми металлами, высокотоксичных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ществ (диоксины, бензопирен), некотор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карства, наркотики, алкоголизм, вирус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болевания во время берем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«заячья губа» или «волчья пасть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омалия глаз, другие поро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следств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Часто смер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Патау"/>
          <p:cNvPicPr/>
          <p:nvPr/>
        </p:nvPicPr>
        <p:blipFill>
          <a:blip r:embed="rId1"/>
          <a:stretch/>
        </p:blipFill>
        <p:spPr>
          <a:xfrm>
            <a:off x="1835280" y="333360"/>
            <a:ext cx="523368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4:38:23Z</dcterms:created>
  <dc:creator>user</dc:creator>
  <dc:description/>
  <dc:language>en-US</dc:language>
  <cp:lastModifiedBy>Василий</cp:lastModifiedBy>
  <dcterms:modified xsi:type="dcterms:W3CDTF">2011-09-19T15:10:09Z</dcterms:modified>
  <cp:revision>6</cp:revision>
  <dc:subject/>
  <dc:title>Наследственные заболев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