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DF6-C30D-4B8A-A576-59C5DF1D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4B4-8AC1-4D77-AA36-D28EF5D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9F9-C9AA-4EEB-84F4-B67E1E40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8F3-7441-45A3-87E3-40866A60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DE2-4E52-43D3-AA9E-2216C154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91F-2032-4D4B-9C91-982D5B67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517-4331-4F04-B1EA-C16AAC4B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0CF-2A26-40E7-A1C1-8BFBD81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BAB-0A0F-495B-BBC9-7FA84B1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98A-7982-4F80-ACBA-5A19DF9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EC9-718A-4A77-A8B8-02FDEDC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17A-09DA-4460-8E72-1F1101B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4FD-2EFE-41F0-8D44-1554710A0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276640"/>
            <a:ext cx="6192720" cy="164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353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селая 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тематика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2" name="Picture 9" descr="25233116"/>
          <p:cNvPicPr/>
          <p:nvPr/>
        </p:nvPicPr>
        <p:blipFill>
          <a:blip r:embed="rId1"/>
          <a:stretch/>
        </p:blipFill>
        <p:spPr>
          <a:xfrm>
            <a:off x="6588000" y="3141720"/>
            <a:ext cx="2305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5280" y="2781360"/>
            <a:ext cx="4691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216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етух стоя на одной ноге весит 3 кг. Сколько он будет весить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03326-big-file"/>
          <p:cNvPicPr/>
          <p:nvPr/>
        </p:nvPicPr>
        <p:blipFill>
          <a:blip r:embed="rId1"/>
          <a:stretch/>
        </p:blipFill>
        <p:spPr>
          <a:xfrm>
            <a:off x="179280" y="1125360"/>
            <a:ext cx="3459240" cy="4824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рез 5 лет Маше будет столько же лет, сколько сейчас Коле. Кто млад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761544"/>
          <p:cNvPicPr/>
          <p:nvPr/>
        </p:nvPicPr>
        <p:blipFill>
          <a:blip r:embed="rId1"/>
          <a:stretch/>
        </p:blipFill>
        <p:spPr>
          <a:xfrm>
            <a:off x="1258920" y="3068640"/>
            <a:ext cx="1843200" cy="3305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91268944_c4104"/>
          <p:cNvPicPr/>
          <p:nvPr/>
        </p:nvPicPr>
        <p:blipFill>
          <a:blip r:embed="rId2"/>
          <a:stretch/>
        </p:blipFill>
        <p:spPr>
          <a:xfrm>
            <a:off x="5076720" y="3068640"/>
            <a:ext cx="1954440" cy="3303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">
            <a:hlinkClick r:id="rId3" action="ppaction://hlinksldjump"/>
          </p:cNvPr>
          <p:cNvSpPr/>
          <p:nvPr/>
        </p:nvSpPr>
        <p:spPr>
          <a:xfrm>
            <a:off x="730872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рез 4 года Ване будет на 2 года меньше, чем Славе через 7 лет. Кто стар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1222257"/>
          <p:cNvPicPr/>
          <p:nvPr/>
        </p:nvPicPr>
        <p:blipFill>
          <a:blip r:embed="rId1"/>
          <a:stretch/>
        </p:blipFill>
        <p:spPr>
          <a:xfrm>
            <a:off x="2195640" y="3645000"/>
            <a:ext cx="4819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518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меня три карандаша: желтый, коричневый и черный. Попробуйте назвать самый короткий и самый длинный из карандашей, если известно, ч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й карандаш короче желтого, а желтый короче коричнев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j0307386"/>
          <p:cNvPicPr/>
          <p:nvPr/>
        </p:nvPicPr>
        <p:blipFill>
          <a:blip r:embed="rId1"/>
          <a:stretch/>
        </p:blipFill>
        <p:spPr>
          <a:xfrm>
            <a:off x="539640" y="692280"/>
            <a:ext cx="1830600" cy="1380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а прием к доктору Айболиту пришли филин, щука и цапля. Доктор записал в карточку возраст каждого. Оказалось, что цапля моложе филина, а щука такого же возраста, как филин. Кто старше: цапля или щу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review"/>
          <p:cNvPicPr/>
          <p:nvPr/>
        </p:nvPicPr>
        <p:blipFill>
          <a:blip r:embed="rId1"/>
          <a:stretch/>
        </p:blipFill>
        <p:spPr>
          <a:xfrm>
            <a:off x="3348000" y="3429000"/>
            <a:ext cx="2494080" cy="31194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7129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ля, Таня, Юля и Ира варили варенье. Две девочки варили его из смородины, две девочки -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я и Ира варили варенье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и Оля тоже варили его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варила варенье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аких ягод варила варенье каждая дев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fec7a6d0f8"/>
          <p:cNvPicPr/>
          <p:nvPr/>
        </p:nvPicPr>
        <p:blipFill>
          <a:blip r:embed="rId1"/>
          <a:stretch/>
        </p:blipFill>
        <p:spPr>
          <a:xfrm>
            <a:off x="250920" y="3500280"/>
            <a:ext cx="1363680" cy="16401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20480" y="907560"/>
            <a:ext cx="6743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етыре приятеля - Женя, Костя, Дима и Вадим - делали украшения к празд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-то делал гирлянды из золотой бумаги, кто-то - красные шары, кто-то ­ гирлянды из серебряной бумаги, а кто-то - хлопушки из золотой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я и Дима работали с бумагой одного цв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 и Костя делали одинаковые игру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какие украшения дела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3630"/>
          <p:cNvPicPr/>
          <p:nvPr/>
        </p:nvPicPr>
        <p:blipFill>
          <a:blip r:embed="rId1"/>
          <a:stretch/>
        </p:blipFill>
        <p:spPr>
          <a:xfrm>
            <a:off x="250920" y="3141720"/>
            <a:ext cx="18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J0187893"/>
          <p:cNvPicPr/>
          <p:nvPr/>
        </p:nvPicPr>
        <p:blipFill>
          <a:blip r:embed="rId2"/>
          <a:stretch/>
        </p:blipFill>
        <p:spPr>
          <a:xfrm>
            <a:off x="826920" y="1413000"/>
            <a:ext cx="533520" cy="7999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1"/>
          <p:cNvSpPr/>
          <p:nvPr/>
        </p:nvSpPr>
        <p:spPr>
          <a:xfrm>
            <a:off x="7451640" y="6354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етыре подружки - Маша, Даша, Катя и Оля ­ учатся в одной школе, но в разных классах: 2А, 2Б и 1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Маша и Катя учатся в классах с одинаковыми индексами (буквы совпад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я и Оля - одноклассн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и Даша - ученицы второго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в каком классе учится каждая из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26028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4140360" y="5013360"/>
            <a:ext cx="15825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71640" y="1052280"/>
            <a:ext cx="6121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етыре приятеля - Миша, Коля, Саша и Дима - проживают по следующим адрес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3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чная ул., 2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ом доме и на какой улице живет каждый из мальчиков, если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а и Коля живут на одной ул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и Коля живут в домах с одинаковыми номе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ша и Дима - родные бр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313134"/>
          <p:cNvPicPr/>
          <p:nvPr/>
        </p:nvPicPr>
        <p:blipFill>
          <a:blip r:embed="rId1"/>
          <a:stretch/>
        </p:blipFill>
        <p:spPr>
          <a:xfrm>
            <a:off x="250920" y="1484280"/>
            <a:ext cx="2254320" cy="3456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3228480"/>
            <a:ext cx="84358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завтрак в школьной столовой приготовили блины с вареньем, пироги с капустой, оладьи со сметаной и пироги с вареньем. Лена, Аня, Ваня и Света выбрали разные блюда. Определите, какое блюдо выбрал каждый из ребят, если известно, что Лена и Аня - сладкоежки, а Ваня и Аня больше всего любят пир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761250"/>
          <p:cNvPicPr/>
          <p:nvPr/>
        </p:nvPicPr>
        <p:blipFill>
          <a:blip r:embed="rId1"/>
          <a:stretch/>
        </p:blipFill>
        <p:spPr>
          <a:xfrm>
            <a:off x="2916360" y="1197000"/>
            <a:ext cx="2941560" cy="18748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6948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селая разм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порядо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заимно однозначное соответ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и о перепра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и о перелив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9280" y="836280"/>
            <a:ext cx="655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Волк, коза и капуста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берегу реки стоит крестьянин с лодкой, а рядом с ним находятся волк, коза и капуста. Крестьянин должен переправиться сам и перевезти волка, козу и капусту на другой берег. Однако в лодку кроме крестьянина помещается либо только волк, либо только коза, либо только капуста. Оставлять же волка с козой или козу с капустой без присмотра нельзя - волк может съесть козу, а коза - капусту. Как должен вести себя крестьян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i"/>
          <p:cNvPicPr/>
          <p:nvPr/>
        </p:nvPicPr>
        <p:blipFill>
          <a:blip r:embed="rId1"/>
          <a:stretch/>
        </p:blipFill>
        <p:spPr>
          <a:xfrm>
            <a:off x="0" y="2492280"/>
            <a:ext cx="176364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84356982"/>
          <p:cNvPicPr/>
          <p:nvPr/>
        </p:nvPicPr>
        <p:blipFill>
          <a:blip r:embed="rId2"/>
          <a:stretch/>
        </p:blipFill>
        <p:spPr>
          <a:xfrm>
            <a:off x="0" y="333360"/>
            <a:ext cx="174960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1i"/>
          <p:cNvPicPr/>
          <p:nvPr/>
        </p:nvPicPr>
        <p:blipFill>
          <a:blip r:embed="rId3"/>
          <a:stretch/>
        </p:blipFill>
        <p:spPr>
          <a:xfrm>
            <a:off x="0" y="4508640"/>
            <a:ext cx="1763640" cy="1834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9"/>
          <p:cNvSpPr/>
          <p:nvPr/>
        </p:nvSpPr>
        <p:spPr>
          <a:xfrm>
            <a:off x="7164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ва солдата подошли к реке, по которой на лодке катаются двое мальчиков. Как солдатам переправиться на другой берег, если лодка вмещает только одного солдата либо двух мальчиков, а солдата и мальчика уже не вмещ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f_6427594"/>
          <p:cNvPicPr/>
          <p:nvPr/>
        </p:nvPicPr>
        <p:blipFill>
          <a:blip r:embed="rId1"/>
          <a:stretch/>
        </p:blipFill>
        <p:spPr>
          <a:xfrm>
            <a:off x="3203640" y="4149720"/>
            <a:ext cx="3382920" cy="2457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7236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ли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924280"/>
            <a:ext cx="5689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, имея два ведра емкостью 3 и 5 литров, набрать из водопроводного крана 7 литров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306073"/>
          <p:cNvPicPr/>
          <p:nvPr/>
        </p:nvPicPr>
        <p:blipFill>
          <a:blip r:embed="rId1"/>
          <a:stretch/>
        </p:blipFill>
        <p:spPr>
          <a:xfrm>
            <a:off x="6443640" y="1989000"/>
            <a:ext cx="2381400" cy="33339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50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ребус 4"/>
          <p:cNvPicPr/>
          <p:nvPr/>
        </p:nvPicPr>
        <p:blipFill>
          <a:blip r:embed="rId1"/>
          <a:stretch/>
        </p:blipFill>
        <p:spPr>
          <a:xfrm>
            <a:off x="2340000" y="189000"/>
            <a:ext cx="6480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948360" y="189000"/>
            <a:ext cx="1871640" cy="23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340000" y="2492280"/>
            <a:ext cx="2376360" cy="20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716360" y="2492280"/>
            <a:ext cx="2016360" cy="20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732720" y="2492280"/>
            <a:ext cx="2087280" cy="2160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340000" y="4581360"/>
            <a:ext cx="2303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643280" y="4581360"/>
            <a:ext cx="2089440" cy="201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732720" y="4581360"/>
            <a:ext cx="2087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258920" y="6093000"/>
            <a:ext cx="792000" cy="5029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07" h="21600">
                <a:moveTo>
                  <a:pt x="0" y="0"/>
                </a:moveTo>
                <a:lnTo>
                  <a:pt x="34007" y="0"/>
                </a:lnTo>
                <a:lnTo>
                  <a:pt x="34007" y="21600"/>
                </a:lnTo>
                <a:lnTo>
                  <a:pt x="0" y="21600"/>
                </a:lnTo>
                <a:close/>
              </a:path>
              <a:path fill="lightenLess" w="34007" h="21600">
                <a:moveTo>
                  <a:pt x="0" y="0"/>
                </a:moveTo>
                <a:lnTo>
                  <a:pt x="34007" y="0"/>
                </a:lnTo>
                <a:lnTo>
                  <a:pt x="32607" y="1400"/>
                </a:lnTo>
                <a:lnTo>
                  <a:pt x="1400" y="1400"/>
                </a:lnTo>
                <a:close/>
              </a:path>
              <a:path fill="darken" w="34007" h="21600">
                <a:moveTo>
                  <a:pt x="34007" y="0"/>
                </a:moveTo>
                <a:lnTo>
                  <a:pt x="34007" y="21600"/>
                </a:lnTo>
                <a:lnTo>
                  <a:pt x="32607" y="20200"/>
                </a:lnTo>
                <a:lnTo>
                  <a:pt x="32607" y="1400"/>
                </a:lnTo>
                <a:close/>
              </a:path>
              <a:path fill="darkenLess" w="34007" h="21600">
                <a:moveTo>
                  <a:pt x="34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7" y="20200"/>
                </a:lnTo>
                <a:close/>
              </a:path>
              <a:path fill="lighten" w="34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7" h="21600">
                <a:moveTo>
                  <a:pt x="13505" y="10800"/>
                </a:moveTo>
                <a:lnTo>
                  <a:pt x="24010" y="3794"/>
                </a:lnTo>
                <a:lnTo>
                  <a:pt x="24010" y="17806"/>
                </a:lnTo>
                <a:close/>
              </a:path>
              <a:path fill="darken" w="34007" h="21600">
                <a:moveTo>
                  <a:pt x="9997" y="3794"/>
                </a:moveTo>
                <a:lnTo>
                  <a:pt x="11659" y="3794"/>
                </a:lnTo>
                <a:lnTo>
                  <a:pt x="11659" y="17806"/>
                </a:lnTo>
                <a:lnTo>
                  <a:pt x="9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оропись! Ведь дни проходят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ы у времени в гостя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е  рассчитывай  на   завт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мни , все в твоих 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92360" y="141300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уроке физкультуры ученики выстроились в линейку на расстоянии одного метра друг от друга. Вся линейка растянулась на 25 метров. Сколько учеников в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762242"/>
          <p:cNvPicPr/>
          <p:nvPr/>
        </p:nvPicPr>
        <p:blipFill>
          <a:blip r:embed="rId1"/>
          <a:stretch/>
        </p:blipFill>
        <p:spPr>
          <a:xfrm>
            <a:off x="250920" y="2637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70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столе стояли 4 стакана с вишней. Оксана съела один стакан вишни. Сколько стаканов ост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2268360" y="3860640"/>
            <a:ext cx="213696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2136960" cy="2664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NA01358_"/>
          <p:cNvPicPr/>
          <p:nvPr/>
        </p:nvPicPr>
        <p:blipFill>
          <a:blip r:embed="rId1"/>
          <a:stretch/>
        </p:blipFill>
        <p:spPr>
          <a:xfrm>
            <a:off x="4500720" y="4724280"/>
            <a:ext cx="1920600" cy="14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A01361_"/>
          <p:cNvPicPr/>
          <p:nvPr/>
        </p:nvPicPr>
        <p:blipFill>
          <a:blip r:embed="rId2"/>
          <a:stretch/>
        </p:blipFill>
        <p:spPr>
          <a:xfrm>
            <a:off x="1908000" y="3429000"/>
            <a:ext cx="1743120" cy="1476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546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автобусе, находилось 20 человек. Из них 10 девочек. Сколько в автобусе находилось мальч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83314"/>
          <p:cNvPicPr/>
          <p:nvPr/>
        </p:nvPicPr>
        <p:blipFill>
          <a:blip r:embed="rId1"/>
          <a:stretch/>
        </p:blipFill>
        <p:spPr>
          <a:xfrm>
            <a:off x="5364000" y="2276640"/>
            <a:ext cx="3453120" cy="3960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>
            <a:hlinkClick r:id="rId2" action="ppaction://hlinksldjump"/>
          </p:cNvPr>
          <p:cNvSpPr/>
          <p:nvPr/>
        </p:nvSpPr>
        <p:spPr>
          <a:xfrm>
            <a:off x="385128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дин кирпич весит 1 килограмм и еще полкирпича. Сколько весит один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e5f3d4b89283b13820712741a8"/>
          <p:cNvPicPr/>
          <p:nvPr/>
        </p:nvPicPr>
        <p:blipFill>
          <a:blip r:embed="rId1"/>
          <a:stretch/>
        </p:blipFill>
        <p:spPr>
          <a:xfrm>
            <a:off x="2627280" y="2997360"/>
            <a:ext cx="4175280" cy="305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Чем кончается лето и начинается ос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01421_"/>
          <p:cNvPicPr/>
          <p:nvPr/>
        </p:nvPicPr>
        <p:blipFill>
          <a:blip r:embed="rId1"/>
          <a:stretch/>
        </p:blipFill>
        <p:spPr>
          <a:xfrm>
            <a:off x="1908000" y="3068640"/>
            <a:ext cx="1857600" cy="246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NA01474_"/>
          <p:cNvPicPr/>
          <p:nvPr/>
        </p:nvPicPr>
        <p:blipFill>
          <a:blip r:embed="rId2"/>
          <a:stretch/>
        </p:blipFill>
        <p:spPr>
          <a:xfrm>
            <a:off x="4859280" y="4149720"/>
            <a:ext cx="2041560" cy="161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3" action="ppaction://hlinksldjump"/>
          </p:cNvPr>
          <p:cNvSpPr/>
          <p:nvPr/>
        </p:nvSpPr>
        <p:spPr>
          <a:xfrm>
            <a:off x="702000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56:18Z</dcterms:created>
  <dc:creator>семья</dc:creator>
  <dc:description/>
  <dc:language>en-US</dc:language>
  <cp:lastModifiedBy>Admin</cp:lastModifiedBy>
  <dcterms:modified xsi:type="dcterms:W3CDTF">2010-10-24T15:30:15Z</dcterms:modified>
  <cp:revision>14</cp:revision>
  <dc:subject/>
  <dc:title>Занимательные логические задачи </dc:title>
</cp:coreProperties>
</file>