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6.png" ContentType="image/png"/>
  <Override PartName="/ppt/media/image5.wmf" ContentType="image/x-wmf"/>
  <Override PartName="/ppt/media/image27.jpeg" ContentType="image/jpe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26.jpeg" ContentType="image/jpeg"/>
  <Override PartName="/ppt/media/image18.wmf" ContentType="image/x-wmf"/>
  <Override PartName="/ppt/media/image17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C775-7DC6-498A-ABDE-176AA342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1B6F-EF50-4704-943E-BCE4110A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3B7E-135E-4DAC-91D6-FF165475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9383-9357-4245-B1DA-B2FF477B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C276-263C-45AA-B82E-F5F2CBAE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E4D2-F6CD-467A-AE94-01FB76D2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E215-F548-4F1A-8360-11DEC4F9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6DC1-3ADC-41E4-B42B-6CD73810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B6FD-4C2C-4EAE-A059-5D085079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B68E-4A2D-42A2-87D2-AC426F2C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0890-7C4B-4EC1-97E1-33FBDF1C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ABE-0984-451D-AFD4-95414F1E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0A16-2679-4DDD-9451-477FDC91DD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1.xml"/><Relationship Id="rId3" Type="http://schemas.openxmlformats.org/officeDocument/2006/relationships/slide" Target="slide15.xml"/><Relationship Id="rId4" Type="http://schemas.openxmlformats.org/officeDocument/2006/relationships/slide" Target="slide20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11280" y="2276640"/>
            <a:ext cx="6192720" cy="1645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353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Веселая </a:t>
            </a:r>
            <a:endParaRPr b="0" lang="en-US" sz="4000" spc="1" strike="noStrike">
              <a:ln w="93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математика</a:t>
            </a:r>
            <a:endParaRPr b="0" lang="en-US" sz="4000" spc="1" strike="noStrike">
              <a:ln w="93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42" name="Picture 9" descr="25233116"/>
          <p:cNvPicPr/>
          <p:nvPr/>
        </p:nvPicPr>
        <p:blipFill>
          <a:blip r:embed="rId1"/>
          <a:stretch/>
        </p:blipFill>
        <p:spPr>
          <a:xfrm>
            <a:off x="6588000" y="3141720"/>
            <a:ext cx="23050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селая 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95280" y="2781360"/>
            <a:ext cx="4691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216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Петух стоя на одной ноге весит 3 кг. Сколько он будет весить, стоя на двух ногах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103326-big-file"/>
          <p:cNvPicPr/>
          <p:nvPr/>
        </p:nvPicPr>
        <p:blipFill>
          <a:blip r:embed="rId1"/>
          <a:stretch/>
        </p:blipFill>
        <p:spPr>
          <a:xfrm>
            <a:off x="179280" y="1125360"/>
            <a:ext cx="3459240" cy="482472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6">
            <a:hlinkClick r:id="rId2" action="ppaction://hlinksldjump"/>
          </p:cNvPr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орядочен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Через 5 лет Маше будет столько же лет, сколько сейчас Коле. Кто младш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761544"/>
          <p:cNvPicPr/>
          <p:nvPr/>
        </p:nvPicPr>
        <p:blipFill>
          <a:blip r:embed="rId1"/>
          <a:stretch/>
        </p:blipFill>
        <p:spPr>
          <a:xfrm>
            <a:off x="1258920" y="3068640"/>
            <a:ext cx="1843200" cy="3305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1191268944_c4104"/>
          <p:cNvPicPr/>
          <p:nvPr/>
        </p:nvPicPr>
        <p:blipFill>
          <a:blip r:embed="rId2"/>
          <a:stretch/>
        </p:blipFill>
        <p:spPr>
          <a:xfrm>
            <a:off x="5076720" y="3068640"/>
            <a:ext cx="1954440" cy="33037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6">
            <a:hlinkClick r:id="rId3" action="ppaction://hlinksldjump"/>
          </p:cNvPr>
          <p:cNvSpPr/>
          <p:nvPr/>
        </p:nvSpPr>
        <p:spPr>
          <a:xfrm>
            <a:off x="730872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Через 4 года Ване будет на 2 года меньше, чем Славе через 7 лет. Кто старш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орядочен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21222257"/>
          <p:cNvPicPr/>
          <p:nvPr/>
        </p:nvPicPr>
        <p:blipFill>
          <a:blip r:embed="rId1"/>
          <a:stretch/>
        </p:blipFill>
        <p:spPr>
          <a:xfrm>
            <a:off x="2195640" y="3645000"/>
            <a:ext cx="48196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4920" y="2492280"/>
            <a:ext cx="85186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У меня три карандаша: желтый, коричневый и черный. Попробуйте назвать самый короткий и самый длинный из карандашей, если известно, чт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ный карандаш короче желтого, а желтый короче коричнево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орядочен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j0307386"/>
          <p:cNvPicPr/>
          <p:nvPr/>
        </p:nvPicPr>
        <p:blipFill>
          <a:blip r:embed="rId1"/>
          <a:stretch/>
        </p:blipFill>
        <p:spPr>
          <a:xfrm>
            <a:off x="539640" y="692280"/>
            <a:ext cx="1830600" cy="138096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6"/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1280" y="83664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На прием к доктору Айболиту пришли филин, щука и цапля. Доктор записал в карточку возраст каждого. Оказалось, что цапля моложе филина, а щука такого же возраста, как филин. Кто старше: цапля или щук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орядочен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preview"/>
          <p:cNvPicPr/>
          <p:nvPr/>
        </p:nvPicPr>
        <p:blipFill>
          <a:blip r:embed="rId1"/>
          <a:stretch/>
        </p:blipFill>
        <p:spPr>
          <a:xfrm>
            <a:off x="3348000" y="3429000"/>
            <a:ext cx="2494080" cy="311940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7"/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заимно однозначное соответ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7129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Оля, Таня, Юля и Ира варили варенье. Две девочки варили его из смородины, две девочки - из крыжов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ня и Ира варили варенье из разных я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ра и Оля тоже варили его из разных я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ра варила варенье из крыжов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каких ягод варила варенье каждая девоч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02fec7a6d0f8"/>
          <p:cNvPicPr/>
          <p:nvPr/>
        </p:nvPicPr>
        <p:blipFill>
          <a:blip r:embed="rId1"/>
          <a:stretch/>
        </p:blipFill>
        <p:spPr>
          <a:xfrm>
            <a:off x="250920" y="3500280"/>
            <a:ext cx="1363680" cy="164016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6"/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220480" y="907560"/>
            <a:ext cx="6743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Четыре приятеля - Женя, Костя, Дима и Вадим - делали украшения к праздни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-то делал гирлянды из золотой бумаги, кто-то - красные шары, кто-то ­ гирлянды из серебряной бумаги, а кто-то - хлопушки из золотой бума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стя и Дима работали с бумагой одного цве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ня и Костя делали одинаковые игруш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какие украшения дела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заимно однозначное соответ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3630"/>
          <p:cNvPicPr/>
          <p:nvPr/>
        </p:nvPicPr>
        <p:blipFill>
          <a:blip r:embed="rId1"/>
          <a:stretch/>
        </p:blipFill>
        <p:spPr>
          <a:xfrm>
            <a:off x="250920" y="3141720"/>
            <a:ext cx="1871640" cy="2446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J0187893"/>
          <p:cNvPicPr/>
          <p:nvPr/>
        </p:nvPicPr>
        <p:blipFill>
          <a:blip r:embed="rId2"/>
          <a:stretch/>
        </p:blipFill>
        <p:spPr>
          <a:xfrm>
            <a:off x="826920" y="1413000"/>
            <a:ext cx="533520" cy="79992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11"/>
          <p:cNvSpPr/>
          <p:nvPr/>
        </p:nvSpPr>
        <p:spPr>
          <a:xfrm>
            <a:off x="7451640" y="635472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560" y="90792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Четыре подружки - Маша, Даша, Катя и Оля ­ учатся в одной школе, но в разных классах: 2А, 2Б и 1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вестно, что Маша и Катя учатся в классах с одинаковыми индексами (буквы совпадают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тя и Оля - одноклассниц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ша и Даша - ученицы второго кла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е, в каком классе учится каждая из девоч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39640" y="260280"/>
            <a:ext cx="82296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заимно однозначное соответ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1"/>
          <a:stretch/>
        </p:blipFill>
        <p:spPr>
          <a:xfrm>
            <a:off x="4140360" y="5013360"/>
            <a:ext cx="158256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771640" y="1052280"/>
            <a:ext cx="61214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Четыре приятеля - Миша, Коля, Саша и Дима - проживают по следующим адреса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ная ул., 37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очная ул., 2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ная ул., 2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йте, в каком доме и на какой улице живет каждый из мальчиков, если известно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ша и Коля живут на одной улиц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ша и Коля живут в домах с одинаковыми номер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Миша и Дима - родные брат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заимно однозначное соответ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313134"/>
          <p:cNvPicPr/>
          <p:nvPr/>
        </p:nvPicPr>
        <p:blipFill>
          <a:blip r:embed="rId1"/>
          <a:stretch/>
        </p:blipFill>
        <p:spPr>
          <a:xfrm>
            <a:off x="250920" y="1484280"/>
            <a:ext cx="2254320" cy="345600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6"/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4920" y="3228480"/>
            <a:ext cx="843588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На завтрак в школьной столовой приготовили блины с вареньем, пироги с капустой, оладьи со сметаной и пироги с вареньем. Лена, Аня, Ваня и Света выбрали разные блюда. Определите, какое блюдо выбрал каждый из ребят, если известно, что Лена и Аня - сладкоежки, а Ваня и Аня больше всего любят пиро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заимно однозначное соответ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761250"/>
          <p:cNvPicPr/>
          <p:nvPr/>
        </p:nvPicPr>
        <p:blipFill>
          <a:blip r:embed="rId1"/>
          <a:stretch/>
        </p:blipFill>
        <p:spPr>
          <a:xfrm>
            <a:off x="2916360" y="1197000"/>
            <a:ext cx="2941560" cy="187488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6"/>
          <p:cNvSpPr/>
          <p:nvPr/>
        </p:nvSpPr>
        <p:spPr>
          <a:xfrm>
            <a:off x="6948360" y="6093000"/>
            <a:ext cx="792360" cy="50292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34022" h="21600">
                <a:moveTo>
                  <a:pt x="0" y="0"/>
                </a:moveTo>
                <a:lnTo>
                  <a:pt x="34022" y="0"/>
                </a:lnTo>
                <a:lnTo>
                  <a:pt x="34022" y="21600"/>
                </a:lnTo>
                <a:lnTo>
                  <a:pt x="0" y="21600"/>
                </a:lnTo>
                <a:close/>
              </a:path>
              <a:path fill="lightenLess" w="34022" h="21600">
                <a:moveTo>
                  <a:pt x="0" y="0"/>
                </a:moveTo>
                <a:lnTo>
                  <a:pt x="34022" y="0"/>
                </a:lnTo>
                <a:lnTo>
                  <a:pt x="32622" y="1400"/>
                </a:lnTo>
                <a:lnTo>
                  <a:pt x="1400" y="1400"/>
                </a:lnTo>
                <a:close/>
              </a:path>
              <a:path fill="darken" w="34022" h="21600">
                <a:moveTo>
                  <a:pt x="34022" y="0"/>
                </a:moveTo>
                <a:lnTo>
                  <a:pt x="34022" y="21600"/>
                </a:lnTo>
                <a:lnTo>
                  <a:pt x="32622" y="20200"/>
                </a:lnTo>
                <a:lnTo>
                  <a:pt x="32622" y="1400"/>
                </a:lnTo>
                <a:close/>
              </a:path>
              <a:path fill="darkenLess" w="34022" h="21600">
                <a:moveTo>
                  <a:pt x="34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2" y="20200"/>
                </a:lnTo>
                <a:close/>
              </a:path>
              <a:path fill="lighten" w="34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22" h="21600">
                <a:moveTo>
                  <a:pt x="13512" y="10800"/>
                </a:moveTo>
                <a:lnTo>
                  <a:pt x="24018" y="3794"/>
                </a:lnTo>
                <a:lnTo>
                  <a:pt x="24018" y="17806"/>
                </a:lnTo>
                <a:close/>
              </a:path>
              <a:path fill="darken" w="34022" h="21600">
                <a:moveTo>
                  <a:pt x="10005" y="3794"/>
                </a:moveTo>
                <a:lnTo>
                  <a:pt x="11667" y="3794"/>
                </a:lnTo>
                <a:lnTo>
                  <a:pt x="11667" y="17806"/>
                </a:lnTo>
                <a:lnTo>
                  <a:pt x="1000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713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Веселая разми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Упорядоч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заимно однозначное соответств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адачи о переправ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Задачи о переливани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 о переправа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79280" y="836280"/>
            <a:ext cx="655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. Волк, коза и капуста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берегу реки стоит крестьянин с лодкой, а рядом с ним находятся волк, коза и капуста. Крестьянин должен переправиться сам и перевезти волка, козу и капусту на другой берег. Однако в лодку кроме крестьянина помещается либо только волк, либо только коза, либо только капуста. Оставлять же волка с козой или козу с капустой без присмотра нельзя - волк может съесть козу, а коза - капусту. Как должен вести себя крестьянин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i"/>
          <p:cNvPicPr/>
          <p:nvPr/>
        </p:nvPicPr>
        <p:blipFill>
          <a:blip r:embed="rId1"/>
          <a:stretch/>
        </p:blipFill>
        <p:spPr>
          <a:xfrm>
            <a:off x="0" y="2492280"/>
            <a:ext cx="1763640" cy="2143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84356982"/>
          <p:cNvPicPr/>
          <p:nvPr/>
        </p:nvPicPr>
        <p:blipFill>
          <a:blip r:embed="rId2"/>
          <a:stretch/>
        </p:blipFill>
        <p:spPr>
          <a:xfrm>
            <a:off x="0" y="333360"/>
            <a:ext cx="1749600" cy="2232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11i"/>
          <p:cNvPicPr/>
          <p:nvPr/>
        </p:nvPicPr>
        <p:blipFill>
          <a:blip r:embed="rId3"/>
          <a:stretch/>
        </p:blipFill>
        <p:spPr>
          <a:xfrm>
            <a:off x="0" y="4508640"/>
            <a:ext cx="1763640" cy="183492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9"/>
          <p:cNvSpPr/>
          <p:nvPr/>
        </p:nvSpPr>
        <p:spPr>
          <a:xfrm>
            <a:off x="7164360" y="6093000"/>
            <a:ext cx="792360" cy="50292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34022" h="21600">
                <a:moveTo>
                  <a:pt x="0" y="0"/>
                </a:moveTo>
                <a:lnTo>
                  <a:pt x="34022" y="0"/>
                </a:lnTo>
                <a:lnTo>
                  <a:pt x="34022" y="21600"/>
                </a:lnTo>
                <a:lnTo>
                  <a:pt x="0" y="21600"/>
                </a:lnTo>
                <a:close/>
              </a:path>
              <a:path fill="lightenLess" w="34022" h="21600">
                <a:moveTo>
                  <a:pt x="0" y="0"/>
                </a:moveTo>
                <a:lnTo>
                  <a:pt x="34022" y="0"/>
                </a:lnTo>
                <a:lnTo>
                  <a:pt x="32622" y="1400"/>
                </a:lnTo>
                <a:lnTo>
                  <a:pt x="1400" y="1400"/>
                </a:lnTo>
                <a:close/>
              </a:path>
              <a:path fill="darken" w="34022" h="21600">
                <a:moveTo>
                  <a:pt x="34022" y="0"/>
                </a:moveTo>
                <a:lnTo>
                  <a:pt x="34022" y="21600"/>
                </a:lnTo>
                <a:lnTo>
                  <a:pt x="32622" y="20200"/>
                </a:lnTo>
                <a:lnTo>
                  <a:pt x="32622" y="1400"/>
                </a:lnTo>
                <a:close/>
              </a:path>
              <a:path fill="darkenLess" w="34022" h="21600">
                <a:moveTo>
                  <a:pt x="34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2" y="20200"/>
                </a:lnTo>
                <a:close/>
              </a:path>
              <a:path fill="lighten" w="34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22" h="21600">
                <a:moveTo>
                  <a:pt x="13512" y="10800"/>
                </a:moveTo>
                <a:lnTo>
                  <a:pt x="24018" y="3794"/>
                </a:lnTo>
                <a:lnTo>
                  <a:pt x="24018" y="17806"/>
                </a:lnTo>
                <a:close/>
              </a:path>
              <a:path fill="darken" w="34022" h="21600">
                <a:moveTo>
                  <a:pt x="10005" y="3794"/>
                </a:moveTo>
                <a:lnTo>
                  <a:pt x="11667" y="3794"/>
                </a:lnTo>
                <a:lnTo>
                  <a:pt x="11667" y="17806"/>
                </a:lnTo>
                <a:lnTo>
                  <a:pt x="1000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Два солдата подошли к реке, по которой на лодке катаются двое мальчиков. Как солдатам переправиться на другой берег, если лодка вмещает только одного солдата либо двух мальчиков, а солдата и мальчика уже не вмещае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 о переправа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f_6427594"/>
          <p:cNvPicPr/>
          <p:nvPr/>
        </p:nvPicPr>
        <p:blipFill>
          <a:blip r:embed="rId1"/>
          <a:stretch/>
        </p:blipFill>
        <p:spPr>
          <a:xfrm>
            <a:off x="3203640" y="4149720"/>
            <a:ext cx="3382920" cy="245736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6"/>
          <p:cNvSpPr/>
          <p:nvPr/>
        </p:nvSpPr>
        <p:spPr>
          <a:xfrm>
            <a:off x="7236000" y="602136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13492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  <a:path fill="darken" w="33983" h="21600">
                <a:moveTo>
                  <a:pt x="9985" y="3794"/>
                </a:moveTo>
                <a:lnTo>
                  <a:pt x="11647" y="3794"/>
                </a:lnTo>
                <a:lnTo>
                  <a:pt x="11647" y="17806"/>
                </a:lnTo>
                <a:lnTo>
                  <a:pt x="998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 о перелива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2924280"/>
            <a:ext cx="5689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Как, имея два ведра емкостью 3 и 5 литров, набрать из водопроводного крана 7 литров в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306073"/>
          <p:cNvPicPr/>
          <p:nvPr/>
        </p:nvPicPr>
        <p:blipFill>
          <a:blip r:embed="rId1"/>
          <a:stretch/>
        </p:blipFill>
        <p:spPr>
          <a:xfrm>
            <a:off x="6443640" y="1989000"/>
            <a:ext cx="2381400" cy="33339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/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5032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луш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ребус 4"/>
          <p:cNvPicPr/>
          <p:nvPr/>
        </p:nvPicPr>
        <p:blipFill>
          <a:blip r:embed="rId1"/>
          <a:stretch/>
        </p:blipFill>
        <p:spPr>
          <a:xfrm>
            <a:off x="2340000" y="189000"/>
            <a:ext cx="6480000" cy="6480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6948360" y="189000"/>
            <a:ext cx="1871640" cy="23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2340000" y="2492280"/>
            <a:ext cx="2376360" cy="208908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4716360" y="2492280"/>
            <a:ext cx="2016360" cy="20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6732720" y="2492280"/>
            <a:ext cx="2087280" cy="216072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2340000" y="4581360"/>
            <a:ext cx="2303280" cy="208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4643280" y="4581360"/>
            <a:ext cx="2089440" cy="2016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6732720" y="4581360"/>
            <a:ext cx="2087280" cy="208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3"/>
          <p:cNvSpPr/>
          <p:nvPr/>
        </p:nvSpPr>
        <p:spPr>
          <a:xfrm>
            <a:off x="1258920" y="6093000"/>
            <a:ext cx="792000" cy="50292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34007" h="21600">
                <a:moveTo>
                  <a:pt x="0" y="0"/>
                </a:moveTo>
                <a:lnTo>
                  <a:pt x="34007" y="0"/>
                </a:lnTo>
                <a:lnTo>
                  <a:pt x="34007" y="21600"/>
                </a:lnTo>
                <a:lnTo>
                  <a:pt x="0" y="21600"/>
                </a:lnTo>
                <a:close/>
              </a:path>
              <a:path fill="lightenLess" w="34007" h="21600">
                <a:moveTo>
                  <a:pt x="0" y="0"/>
                </a:moveTo>
                <a:lnTo>
                  <a:pt x="34007" y="0"/>
                </a:lnTo>
                <a:lnTo>
                  <a:pt x="32607" y="1400"/>
                </a:lnTo>
                <a:lnTo>
                  <a:pt x="1400" y="1400"/>
                </a:lnTo>
                <a:close/>
              </a:path>
              <a:path fill="darken" w="34007" h="21600">
                <a:moveTo>
                  <a:pt x="34007" y="0"/>
                </a:moveTo>
                <a:lnTo>
                  <a:pt x="34007" y="21600"/>
                </a:lnTo>
                <a:lnTo>
                  <a:pt x="32607" y="20200"/>
                </a:lnTo>
                <a:lnTo>
                  <a:pt x="32607" y="1400"/>
                </a:lnTo>
                <a:close/>
              </a:path>
              <a:path fill="darkenLess" w="34007" h="21600">
                <a:moveTo>
                  <a:pt x="34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07" y="20200"/>
                </a:lnTo>
                <a:close/>
              </a:path>
              <a:path fill="lighten" w="34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07" h="21600">
                <a:moveTo>
                  <a:pt x="13505" y="10800"/>
                </a:moveTo>
                <a:lnTo>
                  <a:pt x="24010" y="3794"/>
                </a:lnTo>
                <a:lnTo>
                  <a:pt x="24010" y="17806"/>
                </a:lnTo>
                <a:close/>
              </a:path>
              <a:path fill="darken" w="34007" h="21600">
                <a:moveTo>
                  <a:pt x="9997" y="3794"/>
                </a:moveTo>
                <a:lnTo>
                  <a:pt x="11659" y="3794"/>
                </a:lnTo>
                <a:lnTo>
                  <a:pt x="11659" y="17806"/>
                </a:lnTo>
                <a:lnTo>
                  <a:pt x="99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anklin Gothic Medium"/>
              </a:rPr>
              <a:t>Наш девиз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Торопись! Ведь дни проходят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Ты у времени в гостях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Не  рассчитывай  на   завтр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Помни , все в твоих  руках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492360" y="1413000"/>
            <a:ext cx="52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На уроке физкультуры ученики выстроились в линейку на расстоянии одного метра друг от друга. Вся линейка растянулась на 25 метров. Сколько учеников в класс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селая 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762242"/>
          <p:cNvPicPr/>
          <p:nvPr/>
        </p:nvPicPr>
        <p:blipFill>
          <a:blip r:embed="rId1"/>
          <a:stretch/>
        </p:blipFill>
        <p:spPr>
          <a:xfrm>
            <a:off x="250920" y="2637000"/>
            <a:ext cx="3076560" cy="380988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7">
            <a:hlinkClick r:id="rId2" action="ppaction://hlinksldjump"/>
          </p:cNvPr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85708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На столе стояли 4 стакана с вишней. Оксана съела один стакан вишни. Сколько стаканов остало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селая 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1"/>
          <a:stretch/>
        </p:blipFill>
        <p:spPr>
          <a:xfrm>
            <a:off x="2268360" y="3860640"/>
            <a:ext cx="2136960" cy="2664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4356000" y="3860640"/>
            <a:ext cx="2136960" cy="26640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0">
            <a:hlinkClick r:id="rId3" action="ppaction://hlinksldjump"/>
          </p:cNvPr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920" y="2204640"/>
            <a:ext cx="8229600" cy="33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Чем кончается день и н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NA01358_"/>
          <p:cNvPicPr/>
          <p:nvPr/>
        </p:nvPicPr>
        <p:blipFill>
          <a:blip r:embed="rId1"/>
          <a:stretch/>
        </p:blipFill>
        <p:spPr>
          <a:xfrm>
            <a:off x="4500720" y="4724280"/>
            <a:ext cx="1920600" cy="145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NA01361_"/>
          <p:cNvPicPr/>
          <p:nvPr/>
        </p:nvPicPr>
        <p:blipFill>
          <a:blip r:embed="rId2"/>
          <a:stretch/>
        </p:blipFill>
        <p:spPr>
          <a:xfrm>
            <a:off x="1908000" y="3429000"/>
            <a:ext cx="1743120" cy="1476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селая 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">
            <a:hlinkClick r:id="rId3" action="ppaction://hlinksldjump"/>
          </p:cNvPr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селая 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205000"/>
            <a:ext cx="45464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В автобусе, находилось 20 человек. Из них 10 девочек. Сколько в автобусе находилось мальчи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183314"/>
          <p:cNvPicPr/>
          <p:nvPr/>
        </p:nvPicPr>
        <p:blipFill>
          <a:blip r:embed="rId1"/>
          <a:stretch/>
        </p:blipFill>
        <p:spPr>
          <a:xfrm>
            <a:off x="5364000" y="2276640"/>
            <a:ext cx="3453120" cy="396072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>
            <a:hlinkClick r:id="rId2" action="ppaction://hlinksldjump"/>
          </p:cNvPr>
          <p:cNvSpPr/>
          <p:nvPr/>
        </p:nvSpPr>
        <p:spPr>
          <a:xfrm>
            <a:off x="3851280" y="602136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13492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  <a:path fill="darken" w="33983" h="21600">
                <a:moveTo>
                  <a:pt x="9985" y="3794"/>
                </a:moveTo>
                <a:lnTo>
                  <a:pt x="11647" y="3794"/>
                </a:lnTo>
                <a:lnTo>
                  <a:pt x="11647" y="17806"/>
                </a:lnTo>
                <a:lnTo>
                  <a:pt x="998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селая 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Один кирпич весит 1 килограмм и еще полкирпича. Сколько весит один кирпич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3e5f3d4b89283b13820712741a8"/>
          <p:cNvPicPr/>
          <p:nvPr/>
        </p:nvPicPr>
        <p:blipFill>
          <a:blip r:embed="rId1"/>
          <a:stretch/>
        </p:blipFill>
        <p:spPr>
          <a:xfrm>
            <a:off x="2627280" y="2997360"/>
            <a:ext cx="4175280" cy="305424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5">
            <a:hlinkClick r:id="rId2" action="ppaction://hlinksldjump"/>
          </p:cNvPr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Чем кончается лето и начинается ос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NA01421_"/>
          <p:cNvPicPr/>
          <p:nvPr/>
        </p:nvPicPr>
        <p:blipFill>
          <a:blip r:embed="rId1"/>
          <a:stretch/>
        </p:blipFill>
        <p:spPr>
          <a:xfrm>
            <a:off x="1908000" y="3068640"/>
            <a:ext cx="1857600" cy="2460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NA01474_"/>
          <p:cNvPicPr/>
          <p:nvPr/>
        </p:nvPicPr>
        <p:blipFill>
          <a:blip r:embed="rId2"/>
          <a:stretch/>
        </p:blipFill>
        <p:spPr>
          <a:xfrm>
            <a:off x="4859280" y="4149720"/>
            <a:ext cx="2041560" cy="1612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селая 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>
            <a:hlinkClick r:id="rId3" action="ppaction://hlinksldjump"/>
          </p:cNvPr>
          <p:cNvSpPr/>
          <p:nvPr/>
        </p:nvSpPr>
        <p:spPr>
          <a:xfrm>
            <a:off x="7020000" y="595008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13492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  <a:path fill="darken" w="33983" h="21600">
                <a:moveTo>
                  <a:pt x="9985" y="3794"/>
                </a:moveTo>
                <a:lnTo>
                  <a:pt x="11647" y="3794"/>
                </a:lnTo>
                <a:lnTo>
                  <a:pt x="11647" y="17806"/>
                </a:lnTo>
                <a:lnTo>
                  <a:pt x="998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0:56:18Z</dcterms:created>
  <dc:creator>семья</dc:creator>
  <dc:description/>
  <dc:language>en-US</dc:language>
  <cp:lastModifiedBy>Admin</cp:lastModifiedBy>
  <dcterms:modified xsi:type="dcterms:W3CDTF">2010-10-24T15:30:15Z</dcterms:modified>
  <cp:revision>14</cp:revision>
  <dc:subject/>
  <dc:title>Занимательные логические задачи </dc:title>
</cp:coreProperties>
</file>