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26.jpeg" ContentType="image/jpeg"/>
  <Override PartName="/ppt/media/image18.wmf" ContentType="image/x-wmf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8FB-387F-4033-B623-BCD458DF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6B0-D512-4F8E-A839-6146F379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21C-70A2-4B8B-B74D-569FDA9B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0A1-DBF5-4268-A390-167EC05F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B79-4B1B-4E06-8F11-6D222C89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39E-906D-4261-B4AD-6E5CFE2D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20D-A674-479B-B989-CD8DB2B5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6ED-3707-4FDC-91B1-58E2B480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5D1-A2C4-489E-8DC2-3C9827C7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601-4735-4115-AC09-D2070FCD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DF6-49AE-48DD-B5A6-E1D2A9E8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760-C315-4900-914B-659BFB37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3089-F83A-4002-896E-1605BB8130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2276640"/>
            <a:ext cx="6192720" cy="164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353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Веселая </a:t>
            </a:r>
            <a:endParaRPr b="0" lang="en-US" sz="4000" spc="1" strike="noStrike">
              <a:ln w="93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атематика</a:t>
            </a:r>
            <a:endParaRPr b="0" lang="en-US" sz="4000" spc="1" strike="noStrike">
              <a:ln w="9360">
                <a:solidFill>
                  <a:srgbClr val="00cc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42" name="Picture 9" descr="25233116"/>
          <p:cNvPicPr/>
          <p:nvPr/>
        </p:nvPicPr>
        <p:blipFill>
          <a:blip r:embed="rId1"/>
          <a:stretch/>
        </p:blipFill>
        <p:spPr>
          <a:xfrm>
            <a:off x="6588000" y="3141720"/>
            <a:ext cx="2305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95280" y="2781360"/>
            <a:ext cx="4691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216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Петух стоя на одной ноге весит 3 кг. Сколько он будет весить, стоя на двух нога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03326-big-file"/>
          <p:cNvPicPr/>
          <p:nvPr/>
        </p:nvPicPr>
        <p:blipFill>
          <a:blip r:embed="rId1"/>
          <a:stretch/>
        </p:blipFill>
        <p:spPr>
          <a:xfrm>
            <a:off x="179280" y="1125360"/>
            <a:ext cx="3459240" cy="48247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6">
            <a:hlinkClick r:id="rId2" action="ppaction://hlinksldjump"/>
          </p:cNvPr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рядоч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ерез 5 лет Маше будет столько же лет, сколько сейчас Коле. Кто младш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761544"/>
          <p:cNvPicPr/>
          <p:nvPr/>
        </p:nvPicPr>
        <p:blipFill>
          <a:blip r:embed="rId1"/>
          <a:stretch/>
        </p:blipFill>
        <p:spPr>
          <a:xfrm>
            <a:off x="1258920" y="3068640"/>
            <a:ext cx="1843200" cy="3305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1191268944_c4104"/>
          <p:cNvPicPr/>
          <p:nvPr/>
        </p:nvPicPr>
        <p:blipFill>
          <a:blip r:embed="rId2"/>
          <a:stretch/>
        </p:blipFill>
        <p:spPr>
          <a:xfrm>
            <a:off x="5076720" y="3068640"/>
            <a:ext cx="1954440" cy="33037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6">
            <a:hlinkClick r:id="rId3" action="ppaction://hlinksldjump"/>
          </p:cNvPr>
          <p:cNvSpPr/>
          <p:nvPr/>
        </p:nvSpPr>
        <p:spPr>
          <a:xfrm>
            <a:off x="730872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Через 4 года Ване будет на 2 года меньше, чем Славе через 7 лет. Кто старш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рядоч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1222257"/>
          <p:cNvPicPr/>
          <p:nvPr/>
        </p:nvPicPr>
        <p:blipFill>
          <a:blip r:embed="rId1"/>
          <a:stretch/>
        </p:blipFill>
        <p:spPr>
          <a:xfrm>
            <a:off x="2195640" y="3645000"/>
            <a:ext cx="48196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4920" y="2492280"/>
            <a:ext cx="85186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У меня три карандаша: желтый, коричневый и черный. Попробуйте назвать самый короткий и самый длинный из карандашей, если известно, чт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ный карандаш короче желтого, а желтый короче коричнев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рядоч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j0307386"/>
          <p:cNvPicPr/>
          <p:nvPr/>
        </p:nvPicPr>
        <p:blipFill>
          <a:blip r:embed="rId1"/>
          <a:stretch/>
        </p:blipFill>
        <p:spPr>
          <a:xfrm>
            <a:off x="539640" y="692280"/>
            <a:ext cx="1830600" cy="13809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На прием к доктору Айболиту пришли филин, щука и цапля. Доктор записал в карточку возраст каждого. Оказалось, что цапля моложе филина, а щука такого же возраста, как филин. Кто старше: цапля или щу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орядоч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review"/>
          <p:cNvPicPr/>
          <p:nvPr/>
        </p:nvPicPr>
        <p:blipFill>
          <a:blip r:embed="rId1"/>
          <a:stretch/>
        </p:blipFill>
        <p:spPr>
          <a:xfrm>
            <a:off x="3348000" y="3429000"/>
            <a:ext cx="2494080" cy="31194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7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заимно однозначно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7129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ля, Таня, Юля и Ира варили варенье. Две девочки варили его из смородины, две девочки - из крыжов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я и Ира варили варенье из разных я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ра и Оля тоже варили его из разных я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ра варила варенье из крыжов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каких ягод варила варенье каждая девоч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2fec7a6d0f8"/>
          <p:cNvPicPr/>
          <p:nvPr/>
        </p:nvPicPr>
        <p:blipFill>
          <a:blip r:embed="rId1"/>
          <a:stretch/>
        </p:blipFill>
        <p:spPr>
          <a:xfrm>
            <a:off x="250920" y="3500280"/>
            <a:ext cx="1363680" cy="164016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20480" y="907560"/>
            <a:ext cx="6743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Четыре приятеля - Женя, Костя, Дима и Вадим - делали украшения к праздн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-то делал гирлянды из золотой бумаги, кто-то - красные шары, кто-то ­ гирлянды из серебряной бумаги, а кто-то - хлопушки из золотой бума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тя и Дима работали с бумагой одного цве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я и Костя делали одинаковые игру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какие украшения дела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заимно однозначно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3630"/>
          <p:cNvPicPr/>
          <p:nvPr/>
        </p:nvPicPr>
        <p:blipFill>
          <a:blip r:embed="rId1"/>
          <a:stretch/>
        </p:blipFill>
        <p:spPr>
          <a:xfrm>
            <a:off x="250920" y="3141720"/>
            <a:ext cx="1871640" cy="2446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J0187893"/>
          <p:cNvPicPr/>
          <p:nvPr/>
        </p:nvPicPr>
        <p:blipFill>
          <a:blip r:embed="rId2"/>
          <a:stretch/>
        </p:blipFill>
        <p:spPr>
          <a:xfrm>
            <a:off x="826920" y="1413000"/>
            <a:ext cx="533520" cy="7999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1"/>
          <p:cNvSpPr/>
          <p:nvPr/>
        </p:nvSpPr>
        <p:spPr>
          <a:xfrm>
            <a:off x="7451640" y="635472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Четыре подружки - Маша, Даша, Катя и Оля ­ учатся в одной школе, но в разных классах: 2А, 2Б и 1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о, что Маша и Катя учатся в классах с одинаковыми индексами (буквы совпадаю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я и Оля - одноклассн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ша и Даша - ученицы второго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, в каком классе учится каждая из дев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39640" y="26028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заимно однозначно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1"/>
          <a:stretch/>
        </p:blipFill>
        <p:spPr>
          <a:xfrm>
            <a:off x="4140360" y="5013360"/>
            <a:ext cx="15825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771640" y="1052280"/>
            <a:ext cx="6121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Четыре приятеля - Миша, Коля, Саша и Дима - проживают по следующим адреса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ая ул., 3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чная ул., 2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ная ул., 2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йте, в каком доме и на какой улице живет каждый из мальчиков, если известн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ша и Коля живут на одной улиц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ша и Коля живут в домах с одинаковыми номер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Миша и Дима - родные бра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заимно однозначно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313134"/>
          <p:cNvPicPr/>
          <p:nvPr/>
        </p:nvPicPr>
        <p:blipFill>
          <a:blip r:embed="rId1"/>
          <a:stretch/>
        </p:blipFill>
        <p:spPr>
          <a:xfrm>
            <a:off x="250920" y="1484280"/>
            <a:ext cx="2254320" cy="3456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6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4920" y="3228480"/>
            <a:ext cx="84358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На завтрак в школьной столовой приготовили блины с вареньем, пироги с капустой, оладьи со сметаной и пироги с вареньем. Лена, Аня, Ваня и Света выбрали разные блюда. Определите, какое блюдо выбрал каждый из ребят, если известно, что Лена и Аня - сладкоежки, а Ваня и Аня больше всего любят пиро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заимно однозначно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761250"/>
          <p:cNvPicPr/>
          <p:nvPr/>
        </p:nvPicPr>
        <p:blipFill>
          <a:blip r:embed="rId1"/>
          <a:stretch/>
        </p:blipFill>
        <p:spPr>
          <a:xfrm>
            <a:off x="2916360" y="1197000"/>
            <a:ext cx="2941560" cy="18748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6948360" y="6093000"/>
            <a:ext cx="792360" cy="5029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4022" h="21600">
                <a:moveTo>
                  <a:pt x="0" y="0"/>
                </a:moveTo>
                <a:lnTo>
                  <a:pt x="34022" y="0"/>
                </a:lnTo>
                <a:lnTo>
                  <a:pt x="34022" y="21600"/>
                </a:lnTo>
                <a:lnTo>
                  <a:pt x="0" y="21600"/>
                </a:lnTo>
                <a:close/>
              </a:path>
              <a:path fill="lightenLess" w="34022" h="21600">
                <a:moveTo>
                  <a:pt x="0" y="0"/>
                </a:moveTo>
                <a:lnTo>
                  <a:pt x="34022" y="0"/>
                </a:lnTo>
                <a:lnTo>
                  <a:pt x="32622" y="1400"/>
                </a:lnTo>
                <a:lnTo>
                  <a:pt x="1400" y="1400"/>
                </a:lnTo>
                <a:close/>
              </a:path>
              <a:path fill="darken" w="34022" h="21600">
                <a:moveTo>
                  <a:pt x="34022" y="0"/>
                </a:moveTo>
                <a:lnTo>
                  <a:pt x="34022" y="21600"/>
                </a:lnTo>
                <a:lnTo>
                  <a:pt x="32622" y="20200"/>
                </a:lnTo>
                <a:lnTo>
                  <a:pt x="32622" y="1400"/>
                </a:lnTo>
                <a:close/>
              </a:path>
              <a:path fill="darkenLess" w="34022" h="21600">
                <a:moveTo>
                  <a:pt x="34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2" y="20200"/>
                </a:lnTo>
                <a:close/>
              </a:path>
              <a:path fill="lighten" w="34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22" h="21600">
                <a:moveTo>
                  <a:pt x="13512" y="10800"/>
                </a:moveTo>
                <a:lnTo>
                  <a:pt x="24018" y="3794"/>
                </a:lnTo>
                <a:lnTo>
                  <a:pt x="24018" y="17806"/>
                </a:lnTo>
                <a:close/>
              </a:path>
              <a:path fill="darken" w="34022" h="21600">
                <a:moveTo>
                  <a:pt x="10005" y="3794"/>
                </a:moveTo>
                <a:lnTo>
                  <a:pt x="11667" y="3794"/>
                </a:lnTo>
                <a:lnTo>
                  <a:pt x="11667" y="17806"/>
                </a:lnTo>
                <a:lnTo>
                  <a:pt x="1000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еселая разми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Упорядо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заимно однозначное соответств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дачи о переправ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Задачи о перелива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о переправ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79280" y="836280"/>
            <a:ext cx="655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 Волк, коза и капуста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берегу реки стоит крестьянин с лодкой, а рядом с ним находятся волк, коза и капуста. Крестьянин должен переправиться сам и перевезти волка, козу и капусту на другой берег. Однако в лодку кроме крестьянина помещается либо только волк, либо только коза, либо только капуста. Оставлять же волка с козой или козу с капустой без присмотра нельзя - волк может съесть козу, а коза - капусту. Как должен вести себя крестьяни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i"/>
          <p:cNvPicPr/>
          <p:nvPr/>
        </p:nvPicPr>
        <p:blipFill>
          <a:blip r:embed="rId1"/>
          <a:stretch/>
        </p:blipFill>
        <p:spPr>
          <a:xfrm>
            <a:off x="0" y="2492280"/>
            <a:ext cx="1763640" cy="2143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84356982"/>
          <p:cNvPicPr/>
          <p:nvPr/>
        </p:nvPicPr>
        <p:blipFill>
          <a:blip r:embed="rId2"/>
          <a:stretch/>
        </p:blipFill>
        <p:spPr>
          <a:xfrm>
            <a:off x="0" y="333360"/>
            <a:ext cx="174960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11i"/>
          <p:cNvPicPr/>
          <p:nvPr/>
        </p:nvPicPr>
        <p:blipFill>
          <a:blip r:embed="rId3"/>
          <a:stretch/>
        </p:blipFill>
        <p:spPr>
          <a:xfrm>
            <a:off x="0" y="4508640"/>
            <a:ext cx="1763640" cy="18349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9"/>
          <p:cNvSpPr/>
          <p:nvPr/>
        </p:nvSpPr>
        <p:spPr>
          <a:xfrm>
            <a:off x="7164360" y="6093000"/>
            <a:ext cx="792360" cy="5029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4022" h="21600">
                <a:moveTo>
                  <a:pt x="0" y="0"/>
                </a:moveTo>
                <a:lnTo>
                  <a:pt x="34022" y="0"/>
                </a:lnTo>
                <a:lnTo>
                  <a:pt x="34022" y="21600"/>
                </a:lnTo>
                <a:lnTo>
                  <a:pt x="0" y="21600"/>
                </a:lnTo>
                <a:close/>
              </a:path>
              <a:path fill="lightenLess" w="34022" h="21600">
                <a:moveTo>
                  <a:pt x="0" y="0"/>
                </a:moveTo>
                <a:lnTo>
                  <a:pt x="34022" y="0"/>
                </a:lnTo>
                <a:lnTo>
                  <a:pt x="32622" y="1400"/>
                </a:lnTo>
                <a:lnTo>
                  <a:pt x="1400" y="1400"/>
                </a:lnTo>
                <a:close/>
              </a:path>
              <a:path fill="darken" w="34022" h="21600">
                <a:moveTo>
                  <a:pt x="34022" y="0"/>
                </a:moveTo>
                <a:lnTo>
                  <a:pt x="34022" y="21600"/>
                </a:lnTo>
                <a:lnTo>
                  <a:pt x="32622" y="20200"/>
                </a:lnTo>
                <a:lnTo>
                  <a:pt x="32622" y="1400"/>
                </a:lnTo>
                <a:close/>
              </a:path>
              <a:path fill="darkenLess" w="34022" h="21600">
                <a:moveTo>
                  <a:pt x="34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2" y="20200"/>
                </a:lnTo>
                <a:close/>
              </a:path>
              <a:path fill="lighten" w="34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22" h="21600">
                <a:moveTo>
                  <a:pt x="13512" y="10800"/>
                </a:moveTo>
                <a:lnTo>
                  <a:pt x="24018" y="3794"/>
                </a:lnTo>
                <a:lnTo>
                  <a:pt x="24018" y="17806"/>
                </a:lnTo>
                <a:close/>
              </a:path>
              <a:path fill="darken" w="34022" h="21600">
                <a:moveTo>
                  <a:pt x="10005" y="3794"/>
                </a:moveTo>
                <a:lnTo>
                  <a:pt x="11667" y="3794"/>
                </a:lnTo>
                <a:lnTo>
                  <a:pt x="11667" y="17806"/>
                </a:lnTo>
                <a:lnTo>
                  <a:pt x="1000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Два солдата подошли к реке, по которой на лодке катаются двое мальчиков. Как солдатам переправиться на другой берег, если лодка вмещает только одного солдата либо двух мальчиков, а солдата и мальчика уже не вмеща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о переправ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f_6427594"/>
          <p:cNvPicPr/>
          <p:nvPr/>
        </p:nvPicPr>
        <p:blipFill>
          <a:blip r:embed="rId1"/>
          <a:stretch/>
        </p:blipFill>
        <p:spPr>
          <a:xfrm>
            <a:off x="3203640" y="4149720"/>
            <a:ext cx="3382920" cy="24573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6"/>
          <p:cNvSpPr/>
          <p:nvPr/>
        </p:nvSpPr>
        <p:spPr>
          <a:xfrm>
            <a:off x="7236000" y="602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13492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11647" y="3794"/>
                </a:lnTo>
                <a:lnTo>
                  <a:pt x="11647" y="17806"/>
                </a:lnTo>
                <a:lnTo>
                  <a:pt x="99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о перелива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2924280"/>
            <a:ext cx="5689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ак, имея два ведра емкостью 3 и 5 литров, набрать из водопроводного крана 7 литров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306073"/>
          <p:cNvPicPr/>
          <p:nvPr/>
        </p:nvPicPr>
        <p:blipFill>
          <a:blip r:embed="rId1"/>
          <a:stretch/>
        </p:blipFill>
        <p:spPr>
          <a:xfrm>
            <a:off x="6443640" y="1989000"/>
            <a:ext cx="2381400" cy="33339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503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у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ребус 4"/>
          <p:cNvPicPr/>
          <p:nvPr/>
        </p:nvPicPr>
        <p:blipFill>
          <a:blip r:embed="rId1"/>
          <a:stretch/>
        </p:blipFill>
        <p:spPr>
          <a:xfrm>
            <a:off x="2340000" y="189000"/>
            <a:ext cx="6480000" cy="6480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6948360" y="189000"/>
            <a:ext cx="1871640" cy="23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340000" y="2492280"/>
            <a:ext cx="2376360" cy="20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4716360" y="2492280"/>
            <a:ext cx="2016360" cy="20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732720" y="2492280"/>
            <a:ext cx="2087280" cy="2160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2340000" y="4581360"/>
            <a:ext cx="2303280" cy="208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643280" y="4581360"/>
            <a:ext cx="2089440" cy="2016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6732720" y="4581360"/>
            <a:ext cx="2087280" cy="208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1258920" y="6093000"/>
            <a:ext cx="792000" cy="5029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4007" h="21600">
                <a:moveTo>
                  <a:pt x="0" y="0"/>
                </a:moveTo>
                <a:lnTo>
                  <a:pt x="34007" y="0"/>
                </a:lnTo>
                <a:lnTo>
                  <a:pt x="34007" y="21600"/>
                </a:lnTo>
                <a:lnTo>
                  <a:pt x="0" y="21600"/>
                </a:lnTo>
                <a:close/>
              </a:path>
              <a:path fill="lightenLess" w="34007" h="21600">
                <a:moveTo>
                  <a:pt x="0" y="0"/>
                </a:moveTo>
                <a:lnTo>
                  <a:pt x="34007" y="0"/>
                </a:lnTo>
                <a:lnTo>
                  <a:pt x="32607" y="1400"/>
                </a:lnTo>
                <a:lnTo>
                  <a:pt x="1400" y="1400"/>
                </a:lnTo>
                <a:close/>
              </a:path>
              <a:path fill="darken" w="34007" h="21600">
                <a:moveTo>
                  <a:pt x="34007" y="0"/>
                </a:moveTo>
                <a:lnTo>
                  <a:pt x="34007" y="21600"/>
                </a:lnTo>
                <a:lnTo>
                  <a:pt x="32607" y="20200"/>
                </a:lnTo>
                <a:lnTo>
                  <a:pt x="32607" y="1400"/>
                </a:lnTo>
                <a:close/>
              </a:path>
              <a:path fill="darkenLess" w="34007" h="21600">
                <a:moveTo>
                  <a:pt x="34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07" y="20200"/>
                </a:lnTo>
                <a:close/>
              </a:path>
              <a:path fill="lighten" w="34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07" h="21600">
                <a:moveTo>
                  <a:pt x="13505" y="10800"/>
                </a:moveTo>
                <a:lnTo>
                  <a:pt x="24010" y="3794"/>
                </a:lnTo>
                <a:lnTo>
                  <a:pt x="24010" y="17806"/>
                </a:lnTo>
                <a:close/>
              </a:path>
              <a:path fill="darken" w="34007" h="21600">
                <a:moveTo>
                  <a:pt x="9997" y="3794"/>
                </a:moveTo>
                <a:lnTo>
                  <a:pt x="11659" y="3794"/>
                </a:lnTo>
                <a:lnTo>
                  <a:pt x="11659" y="17806"/>
                </a:lnTo>
                <a:lnTo>
                  <a:pt x="99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Franklin Gothic Medium"/>
              </a:rPr>
              <a:t>Наш деви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Торопись! Ведь дни проходят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Ты у времени в гостях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Не  рассчитывай  на   завтр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Помни , все в твоих  рука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492360" y="141300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а уроке физкультуры ученики выстроились в линейку на расстоянии одного метра друг от друга. Вся линейка растянулась на 25 метров. Сколько учеников в кла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762242"/>
          <p:cNvPicPr/>
          <p:nvPr/>
        </p:nvPicPr>
        <p:blipFill>
          <a:blip r:embed="rId1"/>
          <a:stretch/>
        </p:blipFill>
        <p:spPr>
          <a:xfrm>
            <a:off x="250920" y="2637000"/>
            <a:ext cx="3076560" cy="38098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7">
            <a:hlinkClick r:id="rId2" action="ppaction://hlinksldjump"/>
          </p:cNvPr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5708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 столе стояли 4 стакана с вишней. Оксана съела один стакан вишни. Сколько стаканов остало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2268360" y="3860640"/>
            <a:ext cx="2136960" cy="266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4356000" y="3860640"/>
            <a:ext cx="2136960" cy="2664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0">
            <a:hlinkClick r:id="rId3" action="ppaction://hlinksldjump"/>
          </p:cNvPr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2204640"/>
            <a:ext cx="8229600" cy="33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Чем кончается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NA01358_"/>
          <p:cNvPicPr/>
          <p:nvPr/>
        </p:nvPicPr>
        <p:blipFill>
          <a:blip r:embed="rId1"/>
          <a:stretch/>
        </p:blipFill>
        <p:spPr>
          <a:xfrm>
            <a:off x="4500720" y="4724280"/>
            <a:ext cx="1920600" cy="145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NA01361_"/>
          <p:cNvPicPr/>
          <p:nvPr/>
        </p:nvPicPr>
        <p:blipFill>
          <a:blip r:embed="rId2"/>
          <a:stretch/>
        </p:blipFill>
        <p:spPr>
          <a:xfrm>
            <a:off x="1908000" y="3429000"/>
            <a:ext cx="1743120" cy="1476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>
            <a:hlinkClick r:id="rId3" action="ppaction://hlinksldjump"/>
          </p:cNvPr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4546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В автобусе, находилось 20 человек. Из них 10 девочек. Сколько в автобусе находилось мальч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183314"/>
          <p:cNvPicPr/>
          <p:nvPr/>
        </p:nvPicPr>
        <p:blipFill>
          <a:blip r:embed="rId1"/>
          <a:stretch/>
        </p:blipFill>
        <p:spPr>
          <a:xfrm>
            <a:off x="5364000" y="2276640"/>
            <a:ext cx="3453120" cy="39607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>
            <a:hlinkClick r:id="rId2" action="ppaction://hlinksldjump"/>
          </p:cNvPr>
          <p:cNvSpPr/>
          <p:nvPr/>
        </p:nvSpPr>
        <p:spPr>
          <a:xfrm>
            <a:off x="3851280" y="602136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13492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11647" y="3794"/>
                </a:lnTo>
                <a:lnTo>
                  <a:pt x="11647" y="17806"/>
                </a:lnTo>
                <a:lnTo>
                  <a:pt x="99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Один кирпич весит 1 килограмм и еще полкирпича. Сколько весит один кирпич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3e5f3d4b89283b13820712741a8"/>
          <p:cNvPicPr/>
          <p:nvPr/>
        </p:nvPicPr>
        <p:blipFill>
          <a:blip r:embed="rId1"/>
          <a:stretch/>
        </p:blipFill>
        <p:spPr>
          <a:xfrm>
            <a:off x="2627280" y="2997360"/>
            <a:ext cx="4175280" cy="305424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>
            <a:hlinkClick r:id="rId2" action="ppaction://hlinksldjump"/>
          </p:cNvPr>
          <p:cNvSpPr/>
          <p:nvPr/>
        </p:nvSpPr>
        <p:spPr>
          <a:xfrm>
            <a:off x="6948360" y="6021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13500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11655" y="3794"/>
                </a:lnTo>
                <a:lnTo>
                  <a:pt x="11655" y="17806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Чем кончается лето и начинается ос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NA01421_"/>
          <p:cNvPicPr/>
          <p:nvPr/>
        </p:nvPicPr>
        <p:blipFill>
          <a:blip r:embed="rId1"/>
          <a:stretch/>
        </p:blipFill>
        <p:spPr>
          <a:xfrm>
            <a:off x="1908000" y="3068640"/>
            <a:ext cx="1857600" cy="2460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NA01474_"/>
          <p:cNvPicPr/>
          <p:nvPr/>
        </p:nvPicPr>
        <p:blipFill>
          <a:blip r:embed="rId2"/>
          <a:stretch/>
        </p:blipFill>
        <p:spPr>
          <a:xfrm>
            <a:off x="4859280" y="4149720"/>
            <a:ext cx="2041560" cy="1612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селая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>
            <a:hlinkClick r:id="rId3" action="ppaction://hlinksldjump"/>
          </p:cNvPr>
          <p:cNvSpPr/>
          <p:nvPr/>
        </p:nvSpPr>
        <p:spPr>
          <a:xfrm>
            <a:off x="7020000" y="595008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13492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  <a:path fill="darken" w="33983" h="21600">
                <a:moveTo>
                  <a:pt x="9985" y="3794"/>
                </a:moveTo>
                <a:lnTo>
                  <a:pt x="11647" y="3794"/>
                </a:lnTo>
                <a:lnTo>
                  <a:pt x="11647" y="17806"/>
                </a:lnTo>
                <a:lnTo>
                  <a:pt x="99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0:56:18Z</dcterms:created>
  <dc:creator>семья</dc:creator>
  <dc:description/>
  <dc:language>en-US</dc:language>
  <cp:lastModifiedBy>Admin</cp:lastModifiedBy>
  <dcterms:modified xsi:type="dcterms:W3CDTF">2010-10-24T15:30:15Z</dcterms:modified>
  <cp:revision>14</cp:revision>
  <dc:subject/>
  <dc:title>Занимательные логические задачи </dc:title>
</cp:coreProperties>
</file>