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0C7-84D2-4F26-AC95-BB3B0E43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C8C-1F8D-4FCE-8639-CEB4B70C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BB6-2C11-4B9E-8D7D-92017D24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BA7-BE15-4698-8B26-BBDCA53C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B688-420D-4ACA-959B-324227A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AE2F-CC3F-4AFC-80B0-A6F707AF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953E-7FB2-4B55-B11E-86ED9D01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5A19-E02E-4B75-BBED-C92DC45F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530-0710-41C0-9D2D-A7810A98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9F7A-CAEF-4A6A-8757-50AC46D4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28F8-64B0-4134-8BE3-21E0766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6C8-E5A6-4D35-9AE5-33348DF5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A823-9B1A-4C81-95B1-F3575B85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DECE-6685-49C9-B32A-A8D1BF48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90F8-81BF-4C42-9964-EA3971C1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B3C6-254F-4991-A9DE-D4C80175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69D1-C37A-499A-A087-75E8EF5F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B83A-7D64-40E8-872F-7AA7AD41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6480-9024-4BCC-9171-7ADA7217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61361-87E3-4915-B7E6-DFAFDC6E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407C-ADF4-4749-944D-D6BB9067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6E67-E236-4939-891C-3FD584D2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006-9376-464A-8175-D20B79F4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2959-56E0-4CDF-AEBA-9CB4D24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C25A-0F85-4ED3-9FCF-544AA4A3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4965-9070-4831-99E3-61724D5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46C1-63F5-4AE1-A377-92C00A3A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2E49-A111-4C0B-BAD7-A68643FB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77F08-8864-4B4C-9DE9-09651742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855A-5627-4D0C-AAAE-8ED6D376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B7EB5-FA65-45B8-9FD3-DD1640AC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DEBC-34CD-494B-8A47-81C78B5E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CCA3-2138-401D-8474-FB19C750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A82-6EF3-435A-8C71-2953C169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8419-AAD3-4648-99E2-8682EBD7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60AC-A315-48B1-9FA9-E90BDE2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44539-3858-4A89-A3B8-2C92EB0E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4BCDB-B491-49C8-B1E7-A5674718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741D-4E16-491B-9793-2F915FFC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E53B-E3C5-4035-821C-D588B22D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FCF35-9EDA-460D-8BE4-B13B4FA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BDCC-82FE-40F8-9F4F-B28B8216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4E11-76D3-4D21-912E-409B0445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A900E-D79C-4D22-AAEF-A5FCDE04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E9A-7CF6-44EF-AF40-BD23AB72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28408-3146-4C57-B249-34F80F13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AD9CC-5C55-4106-8EB0-C439C410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55FD-A6DB-40E7-9901-8FDD3DD1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0315-5228-4148-8B40-10214F16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56087-69E2-47CB-96F5-A6B361B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E6ABC-FC0F-4389-B203-2B69AC34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1ACA7-BA1B-4704-BF8D-15786658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86A1-07DE-41C1-99EF-1C48B342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E5200-5D96-4443-AEDB-6CE1428D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CDBA0-277F-4E98-BA5A-425FE01C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739-6B19-4AC9-8362-8F3D527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EBE1-D84F-427A-AF8F-FF0A22E8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FAC-48AF-47D3-985C-7A9E20E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5E7-41B9-4EE4-BCE1-EFE43124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C8A-7B14-4A45-A004-8DC8EDA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0E31-A7E8-4F4C-B596-AE8F722AB491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190D-F3D1-4FF3-95D4-7A6B9F51BA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CC24-0120-4EFA-880A-68E67D330E03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D8C1-D15F-4895-919A-9478F8834E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8011-41C9-49BC-8527-3D286A07F347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818D-371B-4EF5-8CBC-0574F1BDBD4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A7A0-D77F-422B-88E0-55A7D5536F31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7C4-A22C-4265-B0A3-E3920DCCC32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86CD-BBB6-401C-8325-9C77BC93B40D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439E-A5B9-4AA1-8765-30B9C29001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ym1.ucoz.ru/Ctrani/CimvolGym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sch119comp4.narod.ru/pic/57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192280" y="3500280"/>
            <a:ext cx="361476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Cambria"/>
              </a:rPr>
              <a:t>Класс: 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Cambria"/>
              </a:rPr>
              <a:t>Тема: Степень и её свойств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Подготовила: учитель математи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Романова Надежда Михайловна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Лицей №4 г. Сарат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Функции 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y=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Franklin Gothic Book"/>
              </a:rPr>
              <a:t>2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 y=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Franklin Gothic Book"/>
              </a:rPr>
              <a:t>3</a:t>
            </a:r>
            <a:r>
              <a:rPr b="0" lang="ru-RU" sz="40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 их график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0" name="Picture 5" descr="Картинка 6 из 1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37040"/>
            <a:ext cx="48499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ижний колонтитул 1"/>
          <p:cNvSpPr/>
          <p:nvPr/>
        </p:nvSpPr>
        <p:spPr>
          <a:xfrm>
            <a:off x="914400" y="6172200"/>
            <a:ext cx="683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4" name="Picture 2" descr="http://www.proza.ru/pics/2009/07/22/577.jpg"/>
          <p:cNvPicPr/>
          <p:nvPr/>
        </p:nvPicPr>
        <p:blipFill>
          <a:blip r:embed="rId1"/>
          <a:stretch/>
        </p:blipFill>
        <p:spPr>
          <a:xfrm>
            <a:off x="4032360" y="252360"/>
            <a:ext cx="4854600" cy="4454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Картинка 6 из 30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440" y="763560"/>
            <a:ext cx="3665520" cy="41990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4060800" y="503568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труя воды из фонтана движется по параболической траектори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63520" y="4889520"/>
            <a:ext cx="35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з курса физики вы узнаете о движении тела, брошенного под углом к горизонт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Домашнее задание  по данной теме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Нижний колонтитул 2"/>
          <p:cNvSpPr/>
          <p:nvPr/>
        </p:nvSpPr>
        <p:spPr>
          <a:xfrm>
            <a:off x="914400" y="6172200"/>
            <a:ext cx="683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227160" y="1274760"/>
            <a:ext cx="8215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 Учебник «Алгебра 7»Ю.Н. Макарычев и др.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тр. 110 №№495, 496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Найдите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ри котором уравне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+1 имеет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ольше одного решен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.Придумайте задачу на использование свойств и графика функций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y=x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mbria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.Найти значения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ри которых уравне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mbri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=kx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еет больше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вух решен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2560" y="714240"/>
            <a:ext cx="854388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пределение квадратичной и кубической функции 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афик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таблица значений функ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войства 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збо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задач с использованием графика квадратичной функ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афик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таблица значений функ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войства 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збо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задач с использованием графика кубической функ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дачи из курса физики с использованием квадратичной функ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дачи из ГИА по теме «Свойства степенной функции с натуральным показателем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рафик функции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en-US" sz="3200" spc="-1" strike="noStrike" baseline="30000">
                <a:solidFill>
                  <a:srgbClr val="c00000"/>
                </a:solidFill>
                <a:latin typeface="Franklin Gothic Book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  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арабол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85920" y="4929120"/>
          <a:ext cx="7500960" cy="549360"/>
        </p:xfrm>
        <a:graphic>
          <a:graphicData uri="http://schemas.openxmlformats.org/drawingml/2006/table">
            <a:tbl>
              <a:tblPr/>
              <a:tblGrid>
                <a:gridCol w="534960"/>
                <a:gridCol w="536400"/>
                <a:gridCol w="535320"/>
                <a:gridCol w="536400"/>
                <a:gridCol w="534960"/>
                <a:gridCol w="536760"/>
                <a:gridCol w="536400"/>
                <a:gridCol w="534960"/>
                <a:gridCol w="536760"/>
                <a:gridCol w="534960"/>
                <a:gridCol w="536400"/>
                <a:gridCol w="534960"/>
                <a:gridCol w="536760"/>
                <a:gridCol w="534960"/>
              </a:tblGrid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Box 6"/>
          <p:cNvSpPr/>
          <p:nvPr/>
        </p:nvSpPr>
        <p:spPr>
          <a:xfrm>
            <a:off x="5286240" y="18572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Perpetua"/>
              </a:rPr>
              <a:t>y=x</a:t>
            </a:r>
            <a:r>
              <a:rPr b="1" lang="en-US" sz="2400" spc="-1" strike="noStrike" baseline="30000">
                <a:solidFill>
                  <a:srgbClr val="0d0d0d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Диаграмма 9" descr=""/>
          <p:cNvPicPr/>
          <p:nvPr/>
        </p:nvPicPr>
        <p:blipFill>
          <a:blip r:embed="rId1"/>
          <a:stretch/>
        </p:blipFill>
        <p:spPr>
          <a:xfrm>
            <a:off x="1706400" y="1206360"/>
            <a:ext cx="4584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Свойства    функции </a:t>
            </a:r>
            <a:r>
              <a:rPr b="1" lang="en-US" sz="29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en-US" sz="2900" spc="-1" strike="noStrike" baseline="30000">
                <a:solidFill>
                  <a:srgbClr val="c00000"/>
                </a:solidFill>
                <a:latin typeface="Franklin Gothic Book"/>
              </a:rPr>
              <a:t>2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914400" y="6429240"/>
            <a:ext cx="61578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x=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 то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y=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Если 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x≠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y&gt;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Противоположным значениям х соответствует одно и то же значение 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Диаграмма 7" descr=""/>
          <p:cNvPicPr/>
          <p:nvPr/>
        </p:nvPicPr>
        <p:blipFill>
          <a:blip r:embed="rId1"/>
          <a:stretch/>
        </p:blipFill>
        <p:spPr>
          <a:xfrm>
            <a:off x="4705200" y="1066680"/>
            <a:ext cx="4017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11080" y="21564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збор</a:t>
            </a:r>
            <a:r>
              <a:rPr b="1" lang="ru-RU" sz="2400" spc="-1" strike="noStrike" baseline="30000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задач с использованием графика квадратичной функции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914400" y="6172200"/>
            <a:ext cx="657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4    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-2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2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-1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рней н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ivaldi"/>
              </a:rPr>
              <a:t>≈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ivaldi"/>
              </a:rPr>
              <a:t>≈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1,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Диаграмма 9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4017960" cy="3870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ая соединительная линия 11"/>
          <p:cNvSpPr/>
          <p:nvPr/>
        </p:nvSpPr>
        <p:spPr>
          <a:xfrm flipV="1">
            <a:off x="1428840" y="2844360"/>
            <a:ext cx="2047680" cy="1116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Прямая соединительная линия 12"/>
          <p:cNvSpPr/>
          <p:nvPr/>
        </p:nvSpPr>
        <p:spPr>
          <a:xfrm>
            <a:off x="1500120" y="3214800"/>
            <a:ext cx="1857600" cy="144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Прямая соединительная линия 19"/>
          <p:cNvSpPr/>
          <p:nvPr/>
        </p:nvSpPr>
        <p:spPr>
          <a:xfrm flipH="1">
            <a:off x="1428840" y="2857680"/>
            <a:ext cx="1440" cy="164304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Прямая соединительная линия 22"/>
          <p:cNvSpPr/>
          <p:nvPr/>
        </p:nvSpPr>
        <p:spPr>
          <a:xfrm flipH="1">
            <a:off x="1539360" y="3214800"/>
            <a:ext cx="1800" cy="128592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Прямая соединительная линия 29"/>
          <p:cNvSpPr/>
          <p:nvPr/>
        </p:nvSpPr>
        <p:spPr>
          <a:xfrm>
            <a:off x="3330720" y="3209760"/>
            <a:ext cx="0" cy="131472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Прямая соединительная линия 33"/>
          <p:cNvSpPr/>
          <p:nvPr/>
        </p:nvSpPr>
        <p:spPr>
          <a:xfrm flipH="1">
            <a:off x="3440160" y="2881440"/>
            <a:ext cx="1440" cy="164304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TextBox 34"/>
          <p:cNvSpPr/>
          <p:nvPr/>
        </p:nvSpPr>
        <p:spPr>
          <a:xfrm>
            <a:off x="1249200" y="4487760"/>
            <a:ext cx="365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Perpetua"/>
              </a:rPr>
              <a:t>x</a:t>
            </a:r>
            <a:r>
              <a:rPr b="0" lang="en-US" sz="1200" spc="-1" strike="noStrike" baseline="-25000">
                <a:solidFill>
                  <a:srgbClr val="c00000"/>
                </a:solidFill>
                <a:latin typeface="Perpetu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TextBox 35"/>
          <p:cNvSpPr/>
          <p:nvPr/>
        </p:nvSpPr>
        <p:spPr>
          <a:xfrm>
            <a:off x="3367080" y="4487760"/>
            <a:ext cx="365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Perpetua"/>
              </a:rPr>
              <a:t>x</a:t>
            </a:r>
            <a:r>
              <a:rPr b="0" lang="ru-RU" sz="1200" spc="-1" strike="noStrike" baseline="-25000">
                <a:solidFill>
                  <a:srgbClr val="c00000"/>
                </a:solidFill>
                <a:latin typeface="Cambri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274680"/>
            <a:ext cx="8015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рафик функции 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ru-RU" sz="2800" spc="-1" strike="noStrike" baseline="30000">
                <a:solidFill>
                  <a:srgbClr val="c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  -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кубическая парабола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Нижний колонтитул 2"/>
          <p:cNvSpPr/>
          <p:nvPr/>
        </p:nvSpPr>
        <p:spPr>
          <a:xfrm>
            <a:off x="2857680" y="62866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7" name="Диаграмма 9" descr=""/>
          <p:cNvPicPr/>
          <p:nvPr/>
        </p:nvPicPr>
        <p:blipFill>
          <a:blip r:embed="rId1"/>
          <a:stretch/>
        </p:blipFill>
        <p:spPr>
          <a:xfrm>
            <a:off x="1639800" y="920880"/>
            <a:ext cx="5724720" cy="40845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>
            <a:off x="6000840" y="15001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Perpetua"/>
              </a:rPr>
              <a:t>y=x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4200" y="5143680"/>
          <a:ext cx="8429760" cy="48708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8360"/>
                <a:gridCol w="468360"/>
                <a:gridCol w="468360"/>
                <a:gridCol w="468360"/>
                <a:gridCol w="468000"/>
                <a:gridCol w="468360"/>
                <a:gridCol w="468360"/>
                <a:gridCol w="468360"/>
                <a:gridCol w="468360"/>
                <a:gridCol w="468360"/>
                <a:gridCol w="468360"/>
                <a:gridCol w="468000"/>
                <a:gridCol w="468360"/>
                <a:gridCol w="468360"/>
                <a:gridCol w="468360"/>
                <a:gridCol w="468360"/>
              </a:tblGrid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войства функции </a:t>
            </a: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ru-RU" sz="3600" spc="-1" strike="noStrike" baseline="30000">
                <a:solidFill>
                  <a:srgbClr val="c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Нижний колонтитул 2"/>
          <p:cNvSpPr/>
          <p:nvPr/>
        </p:nvSpPr>
        <p:spPr>
          <a:xfrm>
            <a:off x="914400" y="6172200"/>
            <a:ext cx="744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1.Если 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x=0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, то 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2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.Если 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x&gt;0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, то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 y&gt;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3.Противоположным значениям х соответствуют противоположные значения 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3" name="Диаграмма 11" descr=""/>
          <p:cNvPicPr/>
          <p:nvPr/>
        </p:nvPicPr>
        <p:blipFill>
          <a:blip r:embed="rId1"/>
          <a:stretch/>
        </p:blipFill>
        <p:spPr>
          <a:xfrm>
            <a:off x="4638600" y="1494000"/>
            <a:ext cx="4151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дачи из ГИА по теме «Свойства степенной функции с натуральным показателем»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rcRect l="6056" t="27346" r="43556" b="35937"/>
          <a:stretch/>
        </p:blipFill>
        <p:spPr>
          <a:xfrm>
            <a:off x="642960" y="1214280"/>
            <a:ext cx="7711920" cy="4214880"/>
          </a:xfrm>
          <a:prstGeom prst="rect">
            <a:avLst/>
          </a:prstGeom>
          <a:ln w="0">
            <a:noFill/>
          </a:ln>
        </p:spPr>
      </p:pic>
      <p:grpSp>
        <p:nvGrpSpPr>
          <p:cNvPr id="267" name="Группа 9"/>
          <p:cNvGrpSpPr/>
          <p:nvPr/>
        </p:nvGrpSpPr>
        <p:grpSpPr>
          <a:xfrm>
            <a:off x="1322280" y="5473800"/>
            <a:ext cx="6864480" cy="861840"/>
            <a:chOff x="1322280" y="5473800"/>
            <a:chExt cx="6864480" cy="861840"/>
          </a:xfrm>
        </p:grpSpPr>
        <p:pic>
          <p:nvPicPr>
            <p:cNvPr id="268" name="Picture 3" descr=""/>
            <p:cNvPicPr/>
            <p:nvPr/>
          </p:nvPicPr>
          <p:blipFill>
            <a:blip r:embed="rId2"/>
            <a:srcRect l="10969" t="57661" r="66129" b="35937"/>
            <a:stretch/>
          </p:blipFill>
          <p:spPr>
            <a:xfrm>
              <a:off x="1322280" y="5510160"/>
              <a:ext cx="350532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Стрелка влево 8"/>
            <p:cNvSpPr/>
            <p:nvPr/>
          </p:nvSpPr>
          <p:spPr>
            <a:xfrm>
              <a:off x="4645080" y="5473800"/>
              <a:ext cx="3541680" cy="803160"/>
            </a:xfrm>
            <a:prstGeom prst="leftArrow">
              <a:avLst>
                <a:gd name="adj1" fmla="val 50000"/>
                <a:gd name="adj2" fmla="val 49997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Верный ответ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З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адачи из ГИА по теме «Свойства степенной функции с натуральным показателем»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Нижний колонтитул 2"/>
          <p:cNvSpPr/>
          <p:nvPr/>
        </p:nvSpPr>
        <p:spPr>
          <a:xfrm>
            <a:off x="914400" y="6172200"/>
            <a:ext cx="722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rcRect l="43361" t="36720" r="3906" b="25000"/>
          <a:stretch/>
        </p:blipFill>
        <p:spPr>
          <a:xfrm>
            <a:off x="714240" y="1214280"/>
            <a:ext cx="75009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6:38:13Z</dcterms:created>
  <dc:creator>Учитель</dc:creator>
  <dc:description/>
  <dc:language>en-US</dc:language>
  <cp:lastModifiedBy>Учитель</cp:lastModifiedBy>
  <dcterms:modified xsi:type="dcterms:W3CDTF">2012-01-13T07:13:24Z</dcterms:modified>
  <cp:revision>32</cp:revision>
  <dc:subject/>
  <dc:title>Функции y=x2  и   y=x3 и их графики</dc:title>
</cp:coreProperties>
</file>