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734-8683-4EEA-9284-65300167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066-50F1-42CD-9CE5-918E6B6E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518-271D-4CCD-943F-8B675B82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3CC-7E6B-41B1-8828-864E5CFA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A5B2-A1D3-43D2-9B8C-127EF6F8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6C1F-ED67-40B8-B4E7-8D167440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6AA1-EBBA-4ADB-AAA6-AC0A11DE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68EC-1AC4-4439-BE43-F975BEA5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8005-48E7-4982-B54E-2663FEEA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914C-DECE-4DB3-BD43-D74D9E0E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DABF-5ECB-4398-B11C-D41A5884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15F-DEB0-448F-9FC2-556B12B2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9AAD-4EB3-4A71-B631-F3BF2127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BE75-495C-4AF5-8245-F5D785FB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3669-A6C4-40EA-99E0-24324327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7346-AAFA-4662-8F59-3AF8FE00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36CF-927D-4894-A924-F9D7B11C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D9E0-8013-4078-9EAE-F0370CBD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0783-05D1-49F5-A8E9-70BD0722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407A-D99C-4C76-9290-C225C288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563A-133D-4648-83B5-7CE69FD3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B567D-E0EF-49CD-80F4-1E803E0F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379-6FA2-466D-B8A7-7D3B1F5F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FC79-A20D-41DA-8CD3-0ABC62A4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3CC8-77F9-4B67-B803-BD3B87B5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22AE-736B-4BB6-8F6C-E18CB5DE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182C-0FB6-4FD1-BD4A-1D2FAA4C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8E623-558E-4B6F-9B6D-DF18F233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4391-AD74-4EF0-A86D-8A795CA5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1997-4172-47DC-8ABE-38DD1F42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AC8E-6074-41D5-B9AA-F897881F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E0D4B-0485-4CAF-B84F-E48E370C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FE68-D10D-4872-B4DA-91553BAB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ECA-66CA-41BC-B34A-B6657178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5D3B-FFD3-4F0E-86DF-E1DB4B25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BD7E-DA33-4B4F-83CD-0E05FE73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87B9-4454-4A2A-A820-759EC764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0C69-DC1F-492F-83C2-5E13A32D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B7C0-1352-49A3-A031-0383EF30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D291-FEFD-44F8-A80A-3388EE03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067B-BCE3-4B5F-990C-0BBB3EED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94E7-20FD-4748-BE17-73EF39AE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39824-8587-4312-B039-74D14232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7160-3A66-4F74-BE03-072302DA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740-445A-4386-BE52-741BDD87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1768D-10C3-489F-80BE-6B5E2883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14DEF-2E0E-4036-93ED-65B2D78D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43890-8F8D-47B3-AEBD-99D8EB5C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EEBFF-6E46-429E-8FF0-3786E658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73DCC-91AC-4C1E-B807-62383EBB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2724A-9745-4523-9AF1-A612940A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5D0C1-435F-4411-9BED-1BBD2C64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75BD-D8CB-4531-8ACA-5B9F632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8725-D1A0-4238-89B9-56FC6E6B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2FE1-41B6-4CDA-938F-EAA18A7C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73F-FE2A-4AAE-92E7-0140DAC9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58C0-7BA4-4349-B499-12573651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D5B-B3F4-4A77-B995-941C10A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D7E-583E-4204-9DF9-B6F1CB4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B31-47C1-4B02-AB53-7CB1316A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ED5F-A99D-4334-8855-868C6519EE1A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E83E-0480-494A-B95F-C934BD6AEA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2A0D-FC83-43B4-ABED-3DCE1F2F8B55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0EFA-4DF6-45C6-B00E-2B659143C52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0F39-4B77-4C16-99A0-B87A2C8972AD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894E-2636-4C72-830E-4C9B7ACC76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3A84-C2D5-4246-8AA5-3A63C48D33D0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A2E8-1C19-4E42-9E1A-BC560B658E0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EE73-4BE8-45DB-8F4C-20704415939A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46D2-BFDB-499F-AA2F-1234BA76ED5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ym1.ucoz.ru/Ctrani/CimvolGym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sch119comp4.narod.ru/pic/57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192280" y="3500280"/>
            <a:ext cx="361476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Cambria"/>
              </a:rPr>
              <a:t>Класс: 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Cambria"/>
              </a:rPr>
              <a:t>Тема: Степень и её свойств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Подготовила: учитель математи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Романова Надежда Михайловна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Лицей №4 г. Сарат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Функции 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y=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Franklin Gothic Book"/>
              </a:rPr>
              <a:t>2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 y=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Franklin Gothic Book"/>
              </a:rPr>
              <a:t>3</a:t>
            </a:r>
            <a:r>
              <a:rPr b="0" lang="ru-RU" sz="40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 их график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0" name="Picture 5" descr="Картинка 6 из 1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37040"/>
            <a:ext cx="48499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ижний колонтитул 1"/>
          <p:cNvSpPr/>
          <p:nvPr/>
        </p:nvSpPr>
        <p:spPr>
          <a:xfrm>
            <a:off x="914400" y="6172200"/>
            <a:ext cx="683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4" name="Picture 2" descr="http://www.proza.ru/pics/2009/07/22/577.jpg"/>
          <p:cNvPicPr/>
          <p:nvPr/>
        </p:nvPicPr>
        <p:blipFill>
          <a:blip r:embed="rId1"/>
          <a:stretch/>
        </p:blipFill>
        <p:spPr>
          <a:xfrm>
            <a:off x="4032360" y="252360"/>
            <a:ext cx="4854600" cy="4454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Картинка 6 из 30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440" y="763560"/>
            <a:ext cx="3665520" cy="41990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4060800" y="503568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труя воды из фонтана движется по параболической траектори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63520" y="4889520"/>
            <a:ext cx="35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з курса физики вы узнаете о движении тела, брошенного под углом к горизонт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Домашнее задание  по данной теме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Нижний колонтитул 2"/>
          <p:cNvSpPr/>
          <p:nvPr/>
        </p:nvSpPr>
        <p:spPr>
          <a:xfrm>
            <a:off x="914400" y="6172200"/>
            <a:ext cx="683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227160" y="1274760"/>
            <a:ext cx="8215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 Учебник «Алгебра 7»Ю.Н. Макарычев и др.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тр. 110 №№495, 496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Найдите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ри котором уравне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+1 имеет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ольше одного решен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.Придумайте задачу на использование свойств и графика функций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y=x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mbria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.Найти значения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ри которых уравне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mbri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=kx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еет больше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вух решен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2560" y="714240"/>
            <a:ext cx="854388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пределение квадратичной и кубической функции 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афик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таблица значений функ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войства 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збо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задач с использованием графика квадратичной функ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афик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таблица значений функ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войства 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збо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задач с использованием графика кубической функ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дачи из курса физики с использованием квадратичной функ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дачи из ГИА по теме «Свойства степенной функции с натуральным показателем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рафик функции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en-US" sz="3200" spc="-1" strike="noStrike" baseline="30000">
                <a:solidFill>
                  <a:srgbClr val="c00000"/>
                </a:solidFill>
                <a:latin typeface="Franklin Gothic Book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  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арабол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85920" y="4929120"/>
          <a:ext cx="7500960" cy="549360"/>
        </p:xfrm>
        <a:graphic>
          <a:graphicData uri="http://schemas.openxmlformats.org/drawingml/2006/table">
            <a:tbl>
              <a:tblPr/>
              <a:tblGrid>
                <a:gridCol w="534960"/>
                <a:gridCol w="536400"/>
                <a:gridCol w="535320"/>
                <a:gridCol w="536400"/>
                <a:gridCol w="534960"/>
                <a:gridCol w="536760"/>
                <a:gridCol w="536400"/>
                <a:gridCol w="534960"/>
                <a:gridCol w="536760"/>
                <a:gridCol w="534960"/>
                <a:gridCol w="536400"/>
                <a:gridCol w="534960"/>
                <a:gridCol w="536760"/>
                <a:gridCol w="534960"/>
              </a:tblGrid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Box 6"/>
          <p:cNvSpPr/>
          <p:nvPr/>
        </p:nvSpPr>
        <p:spPr>
          <a:xfrm>
            <a:off x="5286240" y="18572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Perpetua"/>
              </a:rPr>
              <a:t>y=x</a:t>
            </a:r>
            <a:r>
              <a:rPr b="1" lang="en-US" sz="2400" spc="-1" strike="noStrike" baseline="30000">
                <a:solidFill>
                  <a:srgbClr val="0d0d0d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Диаграмма 9" descr=""/>
          <p:cNvPicPr/>
          <p:nvPr/>
        </p:nvPicPr>
        <p:blipFill>
          <a:blip r:embed="rId1"/>
          <a:stretch/>
        </p:blipFill>
        <p:spPr>
          <a:xfrm>
            <a:off x="1706400" y="1206360"/>
            <a:ext cx="4584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Свойства    функции </a:t>
            </a:r>
            <a:r>
              <a:rPr b="1" lang="en-US" sz="29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en-US" sz="2900" spc="-1" strike="noStrike" baseline="30000">
                <a:solidFill>
                  <a:srgbClr val="c00000"/>
                </a:solidFill>
                <a:latin typeface="Franklin Gothic Book"/>
              </a:rPr>
              <a:t>2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914400" y="6429240"/>
            <a:ext cx="61578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x=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 то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y=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Если 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x≠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y&gt;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Противоположным значениям х соответствует одно и то же значение 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Диаграмма 7" descr=""/>
          <p:cNvPicPr/>
          <p:nvPr/>
        </p:nvPicPr>
        <p:blipFill>
          <a:blip r:embed="rId1"/>
          <a:stretch/>
        </p:blipFill>
        <p:spPr>
          <a:xfrm>
            <a:off x="4705200" y="1066680"/>
            <a:ext cx="4017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11080" y="21564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збор</a:t>
            </a:r>
            <a:r>
              <a:rPr b="1" lang="ru-RU" sz="2400" spc="-1" strike="noStrike" baseline="30000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задач с использованием графика квадратичной функции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914400" y="6172200"/>
            <a:ext cx="657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4    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-2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2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-1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рней н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ivaldi"/>
              </a:rPr>
              <a:t>≈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ivaldi"/>
              </a:rPr>
              <a:t>≈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1,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Диаграмма 9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4017960" cy="3870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ая соединительная линия 11"/>
          <p:cNvSpPr/>
          <p:nvPr/>
        </p:nvSpPr>
        <p:spPr>
          <a:xfrm flipV="1">
            <a:off x="1428840" y="2844360"/>
            <a:ext cx="2047680" cy="1116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Прямая соединительная линия 12"/>
          <p:cNvSpPr/>
          <p:nvPr/>
        </p:nvSpPr>
        <p:spPr>
          <a:xfrm>
            <a:off x="1500120" y="3214800"/>
            <a:ext cx="1857600" cy="144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Прямая соединительная линия 19"/>
          <p:cNvSpPr/>
          <p:nvPr/>
        </p:nvSpPr>
        <p:spPr>
          <a:xfrm flipH="1">
            <a:off x="1428840" y="2857680"/>
            <a:ext cx="1440" cy="164304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Прямая соединительная линия 22"/>
          <p:cNvSpPr/>
          <p:nvPr/>
        </p:nvSpPr>
        <p:spPr>
          <a:xfrm flipH="1">
            <a:off x="1539360" y="3214800"/>
            <a:ext cx="1800" cy="128592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Прямая соединительная линия 29"/>
          <p:cNvSpPr/>
          <p:nvPr/>
        </p:nvSpPr>
        <p:spPr>
          <a:xfrm>
            <a:off x="3330720" y="3209760"/>
            <a:ext cx="0" cy="131472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Прямая соединительная линия 33"/>
          <p:cNvSpPr/>
          <p:nvPr/>
        </p:nvSpPr>
        <p:spPr>
          <a:xfrm flipH="1">
            <a:off x="3440160" y="2881440"/>
            <a:ext cx="1440" cy="164304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TextBox 34"/>
          <p:cNvSpPr/>
          <p:nvPr/>
        </p:nvSpPr>
        <p:spPr>
          <a:xfrm>
            <a:off x="1249200" y="4487760"/>
            <a:ext cx="365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Perpetua"/>
              </a:rPr>
              <a:t>x</a:t>
            </a:r>
            <a:r>
              <a:rPr b="0" lang="en-US" sz="1200" spc="-1" strike="noStrike" baseline="-25000">
                <a:solidFill>
                  <a:srgbClr val="c00000"/>
                </a:solidFill>
                <a:latin typeface="Perpetu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TextBox 35"/>
          <p:cNvSpPr/>
          <p:nvPr/>
        </p:nvSpPr>
        <p:spPr>
          <a:xfrm>
            <a:off x="3367080" y="4487760"/>
            <a:ext cx="365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Perpetua"/>
              </a:rPr>
              <a:t>x</a:t>
            </a:r>
            <a:r>
              <a:rPr b="0" lang="ru-RU" sz="1200" spc="-1" strike="noStrike" baseline="-25000">
                <a:solidFill>
                  <a:srgbClr val="c00000"/>
                </a:solidFill>
                <a:latin typeface="Cambri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274680"/>
            <a:ext cx="8015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рафик функции 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ru-RU" sz="2800" spc="-1" strike="noStrike" baseline="30000">
                <a:solidFill>
                  <a:srgbClr val="c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  -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кубическая парабола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Нижний колонтитул 2"/>
          <p:cNvSpPr/>
          <p:nvPr/>
        </p:nvSpPr>
        <p:spPr>
          <a:xfrm>
            <a:off x="2857680" y="62866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7" name="Диаграмма 9" descr=""/>
          <p:cNvPicPr/>
          <p:nvPr/>
        </p:nvPicPr>
        <p:blipFill>
          <a:blip r:embed="rId1"/>
          <a:stretch/>
        </p:blipFill>
        <p:spPr>
          <a:xfrm>
            <a:off x="1639800" y="920880"/>
            <a:ext cx="5724720" cy="40845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>
            <a:off x="6000840" y="15001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Perpetua"/>
              </a:rPr>
              <a:t>y=x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4200" y="5143680"/>
          <a:ext cx="8429760" cy="48708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8360"/>
                <a:gridCol w="468360"/>
                <a:gridCol w="468360"/>
                <a:gridCol w="468360"/>
                <a:gridCol w="468000"/>
                <a:gridCol w="468360"/>
                <a:gridCol w="468360"/>
                <a:gridCol w="468360"/>
                <a:gridCol w="468360"/>
                <a:gridCol w="468360"/>
                <a:gridCol w="468360"/>
                <a:gridCol w="468000"/>
                <a:gridCol w="468360"/>
                <a:gridCol w="468360"/>
                <a:gridCol w="468360"/>
                <a:gridCol w="468360"/>
              </a:tblGrid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войства функции </a:t>
            </a: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ru-RU" sz="3600" spc="-1" strike="noStrike" baseline="30000">
                <a:solidFill>
                  <a:srgbClr val="c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Нижний колонтитул 2"/>
          <p:cNvSpPr/>
          <p:nvPr/>
        </p:nvSpPr>
        <p:spPr>
          <a:xfrm>
            <a:off x="914400" y="6172200"/>
            <a:ext cx="744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1.Если 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x=0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, то 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2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.Если 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x&gt;0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, то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 y&gt;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3.Противоположным значениям х соответствуют противоположные значения 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3" name="Диаграмма 11" descr=""/>
          <p:cNvPicPr/>
          <p:nvPr/>
        </p:nvPicPr>
        <p:blipFill>
          <a:blip r:embed="rId1"/>
          <a:stretch/>
        </p:blipFill>
        <p:spPr>
          <a:xfrm>
            <a:off x="4638600" y="1494000"/>
            <a:ext cx="4151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дачи из ГИА по теме «Свойства степенной функции с натуральным показателем»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rcRect l="6056" t="27346" r="43556" b="35937"/>
          <a:stretch/>
        </p:blipFill>
        <p:spPr>
          <a:xfrm>
            <a:off x="642960" y="1214280"/>
            <a:ext cx="7711920" cy="4214880"/>
          </a:xfrm>
          <a:prstGeom prst="rect">
            <a:avLst/>
          </a:prstGeom>
          <a:ln w="0">
            <a:noFill/>
          </a:ln>
        </p:spPr>
      </p:pic>
      <p:grpSp>
        <p:nvGrpSpPr>
          <p:cNvPr id="267" name="Группа 9"/>
          <p:cNvGrpSpPr/>
          <p:nvPr/>
        </p:nvGrpSpPr>
        <p:grpSpPr>
          <a:xfrm>
            <a:off x="1322280" y="5473800"/>
            <a:ext cx="6864480" cy="861840"/>
            <a:chOff x="1322280" y="5473800"/>
            <a:chExt cx="6864480" cy="861840"/>
          </a:xfrm>
        </p:grpSpPr>
        <p:pic>
          <p:nvPicPr>
            <p:cNvPr id="268" name="Picture 3" descr=""/>
            <p:cNvPicPr/>
            <p:nvPr/>
          </p:nvPicPr>
          <p:blipFill>
            <a:blip r:embed="rId2"/>
            <a:srcRect l="10969" t="57661" r="66129" b="35937"/>
            <a:stretch/>
          </p:blipFill>
          <p:spPr>
            <a:xfrm>
              <a:off x="1322280" y="5510160"/>
              <a:ext cx="350532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Стрелка влево 8"/>
            <p:cNvSpPr/>
            <p:nvPr/>
          </p:nvSpPr>
          <p:spPr>
            <a:xfrm>
              <a:off x="4645080" y="5473800"/>
              <a:ext cx="3541680" cy="803160"/>
            </a:xfrm>
            <a:prstGeom prst="leftArrow">
              <a:avLst>
                <a:gd name="adj1" fmla="val 50000"/>
                <a:gd name="adj2" fmla="val 49997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Верный ответ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З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адачи из ГИА по теме «Свойства степенной функции с натуральным показателем»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Нижний колонтитул 2"/>
          <p:cNvSpPr/>
          <p:nvPr/>
        </p:nvSpPr>
        <p:spPr>
          <a:xfrm>
            <a:off x="914400" y="6172200"/>
            <a:ext cx="722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rcRect l="43361" t="36720" r="3906" b="25000"/>
          <a:stretch/>
        </p:blipFill>
        <p:spPr>
          <a:xfrm>
            <a:off x="714240" y="1214280"/>
            <a:ext cx="75009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6:38:13Z</dcterms:created>
  <dc:creator>Учитель</dc:creator>
  <dc:description/>
  <dc:language>en-US</dc:language>
  <cp:lastModifiedBy>Учитель</cp:lastModifiedBy>
  <dcterms:modified xsi:type="dcterms:W3CDTF">2012-01-13T07:13:24Z</dcterms:modified>
  <cp:revision>32</cp:revision>
  <dc:subject/>
  <dc:title>Функции y=x2  и   y=x3 и их графики</dc:title>
</cp:coreProperties>
</file>