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452-33D0-4766-B39B-0FA2F732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5F5-5871-434A-9214-AD34701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D2D77-BFFD-4C61-8EE1-9A55C24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97061-B25E-4BE5-B449-A5C9FA1B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535BC-DA9A-4DEF-A1A6-E5647D96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8B328-E092-4242-A316-D7AB026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67B79-E4DC-4224-A187-17233FF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80634-EF41-4551-9B42-67D02E83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2E107-A0E6-41C0-9838-B16D39C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6366B-1108-4DE9-AB8D-0DBB0E2A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8659D-C540-46BB-A78C-4424F4E1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128DE-8102-4537-AC84-770BD2D5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1C8-5BB8-4C8D-9242-717F894A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98A80-4F48-4D70-9A93-E2F60F1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7393F-FD7B-4125-B0D9-BCF84CA3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F9E6E-81A5-4F73-B406-CDAE10B8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F83E6-C0D8-4617-B3B3-0D01312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D6983-E345-42BC-ABAA-FA2B55FC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0BB29-0727-424F-8BD6-5CDA9C06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9BA08-46CC-4C6A-B810-A1D71E7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E96A5-CE7C-4431-A909-27E0C18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2FFE8-3ABF-4F16-B9E4-08111E67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7DFCE-4CD3-477C-9BB3-93017E63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A1C-1516-4930-AFA3-8E40165B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07020-6202-46DF-972E-44684774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FD0-4045-4D33-A933-4602F6A9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D9F7-3E21-4ED2-B7EC-FAB78F8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D97-3B13-4D29-A0C8-45FAED13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7722-7A1F-426A-B395-8B97FAE0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8A3-E70A-4E38-B179-9DB03D52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DC1D-F669-4FFA-9F75-7B542AF5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FD20-D942-45F9-B1C1-5542596C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D03-A667-4178-9359-8D88EF64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F9DD-5039-4AFC-AEE0-D7358AE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C324-E994-49CC-B2CC-3BD2966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3D6C-3247-43E7-8129-4D56A685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723F-7344-40BD-8665-D0EE2F04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9B62-1B15-4C3A-9350-263AD854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97E1-152B-4FEF-8C7B-D9D8A991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C679-D2E8-4866-84D9-0C45FD8B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12CF-95ED-45EA-91FC-FDCB1A45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4A57-AE66-4CE3-B192-C97E951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D726A-AB6A-4DB5-B160-21606CFA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E86-89CD-4CE3-9418-E76DF7D4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4866-3143-402A-BBCB-D27077DC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0166-BFD9-418F-8878-9FAF006E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6315-2566-4BA9-A305-BD56B701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7003-B844-4A6C-AF54-AE13473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92B1-13EC-42D9-BCD0-C8CC142D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45DA-DB24-4303-8172-BF2BC292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9599-3CF4-44D6-8D19-3192C2B1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6503-3402-46BD-B99B-C18DA104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D0CB-364F-4274-A593-F317E36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B115-9D71-47BF-96CF-99E94F8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0B0-25F9-40EB-8014-E32868AA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DD36-D2DE-4759-8A6C-4D29204E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117C5-8765-4C3C-B104-F3AAA36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495F-B232-45BE-83B9-ACAE48A2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7DD9-424B-4BE3-BD4B-873ED4F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7054-5FAD-4CA5-B5C2-3CE22C41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6200-EA75-40AE-BC66-94F7F4D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6276-A61F-40DF-B4F0-CDC1123A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68AD-E939-495E-861C-51C74E0D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35AC-1831-4917-BB5E-643B13CF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408D-EEF1-49EE-A078-D705B78A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D8F-E761-497E-9B28-1A5FB3F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27A2-AD8E-4A94-8CD1-DA1888C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23667-DB9B-4656-A9A0-E344786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43E9-A177-4846-BB4C-BD2BDF29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4AD4-7349-42A7-8A04-8CF355D1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D71E-7FB7-42C0-B32F-891802BA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76F7-6DD6-41D9-8EFD-CCD6183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512A8-8D88-4BAD-BBD3-5E7AA64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75826-F9C5-4194-B5C2-FBD52AA4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2C0D-00B6-4112-9B56-875F8F95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467C-1303-4BD0-8020-858D4748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6AB-C833-481E-9FEB-0B9FCC6B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C4BB5-322F-4695-8727-5168D0BF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C0B13-4D0E-4457-A55A-A739359C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FE2B5-21D4-421B-B5DC-821E2FA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BBED-FC0F-4B06-8FBA-0BA2992B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6F34-9C44-4B77-BEE0-C15A61D7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6CBA-A7BD-4A72-B115-AAAC701F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49D01-F381-4AAF-8743-AF41CE81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63D42-7231-4001-8259-7278751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AAD9-0A89-4E31-A5FA-AE3618D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B0E0-1DFA-4AF7-9EA7-310D7EA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A06-3F9E-49F4-8A7D-9D8EDA7D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3597-9A82-4E49-90BC-BAB72BD2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1167E-FF10-44A1-B6CB-718C4471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ACCF9-478C-460D-9CCA-6024D602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2BDFA-C9DC-48DE-86A3-8C9546D4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D91D9-0FB7-48E8-A5CA-E4C68250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9C8D-F3B0-404D-847B-34B418FC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6DD48-6865-429D-9B12-B4007DC9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F341E-A823-4911-B495-463C5F0B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B639-DA86-42DA-954F-A2806C19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29B7-5056-4DAD-8D61-66E9F203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349-A7BB-4DF0-A1C2-8AD5AAD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ED4D3-FFC8-4D22-A9F9-2545F91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D4E9E-9DB0-4AFD-A132-78C0BC7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7597-F039-49EE-8CD5-30EC8ABF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203F-B0DC-4F2C-B552-7C6A0A1C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FE22-C08A-497B-A9F4-20909C6C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3E83D-BC79-40DE-BC42-AA6A01AF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20E49-5939-429C-8D0A-A88F179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A0E83-AF10-4916-818E-0C4193B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8F648-8195-4FAD-80A0-AF1EED11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D63BA-4864-4C3F-9BBA-2E85C50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B65-2AED-4FC2-9F4F-3BE5BA8C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B0797-C6EF-4DE4-AF4D-BDF940C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7CA6-56F7-4845-92AA-4FE033FB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0AD62-A4EB-470E-82B3-47A002C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B801-B3A1-4755-8D27-F75C3BA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DFC94-D975-4E98-A944-8091B3E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B73C-E91E-430C-A0C9-80628633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3C57-ABD6-47EC-AB70-9F95E6B7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C5146-9F3D-4098-B1F5-38691E95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8CB0B-DA4F-4B85-8861-D9125B46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CF7F6-8246-4C6A-AF1D-532327CD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5FD-0540-4EE2-822D-A87BEACF6D1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8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9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559-7D27-4C55-9F5A-80D231ADF6B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9BF9-B751-416F-8F14-2E563732692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E5B0-A177-4A0F-91C6-08F8EF43689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1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4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5AED-BEA4-48C1-B57E-A3683E2D4CF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4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F49-FECD-4325-9949-13BF6455FEB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FF1C-E986-47C2-86AB-70546E8D901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67DD-7A96-4636-94F4-681DFD4ED81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1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FB79-F02E-4DE7-967F-EF2FF1A4067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89D-429F-490C-89BE-1F10C3FD9B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7/10/04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ta.delta-z.com/wp-content/2007/10/satellit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4/1249980/f_2841451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ed=1&amp;text=&#1086;&#1089;&#1074;&#1086;&#1077;&#1085;&#1080;&#1077;%20&#1082;&#1086;&#1089;&#1084;&#1086;&#1089;&#1072;%20&#1057;&#1057;&#1057;&#1056;&amp;p=172&amp;img_url=dozor.kharkov.ua%2Fcontent%2Fdocuments%2F10736%2F1073572%2Fimage%2F137608.jpe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2144880" y="2786040"/>
            <a:ext cx="56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Lucida Sans Unicode"/>
              </a:rPr>
              <a:t>Начало космической эр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857160" y="7142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яя общеобразовательная школа № 8 с. Спасское Приморского к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5715000" y="42148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Ученик 6 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Лактионов Макс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3774240" y="5857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011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i-main-pic" descr="Картинка 42 из 678"/>
          <p:cNvPicPr/>
          <p:nvPr/>
        </p:nvPicPr>
        <p:blipFill>
          <a:blip r:embed="rId1"/>
          <a:stretch/>
        </p:blipFill>
        <p:spPr>
          <a:xfrm>
            <a:off x="285840" y="428760"/>
            <a:ext cx="4286160" cy="600048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4"/>
          <p:cNvSpPr/>
          <p:nvPr/>
        </p:nvSpPr>
        <p:spPr>
          <a:xfrm>
            <a:off x="4929120" y="714240"/>
            <a:ext cx="385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12 апреля 1961 г. в 9 ч 07 мин по московскому времени в нескольких десятках километров северние поселка Тюратам в Казахстане на советском космодроме Байконур состоялся запуск межконтинентальной баллистической ракеты Р-7, в носовом отсеке кото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размещался пилотируемый космический корабль «Восток» с майором ВВС Юрием Алексеевичем Гагариным на бор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5072040" y="301680"/>
            <a:ext cx="3786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Запуск прошел успешно. Космический корабль был выведен на орбиту с наклонением 65 гр, высотой перигея 181 км и высотой апогея 327 к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и совершил один виток вокруг Земли за 89 мин. На 108-ой мин после запуска он вернулся на Землю, приземлившись в районе деревни Смеловка Саратовской области. Таким образом, спустя 4 года после выведения первого искусственного спутника Земли Советский Союз впервые в мире осуществил полет человека в космическое простра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i-main-pic" descr="Картинка 70 из 678"/>
          <p:cNvPicPr/>
          <p:nvPr/>
        </p:nvPicPr>
        <p:blipFill>
          <a:blip r:embed="rId1"/>
          <a:stretch/>
        </p:blipFill>
        <p:spPr>
          <a:xfrm>
            <a:off x="500040" y="428760"/>
            <a:ext cx="4470480" cy="3857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1"/>
          <p:cNvSpPr/>
          <p:nvPr/>
        </p:nvSpPr>
        <p:spPr>
          <a:xfrm>
            <a:off x="4357800" y="128592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Космический корабль состоял из двух отсеков. Спускаемый аппарат, являющийся одновременно кабиной космонавта, представлял собой сферу диаметром 2,3 м, покрытую абляционным материалом для тепловой защиты при входе в атмосферу. Управление кораблем осуществлялось автоматически, а также космонавтом. В полете непрерывно поддерживалась с Зем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2" descr="Картинка 38 из 3663"/>
          <p:cNvPicPr/>
          <p:nvPr/>
        </p:nvPicPr>
        <p:blipFill>
          <a:blip r:embed="rId1"/>
          <a:stretch/>
        </p:blipFill>
        <p:spPr>
          <a:xfrm>
            <a:off x="428760" y="642960"/>
            <a:ext cx="3295440" cy="3809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2286000" y="1357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Через четыре недели после полета Гагарина 5 мая 1961 г. капитан 3-го ранга Алан Шепард стал первым американским астронавтом. Хотя он и не достиг околоземной орбиты, он поднялся над Землей на высоту около 186 км. Шепард запущеный с мыса Канаверал 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КК «Меркурий-3» с помощью модифицированной баллистической ракеты «Редстоун», провел в полете 15 мин 22 с до посадки в Атлантическом оке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"/>
          <p:cNvSpPr/>
          <p:nvPr/>
        </p:nvSpPr>
        <p:spPr>
          <a:xfrm>
            <a:off x="4357800" y="714240"/>
            <a:ext cx="3929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4 октября 1957 г. СССР произвел запуск первого в мире искуственного спутника Земли. Первый советский спутник позволил впервые измерить плотность верхней атмосферы, получить данные о распространении радиосигналов в ионосфере, отработать вопросы выведения на орбиту, тепловой режим и др.Спутник представлял собой алюминиевую сферу диаметром 58 см и массой 83,6 кг с четыремя штыревыми антенами длинной 2,4-2,9 м.В герметичном корпусе спутника размещались аппаратура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сточники электропита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2" descr="Картинка 3 из 9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857160"/>
            <a:ext cx="3857400" cy="37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Картинка 9 из 9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85716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2286000" y="1143000"/>
            <a:ext cx="5214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6 декабря 1957 г. в США была предпринята попытка запустить спутник «Авангард-1» с помощью ракеты-носителя,разработанной Исследовательской лабораторией ВМФ .После зажигания ракета поднялась над пусковым столом,однако через секунду двигател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выключились и ракета упала на стол,взорвавшись от удар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i-main-pic" descr="Картинка 31 из 6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1571760"/>
            <a:ext cx="4838400" cy="380988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1" descr="http://im4-tub.yandex.net/i?id=111717245-0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71680"/>
            <a:ext cx="2500200" cy="26431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3500280" y="429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20 августа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142920" y="3571920"/>
            <a:ext cx="35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олет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Белки и Стрелки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рошел уда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857160" y="809640"/>
            <a:ext cx="707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 того, как исторический полет Белки и Стрелки прошел удачно, погибли восемнадцать собак. Так, 22 июля 1951 года дворняжки Дерик и Цыган отправились в стратосферу - обе благополучно десантировались на парашютах. Но во время второго испытания Дерик и его партнерша Лиса погибли - не раскрылись парашюты. Цыгана больше в полет не отправляли - сохранили для исто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i-main-pic" descr="Картинка 37 из 678"/>
          <p:cNvPicPr/>
          <p:nvPr/>
        </p:nvPicPr>
        <p:blipFill>
          <a:blip r:embed="rId1"/>
          <a:stretch/>
        </p:blipFill>
        <p:spPr>
          <a:xfrm>
            <a:off x="500040" y="28584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466" name="i-main-pic" descr="Картинка 48 из 678"/>
          <p:cNvPicPr/>
          <p:nvPr/>
        </p:nvPicPr>
        <p:blipFill>
          <a:blip r:embed="rId2"/>
          <a:stretch/>
        </p:blipFill>
        <p:spPr>
          <a:xfrm>
            <a:off x="214200" y="2786040"/>
            <a:ext cx="4838760" cy="380988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4429080" y="1071720"/>
            <a:ext cx="4572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ноября 1957г. Советский Союз сообщил о выведении на орбиту второ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тского спутника. В отдельной герметической кабине находились собака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Лай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телеметрическая система для регистрации ее поведении в невесомости. Спутник был также снабжен научными приборами для исследования излучения Солнца и космических лучей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5610960" y="60008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обачка умерла от ж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1"/>
          <p:cNvSpPr/>
          <p:nvPr/>
        </p:nvSpPr>
        <p:spPr>
          <a:xfrm>
            <a:off x="2214720" y="500040"/>
            <a:ext cx="578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8 июля 1960 года на 19-й секунде полета у ракеты с кораблем "Восток" отвалился боковой блок, она упала и взорвалась. В катастрофе погибли собаки Чайка и Лисичка. Их дублеры Белка и Стрелка летели на следующем космическом корабле. После них - 1 декабря 1960 года - в космос отправились Пчелка и Мушка: они погибли от удушья и жары после того, как их корабль из-за сбоя тормозной системы перешел на более высокую орбиту. Последней в космосе за три недели до старта Юрия Гагарина побывала Звездоч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1"/>
          <p:cNvSpPr/>
          <p:nvPr/>
        </p:nvSpPr>
        <p:spPr>
          <a:xfrm>
            <a:off x="1714680" y="221472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Lucida Sans Unicode"/>
              </a:rPr>
              <a:t>Человек в косм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1:17Z</dcterms:created>
  <dc:creator>ттттт</dc:creator>
  <dc:description/>
  <dc:language>en-US</dc:language>
  <cp:lastModifiedBy>ттттт</cp:lastModifiedBy>
  <dcterms:modified xsi:type="dcterms:W3CDTF">2011-04-11T04:56:53Z</dcterms:modified>
  <cp:revision>10</cp:revision>
  <dc:subject/>
  <dc:title>Слайд 1</dc:title>
</cp:coreProperties>
</file>