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247-FB4E-48AF-83CC-E5117AAB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8D2-6021-4C9E-9E88-ADA5D1E5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3F44D-DB31-4B76-8C87-3C44F1F5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F3A56-7E8E-4033-BF4A-500102DF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01F09-76BD-4504-9DC1-FA1572F0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D3968-226B-452E-A077-24795ADD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4D9F9-20E2-49AC-9C07-07D8C13F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8589F-BF14-4364-B022-F34C9100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2E06D-E21F-4218-B010-12E4AD70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926A7-722F-4305-8247-B7197230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E8063-BACD-4A97-9339-39E8B0CB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5E367-5B59-4F3D-B73A-6893D018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317-BBF7-4475-93A2-CE2DF915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393E9-046B-4C2C-8544-9C4450EA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8BCC0-9B27-4867-AF55-38209610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3426F-9D47-4AC8-89D7-7EC811D0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99F00-8744-4D4F-91F2-40AE2653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68D5F-E133-4608-A12F-41FF15FC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7C79B-3B7E-47DA-B04D-70A556A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9D7FC-F947-4DBB-970D-B4DCE8B7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AEBA6-8D2C-4B8C-B263-13152D6B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4D0D6-06E9-47B6-B2E2-D482F738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676C0-0191-4843-B85A-920C59E4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C89-FAD4-4895-B085-B940E5E5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1F75B-1B60-4B13-AA37-4F64E0E7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5E3B-0B1D-48A4-9326-7CB8E983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65F2-5BF5-4FE2-9A9A-DD84AFF8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17C6-E3FB-431D-938C-179D2E56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734C-9885-40AA-AB29-55CF3EBD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AAA7-683C-4C65-815B-E0E7CD36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51B1-5218-4D8F-8350-A58868C3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5615-CB3B-4E94-8FE0-A406E519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5B3-1207-4364-9D61-842B5C52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9322-C73A-4390-AB4C-42D5A5AD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63B0-BEDF-47B6-BD89-CA6C9521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8194-E90D-446E-B2EE-34FCF8C9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74AA-83DC-4301-BFED-D179251F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2F84-2AAD-4B99-A60C-D456B1B7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A9219-9A8E-49BF-B83E-799F2B41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AD8C-F33A-4CDB-9B77-877BE415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9BF01-0B3E-4A79-BE07-ABF7A9D3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F87D-6DEA-46FA-99EE-E603EED3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A8D1D-3686-4C3C-9680-02FC6286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4FA-7548-4D2E-9757-6B0B4B4C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64D0-1ABD-4500-A6F6-54BF9749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7F567-A2F0-4F45-B4DB-18A2EC60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7BA8-2C20-4CE7-B03E-0254B3E6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BAB7-12CD-4323-A91E-08D76613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5D83-63E7-4F6A-95CD-B9D0FAFD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269C-CF7C-42F4-A870-BCB54018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ED879-45E1-4D24-A4D1-45ACEE05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D1D1D-8355-4513-BEB3-3A0A35CF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0782F-29AD-4003-BA69-259D5BD2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A0710-4183-4C2F-A654-7B2E4BE0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F95-FF8E-4893-89A8-B692A1F2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587E-885E-4776-A6A4-66ED0647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3971D-47AA-47F8-91F8-07BFB9AE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0880B-68A3-4041-9407-74450997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0478-8948-4F56-AA55-4EC049BC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1DD98-CDD2-494F-90C7-9890C2B2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FD35-5391-48B0-B444-758A033D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A4C2C-5FFE-458F-A849-37F8CE19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B60E-4AE4-4599-BEE2-A294CE0D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26A90-28DC-471D-8B8F-9017F98F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4B73-A150-4975-9EAD-252CE89C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803-B44D-4217-867E-558EEA9F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16ACF-D352-4952-8976-EFD5AF0E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BACF9-AF8D-422B-8BDE-CCBD25AE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5CB80-F78E-4612-97BB-7F03B984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7306-53A9-41ED-A472-3D1641AC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7E8D0-0E25-42AB-AC3B-2C6339D1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61C2F-9E1A-4068-972E-BEBCA4DB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E997B-4077-464E-B2C1-FD0F6F3D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55D24-990B-4D1D-ABD6-791A145E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F9A42-7517-4024-9D55-6ABA04BA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5A80-3A2A-4ABD-B8F5-DD33C295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38E-865B-4F8D-B409-C7CBB9FC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C5354-40E3-4207-8197-ABCC6737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FED26-B938-43AF-AC9F-7876180A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39FDB-B14E-4670-B908-AAE29DD6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B160B-F8E3-4588-A5F1-7B632C0B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9363F-AEE4-4623-B375-1C847E42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D8939-FCC2-4F80-A0DC-3A3FE0E0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450D8-487A-4AFB-A200-7BD80561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7F6E8-27BE-4CD1-9E4E-D889D2C4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94C98-F5A9-499A-9EB3-D58B8EC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D3F5B-66BB-4E21-BFC8-47F0896D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FD5-048C-45F0-A373-2BE91B6D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0D0C7-9924-441D-B6A2-A6F57E24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6230A-CFE2-41E0-B276-C989EEA5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5A17D-BB1A-4892-B952-92C7F912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69727-1263-4224-97AE-9FD4DE17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DF896-3987-46CD-BF62-FB0B6B22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6811E-C3D1-4D75-AB58-F31C2D15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904B4-EFD0-40B7-8001-93CBDF97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5B613-FB58-4DD2-88CA-7E00F394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D0AB-6D14-4CE4-9CBF-E1EAE3C1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6990-A970-4651-9ADD-7A90E009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CBE-C535-4138-8B2D-110E3D92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AFE03-A964-49A7-85F8-472B6164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B438C-4C43-4B51-9751-9689B2B4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289AA-8E4C-4C7F-A0FE-484ADE43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B46A9-E142-4806-8275-DF6702DC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6A47B-FAA7-4A67-B8F6-3267ECA3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BD2A1-3C32-4B3D-AAB1-B713DE11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6518F-B748-4201-A85C-321ACED3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9D9F5-A03F-4A49-BA90-42A2219A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2F559-A228-415A-BB6B-6602917B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97503-B53C-4DE9-812A-0D280AB0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E50-E52B-41FF-815F-402CF2A8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74892-34D8-4805-AA88-57E7170C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8025C-BCB7-43F5-A83C-0A8F0786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B6FD8-F153-4E26-9C9F-A76BC60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96ECE-069E-4B1E-9C04-A15C71AC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3C59E-9EB2-4675-8C52-17C81942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D015-C008-4F92-B3C3-E416E36A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2D887-43F6-4A3A-8D71-4530FE79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8B08D-A97D-46B6-95ED-337E2287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6624A-C560-47A7-AFDF-AC345393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F6908-5F39-460F-916E-CBD95411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8CB4-ED2A-442D-B2F8-526D895DA59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06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8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9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0FDE-3E2C-485B-B54B-5EFBD996BE3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6CDC-41E8-4F73-865C-B86DD2FF4AD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A89A-3E07-4D7F-A347-017A597622A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1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4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6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E525-7A86-4E54-BE9B-0BAB5260EF1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4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6B6C-72BC-4792-8659-A51CE681465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5C92-CD12-4A3F-B46D-D93AB5C999F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4150-FFB4-4634-879C-C16EF44C936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1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9B7E-8088-43EB-9ADE-6A1F4DAD0D4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B979-A39A-4B31-9EB5-27FE4549955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okrugsveta.ru/img/cmn/2007/10/04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eta.delta-z.com/wp-content/2007/10/satellite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4/1249980/f_2841451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ed=1&amp;text=&#1086;&#1089;&#1074;&#1086;&#1077;&#1085;&#1080;&#1077;%20&#1082;&#1086;&#1089;&#1084;&#1086;&#1089;&#1072;%20&#1057;&#1057;&#1057;&#1056;&amp;p=172&amp;img_url=dozor.kharkov.ua%2Fcontent%2Fdocuments%2F10736%2F1073572%2Fimage%2F137608.jpeg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1"/>
          <p:cNvSpPr/>
          <p:nvPr/>
        </p:nvSpPr>
        <p:spPr>
          <a:xfrm>
            <a:off x="2144880" y="2786040"/>
            <a:ext cx="56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Lucida Sans Unicode"/>
              </a:rPr>
              <a:t>Начало космической эр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Прямоугольник 2"/>
          <p:cNvSpPr/>
          <p:nvPr/>
        </p:nvSpPr>
        <p:spPr>
          <a:xfrm>
            <a:off x="857160" y="7142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яя общеобразовательная школа № 8 с. Спасское Приморского кр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3"/>
          <p:cNvSpPr/>
          <p:nvPr/>
        </p:nvSpPr>
        <p:spPr>
          <a:xfrm>
            <a:off x="5715000" y="421488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Выполн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Ученик 6 А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Лактионов Макс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4"/>
          <p:cNvSpPr/>
          <p:nvPr/>
        </p:nvSpPr>
        <p:spPr>
          <a:xfrm>
            <a:off x="3774240" y="5857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2011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i-main-pic" descr="Картинка 42 из 678"/>
          <p:cNvPicPr/>
          <p:nvPr/>
        </p:nvPicPr>
        <p:blipFill>
          <a:blip r:embed="rId1"/>
          <a:stretch/>
        </p:blipFill>
        <p:spPr>
          <a:xfrm>
            <a:off x="285840" y="428760"/>
            <a:ext cx="4286160" cy="600048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4"/>
          <p:cNvSpPr/>
          <p:nvPr/>
        </p:nvSpPr>
        <p:spPr>
          <a:xfrm>
            <a:off x="4929120" y="714240"/>
            <a:ext cx="3857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12 апреля 1961 г. в 9 ч 07 мин по московскому времени в нескольких десятках километров северние поселка Тюратам в Казахстане на советском космодроме Байконур состоялся запуск межконтинентальной баллистической ракеты Р-7, в носовом отсеке котор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размещался пилотируемый космический корабль «Восток» с майором ВВС Юрием Алексеевичем Гагариным на бор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5072040" y="301680"/>
            <a:ext cx="3786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Запуск прошел успешно. Космический корабль был выведен на орбиту с наклонением 65 гр, высотой перигея 181 км и высотой апогея 327 к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и совершил один виток вокруг Земли за 89 мин. На 108-ой мин после запуска он вернулся на Землю, приземлившись в районе деревни Смеловка Саратовской области. Таким образом, спустя 4 года после выведения первого искусственного спутника Земли Советский Союз впервые в мире осуществил полет человека в космическое простран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i-main-pic" descr="Картинка 70 из 678"/>
          <p:cNvPicPr/>
          <p:nvPr/>
        </p:nvPicPr>
        <p:blipFill>
          <a:blip r:embed="rId1"/>
          <a:stretch/>
        </p:blipFill>
        <p:spPr>
          <a:xfrm>
            <a:off x="500040" y="428760"/>
            <a:ext cx="4470480" cy="3857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Прямоугольник 1"/>
          <p:cNvSpPr/>
          <p:nvPr/>
        </p:nvSpPr>
        <p:spPr>
          <a:xfrm>
            <a:off x="4357800" y="128592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Космический корабль состоял из двух отсеков. Спускаемый аппарат, являющийся одновременно кабиной космонавта, представлял собой сферу диаметром 2,3 м, покрытую абляционным материалом для тепловой защиты при входе в атмосферу. Управление кораблем осуществлялось автоматически, а также космонавтом. В полете непрерывно поддерживалась с Земл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Picture 2" descr="Картинка 38 из 3663"/>
          <p:cNvPicPr/>
          <p:nvPr/>
        </p:nvPicPr>
        <p:blipFill>
          <a:blip r:embed="rId1"/>
          <a:stretch/>
        </p:blipFill>
        <p:spPr>
          <a:xfrm>
            <a:off x="428760" y="642960"/>
            <a:ext cx="3295440" cy="3809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1"/>
          <p:cNvSpPr/>
          <p:nvPr/>
        </p:nvSpPr>
        <p:spPr>
          <a:xfrm>
            <a:off x="2286000" y="13572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Через четыре недели после полета Гагарина 5 мая 1961 г. капитан 3-го ранга Алан Шепард стал первым американским астронавтом. Хотя он и не достиг околоземной орбиты, он поднялся над Землей на высоту около 186 км. Шепард запущеный с мыса Канаверал 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КК «Меркурий-3» с помощью модифицированной баллистической ракеты «Редстоун», провел в полете 15 мин 22 с до посадки в Атлантическом океа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1"/>
          <p:cNvSpPr/>
          <p:nvPr/>
        </p:nvSpPr>
        <p:spPr>
          <a:xfrm>
            <a:off x="4357800" y="714240"/>
            <a:ext cx="3929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4 октября 1957 г. СССР произвел запуск первого в мире искуственного спутника Земли. Первый советский спутник позволил впервые измерить плотность верхней атмосферы, получить данные о распространении радиосигналов в ионосфере, отработать вопросы выведения на орбиту, тепловой режим и др.Спутник представлял собой алюминиевую сферу диаметром 58 см и массой 83,6 кг с четыремя штыревыми антенами длинной 2,4-2,9 м.В герметичном корпусе спутника размещались аппаратура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и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источники электропитания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2" descr="Картинка 3 из 97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857160"/>
            <a:ext cx="3857400" cy="3743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Картинка 9 из 97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857160"/>
            <a:ext cx="6000840" cy="4643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1"/>
          <p:cNvSpPr/>
          <p:nvPr/>
        </p:nvSpPr>
        <p:spPr>
          <a:xfrm>
            <a:off x="2286000" y="1143000"/>
            <a:ext cx="5214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6 декабря 1957 г. в США была предпринята попытка запустить спутник «Авангард-1» с помощью ракеты-носителя,разработанной Исследовательской лабораторией ВМФ .После зажигания ракета поднялась над пусковым столом,однако через секунду двигател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выключились и ракета упала на стол,взорвавшись от удар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i-main-pic" descr="Картинка 31 из 6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1571760"/>
            <a:ext cx="4838400" cy="380988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1" descr="http://im4-tub.yandex.net/i?id=111717245-0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040" y="571680"/>
            <a:ext cx="2500200" cy="26431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4"/>
          <p:cNvSpPr/>
          <p:nvPr/>
        </p:nvSpPr>
        <p:spPr>
          <a:xfrm>
            <a:off x="3500280" y="4298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Calibri"/>
              </a:rPr>
              <a:t>20 августа 19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оугольник 4"/>
          <p:cNvSpPr/>
          <p:nvPr/>
        </p:nvSpPr>
        <p:spPr>
          <a:xfrm>
            <a:off x="142920" y="3571920"/>
            <a:ext cx="350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полет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Белки и Стрелки 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прошел уда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"/>
          <p:cNvSpPr/>
          <p:nvPr/>
        </p:nvSpPr>
        <p:spPr>
          <a:xfrm>
            <a:off x="857160" y="809640"/>
            <a:ext cx="7072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До того, как исторический полет Белки и Стрелки прошел удачно, погибли восемнадцать собак. Так, 22 июля 1951 года дворняжки Дерик и Цыган отправились в стратосферу - обе благополучно десантировались на парашютах. Но во время второго испытания Дерик и его партнерша Лиса погибли - не раскрылись парашюты. Цыгана больше в полет не отправляли - сохранили для истор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i-main-pic" descr="Картинка 37 из 678"/>
          <p:cNvPicPr/>
          <p:nvPr/>
        </p:nvPicPr>
        <p:blipFill>
          <a:blip r:embed="rId1"/>
          <a:stretch/>
        </p:blipFill>
        <p:spPr>
          <a:xfrm>
            <a:off x="500040" y="285840"/>
            <a:ext cx="3857760" cy="3429000"/>
          </a:xfrm>
          <a:prstGeom prst="rect">
            <a:avLst/>
          </a:prstGeom>
          <a:ln w="0">
            <a:noFill/>
          </a:ln>
        </p:spPr>
      </p:pic>
      <p:pic>
        <p:nvPicPr>
          <p:cNvPr id="466" name="i-main-pic" descr="Картинка 48 из 678"/>
          <p:cNvPicPr/>
          <p:nvPr/>
        </p:nvPicPr>
        <p:blipFill>
          <a:blip r:embed="rId2"/>
          <a:stretch/>
        </p:blipFill>
        <p:spPr>
          <a:xfrm>
            <a:off x="214200" y="2786040"/>
            <a:ext cx="4838760" cy="380988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4"/>
          <p:cNvSpPr/>
          <p:nvPr/>
        </p:nvSpPr>
        <p:spPr>
          <a:xfrm>
            <a:off x="4429080" y="1071720"/>
            <a:ext cx="45720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ноября 1957г. Советский Союз сообщил о выведении на орбиту второг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етского спутника. В отдельной герметической кабине находились собака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Лайк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телеметрическая система для регистрации ее поведении в невесомости. Спутник был также снабжен научными приборами для исследования излучения Солнца и космических лучей.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5"/>
          <p:cNvSpPr/>
          <p:nvPr/>
        </p:nvSpPr>
        <p:spPr>
          <a:xfrm>
            <a:off x="5610960" y="600084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Собачка умерла от ж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рямоугольник 1"/>
          <p:cNvSpPr/>
          <p:nvPr/>
        </p:nvSpPr>
        <p:spPr>
          <a:xfrm>
            <a:off x="2214720" y="500040"/>
            <a:ext cx="5786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8 июля 1960 года на 19-й секунде полета у ракеты с кораблем "Восток" отвалился боковой блок, она упала и взорвалась. В катастрофе погибли собаки Чайка и Лисичка. Их дублеры Белка и Стрелка летели на следующем космическом корабле. После них - 1 декабря 1960 года - в космос отправились Пчелка и Мушка: они погибли от удушья и жары после того, как их корабль из-за сбоя тормозной системы перешел на более высокую орбиту. Последней в космосе за три недели до старта Юрия Гагарина побывала Звездоч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1"/>
          <p:cNvSpPr/>
          <p:nvPr/>
        </p:nvSpPr>
        <p:spPr>
          <a:xfrm>
            <a:off x="1714680" y="221472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Lucida Sans Unicode"/>
              </a:rPr>
              <a:t>Человек в космо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4:41:17Z</dcterms:created>
  <dc:creator>ттттт</dc:creator>
  <dc:description/>
  <dc:language>en-US</dc:language>
  <cp:lastModifiedBy>ттттт</cp:lastModifiedBy>
  <dcterms:modified xsi:type="dcterms:W3CDTF">2011-04-11T04:56:53Z</dcterms:modified>
  <cp:revision>10</cp:revision>
  <dc:subject/>
  <dc:title>Слайд 1</dc:title>
</cp:coreProperties>
</file>