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A10-0024-4DD7-ABDB-419624A1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6B8-4870-4A61-A10A-E74C8CC9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EEBC8-6F2C-47D6-A639-2FD0D59C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BBE3E-DBD2-4C3E-9016-01316BF0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FD3A7-C3F5-4E0B-9FBE-1DAC283E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35AB3-2A1B-4CA4-AAB6-B2E7AE67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FBA4B-BE10-4FCA-BCAF-D8C60A7F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E322D-34BC-4BA6-BA76-A05E6FBD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0EDF3-4FBE-4652-BC00-6489B905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99566-01D4-4D7A-9526-886DC020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680F0-330C-4804-A16C-460442EA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C2CD5-3A1A-4515-9C0C-1E2B5738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833-05DD-4195-B8CE-9CD87D01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57AC2-9F90-4869-A5B5-A61F1B01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E1EDF-47A2-498F-8EF5-408B72BD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8EBDB-2160-4ADE-A620-D9B8C8D7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3AAE1-78C2-4814-9D6B-4BA11148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A7991-5D90-4801-A5A5-AA94BABE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B213F-9F25-42A6-A95A-0C138807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F1E7A-56E7-4A89-94C6-C0AFFE02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6CCF5-5ED1-435F-8325-767E23EE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034BB-9762-48CD-9156-F2D4DB8E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86C17-7522-4272-AEBF-06027950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59D-FADB-499E-B6BF-E3F2C73E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702A3-09AD-40DE-A973-FCD1B042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BF30-6796-4943-AE6F-010538D5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4D62-9EF5-4D9D-9A0C-75373716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E5C0-F407-4539-825C-FFC4F910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080E-A3A5-469B-ACFF-ACF8DCE0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A6BE-B4DD-4073-97EA-8916B753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F78D-3309-4ACB-95AD-CE83F116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A4A4-DE30-4EE2-B415-81925BB3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E7B-3C74-498A-8DEB-BC8282CC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9FF1-1B2C-4A56-9CC2-AF92F8DE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3FE9-15EA-47D8-9F30-64F2796F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1CBF-68CD-4DEC-A913-70A306CF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7A27-AC4F-4B51-9712-C5BE6974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A4C4-CF59-4986-B929-CDEDC2F2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650F-C066-469F-9A93-8B90B169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541C3-5AFE-4673-BBA3-48A50AD2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A9A1F-4CCF-470E-8E59-A405BF18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EFE13-8066-4395-B98A-3FC5160C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7AB3-36EC-49BA-BC35-0B632993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687-FC10-42B4-A559-51D0D1D8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6C44-702A-466C-8DF3-3AC274BB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A9E57-0D89-4437-9C1B-C4BD3C71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DE9E-D922-424A-82B0-DABD76A9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4D5DD-0C2A-4304-B4A2-6187ED4F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EA7D0-0D4B-49C2-BBAA-76ACC056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6E0C4-B1E7-4D33-A27F-8F08B871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C3FC-EF40-4032-860C-890A5199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250D-F4FC-497A-8DDC-891FE67B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F73FC-5022-43F9-8836-21045571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0E41F-7DA3-422C-95FF-9B367EB1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E77-81B2-462A-99E0-278E41B6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8836E-9A8C-4C99-99A7-30DC6A83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A2A84-2909-4704-A27F-45E9D87C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326BA-5EE9-49D4-8EE9-E763E124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274F9-DAF4-4C2B-84F4-6419CF30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97E18-7AC5-4C79-B2D1-28112622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DFB8A-84AE-40D4-BD44-1389BF42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733D6-F190-483D-877E-B410A4B3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EC416-6ABF-454D-BB11-D666FC8F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3DF9C-E9A0-43A5-B828-63D5891B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30889-92CC-4F75-B78B-65EBCE30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D35-D534-4E93-8BAD-86783F87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D3320-2C3B-4365-A61A-DB2CFD57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4A166-8C4B-44D2-A18D-413AC2B0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FF45E-58DC-477A-B37F-14CBB0F6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BC11F-1072-4EAC-A383-F5D24093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8CE26-02F3-466A-BDB8-D973655B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1B847-64B0-4AA3-8FD4-147E1033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4BC82-A0DC-4760-994F-1B9AA79C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0D0AA-2880-4EA7-9549-200F957E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5DA3D-FC66-4D62-AFD9-986D5D37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E0D23-56CD-4EC1-A4E2-8FE0F0A0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739-4296-4531-90A8-8139C9AB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38B72-CBE0-4B50-B08E-559862D8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E0CE4-9B0E-4591-8E53-697CA386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47513-FB89-4588-B155-F2C8EC2E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A6CF5-4999-4DFA-BE90-F8C9F6BB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B8296-1F4C-49E8-A1F3-600D5072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CFB65-C2FA-4539-8DED-CE08BFB6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91604-10D2-4413-943A-C2E4FEE2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DA166-604C-4A55-BECE-80FE6BD5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E650F-E598-4C25-91B1-5C306267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0E094-A753-420B-99CA-9FE0BD99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062-D6CD-41B2-9437-C21E2E9A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591CB-2312-4B2D-9778-5B1047C6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DA4E9-9856-42E3-9BA2-F55905E0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448CB-587C-468C-907D-CC9DB225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D50F1-5476-4BAD-B3D1-E4DCC47E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37276-C0EE-4D95-A15A-2D58CFD3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9FE84-44AA-4D42-899E-79A9B469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D6501-2CEE-475F-8BA3-D4FAB848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ED6C5-C354-49DA-B0AD-F0FE25DC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090AA-C380-44F5-9B65-88A755AE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B2FC2-C7C2-4FB8-9D36-9998A94A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155-8CC4-47BC-A636-5C6D2075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CB251-AC20-4C7B-A623-F36F014B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5DAE7-FE1F-4D7A-B6D6-33EA57E4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0AABB-2365-4E4C-B18D-F85A3046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F1AB3-D087-4A84-8EFC-FAB84EFD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4A3DF-22DE-43E2-85BC-71A2757B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6F52A-5E06-4C6C-8D5F-5CD108CD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BD794-E4F6-4B2C-B660-79119C0C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E636A-1D78-4E81-8933-6B3A849A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5FC42-90A4-426F-BDD5-D5A700FC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163E7-AA92-4865-9FC7-77F26A76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3F2-51F8-4A3A-8400-B6828F15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E75B4-AC06-4C0D-B323-8EC82285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CB686-85F4-4A27-84AF-5DE131F4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31677-14EE-471F-9207-E49E87A2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F0C7D-32FE-4D8E-8CA7-2A313644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7F9E7-119A-4331-8136-CDA432B6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060C7-20EE-48D2-A658-C3B543EB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E1AA1-EB95-4D7D-8EF0-B93E098F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08707-5BA0-4957-BCE2-12950F7D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CE288-4D38-47BD-975A-E557FD34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94CD5-F872-4F00-BC1C-CD971046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30EE-2B3F-47AC-8C8B-CF0D30EEE45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06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8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09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9467-39E2-494F-9BD3-CE951A8E9FA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1348-C646-440E-A32E-C1278113753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94B1-1C4B-4BEF-ADC7-92CA3A939F4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1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4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6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CE5A-F82B-4577-8357-0EF3F142D6A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4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8AC6-1093-481A-8CE6-2FEE31BCBC5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24B3-9CEE-4601-B7E4-60B5A3C91EA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74D4-C6BF-4A12-9131-D9A7433AF6B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1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A9D8-4267-4158-ABD5-ED8BDCC2BF5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21C3-37E5-4CB4-9565-0197DFD7622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okrugsveta.ru/img/cmn/2007/10/047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eta.delta-z.com/wp-content/2007/10/satellite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4/1249980/f_2841451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ed=1&amp;text=&#1086;&#1089;&#1074;&#1086;&#1077;&#1085;&#1080;&#1077;%20&#1082;&#1086;&#1089;&#1084;&#1086;&#1089;&#1072;%20&#1057;&#1057;&#1057;&#1056;&amp;p=172&amp;img_url=dozor.kharkov.ua%2Fcontent%2Fdocuments%2F10736%2F1073572%2Fimage%2F137608.jpeg&amp;rpt=simag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1"/>
          <p:cNvSpPr/>
          <p:nvPr/>
        </p:nvSpPr>
        <p:spPr>
          <a:xfrm>
            <a:off x="2144880" y="2786040"/>
            <a:ext cx="56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Lucida Sans Unicode"/>
              </a:rPr>
              <a:t>Начало космической эр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2"/>
          <p:cNvSpPr/>
          <p:nvPr/>
        </p:nvSpPr>
        <p:spPr>
          <a:xfrm>
            <a:off x="857160" y="7142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яя общеобразовательная школа № 8 с. Спасское Приморского кр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3"/>
          <p:cNvSpPr/>
          <p:nvPr/>
        </p:nvSpPr>
        <p:spPr>
          <a:xfrm>
            <a:off x="5715000" y="421488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Выполни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Ученик 6 А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Лактионов Макс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4"/>
          <p:cNvSpPr/>
          <p:nvPr/>
        </p:nvSpPr>
        <p:spPr>
          <a:xfrm>
            <a:off x="3774240" y="5857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2011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i-main-pic" descr="Картинка 42 из 678"/>
          <p:cNvPicPr/>
          <p:nvPr/>
        </p:nvPicPr>
        <p:blipFill>
          <a:blip r:embed="rId1"/>
          <a:stretch/>
        </p:blipFill>
        <p:spPr>
          <a:xfrm>
            <a:off x="285840" y="428760"/>
            <a:ext cx="4286160" cy="600048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4"/>
          <p:cNvSpPr/>
          <p:nvPr/>
        </p:nvSpPr>
        <p:spPr>
          <a:xfrm>
            <a:off x="4929120" y="714240"/>
            <a:ext cx="3857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12 апреля 1961 г. в 9 ч 07 мин по московскому времени в нескольких десятках километров северние поселка Тюратам в Казахстане на советском космодроме Байконур состоялся запуск межконтинентальной баллистической ракеты Р-7, в носовом отсеке котор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размещался пилотируемый космический корабль «Восток» с майором ВВС Юрием Алексеевичем Гагариным на борт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1"/>
          <p:cNvSpPr/>
          <p:nvPr/>
        </p:nvSpPr>
        <p:spPr>
          <a:xfrm>
            <a:off x="5072040" y="301680"/>
            <a:ext cx="3786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Запуск прошел успешно. Космический корабль был выведен на орбиту с наклонением 65 гр, высотой перигея 181 км и высотой апогея 327 к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и совершил один виток вокруг Земли за 89 мин. На 108-ой мин после запуска он вернулся на Землю, приземлившись в районе деревни Смеловка Саратовской области. Таким образом, спустя 4 года после выведения первого искусственного спутника Земли Советский Союз впервые в мире осуществил полет человека в космическое простран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i-main-pic" descr="Картинка 70 из 678"/>
          <p:cNvPicPr/>
          <p:nvPr/>
        </p:nvPicPr>
        <p:blipFill>
          <a:blip r:embed="rId1"/>
          <a:stretch/>
        </p:blipFill>
        <p:spPr>
          <a:xfrm>
            <a:off x="500040" y="428760"/>
            <a:ext cx="4470480" cy="3857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Прямоугольник 1"/>
          <p:cNvSpPr/>
          <p:nvPr/>
        </p:nvSpPr>
        <p:spPr>
          <a:xfrm>
            <a:off x="4357800" y="1285920"/>
            <a:ext cx="45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Космический корабль состоял из двух отсеков. Спускаемый аппарат, являющийся одновременно кабиной космонавта, представлял собой сферу диаметром 2,3 м, покрытую абляционным материалом для тепловой защиты при входе в атмосферу. Управление кораблем осуществлялось автоматически, а также космонавтом. В полете непрерывно поддерживалась с Земл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2" descr="Картинка 38 из 3663"/>
          <p:cNvPicPr/>
          <p:nvPr/>
        </p:nvPicPr>
        <p:blipFill>
          <a:blip r:embed="rId1"/>
          <a:stretch/>
        </p:blipFill>
        <p:spPr>
          <a:xfrm>
            <a:off x="428760" y="642960"/>
            <a:ext cx="3295440" cy="3809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1"/>
          <p:cNvSpPr/>
          <p:nvPr/>
        </p:nvSpPr>
        <p:spPr>
          <a:xfrm>
            <a:off x="2286000" y="13572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Lucida Sans Unicode"/>
              </a:rPr>
              <a:t>Через четыре недели после полета Гагарина 5 мая 1961 г. капитан 3-го ранга Алан Шепард стал первым американским астронавтом. Хотя он и не достиг околоземной орбиты, он поднялся над Землей на высоту около 186 км. Шепард запущеный с мыса Канаверал в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Lucida Sans Unicode"/>
              </a:rPr>
              <a:t>КК «Меркурий-3» с помощью модифицированной баллистической ракеты «Редстоун», провел в полете 15 мин 22 с до посадки в Атлантическом океан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1"/>
          <p:cNvSpPr/>
          <p:nvPr/>
        </p:nvSpPr>
        <p:spPr>
          <a:xfrm>
            <a:off x="4357800" y="714240"/>
            <a:ext cx="3929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4 октября 1957 г. СССР произвел запуск первого в мире искуственного спутника Земли. Первый советский спутник позволил впервые измерить плотность верхней атмосферы, получить данные о распространении радиосигналов в ионосфере, отработать вопросы выведения на орбиту, тепловой режим и др.Спутник представлял собой алюминиевую сферу диаметром 58 см и массой 83,6 кг с четыремя штыревыми антенами длинной 2,4-2,9 м.В герметичном корпусе спутника размещались аппаратура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и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источники электропитания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2" descr="Картинка 3 из 97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857160"/>
            <a:ext cx="3857400" cy="3743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Картинка 9 из 97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857160"/>
            <a:ext cx="6000840" cy="4643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1"/>
          <p:cNvSpPr/>
          <p:nvPr/>
        </p:nvSpPr>
        <p:spPr>
          <a:xfrm>
            <a:off x="2286000" y="1143000"/>
            <a:ext cx="5214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6 декабря 1957 г. в США была предпринята попытка запустить спутник «Авангард-1» с помощью ракеты-носителя,разработанной Исследовательской лабораторией ВМФ .После зажигания ракета поднялась над пусковым столом,однако через секунду двигател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выключились и ракета упала на стол,взорвавшись от удар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i-main-pic" descr="Картинка 31 из 6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1571760"/>
            <a:ext cx="4838400" cy="380988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1" descr="http://im4-tub.yandex.net/i?id=111717245-01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40" y="571680"/>
            <a:ext cx="2500200" cy="26431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4"/>
          <p:cNvSpPr/>
          <p:nvPr/>
        </p:nvSpPr>
        <p:spPr>
          <a:xfrm>
            <a:off x="3500280" y="4298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Calibri"/>
              </a:rPr>
              <a:t>20 августа 19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Прямоугольник 4"/>
          <p:cNvSpPr/>
          <p:nvPr/>
        </p:nvSpPr>
        <p:spPr>
          <a:xfrm>
            <a:off x="142920" y="3571920"/>
            <a:ext cx="350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полет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Белки и Стрелки </a:t>
            </a: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прошел уда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"/>
          <p:cNvSpPr/>
          <p:nvPr/>
        </p:nvSpPr>
        <p:spPr>
          <a:xfrm>
            <a:off x="857160" y="809640"/>
            <a:ext cx="7072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До того, как исторический полет Белки и Стрелки прошел удачно, погибли восемнадцать собак. Так, 22 июля 1951 года дворняжки Дерик и Цыган отправились в стратосферу - обе благополучно десантировались на парашютах. Но во время второго испытания Дерик и его партнерша Лиса погибли - не раскрылись парашюты. Цыгана больше в полет не отправляли - сохранили для истор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i-main-pic" descr="Картинка 37 из 678"/>
          <p:cNvPicPr/>
          <p:nvPr/>
        </p:nvPicPr>
        <p:blipFill>
          <a:blip r:embed="rId1"/>
          <a:stretch/>
        </p:blipFill>
        <p:spPr>
          <a:xfrm>
            <a:off x="500040" y="285840"/>
            <a:ext cx="3857760" cy="3429000"/>
          </a:xfrm>
          <a:prstGeom prst="rect">
            <a:avLst/>
          </a:prstGeom>
          <a:ln w="0">
            <a:noFill/>
          </a:ln>
        </p:spPr>
      </p:pic>
      <p:pic>
        <p:nvPicPr>
          <p:cNvPr id="466" name="i-main-pic" descr="Картинка 48 из 678"/>
          <p:cNvPicPr/>
          <p:nvPr/>
        </p:nvPicPr>
        <p:blipFill>
          <a:blip r:embed="rId2"/>
          <a:stretch/>
        </p:blipFill>
        <p:spPr>
          <a:xfrm>
            <a:off x="214200" y="2786040"/>
            <a:ext cx="4838760" cy="380988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4"/>
          <p:cNvSpPr/>
          <p:nvPr/>
        </p:nvSpPr>
        <p:spPr>
          <a:xfrm>
            <a:off x="4429080" y="1071720"/>
            <a:ext cx="45720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ноября 1957г. Советский Союз сообщил о выведении на орбиту второг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тского спутника. В отдельной герметической кабине находились собака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Лайк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телеметрическая система для регистрации ее поведении в невесомости. Спутник был также снабжен научными приборами для исследования излучения Солнца и космических лучей.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5"/>
          <p:cNvSpPr/>
          <p:nvPr/>
        </p:nvSpPr>
        <p:spPr>
          <a:xfrm>
            <a:off x="5610960" y="600084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Собачка умерла от жа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Прямоугольник 1"/>
          <p:cNvSpPr/>
          <p:nvPr/>
        </p:nvSpPr>
        <p:spPr>
          <a:xfrm>
            <a:off x="2214720" y="500040"/>
            <a:ext cx="5786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8 июля 1960 года на 19-й секунде полета у ракеты с кораблем "Восток" отвалился боковой блок, она упала и взорвалась. В катастрофе погибли собаки Чайка и Лисичка. Их дублеры Белка и Стрелка летели на следующем космическом корабле. После них - 1 декабря 1960 года - в космос отправились Пчелка и Мушка: они погибли от удушья и жары после того, как их корабль из-за сбоя тормозной системы перешел на более высокую орбиту. Последней в космосе за три недели до старта Юрия Гагарина побывала Звездоч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рямоугольник 1"/>
          <p:cNvSpPr/>
          <p:nvPr/>
        </p:nvSpPr>
        <p:spPr>
          <a:xfrm>
            <a:off x="1714680" y="221472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Lucida Sans Unicode"/>
              </a:rPr>
              <a:t>Человек в космо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4:41:17Z</dcterms:created>
  <dc:creator>ттттт</dc:creator>
  <dc:description/>
  <dc:language>en-US</dc:language>
  <cp:lastModifiedBy>ттттт</cp:lastModifiedBy>
  <dcterms:modified xsi:type="dcterms:W3CDTF">2011-04-11T04:56:53Z</dcterms:modified>
  <cp:revision>10</cp:revision>
  <dc:subject/>
  <dc:title>Слайд 1</dc:title>
</cp:coreProperties>
</file>