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B73-2F74-47A0-92D9-5AE27279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16E8-21D6-4980-AF6A-A383D01A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A1A6-70AE-4492-B755-2514D126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D49-7422-4055-B8CE-88FD93E8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9160-9850-4EDD-B545-A91978C7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66E8-B299-47A5-9376-984F072B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B91F-B880-4E16-8610-99A2E122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1A7B-69D6-4EFA-8C0F-A2EE1F4F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D57F-7A77-4A93-B0C6-37E3FEDA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A551-CDE3-438C-9C26-B15F8CA7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4B8C-96E6-4653-88CF-9DD2773F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8B5-4D75-4497-AEB7-BC150D40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6DD0-476D-4643-BC40-4F658699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20A2-CDF0-4A5B-86BA-AA7E3B38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44A2-7B4A-4BF3-8971-5C3404F0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5775-B451-4E8B-ABA3-FF1B654B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A55D-E42B-4FFE-93EC-2BA96E4D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2E34-4C0A-4947-B37F-892E9564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29D7-877F-4D2E-8DE9-1DC09DFE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E296-6D29-4346-9453-C349DA1B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95D4-F29C-441E-BD23-B072DA6F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5B9A-5548-421A-AA4C-A8D9CBDC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011-9D9D-48E7-A5B5-A758D0C6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82FE-0B9B-4760-AA6D-0767DB73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EB19-380E-450F-9E14-259C8D41A5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B071-53FE-4223-ABDC-CDF3E0724F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Григорий Распутин: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вятой или дьяво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7192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ц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класса,  МОУ СОШ № 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Усолье-Сибирск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ленникова Натал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Огромная жизненная сила этого сибирского мужика позволяла ему творить чудеса.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0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2195640" y="2060640"/>
            <a:ext cx="2985840" cy="3384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Святой старец Григорий Распутин"/>
          <p:cNvPicPr/>
          <p:nvPr/>
        </p:nvPicPr>
        <p:blipFill>
          <a:blip r:embed="rId2"/>
          <a:stretch/>
        </p:blipFill>
        <p:spPr>
          <a:xfrm>
            <a:off x="5219640" y="1773360"/>
            <a:ext cx="37386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Редкие фотографии Распутин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3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2484360" y="4581360"/>
            <a:ext cx="3168720" cy="2075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Святой старец Григорий Распутин"/>
          <p:cNvPicPr/>
          <p:nvPr/>
        </p:nvPicPr>
        <p:blipFill>
          <a:blip r:embed="rId2"/>
          <a:stretch/>
        </p:blipFill>
        <p:spPr>
          <a:xfrm>
            <a:off x="5940360" y="4581360"/>
            <a:ext cx="2879640" cy="2095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Святой старец Григорий Распутин"/>
          <p:cNvPicPr/>
          <p:nvPr/>
        </p:nvPicPr>
        <p:blipFill>
          <a:blip r:embed="rId3"/>
          <a:stretch/>
        </p:blipFill>
        <p:spPr>
          <a:xfrm>
            <a:off x="2268360" y="1268280"/>
            <a:ext cx="2321280" cy="3197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Святой старец Григорий Распутин"/>
          <p:cNvPicPr/>
          <p:nvPr/>
        </p:nvPicPr>
        <p:blipFill>
          <a:blip r:embed="rId4"/>
          <a:stretch/>
        </p:blipFill>
        <p:spPr>
          <a:xfrm>
            <a:off x="4643280" y="1268280"/>
            <a:ext cx="2148120" cy="3140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Святой старец Григорий Распутин"/>
          <p:cNvPicPr/>
          <p:nvPr/>
        </p:nvPicPr>
        <p:blipFill>
          <a:blip r:embed="rId5"/>
          <a:stretch/>
        </p:blipFill>
        <p:spPr>
          <a:xfrm>
            <a:off x="6877080" y="1268280"/>
            <a:ext cx="211752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539640" y="3948120"/>
            <a:ext cx="3961080" cy="2397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Святой старец Григорий Распутин"/>
          <p:cNvPicPr/>
          <p:nvPr/>
        </p:nvPicPr>
        <p:blipFill>
          <a:blip r:embed="rId2"/>
          <a:stretch/>
        </p:blipFill>
        <p:spPr>
          <a:xfrm>
            <a:off x="5076720" y="3933720"/>
            <a:ext cx="3808440" cy="2413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Святой старец Григорий Распутин"/>
          <p:cNvPicPr/>
          <p:nvPr/>
        </p:nvPicPr>
        <p:blipFill>
          <a:blip r:embed="rId3"/>
          <a:stretch/>
        </p:blipFill>
        <p:spPr>
          <a:xfrm>
            <a:off x="3203640" y="333360"/>
            <a:ext cx="362412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2195640" y="2565360"/>
            <a:ext cx="2993760" cy="4103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Святой старец Григорий Распутин"/>
          <p:cNvPicPr/>
          <p:nvPr/>
        </p:nvPicPr>
        <p:blipFill>
          <a:blip r:embed="rId2"/>
          <a:stretch/>
        </p:blipFill>
        <p:spPr>
          <a:xfrm>
            <a:off x="5292720" y="2565360"/>
            <a:ext cx="3737160" cy="4103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Святой старец Григорий Распутин"/>
          <p:cNvPicPr/>
          <p:nvPr/>
        </p:nvPicPr>
        <p:blipFill>
          <a:blip r:embed="rId3"/>
          <a:stretch/>
        </p:blipFill>
        <p:spPr>
          <a:xfrm>
            <a:off x="4643280" y="189000"/>
            <a:ext cx="1789200" cy="2340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Святой старец Григорий Распутин"/>
          <p:cNvPicPr/>
          <p:nvPr/>
        </p:nvPicPr>
        <p:blipFill>
          <a:blip r:embed="rId4"/>
          <a:stretch/>
        </p:blipFill>
        <p:spPr>
          <a:xfrm>
            <a:off x="6877080" y="189000"/>
            <a:ext cx="1773360" cy="2303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Святой старец Григорий Распутин"/>
          <p:cNvPicPr/>
          <p:nvPr/>
        </p:nvPicPr>
        <p:blipFill>
          <a:blip r:embed="rId5"/>
          <a:stretch/>
        </p:blipFill>
        <p:spPr>
          <a:xfrm>
            <a:off x="2411280" y="189000"/>
            <a:ext cx="178272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Убийство Григория Распутин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7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3492360" y="4149720"/>
            <a:ext cx="4608720" cy="2365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Святой старец Григорий Распутин"/>
          <p:cNvPicPr/>
          <p:nvPr/>
        </p:nvPicPr>
        <p:blipFill>
          <a:blip r:embed="rId2"/>
          <a:stretch/>
        </p:blipFill>
        <p:spPr>
          <a:xfrm>
            <a:off x="2340000" y="1628640"/>
            <a:ext cx="3240000" cy="2262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Святой старец Григорий Распутин"/>
          <p:cNvPicPr/>
          <p:nvPr/>
        </p:nvPicPr>
        <p:blipFill>
          <a:blip r:embed="rId3"/>
          <a:stretch/>
        </p:blipFill>
        <p:spPr>
          <a:xfrm>
            <a:off x="5796000" y="1700280"/>
            <a:ext cx="3168720" cy="21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ичисление к лику святых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1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3564000" y="1628640"/>
            <a:ext cx="371772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Григорий Распутин с цесаревичем Алексее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3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2556000" y="1916280"/>
            <a:ext cx="3346200" cy="462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Святой старец Григорий Распутин"/>
          <p:cNvPicPr/>
          <p:nvPr/>
        </p:nvPicPr>
        <p:blipFill>
          <a:blip r:embed="rId2"/>
          <a:stretch/>
        </p:blipFill>
        <p:spPr>
          <a:xfrm>
            <a:off x="6012000" y="1916280"/>
            <a:ext cx="28987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340000" y="404640"/>
            <a:ext cx="6400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ория знает немало темно-загадочных  личностей,  чьи  имена  окутаны густым флером глубоких тайн и разноречивых домыслов. В начале, теперь уже прошлого века, когда  наступила заключительная  фаза  российской  монархии, когда политическое, государственное и моральное разложение приняло нормы трагической вакханалии среди мрака и хаоса, окутавших страну, такой скандальной фигурой был Григорий Распут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340000" y="1047960"/>
            <a:ext cx="403236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Григорий Распутин - святой и дьявол, живший как вулкан, как ветер, праведно внутри,  но в оболочке страшного греха" -  писал  Эдвард Радзинский о великом «старце». Пожалуй, в мире не найдется человека, который никогда не слышал бы имени Распутин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6372360" y="1052640"/>
            <a:ext cx="22096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2268360" y="1197000"/>
            <a:ext cx="3426120" cy="5040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588000" y="5493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43640" y="3716280"/>
            <a:ext cx="24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24360" y="1052640"/>
            <a:ext cx="320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звище Распутин, которым скоро наградили молодого Григория его товарищи, очень характерно для этого периода его жизни и является пророческим для позднейшего времени. Это выражение, производное от слова "распутник", на языке крестьян означает: "развратник", "сладострастник", "юбочник". Не раз жестоко колотили его отцы семейств, неоднократно по приказанию исправника даже наказывали его публично кну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Григорий Распутин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11280" y="54936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Григорий Распутин среди сельчан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7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2195640" y="2205000"/>
            <a:ext cx="67323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ГРИГОРИЙ РАСПУТИН. ФОТОГРАФИЯ ИЗ ЛИЧНОГО АЛЬБОМА ИМПЕРАТРИЦЫ АЛЕКСАНДРЫ ФЕДОРОВНЫ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9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4006800" y="1600200"/>
            <a:ext cx="326232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2195640" y="476280"/>
            <a:ext cx="1912680" cy="2808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Святой старец Григорий Распутин"/>
          <p:cNvPicPr/>
          <p:nvPr/>
        </p:nvPicPr>
        <p:blipFill>
          <a:blip r:embed="rId2"/>
          <a:stretch/>
        </p:blipFill>
        <p:spPr>
          <a:xfrm>
            <a:off x="2124000" y="3789360"/>
            <a:ext cx="1886040" cy="2755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Святой старец Григорий Распутин"/>
          <p:cNvPicPr/>
          <p:nvPr/>
        </p:nvPicPr>
        <p:blipFill>
          <a:blip r:embed="rId3"/>
          <a:stretch/>
        </p:blipFill>
        <p:spPr>
          <a:xfrm>
            <a:off x="7093080" y="692280"/>
            <a:ext cx="1850760" cy="2836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Святой старец Григорий Распутин"/>
          <p:cNvPicPr/>
          <p:nvPr/>
        </p:nvPicPr>
        <p:blipFill>
          <a:blip r:embed="rId4"/>
          <a:stretch/>
        </p:blipFill>
        <p:spPr>
          <a:xfrm>
            <a:off x="7091280" y="3716280"/>
            <a:ext cx="1871640" cy="2808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Святой старец Григорий Распутин"/>
          <p:cNvPicPr/>
          <p:nvPr/>
        </p:nvPicPr>
        <p:blipFill>
          <a:blip r:embed="rId5"/>
          <a:stretch/>
        </p:blipFill>
        <p:spPr>
          <a:xfrm>
            <a:off x="4140360" y="2492280"/>
            <a:ext cx="2857320" cy="21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Распутин в кругу семь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6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3348000" y="1413000"/>
            <a:ext cx="450360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Распутин в кругу семь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8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2556000" y="1844640"/>
            <a:ext cx="6192720" cy="454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4:24:07Z</dcterms:created>
  <dc:creator>Пользователь</dc:creator>
  <dc:description/>
  <dc:language>en-US</dc:language>
  <cp:lastModifiedBy>Пользователь</cp:lastModifiedBy>
  <dcterms:modified xsi:type="dcterms:W3CDTF">2007-01-22T12:50:01Z</dcterms:modified>
  <cp:revision>4</cp:revision>
  <dc:subject/>
  <dc:title>Григорий Распутин</dc:title>
</cp:coreProperties>
</file>