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A8B-884F-4204-9E07-95B222A8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CF4-4A6A-4764-9EBB-8A94D03B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B6E-62A8-4A21-B8B1-D1336604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965-3C96-484E-A304-E3BD8F3D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37C5-4EAA-4F61-9781-D2FDE786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608-97CE-4428-8EFA-9180D4AD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6BE5-D7D3-440E-B506-0695558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00F-F3E8-4541-8CCD-78BB6FE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ADE-79AF-4925-8F6E-6222D47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8A8-8EEE-40CF-A833-5A27FA1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2D44-C421-46AD-AC3C-ADEDD9D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5DC-7D44-4E1A-8080-F5F63B7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80FF-D00E-41DF-9856-4EF51F4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D054-21C8-4BF6-8ECE-E93B6A2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8E98-B3BA-4C36-AE84-9472B1CC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F8B-E880-4003-A7EF-7FDFD8D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2FC1-0AC0-4C0B-A077-D219D2E2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022-6AF6-4FED-A249-9F33F46E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28B-95C2-4CB5-86BA-C155798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0A6-600D-4DB5-9062-656F8DE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7C2-FA62-4050-A6E6-DD1DD0A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166-0DA0-4F48-9AB2-ED6EADC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E33-7461-456C-98CA-B2F8664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928-75C6-4200-9FCD-FA222843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AA60-E70D-4707-845B-57515ACBD6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F2C-159C-4847-89AD-A70D60BBF3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Григорий Распутин: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вятой или дьяво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7192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класса,  МОУ СОШ № 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Усолье-Сибирск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ленникова Натал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Огромная жизненная сила этого сибирского мужика позволяла ему творить чудеса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060640"/>
            <a:ext cx="2985840" cy="3384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19640" y="1773360"/>
            <a:ext cx="373860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едкие фотографии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484360" y="4581360"/>
            <a:ext cx="3168720" cy="207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940360" y="4581360"/>
            <a:ext cx="2879640" cy="209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2268360" y="1268280"/>
            <a:ext cx="2321280" cy="3197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4643280" y="1268280"/>
            <a:ext cx="2148120" cy="314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6877080" y="1268280"/>
            <a:ext cx="2117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539640" y="3948120"/>
            <a:ext cx="3961080" cy="239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076720" y="3933720"/>
            <a:ext cx="3808440" cy="24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3203640" y="333360"/>
            <a:ext cx="3624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565360"/>
            <a:ext cx="2993760" cy="410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5292720" y="2565360"/>
            <a:ext cx="3737160" cy="4103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4643280" y="189000"/>
            <a:ext cx="1789200" cy="23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6877080" y="189000"/>
            <a:ext cx="177336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2411280" y="189000"/>
            <a:ext cx="17827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бийство Григория Распутин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492360" y="4149720"/>
            <a:ext cx="4608720" cy="236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340000" y="1628640"/>
            <a:ext cx="3240000" cy="2262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5796000" y="1700280"/>
            <a:ext cx="31687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ичисление к лику святы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564000" y="1628640"/>
            <a:ext cx="37177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 цесаревичем Алексее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916280"/>
            <a:ext cx="3346200" cy="462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6012000" y="1916280"/>
            <a:ext cx="2898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40000" y="404640"/>
            <a:ext cx="6400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рия знает немало темно-загадочных  личностей,  чьи  имена  окутаны густым флером глубоких тайн и разноречивых домыслов. В начале, теперь уже прошлого века, когда  наступила заключительная  фаза  российской  монархии, когда политическое, государственное и моральное разложение приняло нормы трагической вакханалии среди мрака и хаоса, окутавших страну, такой скандальной фигурой был Григорий Распут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40000" y="1047960"/>
            <a:ext cx="40323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Григорий Распутин - святой и дьявол, живший как вулкан, как ветер, праведно внутри,  но в оболочке страшного греха" -  писал  Эдвард Радзинский о великом «старце». Пожалуй, в мире не найдется человека, который никогда не слышал бы имени Распутин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6372360" y="1052640"/>
            <a:ext cx="2209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268360" y="1197000"/>
            <a:ext cx="3426120" cy="504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88000" y="549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640" y="371628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24360" y="1052640"/>
            <a:ext cx="320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вище Распутин, которым скоро наградили молодого Григория его товарищи, очень характерно для этого периода его жизни и является пророческим для позднейшего времени. Это выражение, производное от слова "распутник", на языке крестьян означает: "развратник", "сладострастник", "юбочник". Не раз жестоко колотили его отцы семейств, неоднократно по приказанию исправника даже наказывали его публично кну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549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ригорий Распутин среди сельча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2205000"/>
            <a:ext cx="6732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ГРИГОРИЙ РАСПУТИН. ФОТОГРАФИЯ ИЗ ЛИЧНОГО АЛЬБОМА ИМПЕРАТРИЦЫ АЛЕКСАНДРЫ ФЕДОРОВНЫ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9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4006800" y="1600200"/>
            <a:ext cx="32623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195640" y="476280"/>
            <a:ext cx="1912680" cy="2808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вятой старец Григорий Распутин"/>
          <p:cNvPicPr/>
          <p:nvPr/>
        </p:nvPicPr>
        <p:blipFill>
          <a:blip r:embed="rId2"/>
          <a:stretch/>
        </p:blipFill>
        <p:spPr>
          <a:xfrm>
            <a:off x="2124000" y="3789360"/>
            <a:ext cx="1886040" cy="275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Святой старец Григорий Распутин"/>
          <p:cNvPicPr/>
          <p:nvPr/>
        </p:nvPicPr>
        <p:blipFill>
          <a:blip r:embed="rId3"/>
          <a:stretch/>
        </p:blipFill>
        <p:spPr>
          <a:xfrm>
            <a:off x="7093080" y="692280"/>
            <a:ext cx="1850760" cy="2836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Святой старец Григорий Распутин"/>
          <p:cNvPicPr/>
          <p:nvPr/>
        </p:nvPicPr>
        <p:blipFill>
          <a:blip r:embed="rId4"/>
          <a:stretch/>
        </p:blipFill>
        <p:spPr>
          <a:xfrm>
            <a:off x="7091280" y="371628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Святой старец Григорий Распутин"/>
          <p:cNvPicPr/>
          <p:nvPr/>
        </p:nvPicPr>
        <p:blipFill>
          <a:blip r:embed="rId5"/>
          <a:stretch/>
        </p:blipFill>
        <p:spPr>
          <a:xfrm>
            <a:off x="4140360" y="2492280"/>
            <a:ext cx="285732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3348000" y="1413000"/>
            <a:ext cx="45036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Распутин в кругу семь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Святой старец Григорий Распутин"/>
          <p:cNvPicPr/>
          <p:nvPr/>
        </p:nvPicPr>
        <p:blipFill>
          <a:blip r:embed="rId1"/>
          <a:stretch/>
        </p:blipFill>
        <p:spPr>
          <a:xfrm>
            <a:off x="2556000" y="1844640"/>
            <a:ext cx="6192720" cy="454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24:07Z</dcterms:created>
  <dc:creator>Пользователь</dc:creator>
  <dc:description/>
  <dc:language>en-US</dc:language>
  <cp:lastModifiedBy>Пользователь</cp:lastModifiedBy>
  <dcterms:modified xsi:type="dcterms:W3CDTF">2007-01-22T12:50:01Z</dcterms:modified>
  <cp:revision>4</cp:revision>
  <dc:subject/>
  <dc:title>Григорий Распутин</dc:title>
</cp:coreProperties>
</file>