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1C4-5408-48D4-9DAE-F10C2A25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443-3234-4E96-B596-05D64E1A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FB5-EA38-4584-86DA-6001A47C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3C2-23CC-4699-91AC-56CB212D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0227-1023-45D6-AC21-07FCC7F5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D9C-4B1D-4139-9D83-3BE9BE5B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41C-143B-41FF-8B76-4782518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5677-4C5D-4437-BC38-3D4F8EF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BBA-21E9-425E-9A75-62B8412C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8B2D-5C40-4E44-AD19-7B1B76F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4BF5-9AD9-4932-90FE-9EAFF75F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8F7-199B-4D2B-902D-2FEDB64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29F8-F73F-4529-9B0C-3A084A1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D8E2-F38B-430F-9D4D-6AB44CA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B3C-80F8-43FD-92EF-C730198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51E1-D20D-439A-A7AA-E7F0AEEC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52A9-62B6-4373-BF6F-FD14C452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FA7-44D1-4399-B3A6-DA292BE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660-EB76-4A28-B8CF-63D4A095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5AD-F71E-4E94-8BCB-CD35299B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F5D-8769-459C-8202-181146C3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A79-736B-4E58-9EAA-46473F9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8C7-8329-43C2-BDD6-0E28259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280-295D-4803-A05B-6F7ABBE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666-3951-4B54-85D0-7C6C44A2D1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20D-DA41-47DF-AFF3-B6D079F9C9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ригорий Распутин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вятой или дьяво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7192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класса,  МОУ СОШ №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Усолье-Сибир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енникова Натал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Огромная жизненная сила этого сибирского мужика позволяла ему творить чудеса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060640"/>
            <a:ext cx="2985840" cy="33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19640" y="1773360"/>
            <a:ext cx="3738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дкие фотографии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484360" y="4581360"/>
            <a:ext cx="3168720" cy="207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940360" y="4581360"/>
            <a:ext cx="2879640" cy="209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2268360" y="1268280"/>
            <a:ext cx="2321280" cy="319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4643280" y="1268280"/>
            <a:ext cx="2148120" cy="314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6877080" y="1268280"/>
            <a:ext cx="2117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539640" y="3948120"/>
            <a:ext cx="3961080" cy="239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076720" y="3933720"/>
            <a:ext cx="380844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3203640" y="333360"/>
            <a:ext cx="3624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565360"/>
            <a:ext cx="2993760" cy="410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92720" y="2565360"/>
            <a:ext cx="3737160" cy="410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4643280" y="18900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6877080" y="189000"/>
            <a:ext cx="177336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2411280" y="189000"/>
            <a:ext cx="1782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бийство Григория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492360" y="4149720"/>
            <a:ext cx="4608720" cy="236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340000" y="1628640"/>
            <a:ext cx="3240000" cy="226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5796000" y="1700280"/>
            <a:ext cx="31687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числение к лику святы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564000" y="1628640"/>
            <a:ext cx="37177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 цесаревичем Алексе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916280"/>
            <a:ext cx="3346200" cy="462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6012000" y="1916280"/>
            <a:ext cx="2898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40000" y="404640"/>
            <a:ext cx="6400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знает немало темно-загадочных  личностей,  чьи  имена  окутаны густым флером глубоких тайн и разноречивых домыслов. В начале, теперь уже прошлого века, когда  наступила заключительная  фаза  российской  монархии, когда политическое, государственное и моральное разложение приняло нормы трагической вакханалии среди мрака и хаоса, окутавших страну, такой скандальной фигурой был Григорий Распу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40000" y="1047960"/>
            <a:ext cx="4032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Григорий Распутин - святой и дьявол, живший как вулкан, как ветер, праведно внутри,  но в оболочке страшного греха" -  писал  Эдвард Радзинский о великом «старце». Пожалуй, в мире не найдется человека, который никогда не слышал бы имени Распути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6372360" y="105264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268360" y="1197000"/>
            <a:ext cx="342612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88000" y="549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71628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1052640"/>
            <a:ext cx="32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вище Распутин, которым скоро наградили молодого Григория его товарищи, очень характерно для этого периода его жизни и является пророческим для позднейшего времени. Это выражение, производное от слова "распутник", на языке крестьян означает: "развратник", "сладострастник", "юбочник". Не раз жестоко колотили его отцы семейств, неоднократно по приказанию исправника даже наказывали его публично кну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549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реди сельча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205000"/>
            <a:ext cx="6732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ГРИГОРИЙ РАСПУТИН. ФОТОГРАФИЯ ИЗ ЛИЧНОГО АЛЬБОМА ИМПЕРАТРИЦЫ АЛЕКСАНДРЫ ФЕДОРОВНЫ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4006800" y="1600200"/>
            <a:ext cx="3262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476280"/>
            <a:ext cx="191268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124000" y="3789360"/>
            <a:ext cx="1886040" cy="27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7093080" y="692280"/>
            <a:ext cx="1850760" cy="283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7091280" y="37162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4140360" y="2492280"/>
            <a:ext cx="285732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348000" y="1413000"/>
            <a:ext cx="4503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844640"/>
            <a:ext cx="61927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24:07Z</dcterms:created>
  <dc:creator>Пользователь</dc:creator>
  <dc:description/>
  <dc:language>en-US</dc:language>
  <cp:lastModifiedBy>Пользователь</cp:lastModifiedBy>
  <dcterms:modified xsi:type="dcterms:W3CDTF">2007-01-22T12:50:01Z</dcterms:modified>
  <cp:revision>4</cp:revision>
  <dc:subject/>
  <dc:title>Григорий Распутин</dc:title>
</cp:coreProperties>
</file>