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8FA3-5243-4F67-85FF-D5130D15D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F4EE-09B2-4574-8035-3D4770877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80EE-71BB-491A-B179-AFF28483F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2E37-7A42-475C-B27F-8871BD6CB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0628-08CE-4A62-9712-11D4D2946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38C6-3762-42C4-99FD-5045CFFE7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22BA-3EC3-404D-863C-34E75CBF2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9A68-5B8C-4934-9719-F1E01E518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3037-54DC-4AB1-8244-AB3790E76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F556-1403-4900-A04D-DA449DC7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C834-56CB-4EC1-B5A2-29FEA2F5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B5D4-73D3-47F0-854E-A67162C1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1EE72-08F2-47D9-B42C-64E328B70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00000" y="4437000"/>
            <a:ext cx="74170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ословная монархи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 средневековой Европ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68360" y="1557360"/>
            <a:ext cx="788508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 Во Франции только один король"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                  </a:t>
            </a: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юдовик lX (1226 - 1270)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24000" y="3429000"/>
            <a:ext cx="835344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кладывается единый для всей страны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рядок управления, суда, 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бора налогов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116000" y="549360"/>
            <a:ext cx="669780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ранц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258920" y="189000"/>
            <a:ext cx="7273800" cy="13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Филипп lV Красивый (1285 - 1314)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11280" y="1700280"/>
            <a:ext cx="2590560" cy="288108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49" name=""/>
          <p:cNvSpPr txBox="1"/>
          <p:nvPr/>
        </p:nvSpPr>
        <p:spPr>
          <a:xfrm>
            <a:off x="3635280" y="1484280"/>
            <a:ext cx="5256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силение 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ролевской власти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 Франции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484360" y="4292640"/>
            <a:ext cx="59040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1302 году созвал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енеральные штаты, 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уждаясь в поддержке подданных.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067280" y="4797360"/>
            <a:ext cx="144144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1332000" y="333360"/>
            <a:ext cx="6481800" cy="112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енеральные штаты -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755640" y="1484280"/>
            <a:ext cx="741672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обрание представителей от трех сословий,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которые обсуждали государственные дел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и утверждали законы, предложенные королем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763640" y="3429000"/>
            <a:ext cx="6048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ословная монархия -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900000" y="4724280"/>
            <a:ext cx="7634520" cy="158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государство, в которо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королевская власть опиралас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на собрание представителей сослов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324000" y="1916280"/>
            <a:ext cx="2523960" cy="28080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61" name=""/>
          <p:cNvSpPr txBox="1"/>
          <p:nvPr/>
        </p:nvSpPr>
        <p:spPr>
          <a:xfrm>
            <a:off x="1042920" y="260280"/>
            <a:ext cx="7129440" cy="89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нгл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132000" y="1628640"/>
            <a:ext cx="5688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Генрих 2 Плантаген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( 1154 - 1189)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132000" y="4005360"/>
            <a:ext cx="583272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силение 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ролевской власти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Англии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2627280" y="333360"/>
            <a:ext cx="626436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Иоанн Безземельны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( 1167 - 1216 )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611280" y="1268280"/>
            <a:ext cx="2289240" cy="2548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539640" y="4292640"/>
            <a:ext cx="8172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еликая хартия вольностей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140360" y="2565360"/>
            <a:ext cx="309708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15 г.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3168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900000" y="2924280"/>
            <a:ext cx="7634520" cy="10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арламент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635280" y="1341360"/>
            <a:ext cx="4608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265 год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403280" y="4221000"/>
            <a:ext cx="7129440" cy="218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собрание представителей от  сословий,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которые обсуждали государственные дел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и утверждали законы, предложенные королем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755640" y="333360"/>
            <a:ext cx="2155680" cy="239868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sp>
        <p:nvSpPr>
          <p:cNvPr id="76" name=""/>
          <p:cNvSpPr txBox="1"/>
          <p:nvPr/>
        </p:nvSpPr>
        <p:spPr>
          <a:xfrm>
            <a:off x="3419640" y="189000"/>
            <a:ext cx="4608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Эдуард 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883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1258920" y="333360"/>
            <a:ext cx="72007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 появлением парламента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в Англии складывается сословная монархия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2195640" y="2205000"/>
            <a:ext cx="5016240" cy="401328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23640" y="1052640"/>
            <a:ext cx="8569080" cy="5184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С 12 века в наиболее развитых странах Западной Европы начинается процесс объединения и централизации страны вокруг королевской вла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Добиваясь централизации, короли преодолевали сопротивление феодалов. При этом короли опирались на поддержку широких слоёв общ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На определенном этапе централизации возникает сословная монархия, в которой королевская власть опирается на собрание представителей сослов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В Англии и Франции уже к 14 веку процесс централизации практически завершил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692360" y="260280"/>
            <a:ext cx="6192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дведем итоги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18:44:14Z</dcterms:created>
  <dc:creator>Елена</dc:creator>
  <dc:description/>
  <dc:language>en-US</dc:language>
  <cp:lastModifiedBy>Admin</cp:lastModifiedBy>
  <dcterms:modified xsi:type="dcterms:W3CDTF">2011-04-01T09:59:40Z</dcterms:modified>
  <cp:revision>3</cp:revision>
  <dc:subject/>
  <dc:title>Слайд 1</dc:title>
</cp:coreProperties>
</file>