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584-1F50-401A-A794-1C3D3C49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B1D-A8C4-4526-A0AA-458371E9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DFE-1624-438F-BB7A-6B0AFFB2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F46-0B39-40FF-B947-C2D29675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B6C-F6ED-4993-9445-B267E26A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25B-969F-4CB0-9E4A-8A51DA7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0C3-86B6-4D18-AFD4-4A563849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2EA-BAC6-4744-811B-AF7AFAC5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120-5E65-4F34-9E07-6A91379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AFE-40DE-4229-9FDB-60751EA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D6A-A401-44CA-876F-E563EF99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758-C104-4E4E-9BB5-9D84F99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8E3-3A68-4059-AE78-4CA2077A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4437000"/>
            <a:ext cx="7417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словная монарх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средневековой Европ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1557360"/>
            <a:ext cx="788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о Франции только один король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довик lX (1226 - 1270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3429000"/>
            <a:ext cx="83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ладывается единый для всей страны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рядок управления, суда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бора налогов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549360"/>
            <a:ext cx="669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ран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8920" y="189000"/>
            <a:ext cx="727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Филипп lV Красивый (1285 - 1314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590560" cy="2881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635280" y="1484280"/>
            <a:ext cx="525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илени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ской власт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 Франц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429264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1302 году созвал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неральные штаты,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ждаясь в поддержке подданных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4797360"/>
            <a:ext cx="14414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332000" y="333360"/>
            <a:ext cx="64818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неральные штаты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148428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брание представителей от трех сослов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торые обсуждали государственные де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утверждали законы, предложенные короле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640" y="34290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ловная монархия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4724280"/>
            <a:ext cx="763452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осударство, в котор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ролевская власть опирала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собрание представителей сослов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2523960" cy="2808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1042920" y="260280"/>
            <a:ext cx="71294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гл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32000" y="1628640"/>
            <a:ext cx="568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енрих 2 Плантаге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 1154 - 1189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4005360"/>
            <a:ext cx="58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илени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ской власт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Англ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627280" y="333360"/>
            <a:ext cx="6264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оанн Безземе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 1167 - 1216 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2289240" cy="254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4292640"/>
            <a:ext cx="817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икая хартия вольност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40360" y="2565360"/>
            <a:ext cx="3097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15 г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00000" y="2924280"/>
            <a:ext cx="76345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ламен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35280" y="1341360"/>
            <a:ext cx="46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65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3280" y="4221000"/>
            <a:ext cx="7129440" cy="21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обрание представителей от  сослов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ые обсуждали государственные де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и утверждали законы, предложенные короле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2155680" cy="23986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3419640" y="189000"/>
            <a:ext cx="46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дуард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258920" y="33336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явлением парламен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Англии складывается сословная монарх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95640" y="2205000"/>
            <a:ext cx="5016240" cy="4013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18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 12 века в наиболее развитых странах Западной Европы начинается процесс объединения и централизации страны вокруг королев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обиваясь централизации, короли преодолевали сопротивление феодалов. При этом короли опирались на поддержку широких слоёв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а определенном этапе централизации возникает сословная монархия, в которой королевская власть опирается на собрание представителей сосло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Англии и Франции уже к 14 веку процесс централизации практически заверш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26028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44:14Z</dcterms:created>
  <dc:creator>Елена</dc:creator>
  <dc:description/>
  <dc:language>en-US</dc:language>
  <cp:lastModifiedBy>Admin</cp:lastModifiedBy>
  <dcterms:modified xsi:type="dcterms:W3CDTF">2011-04-01T09:59:40Z</dcterms:modified>
  <cp:revision>3</cp:revision>
  <dc:subject/>
  <dc:title>Слайд 1</dc:title>
</cp:coreProperties>
</file>