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A17-F9BD-4A61-80F2-CA6DBA9B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8BB-6F4F-4875-9DFD-8D45685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2EE-B4B5-47C4-A04B-4EEAEAD3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48A-B418-40AE-9EAC-B18B5AFE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E5C-3157-46E5-8A64-31760CB7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3CC-A91D-4798-A696-CCCA40E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2DF-C451-4BAD-9E0D-646C8F0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7CD-3986-401E-A7C9-7897896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BEC-9E5B-455E-83BC-697F555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DB3-A622-44D5-93C0-B1DCC7E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6F2-7DD6-48DE-9855-F67B092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C05-4918-48A8-AE23-FA2D4AC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2677-6722-4AA3-8ABD-72AF5206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437000"/>
            <a:ext cx="741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словная монарх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средневековой Европ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1557360"/>
            <a:ext cx="78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о Франции только один король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довик lX (1226 - 1270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3429000"/>
            <a:ext cx="83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ладывается единый для всей стран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рядок управления, суда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бора налогов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549360"/>
            <a:ext cx="669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ран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8920" y="189000"/>
            <a:ext cx="727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Филипп lV Красивый (1285 - 1314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590560" cy="2881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635280" y="1484280"/>
            <a:ext cx="525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 Франц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429264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1302 году созвал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неральные штаты,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ждаясь в поддержке подданных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4797360"/>
            <a:ext cx="14414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332000" y="333360"/>
            <a:ext cx="648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неральные штаты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48428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брание представителей от трех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640" y="34290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ловная монархия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4724280"/>
            <a:ext cx="763452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осударство, в кот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ролевская власть опирала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собрание представителей сослов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2523960" cy="280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1042920" y="260280"/>
            <a:ext cx="7129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гл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1628640"/>
            <a:ext cx="568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енрих 2 Плантаге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54 - 1189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4005360"/>
            <a:ext cx="58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Англ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627280" y="333360"/>
            <a:ext cx="6264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оанн Безземе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67 - 1216 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2289240" cy="254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4292640"/>
            <a:ext cx="817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ая хартия вольнос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0360" y="2565360"/>
            <a:ext cx="3097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15 г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00000" y="2924280"/>
            <a:ext cx="76345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ламен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35280" y="1341360"/>
            <a:ext cx="46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65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3280" y="4221000"/>
            <a:ext cx="7129440" cy="21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обрание представителей от 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2155680" cy="23986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3419640" y="18900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дуард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258920" y="333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явлением парламен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Англии складывается сословная монарх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95640" y="2205000"/>
            <a:ext cx="5016240" cy="4013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 12 века в наиболее развитых странах Западной Европы начинается процесс объединения и централизации страны вокруг королев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обиваясь централизации, короли преодолевали сопротивление феодалов. При этом короли опирались на поддержку широких слоёв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 определенном этапе централизации возникает сословная монархия, в которой королевская власть опирается на собрание представителей со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Англии и Франции уже к 14 веку процесс централизации практически заверш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26028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44:14Z</dcterms:created>
  <dc:creator>Елена</dc:creator>
  <dc:description/>
  <dc:language>en-US</dc:language>
  <cp:lastModifiedBy>Admin</cp:lastModifiedBy>
  <dcterms:modified xsi:type="dcterms:W3CDTF">2011-04-01T09:59:40Z</dcterms:modified>
  <cp:revision>3</cp:revision>
  <dc:subject/>
  <dc:title>Слайд 1</dc:title>
</cp:coreProperties>
</file>