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56D-0FB6-4309-80C1-5223AA87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0F3-CBB3-428C-A967-A700D13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FA0-4A12-4E72-BF12-D4B5229B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BEE-7DAA-4274-A25A-C0E2E9DD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BB26-F211-42B2-9AC1-2722744F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277B-E4C7-4065-83D8-3D3A641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B76F-837C-4F0F-8EE8-5EF09E5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00B-B74C-41B9-90C8-971B7E10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F8A1-1CE4-40F0-A590-FAE13983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159F-D8EC-4E7C-9C5B-57AEE10E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CE5-7E4E-4391-B1BB-42EDAC7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E58-75FA-4CE7-AF7C-4A01251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4A5-1250-4523-BB82-0D038B09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9A4-2A91-4988-B74E-EC74D5C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D85-6C8C-460A-B274-058F888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569A-03E2-4513-8070-86236858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ED6F-FFC6-489B-BBBF-B64E2229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F51-A1F0-4DCA-BEC6-270AD520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7DD-DE88-48CE-9F63-6ABF47ED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3F5-DB9D-401D-B629-AF32609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7C0-3B91-473F-A635-1BD2FEA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517-5273-4DCA-95AB-629DF23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EAD-8752-47B8-B692-9D6C1B8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7C8-2E2B-4BE8-8141-3BD519A5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6F4-3202-404A-AA84-6AB3D86464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6C38-02AC-49D5-9280-86667FAF26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626436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>
            <a:off x="1258920" y="2205000"/>
            <a:ext cx="6524640" cy="11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сноярский кра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3276720" y="476280"/>
            <a:ext cx="213336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й</a:t>
            </a:r>
            <a:endParaRPr b="0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карта"/>
          <p:cNvPicPr/>
          <p:nvPr/>
        </p:nvPicPr>
        <p:blipFill>
          <a:blip r:embed="rId1"/>
          <a:stretch/>
        </p:blipFill>
        <p:spPr>
          <a:xfrm>
            <a:off x="0" y="981000"/>
            <a:ext cx="3065400" cy="4537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900000" y="5589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ЙМЫ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67280" y="33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42764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WordArt 4"/>
          <p:cNvSpPr txBox="1"/>
          <p:nvPr/>
        </p:nvSpPr>
        <p:spPr>
          <a:xfrm rot="5400000">
            <a:off x="-936360" y="2817720"/>
            <a:ext cx="554508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асноярс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211640" y="1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WordArt 7"/>
          <p:cNvSpPr txBox="1"/>
          <p:nvPr/>
        </p:nvSpPr>
        <p:spPr>
          <a:xfrm>
            <a:off x="4140360" y="620640"/>
            <a:ext cx="4608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нга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жняя Тунгус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      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000 г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красная"/>
          <p:cNvPicPr/>
          <p:nvPr/>
        </p:nvPicPr>
        <p:blipFill>
          <a:blip r:embed="rId1"/>
          <a:stretch/>
        </p:blipFill>
        <p:spPr>
          <a:xfrm>
            <a:off x="684360" y="981000"/>
            <a:ext cx="4222440" cy="5446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5292720" y="47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башмак"/>
          <p:cNvPicPr/>
          <p:nvPr/>
        </p:nvPicPr>
        <p:blipFill>
          <a:blip r:embed="rId2"/>
          <a:stretch/>
        </p:blipFill>
        <p:spPr>
          <a:xfrm>
            <a:off x="5435640" y="1557360"/>
            <a:ext cx="3095640" cy="4610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5940360" y="62064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МАЧ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9.КРАС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волк"/>
          <p:cNvPicPr/>
          <p:nvPr/>
        </p:nvPicPr>
        <p:blipFill>
          <a:blip r:embed="rId1"/>
          <a:stretch/>
        </p:blipFill>
        <p:spPr>
          <a:xfrm>
            <a:off x="539640" y="198900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5076720" y="26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WordArt 7"/>
          <p:cNvSpPr txBox="1"/>
          <p:nvPr/>
        </p:nvSpPr>
        <p:spPr>
          <a:xfrm rot="5400000">
            <a:off x="4534920" y="2168280"/>
            <a:ext cx="5400720" cy="201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ТЕКЛ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ЧУ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РОД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         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ПРИСТРОЙКА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403280" y="0"/>
            <a:ext cx="5905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АНАГРАМ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6659640" y="1628640"/>
            <a:ext cx="64764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659640" y="2349360"/>
            <a:ext cx="718920" cy="574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6659640" y="2997360"/>
            <a:ext cx="790560" cy="647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468360" y="414972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55640" y="4508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ЭЛОКО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8000"/>
                </a:solidFill>
                <a:latin typeface="Verdana"/>
              </a:rPr>
              <a:t>Экология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2916360" y="620640"/>
            <a:ext cx="345744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427640" y="1844640"/>
            <a:ext cx="50328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6" descr="Water lilies"/>
          <p:cNvPicPr/>
          <p:nvPr/>
        </p:nvPicPr>
        <p:blipFill>
          <a:blip r:embed="rId1"/>
          <a:stretch/>
        </p:blipFill>
        <p:spPr>
          <a:xfrm>
            <a:off x="1332000" y="2421000"/>
            <a:ext cx="63356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олодцы,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маленькие 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жители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сноярского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Verdana"/>
              </a:rPr>
              <a:t>края!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5" descr="человек"/>
          <p:cNvPicPr/>
          <p:nvPr/>
        </p:nvPicPr>
        <p:blipFill>
          <a:blip r:embed="rId1"/>
          <a:stretch/>
        </p:blipFill>
        <p:spPr>
          <a:xfrm>
            <a:off x="5076720" y="333360"/>
            <a:ext cx="38545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народы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496908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115920" y="189000"/>
            <a:ext cx="8777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лочисленные народы Красноярского края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Кто дал птица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днажды на своем суглане птицы решили просить Хэвэки,чтобы он   дал им песн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шли к Хэвэки и говорят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-      Мы тоже хотим петь. Вот как Северное сияние хорошо поёт. Мы так же хотим пе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Эвенкий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казка про медведя и трёх сестё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Жили - были мужик да баба. Было у них три дочери: Саня, Маня и Поля. Жили они бедно, избушка была старенька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Русская сказка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 том, как похитили жен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Заглянул мужик в чум - жены нет. Несколько дней искал в лесу, в горах - не нашел. Днём и ночью искал, оленей ездовых загонял, но жены не наше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Нганасанская сказ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предели, каких народов эти сказ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91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708360" y="43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1332000" y="333360"/>
            <a:ext cx="727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оссворд от Краевед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826920" y="1844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Злой дух в эвенкийских сказк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732720" y="19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Харги</a:t>
            </a:r>
            <a:r>
              <a:rPr b="0" lang="ru-RU" sz="18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39640" y="227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Сама железная, а хвост из жил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6696000" y="2349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Игл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68360" y="27082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. У русских - сани, а у Северных народов -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687708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нар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79280" y="31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«Морозное слово» у Бориса Петр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6910560" y="3213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уржа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79280" y="3573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. «Отец» Анга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877080" y="3573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Байка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0" y="4005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6. По кетской сказке они раньше были людь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87708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Лебед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0" y="4581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7.Красноярский поэ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5580000" y="458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Рождественский (Игнат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0" y="5373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8.Ученик В.И.Сурико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356000" y="5445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Каратанов (Дмитри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635280" y="333360"/>
            <a:ext cx="21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УМ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край1 001"/>
          <p:cNvPicPr/>
          <p:nvPr/>
        </p:nvPicPr>
        <p:blipFill>
          <a:blip r:embed="rId1"/>
          <a:stretch/>
        </p:blipFill>
        <p:spPr>
          <a:xfrm>
            <a:off x="826920" y="1700280"/>
            <a:ext cx="77774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24000" y="189000"/>
            <a:ext cx="2736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Б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9" name="Picture 5" descr="край1"/>
          <p:cNvPicPr/>
          <p:nvPr/>
        </p:nvPicPr>
        <p:blipFill>
          <a:blip r:embed="rId1"/>
          <a:stretch/>
        </p:blipFill>
        <p:spPr>
          <a:xfrm>
            <a:off x="3059280" y="333360"/>
            <a:ext cx="5862600" cy="614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771640" y="404640"/>
            <a:ext cx="352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С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край4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843280" y="0"/>
            <a:ext cx="39607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АТР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5" descr="край3"/>
          <p:cNvPicPr/>
          <p:nvPr/>
        </p:nvPicPr>
        <p:blipFill>
          <a:blip r:embed="rId3"/>
          <a:stretch/>
        </p:blipFill>
        <p:spPr>
          <a:xfrm>
            <a:off x="684360" y="1557360"/>
            <a:ext cx="7848360" cy="502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979640" y="404640"/>
            <a:ext cx="525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ЕШЬ ЛИ ТЫ ?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Picture 6" descr="край5"/>
          <p:cNvPicPr/>
          <p:nvPr/>
        </p:nvPicPr>
        <p:blipFill>
          <a:blip r:embed="rId1"/>
          <a:stretch/>
        </p:blipFill>
        <p:spPr>
          <a:xfrm>
            <a:off x="468360" y="1484280"/>
            <a:ext cx="2695680" cy="4969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5003640" y="17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8" descr="герб"/>
          <p:cNvPicPr/>
          <p:nvPr/>
        </p:nvPicPr>
        <p:blipFill>
          <a:blip r:embed="rId2"/>
          <a:stretch/>
        </p:blipFill>
        <p:spPr>
          <a:xfrm>
            <a:off x="4427640" y="2246400"/>
            <a:ext cx="432432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8:22:59Z</dcterms:created>
  <dc:creator>1</dc:creator>
  <dc:description/>
  <dc:language>en-US</dc:language>
  <cp:lastModifiedBy>Коля</cp:lastModifiedBy>
  <dcterms:modified xsi:type="dcterms:W3CDTF">2013-07-05T11:36:01Z</dcterms:modified>
  <cp:revision>13</cp:revision>
  <dc:subject/>
  <dc:title> </dc:title>
</cp:coreProperties>
</file>