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85F-D0F3-4E8B-A2FC-0F4589C4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CBC-73F3-4288-9DA2-35A88BAE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286-5E1B-42F1-96E8-563D90EF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A34-2577-458C-8E6E-7B732AAF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9C6-8A2B-44D6-8DDA-8500BC0E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66E5-6B9B-42AE-B8F5-1353726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13F6-D7F6-4D34-9381-CD8CB88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D60E-2314-4E13-9CFC-9346A335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8188-18FB-4523-AA85-384DCF66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B6E9-4C05-4277-80C0-E3B6204D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C40A-CE69-425B-AC4A-2F85653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CEC-7FBB-4F3A-9B8F-D1749E8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1267-6EE5-4D42-A35F-3D438345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967-0775-4359-BD7C-6D5D279A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A860-4628-4E44-8C8C-733DF73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6849-1831-44BA-AB2C-A023866F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4C85-69E3-4075-B18A-F400F399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C1E-C45F-4DD5-91A5-A9C9A4C8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BE2-9777-46DC-ADD1-7080FF8B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B81-CCAC-41FA-898C-7BD41D0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229-3D52-442C-8706-0849DF6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3DE-FE1E-4781-97B6-9D7C9D1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E67-D2FF-47D9-A121-94A7062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06A-55A8-4AAE-838A-2B995AC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65CC-3CE0-4189-9349-0F14C0FF6E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CD5D-8151-4F9D-83FE-2129FCA3C0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26436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1258920" y="2205000"/>
            <a:ext cx="6524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ярский кра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3276720" y="476280"/>
            <a:ext cx="213336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й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карта"/>
          <p:cNvPicPr/>
          <p:nvPr/>
        </p:nvPicPr>
        <p:blipFill>
          <a:blip r:embed="rId1"/>
          <a:stretch/>
        </p:blipFill>
        <p:spPr>
          <a:xfrm>
            <a:off x="0" y="981000"/>
            <a:ext cx="3065400" cy="4537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900000" y="5589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МЫ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6728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WordArt 4"/>
          <p:cNvSpPr txBox="1"/>
          <p:nvPr/>
        </p:nvSpPr>
        <p:spPr>
          <a:xfrm rot="5400000">
            <a:off x="-936360" y="281772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ярс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211640" y="1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4140360" y="620640"/>
            <a:ext cx="4608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га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ж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      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000 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красная"/>
          <p:cNvPicPr/>
          <p:nvPr/>
        </p:nvPicPr>
        <p:blipFill>
          <a:blip r:embed="rId1"/>
          <a:stretch/>
        </p:blipFill>
        <p:spPr>
          <a:xfrm>
            <a:off x="684360" y="981000"/>
            <a:ext cx="4222440" cy="5446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5292720" y="47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башмак"/>
          <p:cNvPicPr/>
          <p:nvPr/>
        </p:nvPicPr>
        <p:blipFill>
          <a:blip r:embed="rId2"/>
          <a:stretch/>
        </p:blipFill>
        <p:spPr>
          <a:xfrm>
            <a:off x="5435640" y="1557360"/>
            <a:ext cx="3095640" cy="4610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40360" y="6206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МАЧ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9.КРАС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волк"/>
          <p:cNvPicPr/>
          <p:nvPr/>
        </p:nvPicPr>
        <p:blipFill>
          <a:blip r:embed="rId1"/>
          <a:stretch/>
        </p:blipFill>
        <p:spPr>
          <a:xfrm>
            <a:off x="539640" y="198900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076720" y="26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WordArt 7"/>
          <p:cNvSpPr txBox="1"/>
          <p:nvPr/>
        </p:nvSpPr>
        <p:spPr>
          <a:xfrm rot="5400000">
            <a:off x="4534920" y="2168280"/>
            <a:ext cx="540072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ЕКЛ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ЧУ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РО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     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СТРОЙК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403280" y="0"/>
            <a:ext cx="5905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НА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6659640" y="1628640"/>
            <a:ext cx="64764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659640" y="2349360"/>
            <a:ext cx="718920" cy="574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6659640" y="2997360"/>
            <a:ext cx="790560" cy="647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468360" y="414972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55640" y="4508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ЭЛОКО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8000"/>
                </a:solidFill>
                <a:latin typeface="Verdana"/>
              </a:rPr>
              <a:t>Экология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916360" y="620640"/>
            <a:ext cx="34574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427640" y="1844640"/>
            <a:ext cx="50328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6" descr="Water lilies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олодцы,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аленькие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жител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сноярского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я!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человек"/>
          <p:cNvPicPr/>
          <p:nvPr/>
        </p:nvPicPr>
        <p:blipFill>
          <a:blip r:embed="rId1"/>
          <a:stretch/>
        </p:blipFill>
        <p:spPr>
          <a:xfrm>
            <a:off x="5076720" y="333360"/>
            <a:ext cx="38545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народы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496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115920" y="189000"/>
            <a:ext cx="8777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лочисленные народы Красноярского кра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Кто дал птица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днажды на своем суглане птицы решили просить Хэвэки,чтобы он   дал и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шли к Хэвэки и говорят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-      Мы тоже хотим петь. Вот как Северное сияние хорошо поёт. Мы так же хотим пе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Эвенкий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казка про медведя и трёх сестё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Жили - были мужик да баба. Было у них три дочери: Саня, Маня и Поля. Жили они бедно, избушка была старенька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Русская сказка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 том, как похитили жен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Заглянул мужик в чум - жены нет. Несколько дней искал в лесу, в горах - не нашел. Днём и ночью искал, оленей ездовых загонял, но жены не наше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Нганасан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предели, каких народов эти сказ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708360" y="43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1332000" y="333360"/>
            <a:ext cx="727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 от Краеве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826920" y="1844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Злой дух в эвенкийских сказк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732720" y="19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арги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39640" y="227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Сама железная, а хвост из жи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69600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Иг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68360" y="270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 русских - сани, а у Северных народов -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708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ар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79280" y="31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«Морозное слово» у Бориса Петр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6910560" y="3213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уржа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79280" y="3573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«Отец» Анга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877080" y="3573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Байка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0" y="4005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 По кетской сказке они раньше были людь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87708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Лебед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0" y="4581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.Красноярский поэ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580000" y="458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ождественский (Игнат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0" y="5373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.Ученик В.И.Сурик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356000" y="5445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аратанов (Дмитр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635280" y="333360"/>
            <a:ext cx="21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УМ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край1 001"/>
          <p:cNvPicPr/>
          <p:nvPr/>
        </p:nvPicPr>
        <p:blipFill>
          <a:blip r:embed="rId1"/>
          <a:stretch/>
        </p:blipFill>
        <p:spPr>
          <a:xfrm>
            <a:off x="826920" y="1700280"/>
            <a:ext cx="7777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24000" y="189000"/>
            <a:ext cx="2736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Б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9" name="Picture 5" descr="край1"/>
          <p:cNvPicPr/>
          <p:nvPr/>
        </p:nvPicPr>
        <p:blipFill>
          <a:blip r:embed="rId1"/>
          <a:stretch/>
        </p:blipFill>
        <p:spPr>
          <a:xfrm>
            <a:off x="3059280" y="333360"/>
            <a:ext cx="586260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771640" y="40464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С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край4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843280" y="0"/>
            <a:ext cx="396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АТР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5" descr="край3"/>
          <p:cNvPicPr/>
          <p:nvPr/>
        </p:nvPicPr>
        <p:blipFill>
          <a:blip r:embed="rId3"/>
          <a:stretch/>
        </p:blipFill>
        <p:spPr>
          <a:xfrm>
            <a:off x="684360" y="1557360"/>
            <a:ext cx="7848360" cy="50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79640" y="404640"/>
            <a:ext cx="52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ЕШЬ ЛИ ТЫ ?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Picture 6" descr="край5"/>
          <p:cNvPicPr/>
          <p:nvPr/>
        </p:nvPicPr>
        <p:blipFill>
          <a:blip r:embed="rId1"/>
          <a:stretch/>
        </p:blipFill>
        <p:spPr>
          <a:xfrm>
            <a:off x="468360" y="1484280"/>
            <a:ext cx="2695680" cy="4969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003640" y="17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герб"/>
          <p:cNvPicPr/>
          <p:nvPr/>
        </p:nvPicPr>
        <p:blipFill>
          <a:blip r:embed="rId2"/>
          <a:stretch/>
        </p:blipFill>
        <p:spPr>
          <a:xfrm>
            <a:off x="4427640" y="2246400"/>
            <a:ext cx="432432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8:22:59Z</dcterms:created>
  <dc:creator>1</dc:creator>
  <dc:description/>
  <dc:language>en-US</dc:language>
  <cp:lastModifiedBy>Коля</cp:lastModifiedBy>
  <dcterms:modified xsi:type="dcterms:W3CDTF">2013-07-05T11:36:01Z</dcterms:modified>
  <cp:revision>13</cp:revision>
  <dc:subject/>
  <dc:title> </dc:title>
</cp:coreProperties>
</file>