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FD6-AEA8-436D-837F-9A204096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13E-C11C-4067-BBC5-C4E2C6A0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B34-EB0F-438D-8B61-6DD8CC5A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05B-3D16-474E-9A30-9C21CE1D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9013-7785-4672-84C1-E55078FC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0F3E-8AF7-4A42-A267-AFA5299D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EBFC-145B-4444-A5BB-DADCA5EE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9981-E331-488C-8AB7-6ECC78E4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BF1D-EE47-4C6F-806F-9CF4B43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4EBD-663A-4D71-AD77-B1F2EE34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3CD3-C0FE-40F9-A0D0-0878331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B27-A744-4B67-B231-2EF532DF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8A7C-D391-4AAE-A361-1A19DE4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49A8-2D8B-4C32-9469-887B117C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1A16-312B-4C05-B6F8-467F31D9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703A-A59D-43DD-A891-AD1652A9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58F3-0CA4-43B6-8217-54BE14AE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12F-2C51-4BEB-BFD1-5FC4C84B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7E6-CFC5-490E-A1DD-743608E1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485-BDAF-4B9F-A6AC-3C44207F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830-85CD-4D7F-8BAD-11111AC1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3E7-39A1-4ED1-833E-C693E911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282-FD81-4E89-985B-8270BBC3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8AB-DAEA-4D02-8D07-FF24BA9F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5CAD-060F-4699-BBB2-7CC271E5A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A38-FB1E-4BD4-B04A-D5953F007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40000" y="198864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3499920"/>
            <a:ext cx="817236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Героическая те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в русской музык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71628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789360"/>
            <a:ext cx="9396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Симфония №2 «Богатырская» А.П.Бородина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Музыкальный эпиграф урока</a:t>
            </a: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поколении судят по героям, которые ему принадлежа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21800" y="162864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тературный эпиграф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93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характер в музыке, исполняемой гусля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детали картины свидетельствуют о том, что на ней «звучит» музыка патриотического характ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95280" y="0"/>
            <a:ext cx="385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Знакомые мело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«Былина о Добрыне Никитич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Песня Баяна из оперы М.И. Глинки «Руслан и Людмил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Напев из песни Садко «Высота, высота ль поднебесная» из оперы Н.Римского-Корса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2681280" cy="19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3789360"/>
            <a:ext cx="2451240" cy="19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12000" y="4365720"/>
            <a:ext cx="2476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52480" y="2060280"/>
            <a:ext cx="4691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тина В.Верещагина «Не замай – дай подойти». С каким музыкальным произведением созвучно это полотн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66092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Опера «Князь Игорь» А.П.Бо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19640" y="2924280"/>
            <a:ext cx="285732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88200" y="1484280"/>
            <a:ext cx="2755800" cy="475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1844640"/>
            <a:ext cx="32878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«Александр Невский» С.Прокоф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668320" cy="5278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3640" y="1989000"/>
            <a:ext cx="5735520" cy="334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3240" y="5516640"/>
            <a:ext cx="59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.Серов «Въезд Александра Невского во Псков после Ледового побоищ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9440" y="6381720"/>
            <a:ext cx="250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.Корин «Александр Невск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Памяти героев посвящает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652560" cy="485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6237360"/>
            <a:ext cx="43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мятник А.Невскому и его дружине на горе Сокол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64000" y="1268280"/>
            <a:ext cx="3473640" cy="485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58120" y="6237360"/>
            <a:ext cx="438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мятник гражданину К.Минину и князю Д.Пожарск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9309" t="0" r="9280" b="5521"/>
          <a:stretch/>
        </p:blipFill>
        <p:spPr>
          <a:xfrm>
            <a:off x="4103640" y="2970360"/>
            <a:ext cx="5040360" cy="388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62440" cy="42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7:44:14Z</dcterms:created>
  <dc:creator>Татьяна</dc:creator>
  <dc:description/>
  <dc:language>en-US</dc:language>
  <cp:lastModifiedBy>Татьяна</cp:lastModifiedBy>
  <dcterms:modified xsi:type="dcterms:W3CDTF">2009-07-04T19:48:35Z</dcterms:modified>
  <cp:revision>13</cp:revision>
  <dc:subject/>
  <dc:title>Слайд 1</dc:title>
</cp:coreProperties>
</file>