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532-4E37-4A86-89B2-6DD642F5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5DF-4C2A-4EB1-ABF5-F0288B15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C78-4AC4-473F-8327-E7CBA526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4EF-9AC1-465B-ABA2-6AB1ACD6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5DC3-633C-483E-9766-8512E1E2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B0CC-F965-4690-9C61-14F9D724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DEB4-3272-4DDE-B444-23D7BB18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D700-C9ED-43C2-A807-75930C6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7CD7-6BD3-4526-A914-3C102989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1913-51F2-4C01-B8AA-F4D2B10A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F90B-0A06-4064-877A-3A840847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9FB-5C6D-4598-9ACC-AB0A0103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9625-6D70-44CC-945C-B3BF9EDF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3912-DCA5-4CAD-8BE9-B4060A8F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F585-9FAE-486F-8076-F8D9EBAB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E6E3-1326-487C-918D-26D5DC06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AC6C-D660-461F-A2C7-0BBFA5E7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6CC-B8BC-43A7-B16A-20A1CB93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666-53E1-4A05-86E6-E3327CEB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AC0-62FA-4834-B069-325A68CB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BB3-2C5D-4FB4-8C67-DEA80593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435-53CE-452E-904F-C2BB5C87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205-FB84-4A57-A23D-BA64F8F0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ECA-6470-406E-A8B2-73300F7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F1EB-D690-4869-9B10-2CD978680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AE2C-898A-4386-807B-4F96FCE7D6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40000" y="198864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3499920"/>
            <a:ext cx="817236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Героическая те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в русской музык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71628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789360"/>
            <a:ext cx="9396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Симфония №2 «Богатырская» А.П.Бородина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Музыкальный эпиграф урока</a:t>
            </a: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поколении судят по героям, которые ему принадлежа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21800" y="162864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тературный эпиграф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8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211280" y="1052280"/>
            <a:ext cx="493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характер в музыке, исполняемой гусляр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детали картины свидетельствуют о том, что на ней «звучит» музыка патриотического характ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95280" y="0"/>
            <a:ext cx="385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Знакомые мело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«Былина о Добрыне Никитиче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Песня Баяна из оперы М.И. Глинки «Руслан и Людмил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Напев из песни Садко «Высота, высота ль поднебесная» из оперы Н.Римского-Корса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2681280" cy="197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132000" y="3789360"/>
            <a:ext cx="2451240" cy="19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12000" y="4365720"/>
            <a:ext cx="2476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452480" y="2060280"/>
            <a:ext cx="46911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тина В.Верещагина «Не замай – дай подойти». С каким музыкальным произведением созвучно это полотн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66092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Опера «Князь Игорь» А.П.Боро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19640" y="2924280"/>
            <a:ext cx="285732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88200" y="1484280"/>
            <a:ext cx="2755800" cy="475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1844640"/>
            <a:ext cx="32878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«Александр Невский» С.Прокоф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2668320" cy="5278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3640" y="1989000"/>
            <a:ext cx="5735520" cy="3346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3240" y="5516640"/>
            <a:ext cx="59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.Серов «Въезд Александра Невского во Псков после Ледового побоищ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9440" y="6381720"/>
            <a:ext cx="250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.Корин «Александр Невск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Памяти героев посвящает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652560" cy="485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6237360"/>
            <a:ext cx="43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мятник А.Невскому и его дружине на горе Сокол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64000" y="1268280"/>
            <a:ext cx="3473640" cy="485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758120" y="6237360"/>
            <a:ext cx="438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мятник гражданину К.Минину и князю Д.Пожарск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9309" t="0" r="9280" b="5521"/>
          <a:stretch/>
        </p:blipFill>
        <p:spPr>
          <a:xfrm>
            <a:off x="4103640" y="2970360"/>
            <a:ext cx="5040360" cy="3887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62440" cy="42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17:44:14Z</dcterms:created>
  <dc:creator>Татьяна</dc:creator>
  <dc:description/>
  <dc:language>en-US</dc:language>
  <cp:lastModifiedBy>Татьяна</cp:lastModifiedBy>
  <dcterms:modified xsi:type="dcterms:W3CDTF">2009-07-04T19:48:35Z</dcterms:modified>
  <cp:revision>13</cp:revision>
  <dc:subject/>
  <dc:title>Слайд 1</dc:title>
</cp:coreProperties>
</file>