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603C-42E8-4E84-9525-46B3B3AA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A2B-7175-494E-B5C2-3498CB1A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8099-DFA0-4B63-B346-481741DC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103C-3317-4953-80F4-9128008A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598A-1A37-4179-A1F9-9D6B52B3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E823-433C-4E5B-BEE2-456AD436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21F2-5771-45B4-86E7-7037DD05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BB0D-F07B-4FCB-B97A-E4AA01CE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33F9-D4CE-4DAD-97F0-7B22D5DC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302A-53EE-45A7-A22E-E737D93A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5848-1167-4CD4-925D-754D1E35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EF2-B21D-40A3-8700-0417E601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EC03-B4CC-4897-8867-4B36FCF2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1A91-6A67-424D-88A4-864A231E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51B1-13C1-4844-87E1-E8BFDCAB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F558-A682-4F33-B8BB-B5BF29E1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7DB2-0F30-40F0-BF5F-9E97E5D6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6FF-7B45-4374-B8F5-6141F003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305-D4CE-498F-BCA6-201AA373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673-1EFA-4B74-9488-95E21B0A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7D91-F7DE-4498-BE64-968DE099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2764-E8DD-4DE9-BB49-E5A826B7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A8E-9C75-4F96-A82E-9CF1B155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70E8-B1C7-4137-AFCF-63FC2E8F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4F0A-F45E-40B1-93A2-116D1B792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B419-087D-4060-80BA-B1519D5736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40000" y="1988640"/>
            <a:ext cx="500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280" y="3499920"/>
            <a:ext cx="817236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Героическая те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в русской музык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98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716280"/>
            <a:ext cx="9144000" cy="2060640"/>
          </a:xfrm>
          <a:prstGeom prst="wedgeRectCallout">
            <a:avLst>
              <a:gd name="adj1" fmla="val -44393"/>
              <a:gd name="adj2" fmla="val 8428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2060640"/>
          </a:xfrm>
          <a:prstGeom prst="wedgeRectCallout">
            <a:avLst>
              <a:gd name="adj1" fmla="val -44393"/>
              <a:gd name="adj2" fmla="val 84282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789360"/>
            <a:ext cx="9396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Симфония №2 «Богатырская» А.П.Бородина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</a:rPr>
              <a:t>Музыкальный эпиграф урока</a:t>
            </a:r>
            <a:endParaRPr b="0" lang="en-US" sz="1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 поколении судят по героям, которые ему принадлежа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21800" y="162864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тературный эпиграф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88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211280" y="1052280"/>
            <a:ext cx="4932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характер в музыке, исполняемой гусляр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детали картины свидетельствуют о том, что на ней «звучит» музыка патриотического характе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95280" y="0"/>
            <a:ext cx="385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Знакомые мело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«Былина о Добрыне Никитиче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Песня Баяна из оперы М.И. Глинки «Руслан и Людмил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Напев из песни Садко «Высота, высота ль поднебесная» из оперы Н.Римского-Корса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0920" y="4508640"/>
            <a:ext cx="2681280" cy="1979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132000" y="3789360"/>
            <a:ext cx="2451240" cy="197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012000" y="4365720"/>
            <a:ext cx="2476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452480" y="2060280"/>
            <a:ext cx="469116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ртина В.Верещагина «Не замай – дай подойти». С каким музыкальным произведением созвучно это полотн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466092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Опера «Князь Игорь» А.П.Бород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419640" y="2924280"/>
            <a:ext cx="285732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88200" y="1484280"/>
            <a:ext cx="2755800" cy="4753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1844640"/>
            <a:ext cx="32878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«Александр Невский» С.Прокофь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2668320" cy="5278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03640" y="1989000"/>
            <a:ext cx="5735520" cy="3346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3240" y="5516640"/>
            <a:ext cx="59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.Серов «Въезд Александра Невского во Псков после Ледового побоищ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9440" y="6381720"/>
            <a:ext cx="250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.Корин «Александр Невск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Памяти героев посвящаетс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3652560" cy="4859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6237360"/>
            <a:ext cx="433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амятник А.Невскому и его дружине на горе Соколи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64000" y="1268280"/>
            <a:ext cx="3473640" cy="4859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758120" y="6237360"/>
            <a:ext cx="438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амятник гражданину К.Минину и князю Д.Пожарск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9309" t="0" r="9280" b="5521"/>
          <a:stretch/>
        </p:blipFill>
        <p:spPr>
          <a:xfrm>
            <a:off x="4103640" y="2970360"/>
            <a:ext cx="5040360" cy="3887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62440" cy="423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3T17:44:14Z</dcterms:created>
  <dc:creator>Татьяна</dc:creator>
  <dc:description/>
  <dc:language>en-US</dc:language>
  <cp:lastModifiedBy>Татьяна</cp:lastModifiedBy>
  <dcterms:modified xsi:type="dcterms:W3CDTF">2009-07-04T19:48:35Z</dcterms:modified>
  <cp:revision>13</cp:revision>
  <dc:subject/>
  <dc:title>Слайд 1</dc:title>
</cp:coreProperties>
</file>