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DF8-F2B3-40DE-A1B4-2E545D5C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0D7-CDB5-427B-AEB7-7E0BB3C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1E8-A834-45CB-9B97-31703FDE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162-E3AB-463C-805F-0986E6A2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F1A-AA4A-4F09-B9B0-2D2E3091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DDB-2351-4DC2-AD31-9CF897CF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A65-6406-4B74-A462-5FB298D8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00C-E9C3-4E31-896E-BB490B0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FD7-99C5-4575-8F3D-E3D72E8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EF3-9AC2-4BBB-8245-7777B53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1C0-8C02-4D31-8897-2B99F27B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99B-3626-4F55-A38D-817FC49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339-2204-4545-8607-A253D81D6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рма в условиях совершенной конкур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сов1.bmp"/>
          <p:cNvPicPr/>
          <p:nvPr/>
        </p:nvPicPr>
        <p:blipFill>
          <a:blip r:embed="rId1"/>
          <a:stretch/>
        </p:blipFill>
        <p:spPr>
          <a:xfrm>
            <a:off x="1428840" y="142920"/>
            <a:ext cx="59832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рма, работающая на рынке совершенной конкуренции, получает максимум прибыли тогда, когда объем выпуска позволяет сравнять предельные издержки с рыночной цено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М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срочная кривая предложения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ой фир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кривой предельных издержек, расположенная выше точки ее пересечения с кривой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2.bmp"/>
          <p:cNvPicPr/>
          <p:nvPr/>
        </p:nvPicPr>
        <p:blipFill>
          <a:blip r:embed="rId1"/>
          <a:stretch/>
        </p:blipFill>
        <p:spPr>
          <a:xfrm>
            <a:off x="0" y="928800"/>
            <a:ext cx="885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прибыльн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гда, когда рыночная цена больше, чем средние издержки (себестоимость)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самоокупаема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ыночная цена равна средним издержкам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ирма убыточна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о ее еще рано закрывать, если постоянные издержки больше убытков от выпуска продукции, т.е. рыночная цена выше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должна прекратить операции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убытки от выпуска продукции превышают постоянные издержки, т.е. рыночная цена меньше средних переменных издерже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&lt;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 общих издержек фирмы, действующей в условиях совершенной конкуренц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0T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й выпуск фирм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акой минимальной цене фирма будет готова продавать продукцию в краткосрочном перио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фирмы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ловиях совершенной конкуренции на рынке действуют  50 одинаковых фирм. У каждой функция предельных издержек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выпус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й фи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функция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ерже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с на этом рынке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н = 45 -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отдельной фирмы (индивидуальное предложение) и всех фирм вместе (рыночное предло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равновесную цену, которая сложится на этом рынке и равновесный объем продаж (индивидуальный и рыно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выручку каждой фирмы и ее переменные издержки в равновесном со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стоянные издержки каждой фирмы равны 0,5 то чему равна прибыль каждой фи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будет происходить на рынке в краткосрочном и в долгосрочном перио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ункционирование рынка совершенной конкуренции основано на ряде допу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днородность рын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алость и множественн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вобода входа и выход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вершенная информирован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последнем допущении основан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акон единой цены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гласно которому на совершенно конкурентном рынке всякий товар продается по единой рыночной це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раткосрочным период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ывается такой период, в течение которого производственные мощности каждого предприятия фиксированы, но выпуск может быть увеличен или снижен за счет изменения объема использования переменных факторов. Общее число предприятий в отрасли остается неизм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рос на продукцию фирмы на рынке совершенной конкуренции является абсолютно эластичным, поэтому фирма никак не может влиять на цену. Предельный доход фирмы постоянен и равен цене установившейся на рын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ельный доход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реализации продукции - изменение в доходе, обусловленное продажей одной дополнительной единицы проду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786040" y="3000240"/>
            <a:ext cx="3733920" cy="13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857680" y="4643280"/>
            <a:ext cx="22064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редприятия представляет разность между общей выручкой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общими затратами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откого период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-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первого порядка (необходимое)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(q*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(q*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совершенно конкурентного предпри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591080" cy="876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второго порядка (достаточное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444816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2643120" y="4000680"/>
            <a:ext cx="2562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6T04:16:50Z</dcterms:modified>
  <cp:revision>16</cp:revision>
  <dc:subject/>
  <dc:title>Слайд 1</dc:title>
</cp:coreProperties>
</file>