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9B8-D9B7-455B-BE6C-CFD596EE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18BF-897F-4889-BFEA-B8A16CAF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B8BC-8B15-49B9-A715-4A3B0C51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55F-A184-446B-92D6-92D31A0B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3B5-A830-4595-ACDD-5FFA2095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885-ABF8-4560-AB6D-C993B6A4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FFE-3FB0-4DFC-94CB-3B4F04A8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526-F9DE-4423-81CB-74145C5D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1DD-155E-4A28-9C6E-E9142773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ABDF-C9E6-4168-8CEB-004AF699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15B-9E23-407B-90B7-3228910A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4EA0-B5D6-4423-84A1-5E7D7DE5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21BC-78B5-43D1-9644-593C915FC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Фирма в условиях совершенной конкурен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сов1.bmp"/>
          <p:cNvPicPr/>
          <p:nvPr/>
        </p:nvPicPr>
        <p:blipFill>
          <a:blip r:embed="rId1"/>
          <a:stretch/>
        </p:blipFill>
        <p:spPr>
          <a:xfrm>
            <a:off x="1428840" y="142920"/>
            <a:ext cx="598320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Фирма, работающая на рынке совершенной конкуренции, получает максимум прибыли тогда, когда объем выпуска позволяет сравнять предельные издержки с рыночной цено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МС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раткосрочная кривая предложения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ентной фирмы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асть кривой предельных издержек, расположенная выше точки ее пересечения с кривой средних переменных издерже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2.bmp"/>
          <p:cNvPicPr/>
          <p:nvPr/>
        </p:nvPicPr>
        <p:blipFill>
          <a:blip r:embed="rId1"/>
          <a:stretch/>
        </p:blipFill>
        <p:spPr>
          <a:xfrm>
            <a:off x="0" y="928800"/>
            <a:ext cx="88520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ирма прибыльн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гда, когда рыночная цена больше, чем средние издержки (себестоимость) при данном объеме производст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ирма самоокупаема,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рыночная цена равна средним издержкам при данном объеме производст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Фирма убыточна,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но ее еще рано закрывать, если постоянные издержки больше убытков от выпуска продукции, т.е. рыночная цена выше средних переменных издерже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ирма должна прекратить операции,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убытки от выпуска продукции превышают постоянные издержки, т.е. рыночная цена меньше средних переменных издерже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&lt;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роверьте себ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760" y="863280"/>
            <a:ext cx="876636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нкция общих издержек фирмы, действующей в условиях совершенной конкуренци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P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P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10TP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0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P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ий выпуск фирм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какой минимальной цене фирма будет готова продавать продукцию в краткосрочном период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ишите функцию предложения фирмы в краткосрочном пери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верьте себ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760" y="863280"/>
            <a:ext cx="876636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условиях совершенной конкуренции на рынке действуют  50 одинаковых фирм. У каждой функция предельных издержек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ий выпус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й фирм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а функция переменны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держе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рос на этом рынке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ын = 45 - 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ишите функцию предложения отдельной фирмы (индивидуальное предложение) и всех фирм вместе (рыночное предлож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читайте равновесную цену, которая сложится на этом рынке и равновесный объем продаж (индивидуальный и рыно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читайте выручку каждой фирмы и ее переменные издержки в равновесном состоян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постоянные издержки каждой фирмы равны 0,5 то чему равна прибыль каждой фирм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будет происходить на рынке в краткосрочном и в долгосрочном период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6840" y="428760"/>
            <a:ext cx="8472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Функционирование рынка совершенной конкуренции основано на ряде допущени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днородность рынк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Малость и множественнос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вобода входа и выход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овершенная информирован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На последнем допущении основан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закон единой цены,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огласно которому на совершенно конкурентном рынке всякий товар продается по единой рыночной цен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раткосрочным периодо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зывается такой период, в течение которого производственные мощности каждого предприятия фиксированы, но выпуск может быть увеличен или снижен за счет изменения объема использования переменных факторов. Общее число предприятий в отрасли остается неизмен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прос на продукцию фирмы на рынке совершенной конкуренции является абсолютно эластичным, поэтому фирма никак не может влиять на цену. Предельный доход фирмы постоянен и равен цене установившейся на рын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едельный доход 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R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реализации продукции - изменение в доходе, обусловленное продажей одной дополнительной единицы проду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2786040" y="3000240"/>
            <a:ext cx="3733920" cy="1332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11336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857680" y="4643280"/>
            <a:ext cx="220644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0" y="10764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быль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предприятия представляет разность между общей выручкой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TR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общими затратами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TC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роткого период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(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TR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)-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TC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ловие максимизации прибыли первого порядка (необходимое):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(q*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(q*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совершенно конкурентного предприят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357280" y="2071800"/>
            <a:ext cx="4591080" cy="8762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словие максимизации прибыли второго порядка (достаточное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2143080" y="2714760"/>
            <a:ext cx="4448160" cy="1000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2643120" y="4000680"/>
            <a:ext cx="25621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6T04:16:50Z</dcterms:modified>
  <cp:revision>16</cp:revision>
  <dc:subject/>
  <dc:title>Слайд 1</dc:title>
</cp:coreProperties>
</file>