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57A-97EC-4E43-9CBB-7F10BC07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FEB-CB02-49F4-9389-CA401E16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D51-B748-4285-9502-62F8BE80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BDE-FA6D-417C-9332-0D4AD469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66A-7EE5-45F0-AE57-9BF4CE9A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547-1E0C-41FB-8B05-A25F3C47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106-9AED-4A62-95D7-9C3CB091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3A7-9A6D-496C-A14C-C7659B65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077-1767-4182-9D66-03E0E62E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6E9-4F97-46A5-A4AA-AE8DA9D9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F97-9394-4AEB-85D9-0D8D1BAA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ACE-B0F4-400B-9C68-B38B159F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07BA-6DF6-410C-B9F1-BE88E8D6C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ирма в условиях совершенной конкурен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сов1.bmp"/>
          <p:cNvPicPr/>
          <p:nvPr/>
        </p:nvPicPr>
        <p:blipFill>
          <a:blip r:embed="rId1"/>
          <a:stretch/>
        </p:blipFill>
        <p:spPr>
          <a:xfrm>
            <a:off x="1428840" y="142920"/>
            <a:ext cx="598320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ирма, работающая на рынке совершенной конкуренции, получает максимум прибыли тогда, когда объем выпуска позволяет сравнять предельные издержки с рыночной цено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М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аткосрочная кривая предложения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нкурентной фирмы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асть кривой предельных издержек, расположенная выше точки ее пересечения с кривой средних переменных издерже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2.bmp"/>
          <p:cNvPicPr/>
          <p:nvPr/>
        </p:nvPicPr>
        <p:blipFill>
          <a:blip r:embed="rId1"/>
          <a:stretch/>
        </p:blipFill>
        <p:spPr>
          <a:xfrm>
            <a:off x="0" y="928800"/>
            <a:ext cx="88520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рма прибыльн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гда, когда рыночная цена больше, чем средние издержки (себестоимость) при данном объеме производ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рма самоокупаема,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рыночная цена равна средним издержкам при данном объеме производст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Фирма убыточна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о ее еще рано закрывать, если постоянные издержки больше убытков от выпуска продукции, т.е. рыночная цена выше средних переменных издерже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рма должна прекратить операции,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сли убытки от выпуска продукции превышают постоянные издержки, т.е. рыночная цена меньше средних переменных издерже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&lt;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роверьте себ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760" y="863280"/>
            <a:ext cx="876636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я общих издержек фирмы, действующей в условиях совершенной конкуренци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P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P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10T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0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P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й выпуск фирм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какой минимальной цене фирма будет готова продавать продукцию в краткосрочном период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ишите функцию предложения фирмы в краткосрочн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верьте себ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760" y="863280"/>
            <a:ext cx="876636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словиях совершенной конкуренции на рынке действуют  50 одинаковых фирм. У каждой функция предельных издержек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й выпус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й фирм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а функция переменны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держе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+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ос на этом рынке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ын = 45 - 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ишите функцию предложения отдельной фирмы (индивидуальное предложение) и всех фирм вместе (рыночное предло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читайте равновесную цену, которая сложится на этом рынке и равновесный объем продаж (индивидуальный и рыно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читайте выручку каждой фирмы и ее переменные издержки в равновесном состоя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остоянные издержки каждой фирмы равны 0,5 то чему равна прибыль каждой фирм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будет происходить на рынке в краткосрочном и в долгосрочном период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6840" y="428760"/>
            <a:ext cx="8472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ункционирование рынка совершенной конкуренции основано на ряде допущен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днородность рынк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Малость и множественнос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вобода входа и выход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овершенная информирован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а последнем допущении основан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закон единой цены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огласно которому на совершенно конкурентном рынке всякий товар продается по единой рыночной цен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раткосрочным периодо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зывается такой период, в течение которого производственные мощности каждого предприятия фиксированы, но выпуск может быть увеличен или снижен за счет изменения объема использования переменных факторов. Общее число предприятий в отрасли остается неизмен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рос на продукцию фирмы на рынке совершенной конкуренции является абсолютно эластичным, поэтому фирма никак не может влиять на цену. Предельный доход фирмы постоянен и равен цене установившейся на рын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дельный доход 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реализации продукции - изменение в доходе, обусловленное продажей одной дополнительной единицы проду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786040" y="3000240"/>
            <a:ext cx="3733920" cy="1332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857680" y="4643280"/>
            <a:ext cx="2206440" cy="863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был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предприятия представляет разность между общей выручкой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R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 общими затратами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C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откого период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TR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)-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TC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ловие максимизации прибыли первого порядка (необходимое):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(q*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(q*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совершенно конкурентного предприят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357280" y="2071800"/>
            <a:ext cx="4591080" cy="8762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словие максимизации прибыли второго порядка (достаточное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2143080" y="2714760"/>
            <a:ext cx="4448160" cy="1000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2643120" y="4000680"/>
            <a:ext cx="25621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6T04:16:50Z</dcterms:modified>
  <cp:revision>16</cp:revision>
  <dc:subject/>
  <dc:title>Слайд 1</dc:title>
</cp:coreProperties>
</file>