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5E7-D635-48B7-AFD4-D0C17FD5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37D-D69D-4958-80D9-036764B0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D3D8-BC46-4BAF-8F5D-A38E89EE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C74-5D15-4767-BF08-C43CB453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478-EB97-445B-9791-35F61EF3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5194-559B-4644-A3DC-56950075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FC2-6620-493F-BF6E-768AD26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6B1-D4E5-4696-8D86-B9F1C8ED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D61-8991-4B83-A99F-853DD832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06C-916C-4A96-B125-E675F90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D9E-B601-423F-86C6-5EBA677A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E4B-8DD7-4C57-B7B4-F01DB03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A1F0-BC53-436E-B709-DEC7BAE82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836640" y="464040"/>
            <a:ext cx="5619600" cy="81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нинград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яя общеобразовательная школа №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. Ленинградская Краснодар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рческий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r>
              <a:rPr b="1" lang="ru-RU" sz="8000" spc="-1" strike="noStrike">
                <a:solidFill>
                  <a:srgbClr val="ff6600"/>
                </a:solidFill>
                <a:latin typeface="Arial"/>
                <a:ea typeface="Times New Roman"/>
              </a:rPr>
              <a:t>Сапож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дел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Выполнила уче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7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Чепкасова Ната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учитель техн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Н. Ш. Пень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9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Моя рабо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333360" y="272088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0" y="47520"/>
            <a:ext cx="6524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. 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2. ИЗ ИСТОРИИ РУКО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3. МАТЕРИАЛЫ И ИНСТРУМЕ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4. ЦВЕТОВОЕ 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5. ТЕХНОЛОГИЧЕСК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6. 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7. СЕБЕ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8. РЕКЛА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9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то-0065"/>
          <p:cNvPicPr/>
          <p:nvPr/>
        </p:nvPicPr>
        <p:blipFill>
          <a:blip r:embed="rId1"/>
          <a:stretch/>
        </p:blipFill>
        <p:spPr>
          <a:xfrm>
            <a:off x="981000" y="4808520"/>
            <a:ext cx="4915080" cy="4802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-28440" y="4694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Введ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04280" y="1928520"/>
            <a:ext cx="61722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прошлом году я вышивала крестиком. Это у меня хорошо получается. Поэтому в этом году я решила попробовать сделать что-нибудь другое. Я никогда не пробовала заниматься рукоделием, но всегда мечтала. В этом году я осуществила свою мечту. Ведь шить из ткани какие-нибудь игрушки, одежду или поделки – это здорово. Получается, что ты своими руками создаешь то, что тебе хочется. И ты не от кого не зависишь. Ты сам выбираешь, что ты хочешь сделать. Ведь издавна люди сами делали и шили себе одежду. Из разных лоскутков ткани можно делать различные вещи. Из ткани я решила сшить САПОЖОК. Он рождественский. Наверно здорово в Новый год или на Рождество получить подарок в красивом рождественском сапожке. Вот поэтому я решила сшить сапожок на проектную работу!!!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Из истории рукодел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4280" y="1928520"/>
            <a:ext cx="6172200" cy="72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давна лоскутное шитьё было излюбленным занятием женщин во многих странах мира. В основе шитья лежат бережливость, практичность и красота. Изделия можно использовать для создания милых вещиц, способных украсить нашу  жизнь. Это и настольная дорожка, и сумочка-конверт, и украшение для новогодней ёлки, и прихватки, незаменимые на кух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 времён колонизации Северной Америки создание лоскутных стёганых покрывал, превратилось в этой стране в народное ремесло. Для людей, покинувших свои жилища, каждый лоскуток ткани становился драгоценным. Надо было учиться хранить тепло, а любые предметы роскоши становились большой редкостью. Но, несмотря на все лишения и трудности, наши далекие предки сумели сберечь в себе любовь к красоте. До изобретения швейной машины лоскутные изделия создавались целиком вручную. Некоторые мастерицы до сих пор с удовольствием выполняют всю работу, без каких- либо специальных приспособлений. Однако в большинстве случаев для основной лоскутной сборки применяется машинная строчка, а до полного совершенства изделие доводится, конечно же, вручн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3000" y="41436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Материалы и инструменты</a:t>
            </a:r>
            <a:br>
              <a:rPr sz="3600"/>
            </a:b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Техника без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04280" y="2144520"/>
            <a:ext cx="6172200" cy="77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к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ежде всего, следует учитывать состав ткани. Стопроцентный хлопок предсказуемо садится и достаточно долговечен. Также можно использовать смесовые ткани с добавлением хлопка. Ткани для лоскутного шитья должны быть одинаковой плотности и толщины. Если предполагается сочетание различных тканей, то нужно учитывать степень их усад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ожницы: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трые портняжные ножницы высокого качества. Дополнительно необходима пара технических ножниц для бумаги и пластика. Для отрезания ниток необходимы маленькие нож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г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ля вышивки бисером необходима тоненькая иголка с маленьким ушным отверст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Бис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бычно бисер бывает круглой или слегка приплюснутой формы. Особый вид бисера - стеклярус- представляет собой трубочки разной длины. Как стеклярус, так и круглый бисер бывает гладким или граненым и может различаться характером блеска. В зависимости от производителя размеры бисера могут различа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Цветовое реше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5920" y="1066680"/>
            <a:ext cx="6172200" cy="768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Цвет в одежде. Необходимое условие красоты одежды - это гармония цвета в ней, то есть согласованность, стройность в сочетании цветов. Для создания цветовой гармонии важно знать, как сочетаются цвета. Основы теории цвета были заложены Ньютоном, который первым попытался систематизировать мир цветов. Всё многообразии цветов разделяют на 2 группы : хроматические и ахроматические. Ахроматические цвета- это белый, черный и все градации серого. Хроматические цвета – спектральные цвета и пурпурные. Человек, который хочет подчеркнуть свою индивидуальность, выбирает цвета, которые гармонируются и сочет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780840" y="353160"/>
            <a:ext cx="51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Технологическая кар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3360" y="2144880"/>
          <a:ext cx="6256440" cy="5591160"/>
        </p:xfrm>
        <a:graphic>
          <a:graphicData uri="http://schemas.openxmlformats.org/drawingml/2006/table">
            <a:tbl>
              <a:tblPr/>
              <a:tblGrid>
                <a:gridCol w="463680"/>
                <a:gridCol w="2376360"/>
                <a:gridCol w="1433520"/>
                <a:gridCol w="19828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опер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а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 и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сх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бор тк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 разме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ка, мел, каранда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ез изд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би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сер разных ц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есение рису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, ласт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ивка рисунка бисе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сер, нитки, игол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ивание конц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ла, нит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55" name="Rectangle 216"/>
          <p:cNvSpPr/>
          <p:nvPr/>
        </p:nvSpPr>
        <p:spPr>
          <a:xfrm>
            <a:off x="-28440" y="7773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992240" y="493560"/>
            <a:ext cx="34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Себесто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99880" y="1685880"/>
          <a:ext cx="6259680" cy="7854840"/>
        </p:xfrm>
        <a:graphic>
          <a:graphicData uri="http://schemas.openxmlformats.org/drawingml/2006/table">
            <a:tbl>
              <a:tblPr/>
              <a:tblGrid>
                <a:gridCol w="428760"/>
                <a:gridCol w="2060640"/>
                <a:gridCol w="690480"/>
                <a:gridCol w="1025640"/>
                <a:gridCol w="946080"/>
                <a:gridCol w="110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Цена (руб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умма (руб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кан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ожницы 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(амортиз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Бис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голка</a:t>
                      </a:r>
                      <a:r>
                        <a:rPr b="0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(амортизация)</a:t>
                      </a: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ит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аед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екоративный шн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траченно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0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66-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384"/>
          <p:cNvSpPr/>
          <p:nvPr/>
        </p:nvSpPr>
        <p:spPr>
          <a:xfrm>
            <a:off x="300960" y="8633520"/>
            <a:ext cx="26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04640" y="1103760"/>
            <a:ext cx="6120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Рекл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 рождественский вечер у ё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Весит сапожок нового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Подарок в него пол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И поздравь всех друзей от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риалы, из которых сделан мой рождественский сапожок, не содержат экологически  вредных 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Донна Кулер. «Лоскутное шитьё». Москва,2005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Стенли Леви. «Вышивка бисером и блёстк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сква,2005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Журнал «Валя-Валентина». Москва, 2006год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6:06:33Z</dcterms:created>
  <dc:creator>1</dc:creator>
  <dc:description>rusedu.ru</dc:description>
  <dc:language>en-US</dc:language>
  <cp:lastModifiedBy>ZooM</cp:lastModifiedBy>
  <dcterms:modified xsi:type="dcterms:W3CDTF">2013-11-22T17:22:35Z</dcterms:modified>
  <cp:revision>11</cp:revision>
  <dc:subject/>
  <dc:title>Сапо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1000000000001024140</vt:lpwstr>
  </property>
</Properties>
</file>