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50B-4759-4FE8-938D-7009BAE2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603-452B-464A-9830-CAB84138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089-CCB5-4FBD-83A4-4CBDAFDF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1CB-1652-449B-ADB3-EFF9B163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E41-EAA5-449F-85AC-B22FF7B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13B-683E-42F0-8BE8-A2E1797B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D74-4702-45FC-A349-F559D4D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E9A-ED53-46C7-8C19-FF66FA0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A4E-D6CB-4050-A231-1C3E9F1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D73-A012-4D8F-A0D6-17305CAF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0E6-192D-405D-B76E-4E77CB0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B82-86A8-4D10-BB91-A2C40DB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BD5-44F1-4B9F-87B5-DF05BD314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836640" y="464040"/>
            <a:ext cx="5619600" cy="81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нинград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общеобразовательная школа №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. Ленинградская Краснодар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Сапож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Выполнила уч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Чепкасова Ната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Н. Ш. Пень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Моя раб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33360" y="27208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47520"/>
            <a:ext cx="6524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. 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2. ИЗ ИСТОРИИ РУКО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3. МАТЕРИАЛЫ И 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4. ЦВЕТОВОЕ 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5. ТЕХНОЛОГ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6. 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7. СЕБЕ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8. РЕКЛА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9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то-0065"/>
          <p:cNvPicPr/>
          <p:nvPr/>
        </p:nvPicPr>
        <p:blipFill>
          <a:blip r:embed="rId1"/>
          <a:stretch/>
        </p:blipFill>
        <p:spPr>
          <a:xfrm>
            <a:off x="981000" y="4808520"/>
            <a:ext cx="4915080" cy="4802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-28440" y="469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Вве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рошлом году я вышивала крестиком. Это у меня хорошо получается. Поэтому в этом году я решила попробовать сделать что-нибудь другое. Я никогда не пробовала заниматься рукоделием, но всегда мечтала. В этом году я осуществила свою мечту. Ведь шить из ткани какие-нибудь игрушки, одежду или поделки – это здорово. Получается, что ты своими руками создаешь то, что тебе хочется. И ты не от кого не зависишь. Ты сам выбираешь, что ты хочешь сделать. Ведь издавна люди сами делали и шили себе одежду. Из разных лоскутков ткани можно делать различные вещи. Из ткани я решила сшить САПОЖОК. Он рождественский. Наверно здорово в Новый год или на Рождество получить подарок в красивом рождественском сапожке. Вот поэтому я решила сшить сапожок на проектную работу!!!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Из истории рукодел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72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давна лоскутное шитьё было излюбленным занятием женщин во многих странах мира. В основе шитья лежат бережливость, практичность и красота. Изделия можно использовать для создания милых вещиц, способных украсить нашу  жизнь. Это и настольная дорожка, и сумочка-конверт, и украшение для новогодней ёлки, и прихватки, незаменимые на кух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 времён колонизации Северной Америки создание лоскутных стёганых покрывал, превратилось в этой стране в народное ремесло. Для людей, покинувших свои жилища, каждый лоскуток ткани становился драгоценным. Надо было учиться хранить тепло, а любые предметы роскоши становились большой редкостью. Но, несмотря на все лишения и трудности, наши далекие предки сумели сберечь в себе любовь к красоте. До изобретения швейной машины лоскутные изделия создавались целиком вручную. Некоторые мастерицы до сих пор с удовольствием выполняют всю работу, без каких- либо специальных приспособлений. Однако в большинстве случаев для основной лоскутной сборки применяется машинная строчка, а до полного совершенства изделие доводится, конечно же, вруч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4143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Материалы и инструменты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Техника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4280" y="2144520"/>
            <a:ext cx="6172200" cy="77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ежде всего, следует учитывать состав ткани. Стопроцентный хлопок предсказуемо садится и достаточно долговечен. Также можно использовать смесовые ткани с добавлением хлопка. Ткани для лоскутного шитья должны быть одинаковой плотности и толщины. Если предполагается сочетание различных тканей, то нужно учитывать степень их ус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ожницы: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трые портняжные ножницы высокого качества. Дополнительно необходима пара технических ножниц для бумаги и пластика. Для отрезания ниток необходимы маленькие нож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ля вышивки бисером необходима тоненькая иголка с маленьким ушным отверст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ис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ычно бисер бывает круглой или слегка приплюснутой формы. Особый вид бисера - стеклярус- представляет собой трубочки разной длины. Как стеклярус, так и круглый бисер бывает гладким или граненым и может различаться характером блеска. В зависимости от производителя размеры бисера могут различ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Цветовое реше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5920" y="1066680"/>
            <a:ext cx="6172200" cy="76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вет в одежде. Необходимое условие красоты одежды - это гармония цвета в ней, то есть согласованность, стройность в сочетании цветов. Для создания цветовой гармонии важно знать, как сочетаются цвета. Основы теории цвета были заложены Ньютоном, который первым попытался систематизировать мир цветов. Всё многообразии цветов разделяют на 2 группы : хроматические и ахроматические. Ахроматические цвета- это белый, черный и все градации серого. Хроматические цвета – спектральные цвета и пурпурные. Человек, который хочет подчеркнуть свою индивидуальность, выбирает цвета, которые гармонируются и соче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80840" y="35316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Технологическ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3360" y="2144880"/>
          <a:ext cx="6256440" cy="5591160"/>
        </p:xfrm>
        <a:graphic>
          <a:graphicData uri="http://schemas.openxmlformats.org/drawingml/2006/table">
            <a:tbl>
              <a:tblPr/>
              <a:tblGrid>
                <a:gridCol w="463680"/>
                <a:gridCol w="2376360"/>
                <a:gridCol w="1433520"/>
                <a:gridCol w="19828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и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разме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, мел, каранда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ез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би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 разных ц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рису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, л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ивка рисунка бисе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, нитки, игол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ивание конц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ла, нит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216"/>
          <p:cNvSpPr/>
          <p:nvPr/>
        </p:nvSpPr>
        <p:spPr>
          <a:xfrm>
            <a:off x="-28440" y="777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992240" y="493560"/>
            <a:ext cx="34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ебе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9880" y="1685880"/>
          <a:ext cx="6259680" cy="7854840"/>
        </p:xfrm>
        <a:graphic>
          <a:graphicData uri="http://schemas.openxmlformats.org/drawingml/2006/table">
            <a:tbl>
              <a:tblPr/>
              <a:tblGrid>
                <a:gridCol w="428760"/>
                <a:gridCol w="2060640"/>
                <a:gridCol w="690480"/>
                <a:gridCol w="1025640"/>
                <a:gridCol w="946080"/>
                <a:gridCol w="110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мм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ка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жницы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амортиз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ис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олк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(амортизация)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аед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коративный шн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траченно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84"/>
          <p:cNvSpPr/>
          <p:nvPr/>
        </p:nvSpPr>
        <p:spPr>
          <a:xfrm>
            <a:off x="300960" y="86335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04640" y="1103760"/>
            <a:ext cx="6120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Рекл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рождественский вечер у ё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есит сапожок нового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одарок в него пол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И поздравь всех друзей от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, из которых сделан мой рождественский сапожок, не содержат экологически  вредных 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Донна Кулер. «Лоскутное шитьё». 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Стенли Леви. «Вышивка бисером и блёстк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Журнал «Валя-Валентина». Москва, 2006год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06:33Z</dcterms:created>
  <dc:creator>1</dc:creator>
  <dc:description>rusedu.ru</dc:description>
  <dc:language>en-US</dc:language>
  <cp:lastModifiedBy>ZooM</cp:lastModifiedBy>
  <dcterms:modified xsi:type="dcterms:W3CDTF">2013-11-22T17:22:35Z</dcterms:modified>
  <cp:revision>11</cp:revision>
  <dc:subject/>
  <dc:title>Сапо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4140</vt:lpwstr>
  </property>
</Properties>
</file>