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E67F-2C46-4729-8A68-3DA490104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2916-8220-4E56-8292-30E0D221C6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CA2-E352-430B-8EB9-C75BF9EF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CC5-1745-442F-A8A7-5043503A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D1F-CDF5-42B5-B58F-4F16A283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156-E809-41C4-8C10-FA57DF88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CB3-6AF6-4B64-AA8E-FBE46782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667-4CF9-40AF-A96B-636F85AE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018-B9F8-4621-8F7F-1A69132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2DD-644E-4A5E-954F-AE5CE36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1C4-1C55-499F-938D-5A92F6DF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EF6-1966-411A-AF40-C0B96D8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D8B-912D-4CD9-8BF8-C6BC502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605-BE53-4840-A335-D721300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18AE-40DB-4C46-B18C-BBCC9860A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ь 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ГЭ по русскому языку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Формулировка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атель Феликс Кривин в иносказательной форме ставит перед читателем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у воспитания молодого поко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c7483"/>
                </a:solidFill>
                <a:uFillTx/>
                <a:latin typeface="Calibri"/>
              </a:rPr>
              <a:t>Автора волнуют следующие вопросы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как следует воспитывать детей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Почему дети порой становятся избалованными, неприспособленными к жизн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500" spc="-1" strike="noStrike">
                <a:solidFill>
                  <a:srgbClr val="3c7483"/>
                </a:solidFill>
                <a:latin typeface="Arial Narrow"/>
              </a:rPr>
              <a:t>В олицетворенных образах неодушевленных предметов мы без труда узнаем родителей, которые из лучших побуждений оберегают сына от жизненных трудностей, однако таким образом только балуют его, превращая в лентяя, не приспособленного к серьезному труду и самостоятельной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c74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85520" y="142560"/>
            <a:ext cx="7900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ность выделения проблемы заключается еще и в том, что в одном текст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ожет быть затронуто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сколько пробл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85520" y="2571480"/>
            <a:ext cx="79009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разумное в этом случае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ытаться выделить главную пробл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делать ее основой своего сочин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пробуем проанализировать многоаспектный текст и выделить в нем несколько проб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2960" y="785880"/>
            <a:ext cx="8043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оя Лещева сумела всю семью свою превзойти. Это вот как было. Ее отца, мать, дедушку с бабушкой и старших братьев-подростков – всех рассеяли по дальним лагерям за веру в Бога. А Зое было всего десять лет. Взяли ее в детский дом (Ивановская область). Там она объявила, что никогда не снимет с шеи креста, который мать надела ей при расставании. И завязала ниточку узлом туже, чтобы не сняли во время сна. Борьба шла долго, Зоя озлоблялась: вы можете меня задушить, с мертвой снимете! Тогда как не поддающуюся воспитанию ее отослали в детдом для дефективных! Борьба за крест продолжалась. Зоя устояла: она и здесь не научилась ни воровать, ни сквернословить. «У такой святой женщины, как моя мать, дочь не может быть уголовницей. Лучше буду политической, как вся семья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она стала политической! Чем больше воспитатели и радио славили Сталина, тем верней угадала она в нем виновника всех несчастий. И, не поддавшаяся уголовникам, она теперь увлекла за собою их! Во дворе стояла стандартная гипсовая статуя Сталина. На ней стали появляться издевательские и неприличные надписи. (Малолетки любят спорт! Важно только правильно их направить.) Администрация подкрашивает статую, устанавливает слежку, сообщает и в МГБ. А надписи все появляются, и ребята хохочут. Наконец в одно утро голову статуи нашли отбитой, перевернутой и в пустоте ее – ка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ррористический акт! Приехали гебисты. Начались по всем их правилам допросы и угрозы: «Выдайте банду террористов, иначе всех расстреляем за террор!» (А ничего дивного, подумаешь, полторы сотни детей расстрелять. Если б Сам узнал – он бы и сам распорядился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известно, устояли бы малолетки или дрогнули, но Зоя Лещева объявил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 сделала все я одна! А на что другое годится голова папаш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ее судили. И присудили к высшей мере, безо всякого смеха. Но из-за недопустимой гуманности закона о возвращенной смертной казни расстрелять 14-летнюю вроде не полагалось. И потому дали ей десятку (удивительно, что не двадцать пять). До восемнадцати лет она была в обычных лагерях, с восемнадцати – в особых. За прямоту и язык был у нее и второй лагерный срок, и, кажется, трет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вободились уже и родители Зои, и братья, а Зоя все сиде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здравствует наша веротерпимость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здравствуют дети – хозяева коммунизм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зовись, та страна, которая так любила бы своих детей, как мы своих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о А.И.  Солженицыну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14240" y="142920"/>
            <a:ext cx="79725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нами отрывок из книги Александра Исаевича Солженицына «Архипелаг ГУЛАГ». Буквально аббревиату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У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начает Главное управление лагерей – орган в системе Министерства внутренних дел в 1930–1950-е годы, в ведении которого находились тюрьмы, лагеря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пе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группа близко расположенных друг к другу морских остров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название книги – это метафор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пелаг ГУ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сеть лагерей, опутавшая страну. После публикации книги слово ГУЛАГ получило новое значение – система слежки, доносительства, подавление инакомыслия, отсутствие демократических свобод, состояние всеобщей подозрительности, духовной, политической, религиозной несвобо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ГБ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Министерство государственной безопа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еби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разг.) – сотрудник органов государственной безопасности. К сожалению, далеко не все видят, что в последних трех предложениях звучит горькая ирония автора. Так, типичный советский лозунг «Дети – хозяева коммунизма» на фоне этой и многих других историй о детях-заключенных звучит как циничная, грубая лож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ниге Солженицына приводится множество историй людей, несправедливо обвиненных в различных преступлениях против существующего государственного строя и попавших в тюрьмы или на лагерные рабо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же проблемы можно выделить в приведенном фрагмен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во всей книге, здесь поднимается проблема бесчеловечного отношения к ребенку (и человеку вообще) в тоталитарном государстве (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очему обесценивается жизнь человека в тоталитарном государстве?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помним, что героиня, как и вся ее семья, страдает за веру в Бога. Следовательно, автор поднимает проблему свободы вероисповедания (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меет ли право государство преследовать человека за его религиозные убежд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рия Зои Лещевой – это потрясающий пример человеческого мужества, верности своим идеалам. Здесь мы видим проблему духовной стойкост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что помогает человеку сохранить человеческое достоинство в нечеловеческих условиях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аждая из рассмотренных проблем может стать основой для написания сочинения, и все же, на мой взгляд, в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нтре внимания автора прежде всего мужество и духовная стойкость герои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мы помним, проблему текста следует не только выявить, но 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формулироват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Можно предложить два наиболее простых способа формулировки проблем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85520" y="1600200"/>
            <a:ext cx="79009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облема ка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втор размышляет над проблемой воспит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тексте поднимается проблема одиноч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екст автора заставил меня задуматься над сложной проблемой выбора профе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ормулировка в виде вопрос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омню, что проблема и есть вопрос, требующий решения) дает больше возможностей в тех случаях, когда кратко сформулировать проблему текста невозмож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Каким должно быть правильное воспитание ребенка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Этой сложной проблеме посвящен текст Феликса Криви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читав текст, я задумался над вопросом: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 должен ли человек бояться одиночест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Чем должен руководствоваться человек, выбирая профессию?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 над этой проблемой размышляет в своем тексте авт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ите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менно эти два способа формулировки проблем предлагаются в моделях ответа для экспертов, проверяющих сочинения ЕГЭ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Итак, надо быть внимательными при выявлении проблемы текста. Неправильно выделенная проблема ставит под удар содержание всего сочинения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452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Заголовок 1"/>
          <p:cNvGrpSpPr/>
          <p:nvPr/>
        </p:nvGrpSpPr>
        <p:grpSpPr>
          <a:xfrm>
            <a:off x="981000" y="566640"/>
            <a:ext cx="8096400" cy="5651640"/>
            <a:chOff x="981000" y="566640"/>
            <a:chExt cx="8096400" cy="5651640"/>
          </a:xfrm>
        </p:grpSpPr>
        <p:pic>
          <p:nvPicPr>
            <p:cNvPr id="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81000" y="566640"/>
              <a:ext cx="8096400" cy="56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143000" y="642960"/>
              <a:ext cx="771516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527e56"/>
                  </a:solidFill>
                  <a:latin typeface="Arial"/>
                  <a:ea typeface="Arial"/>
                </a:rPr>
                <a:t>Можно выделить следующие этапы работы по написанию сочинения:</a:t>
              </a:r>
              <a:br>
                <a:rPr sz="24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1) ознакомление учащихся с требованиями к сочинению и критериями его проверки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2) поэтапный разбор каждого содержательного критер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а) проблема текста, виды проблем, приемы выделения проблем текста, способы формулирования проблемы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б) комментарий, виды комментария, способ оформл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) выявление позиции автора и способы ее оформл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г) аргументация собственной позиции, виды аргументов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3) работа над композицией сочин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4) написание и проверка сочинений по разработанным критериям оценивания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7483"/>
                </a:solidFill>
                <a:latin typeface="Calibri"/>
              </a:rPr>
              <a:t>Ключевые 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9720" y="1071720"/>
            <a:ext cx="7643880" cy="5054400"/>
          </a:xfrm>
          <a:prstGeom prst="rect">
            <a:avLst/>
          </a:prstGeom>
          <a:gradFill rotWithShape="0">
            <a:gsLst>
              <a:gs pos="0">
                <a:srgbClr val="adcfaf"/>
              </a:gs>
              <a:gs pos="100000">
                <a:srgbClr val="e6efe7"/>
              </a:gs>
            </a:gsLst>
            <a:lin ang="5400000"/>
          </a:gra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пробле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выявить проблему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сформулировать проблему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c74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c7483"/>
                </a:solidFill>
                <a:uFillTx/>
                <a:latin typeface="Calibri"/>
              </a:rPr>
              <a:t>Проблема</a:t>
            </a:r>
            <a:r>
              <a:rPr b="1" lang="ru-RU" sz="3200" spc="-1" strike="noStrike">
                <a:solidFill>
                  <a:srgbClr val="3c7483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сложный практический или теоретический вопрос, требующий решения, ис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сохранени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окружающей сре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смысла жизни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проблема связи языка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ышления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КАТЕГОРИИ (ВИДЫ) ПРОБЛ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Философские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затрагивают самы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ие особенности развит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роды, общества, мышл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Социальны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касаются устройства и жизн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ест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Политическ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блемы связаны с деятельностью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сударственной власти, партий ил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ественных групп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кологическ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отражают взаимодейств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а и окружающей сред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Нравственны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связаны с внутренни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уховными качествами, которы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уется человек, с определенны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лами повед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4"/>
          <p:cNvSpPr/>
          <p:nvPr/>
        </p:nvSpPr>
        <p:spPr>
          <a:xfrm>
            <a:off x="1000080" y="2428920"/>
            <a:ext cx="742968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>
            <a:off x="1000080" y="3000240"/>
            <a:ext cx="7429680" cy="180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8"/>
          <p:cNvSpPr/>
          <p:nvPr/>
        </p:nvSpPr>
        <p:spPr>
          <a:xfrm>
            <a:off x="928800" y="385776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928800" y="457200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928800" y="571500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6"/>
          <p:cNvSpPr/>
          <p:nvPr/>
        </p:nvSpPr>
        <p:spPr>
          <a:xfrm flipH="1">
            <a:off x="2855520" y="1571760"/>
            <a:ext cx="1800" cy="414468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7030a0"/>
                </a:solidFill>
                <a:uFillTx/>
                <a:latin typeface="Calibri"/>
              </a:rPr>
              <a:t>В некоторых случаях автор сам четко формулирует проблемный вопрос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gradFill rotWithShape="0">
            <a:gsLst>
              <a:gs pos="0">
                <a:srgbClr val="d0d2e8"/>
              </a:gs>
              <a:gs pos="100000">
                <a:srgbClr val="96ab94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98000"/>
          </a:bodyPr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делать, когда очень одинок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увство одиночества типично для молодых (природа подталкивает нас к созданию гнезда, семьи). Другое дело, что одиночество чаще проистекает из-за девальвации «контекста»: родители не те, друзья не те, девушка – и та не та. Чем раньше вы признаете уникальную драгоценность всего, что вас окружает, тем приятнее вам будет жить и прочнее будет настроение. Предложите окружающим свою заботу о них, а кому отдаем, того и це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увство одиночества может проистекать и при отсутствии напряжения жизни. Счастье вообще в напоре жизни; в чувстве светлой собранности. Тоска, меланхолия приходят в гости только во время произвольной или непроизвольной, но без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В.К. Харченк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 начинается с вопроса, в которо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формулирована пробл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1" i="1" lang="ru-RU" sz="2900" spc="-1" strike="noStrike">
                <a:solidFill>
                  <a:srgbClr val="9d3232"/>
                </a:solidFill>
                <a:latin typeface="Calibri"/>
              </a:rPr>
              <a:t>что делать, когда очень одиноко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излагает свое видение проблемы и предлагает варианты ее реш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 текст скорее всего не так прост с точки зрения замысла автора и его реализ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самостоятельно выявить проблематику текста, а это предполагает </a:t>
            </a:r>
            <a:r>
              <a:rPr b="1" lang="ru-RU" sz="3200" spc="-1" strike="noStrike">
                <a:solidFill>
                  <a:srgbClr val="9d3232"/>
                </a:solidFill>
                <a:latin typeface="Calibri"/>
              </a:rPr>
              <a:t>ум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d3232"/>
                </a:solidFill>
                <a:latin typeface="Calibri"/>
              </a:rPr>
              <a:t>обобщ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829640" cy="114300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d3232"/>
                </a:solidFill>
                <a:latin typeface="Calibri"/>
              </a:rPr>
              <a:t>Определяя проблему, задумаемс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56800" y="1428480"/>
            <a:ext cx="7829640" cy="4500360"/>
          </a:xfrm>
          <a:prstGeom prst="rect">
            <a:avLst/>
          </a:prstGeom>
          <a:solidFill>
            <a:srgbClr val="dfebdf"/>
          </a:solidFill>
          <a:ln w="0">
            <a:noFill/>
          </a:ln>
        </p:spPr>
        <p:txBody>
          <a:bodyPr anchor="t">
            <a:normAutofit/>
          </a:bodyPr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45472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5472b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45472b"/>
                </a:solidFill>
                <a:latin typeface="Calibri"/>
              </a:rPr>
              <a:t>Каким образом содержание текста касается вас, других людей, всего человечества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3c7483"/>
                </a:solidFill>
                <a:latin typeface="Calibri"/>
              </a:rPr>
              <a:t>Описанная в тексте конкретная ситуация, факты чьей-либо биографии и т.п. – это иллюстрация, частный случай, пример проявления какой-либо абстрактной идеи, рассматриваемой авторо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Поэтому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формулируйте проблему</a:t>
            </a: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так, чтобы она охватывала не только случай, рассмотренный в тексте, но и многие подобные ситу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ОЧНОЕ ВОС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емье Сверла радостное событие: сын родился. Родители не налюбуются отпрыском, соседи смотрят – удивляются: вылитый отец! И назвали сына Штопор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емя идет, крепнет Штопор, мужает. Ему бы настоящее дело изучить, на металле себя попробовать (Сверла ведь все – потомственные металлисты), да родители не дают: молод еще, пусть сперва на чем-нибудь мягоньком поучит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сит отец домой пробки – специальные пробки, – и на них учится Штопор сверлильному мастерств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т так и воспитывается сын Сверла – на пробках. Когда же приходит пора и пробуют дать ему чего-нибудь потверже (посверли, мол, уже научился) – куда там! Штопор и слушать не хочет! Начинает сам для себя пробки искать, к бутылкам присматривать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дивляются старые Сверла: и как это их сын от рук отбился?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Ф.Криви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8T18:55:48Z</dcterms:modified>
  <cp:revision>7</cp:revision>
  <dc:subject/>
  <dc:title>  Можно выделить следующие этапы работы по подготовке старшеклассников к написанию сочинения: 1) ознакомление учащихся с требованиями к сочинению и критериями его проверки; 2) поэтапный разбор каждого содержательного критерия; а) проблема текста, виды проблем, приемы выделения проблем текста, способы формулирования проблемы; б) комментарий, виды комментария, способ оформления; в) выявление позиции автора и способы ее оформления; г) аргументация собственной позиции, виды аргументов; 3) работа над композицией сочинения; 4) написание и проверка сочинений по разработанным критериям оценивания.  </dc:title>
</cp:coreProperties>
</file>