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0A4A-C310-4F8F-8BAD-234D7ED445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B43-8F16-46FF-9153-169729D162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23B-4E17-40A3-A29E-3488CA5E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300-BD90-4BDE-BD30-A2BAB171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4AC-C37F-4AA0-BFCE-3C05872F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57D-FA0C-4A78-B50E-B38A0D80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AA-315B-49D4-BE0B-554CA389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561-D893-4091-B871-1161FF2F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F7D-A40F-4C24-9957-4DB3E598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2CA-4C5A-44B2-BBD1-A854E201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C93-4A7D-4639-9A5B-B0EAA14A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8EC-2F6C-4264-939D-3C910BA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B11-4EC1-4C2C-9B7D-AA8278D1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3BA-0F04-4F66-A3CB-91368D4D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937F-EB00-478D-8461-7241885EE5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ь 3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ГЭ по русскому языку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Формулировка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сатель Феликс Кривин в иносказательной форме ставит перед читателе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у воспитания молодого поко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424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3c7483"/>
                </a:solidFill>
                <a:uFillTx/>
                <a:latin typeface="Calibri"/>
              </a:rPr>
              <a:t>Автора волнуют следующие вопросы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как следует воспитывать детей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Почему дети порой становятся избалованными, неприспособленными к жизн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500" spc="-1" strike="noStrike">
                <a:solidFill>
                  <a:srgbClr val="3c7483"/>
                </a:solidFill>
                <a:latin typeface="Arial Narrow"/>
              </a:rPr>
              <a:t>В олицетворенных образах неодушевленных предметов мы без труда узнаем родителей, которые из лучших побуждений оберегают сына от жизненных трудностей, однако таким образом только балуют его, превращая в лентяя, не приспособленного к серьезному труду и самостоятельной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85520" y="142560"/>
            <a:ext cx="7900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ность выделения проблемы заключается еще и в том, что в одном текст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ожет быть затронуто </a:t>
            </a:r>
            <a:br>
              <a:rPr sz="3200"/>
            </a:b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сколько пробл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85520" y="2571480"/>
            <a:ext cx="79009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е разумное в этом случае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ытаться выделить главную пробл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делать ее основой своего сочи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пробуем проанализировать многоаспектный текст и выделить в нем несколько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2960" y="785880"/>
            <a:ext cx="80438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оя Лещева сумела всю семью свою превзойти. Это вот как было. Ее отца, мать, дедушку с бабушкой и старших братьев-подростков – всех рассеяли по дальним лагерям за веру в Бога. А Зое было всего десять лет. Взяли ее в детский дом (Ивановская область). Там она объявила, что никогда не снимет с шеи креста, который мать надела ей при расставании. И завязала ниточку узлом туже, чтобы не сняли во время сна. Борьба шла долго, Зоя озлоблялась: вы можете меня задушить, с мертвой снимете! Тогда как не поддающуюся воспитанию ее отослали в детдом для дефективных! Борьба за крест продолжалась. Зоя устояла: она и здесь не научилась ни воровать, ни сквернословить. «У такой святой женщины, как моя мать, дочь не может быть уголовницей. Лучше буду политической, как вся семья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она стала политической! Чем больше воспитатели и радио славили Сталина, тем верней угадала она в нем виновника всех несчастий. И, не поддавшаяся уголовникам, она теперь увлекла за собою их! Во дворе стояла стандартная гипсовая статуя Сталина. На ней стали появляться издевательские и неприличные надписи. (Малолетки любят спорт! Важно только правильно их направить.) Администрация подкрашивает статую, устанавливает слежку, сообщает и в МГБ. А надписи все появляются, и ребята хохочут. Наконец в одно утро голову статуи нашли отбитой, перевернутой и в пустоте ее – ка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ррористический акт! Приехали гебисты. Начались по всем их правилам допросы и угрозы: «Выдайте банду террористов, иначе всех расстреляем за террор!» (А ничего дивного, подумаешь, полторы сотни детей расстрелять. Если б Сам узнал – он бы и сам распорядился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известно, устояли бы малолетки или дрогнули, но Зоя Лещева объявил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о сделала все я одна! А на что другое годится голова папаш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ее судили. И присудили к высшей мере, безо всякого смеха. Но из-за недопустимой гуманности закона о возвращенной смертной казни расстрелять 14-летнюю вроде не полагалось. И потому дали ей десятку (удивительно, что не двадцать пять). До восемнадцати лет она была в обычных лагерях, с восемнадцати – в особых. За прямоту и язык был у нее и второй лагерный срок, и, кажется, трет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вободились уже и родители Зои, и братья, а Зоя все сиде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ет наша веротерпимость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 здравствуют дети – хозяева коммунизма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зовись, та страна, которая так любила бы своих детей, как мы своих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о А.И.  Солженицыну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2822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14240" y="142920"/>
            <a:ext cx="79725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нами отрывок из книги Александра Исаевича Солженицына «Архипелаг ГУЛАГ». Буквально аббревиату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начает Главное управление лагерей – орган в системе Министерства внутренних дел в 1930–1950-е годы, в ведении которого находились тюрьмы, лагеря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группа близко расположенных друг к другу морских остров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им образом, название книги – это метафор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рхипелаг ГУЛА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сеть лагерей, опутавшая страну. После публикации книги слово ГУЛАГ получило новое значение – система слежки, доносительства, подавление инакомыслия, отсутствие демократических свобод, состояние всеобщей подозрительности, духовной, политической, религиозной несвобо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ГБ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Министерство государственной безопа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еби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разг.) – сотрудник органов государственной безопасности. К сожалению, далеко не все видят, что в последних трех предложениях звучит горькая ирония автора. Так, типичный советский лозунг «Дети – хозяева коммунизма» на фоне этой и многих других историй о детях-заключенных звучит как циничная, грубая лож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ниге Солженицына приводится множество историй людей, несправедливо обвиненных в различных преступлениях против существующего государственного строя и попавших в тюрьмы или на лагерные рабо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же проблемы можно выделить в приведенном фрагмен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во всей книге, здесь поднимается проблема бесчеловечного отношения к ребенку (и человеку вообще) в тоталитарном государстве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очему обесценивается жизнь человека в тоталитарном государстве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помним, что героиня, как и вся ее семья, страдает за веру в Бога. Следовательно, автор поднимает проблему свободы вероисповедания (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меет ли право государство преследовать человека за его религиозные убежд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?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рия Зои Лещевой – это потрясающий пример человеческого мужества, верности своим идеалам. Здесь мы видим проблему духовной стойкости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(что помогает человеку сохранить человеческое достоинство в нечеловеческих условиях?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аждая из рассмотренных проблем может стать основой для написания сочинения, и все же, на мой взгляд, в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центре внимания автора прежде всего мужество и духовная стойкость герои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3553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ы помним, проблему текста следует не только выявить, но и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формулировать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Можно предложить два наиболее простых способа формулировки проблем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85520" y="1600200"/>
            <a:ext cx="79009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блема ка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втор размышляет над проблемой воспит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 тексте поднимается проблема одиноче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екст автора заставил меня задуматься над сложной проблемой выбора проф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ормулировка в виде вопрос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омню, что проблема и есть вопрос, требующий решения) дает больше возможностей в тех случаях, когда кратко сформулировать проблему текста невозмож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Каким должно быть правильное воспитание ребенка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Этой сложной проблеме посвящен текст Феликса Криви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читав текст, я задумался над вопросом:</a:t>
            </a: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 должен ли человек бояться одиночест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</a:rPr>
              <a:t>Чем должен руководствоваться человек, выбирая профессию?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 над этой проблемой размышляет в своем тексте авт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тите вним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менно эти два способа формулировки проблем предлагаются в моделях ответа для экспертов, проверяющих сочинения ЕГЭ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50"/>
                </a:solidFill>
                <a:latin typeface="Calibri"/>
              </a:rPr>
              <a:t>Итак, надо быть внимательными при выявлении проблемы текста. Неправильно выделенная проблема ставит под удар содержание всего сочинения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2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Заголовок 1"/>
          <p:cNvGrpSpPr/>
          <p:nvPr/>
        </p:nvGrpSpPr>
        <p:grpSpPr>
          <a:xfrm>
            <a:off x="981000" y="566640"/>
            <a:ext cx="8096400" cy="5651640"/>
            <a:chOff x="981000" y="566640"/>
            <a:chExt cx="8096400" cy="5651640"/>
          </a:xfrm>
        </p:grpSpPr>
        <p:pic>
          <p:nvPicPr>
            <p:cNvPr id="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81000" y="566640"/>
              <a:ext cx="8096400" cy="56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143000" y="642960"/>
              <a:ext cx="771516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27e56"/>
                  </a:solidFill>
                  <a:latin typeface="Arial"/>
                  <a:ea typeface="Arial"/>
                </a:rPr>
                <a:t>Можно выделить следующие этапы работы по написанию сочинения:</a:t>
              </a:r>
              <a:br>
                <a:rPr sz="24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1) ознакомление учащихся с требованиями к сочинению и критериями его проверки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2) поэтапный разбор каждого содержательного критер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а) проблема текста, виды проблем, приемы выделения проблем текста, способы формулирования проблемы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б) комментарий, виды комментария, способ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) выявление позиции автора и способы ее оформл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) аргументация собственной позиции, виды аргументов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3) работа над композицией сочинения;</a:t>
              </a:r>
              <a:br>
                <a:rPr sz="2000"/>
              </a:b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4) написание и проверка сочинений по разработанным критериям оценивания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c7483"/>
                </a:solidFill>
                <a:latin typeface="Calibri"/>
              </a:rPr>
              <a:t>Ключевые 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9720" y="1071720"/>
            <a:ext cx="7643880" cy="5054400"/>
          </a:xfrm>
          <a:prstGeom prst="rect">
            <a:avLst/>
          </a:prstGeom>
          <a:gradFill rotWithShape="0">
            <a:gsLst>
              <a:gs pos="0">
                <a:srgbClr val="adcfaf"/>
              </a:gs>
              <a:gs pos="100000">
                <a:srgbClr val="e6efe7"/>
              </a:gs>
            </a:gsLst>
            <a:lin ang="5400000"/>
          </a:gra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такое пробле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выяви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сформулировать проблему текс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c74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c7483"/>
                </a:solidFill>
                <a:uFillTx/>
                <a:latin typeface="Calibri"/>
              </a:rPr>
              <a:t>Проблема</a:t>
            </a:r>
            <a:r>
              <a:rPr b="1" lang="ru-RU" sz="3200" spc="-1" strike="noStrike">
                <a:solidFill>
                  <a:srgbClr val="3c7483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сложный практический или теоретический вопрос, требующий решения,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охранени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окружающей сред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 смысла жизни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проблема связи языка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ышления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КАТЕГОРИИ (ВИДЫ) ПРОБЛЕ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0a0"/>
                </a:solidFill>
                <a:latin typeface="Calibri"/>
              </a:rPr>
              <a:t>Философские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затрагивают сам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ие особенности развития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роды, общества, мышл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Социальны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касаются устройства и жизн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Полит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блемы связаны с деятельностью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сударственной власти, партий ил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щественных групп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кологически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отражают взаимодейств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а и окружающей сред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Нравственные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ы связаны с внутренни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ховными качествами, котор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ствуется человек, с определенны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авилами повед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1000080" y="2428920"/>
            <a:ext cx="742968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>
            <a:off x="1000080" y="3000240"/>
            <a:ext cx="7429680" cy="180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8"/>
          <p:cNvSpPr/>
          <p:nvPr/>
        </p:nvSpPr>
        <p:spPr>
          <a:xfrm>
            <a:off x="928800" y="385776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0"/>
          <p:cNvSpPr/>
          <p:nvPr/>
        </p:nvSpPr>
        <p:spPr>
          <a:xfrm>
            <a:off x="928800" y="4572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928800" y="5715000"/>
            <a:ext cx="7500960" cy="144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6"/>
          <p:cNvSpPr/>
          <p:nvPr/>
        </p:nvSpPr>
        <p:spPr>
          <a:xfrm flipH="1">
            <a:off x="2855520" y="1571760"/>
            <a:ext cx="1800" cy="4144680"/>
          </a:xfrm>
          <a:prstGeom prst="line">
            <a:avLst/>
          </a:prstGeom>
          <a:ln w="9360">
            <a:solidFill>
              <a:srgbClr val="4e7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7030a0"/>
                </a:solidFill>
                <a:uFillTx/>
                <a:latin typeface="Calibri"/>
              </a:rPr>
              <a:t>В некоторых случаях автор сам четко формулирует проблемный вопрос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gradFill rotWithShape="0">
            <a:gsLst>
              <a:gs pos="0">
                <a:srgbClr val="d0d2e8"/>
              </a:gs>
              <a:gs pos="100000">
                <a:srgbClr val="96ab94"/>
              </a:gs>
            </a:gsLst>
            <a:lin ang="18900000"/>
          </a:gradFill>
          <a:ln w="0">
            <a:noFill/>
          </a:ln>
        </p:spPr>
        <p:txBody>
          <a:bodyPr anchor="t">
            <a:normAutofit fontScale="98000"/>
          </a:bodyPr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делать, когда очень одино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типично для молодых (природа подталкивает нас к созданию гнезда, семьи). Другое дело, что одиночество чаще проистекает из-за девальвации «контекста»: родители не те, друзья не те, девушка – и та не та. Чем раньше вы признаете уникальную драгоценность всего, что вас окружает, тем приятнее вам будет жить и прочнее будет настроение. Предложите окружающим свою заботу о них, а кому отдаем, того и цен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увство одиночества может проистекать и при отсутствии напряжения жизни. Счастье вообще в напоре жизни; в чувстве светлой собранности. Тоска, меланхолия приходят в гости только во время произвольной или непроизвольной, но без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В.К. Харченк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560" indent="264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кст начинается с вопроса, в котор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формулирована пробл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1" i="1" lang="ru-RU" sz="2900" spc="-1" strike="noStrike">
                <a:solidFill>
                  <a:srgbClr val="9d3232"/>
                </a:solidFill>
                <a:latin typeface="Calibri"/>
              </a:rPr>
              <a:t>что делать, когда очень одиноко?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излагает свое видение проблемы и предлагает варианты ее реш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текст скорее всего не так прост с точки зрения замысла автора и его реализ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самостоятельно выявить проблематику текста, а это предполагает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ум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d3232"/>
                </a:solidFill>
                <a:latin typeface="Calibri"/>
              </a:rPr>
              <a:t>обобщ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3880" indent="433800"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7829640" cy="1143000"/>
          </a:xfrm>
          <a:prstGeom prst="rect">
            <a:avLst/>
          </a:prstGeom>
          <a:solidFill>
            <a:srgbClr val="d0e0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d3232"/>
                </a:solidFill>
                <a:latin typeface="Calibri"/>
              </a:rPr>
              <a:t>Определяя проблему, задумаемс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56800" y="1428480"/>
            <a:ext cx="7829640" cy="4500360"/>
          </a:xfrm>
          <a:prstGeom prst="rect">
            <a:avLst/>
          </a:prstGeom>
          <a:solidFill>
            <a:srgbClr val="dfebdf"/>
          </a:solidFill>
          <a:ln w="0">
            <a:noFill/>
          </a:ln>
        </p:spPr>
        <p:txBody>
          <a:bodyPr anchor="t">
            <a:normAutofit/>
          </a:bodyPr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45472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5472b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45472b"/>
                </a:solidFill>
                <a:latin typeface="Calibri"/>
              </a:rPr>
              <a:t>Каким образом содержание текста касается вас, других людей, всего человечества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3c7483"/>
                </a:solidFill>
                <a:latin typeface="Calibri"/>
              </a:rPr>
              <a:t>Описанная в тексте конкретная ситуация, факты чьей-либо биографии и т.п. – это иллюстрация, частный случай, пример проявления какой-либо абстрактной идеи, рассматриваемой автор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9656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Поэтому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формулируйте проблему</a:t>
            </a:r>
            <a:r>
              <a:rPr b="0" i="1" lang="ru-RU" sz="2700" spc="-1" strike="noStrike">
                <a:solidFill>
                  <a:srgbClr val="002060"/>
                </a:solidFill>
                <a:latin typeface="Calibri"/>
              </a:rPr>
              <a:t> так, чтобы она охватывала не только случай, рассмотренный в тексте, но и многие подобные ситу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ОЧНОЕ ВОСПИТ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емье Сверла радостное событие: сын родился. Родители не налюбуются отпрыском, соседи смотрят – удивляются: вылитый отец! И назвали сына Штопоро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ремя идет, крепнет Штопор, мужает. Ему бы настоящее дело изучить, на металле себя попробовать (Сверла ведь все – потомственные металлисты), да родители не дают: молод еще, пусть сперва на чем-нибудь мягоньком поучит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осит отец домой пробки – специальные пробки, – и на них учится Штопор сверлильному мастерств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т так и воспитывается сын Сверла – на пробках. Когда же приходит пора и пробуют дать ему чего-нибудь потверже (посверли, мол, уже научился) – куда там! Штопор и слушать не хочет! Начинает сам для себя пробки искать, к бутылкам присматривать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дивляются старые Сверла: и как это их сын от рук отбился?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Ф.Криви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66760" indent="6285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8T18:55:48Z</dcterms:modified>
  <cp:revision>7</cp:revision>
  <dc:subject/>
  <dc:title>  Можно выделить следующие этапы работы по подготовке старшеклассников к написанию сочинения: 1) ознакомление учащихся с требованиями к сочинению и критериями его проверки; 2) поэтапный разбор каждого содержательного критерия; а) проблема текста, виды проблем, приемы выделения проблем текста, способы формулирования проблемы; б) комментарий, виды комментария, способ оформления; в) выявление позиции автора и способы ее оформления; г) аргументация собственной позиции, виды аргументов; 3) работа над композицией сочинения; 4) написание и проверка сочинений по разработанным критериям оценивания.  </dc:title>
</cp:coreProperties>
</file>