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E7E-B726-47DE-8E63-40AEDB8A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D02-8D84-4483-BC41-20E4885C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03C-3B27-4E62-BEC1-38AE9988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156-A7D5-4A71-8506-83DEF605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2705-856B-4799-B832-45E85C4A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9299-36E6-40C0-93E8-407C1186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F57B-B877-4D1B-8DDB-49FBED41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1B53-2C33-4C65-98C3-9329317E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678-6844-4C8D-A238-E43635EC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C07-C2F1-465A-B1A2-E523D617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F24E-07D9-4897-B4F3-FAA552C7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704-E8A8-4FC8-8084-33CC08B2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7B4B-0BB0-4857-A58A-2B8D843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CAE8-D5A6-4577-AE7E-3A34201A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098-9FBD-4412-81E5-9B963BDA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F037-2196-4840-8C98-2CBC33A4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255E-69C9-4075-9520-A66BDCCC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39B-507E-4142-A6D4-3250FB1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9A7-0C23-436D-B2E9-CBB0B19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61B-96EF-4E75-AA26-99B5854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3A9-AF67-4860-93EE-BA070BD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9C2-DEA9-4616-B2C1-C6F2BD7A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97B-2CB6-4907-BED3-AA7EA1A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CAD-4524-4CFB-9F59-D7E7766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25EE-867E-4B42-99F1-C0619DF1B8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50A9-3042-4344-8D7B-3B6D76BB1B3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сследование защитных свойств зубных паст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работы- ученик 11 Б класса Гир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- Якимова М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   Южно-российский лицей казачества и народов  Кавказа г.Железноводс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остав зубных паст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Противокариесные   зубные   пас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ая   распространённая   группа   лечебно - профилактических   зубных   паст.   Они   содержат    не   только   противокариесный   компонент – фтор,  но   и   биологические   добавки :   водорастворимые   витамины,   экстракты   трав,   лечебные   масла,   что   помогает   снимать   воспалительные   процессы. В   качестве   противокариесного   компонента,  эффективного   для   профилактики  кариеса,  большинство   зубных   паст   содержит   фториды   (в растворенном виде) : фториды   натрия   и   олово,  монофторофосфат,  подкисленный   фторид   натр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соврем зуб пасты"/>
          <p:cNvPicPr/>
          <p:nvPr/>
        </p:nvPicPr>
        <p:blipFill>
          <a:blip r:embed="rId1"/>
          <a:stretch/>
        </p:blipFill>
        <p:spPr>
          <a:xfrm>
            <a:off x="6948360" y="54936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195280" y="620640"/>
            <a:ext cx="64292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 рекомендациям  Всемирной организации  здравоохранения  оптимальная  концентрация  фторид-иона  в  зубных  пастах  должна  составлять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эффективно  действующие   зубные  пасты  содержат  1-3мг  фторида  1 г  пасты . Зубные  пасты  для  взрослого  населения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11-0,7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фторида  натрия  или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38-1,14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монофосфарита  натрия . В  детских  зубных  пастах  фтористых  соединений  содержится  меньше (до 0,023 %) . Максимальное  соединение   фторид-ионов  во  фторосодерщаших  пастах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1-2 %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 действенным  соединением  признан  аминофторид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чистка зубов"/>
          <p:cNvPicPr/>
          <p:nvPr/>
        </p:nvPicPr>
        <p:blipFill>
          <a:blip r:embed="rId1"/>
          <a:stretch/>
        </p:blipFill>
        <p:spPr>
          <a:xfrm>
            <a:off x="250920" y="1916280"/>
            <a:ext cx="2193840" cy="295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чистка зубов"/>
          <p:cNvPicPr/>
          <p:nvPr/>
        </p:nvPicPr>
        <p:blipFill>
          <a:blip r:embed="rId2"/>
          <a:stretch/>
        </p:blipFill>
        <p:spPr>
          <a:xfrm>
            <a:off x="214200" y="1928880"/>
            <a:ext cx="219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ханизм действия зубных паст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торид - ион,   содержащийся   в   зубных   пастах,  замещает   гидроксид - ион  в   составе   зубной   эмали. Процесс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C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5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4)3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OH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 +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=&gt;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C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5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4)3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 +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3) 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OH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этом   образуется   менее   растворимый   фторапатит,  который   и   обеспечивает   защиту зубов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тод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Анкетирование учащих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Анализ литерату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Эксперимен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Наблюден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Сравн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од работы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мазываем три куриных яйца зубными пастами и выдерживаем 15 мин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ываем пасту вод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ускаем яйца ( три обработанных пастой и одно контрольное, не обработанное) в раствор уксусной кислоты.  Время выдерживания яиц  в растворе  кислоты 15 мин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мотр опытных и контрольных про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ие полученных результа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ханизм реакции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000" y="184464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гружении яиц в раствор уксусной кислоты поверхность яиц покрывается пузырьками газа .Химическая  реакция  между скорлупой яйца и уксусной кислотой  протекала  в соответствии со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СаСО3 +2СН3СООН = (СН3СОО)2Са +   СО2↑+Н2О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PICT0191"/>
          <p:cNvPicPr/>
          <p:nvPr/>
        </p:nvPicPr>
        <p:blipFill>
          <a:blip r:embed="rId1"/>
          <a:stretch/>
        </p:blipFill>
        <p:spPr>
          <a:xfrm>
            <a:off x="468360" y="1620720"/>
            <a:ext cx="35989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0196"/>
          <p:cNvPicPr/>
          <p:nvPr/>
        </p:nvPicPr>
        <p:blipFill>
          <a:blip r:embed="rId1"/>
          <a:stretch/>
        </p:blipFill>
        <p:spPr>
          <a:xfrm>
            <a:off x="179280" y="981000"/>
            <a:ext cx="4537080" cy="5327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788000" y="620640"/>
            <a:ext cx="43560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нахождении  в растворе уксусной кислоты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контрольное яйцо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разу после погружения покрылось множеством пузырьков выделившегося углекислого газа. После пребывания в растворе уксусной кислоты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корлупа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контрольного яйца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обрела рельеф (стала шершавая), на ней возникли  большие углубления, она стала рыхлой, на ней в местах истончения  скорлупы появились полупрозрачные пятна. Скорлупа разбивалась легко, но была тоньше, чем обыч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99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лупа яйца, обработанного пас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Colgate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глядела также как скорлупа контрольного яй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опыт"/>
          <p:cNvPicPr/>
          <p:nvPr/>
        </p:nvPicPr>
        <p:blipFill>
          <a:blip r:embed="rId1"/>
          <a:stretch/>
        </p:blipFill>
        <p:spPr>
          <a:xfrm>
            <a:off x="5148360" y="1773360"/>
            <a:ext cx="367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корлупе яйца, обработанного пастой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Blend- a- m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ятнышки маленькие и более светлые, чем в предыдущем случае, поверхность скорлупы  гладка, но она разбивалась хуже, чем в других случа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лупа яйца, обработанного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астой «Новый Жемчуг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» (производитель «Невская косметика»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зко отличалась от других, она была  гладкая, блестящая, имела единичные  мелкие пятнышки.  Скорлупа толще, чем у других яиц, хорошо разбив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се пасты в одинаковой степени оказывают защитное действие на зубную эма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трех выбранных паст две –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Blend- a- m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«Новый жемч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могут защитить зубы от действия кислоты и укрепляют и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ими защитными свойствами обладает паста, которая практически не рекламируется -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«Новый жемч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убная паст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Colgate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правдала надежд, она не защищает в должной степени зубы от разрушающего действия кисл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3300"/>
                </a:solidFill>
                <a:uFillTx/>
                <a:latin typeface="Times New Roman"/>
              </a:rPr>
              <a:t>Целью  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явилось   изучение   защитных   свойств   рекламируемых   зубных   пас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пасты"/>
          <p:cNvPicPr/>
          <p:nvPr/>
        </p:nvPicPr>
        <p:blipFill>
          <a:blip r:embed="rId1"/>
          <a:stretch/>
        </p:blipFill>
        <p:spPr>
          <a:xfrm>
            <a:off x="3357720" y="4572000"/>
            <a:ext cx="323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79786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оровье   зубов - важнейший   фактор   здорового   и   полноценного   образа   жизни.  Нельзя   найти   человека,  ни   разу   в   жизни   не   посещавшего   стоматолога   по   поводу   больных   зубов .  Чаще   всего   виновником   разрушения   зубов   становится   кариес .  По   некоторым   данным   кариесом   страдает   большинство   людей   от  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80   до   90  % 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филактика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м   простым   способом   борьбы   с   кариесом   является   профилактика ,  которая   включает 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основных   компонента :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равильная   чистка   зубов ,  экзо-   и   эндогенная   профилактика 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Одним   из   основных   средств   экзогенной   профилактики   являются   зубные пасты.  Правильный   выбор   зубной   пасты   во   многом   определяет   здоровье   зубов .  С   помощью   паст   можно   осуществлять    гигиену   полости   рта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зуб пасты 2"/>
          <p:cNvPicPr/>
          <p:nvPr/>
        </p:nvPicPr>
        <p:blipFill>
          <a:blip r:embed="rId1"/>
          <a:stretch/>
        </p:blipFill>
        <p:spPr>
          <a:xfrm>
            <a:off x="7020000" y="692280"/>
            <a:ext cx="1701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потеза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ми   была   выдвинута   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Times New Roman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 если   предварительно   обработать   скорлупу   куриного   яйца   зубной   пастой ,   то разрушительные   действия   кислоты   на   скорлупу   проявляется   в   меньшей   степен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анкетир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359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 по 15 ноябр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008 г мы проводили среди учащихся 9-11 классов анкетирование с целью  выявлении наиболее популярных у молодежи видов  зубных паст. Опрашивали185 человек, всем был задан один вопрос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«Какую зубную пасту вы предпочитаете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редставим в виде таблиц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95640" y="1989000"/>
          <a:ext cx="4824360" cy="4621320"/>
        </p:xfrm>
        <a:graphic>
          <a:graphicData uri="http://schemas.openxmlformats.org/drawingml/2006/table">
            <a:tbl>
              <a:tblPr/>
              <a:tblGrid>
                <a:gridCol w="1608120"/>
                <a:gridCol w="1608120"/>
                <a:gridCol w="1608120"/>
              </a:tblGrid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па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ч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end-a- 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g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й жемч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ной бальз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вафре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дон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33e04"/>
                </a:solidFill>
                <a:latin typeface="Times New Roman"/>
              </a:rPr>
              <a:t>Классификация зубных паст</a:t>
            </a:r>
            <a:r>
              <a:rPr b="0" lang="ru-RU" sz="4400" spc="-1" strike="noStrike">
                <a:solidFill>
                  <a:srgbClr val="02024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777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ет 4 вида зубных па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1. Гигиен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2. Лечебно - профилактическ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3. Профессион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4. Медицинск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зуб пасты 2"/>
          <p:cNvPicPr/>
          <p:nvPr/>
        </p:nvPicPr>
        <p:blipFill>
          <a:blip r:embed="rId1"/>
          <a:stretch/>
        </p:blipFill>
        <p:spPr>
          <a:xfrm>
            <a:off x="468360" y="4221000"/>
            <a:ext cx="206064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зуб пасты 2"/>
          <p:cNvPicPr/>
          <p:nvPr/>
        </p:nvPicPr>
        <p:blipFill>
          <a:blip r:embed="rId2"/>
          <a:stretch/>
        </p:blipFill>
        <p:spPr>
          <a:xfrm>
            <a:off x="620640" y="4373640"/>
            <a:ext cx="206064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42876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33e04"/>
                </a:solidFill>
                <a:latin typeface="Times New Roman"/>
              </a:rPr>
              <a:t>Классификация зубных паст</a:t>
            </a:r>
            <a:r>
              <a:rPr b="0" lang="ru-RU" sz="4400" spc="-1" strike="noStrike">
                <a:solidFill>
                  <a:srgbClr val="02024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чина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00000" y="1700280"/>
            <a:ext cx="5986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ю   кариеса   способствует   избыточное   потребление   продуктов,  содержащих   большое    количество   углеродов ;  и   не  только   сахара  и  конфет,  но   и   хлеба,  печенья   и   т.п .Данный   факт   можно   объяснить   тем  что,  глюкоза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C6H12O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содержащаяся   во   всех   сладостях   или   образующаяся   при  гидролизе   сахарозы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12Н22О1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или    крахмала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(С6Н10О5)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легко   подвергается   процессу   молочнокислого   брожения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(C6H10O5)n  +  nH2O =&gt; n C6H12O6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рахмал                             глюк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NA1CAYBRBV7CA5YXQEZCAZP61TWCAWOP85ECA4CR4UFCA7BENWPCAQC06X3CAOQCM91CAS31DVUCA5YBBT2CACDZSYJCACVH1HQCAVXZQFQCAYKH9H2CAHYPEJVCA1LY54HCAE03K5ICAK3VCLHCAFZWT1N"/>
          <p:cNvPicPr/>
          <p:nvPr/>
        </p:nvPicPr>
        <p:blipFill>
          <a:blip r:embed="rId1"/>
          <a:stretch/>
        </p:blipFill>
        <p:spPr>
          <a:xfrm>
            <a:off x="250920" y="1916280"/>
            <a:ext cx="2449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чины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51280" y="1828800"/>
            <a:ext cx="4835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12Н22О11  +  Н2О =&gt; C6H12O6  +  C6H12O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хароза                            глюкоза         фрукто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6Н12О6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2СН3-СНОН-СО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      молочная кисл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тки  сладкой  пищи  в  полости  рта  превращаются  в  молочную  кислоту, которая  изменяет  рН  на  поверхности  эмали  зубов  до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4,5 -5,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, это  разрушает  зубную  эма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кариес"/>
          <p:cNvPicPr/>
          <p:nvPr/>
        </p:nvPicPr>
        <p:blipFill>
          <a:blip r:embed="rId1"/>
          <a:stretch/>
        </p:blipFill>
        <p:spPr>
          <a:xfrm>
            <a:off x="539640" y="1844640"/>
            <a:ext cx="31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8:33:36Z</dcterms:created>
  <dc:creator>Марина</dc:creator>
  <dc:description/>
  <dc:language>en-US</dc:language>
  <cp:lastModifiedBy>Marina</cp:lastModifiedBy>
  <dcterms:modified xsi:type="dcterms:W3CDTF">2011-01-20T20:07:17Z</dcterms:modified>
  <cp:revision>21</cp:revision>
  <dc:subject/>
  <dc:title>Исследование защитных свойств зубных паст.</dc:title>
</cp:coreProperties>
</file>