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75.jpeg" ContentType="image/jpeg"/>
  <Override PartName="/ppt/media/image34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2.jpeg" ContentType="image/jpeg"/>
  <Override PartName="/ppt/media/image1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10.jpeg" ContentType="image/jpeg"/>
  <Override PartName="/ppt/media/image111.png" ContentType="image/png"/>
  <Override PartName="/ppt/media/image28.png" ContentType="image/png"/>
  <Override PartName="/ppt/media/image93.png" ContentType="image/png"/>
  <Override PartName="/ppt/media/image29.jpeg" ContentType="image/jpe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62.jpeg" ContentType="image/jpeg"/>
  <Override PartName="/ppt/media/image8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1.png" ContentType="image/png"/>
  <Override PartName="/ppt/media/image108.png" ContentType="image/png"/>
  <Override PartName="/ppt/media/image65.png" ContentType="image/png"/>
  <Override PartName="/ppt/media/image66.png" ContentType="image/png"/>
  <Override PartName="/ppt/media/image67.jpeg" ContentType="image/jpeg"/>
  <Override PartName="/ppt/media/image58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4.jpeg" ContentType="image/jpeg"/>
  <Override PartName="/ppt/media/image112.png" ContentType="image/png"/>
  <Override PartName="/ppt/media/image100.png" ContentType="image/png"/>
  <Override PartName="/ppt/media/image98.png" ContentType="image/png"/>
  <Override PartName="/ppt/media/image105.png" ContentType="image/png"/>
  <Override PartName="/ppt/media/image85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32.jpeg" ContentType="image/jpeg"/>
  <Override PartName="/ppt/media/image102.png" ContentType="image/png"/>
  <Override PartName="/ppt/media/image9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94.png" ContentType="image/png"/>
  <Override PartName="/ppt/media/image18.jpeg" ContentType="image/jpeg"/>
  <Override PartName="/ppt/media/image99.png" ContentType="image/png"/>
  <Override PartName="/ppt/media/image16.jpeg" ContentType="image/jpeg"/>
  <Override PartName="/ppt/media/image106.png" ContentType="image/png"/>
  <Override PartName="/ppt/media/image97.png" ContentType="image/png"/>
  <Override PartName="/ppt/media/image60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0.png" ContentType="image/png"/>
  <Override PartName="/ppt/media/image36.jpeg" ContentType="image/jpeg"/>
  <Override PartName="/ppt/media/image107.png" ContentType="image/png"/>
  <Override PartName="/ppt/media/image15.png" ContentType="image/png"/>
  <Override PartName="/ppt/media/image80.png" ContentType="image/png"/>
  <Override PartName="/ppt/media/image17.png" ContentType="image/png"/>
  <Override PartName="/ppt/media/image82.png" ContentType="image/png"/>
  <Override PartName="/ppt/media/image14.jpeg" ContentType="image/jpeg"/>
  <Override PartName="/ppt/media/image3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8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9E9-92DB-4A6E-B6D1-89AFB135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C0D-0517-472D-B1BA-45EF4D98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566-A3C9-4933-9D2D-75A66BB3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3E7-E2F6-413E-B345-11B0341A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029-6A80-4448-AB59-FB93269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14E-136B-4031-9A88-8830559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590-461D-4F4F-B0A5-F6A23F6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6D0-09F3-41A8-B47D-A880191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2A7-7200-49A7-AF98-7B7AF16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2CC-5F3A-446E-8438-6CED81B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820-8D38-4B69-85C2-B5B7DF1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609-7B8F-43EA-9368-D19D20B3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8DD-C628-4705-801E-5BA221E4C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hyperlink" Target="http://www.yurigagarin.ru/photo/2-youth/5-photo00004.html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hyperlink" Target="http://www.yurigagarin.ru/photo/2-youth/7-photo00006.html" TargetMode="External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png"/><Relationship Id="rId10" Type="http://schemas.openxmlformats.org/officeDocument/2006/relationships/image" Target="../media/image51.jpeg"/><Relationship Id="rId11" Type="http://schemas.openxmlformats.org/officeDocument/2006/relationships/image" Target="../media/image52.pn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png"/><Relationship Id="rId15" Type="http://schemas.openxmlformats.org/officeDocument/2006/relationships/image" Target="../media/image27.png"/><Relationship Id="rId16" Type="http://schemas.openxmlformats.org/officeDocument/2006/relationships/image" Target="../media/image56.png"/><Relationship Id="rId17" Type="http://schemas.openxmlformats.org/officeDocument/2006/relationships/image" Target="../media/image57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8.png"/><Relationship Id="rId3" Type="http://schemas.openxmlformats.org/officeDocument/2006/relationships/image" Target="../media/image12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png"/><Relationship Id="rId9" Type="http://schemas.openxmlformats.org/officeDocument/2006/relationships/image" Target="../media/image64.jpe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jpeg"/><Relationship Id="rId13" Type="http://schemas.openxmlformats.org/officeDocument/2006/relationships/image" Target="../media/image68.png"/><Relationship Id="rId14" Type="http://schemas.openxmlformats.org/officeDocument/2006/relationships/image" Target="../media/image69.jpe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66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image" Target="../media/image94.png"/><Relationship Id="rId12" Type="http://schemas.openxmlformats.org/officeDocument/2006/relationships/image" Target="../media/image9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3.png"/><Relationship Id="rId3" Type="http://schemas.openxmlformats.org/officeDocument/2006/relationships/image" Target="../media/image104.jpe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27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5286240" y="571680"/>
            <a:ext cx="3286440" cy="223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438800" cy="30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Космосу -5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3143160" cy="247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5572080" y="3643200"/>
            <a:ext cx="3286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Редкие фотографии Юрия Гагарина, архивные документы (24 фото)"/>
          <p:cNvPicPr/>
          <p:nvPr/>
        </p:nvPicPr>
        <p:blipFill>
          <a:blip r:embed="rId2"/>
          <a:stretch/>
        </p:blipFill>
        <p:spPr>
          <a:xfrm>
            <a:off x="3786120" y="857160"/>
            <a:ext cx="231480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30621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4500720" y="4143240"/>
            <a:ext cx="4329000" cy="239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6"/>
          <a:stretch/>
        </p:blipFill>
        <p:spPr>
          <a:xfrm>
            <a:off x="6215040" y="571680"/>
            <a:ext cx="2368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40741E-007 L -0.43315 0.20995 E">
                                      <p:cBhvr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етские и юношеские 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7072200" y="1571760"/>
            <a:ext cx="1857600" cy="2509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214960" y="1571760"/>
            <a:ext cx="1643040" cy="1939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http://www.yurigagarin.ru/images/phocagallery/youth/thumbs/phoca_thumb_l_photo0000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00240" y="1500120"/>
            <a:ext cx="1928880" cy="261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6"/>
          <a:stretch/>
        </p:blipFill>
        <p:spPr>
          <a:xfrm>
            <a:off x="285840" y="1428840"/>
            <a:ext cx="26431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214200" y="3286080"/>
            <a:ext cx="3311640" cy="25002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20"/>
          <p:cNvCxnSpPr/>
          <p:nvPr/>
        </p:nvCxnSpPr>
        <p:spPr>
          <a:xfrm flipH="1" flipV="1">
            <a:off x="4071600" y="314280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1"/>
          <p:cNvCxnSpPr/>
          <p:nvPr/>
        </p:nvCxnSpPr>
        <p:spPr>
          <a:xfrm flipH="1" flipV="1">
            <a:off x="3142800" y="464292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3500280" y="3786120"/>
            <a:ext cx="1428840" cy="200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1409760" cy="714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http://www.yurigagarin.ru/images/phocagallery/youth/thumbs/phoca_thumb_l_photo00006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65560" y="4280040"/>
            <a:ext cx="1725840" cy="236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12"/>
          <a:stretch/>
        </p:blipFill>
        <p:spPr>
          <a:xfrm>
            <a:off x="6929280" y="4143240"/>
            <a:ext cx="198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Юрий_Гуляев_-_Знаете__каким_он_парнем_был__Песня_о_Гагарине_.mp3" descr=""/>
          <p:cNvPicPr/>
          <p:nvPr/>
        </p:nvPicPr>
        <p:blipFill>
          <a:blip r:embed="rId13"/>
          <a:stretch/>
        </p:blipFill>
        <p:spPr>
          <a:xfrm>
            <a:off x="76438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3000240" cy="19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0" y="3214800"/>
            <a:ext cx="2857680" cy="207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6643800" y="1285920"/>
            <a:ext cx="208584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1041480" cy="16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6"/>
          <a:stretch/>
        </p:blipFill>
        <p:spPr>
          <a:xfrm>
            <a:off x="3429000" y="1214280"/>
            <a:ext cx="1057320" cy="125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43680" y="300024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715000" y="4572000"/>
            <a:ext cx="135252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214200" y="5214960"/>
            <a:ext cx="121464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7572240" y="4286160"/>
            <a:ext cx="1352520" cy="1028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1"/>
          <a:stretch/>
        </p:blipFill>
        <p:spPr>
          <a:xfrm>
            <a:off x="4214880" y="5072040"/>
            <a:ext cx="985680" cy="15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2"/>
          <a:stretch/>
        </p:blipFill>
        <p:spPr>
          <a:xfrm>
            <a:off x="3571920" y="2643120"/>
            <a:ext cx="1028520" cy="123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3"/>
          <a:stretch/>
        </p:blipFill>
        <p:spPr>
          <a:xfrm>
            <a:off x="3357720" y="392904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14"/>
          <a:stretch/>
        </p:blipFill>
        <p:spPr>
          <a:xfrm>
            <a:off x="2000160" y="5500800"/>
            <a:ext cx="171468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Юрий_Гуляев_-_Знаете__каким_он_парнем_был__Песня_о_Гагарине_.mp3" descr=""/>
          <p:cNvPicPr/>
          <p:nvPr/>
        </p:nvPicPr>
        <p:blipFill>
          <a:blip r:embed="rId15"/>
          <a:stretch/>
        </p:blipFill>
        <p:spPr>
          <a:xfrm>
            <a:off x="621504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6"/>
          <a:stretch/>
        </p:blipFill>
        <p:spPr>
          <a:xfrm>
            <a:off x="3714840" y="2428920"/>
            <a:ext cx="165096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17"/>
          <a:stretch/>
        </p:blipFill>
        <p:spPr>
          <a:xfrm>
            <a:off x="7358040" y="5572080"/>
            <a:ext cx="1428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2857680" cy="161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6429240" y="1428840"/>
            <a:ext cx="228600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7358040" y="2857680"/>
            <a:ext cx="1500120" cy="199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5"/>
          <a:stretch/>
        </p:blipFill>
        <p:spPr>
          <a:xfrm>
            <a:off x="1936800" y="4286160"/>
            <a:ext cx="1635120" cy="11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6"/>
          <a:stretch/>
        </p:blipFill>
        <p:spPr>
          <a:xfrm>
            <a:off x="7000920" y="5000760"/>
            <a:ext cx="1785960" cy="134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7"/>
          <a:stretch/>
        </p:blipFill>
        <p:spPr>
          <a:xfrm>
            <a:off x="285840" y="5429160"/>
            <a:ext cx="1428840" cy="101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8"/>
          <a:stretch/>
        </p:blipFill>
        <p:spPr>
          <a:xfrm>
            <a:off x="4000680" y="1428840"/>
            <a:ext cx="2357280" cy="1427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9"/>
          <a:stretch/>
        </p:blipFill>
        <p:spPr>
          <a:xfrm>
            <a:off x="3071880" y="1428840"/>
            <a:ext cx="8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10"/>
          <a:stretch/>
        </p:blipFill>
        <p:spPr>
          <a:xfrm>
            <a:off x="4214880" y="4643280"/>
            <a:ext cx="2214360" cy="136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1"/>
          <a:stretch/>
        </p:blipFill>
        <p:spPr>
          <a:xfrm>
            <a:off x="3214800" y="2857680"/>
            <a:ext cx="2143080" cy="15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2"/>
          <a:stretch/>
        </p:blipFill>
        <p:spPr>
          <a:xfrm>
            <a:off x="357120" y="4357800"/>
            <a:ext cx="1343160" cy="98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3"/>
          <a:stretch/>
        </p:blipFill>
        <p:spPr>
          <a:xfrm>
            <a:off x="5429160" y="3214800"/>
            <a:ext cx="18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4"/>
          <a:stretch/>
        </p:blipFill>
        <p:spPr>
          <a:xfrm>
            <a:off x="142920" y="314316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15"/>
          <a:stretch/>
        </p:blipFill>
        <p:spPr>
          <a:xfrm>
            <a:off x="1428840" y="2928960"/>
            <a:ext cx="17859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643720" y="1285920"/>
            <a:ext cx="2714400" cy="21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3214440" cy="160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5786280" y="4643280"/>
            <a:ext cx="1352880" cy="1811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5"/>
          <a:stretch/>
        </p:blipFill>
        <p:spPr>
          <a:xfrm>
            <a:off x="3046320" y="1500120"/>
            <a:ext cx="20973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Gagarin-Seregin_Memorial"/>
          <p:cNvPicPr/>
          <p:nvPr/>
        </p:nvPicPr>
        <p:blipFill>
          <a:blip r:embed="rId6"/>
          <a:stretch/>
        </p:blipFill>
        <p:spPr>
          <a:xfrm>
            <a:off x="7240680" y="4643280"/>
            <a:ext cx="190332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7"/>
          <a:stretch/>
        </p:blipFill>
        <p:spPr>
          <a:xfrm>
            <a:off x="0" y="4929120"/>
            <a:ext cx="2357280" cy="1505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8"/>
          <a:stretch/>
        </p:blipFill>
        <p:spPr>
          <a:xfrm>
            <a:off x="2286000" y="492912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9"/>
          <a:stretch/>
        </p:blipFill>
        <p:spPr>
          <a:xfrm>
            <a:off x="3786120" y="471492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"/>
          <p:cNvPicPr/>
          <p:nvPr/>
        </p:nvPicPr>
        <p:blipFill>
          <a:blip r:embed="rId10"/>
          <a:stretch/>
        </p:blipFill>
        <p:spPr>
          <a:xfrm>
            <a:off x="3786120" y="2857680"/>
            <a:ext cx="2024280" cy="152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"/>
          <p:cNvPicPr/>
          <p:nvPr/>
        </p:nvPicPr>
        <p:blipFill>
          <a:blip r:embed="rId11"/>
          <a:stretch/>
        </p:blipFill>
        <p:spPr>
          <a:xfrm>
            <a:off x="6000840" y="2643120"/>
            <a:ext cx="142884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"/>
          <p:cNvPicPr/>
          <p:nvPr/>
        </p:nvPicPr>
        <p:blipFill>
          <a:blip r:embed="rId12"/>
          <a:stretch/>
        </p:blipFill>
        <p:spPr>
          <a:xfrm>
            <a:off x="428760" y="1285920"/>
            <a:ext cx="2286000" cy="17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13"/>
          <a:stretch/>
        </p:blipFill>
        <p:spPr>
          <a:xfrm>
            <a:off x="1714680" y="1714680"/>
            <a:ext cx="55116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смонавт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же году  космонавт Герман Титов на космическом аппарате «Восток-2» совершил первый суточный полет (1 день 1 час 11 мин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1785960" cy="252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6858000" y="1714680"/>
            <a:ext cx="2008080" cy="27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357880" y="307188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4286160" y="3929040"/>
            <a:ext cx="32720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Хроника пол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2648160" cy="18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2143080" cy="265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4"/>
          <a:stretch/>
        </p:blipFill>
        <p:spPr>
          <a:xfrm>
            <a:off x="3000240" y="1143000"/>
            <a:ext cx="40608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2714760" y="3071880"/>
            <a:ext cx="351612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6"/>
          <a:stretch/>
        </p:blipFill>
        <p:spPr>
          <a:xfrm>
            <a:off x="2928960" y="2928960"/>
            <a:ext cx="192240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7"/>
          <a:stretch/>
        </p:blipFill>
        <p:spPr>
          <a:xfrm>
            <a:off x="7143840" y="1000080"/>
            <a:ext cx="172404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8"/>
          <a:stretch/>
        </p:blipFill>
        <p:spPr>
          <a:xfrm>
            <a:off x="0" y="4143240"/>
            <a:ext cx="2027160" cy="271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9"/>
          <a:stretch/>
        </p:blipFill>
        <p:spPr>
          <a:xfrm>
            <a:off x="2000160" y="4071960"/>
            <a:ext cx="2214720" cy="261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10"/>
          <a:stretch/>
        </p:blipFill>
        <p:spPr>
          <a:xfrm>
            <a:off x="2000160" y="4786200"/>
            <a:ext cx="231156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1"/>
          <a:stretch/>
        </p:blipFill>
        <p:spPr>
          <a:xfrm>
            <a:off x="4786200" y="3357720"/>
            <a:ext cx="2038320" cy="3252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12"/>
          <a:stretch/>
        </p:blipFill>
        <p:spPr>
          <a:xfrm>
            <a:off x="6643800" y="3571920"/>
            <a:ext cx="1985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смические тур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0" y="1000080"/>
            <a:ext cx="2143080" cy="276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1560600" cy="235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4"/>
          <a:stretch/>
        </p:blipFill>
        <p:spPr>
          <a:xfrm>
            <a:off x="2571840" y="2000160"/>
            <a:ext cx="1714320" cy="264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5"/>
          <a:stretch/>
        </p:blipFill>
        <p:spPr>
          <a:xfrm>
            <a:off x="5000760" y="3143160"/>
            <a:ext cx="1666800" cy="250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6"/>
          <a:stretch/>
        </p:blipFill>
        <p:spPr>
          <a:xfrm>
            <a:off x="7429680" y="4572000"/>
            <a:ext cx="1428480" cy="195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7"/>
          <a:stretch/>
        </p:blipFill>
        <p:spPr>
          <a:xfrm>
            <a:off x="3929040" y="2786040"/>
            <a:ext cx="151920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8"/>
          <a:stretch/>
        </p:blipFill>
        <p:spPr>
          <a:xfrm>
            <a:off x="5786280" y="4572000"/>
            <a:ext cx="1285920" cy="1941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7"/>
          <p:cNvSpPr/>
          <p:nvPr/>
        </p:nvSpPr>
        <p:spPr>
          <a:xfrm>
            <a:off x="5000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001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пуск корабля «Юрий Гагари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14200" y="6072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нзенец Александр Самокутяев – двухсотый космонавт, прибывший на М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786280" y="2714760"/>
            <a:ext cx="2000520" cy="298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785880" y="1285920"/>
            <a:ext cx="4552920" cy="302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928800" y="2857680"/>
            <a:ext cx="4154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7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680" y="0"/>
            <a:ext cx="7864200" cy="450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0" y="4000680"/>
            <a:ext cx="3508200" cy="2643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4"/>
          <a:stretch/>
        </p:blipFill>
        <p:spPr>
          <a:xfrm>
            <a:off x="3500280" y="4286160"/>
            <a:ext cx="289584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6072120" y="4357800"/>
            <a:ext cx="3071880" cy="231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6"/>
          <a:stretch/>
        </p:blipFill>
        <p:spPr>
          <a:xfrm>
            <a:off x="214200" y="4287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211" name="zemlyane_-_trava_u_doma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8"/>
          <a:stretch/>
        </p:blipFill>
        <p:spPr>
          <a:xfrm>
            <a:off x="3071880" y="50004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9"/>
          <a:stretch/>
        </p:blipFill>
        <p:spPr>
          <a:xfrm>
            <a:off x="3986280" y="1428840"/>
            <a:ext cx="38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8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усский и советский учёный-самоуч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следователь, школьный учите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ще в начал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а русский уче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иолковский К.Э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первые теоретически обосновал возможность исследования космоса с помощью ракет. Позже он писал: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Я буду рад, если моя работа побудит других к дальнейшему тру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19" descr=""/>
          <p:cNvPicPr/>
          <p:nvPr/>
        </p:nvPicPr>
        <p:blipFill>
          <a:blip r:embed="rId2"/>
          <a:stretch/>
        </p:blipFill>
        <p:spPr>
          <a:xfrm>
            <a:off x="847800" y="-201600"/>
            <a:ext cx="8167680" cy="19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1000080" y="2286000"/>
            <a:ext cx="238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214200" y="1571760"/>
            <a:ext cx="3000600" cy="50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3929040" y="4275000"/>
            <a:ext cx="2646360" cy="236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4786200" y="1571760"/>
            <a:ext cx="3508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4 октября 195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1957 год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а первая космическая ракета, и 4 октября этого года в Советском Союзе выведен на орбиту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й в мире искусственный спутник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042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21420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000920" y="214200"/>
            <a:ext cx="2143080" cy="303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14200" y="3643200"/>
            <a:ext cx="3357720" cy="22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5"/>
          <a:stretch/>
        </p:blipFill>
        <p:spPr>
          <a:xfrm>
            <a:off x="3786120" y="214200"/>
            <a:ext cx="303552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06227"/>
          <p:cNvPicPr/>
          <p:nvPr/>
        </p:nvPicPr>
        <p:blipFill>
          <a:blip r:embed="rId6"/>
          <a:stretch/>
        </p:blipFill>
        <p:spPr>
          <a:xfrm>
            <a:off x="5751360" y="1714680"/>
            <a:ext cx="3392640" cy="490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16006"/>
          <p:cNvPicPr/>
          <p:nvPr/>
        </p:nvPicPr>
        <p:blipFill>
          <a:blip r:embed="rId7"/>
          <a:stretch/>
        </p:blipFill>
        <p:spPr>
          <a:xfrm>
            <a:off x="2428920" y="3500280"/>
            <a:ext cx="41432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5 мая 1958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советский искусственный спутник, запущенный 15 мая 1958 года, массой 1327 кг,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тал первой комплексной научной геофизическ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лабораторией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его борту были установлены 12 научных приб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448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55556E-006 L 0.07083 5.55556E-006 E">
                                      <p:cBhvr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Январь 195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торону Луны стартовал космический аппарат «Луна-1», прошедший в непосредственной близости от поверхности Луны и вышедший на гелиоцентрическую орбиту.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феврале 1961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да был осуществлен запуск к Венере межпланетной автоматической станци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Венера-1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928800" y="1643040"/>
            <a:ext cx="17510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928800" y="3500280"/>
            <a:ext cx="3805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2 апреля 1961 го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й Гагарин совершил первый в мире полет в космос. Гагарин провел на околоземной орбит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 час 48 минут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раз облетев вокруг планеты на корабле «Восток-1». Приземлился он на берегу реки Волги. Этот день стал днем Космонав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286080" y="1857240"/>
            <a:ext cx="1500120" cy="203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357120" y="1428840"/>
            <a:ext cx="261936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285840" y="5072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2214720" y="4643280"/>
            <a:ext cx="2436480" cy="1785960"/>
          </a:xfrm>
          <a:prstGeom prst="rect">
            <a:avLst/>
          </a:prstGeom>
          <a:ln w="0">
            <a:noFill/>
          </a:ln>
        </p:spPr>
      </p:pic>
      <p:pic>
        <p:nvPicPr>
          <p:cNvPr id="95" name="Сообщение Левитана о полёте Гагарина. Голос Гагарина в космосе.mp3" descr=""/>
          <p:cNvPicPr/>
          <p:nvPr/>
        </p:nvPicPr>
        <p:blipFill>
          <a:blip r:embed="rId6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8058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02:07Z</dcterms:created>
  <dc:creator>Admin</dc:creator>
  <dc:description/>
  <dc:language>en-US</dc:language>
  <cp:lastModifiedBy>Admin</cp:lastModifiedBy>
  <dcterms:modified xsi:type="dcterms:W3CDTF">2011-04-07T19:22:05Z</dcterms:modified>
  <cp:revision>65</cp:revision>
  <dc:subject/>
  <dc:title>Слайд 1</dc:title>
</cp:coreProperties>
</file>