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4E33-3B6C-4489-986A-B597C9E1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49DD-F0A0-4325-87C1-91E5081F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80D8-6B49-40C7-A632-A5275D4B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D54C-9EE0-414C-A122-EFED3E7A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15B-5282-429A-90E5-9B9C0476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D08A-D39F-4A91-9381-42FA9333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69C-6F99-426B-AA74-DDFD2DD6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AAB-EF94-40F7-B888-B8B2EEDD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AF68-D66B-4CEC-A73F-AAE5D710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7B17-2835-4DF4-9F56-8CAE54EC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E0A-4F03-4F5D-9ABD-A5D8257A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7A9F-9569-4F5F-8314-4E6B89D8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BEB0-BD28-4C42-902C-E8BBC9FD39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0" y="785880"/>
            <a:ext cx="9144000" cy="21049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Оптические прицельные приспособлени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786200" y="621180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готовил Анашкин Андрей Андреевич (9 «А» клас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0"/>
          <p:cNvSpPr/>
          <p:nvPr/>
        </p:nvSpPr>
        <p:spPr>
          <a:xfrm>
            <a:off x="0" y="2571840"/>
            <a:ext cx="4857840" cy="1067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0" y="2142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тическое прицельное приспособл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тический прице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прибор, используемый для более точного наведения на дальнюю или малогабаритную цель и наблюдения за местность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949г, иностранец Фредерик Калес изобрел оптический прицел с переменной кратностью увеличения. В 1972г, иностранная компания «Калес» патентует многослойное просветление опти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ая принципиальная схема оптического прицела используется и по сей день. На рисунке ниже представлена типовая схема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временного оптического прицел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i2.guns.ru/forums/icons/forum_pictures/001794/1794842.jpg"/>
          <p:cNvPicPr/>
          <p:nvPr/>
        </p:nvPicPr>
        <p:blipFill>
          <a:blip r:embed="rId1"/>
          <a:stretch/>
        </p:blipFill>
        <p:spPr>
          <a:xfrm>
            <a:off x="571680" y="2643120"/>
            <a:ext cx="4214520" cy="857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6" name="TextBox 18"/>
          <p:cNvSpPr/>
          <p:nvPr/>
        </p:nvSpPr>
        <p:spPr>
          <a:xfrm>
            <a:off x="4857840" y="2500200"/>
            <a:ext cx="4286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ъекти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- система из двух (или более) линз. Диаметр объектива определяет светосилу прицела: чем больше диаметр тем больше он собирает света и обеспечивает лучшую "картинку" поля зр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9"/>
          <p:cNvSpPr/>
          <p:nvPr/>
        </p:nvSpPr>
        <p:spPr>
          <a:xfrm>
            <a:off x="0" y="3714840"/>
            <a:ext cx="9144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орачивающая систем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- служит для превращения перевернутого изображения, создаваемого объективом в прямо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цельная сет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- собственно прицел для наведения оружия на цель. Прицельная сетка располагается в одной из фокальных плоскостей прицела (объективной или окулярной) и поэтому изображение цели и прицельная сетка визуально находятся в одной плоскости и видны глазу одинаково резко. Более подробно про прицельные сетки можете прочитать по ((ссылке)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куляр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многолинзовая конструкция предназначеная для рассматривания увеличенного прямого изображения цели и прицельной сетки. Во избежание бликов и засветок линзы окляра, а также для точной фикасации глаза в зоне полной видимости поля зрения прицела на окуляр часто надевают резиновый наглазник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еханизм ввода вертикальных и горизонтальных поправо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- служит для при пристрелки оружия и совмещения центра прицельной сетки с точкой попадания пул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0" y="214200"/>
            <a:ext cx="3786120" cy="4597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сновные характерис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0" y="1428840"/>
            <a:ext cx="1857240" cy="3988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. Увели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0" y="20718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величение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тических прицелов составляет от 2Х до 20Х. Светосила, или ясность изображения оптических прицелов должна составлять не менее 36, при этом еще в начале 20-го века светосила прицелов могла составлять 100 и более. Переменные кратность и светосила в оптических прицелах позволяет увеличивать светосилу путем уменьшения кратности. Первый способ изменения кратности и светосилы изобрел иностранец Ляпорт, а затем способ значительно усовершенствовали иностранные фирмы «Гер» и «Цейс». В настоящее время существует множество оптических прицелов с переменным увеличением и изменением светосилы. Поле зрения, или кругозор оптическим прицелов может быть совершенно разнообразным в зависимости от назначения и обычно бывает от 2,5° при десятикратном увеличении, до более чем 20° при двухкратном увеличен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0" y="5143680"/>
            <a:ext cx="235728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Глазное расстоя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0" y="5643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лазное расстоя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на винтовках с большой отдачей составляет около 8 см, на винтовках с ничтожной отдачей, например кал. 5,6мм бокового огня может уменьшаться до 2-3 с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0" y="285840"/>
            <a:ext cx="2286000" cy="3988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ицельная сет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0" y="9288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цельная сет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птических прицелов сначала состояли из двух тонких нитей перекрещивающихся под прямым углом. Затем была испытана одна горизонтальная линия с «точкой» (маленьким шариком) в середине; после –горизонтальная нить и прицельная шпилька с заостренной вершиной; потом—одна шпилька; наконец—утолщенные нити и шпилька.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Наиболее удобной прицельной сетко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для стрельбы днем и ночью считается вертикальная шпилька с заостренной вершиной и горизонтальная толстая линия, переходящая в тонкую и прерывающуюся у центра. С развитием прицелов нити перестали употреблять, взамен их стали наносить их изображение непосредственно на стекло оптической системы. Установка по вертикали необходимая для точной стрельбы на разные дистанции, заменяющая подъем прице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media.nn.ru/data/ufiles/4/50/83/508368.b0ec738d3c8b.jpg"/>
          <p:cNvPicPr/>
          <p:nvPr/>
        </p:nvPicPr>
        <p:blipFill>
          <a:blip r:embed="rId1"/>
          <a:stretch/>
        </p:blipFill>
        <p:spPr>
          <a:xfrm>
            <a:off x="706320" y="3852720"/>
            <a:ext cx="7516800" cy="30117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6:23:23Z</dcterms:created>
  <dc:creator>Rotor</dc:creator>
  <dc:description/>
  <dc:language>en-US</dc:language>
  <cp:lastModifiedBy>Rotor</cp:lastModifiedBy>
  <dcterms:modified xsi:type="dcterms:W3CDTF">2013-02-19T17:15:46Z</dcterms:modified>
  <cp:revision>6</cp:revision>
  <dc:subject/>
  <dc:title>Slide 1</dc:title>
</cp:coreProperties>
</file>