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DFD-08C6-4526-9762-A539E49D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EE6F-9DDA-47AE-85F1-143C130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23F-65BB-4198-BA79-BA2E5D00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BD9-DBAF-46E4-8E63-33A210E0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736-461B-4B02-B8EC-AABBB331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793-AC39-4F92-9CE8-AD19E0B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38D-C8CC-4D77-A6EF-60836AF1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CBE-448B-48BA-B79C-B57044BA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4AA-8A89-4750-873C-C3A4C18D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4CF-9F3A-4FB9-8233-6545852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BC2-558C-4313-8FC6-A9172C8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B1C-8E94-490F-A363-667F99D2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A60-F7D1-43EE-BBE8-BA200754A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785880"/>
            <a:ext cx="9144000" cy="2104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Оптические прицельные приспособл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621180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 Анашкин Андрей Андреевич (9 «А» клас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0"/>
          <p:cNvSpPr/>
          <p:nvPr/>
        </p:nvSpPr>
        <p:spPr>
          <a:xfrm>
            <a:off x="0" y="2571840"/>
            <a:ext cx="4857840" cy="10674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214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ое прицельное приспособ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птический прице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ибор, используемый для более точного наведения на дальнюю или малогабаритную цель и наблюдения за местност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49г, иностранец Фредерик Калес изобрел оптический прицел с переменной кратностью увеличения. В 1972г, иностранная компания «Калес» патентует многослойное просветление оп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ая принципиальная схема оптического прицела используется и по сей день. На рисунке ниже представлена типовая схема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ременного оптического прице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i2.guns.ru/forums/icons/forum_pictures/001794/1794842.jpg"/>
          <p:cNvPicPr/>
          <p:nvPr/>
        </p:nvPicPr>
        <p:blipFill>
          <a:blip r:embed="rId1"/>
          <a:stretch/>
        </p:blipFill>
        <p:spPr>
          <a:xfrm>
            <a:off x="571680" y="2643120"/>
            <a:ext cx="4214520" cy="857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" name="TextBox 18"/>
          <p:cNvSpPr/>
          <p:nvPr/>
        </p:nvSpPr>
        <p:spPr>
          <a:xfrm>
            <a:off x="4857840" y="2500200"/>
            <a:ext cx="428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и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истема из двух (или более) линз. Диаметр объектива определяет светосилу прицела: чем больше диаметр тем больше он собирает света и обеспечивает лучшую "картинку" поля зр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9"/>
          <p:cNvSpPr/>
          <p:nvPr/>
        </p:nvSpPr>
        <p:spPr>
          <a:xfrm>
            <a:off x="0" y="3714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орачивающая систе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евращения перевернутого изображения, создаваемого объективом в прямо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обственно прицел для наведения оружия на цель. Прицельная сетка располагается в одной из фокальных плоскостей прицела (объективной или окулярной) и поэтому изображение цели и прицельная сетка визуально находятся в одной плоскости и видны глазу одинаково резко. Более подробно про прицельные сетки можете прочитать по ((ссылке)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уляр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многолинзовая конструкция предназначеная для рассматривания увеличенного прямого изображения цели и прицельной сетки. Во избежание бликов и засветок линзы окляра, а также для точной фикасации глаза в зоне полной видимости поля зрения прицела на окуляр часто надевают резиновый наглазни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ханизм ввода вертикальных и горизонтальных поправо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- служит для при пристрелки оружия и совмещения центра прицельной сетки с точкой попадания пул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214200"/>
            <a:ext cx="3786120" cy="4597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новные характерис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428840"/>
            <a:ext cx="185724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 Увели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0" y="2071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еличение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ических прицелов составляет от 2Х до 20Х. Светосила, или ясность изображения оптических прицелов должна составлять не менее 36, при этом еще в начале 20-го века светосила прицелов могла составлять 100 и более. Переменные кратность и светосила в оптических прицелах позволяет увеличивать светосилу путем уменьшения кратности. Первый способ изменения кратности и светосилы изобрел иностранец Ляпорт, а затем способ значительно усовершенствовали иностранные фирмы «Гер» и «Цейс». В настоящее время существует множество оптических прицелов с переменным увеличением и изменением светосилы. Поле зрения, или кругозор оптическим прицелов может быть совершенно разнообразным в зависимости от назначения и обычно бывает от 2,5° при десятикратном увеличении, до более чем 20° при двухкратном увелич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5143680"/>
            <a:ext cx="2357280" cy="6426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лазное расстоя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564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зное расстоя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а винтовках с большой отдачей составляет около 8 см, на винтовках с ничтожной отдачей, например кал. 5,6мм бокового огня может уменьшаться до 2-3 с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285840"/>
            <a:ext cx="2286000" cy="398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цельная се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0" y="928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цельная сет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птических прицелов сначала состояли из двух тонких нитей перекрещивающихся под прямым углом. Затем была испытана одна горизонтальная линия с «точкой» (маленьким шариком) в середине; после –горизонтальная нить и прицельная шпилька с заостренной вершиной; потом—одна шпилька; наконец—утолщенные нити и шпилька.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Наиболее удобной прицельной сетк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ля стрельбы днем и ночью считается вертикальная шпилька с заостренной вершиной и горизонтальная толстая линия, переходящая в тонкую и прерывающуюся у центра. С развитием прицелов нити перестали употреблять, взамен их стали наносить их изображение непосредственно на стекло оптической системы. Установка по вертикали необходимая для точной стрельбы на разные дистанции, заменяющая подъем приц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edia.nn.ru/data/ufiles/4/50/83/508368.b0ec738d3c8b.jpg"/>
          <p:cNvPicPr/>
          <p:nvPr/>
        </p:nvPicPr>
        <p:blipFill>
          <a:blip r:embed="rId1"/>
          <a:stretch/>
        </p:blipFill>
        <p:spPr>
          <a:xfrm>
            <a:off x="706320" y="3852720"/>
            <a:ext cx="7516800" cy="3011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23:23Z</dcterms:created>
  <dc:creator>Rotor</dc:creator>
  <dc:description/>
  <dc:language>en-US</dc:language>
  <cp:lastModifiedBy>Rotor</cp:lastModifiedBy>
  <dcterms:modified xsi:type="dcterms:W3CDTF">2013-02-19T17:15:46Z</dcterms:modified>
  <cp:revision>6</cp:revision>
  <dc:subject/>
  <dc:title>Slide 1</dc:title>
</cp:coreProperties>
</file>