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224B-A928-4733-BACB-A6DEAE8F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ED286-E6EE-476F-A01F-8B70F30B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37AED-89D3-436E-880B-3860F9E7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72472-BF7F-4602-B201-6B62A104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547A-0701-4A5F-B876-FEE772C0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D28E-2FB2-4369-9695-5B2E5B2B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AB2C-B450-4CA2-AD3A-7322714A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02AB-469D-4E5E-9554-41063132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1967-4BDB-4130-8719-33913895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C120-9AA2-4230-B03C-94867CCF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5EF0-47B7-449B-8736-C0602B2D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8C253-501A-46B2-845E-72E427EB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BFB1-DAE4-4C21-8F4C-1F4AD011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EE2A-87AF-40BB-B8AA-A5BBA387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17D1-1C9B-497D-BCFF-9F027F72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D905-6966-4B1A-AAD3-0609A8F9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1E09-83A1-4365-920F-78521BFA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A747B-6F07-498A-ABCD-692422BA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6E65-5064-462B-8CF3-EEAA4C00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65B49-9948-4BAB-A288-86213C8F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89177-CA51-4AA5-9B28-E01226A5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94068-F695-4D04-A04D-40EA7B59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93F08-184D-4529-8EDA-35DBFC9A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354B7-A192-4F41-BCBA-FAF27F22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4F9D-0887-40E0-916F-7FBAFA2ACEA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074B-7BAA-424F-B35C-C4742FC9326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5444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1564-16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040360" cy="4248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WILLIAM SHAKESPEARE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New Globe Theater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6912000" cy="3989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5734080"/>
            <a:ext cx="82296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 built Globe Theater in Thames English. Built on September 19, 199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hakespeare retired from the theatre to his native Stratford sometime between 1611 and 1613 – having bought a large house called “New place”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119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hakespeare died on his 52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birthday on April 23, 1616 in Stratford and was buried in the chancel of the Church Of Holy Trinity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472000" cy="40608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5734080"/>
            <a:ext cx="82296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hakespeare's tomb in the church at Stratford-upon-Av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Shakespeare’s tomb, is covered by a stone inscribed with a curse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Good friend for Jesus sake forb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To dig the dust enclosed here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Blest be the man that spares these stones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And curst be he that moves my bon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e Sonnets of William Shakespeare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1600200"/>
            <a:ext cx="4038480" cy="4530600"/>
            <a:chOff x="457200" y="1600200"/>
            <a:chExt cx="4038480" cy="453060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 txBox="1"/>
            <p:nvPr/>
          </p:nvSpPr>
          <p:spPr>
            <a:xfrm>
              <a:off x="457200" y="1600200"/>
              <a:ext cx="403848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nnets are fourteen-line lyrical po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s collection of Sonnets were published in a book called "a Book called Shakespeare's sonnettes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Sonnets appeared, without Shakespeare's permission, in 160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omas Thorpe was granted a license to publish "a Booke called Shakespeare's sonnettes" and this entry is in the Stationer's Regis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Shakespeare’s work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wrote 37 play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about 154 sonne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ffcc"/>
                </a:solidFill>
                <a:latin typeface="Tahoma"/>
              </a:rPr>
              <a:t>Shakespeare wrote:</a:t>
            </a:r>
            <a:endParaRPr b="0" lang="en-US" sz="5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ahoma"/>
              </a:rPr>
              <a:t>Comed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ahoma"/>
              </a:rPr>
              <a:t>Histor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ahoma"/>
              </a:rPr>
              <a:t>Traged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cc"/>
                </a:solidFill>
                <a:latin typeface="Tahoma"/>
              </a:rPr>
              <a:t>Romeo and Juliet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ritten about 1595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onsidered a tragedy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cc"/>
                </a:solidFill>
                <a:latin typeface="Tahoma"/>
              </a:rPr>
              <a:t>William Shakespeare was born in Stratford-upon-Avon, Warwickshire, England, </a:t>
            </a: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on the 23d of</a:t>
            </a:r>
            <a:r>
              <a:rPr b="0" lang="uk-UA" sz="2500" spc="-1" strike="noStrike">
                <a:solidFill>
                  <a:srgbClr val="ffffcc"/>
                </a:solidFill>
                <a:latin typeface="Tahoma"/>
              </a:rPr>
              <a:t> April </a:t>
            </a: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in </a:t>
            </a:r>
            <a:r>
              <a:rPr b="0" lang="uk-UA" sz="2500" spc="-1" strike="noStrike">
                <a:solidFill>
                  <a:srgbClr val="ffffcc"/>
                </a:solidFill>
                <a:latin typeface="Tahoma"/>
              </a:rPr>
              <a:t>1564</a:t>
            </a:r>
            <a:r>
              <a:rPr b="0" lang="uk-UA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7294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cc"/>
                </a:solidFill>
                <a:latin typeface="Tahoma"/>
              </a:rPr>
              <a:t>John Shakespeare, William's father, was a successful Stratford businessman, in the glove-making and wool-dealing trades.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349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John Shakespeare married Mary Arden,a daught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of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landowner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uk-UA" sz="1900" spc="-1" strike="noStrike">
                <a:solidFill>
                  <a:srgbClr val="ffffcc"/>
                </a:solidFill>
                <a:latin typeface="Tahoma"/>
              </a:rPr>
              <a:t>As the son of a prominent town official, Shakespeare was entitled to attend King Edward VI Grammar school in central Stratford</a:t>
            </a:r>
            <a:r>
              <a:rPr b="0" lang="en-US" sz="1900" spc="-1" strike="noStrike">
                <a:solidFill>
                  <a:srgbClr val="ffffcc"/>
                </a:solidFill>
                <a:latin typeface="Tahoma"/>
              </a:rPr>
              <a:t>. He learned </a:t>
            </a:r>
            <a:r>
              <a:rPr b="0" lang="uk-UA" sz="1900" spc="-1" strike="noStrike">
                <a:solidFill>
                  <a:srgbClr val="ffffcc"/>
                </a:solidFill>
                <a:latin typeface="Tahoma"/>
              </a:rPr>
              <a:t>Latin grammar and literature</a:t>
            </a:r>
            <a:r>
              <a:rPr b="0" lang="en-US" sz="1900" spc="-1" strike="noStrike">
                <a:solidFill>
                  <a:srgbClr val="ffffcc"/>
                </a:solidFill>
                <a:latin typeface="Tahoma"/>
              </a:rPr>
              <a:t> there. </a:t>
            </a:r>
            <a:br>
              <a:rPr sz="1900"/>
            </a:b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559584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Shakespeare did not attend university, which was not at all unusual for the tim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456000" cy="3600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043600" y="1600200"/>
            <a:ext cx="3246480" cy="3562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At the age of 18, he married Anne Hathaway on November 28, 1582 at Temple Grafton, near Stratfor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Hathaway, who was 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, wa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ight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years his senior.</a:t>
            </a:r>
            <a:r>
              <a:rPr b="0" lang="uk-UA" sz="38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illiam Shakespeare and Anne 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Hathawa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had three childr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Their first daugh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,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Susann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born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on 26 M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158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Two years later twins followed Hamnet and Judith, baptized on 2 Februa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158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’s only son Hamnet died aged only 11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William Shakespeare left his home, his family, his wife and children in Stratford-upon-Avon to work in London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3960720" cy="406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hakespeare – an acto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is not known exactly how many roles Shakespeare played himself but he had began his career on the stage by 159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y 1594 he had a reputation of being an actor, had written many plays, and became principal playwright of Lord Chamberlain’s m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In 1599 he became a part owner of the Globe Theatre, and in 1608 of the Blackfriars Theatr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1628640"/>
            <a:ext cx="3600360" cy="4530960"/>
            <a:chOff x="4572000" y="1628640"/>
            <a:chExt cx="3600360" cy="453096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4572000" y="1628640"/>
              <a:ext cx="3600360" cy="453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 txBox="1"/>
            <p:nvPr/>
          </p:nvSpPr>
          <p:spPr>
            <a:xfrm>
              <a:off x="4572000" y="1628640"/>
              <a:ext cx="3600360" cy="453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The Globe Theat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55640" y="1600200"/>
            <a:ext cx="3095640" cy="3413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940280" y="1600200"/>
            <a:ext cx="2727360" cy="34131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515772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ntrance of The Globe Theater                   Top view of Shakespeare's Globe The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1:41:53Z</dcterms:created>
  <dc:creator>Galya</dc:creator>
  <dc:description/>
  <dc:language>en-US</dc:language>
  <cp:lastModifiedBy>Galya</cp:lastModifiedBy>
  <dcterms:modified xsi:type="dcterms:W3CDTF">2010-04-23T18:51:22Z</dcterms:modified>
  <cp:revision>11</cp:revision>
  <dc:subject/>
  <dc:title>Слайд 1</dc:title>
</cp:coreProperties>
</file>