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71CEB-3BD3-4F53-92C4-A927D3737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D8C80-A924-44E1-9BDF-CABB561F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2C8C1-059B-43BF-B4DE-29D0174C7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DBD73-C9D8-4E43-BE17-106115AC6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8629-8A5B-4B82-B013-B4F827A9C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51D2-BA01-4018-BB3A-9944E78F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E71B-EEB2-4ED1-8AF2-10748973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DA8C-592A-472E-B62E-561832FC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025B-0F3D-468F-8C94-6A2584EF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D716-E4BB-45E6-994B-EB526188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2FC2-C9C6-4D77-89E9-12F0160D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9F112-B3A9-4CE0-8691-926DAD5A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B6BA-45B6-4D13-86A4-D9736F62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B87E-AED6-49D5-9657-9E06907F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2821-3C25-4517-9C68-CAB8D902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34B7-0FCB-4D31-B8A9-B239932B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2302-7C24-44D8-A1F3-731C59939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4727F-7481-4C95-BD81-E32C0194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69CDE-21A3-4811-B263-2180EA30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E5406-2EBA-4496-9D83-3B8FA541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2C5C9-D4BE-411C-AEC6-7D310A6D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12D51-0F5D-4FBD-87B8-727FFADE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53150-A6E1-4C0E-901D-CB8406E3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626E7-1B73-4192-A390-D39E63BD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2806-E6CD-4FCF-8413-B8F742F2CE0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B000-7E90-4F3C-A0B3-94412619743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5444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1564-161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040360" cy="4248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WILLIAM SHAKESPEARE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ffffcc"/>
                </a:solidFill>
                <a:latin typeface="Tahoma"/>
              </a:rPr>
              <a:t>New Globe Theater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6912000" cy="39895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5734080"/>
            <a:ext cx="822960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 built Globe Theater in Thames English. Built on September 19, 1999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Shakespeare retired from the theatre to his native Stratford sometime between 1611 and 1613 – having bought a large house called “New place”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1196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Shakespeare died on his 52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birthday on April 23, 1616 in Stratford and was buried in the chancel of the Church Of Holy Trinity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5472000" cy="40608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5734080"/>
            <a:ext cx="822960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hakespeare's tomb in the church at Stratford-upon-Av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Shakespeare’s tomb, is covered by a stone inscribed with a curse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Good friend for Jesus sake forbe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To dig the dust enclosed here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Blest be the man that spares these stones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And curst be he that moves my bone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The Sonnets of William Shakespeare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57200" y="1600200"/>
            <a:ext cx="4038480" cy="4530600"/>
            <a:chOff x="457200" y="1600200"/>
            <a:chExt cx="4038480" cy="4530600"/>
          </a:xfrm>
        </p:grpSpPr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38480" cy="45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 txBox="1"/>
            <p:nvPr/>
          </p:nvSpPr>
          <p:spPr>
            <a:xfrm>
              <a:off x="457200" y="1600200"/>
              <a:ext cx="4038480" cy="453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nnets are fourteen-line lyrical po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is collection of Sonnets were published in a book called "a Book called Shakespeare's sonnettes"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Sonnets appeared, without Shakespeare's permission, in 160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omas Thorpe was granted a license to publish "a Booke called Shakespeare's sonnettes" and this entry is in the Stationer's Regis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Shakespeare’s work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wrote 37 play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about 154 sonne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ffffcc"/>
                </a:solidFill>
                <a:latin typeface="Tahoma"/>
              </a:rPr>
              <a:t>Shakespeare wrote:</a:t>
            </a:r>
            <a:endParaRPr b="0" lang="en-US" sz="57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ahoma"/>
              </a:rPr>
              <a:t>Comed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ahoma"/>
              </a:rPr>
              <a:t>Histor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ahoma"/>
              </a:rPr>
              <a:t>Traged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cc"/>
                </a:solidFill>
                <a:latin typeface="Tahoma"/>
              </a:rPr>
              <a:t>Romeo and Juliet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ritten about 1595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onsidered a tragedy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cc"/>
                </a:solidFill>
                <a:latin typeface="Tahoma"/>
              </a:rPr>
              <a:t>William Shakespeare was born in Stratford-upon-Avon, Warwickshire, England, </a:t>
            </a: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on the 23d of</a:t>
            </a:r>
            <a:r>
              <a:rPr b="0" lang="uk-UA" sz="2500" spc="-1" strike="noStrike">
                <a:solidFill>
                  <a:srgbClr val="ffffcc"/>
                </a:solidFill>
                <a:latin typeface="Tahoma"/>
              </a:rPr>
              <a:t> April </a:t>
            </a: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in </a:t>
            </a:r>
            <a:r>
              <a:rPr b="0" lang="uk-UA" sz="2500" spc="-1" strike="noStrike">
                <a:solidFill>
                  <a:srgbClr val="ffffcc"/>
                </a:solidFill>
                <a:latin typeface="Tahoma"/>
              </a:rPr>
              <a:t>1564</a:t>
            </a:r>
            <a:r>
              <a:rPr b="0" lang="uk-UA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7294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ffcc"/>
                </a:solidFill>
                <a:latin typeface="Tahoma"/>
              </a:rPr>
              <a:t>John Shakespeare, William's father, was a successful Stratford businessman, in the glove-making and wool-dealing trades.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3499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John Shakespeare married Mary Arden,a daughte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of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 landowner</a:t>
            </a: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0" lang="uk-UA" sz="1900" spc="-1" strike="noStrike">
                <a:solidFill>
                  <a:srgbClr val="ffffcc"/>
                </a:solidFill>
                <a:latin typeface="Tahoma"/>
              </a:rPr>
              <a:t>As the son of a prominent town official, Shakespeare was entitled to attend King Edward VI Grammar school in central Stratford</a:t>
            </a:r>
            <a:r>
              <a:rPr b="0" lang="en-US" sz="1900" spc="-1" strike="noStrike">
                <a:solidFill>
                  <a:srgbClr val="ffffcc"/>
                </a:solidFill>
                <a:latin typeface="Tahoma"/>
              </a:rPr>
              <a:t>. He learned </a:t>
            </a:r>
            <a:r>
              <a:rPr b="0" lang="uk-UA" sz="1900" spc="-1" strike="noStrike">
                <a:solidFill>
                  <a:srgbClr val="ffffcc"/>
                </a:solidFill>
                <a:latin typeface="Tahoma"/>
              </a:rPr>
              <a:t>Latin grammar and literature</a:t>
            </a:r>
            <a:r>
              <a:rPr b="0" lang="en-US" sz="1900" spc="-1" strike="noStrike">
                <a:solidFill>
                  <a:srgbClr val="ffffcc"/>
                </a:solidFill>
                <a:latin typeface="Tahoma"/>
              </a:rPr>
              <a:t> there. </a:t>
            </a:r>
            <a:br>
              <a:rPr sz="1900"/>
            </a:br>
            <a:endParaRPr b="0" lang="en-US" sz="1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559584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Shakespeare did not attend university, which was not at all unusual for the tim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3456000" cy="3600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043600" y="1600200"/>
            <a:ext cx="3246480" cy="3562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br>
              <a:rPr sz="17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At the age of 18, he married Anne Hathaway on November 28, 1582 at Temple Grafton, near Stratfor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Hathaway, who was 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, wa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ight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years his senior.</a:t>
            </a:r>
            <a:r>
              <a:rPr b="0" lang="uk-UA" sz="3800" spc="-1" strike="noStrike">
                <a:solidFill>
                  <a:srgbClr val="ffffff"/>
                </a:solidFill>
                <a:latin typeface="Tahoma"/>
              </a:rPr>
              <a:t>  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illiam Shakespeare and Anne </a:t>
            </a: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Hathawa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had three childre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Their first daugh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,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Susanna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 born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on 26 Ma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158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Two years later twins followed Hamnet and Judith, baptized on 2 Februar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1585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iam’s only son Hamnet died aged only 11.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William Shakespeare left his home, his family, his wife and children in Stratford-upon-Avon to work in London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3960720" cy="4060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98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hakespeare – an acto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t is not known exactly how many roles Shakespeare played himself but he had began his career on the stage by 159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y 1594 he had a reputation of being an actor, had written many plays, and became principal playwright of Lord Chamberlain’s me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In 1599 he became a part owner of the Globe Theatre, and in 1608 of the Blackfriars Theatr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572000" y="1628640"/>
            <a:ext cx="3600360" cy="4530960"/>
            <a:chOff x="4572000" y="1628640"/>
            <a:chExt cx="3600360" cy="453096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4572000" y="1628640"/>
              <a:ext cx="3600360" cy="453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 txBox="1"/>
            <p:nvPr/>
          </p:nvSpPr>
          <p:spPr>
            <a:xfrm>
              <a:off x="4572000" y="1628640"/>
              <a:ext cx="3600360" cy="453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ffffcc"/>
                </a:solidFill>
                <a:latin typeface="Tahoma"/>
              </a:rPr>
              <a:t>The Globe Theate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55640" y="1600200"/>
            <a:ext cx="3095640" cy="34131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940280" y="1600200"/>
            <a:ext cx="2727360" cy="34131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9640" y="515772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ntrance of The Globe Theater                   Top view of Shakespeare's Globe Thea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1:41:53Z</dcterms:created>
  <dc:creator>Galya</dc:creator>
  <dc:description/>
  <dc:language>en-US</dc:language>
  <cp:lastModifiedBy>Galya</cp:lastModifiedBy>
  <dcterms:modified xsi:type="dcterms:W3CDTF">2010-04-23T18:51:22Z</dcterms:modified>
  <cp:revision>11</cp:revision>
  <dc:subject/>
  <dc:title>Слайд 1</dc:title>
</cp:coreProperties>
</file>