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4AF-3B15-4AC2-B908-51C24B03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FA8-963E-4E43-9DB4-CCCA3EB4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79F-BEC2-4713-BA8B-493C202C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1BA-D652-4F8C-ABB5-25668F20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17C-BCA9-40E6-A102-6A3164A4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FB1-E833-4066-97F5-5279C08E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C23-4A2C-4A89-B697-4DB0EC6F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2B3-BD53-4D23-9075-E62DBB2E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664-633A-4F10-BB5D-BFCB8AB9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979-1853-47D3-B329-5341E3DD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DEB-6B3B-4D19-A142-254471EF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2C3-6753-4E62-8430-903746E2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44EA-A5E2-4BCE-89AD-334A747DD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ostoevsk.narod.ru/illustra/crime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kruchenova.files.wordpress.com/2010/11/shm-4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elp-rus-student.ru/pictures/24/911_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oma.ru/fotos/journal/79/3981_11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трет Ф. М. Достоевского. 1929. Ксил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Портрет Ф. М. Достоевского. 1929. Ксилография"/>
          <p:cNvPicPr/>
          <p:nvPr/>
        </p:nvPicPr>
        <p:blipFill>
          <a:blip r:embed="rId1"/>
          <a:stretch/>
        </p:blipFill>
        <p:spPr>
          <a:xfrm>
            <a:off x="324000" y="0"/>
            <a:ext cx="4352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реступление и наказание» в «Русском вестнике» М. Н. Кат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«Преступление и наказание» в «Русском вестнике» М. Н. Каткова"/>
          <p:cNvPicPr/>
          <p:nvPr/>
        </p:nvPicPr>
        <p:blipFill>
          <a:blip r:embed="rId1"/>
          <a:stretch/>
        </p:blipFill>
        <p:spPr>
          <a:xfrm>
            <a:off x="324000" y="549360"/>
            <a:ext cx="36385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Дом-музей писателя в Старой Руссе"/>
          <p:cNvPicPr/>
          <p:nvPr/>
        </p:nvPicPr>
        <p:blipFill>
          <a:blip r:embed="rId1"/>
          <a:stretch/>
        </p:blipFill>
        <p:spPr>
          <a:xfrm>
            <a:off x="1619280" y="333360"/>
            <a:ext cx="6481800" cy="4719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12360" y="5589000"/>
            <a:ext cx="41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-музей писателя в Старой Ру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лярный переулок, угол М. Мещан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есь были написаны  романы "Преступление и наказание", "Игрок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15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ЛЮСТРАЦИИ К РОМАНУ Ф.М. ДОСТОЕВСКОГО «ПРЕСТУПЛЕНИЕ И НАКАЗАНИЕ»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Шмаринов Дементий Алекс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 авто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1907-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4542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оману Ф. М. Достоевского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ступле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каза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4476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. В. Граблев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Дом Раскольникова" (Столярный переулок, угол М. Мещанс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Картинка 85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60280"/>
            <a:ext cx="68407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Шмаринов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ступ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аз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5 из 2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765000"/>
            <a:ext cx="3338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туп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каз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. Раскольников. Рис. А. Н. Корсак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Картинка 41 из 2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89000"/>
            <a:ext cx="3859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л. к роману Ф. М. Достоевского «Преступление и наказание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се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371760" cy="48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люстрация к роману «Преступление и наказание». Раскольников. Художник И. Глазунов.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ДОСТОЕВСКИЙ Федор Михайлович (Иллюстрации к произведениям) (слайд 09)"/>
          <p:cNvPicPr/>
          <p:nvPr/>
        </p:nvPicPr>
        <p:blipFill>
          <a:blip r:embed="rId1"/>
          <a:stretch/>
        </p:blipFill>
        <p:spPr>
          <a:xfrm>
            <a:off x="684360" y="692280"/>
            <a:ext cx="33620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асилий Перов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трет писателя Федора Михайловича Достоевского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872. Холст, масло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ретьяковская Галерея, Москва, Росс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 Василий Перов. &#10; Портрет писателя &#10; Федора Михайловича Достоевского. &#10; Vasily Perov. &#10; Portrait of the  Writer &#10; Feodor Dostoevsky. "/>
          <p:cNvPicPr/>
          <p:nvPr/>
        </p:nvPicPr>
        <p:blipFill>
          <a:blip r:embed="rId1"/>
          <a:stretch/>
        </p:blipFill>
        <p:spPr>
          <a:xfrm>
            <a:off x="2843280" y="0"/>
            <a:ext cx="3743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л. к роману Ф. М. Достоевского «Игрок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ислав Степанович Косенков Косе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3372120" cy="5353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27640" y="1628640"/>
            <a:ext cx="377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люстрация к роману «Бесы». Переполох на балу. Художник И. Глаз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ДОСТОЕВСКИЙ Федор Михайлович (Иллюстрации к произведениям) (слайд 13)"/>
          <p:cNvPicPr/>
          <p:nvPr/>
        </p:nvPicPr>
        <p:blipFill>
          <a:blip r:embed="rId1"/>
          <a:stretch/>
        </p:blipFill>
        <p:spPr>
          <a:xfrm>
            <a:off x="324000" y="260280"/>
            <a:ext cx="393516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Картинка 113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4903920" cy="6696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оману Ф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стоевск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Идиот". 1956 г. Князь Мышк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люстрация роману «Идиот». Князь Мышкин после смерти Настасьи Филипповны. Художник И. Глазунов. 19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ДОСТОЕВСКИЙ Федор Михайлович (Иллюстрации к произведениям) (слайд 12)"/>
          <p:cNvPicPr/>
          <p:nvPr/>
        </p:nvPicPr>
        <p:blipFill>
          <a:blip r:embed="rId1"/>
          <a:stretch/>
        </p:blipFill>
        <p:spPr>
          <a:xfrm>
            <a:off x="1042920" y="333360"/>
            <a:ext cx="71056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роману «Братья Карамазовы». Грушенька. Художник И. Глазунов. 198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ДОСТОЕВСКИЙ Федор Михайлович (Иллюстрации к произведениям) (слайд 16)"/>
          <p:cNvPicPr/>
          <p:nvPr/>
        </p:nvPicPr>
        <p:blipFill>
          <a:blip r:embed="rId1"/>
          <a:stretch/>
        </p:blipFill>
        <p:spPr>
          <a:xfrm>
            <a:off x="155520" y="46080"/>
            <a:ext cx="4181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рассказу Ф.М. Достоевского «Дядюшкин сон». Художник В.А. Милаше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ДОСТОЕВСКИЙ Федор Михайлович (Иллюстрации к произведениям) (слайд 07)"/>
          <p:cNvPicPr/>
          <p:nvPr/>
        </p:nvPicPr>
        <p:blipFill>
          <a:blip r:embed="rId1"/>
          <a:stretch/>
        </p:blipFill>
        <p:spPr>
          <a:xfrm>
            <a:off x="684360" y="907920"/>
            <a:ext cx="3781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рассказу Ф.М. Достоевского «Дядюшкин сон». Художник В.А. Милаше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ДОСТОЕВСКИЙ Федор Михайлович (Иллюстрации к произведениям) (слайд 08)"/>
          <p:cNvPicPr/>
          <p:nvPr/>
        </p:nvPicPr>
        <p:blipFill>
          <a:blip r:embed="rId1"/>
          <a:stretch/>
        </p:blipFill>
        <p:spPr>
          <a:xfrm>
            <a:off x="1116000" y="765000"/>
            <a:ext cx="33814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866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.С.Глазу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60958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повести «Бедные люди». Варенька Доброселова. Художник Н. Верещаг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ДОСТОЕВСКИЙ Федор Михайлович (Иллюстрации к произведениям) (слайд 01)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роману «Братья Карамазовы». Грушенька у Катерины Ивановны. Художник Д. Н. Кардов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ДОСТОЕВСКИЙ Федор Михайлович (Иллюстрации к произведениям) (слайд 18)"/>
          <p:cNvPicPr/>
          <p:nvPr/>
        </p:nvPicPr>
        <p:blipFill>
          <a:blip r:embed="rId1"/>
          <a:stretch/>
        </p:blipFill>
        <p:spPr>
          <a:xfrm>
            <a:off x="468360" y="260280"/>
            <a:ext cx="37497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. Васильев. Портрет Достоевского, 197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461988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оевский в 26 лет, портрет Константина Трутовского, 184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Достоевский в 26 лет, портрет Константина Трутовского, 1847"/>
          <p:cNvPicPr/>
          <p:nvPr/>
        </p:nvPicPr>
        <p:blipFill>
          <a:blip r:embed="rId1"/>
          <a:stretch/>
        </p:blipFill>
        <p:spPr>
          <a:xfrm>
            <a:off x="0" y="0"/>
            <a:ext cx="47052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вюра на дереве, выполненная В. А. Фаворским в 1929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едор Достоевский"/>
          <p:cNvPicPr/>
          <p:nvPr/>
        </p:nvPicPr>
        <p:blipFill>
          <a:blip r:embed="rId1"/>
          <a:stretch/>
        </p:blipFill>
        <p:spPr>
          <a:xfrm>
            <a:off x="395280" y="333360"/>
            <a:ext cx="36496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ванов И.А. Портрет: Ф. М. Достоев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Иванов И.А. Портрет: Ф. М. Достоевского. 1978-1979 гг."/>
          <p:cNvPicPr/>
          <p:nvPr/>
        </p:nvPicPr>
        <p:blipFill>
          <a:blip r:embed="rId1"/>
          <a:stretch/>
        </p:blipFill>
        <p:spPr>
          <a:xfrm>
            <a:off x="468360" y="476280"/>
            <a:ext cx="4084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546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го Л. Мо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рет Федора Достоевског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21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Хуго Л. Мор. Портрет Федора Достоевского"/>
          <p:cNvPicPr/>
          <p:nvPr/>
        </p:nvPicPr>
        <p:blipFill>
          <a:blip r:embed="rId1"/>
          <a:stretch/>
        </p:blipFill>
        <p:spPr>
          <a:xfrm>
            <a:off x="2195640" y="0"/>
            <a:ext cx="5495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Ф.М. Достоевский, 1880 г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393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6:44:56Z</dcterms:created>
  <dc:creator>Customer</dc:creator>
  <dc:description/>
  <dc:language>en-US</dc:language>
  <cp:lastModifiedBy>User</cp:lastModifiedBy>
  <dcterms:modified xsi:type="dcterms:W3CDTF">2012-02-03T14:56:02Z</dcterms:modified>
  <cp:revision>3</cp:revision>
  <dc:subject/>
  <dc:title>Слайд 1</dc:title>
</cp:coreProperties>
</file>