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794-B09C-413E-BA81-23FC78D8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0D2-C377-4FF0-8955-DD59D04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957-DF5A-4ABD-B4B0-2A8F632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11F-D09C-4FD4-93A7-B88A29B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1EF-9456-4E62-BEF4-55824EB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734-2EF7-4A6E-BAE5-845D9C0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8CF-B7F9-43AC-9163-930656A5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91E-72D8-45E8-9536-B1B755A2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302-53C5-4AFD-AB94-D1752622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9DD-F2A8-464C-A58E-C948618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28F-0CE8-4C7C-B6CC-92B7B40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959-624A-4A49-B2F2-550721B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F37B-5E96-4D5B-A64C-00E2F5AA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ostoevsk.narod.ru/illustra/crime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kruchenova.files.wordpress.com/2010/11/shm-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elp-rus-student.ru/pictures/24/911_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oma.ru/fotos/journal/79/3981_11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трет Ф. М. Достоевского. 1929. Ксил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Портрет Ф. М. Достоевского. 1929. Ксилография"/>
          <p:cNvPicPr/>
          <p:nvPr/>
        </p:nvPicPr>
        <p:blipFill>
          <a:blip r:embed="rId1"/>
          <a:stretch/>
        </p:blipFill>
        <p:spPr>
          <a:xfrm>
            <a:off x="324000" y="0"/>
            <a:ext cx="4352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ступление и наказание» в «Русском вестнике» М. Н. Кат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«Преступление и наказание» в «Русском вестнике» М. Н. Каткова"/>
          <p:cNvPicPr/>
          <p:nvPr/>
        </p:nvPicPr>
        <p:blipFill>
          <a:blip r:embed="rId1"/>
          <a:stretch/>
        </p:blipFill>
        <p:spPr>
          <a:xfrm>
            <a:off x="324000" y="549360"/>
            <a:ext cx="36385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Дом-музей писателя в Старой Руссе"/>
          <p:cNvPicPr/>
          <p:nvPr/>
        </p:nvPicPr>
        <p:blipFill>
          <a:blip r:embed="rId1"/>
          <a:stretch/>
        </p:blipFill>
        <p:spPr>
          <a:xfrm>
            <a:off x="1619280" y="333360"/>
            <a:ext cx="6481800" cy="4719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412360" y="5589000"/>
            <a:ext cx="41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м-музей писателя в Старой Ру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лярный переулок, угол М. Мещан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 были написаны  романы "Преступление и наказание", "Игро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И К РОМАНУ Ф.М. ДОСТОЕВСКОГО «ПРЕСТУПЛЕНИЕ И НАКАЗАНИЕ»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Шмаринов Дементий Алекс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 ав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1907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454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оману Ф. М. Достоевского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47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 В. Граблев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Дом Раскольникова" (Столярный переулок, угол М. Мещанс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Картинка 85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60280"/>
            <a:ext cx="68407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Шмаринов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ступ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Картинка 5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3338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ступ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. Раскольников. Рис. А. Н. Корсак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41 из 2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38592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Преступление и наказани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337176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Преступление и наказание». Раскольников. Художник И. Глазунов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ДОСТОЕВСКИЙ Федор Михайлович (Иллюстрации к произведениям) (слайд 09)"/>
          <p:cNvPicPr/>
          <p:nvPr/>
        </p:nvPicPr>
        <p:blipFill>
          <a:blip r:embed="rId1"/>
          <a:stretch/>
        </p:blipFill>
        <p:spPr>
          <a:xfrm>
            <a:off x="684360" y="692280"/>
            <a:ext cx="3362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асилий Перов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трет писателя Федора Михайловича Достоевског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872. Холст, масло.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етьяковская Галерея, Москва, Росс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 Василий Перов. &#10; Портрет писателя &#10; Федора Михайловича Достоевского. &#10; Vasily Perov. &#10; Portrait of the  Writer &#10; Feodor Dostoevsky. "/>
          <p:cNvPicPr/>
          <p:nvPr/>
        </p:nvPicPr>
        <p:blipFill>
          <a:blip r:embed="rId1"/>
          <a:stretch/>
        </p:blipFill>
        <p:spPr>
          <a:xfrm>
            <a:off x="2843280" y="0"/>
            <a:ext cx="3743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л. к роману Ф. М. Достоевского «Игрок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ислав Степанович Косенков Косе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3372120" cy="5353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27640" y="1628640"/>
            <a:ext cx="377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к роману «Бесы». Переполох на балу. Художник И. Глаз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ДОСТОЕВСКИЙ Федор Михайлович (Иллюстрации к произведениям) (слайд 13)"/>
          <p:cNvPicPr/>
          <p:nvPr/>
        </p:nvPicPr>
        <p:blipFill>
          <a:blip r:embed="rId1"/>
          <a:stretch/>
        </p:blipFill>
        <p:spPr>
          <a:xfrm>
            <a:off x="324000" y="260280"/>
            <a:ext cx="3935160" cy="55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Картинка 113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903920" cy="6696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ману Ф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стоевск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"Идиот". 1956 г. Князь Мышк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3200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люстрация роману «Идиот». Князь Мышкин после смерти Настасьи Филипповны. Художник И. Глазунов. 19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ОСТОЕВСКИЙ Федор Михайлович (Иллюстрации к произведениям) (слайд 12)"/>
          <p:cNvPicPr/>
          <p:nvPr/>
        </p:nvPicPr>
        <p:blipFill>
          <a:blip r:embed="rId1"/>
          <a:stretch/>
        </p:blipFill>
        <p:spPr>
          <a:xfrm>
            <a:off x="1042920" y="333360"/>
            <a:ext cx="71056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. Художник И. Глазунов. 198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ДОСТОЕВСКИЙ Федор Михайлович (Иллюстрации к произведениям) (слайд 16)"/>
          <p:cNvPicPr/>
          <p:nvPr/>
        </p:nvPicPr>
        <p:blipFill>
          <a:blip r:embed="rId1"/>
          <a:stretch/>
        </p:blipFill>
        <p:spPr>
          <a:xfrm>
            <a:off x="155520" y="46080"/>
            <a:ext cx="4181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ДОСТОЕВСКИЙ Федор Михайлович (Иллюстрации к произведениям) (слайд 07)"/>
          <p:cNvPicPr/>
          <p:nvPr/>
        </p:nvPicPr>
        <p:blipFill>
          <a:blip r:embed="rId1"/>
          <a:stretch/>
        </p:blipFill>
        <p:spPr>
          <a:xfrm>
            <a:off x="684360" y="907920"/>
            <a:ext cx="37814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ассказу Ф.М. Достоевского «Дядюшкин сон». Художник В.А. Милаше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ДОСТОЕВСКИЙ Федор Михайлович (Иллюстрации к произведениям) (слайд 08)"/>
          <p:cNvPicPr/>
          <p:nvPr/>
        </p:nvPicPr>
        <p:blipFill>
          <a:blip r:embed="rId1"/>
          <a:stretch/>
        </p:blipFill>
        <p:spPr>
          <a:xfrm>
            <a:off x="1116000" y="765000"/>
            <a:ext cx="33814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66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.С.Глазу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60958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повести «Бедные люди». Варенька Доброселова. Художник Н. Верещаг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ДОСТОЕВСКИЙ Федор Михайлович (Иллюстрации к произведениям) (слайд 01)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люстрация к роману «Братья Карамазовы». Грушенька у Катерины Ивановны. Художник Д. Н. Кардов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ДОСТОЕВСКИЙ Федор Михайлович (Иллюстрации к произведениям) (слайд 18)"/>
          <p:cNvPicPr/>
          <p:nvPr/>
        </p:nvPicPr>
        <p:blipFill>
          <a:blip r:embed="rId1"/>
          <a:stretch/>
        </p:blipFill>
        <p:spPr>
          <a:xfrm>
            <a:off x="468360" y="260280"/>
            <a:ext cx="37497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. Васильев. Портрет Достоевского, 197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461988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оевский в 26 лет, портрет Константина Трутовского, 184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Достоевский в 26 лет, портрет Константина Трутовского, 1847"/>
          <p:cNvPicPr/>
          <p:nvPr/>
        </p:nvPicPr>
        <p:blipFill>
          <a:blip r:embed="rId1"/>
          <a:stretch/>
        </p:blipFill>
        <p:spPr>
          <a:xfrm>
            <a:off x="0" y="0"/>
            <a:ext cx="47052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авюра на дереве, выполненная В. А. Фаворским в 1929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едор Достоевский"/>
          <p:cNvPicPr/>
          <p:nvPr/>
        </p:nvPicPr>
        <p:blipFill>
          <a:blip r:embed="rId1"/>
          <a:stretch/>
        </p:blipFill>
        <p:spPr>
          <a:xfrm>
            <a:off x="395280" y="333360"/>
            <a:ext cx="3649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ванов И.А. Портрет: Ф. М. Достое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Иванов И.А. Портрет: Ф. М. Достоевского. 1978-1979 гг."/>
          <p:cNvPicPr/>
          <p:nvPr/>
        </p:nvPicPr>
        <p:blipFill>
          <a:blip r:embed="rId1"/>
          <a:stretch/>
        </p:blipFill>
        <p:spPr>
          <a:xfrm>
            <a:off x="468360" y="476280"/>
            <a:ext cx="4084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546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го Л. Мо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рет Федора Достоевског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21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Хуго Л. Мор. Портрет Федора Достоевского"/>
          <p:cNvPicPr/>
          <p:nvPr/>
        </p:nvPicPr>
        <p:blipFill>
          <a:blip r:embed="rId1"/>
          <a:stretch/>
        </p:blipFill>
        <p:spPr>
          <a:xfrm>
            <a:off x="2195640" y="0"/>
            <a:ext cx="5495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.М. Достоевский, 1880 г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934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6:44:56Z</dcterms:created>
  <dc:creator>Customer</dc:creator>
  <dc:description/>
  <dc:language>en-US</dc:language>
  <cp:lastModifiedBy>User</cp:lastModifiedBy>
  <dcterms:modified xsi:type="dcterms:W3CDTF">2012-02-03T14:56:02Z</dcterms:modified>
  <cp:revision>3</cp:revision>
  <dc:subject/>
  <dc:title>Слайд 1</dc:title>
</cp:coreProperties>
</file>