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FFD-E828-46CF-BBD6-5A1BA63C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E7B-C791-4BE2-AD41-494928D5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3CA-B01E-4F67-A62D-069F488B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9CD-17ED-47C5-BFDF-1372A33A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2AE-C38C-415E-91C3-2702AC74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307-A9E3-418B-8E27-B701D888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7C6-FD6C-4497-81B4-32BC8011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9B5-314F-4B74-BAFC-1EE1EACA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C18-5E3C-494B-8C1B-AFC1DB52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E3F-91F5-4DBA-8AAD-3BBDD1E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701-820B-44A3-BBDB-2116109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F74-58CE-4732-ACD3-1273B77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BE15-E337-415B-8B03-25358B46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цкий и Молчалин как два типа молодого поколения начал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11164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6000" y="4912560"/>
            <a:ext cx="1728720" cy="173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ю подготовил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ващенко А.В., 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«СОШ № 32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рода Орен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онце пьесы Молчалин разоблачен, унижен, испуган. Но надолго 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535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я показало, что Молчалины живучи и неуязвимы, они «возрождаются» быстро, и это печально. Подобные люди не раскаиваются, потому что не осознают глубины своего падения. А это страшно.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разе Чацкого Грибоедов впервые в русской литературе показал "нового человека", воодушевленного возвышенными идеями, поднимающего бунт против реакционного общества в защиту свободы, гуманности, ума и культуры, воспитывающего в себе новую мораль, вырабатывающего новый взгляд на мир и на человеческие отнош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9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цкий пламенно любит родину , с ее могучими силами, заветными преданиями, умом и трудолюбием. Эта подлинная любовь к родине обернулась горячей ненавистью ко всяческому рабству и угнетению народа — социальному, политическому, духовном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4114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читает, что нужно служить "делу, а не лицам". Чацкий защищает право человека свободно выбирать себе занятия: путешествовать, жить в деревне, "вперить ум" в науки или посвятить себя "искусствам творческим, высоким и прекрасным", поэтому Фамусов объявляет Чацкого опасным человеком, не признающим власте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0672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Чацкий серьезно готовится к общественной деятельности. "Он славно пишет, переводит", — говорит о нем Фамусов и все твердит о его высоком уме. Он путешествовал, учился, читал, был в сношениях с министрами и разошелся. Нетрудно догадаться, почему: "Служить бы рад, — прислуживаться тошно"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84520" y="0"/>
            <a:ext cx="465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 из главных отличительных свойств Чацкого — полнота чувств. Она проявилась и в том, как он любит, и в том, как он гневается и ненавидит. Во всем он проявляет истинную страсть, всегда бывает горяч душою. Он пылок, остер, умен, красноречив, полон жизни, нетерпелив. Он являет собой воплощение доброй юности, честности, доверчивости, по-юному безграничной веры в себя и свои возможности. Эти качества делают его открытым для ошибок и уязвимым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ная драма Чацкого — его неразделенная любовь к Софье. Софья, при всех своих хороших душевных задатках, все же целиком принадлежит 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мусовскому миру. Она не может полюбить Чацкого, который всем складом своего ума и своей души противостоит этому миру. Он любит серьезно, видя в Софье будущую жену. Между тем Чацкому досталось выпить до дна горькую чашу, не найдя ни в ком "сочувствия живого", и уехать, увозя с собой только "мильон терзаний«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Ах, тот скажи любви конец, Кто на три года вдаль уед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цкий —положительный герой в комедии Грибоедова. Но его нельзя назвать исключительным и одиноким. Мыслитель, борец-декабрист и романтик соединяются в нем, как они часто соединялись в ту эпоху в реальных людях и реальной жизн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него есть единомышленники: мы узнаем о них благодаря внесценическим персонажам (тем, о которых говорится в пьесе, но которые прямо не заняты в действии). Это, например, профессора Педагогического института, которые, по словам княгини Тугоуховской, "упражняются в расколах и безверье", это "безумные люди", склонные к ученью, это племянник княгини князь Федор, "химик и ботаник". Чацкий в комедии представляет молодое мыслящее поколение русского общества, его лучшую часть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цкий и Молчалин: сопоставительная характе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77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оставитель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ц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ча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оисх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оспитание, 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зненные ц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тношение к Соф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Отношение к фамусовскому общест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цкий и Молчалин — ровесники, но тем резче между ними контраст. Каждый из них показывает один из вариантов пути, который может выбрать молодежь: путь правдоискателей   и путь “бессловесных”, которые достигнут “степеней известных”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сочинения «Жизненные принципы Чацкого и Молчал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Чацкий и Молчалин - два типа молодого поколения 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оставительная характеристика геро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происхо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ос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особенности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жизненные ц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отношение к фамусовскому об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отношение к Соф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тог против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489744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 Молчалина — один из самых распространенных в русской литературе. Но первая встреча с этим образом происходит в пьесе “Горе от ума”. Грибоедов проявил большую силу публицистического обобщения. Маленького чиновника — секретаря Фамусова — автор возвел в символ значительной социально-политической группы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олчалин стал нарицательным обозначением подлости, лакейств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вом знакомстве трудно определить настоящее лицо Молчал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82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ми робкий  и застенчивый молодо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юбленная Софья наделяет его массой достоинств. “Герой ее романа” “и вкрадчив и умен”, он “за других себя забыть готов”, “уступчив, скромен, тих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4140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кто же такой Молчалин: смиренный скромник, неуклюжий и смешной в своем угодничестве, или преуспевающий подлец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вая характер Молчалина, Грибоедов показал влияние чиновничьей морали на развитие и поведение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детства героя учили рабскому угодничеству перед сильными мира ( “угождать всем людям без изъятья”), поэтому он  готов до гроба угождать всякому, кто “кормит и поит, а иногда и чином одарит”. Он, если надо, может принять  и вид любовника “в угодность дочери такого человека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сть — главное оружие Молчалина. Он льстит всем, кто может быть полез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сновы молчалинского благополуч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умеренность и аккуратность”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“не сочинитель я”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“в мои лета не должно сметь свое суждение иметь”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ведь надобно ж зависеть от других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за несколько лет, проведенных в Москве, Молчалин успел сделать неплохую карьеру: получил чин асессора и “три награжденья”, зачислен по архивам, сумел установить нужные связи, завязать выгодные знакомств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ка смиренника быстро слетает с него, когда он говорит с теми, кого считает ниже себ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Лизой Молчалин старается выглядеть повесой, забыв 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б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ни во что не ставит Чацкого, поэтому позволяет себе давать последнему советы. В глазах Молчалина Чацкий — неудачник, поэтому с ним можно вести себя презрительно и снисход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4211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залось бы, перед нами совершенно неприглядная и бесполезная личность, но, увы,  вслед за Чацким приходится признать, что “Молчалины блаженствуют на свете”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 Писарев писал: “Молчалин сказал себе: “Я хочу составить карьеру”, — и пошел по той дороге, которая ведет к “степеням известным”: пошел и уже не своротит ни вправо, ни влево; умирай его мать в стороне от дороги, зови его любимая женщина в соседнюю рощу, плюй ему весь свет в глаза, чтобы остановить его движение, он все будет идти и дойдет...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5:43:17Z</dcterms:created>
  <dc:creator>Алекс</dc:creator>
  <dc:description/>
  <dc:language>en-US</dc:language>
  <cp:lastModifiedBy>Sam</cp:lastModifiedBy>
  <dcterms:modified xsi:type="dcterms:W3CDTF">2010-11-14T06:58:25Z</dcterms:modified>
  <cp:revision>4</cp:revision>
  <dc:subject/>
  <dc:title>         Чацкий и Молчалин</dc:title>
</cp:coreProperties>
</file>