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FD8D-972F-45C8-A995-962D8C33C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2655-753F-410C-BA8E-2A36D86F0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B545-6EDF-4F01-A39F-6C7355658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3A2-C165-4552-A99E-292060AD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5F4-E007-43E2-BD6F-FBDAC96C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CDC-FAC7-479E-9915-290D2F89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D68-F7A8-4627-B819-6160DB91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50C-BD59-4D50-9CFC-7E0310CF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4B9-27FE-46A7-AEC6-EF87F6A5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DC7-DA6A-4D80-82AD-29F15263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0AC-A95E-4F97-9B22-DF8D9227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112-F98B-46EB-88C5-FA075C1E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971-3235-40DA-B100-1B1870DC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D8B-C206-4EF1-B140-BB3826C2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012-8B57-4097-A030-D0DF1DC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CDA-1DF7-4AA4-BF3C-398839018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6547-1884-43FF-9FF2-81D6A2446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562C-8657-48B3-BD06-475BAFFB8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024C-05F8-4CC4-955A-3516C1F39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69B3-CAC5-4972-8D9B-BAF9FBE62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5D49-20B9-4C83-88C3-F5ED0DC45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6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DF7F-BF58-4448-8091-EEBB2709F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5EB3-4D83-4F18-BFEA-F50F05D1D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2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Коля</cp:lastModifiedBy>
  <dcterms:modified xsi:type="dcterms:W3CDTF">2013-07-23T17:16:09Z</dcterms:modified>
  <cp:revision>16</cp:revision>
  <dc:subject/>
  <dc:title>Информационная деятельность человека</dc:title>
</cp:coreProperties>
</file>