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2948-26C3-4483-8645-5F1866833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BB25-6C4D-407C-8814-856B7B4A3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86AF-2AC6-4330-8360-EEFA22599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8B1-A10A-48C5-8D5A-D43F67D2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BAD-3888-46AE-81D3-0703AF68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3AE-92D3-494B-9E58-2EC9D9D1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1E9-BC99-4766-AC3A-BA9F5BD9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1D6-DA37-40AE-8F05-F59B4D0B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F9F-0ED2-4201-96F1-6D1E5972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AE3-D558-4373-BA16-B9042DE0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983-7B45-42F7-9CB4-6F80980C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EFA-1BA0-45EF-95E0-5D5DC7A5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A33-C82D-4BA9-8D61-FC12F9A0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DD5-1330-47AA-A6C6-A0278CC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FCB-044D-48C2-BA58-A05CF3DD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8CEB-0A4E-4D19-AAA1-B7496C6C4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3B0C-DA82-46D2-B57F-FB06CA93C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9054-939D-42AE-A9AA-C5D218B5A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0873-1A3C-4736-9FE3-D7E5729D4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8388-B8D1-4430-A92D-7DCCEDD53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11D5-634B-40CC-8946-66E1C233C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6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4777-8E94-439A-8FBF-52D0B2B35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D329-3C82-4D6D-846E-668C1E656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2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Коля</cp:lastModifiedBy>
  <dcterms:modified xsi:type="dcterms:W3CDTF">2013-07-23T17:16:09Z</dcterms:modified>
  <cp:revision>16</cp:revision>
  <dc:subject/>
  <dc:title>Информационная деятельность человека</dc:title>
</cp:coreProperties>
</file>