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34.jpeg" ContentType="image/jpeg"/>
  <Override PartName="/ppt/media/image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98AA-A1A7-4B65-A172-A90BE852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D57-ED13-45FF-AEFB-B16C124B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C884-D0FE-472F-8010-1C8619BE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E34-F794-4213-8718-4E28998C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F952-A4C2-4B8F-A4D6-C7070C9E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1E09-C201-4A62-83E9-68B08EF0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2584-673E-4E52-AF99-594188F5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7496-D339-4594-B013-AC2E7793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5558-D681-4B09-A388-50B20249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D632-99D1-4D45-910C-E5ADF21D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3FCA-01D9-4749-B32F-F05DD043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0F17-7CA6-408A-AB25-6D7A8B9A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A0C0-CD02-4088-90B0-EC6F0F65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ECD4-9373-48CA-B1DA-677EFE63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4A14-84F1-4C90-BD5F-0C5B8FFB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0DBA-9D66-48C9-86C5-DE2D2C1B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5E3B-203F-4347-8F38-7396814C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2A83-7332-47B9-A666-DEA2E7A4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588D-B280-41CC-949A-8A68DF42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1F9E-6F05-4D08-B951-7FC97CE3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0522-A04D-4A0C-AC59-F44D2BBF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4CCA-AAF5-4FEC-B7A2-78E28CB4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8801-4BF4-4809-985F-D916B61F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EA3A-7682-4285-AD1C-BBB44056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0954-40D2-4C60-B70F-6A6271D6235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D537-C259-49C2-B9B0-87C8230753C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vm.kemsu.ru/rus/palaeolith/chauv-img2.html" TargetMode="External"/><Relationship Id="rId2" Type="http://schemas.openxmlformats.org/officeDocument/2006/relationships/image" Target="../media/image28.png"/><Relationship Id="rId3" Type="http://schemas.openxmlformats.org/officeDocument/2006/relationships/hyperlink" Target="http://vm.kemsu.ru/rus/palaeolith/chauv-img1.html" TargetMode="External"/><Relationship Id="rId4" Type="http://schemas.openxmlformats.org/officeDocument/2006/relationships/image" Target="../media/image29.png"/><Relationship Id="rId5" Type="http://schemas.openxmlformats.org/officeDocument/2006/relationships/hyperlink" Target="http://vm.kemsu.ru/rus/palaeolith/chauv-img4.html" TargetMode="External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19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vm.kemsu.ru/person/sautuola-r.html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УЛЬТУРА ПЕРВОБЫТНОГО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БЩЕСТВ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2222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9640" y="4019400"/>
            <a:ext cx="813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вобытная эпоха была самым длительным периодом в истории человечества. А для некоторых народов продолжается и по сей ден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знать первобытную культуру нам помогают три наук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00"/>
                </a:solidFill>
                <a:uFillTx/>
                <a:latin typeface="Tahoma"/>
              </a:rPr>
              <a:t>археологи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(на основании материальных остатков деятельности человека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00"/>
                </a:solidFill>
                <a:uFillTx/>
                <a:latin typeface="Tahoma"/>
              </a:rPr>
              <a:t>этнография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н а основе бытовых и культурных особенностей народов мира, традиционного искусства)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00"/>
                </a:solidFill>
                <a:uFillTx/>
                <a:latin typeface="Tahoma"/>
              </a:rPr>
              <a:t>Лингвистика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на основе особенностей языка, фольклора, мифов и легенд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67960" y="0"/>
            <a:ext cx="717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Особенности живописи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палеоли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70884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Изображения очень реалистичн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точны в детал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даётся 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динамик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движ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в живописи палеолита почти нет рыб, змей, птиц, насекомых и растений. Зато 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преобладают крупные животны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Не часто встречаются и изображения челове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в  рисунках 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не соблюдены пропорци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между величиной отдельных животных. Мамонты и бизоны изображались той же величины, что и горные козлы, и льв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использование 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широкой палитры красо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Характерной особенностью первобытного изобразительного искусства была 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передача глубины пространств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Некоторые изображения перспективны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4237200"/>
            <a:ext cx="3840120" cy="2620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43280" y="4313160"/>
            <a:ext cx="36007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9000"/>
            <a:ext cx="378000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ЕЩЕРА ЛЯС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РАНЦИЯ, Верхний палеоли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ТОРИЯ ОТКРЫ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 сентября 1940 года четверо ребят из французской деревни Мартиньяк гуляли со своей собакой. Заметив лисью нору, они принялись её раскапывать и обнаружили вход в пеще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5399280" cy="5060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5280" y="4064040"/>
            <a:ext cx="4103640" cy="2793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5589720"/>
            <a:ext cx="41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фото – школьники Равида и Марсаль с преподавателем Леоном Равалем и учёным аббатом Брей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3351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511680" y="26028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отонда с бык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221000"/>
            <a:ext cx="8732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щера Ляско была открыта для осмотра в 1948 году. Известность чуть не погубила пещеру. Ежедневное присутствие нескольких сотен туристов (а летом это число достигало 2 тысячи человек в день) нарушилась экология пещеры  - в ней появились микроорганизмы - и росписи стали покрываться зеленью. Пещера была закрыта, законсервированаи вскоре её копия была восоздана в другом месте. Любой из нас может увидеть пещеру Ляско-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780000" y="333360"/>
            <a:ext cx="4895640" cy="4587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3525840" cy="297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2720" y="3425760"/>
            <a:ext cx="34405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тонда с быка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мое просторное верхне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мещение пеще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исунки на стенах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ображают купных рогат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ивотных: бык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нтилоп Г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72000" y="1700280"/>
            <a:ext cx="36561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895640" cy="4587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535280" cy="3073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716360" y="765000"/>
            <a:ext cx="4195800" cy="4392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523840" y="27288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ЛОД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734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та сцена изображена на стене на дне колодезного ствола. Рядом с упавшим человеком  нарисовано раненное большое копытное животное (бизон) с вываливающимся внутренностями. Изображения человека в эту эпоху единич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67640" cy="4729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4000" y="5877000"/>
            <a:ext cx="837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ещере Пешь-Мерль на отдельной стене  длиной 4 метра рисунки нанесены в технике трафарета, по которому распылялась жидкая крас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34800" y="333360"/>
            <a:ext cx="52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ЩЕРА ПЕШЬ-МЕРЛЬ. ФРАН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9280" y="58680"/>
            <a:ext cx="754200" cy="6799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42920" y="591120"/>
            <a:ext cx="41767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живописи и графике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мезолита и неолит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преобладают 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схематические многофигурные композици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запечатлевшие сцены охоты, военные эпизоды, культовые церемо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ображения, сопровождавшие устные рассказы, приобретают более 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условный характер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а правдоподобие отходит на второй план. Среди них особенно 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много контурных рисунков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внутренняя часть которых закрашена красками, а иногда покрыта 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штриховк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Фигуры животных и человека невелики по разме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на из интереснейших композиций того времени — «Сражающиеся лучники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003640" y="692280"/>
            <a:ext cx="3934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995640" y="260280"/>
            <a:ext cx="4824360" cy="311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788000" y="3645000"/>
            <a:ext cx="3973320" cy="2781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56400" y="407880"/>
            <a:ext cx="322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ПОВА ПЕЩЕРА. РОСС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ерхний палеоли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502640"/>
            <a:ext cx="3889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и во многих других подобных случаях, сама пещера известна очень давно. В 1760 г. она была уже описана в одном из историко-географических сочинений о Приуралье. С пещерой связано много местных преданий и легенд, отмеченных В.И.Да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нимание археологов было привлечено к ней только после 1959 г., когда зоолог А.В.Рюмин обнаружил на стенах пещеры палеолитические изображения. Cреди них хорошо распознаются мамонты, носорог, бизон и лошад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47640" y="1008000"/>
            <a:ext cx="5740560" cy="5192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14360" y="33480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оры  ДРАКЕНСБЕРГ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ЮЖНО АФРИКАНСКАЯ РЕСПУБЛ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6180120"/>
            <a:ext cx="58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оспись изображает редкие сцены рыбной лов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524400" cy="5454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0120" y="0"/>
            <a:ext cx="52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ЩЕРА НЬО. ФРАНЦИЯ. Верхний палеоли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88800" y="623736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исунок углё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140360" y="692280"/>
            <a:ext cx="459576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777080" cy="5064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5667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учая традиционное искусство, мы можем представить, понять жизнь первобытного человека. Большой интерес представляет современная культура племен Африки, Австралии и Океании, различные виды их художественно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36320" y="260280"/>
            <a:ext cx="3245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ЩЕРА ШОВЕ. ФРАН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ерхний палеоли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327320"/>
            <a:ext cx="50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дна из самых громких и самых последних сенсаций не только археологических, но общекультурных. Пещеру открыли 18 декабря 1994 г. три спелеолога Жан-Мари Шове, Эльет Брюнель Дешамс и Кристиан Хиллэй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25240"/>
            <a:ext cx="5003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одробное исследование пещеры займет не один десяток лет. Однако уже сейчас можно сказать, что в пещере четыре больших "зала", в которых около или более 300 изображений. Живопись прекрасно сохранилась. </a:t>
            </a:r>
            <a:r>
              <a:rPr b="0" lang="en-US" sz="1600" spc="-1" strike="noStrike">
                <a:solidFill>
                  <a:srgbClr val="ff9900"/>
                </a:solidFill>
                <a:latin typeface="Tahoma"/>
              </a:rPr>
              <a:t>На сегодняшний день это – одна из самых ранних на Земле образцов живописи (около 32 тыс. лет)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Уже первые наблюдения очень существенно пошатнули устоявшиеся представления об искусстве эпохи верхнего палеолита и отодвинули его начало почти на 5 тысячелетий в глубину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67640" y="4670280"/>
            <a:ext cx="2376360" cy="2187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8360" y="260280"/>
            <a:ext cx="3600360" cy="2352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76720" y="2708280"/>
            <a:ext cx="230508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859280" y="4653000"/>
            <a:ext cx="1892520" cy="1944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211640" y="1197000"/>
            <a:ext cx="3274920" cy="3311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300720" y="3213000"/>
            <a:ext cx="2519280" cy="2430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2700360" y="0"/>
            <a:ext cx="1469880" cy="1538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6443640" y="260280"/>
            <a:ext cx="2246400" cy="23036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0920" y="476280"/>
            <a:ext cx="49006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ВЫЕ РИСУ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усть предок жизнью жил полузверин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о мы его наследьем дорож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н не умел слепить горшок из глин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оялся духов, выдуманных 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о до сих пор в его глухой пеще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лпой теней стремительно жив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етят по стенам яростные звер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вирепые противники 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лаз мамонта испуганно коситс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ежит олень, погоней окрылё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пал, и, умирая, шевелитс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кровь глотает раненный биз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хотники бесшумно шли по следу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громким криком открывали б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закрепляли трудную побе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исунком лёгким, тонкою резьб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Валентин Берес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189320" cy="2914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26920" y="189000"/>
            <a:ext cx="78854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КЕРАМИКА И ОРНАМЕН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981000"/>
            <a:ext cx="459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списной сосуд. Поздний БРОНЗОВЫЙ ВЕК. Санкт-Петербург. Эрмита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140360" y="4869000"/>
            <a:ext cx="1715760" cy="1726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012000" y="4724280"/>
            <a:ext cx="2587320" cy="1852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V="1" rot="10800000">
            <a:off x="0" y="988560"/>
            <a:ext cx="450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Особая область первобытного искусства – орнамен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эпоху</a:t>
            </a: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 палеолит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появляется орнамент в виде параллельных волнистых линий, зубцов, спиралей, которым покрывали </a:t>
            </a: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оруд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На керамик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орнамент появляется в эпоху </a:t>
            </a: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неолит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месте с возникновением гончарного дела. Создавая орнамент по образцам природы, человек стремился к постижению природных зна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39640" y="4797360"/>
            <a:ext cx="3456000" cy="17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324000"/>
            <a:ext cx="9144000" cy="4714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722680" y="5373720"/>
            <a:ext cx="60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временная живопись австралийских абориге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01480" y="3284640"/>
            <a:ext cx="864252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амый длительный период истории человечества и его культуры —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каменный век (40—4 тыс. лет до н. э.)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нем различают три этапа: </a:t>
            </a: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палеолит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40—12 тыс. лет до н. э.),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мезолит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(12—8 тыс. лет до н. э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неолит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10—4 тыс. лет до н. э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эпоху неолита медь постепенно вытесняет камень, на смену меди приходит более твердая и прочная бронза (сплав меди с оловом), а затем и железо, намного превосходящее по прочности бронз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Эпохи бронзы и желез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у различных народов начинались в разное время (3—1 тыс. лет до н. э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ЕРИОДИЗАЦИЯ ПЕРВОБЫТНОЙ КУЛЬТУР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756160" y="1628280"/>
            <a:ext cx="58014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«Первым оружьем людей были руки, ногти и зуб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Камни, а также лесных деревьев обломки и сучья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Силы железа потом и меди были открыт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Но применение меди скорей, чем железа, узнали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римский поэт и философ I в. до н. э. Лукрец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3605040" cy="5040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427640" y="1341360"/>
            <a:ext cx="4392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Жизнь древних людей была неотделима от природы. Люди считали, что в природе всё взаимосвяза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ТОТЕМИЗМ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вера в сверхъестественную связь между группой людей и группой материальных вещ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качестве тотемов чаще всего выступали животные, реже – растения или предме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юди сочиняли рассказы о тотемных животных. Так родились первые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миф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 тотемической мифологией тесно связаны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обряд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РЕЛИГИОЗНЫЕ ПРЕДСТАВЛЕНИЯ ДРЕВНЕГО ЧЕЛОВЕ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067280" y="476280"/>
            <a:ext cx="4824360" cy="4721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6200" y="419040"/>
            <a:ext cx="347508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о же представляло собой искусство на заре человечества?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воначально оно носило </a:t>
            </a: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синкретический характер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о есть в нем </a:t>
            </a: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не выделялись и не различались его основные виды: изобразительное искусство, театр, музыка и танец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лавной причиной такой синкретичности искусства была его тесная связь с религиозными верованиями и особенностями трудовой деятельности первобытного челове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5392800"/>
            <a:ext cx="53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амятники первобытной культуры, сохранившиеся до наших дней, представлены главным образом произведениями изобразительного искусст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26920" y="189000"/>
            <a:ext cx="78854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АСКАЛЬНАЯ ЖИВОПИС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2113200"/>
            <a:ext cx="36352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ими инструментами пользовался человек, чтобы запечатлеть увиденно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вые рисунки, вероятно, были выполнены самым примитивным способом — пальцами, ветками или костями по мягкой глине. На стенах пещер проводились прямые и волнистые параллельные линии, так называемые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«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макароны»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753080" cy="3938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46280" y="6237360"/>
            <a:ext cx="548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амый древний вид петроглифов «макароны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83628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 состоянию на 1994 г. в Европе известно более 300 пещер, гротов или навесов с изображениями бесспорно относящимися к эпохе верхнего палеолита. Из них в России - 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6021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тпечатки рук имеют значение личного клейма. Краску скорее всего выдували сквозь полые стебли раст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530064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Пещере рук стена сплошь покрыта такими контурами. Считается. Что их оставили древние охотники между 9 000 и 7 000 годами до н.э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112000" cy="3773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84240" y="4724280"/>
            <a:ext cx="41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ЩЕРА РУК. АРГЕНТИ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40428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 древнейшим изображениям следует также отнести и оттиски человеческой руки с широко расставленными пальцами, обведенные конту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79400" y="333360"/>
            <a:ext cx="3378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ЕЩЕРА АЛЬТАМИ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ИСПАНИЯ. Палеоли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43760" y="2924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изон и ла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исунок глиной и угл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1472400"/>
            <a:ext cx="453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стоящей сенсацией стали находки испанского адвоката и археолога-любителя Марселино Саутуолы в 1875 г. в пещере близ деревни Альтамира (Испания). Двадцать пять цветных изображений бизонов в натуральную величину украшали стены пещеры. Некоторые животные лежали на земле, другие спокойно щипали траву, третьи, падая от стрелы охотника, корчились в мук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076720" y="144360"/>
            <a:ext cx="3456000" cy="2801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32360" y="3789360"/>
            <a:ext cx="395604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79640" y="765000"/>
            <a:ext cx="4014720" cy="2838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333360"/>
            <a:ext cx="1709640" cy="2305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1080" y="1961280"/>
            <a:ext cx="6622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 существовании пещеры знали все в этой округе, здесь прятались от непогоды пастухи и устраивали привал охотники. Но только спустя 11 лет, в 1879 г., гуляя по окрестностям усадьбы и войдя в пещеру, девятилетняя дочь М. де Саутуолы Мария обратила внимание своего отца на трудно различимые в темноте пещеры странные изображения на потолке одного из ее "залов". "Смотри, папа, быки", - сказала девочка.  С этого дня начались длительные злоключения Марселино де Саутуол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утуолу обвинили в умышленной фальсификации, в том, что эти росписи были сделаны одним из его друзей - художником, гостившим в его замке. Только почти через 15 лет после смерти М. Де Саутуолы его оппоненты, вынуждены были публично признать свою неправоту и согласиться с тем, что живопись Альтамиры относится к эпохе палеоли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237168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21:18:01Z</dcterms:created>
  <dc:creator>Lena</dc:creator>
  <dc:description/>
  <dc:language>en-US</dc:language>
  <cp:lastModifiedBy>Lena</cp:lastModifiedBy>
  <dcterms:modified xsi:type="dcterms:W3CDTF">2007-10-15T22:11:47Z</dcterms:modified>
  <cp:revision>32</cp:revision>
  <dc:subject/>
  <dc:title>ИСКУССТВО ПЕРВОБЫТНОГО ОБЩЕСТВА</dc:title>
</cp:coreProperties>
</file>