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13.png" ContentType="image/png"/>
  <Override PartName="/ppt/media/image12.jpeg" ContentType="image/jpeg"/>
  <Override PartName="/ppt/media/image34.jpeg" ContentType="image/jpeg"/>
  <Override PartName="/ppt/media/image5.png" ContentType="image/png"/>
  <Override PartName="/ppt/media/image31.jpeg" ContentType="image/jpeg"/>
  <Override PartName="/ppt/media/image4.jpeg" ContentType="image/jpeg"/>
  <Override PartName="/ppt/media/image25.jpeg" ContentType="image/jpeg"/>
  <Override PartName="/ppt/media/image7.jpeg" ContentType="image/jpeg"/>
  <Override PartName="/ppt/media/image28.png" ContentType="image/png"/>
  <Override PartName="/ppt/media/image38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media/image9.png" ContentType="image/pn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04BC-A744-4868-B5C3-2E4290FAE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9240-4119-4082-A599-B0E24BBE7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29F4-99CD-4F45-9BE7-A336D0D76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482A-48D7-4F31-A6DA-BB07354DF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62B04-45C4-468D-93A2-AEFFBA35E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72D75-478E-4970-BF2E-8F53DEDF0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74935-DEE0-4178-B2CD-75634CD3B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1FF72-7058-47E6-9873-ED01D418B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23B51-5B47-4732-A5AF-26F666BF9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31BE0-CFD9-4CF0-AFB5-60ED53C10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E3E14-9356-4A99-8C4A-3AC2C151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FEEC-DEB8-43A4-AB4E-06B25046D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D7BEE-3AFE-4C9D-B1C4-F6ADA420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30899-37E4-4F99-AB15-6EC7A32A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46F4B-FF19-4BD0-8E97-6970282CD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96309-5A2C-4623-87A8-F2F16EAAE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9B899-6495-4A5C-B7DA-083353260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4B7B-F372-4F73-8AAA-8254EA570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E28E-D817-425D-92AE-3B76C3CB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C7BC-87E0-46AF-A016-5CE4612C8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9411-A778-4299-AFE6-E80ED4D57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E631-2953-42E0-A47B-458E4502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32A9-1BCE-4711-B494-D91BE4C6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F8A8-BE9B-49C5-9FBA-ECB553EE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3BF0-42C3-439A-91EA-DC8710317C1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1D1DD-2B67-4E0D-A4F9-A93B9D22844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vm.kemsu.ru/rus/palaeolith/chauv-img2.html" TargetMode="External"/><Relationship Id="rId2" Type="http://schemas.openxmlformats.org/officeDocument/2006/relationships/image" Target="../media/image28.png"/><Relationship Id="rId3" Type="http://schemas.openxmlformats.org/officeDocument/2006/relationships/hyperlink" Target="http://vm.kemsu.ru/rus/palaeolith/chauv-img1.html" TargetMode="External"/><Relationship Id="rId4" Type="http://schemas.openxmlformats.org/officeDocument/2006/relationships/image" Target="../media/image29.png"/><Relationship Id="rId5" Type="http://schemas.openxmlformats.org/officeDocument/2006/relationships/hyperlink" Target="http://vm.kemsu.ru/rus/palaeolith/chauv-img4.html" TargetMode="External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19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vm.kemsu.ru/person/sautuola-r.html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234900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КУЛЬТУРА ПЕРВОБЫТНОГО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ОБЩЕСТВ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2222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39640" y="4019400"/>
            <a:ext cx="8137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ервобытная эпоха была самым длительным периодом в истории человечества. А для некоторых народов продолжается и по сей ден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ознать первобытную культуру нам помогают три науки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00"/>
                </a:solidFill>
                <a:uFillTx/>
                <a:latin typeface="Tahoma"/>
              </a:rPr>
              <a:t>археология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(на основании материальных остатков деятельности человека)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00"/>
                </a:solidFill>
                <a:uFillTx/>
                <a:latin typeface="Tahoma"/>
              </a:rPr>
              <a:t>этнография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н а основе бытовых и культурных особенностей народов мира, традиционного искусства) 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00"/>
                </a:solidFill>
                <a:uFillTx/>
                <a:latin typeface="Tahoma"/>
              </a:rPr>
              <a:t>Лингвистика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на основе особенностей языка, фольклора, мифов и легенд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867960" y="0"/>
            <a:ext cx="717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Особенности живописи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палеоли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70884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Tahoma"/>
              </a:rPr>
              <a:t>Изображения очень реалистичны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точны в деталя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ередаётся </a:t>
            </a:r>
            <a:r>
              <a:rPr b="0" lang="en-US" sz="1800" spc="-1" strike="noStrike">
                <a:solidFill>
                  <a:srgbClr val="ffcc66"/>
                </a:solidFill>
                <a:latin typeface="Tahoma"/>
              </a:rPr>
              <a:t>динамик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движ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в живописи палеолита почти нет рыб, змей, птиц, насекомых и растений. Зато </a:t>
            </a:r>
            <a:r>
              <a:rPr b="0" lang="en-US" sz="1800" spc="-1" strike="noStrike">
                <a:solidFill>
                  <a:srgbClr val="ffcc66"/>
                </a:solidFill>
                <a:latin typeface="Tahoma"/>
              </a:rPr>
              <a:t>преобладают крупные животные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Не часто встречаются и изображения человек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в  рисунках </a:t>
            </a:r>
            <a:r>
              <a:rPr b="0" lang="en-US" sz="1800" spc="-1" strike="noStrike">
                <a:solidFill>
                  <a:srgbClr val="ffcc66"/>
                </a:solidFill>
                <a:latin typeface="Tahoma"/>
              </a:rPr>
              <a:t>не соблюдены пропорци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между величиной отдельных животных. Мамонты и бизоны изображались той же величины, что и горные козлы, и льв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использование </a:t>
            </a:r>
            <a:r>
              <a:rPr b="0" lang="en-US" sz="1800" spc="-1" strike="noStrike">
                <a:solidFill>
                  <a:srgbClr val="ffcc66"/>
                </a:solidFill>
                <a:latin typeface="Tahoma"/>
              </a:rPr>
              <a:t>широкой палитры красок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Характерной особенностью первобытного изобразительного искусства была </a:t>
            </a:r>
            <a:r>
              <a:rPr b="0" lang="en-US" sz="1800" spc="-1" strike="noStrike">
                <a:solidFill>
                  <a:srgbClr val="ffcc66"/>
                </a:solidFill>
                <a:latin typeface="Tahoma"/>
              </a:rPr>
              <a:t>передача глубины пространств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Некоторые изображения перспективны!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4000" y="4237200"/>
            <a:ext cx="3840120" cy="2620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643280" y="4313160"/>
            <a:ext cx="360072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189000"/>
            <a:ext cx="3780000" cy="35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ПЕЩЕРА ЛЯСК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ФРАНЦИЯ, Верхний палеоли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СТОРИЯ ОТКРЫТ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2 сентября 1940 года четверо ребят из французской деревни Мартиньяк гуляли со своей собакой. Заметив лисью нору, они принялись её раскапывать и обнаружили вход в пещер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492360" y="260280"/>
            <a:ext cx="5399280" cy="50608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95280" y="4064040"/>
            <a:ext cx="4103640" cy="27939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5589720"/>
            <a:ext cx="412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 фото – школьники Равида и Марсаль с преподавателем Леоном Равалем и учёным аббатом Брейле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33512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511680" y="260280"/>
            <a:ext cx="222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отонда с бык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221000"/>
            <a:ext cx="8732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ещера Ляско была открыта для осмотра в 1948 году. Известность чуть не погубила пещеру. Ежедневное присутствие нескольких сотен туристов (а летом это число достигало 2 тысячи человек в день) нарушилась экология пещеры  - в ней появились микроорганизмы - и росписи стали покрываться зеленью. Пещера была закрыта, законсервированаи вскоре её копия была восоздана в другом месте. Любой из нас может увидеть пещеру Ляско-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780000" y="333360"/>
            <a:ext cx="4895640" cy="45878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79280" y="333360"/>
            <a:ext cx="3525840" cy="2979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2720" y="3425760"/>
            <a:ext cx="344052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тонда с быкам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амое просторное верхне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мещение пещер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исунки на стенах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зображают купных рогат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животных: быков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нтилоп Гн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4572000" y="1700280"/>
            <a:ext cx="365616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4895640" cy="45878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4535280" cy="30733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4716360" y="765000"/>
            <a:ext cx="4195800" cy="43927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523840" y="27288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ОЛОДЕ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57340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Эта сцена изображена на стене на дне колодезного ствола. Рядом с упавшим человеком  нарисовано раненное большое копытное животное (бизон) с вываливающимся внутренностями. Изображения человека в эту эпоху единич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8567640" cy="47293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24000" y="5877000"/>
            <a:ext cx="837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пещере Пешь-Мерль на отдельной стене  длиной 4 метра рисунки нанесены в технике трафарета, по которому распылялась жидкая крас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134800" y="333360"/>
            <a:ext cx="52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ЕЩЕРА ПЕШЬ-МЕРЛЬ. ФРАН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79280" y="58680"/>
            <a:ext cx="754200" cy="67993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042920" y="591120"/>
            <a:ext cx="417672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живописи и графике 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мезолита и неолит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преобладают </a:t>
            </a:r>
            <a:r>
              <a:rPr b="0" lang="en-US" sz="1800" spc="-1" strike="noStrike">
                <a:solidFill>
                  <a:srgbClr val="ffcc66"/>
                </a:solidFill>
                <a:latin typeface="Tahoma"/>
              </a:rPr>
              <a:t>схематические многофигурные композици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запечатлевшие сцены охоты, военные эпизоды, культовые церемон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зображения, сопровождавшие устные рассказы, приобретают более </a:t>
            </a:r>
            <a:r>
              <a:rPr b="0" lang="en-US" sz="1800" spc="-1" strike="noStrike">
                <a:solidFill>
                  <a:srgbClr val="ffcc66"/>
                </a:solidFill>
                <a:latin typeface="Tahoma"/>
              </a:rPr>
              <a:t>условный характер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а правдоподобие отходит на второй план. Среди них особенно </a:t>
            </a:r>
            <a:r>
              <a:rPr b="0" lang="en-US" sz="1800" spc="-1" strike="noStrike">
                <a:solidFill>
                  <a:srgbClr val="ffcc66"/>
                </a:solidFill>
                <a:latin typeface="Tahoma"/>
              </a:rPr>
              <a:t>много контурных рисунков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внутренняя часть которых закрашена красками, а иногда покрыта </a:t>
            </a:r>
            <a:r>
              <a:rPr b="0" lang="en-US" sz="1800" spc="-1" strike="noStrike">
                <a:solidFill>
                  <a:srgbClr val="ffcc66"/>
                </a:solidFill>
                <a:latin typeface="Tahoma"/>
              </a:rPr>
              <a:t>штриховкой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Фигуры животных и человека невелики по размер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дна из интереснейших композиций того времени — «Сражающиеся лучники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003640" y="692280"/>
            <a:ext cx="3934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995640" y="260280"/>
            <a:ext cx="4824360" cy="3114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788000" y="3645000"/>
            <a:ext cx="3973320" cy="27813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56400" y="407880"/>
            <a:ext cx="3222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АПОВА ПЕЩЕРА. РОСС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ерхний палеолит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1502640"/>
            <a:ext cx="3889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к и во многих других подобных случаях, сама пещера известна очень давно. В 1760 г. она была уже описана в одном из историко-географических сочинений о Приуралье. С пещерой связано много местных преданий и легенд, отмеченных В.И.Дале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нимание археологов было привлечено к ней только после 1959 г., когда зоолог А.В.Рюмин обнаружил на стенах пещеры палеолитические изображения. Cреди них хорошо распознаются мамонты, носорог, бизон и лошад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47640" y="1008000"/>
            <a:ext cx="5740560" cy="5192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14360" y="334800"/>
            <a:ext cx="42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Горы  ДРАКЕНСБЕРГ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ЮЖНО АФРИКАНСКАЯ РЕСПУБЛ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47640" y="6180120"/>
            <a:ext cx="587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оспись изображает редкие сцены рыбной ловл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3524400" cy="54547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20120" y="0"/>
            <a:ext cx="52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ЕЩЕРА НЬО. ФРАНЦИЯ. Верхний палеолит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188800" y="6237360"/>
            <a:ext cx="18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исунок углё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140360" y="692280"/>
            <a:ext cx="4595760" cy="54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7777080" cy="50641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56671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зучая традиционное искусство, мы можем представить, понять жизнь первобытного человека. Большой интерес представляет современная культура племен Африки, Австралии и Океании, различные виды их художественной деятель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36320" y="260280"/>
            <a:ext cx="3245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ЕЩЕРА ШОВЕ. ФРАНЦ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ерхний палеолит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327320"/>
            <a:ext cx="50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дна из самых громких и самых последних сенсаций не только археологических, но общекультурных. Пещеру открыли 18 декабря 1994 г. три спелеолога Жан-Мари Шове, Эльет Брюнель Дешамс и Кристиан Хиллэйр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225240"/>
            <a:ext cx="50036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Подробное исследование пещеры займет не один десяток лет. Однако уже сейчас можно сказать, что в пещере четыре больших "зала", в которых около или более 300 изображений. Живопись прекрасно сохранилась. </a:t>
            </a:r>
            <a:r>
              <a:rPr b="0" lang="en-US" sz="1600" spc="-1" strike="noStrike">
                <a:solidFill>
                  <a:srgbClr val="ff9900"/>
                </a:solidFill>
                <a:latin typeface="Tahoma"/>
              </a:rPr>
              <a:t>На сегодняшний день это – одна из самых ранних на Земле образцов живописи (около 32 тыс. лет).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Уже первые наблюдения очень существенно пошатнули устоявшиеся представления об искусстве эпохи верхнего палеолита и отодвинули его начало почти на 5 тысячелетий в глубину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67640" y="4670280"/>
            <a:ext cx="2376360" cy="2187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48360" y="260280"/>
            <a:ext cx="3600360" cy="23526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076720" y="2708280"/>
            <a:ext cx="230508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859280" y="4653000"/>
            <a:ext cx="1892520" cy="19447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211640" y="1197000"/>
            <a:ext cx="3274920" cy="33116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6300720" y="3213000"/>
            <a:ext cx="2519280" cy="24307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2700360" y="0"/>
            <a:ext cx="1469880" cy="15382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5"/>
          <a:stretch/>
        </p:blipFill>
        <p:spPr>
          <a:xfrm>
            <a:off x="6443640" y="260280"/>
            <a:ext cx="2246400" cy="23036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60920" y="476280"/>
            <a:ext cx="49006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ЕРВЫЕ РИСУН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усть предок жизнью жил полузвериной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о мы его наследьем дорожи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н не умел слепить горшок из глины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Боялся духов, выдуманных и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о до сих пор в его глухой пещер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олпой теней стремительно жив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Летят по стенам яростные звери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вирепые противники ег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Глаз мамонта испуганно косится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Бежит олень, погоней окрылё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Упал, и, умирая, шевелится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 кровь глотает раненный бизо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хотники бесшумно шли по следу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 громким криком открывали бой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 закрепляли трудную побед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исунком лёгким, тонкою резьб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Валентин Берест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572000" y="1557360"/>
            <a:ext cx="4189320" cy="29145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826920" y="189000"/>
            <a:ext cx="788544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КЕРАМИКА И ОРНАМЕН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284720" y="981000"/>
            <a:ext cx="459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Расписной сосуд. Поздний БРОНЗОВЫЙ ВЕК. Санкт-Петербург. Эрмитаж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140360" y="4869000"/>
            <a:ext cx="1715760" cy="17269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6012000" y="4724280"/>
            <a:ext cx="2587320" cy="18525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 flipV="1" rot="10800000">
            <a:off x="0" y="988560"/>
            <a:ext cx="4502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Особая область первобытного искусства – орнамент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 эпоху</a:t>
            </a:r>
            <a:r>
              <a:rPr b="0" lang="en-US" sz="1800" spc="-1" strike="noStrike">
                <a:solidFill>
                  <a:srgbClr val="ff9900"/>
                </a:solidFill>
                <a:latin typeface="Tahoma"/>
              </a:rPr>
              <a:t> палеолит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появляется орнамент в виде параллельных волнистых линий, зубцов, спиралей, которым покрывали </a:t>
            </a:r>
            <a:r>
              <a:rPr b="0" lang="en-US" sz="1800" spc="-1" strike="noStrike">
                <a:solidFill>
                  <a:srgbClr val="ff9900"/>
                </a:solidFill>
                <a:latin typeface="Tahoma"/>
              </a:rPr>
              <a:t>оруд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ahoma"/>
              </a:rPr>
              <a:t>На керамике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орнамент появляется в эпоху </a:t>
            </a:r>
            <a:r>
              <a:rPr b="0" lang="en-US" sz="1800" spc="-1" strike="noStrike">
                <a:solidFill>
                  <a:srgbClr val="ff9900"/>
                </a:solidFill>
                <a:latin typeface="Tahoma"/>
              </a:rPr>
              <a:t>неолит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вместе с возникновением гончарного дела. Создавая орнамент по образцам природы, человек стремился к постижению природных зна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539640" y="4797360"/>
            <a:ext cx="3456000" cy="17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324000"/>
            <a:ext cx="9144000" cy="47145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722680" y="5373720"/>
            <a:ext cx="60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временная живопись австралийских абориген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01480" y="3284640"/>
            <a:ext cx="8642520" cy="32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амый длительный период истории человечества и его культуры —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каменный век (40—4 тыс. лет до н. э.)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 нем различают три этапа: </a:t>
            </a:r>
            <a:r>
              <a:rPr b="0" lang="en-US" sz="1800" spc="-1" strike="noStrike">
                <a:solidFill>
                  <a:srgbClr val="ff9900"/>
                </a:solidFill>
                <a:latin typeface="Tahoma"/>
              </a:rPr>
              <a:t>палеолит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40—12 тыс. лет до н. э.),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</a:t>
            </a:r>
            <a:r>
              <a:rPr b="0" lang="en-US" sz="1800" spc="-1" strike="noStrike">
                <a:solidFill>
                  <a:srgbClr val="ff9900"/>
                </a:solidFill>
                <a:latin typeface="Tahoma"/>
              </a:rPr>
              <a:t>мезолит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(12—8 тыс. лет до н. э.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 </a:t>
            </a:r>
            <a:r>
              <a:rPr b="0" lang="en-US" sz="1800" spc="-1" strike="noStrike">
                <a:solidFill>
                  <a:srgbClr val="ff9900"/>
                </a:solidFill>
                <a:latin typeface="Tahoma"/>
              </a:rPr>
              <a:t>неолит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10—4 тыс. лет до н. э.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 эпоху неолита медь постепенно вытесняет камень, на смену меди приходит более твердая и прочная бронза (сплав меди с оловом), а затем и железо, намного превосходящее по прочности бронз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Эпохи бронзы и желез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у различных народов начинались в разное время (3—1 тыс. лет до н. э.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ПЕРИОДИЗАЦИЯ ПЕРВОБЫТНОЙ КУЛЬТУР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756160" y="1628280"/>
            <a:ext cx="58014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«Первым оружьем людей были руки, ногти и зубы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Камни, а также лесных деревьев обломки и сучья..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Силы железа потом и меди были открыт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Но применение меди скорей, чем железа, узнали.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римский поэт и философ I в. до н. э. Лукреци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3605040" cy="5040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427640" y="1341360"/>
            <a:ext cx="439236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Жизнь древних людей была неотделима от природы. Люди считали, что в природе всё взаимосвяза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ТОТЕМИЗМ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вера в сверхъестественную связь между группой людей и группой материальных вещ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 качестве тотемов чаще всего выступали животные, реже – растения или предмет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Люди сочиняли рассказы о тотемных животных. Так родились первые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мифы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 тотемической мифологией тесно связаны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обряды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РЕЛИГИОЗНЫЕ ПРЕДСТАВЛЕНИЯ ДРЕВНЕГО ЧЕЛОВЕ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067280" y="476280"/>
            <a:ext cx="4824360" cy="47210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6200" y="419040"/>
            <a:ext cx="3475080" cy="51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то же представляло собой искусство на заре человечества?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ервоначально оно носило </a:t>
            </a: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синкретический характер,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то есть в нем </a:t>
            </a: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не выделялись и не различались его основные виды: изобразительное искусство, театр, музыка и танец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лавной причиной такой синкретичности искусства была его тесная связь с религиозными верованиями и особенностями трудовой деятельности первобытного человек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80000" y="5392800"/>
            <a:ext cx="536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амятники первобытной культуры, сохранившиеся до наших дней, представлены главным образом произведениями изобразительного искусств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26920" y="189000"/>
            <a:ext cx="788544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НАСКАЛЬНАЯ ЖИВОПИС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5508720" y="2113200"/>
            <a:ext cx="363528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акими инструментами пользовался человек, чтобы запечатлеть увиденное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ервые рисунки, вероятно, были выполнены самым примитивным способом — пальцами, ветками или костями по мягкой глине. На стенах пещер проводились прямые и волнистые параллельные линии, так называемые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«</a:t>
            </a: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макароны»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4753080" cy="39387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46280" y="6237360"/>
            <a:ext cx="548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амый древний вид петроглифов «макароны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1280" y="83628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о состоянию на 1994 г. в Европе известно более 300 пещер, гротов или навесов с изображениями бесспорно относящимися к эпохе верхнего палеолита. Из них в России - 2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9640" y="602136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тпечатки рук имеют значение личного клейма. Краску скорее всего выдували сквозь полые стебли расте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530064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 Пещере рук стена сплошь покрыта такими контурами. Считается. Что их оставили древние охотники между 9 000 и 7 000 годами до н.э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050920" y="1484280"/>
            <a:ext cx="5112000" cy="37735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584240" y="4724280"/>
            <a:ext cx="416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ЕЩЕРА РУК. АРГЕНТИН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40428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 древнейшим изображениям следует также отнести и оттиски человеческой руки с широко расставленными пальцами, обведенные контур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79400" y="333360"/>
            <a:ext cx="33782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ПЕЩЕРА АЛЬТАМИ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ИСПАНИЯ. Палеоли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43760" y="29242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Бизон и лан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исунок глиной и угл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1472400"/>
            <a:ext cx="4537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стоящей сенсацией стали находки испанского адвоката и археолога-любителя Марселино Саутуолы в 1875 г. в пещере близ деревни Альтамира (Испания). Двадцать пять цветных изображений бизонов в натуральную величину украшали стены пещеры. Некоторые животные лежали на земле, другие спокойно щипали траву, третьи, падая от стрелы охотника, корчились в муках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076720" y="144360"/>
            <a:ext cx="3456000" cy="2801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932360" y="3789360"/>
            <a:ext cx="395604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979640" y="765000"/>
            <a:ext cx="4014720" cy="2838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333360"/>
            <a:ext cx="1709640" cy="23050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521080" y="1961280"/>
            <a:ext cx="66229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 существовании пещеры знали все в этой округе, здесь прятались от непогоды пастухи и устраивали привал охотники. Но только спустя 11 лет, в 1879 г., гуляя по окрестностям усадьбы и войдя в пещеру, девятилетняя дочь М. де Саутуолы Мария обратила внимание своего отца на трудно различимые в темноте пещеры странные изображения на потолке одного из ее "залов". "Смотри, папа, быки", - сказала девочка.  С этого дня начались длительные злоключения Марселино де Саутуол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аутуолу обвинили в умышленной фальсификации, в том, что эти росписи были сделаны одним из его друзей - художником, гостившим в его замке. Только почти через 15 лет после смерти М. Де Саутуолы его оппоненты, вынуждены были публично признать свою неправоту и согласиться с тем, что живопись Альтамиры относится к эпохе палеоли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0" y="3645000"/>
            <a:ext cx="2371680" cy="15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21:18:01Z</dcterms:created>
  <dc:creator>Lena</dc:creator>
  <dc:description/>
  <dc:language>en-US</dc:language>
  <cp:lastModifiedBy>Lena</cp:lastModifiedBy>
  <dcterms:modified xsi:type="dcterms:W3CDTF">2007-10-15T22:11:47Z</dcterms:modified>
  <cp:revision>32</cp:revision>
  <dc:subject/>
  <dc:title>ИСКУССТВО ПЕРВОБЫТНОГО ОБЩЕСТВА</dc:title>
</cp:coreProperties>
</file>