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C30D-0F06-431A-92A8-55AB4D866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E8BA-68D7-4B21-9F20-81BE2A2D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C0EE-A07D-4BC0-B599-A5A907084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9A2A-0AFC-4C85-BF51-71A59BDBB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F34B-AE4B-4207-8C88-A3032B95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247D-9049-4113-8A24-E53DF3CA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28DF-0C9F-4BA3-B533-51D740BC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0AF6-935C-46DE-9320-72AB9CCD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1093-5CF5-452C-9297-085DFEB9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4CDC-FEAF-4F7C-AAE4-894383F3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A3B0-ECB3-4C3B-9B88-3A634481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4931-87AD-439E-B927-CC37B666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E250-F6E1-4982-A937-28EBAB641E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37816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 Black"/>
              </a:rPr>
              <a:t>АНГЛИЙСК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 Black"/>
              </a:rPr>
              <a:t>КОЛОН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 Black"/>
              </a:rPr>
              <a:t>в СЕВЕРНОЙ АМЕРИК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508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Ы К АНИМАЦИОННОЙ СХЕМ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ОЛЕКСАНДР ХУДОБЕЦЬ alanx@ukrpost.ne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858E-55BA-4382-87D7-B305689A97E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36B623-428F-423B-8527-0283B1C621A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66760" y="1341360"/>
            <a:ext cx="8610480" cy="411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6600"/>
                </a:solidFill>
                <a:latin typeface="Arial Black"/>
              </a:rPr>
              <a:t>Нью-Йор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6600"/>
                </a:solidFill>
                <a:latin typeface="Arial Black"/>
              </a:rPr>
              <a:t>Пенсильвани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6600"/>
                </a:solidFill>
                <a:latin typeface="Arial Black"/>
              </a:rPr>
              <a:t>Нью-Джерси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6600"/>
                </a:solidFill>
                <a:latin typeface="Arial Black"/>
              </a:rPr>
              <a:t>Делавер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C363-94BF-4BC0-A321-FB86331134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75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89360" y="368280"/>
            <a:ext cx="6984000" cy="916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00"/>
                </a:solidFill>
                <a:latin typeface="Arial Black"/>
              </a:rPr>
              <a:t>ЮЖНЫЕ КОЛОНИ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12120" y="1800360"/>
            <a:ext cx="6694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ПЛАНТАЦИОННО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ХОЗЯЙСТВОВО -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ПРИМЕНЕНИЕ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ТРУД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НЕГРОВ-РАБ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A207-4EBE-4068-A553-41D6508C16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75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9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75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087160" y="6200640"/>
            <a:ext cx="3160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cc"/>
                </a:solidFill>
                <a:latin typeface="Times New Roman"/>
              </a:rPr>
              <a:t>Рисунок взят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cc"/>
                </a:solidFill>
                <a:latin typeface="Times New Roman"/>
              </a:rPr>
              <a:t>ИНТЕРНЕТ-ресурс сайт «Всемирная история в лицах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57480" y="814320"/>
            <a:ext cx="4827600" cy="5229360"/>
          </a:xfrm>
          <a:prstGeom prst="rect">
            <a:avLst/>
          </a:prstGeom>
          <a:ln w="57240">
            <a:solidFill>
              <a:srgbClr val="3333cc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3D0E-4B20-4C40-9439-0A84971A63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48440" y="1096920"/>
            <a:ext cx="7645320" cy="4665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900"/>
                </a:solidFill>
                <a:latin typeface="Arial Black"/>
              </a:rPr>
              <a:t>Виргин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900"/>
                </a:solidFill>
                <a:latin typeface="Arial Black"/>
              </a:rPr>
              <a:t>Мерилен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900"/>
                </a:solidFill>
                <a:latin typeface="Arial Black"/>
              </a:rPr>
              <a:t>Северная Каролин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900"/>
                </a:solidFill>
                <a:latin typeface="Arial Black"/>
              </a:rPr>
              <a:t>Южная Каролин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900"/>
                </a:solidFill>
                <a:latin typeface="Arial Black"/>
              </a:rPr>
              <a:t>Джордж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3260-B1A1-4A99-B494-59F31191D0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75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42160" y="620640"/>
            <a:ext cx="692604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Arial"/>
              </a:rPr>
              <a:t>КОЛОНИЗАЦИЯ-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бразование поселе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за пределами роди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020000" y="4724280"/>
            <a:ext cx="1655640" cy="131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41D2-F6DC-4AF1-9506-34F8A465C2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74680" y="565200"/>
            <a:ext cx="64123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Arial"/>
              </a:rPr>
              <a:t>МЕТРОПОЛИЯ-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ГОСУДАРСТВО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ЖИТЕЛИ КОТОРОГ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СНОВАЛИ КОЛОН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020000" y="4724280"/>
            <a:ext cx="1655640" cy="131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0D2E-03F0-4652-A8DC-92CA7ECCBC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1855" t="5009" r="35153" b="5009"/>
          <a:stretch/>
        </p:blipFill>
        <p:spPr>
          <a:xfrm>
            <a:off x="539640" y="338040"/>
            <a:ext cx="3760920" cy="6043680"/>
          </a:xfrm>
          <a:prstGeom prst="rect">
            <a:avLst/>
          </a:prstGeom>
          <a:ln w="57240">
            <a:solidFill>
              <a:srgbClr val="3333cc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3060360" y="4221000"/>
            <a:ext cx="5538960" cy="1739880"/>
          </a:xfrm>
          <a:prstGeom prst="rect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КОЛОНИИ АНГЛ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в СЕВЕРНОЙ АМЕРИК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1664 г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083920" y="6200640"/>
            <a:ext cx="237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cc"/>
                </a:solidFill>
                <a:latin typeface="Times New Roman"/>
              </a:rPr>
              <a:t>Карта взята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cc"/>
                </a:solidFill>
                <a:latin typeface="Times New Roman"/>
              </a:rPr>
              <a:t>ИНТЕРНЕТ-ресурс сайт «Древний мир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CD4C-6D33-465F-9A6B-69A310D139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1582" t="6076" r="1582" b="4513"/>
          <a:stretch/>
        </p:blipFill>
        <p:spPr>
          <a:xfrm>
            <a:off x="611280" y="525600"/>
            <a:ext cx="4684680" cy="5805360"/>
          </a:xfrm>
          <a:prstGeom prst="rect">
            <a:avLst/>
          </a:prstGeom>
          <a:ln w="57240">
            <a:solidFill>
              <a:srgbClr val="3333cc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5763960" y="3411360"/>
            <a:ext cx="2980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БРИТАНСК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ЛАД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 СЕВЕР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МЕРИ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1713 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26640" y="6200640"/>
            <a:ext cx="237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cc"/>
                </a:solidFill>
                <a:latin typeface="Times New Roman"/>
              </a:rPr>
              <a:t>Карта взята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cc"/>
                </a:solidFill>
                <a:latin typeface="Times New Roman"/>
              </a:rPr>
              <a:t>ИНТЕРНЕТ-ресурс сайт «Древний мир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E056-6767-4684-AB9C-1FDB37FFEE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314440" y="68400"/>
            <a:ext cx="42177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 Black"/>
              </a:rPr>
              <a:t>АНГЛ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 Black"/>
              </a:rPr>
              <a:t>(МЕТРОПОЛИЯ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35600" y="2981160"/>
            <a:ext cx="63313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 Black"/>
              </a:rPr>
              <a:t>16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первое постоянно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английско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поселение</a:t>
            </a: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(</a:t>
            </a:r>
            <a:r>
              <a:rPr b="1" lang="ru-RU" sz="4400" spc="-1" strike="noStrike">
                <a:solidFill>
                  <a:srgbClr val="0000ff"/>
                </a:solidFill>
                <a:latin typeface="Arial Black"/>
              </a:rPr>
              <a:t>колония</a:t>
            </a: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в Северной Америк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14600" y="1676520"/>
            <a:ext cx="3886200" cy="2133000"/>
            <a:chOff x="2514600" y="1676520"/>
            <a:chExt cx="3886200" cy="2133000"/>
          </a:xfrm>
        </p:grpSpPr>
        <p:sp>
          <p:nvSpPr>
            <p:cNvPr id="56" name=""/>
            <p:cNvSpPr/>
            <p:nvPr/>
          </p:nvSpPr>
          <p:spPr>
            <a:xfrm>
              <a:off x="2514600" y="1676520"/>
              <a:ext cx="0" cy="213300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00800" y="1676520"/>
              <a:ext cx="0" cy="213300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C869-53F0-4977-8241-5E3C74EC82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0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9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6880" y="581040"/>
            <a:ext cx="77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Arial Black"/>
              </a:rPr>
              <a:t>СЕВЕРНЫЕ КОЛОНИ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9810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РЫБНЫЙ ПРОМЫСЕЛ МОРЕПЛАВА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РЕМЁСЛ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МАНУФАКТУР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ФЕРМ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6B13-69DC-4937-9AE7-D5E5B7A48C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75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25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75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06240" y="1341360"/>
            <a:ext cx="6138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33cc"/>
                </a:solidFill>
                <a:latin typeface="Arial Black"/>
              </a:rPr>
              <a:t>Нью-Гемпшир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33cc"/>
                </a:solidFill>
                <a:latin typeface="Arial Black"/>
              </a:rPr>
              <a:t>Массачусет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33cc"/>
                </a:solidFill>
                <a:latin typeface="Arial Black"/>
              </a:rPr>
              <a:t>Коннектику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33cc"/>
                </a:solidFill>
                <a:latin typeface="Arial Black"/>
              </a:rPr>
              <a:t>Род-Айленд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FBAB-6894-4963-96FF-233B8A245C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75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54200" y="411120"/>
            <a:ext cx="761796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ЦЕНТРАЛЬНЫЕ КОЛОН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47360" y="2003400"/>
            <a:ext cx="7669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ФЕРМЕРСКОЕ ХОЗЯЙСТ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РЕМЁС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АБЛЕСТРО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46D7-8C5A-4EE3-B32C-65639309D2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75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35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75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8T14:26:04Z</dcterms:created>
  <dc:creator>ALAN</dc:creator>
  <dc:description/>
  <dc:language>en-US</dc:language>
  <cp:lastModifiedBy>Админ</cp:lastModifiedBy>
  <dcterms:modified xsi:type="dcterms:W3CDTF">2010-01-23T08:01:07Z</dcterms:modified>
  <cp:revision>13</cp:revision>
  <dc:subject/>
  <dc:title>Заголовок слайда отсутствует</dc:title>
</cp:coreProperties>
</file>