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666-2328-440F-A9B6-AAE84667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A6A8-BC81-40A7-B19A-B15E2F6A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F31-AF15-49B7-AB84-A473CA3E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565-AA4E-4F15-8D2C-CAB3D265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00B-1A82-45DE-8123-A177DA82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0A3-E0EB-4738-A31B-998721D5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752-2846-488A-A25E-FE1C44A9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608-0F19-4F64-AD76-C91BC19C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C46-E3D4-4517-8295-9C85CBF6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27A-6195-45CA-B3C1-E6809E64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C9B-1FD4-4B44-B67A-A864E40C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D98-F596-4E17-A86D-AE1FD62F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DDE3-06B6-4EED-B34A-93B3F88461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781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</a:rPr>
              <a:t>АНГЛИЙСК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</a:rPr>
              <a:t>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</a:rPr>
              <a:t>в СЕВЕРНОЙ АМЕРИ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08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К АНИМАЦИОННОЙ СХЕМ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ОЛЕКСАНДР ХУДОБЕЦЬ alanx@ukrpost.ne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805-6124-480E-825D-2ABB4B3F4B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548CC-96CE-46C7-BD6F-967BF93744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6760" y="1341360"/>
            <a:ext cx="8610480" cy="411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6600"/>
                </a:solidFill>
                <a:latin typeface="Arial Black"/>
              </a:rPr>
              <a:t>Нью-Йор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6600"/>
                </a:solidFill>
                <a:latin typeface="Arial Black"/>
              </a:rPr>
              <a:t>Пенсильван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6600"/>
                </a:solidFill>
                <a:latin typeface="Arial Black"/>
              </a:rPr>
              <a:t>Нью-Джерс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6600"/>
                </a:solidFill>
                <a:latin typeface="Arial Black"/>
              </a:rPr>
              <a:t>Делаве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F9E-016F-410B-AFE3-456A559883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89360" y="368280"/>
            <a:ext cx="698400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 Black"/>
              </a:rPr>
              <a:t>ЮЖ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2120" y="1800360"/>
            <a:ext cx="669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ЛАНТАЦИОННО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ХОЗЯЙСТВОВО 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РИМЕНЕ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ТРУ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НЕГРОВ-РАБ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DC5-3BBB-48A4-AF43-D7583E6904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87160" y="6200640"/>
            <a:ext cx="3160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Рисунок взят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ИНТЕРНЕТ-ресурс сайт «Всемирная история в лицах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57480" y="814320"/>
            <a:ext cx="4827600" cy="522936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DC4-36CF-4DC5-9401-9FA64CDFF2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48440" y="1096920"/>
            <a:ext cx="7645320" cy="4665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 Black"/>
              </a:rPr>
              <a:t>Вирги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 Black"/>
              </a:rPr>
              <a:t>Мерилен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 Black"/>
              </a:rPr>
              <a:t>Северная Каролин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 Black"/>
              </a:rPr>
              <a:t>Южная Каролин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 Black"/>
              </a:rPr>
              <a:t>Джордж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EC4-B808-44B3-9B7D-25F07480C4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2160" y="620640"/>
            <a:ext cx="69260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КОЛОНИЗАЦ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разование посел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а пределами род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5D1-B15A-44AA-8213-825E92D741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4680" y="565200"/>
            <a:ext cx="6412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МЕТРОПОЛ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СУДАРСТВ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ЖИТЕЛИ КОТОР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НОВАЛИ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91F-C3FE-4F14-9B2F-AAB7F10F02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855" t="5009" r="35153" b="5009"/>
          <a:stretch/>
        </p:blipFill>
        <p:spPr>
          <a:xfrm>
            <a:off x="539640" y="338040"/>
            <a:ext cx="3760920" cy="604368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060360" y="4221000"/>
            <a:ext cx="553896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ЛОНИИ АНГЛ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 СЕВЕРНОЙ АМЕРИ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1664 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83920" y="6200640"/>
            <a:ext cx="23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Карта взята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ИНТЕРНЕТ-ресурс сайт «Древний мир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F2D-8650-432E-A9C0-4A83E61EEF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582" t="6076" r="1582" b="4513"/>
          <a:stretch/>
        </p:blipFill>
        <p:spPr>
          <a:xfrm>
            <a:off x="611280" y="525600"/>
            <a:ext cx="4684680" cy="580536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763960" y="3411360"/>
            <a:ext cx="2980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РИТАН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ЛА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 СЕВЕР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МЕР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1713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26640" y="6200640"/>
            <a:ext cx="23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Карта взята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ИНТЕРНЕТ-ресурс сайт «Древний мир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055D-F245-4EFB-A26F-59ADE204EF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14440" y="68400"/>
            <a:ext cx="4217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 Black"/>
              </a:rPr>
              <a:t>АНГЛ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Black"/>
              </a:rPr>
              <a:t>(МЕТРОПОЛИЯ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5600" y="2981160"/>
            <a:ext cx="6331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16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ервое постоянно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глийско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оселение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1" lang="ru-RU" sz="4400" spc="-1" strike="noStrike">
                <a:solidFill>
                  <a:srgbClr val="0000ff"/>
                </a:solidFill>
                <a:latin typeface="Arial Black"/>
              </a:rPr>
              <a:t>колония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в Северной Амери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14600" y="1676520"/>
            <a:ext cx="3886200" cy="2133000"/>
            <a:chOff x="2514600" y="1676520"/>
            <a:chExt cx="3886200" cy="2133000"/>
          </a:xfrm>
        </p:grpSpPr>
        <p:sp>
          <p:nvSpPr>
            <p:cNvPr id="56" name=""/>
            <p:cNvSpPr/>
            <p:nvPr/>
          </p:nvSpPr>
          <p:spPr>
            <a:xfrm>
              <a:off x="2514600" y="1676520"/>
              <a:ext cx="0" cy="213300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00800" y="1676520"/>
              <a:ext cx="0" cy="213300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2A4-ED7F-446D-BBC7-99DA42FD30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6880" y="58104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ЕВЕР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981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ЫБНЫЙ ПРОМЫСЕЛ МОРЕПЛА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МАНУФА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ФЕР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08E-ED02-4BEE-96D1-59E6780EE0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7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25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06240" y="1341360"/>
            <a:ext cx="613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Arial Black"/>
              </a:rPr>
              <a:t>Нью-Гемпши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Arial Black"/>
              </a:rPr>
              <a:t>Массачусет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Arial Black"/>
              </a:rPr>
              <a:t>Коннектику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Arial Black"/>
              </a:rPr>
              <a:t>Род-Айлен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334-5C42-4798-AC61-2A226C0129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4200" y="411120"/>
            <a:ext cx="76179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ЕНТРАЛЬНЫЕ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7360" y="2003400"/>
            <a:ext cx="766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ФЕРМЕРСКОЕ ХОЗЯ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АБЛЕ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F5B-A546-44FC-87D4-A30EE38FB0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7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5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4:26:04Z</dcterms:created>
  <dc:creator>ALAN</dc:creator>
  <dc:description/>
  <dc:language>en-US</dc:language>
  <cp:lastModifiedBy>Админ</cp:lastModifiedBy>
  <dcterms:modified xsi:type="dcterms:W3CDTF">2010-01-23T08:01:07Z</dcterms:modified>
  <cp:revision>13</cp:revision>
  <dc:subject/>
  <dc:title>Заголовок слайда отсутствует</dc:title>
</cp:coreProperties>
</file>