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3989-1CCD-4922-A786-1DAEAD51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784C-38CC-4BF4-A51A-572ACB51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4648-8E00-4B62-8DAF-0922AFA9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13F7-B23B-4BF5-BB84-97C156B3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51C9-DD8E-44FD-9795-350E2C23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A7B0-E360-468F-8B6F-57040C9B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D960-8BBE-41F5-9053-5656DA06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3F95-7DC5-4962-91CA-2B0525BD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8BF4-C6F2-40F5-8754-9D4AE8CC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8654-6A74-4DC7-AE6C-27397919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350C-FF77-49B8-AFE5-CC2EDFD7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473F-8D04-4AA2-8596-42517B71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3538-042C-48DF-9F78-89AD6A1697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37816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 Black"/>
              </a:rPr>
              <a:t>АНГЛИЙСК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 Black"/>
              </a:rPr>
              <a:t>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 Black"/>
              </a:rPr>
              <a:t>в СЕВЕРНОЙ АМЕРИ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08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Ы К АНИМАЦИОННОЙ СХЕМ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ОЛЕКСАНДР ХУДОБЕЦЬ alanx@ukrpost.ne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EB0-8CB9-4ADE-A153-F1FF5F0DF9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A485E3-6B06-4F06-8B88-358553E156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6760" y="1341360"/>
            <a:ext cx="8610480" cy="411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6600"/>
                </a:solidFill>
                <a:latin typeface="Arial Black"/>
              </a:rPr>
              <a:t>Нью-Йор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6600"/>
                </a:solidFill>
                <a:latin typeface="Arial Black"/>
              </a:rPr>
              <a:t>Пенсильвани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6600"/>
                </a:solidFill>
                <a:latin typeface="Arial Black"/>
              </a:rPr>
              <a:t>Нью-Джерс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6600"/>
                </a:solidFill>
                <a:latin typeface="Arial Black"/>
              </a:rPr>
              <a:t>Делавер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FC74-A845-407D-9146-98B51090D9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89360" y="368280"/>
            <a:ext cx="6984000" cy="916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 Black"/>
              </a:rPr>
              <a:t>ЮЖНЫЕ 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2120" y="1800360"/>
            <a:ext cx="6694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ЛАНТАЦИОННО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ХОЗЯЙСТВОВО -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РИМЕНЕНИЕ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ТРУД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НЕГРОВ-РАБ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204E-8FC4-46D7-991C-CB674A50AD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7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087160" y="6200640"/>
            <a:ext cx="3160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cc"/>
                </a:solidFill>
                <a:latin typeface="Times New Roman"/>
              </a:rPr>
              <a:t>Рисунок взят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cc"/>
                </a:solidFill>
                <a:latin typeface="Times New Roman"/>
              </a:rPr>
              <a:t>ИНТЕРНЕТ-ресурс сайт «Всемирная история в лицах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57480" y="814320"/>
            <a:ext cx="4827600" cy="5229360"/>
          </a:xfrm>
          <a:prstGeom prst="rect">
            <a:avLst/>
          </a:prstGeom>
          <a:ln w="57240">
            <a:solidFill>
              <a:srgbClr val="3333cc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55B1-E172-41BB-853F-987EF526B5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48440" y="1096920"/>
            <a:ext cx="7645320" cy="4665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00"/>
                </a:solidFill>
                <a:latin typeface="Arial Black"/>
              </a:rPr>
              <a:t>Вирги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00"/>
                </a:solidFill>
                <a:latin typeface="Arial Black"/>
              </a:rPr>
              <a:t>Мерилен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00"/>
                </a:solidFill>
                <a:latin typeface="Arial Black"/>
              </a:rPr>
              <a:t>Северная Каролин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00"/>
                </a:solidFill>
                <a:latin typeface="Arial Black"/>
              </a:rPr>
              <a:t>Южная Каролин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00"/>
                </a:solidFill>
                <a:latin typeface="Arial Black"/>
              </a:rPr>
              <a:t>Джордж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2C17-EBAB-4B13-98CB-C0C77E4B63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7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42160" y="620640"/>
            <a:ext cx="692604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КОЛОНИЗАЦИЯ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бразование поселе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за пределами род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020000" y="4724280"/>
            <a:ext cx="1655640" cy="13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EEB8-C12D-4A8E-930F-C039F70DB4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4680" y="565200"/>
            <a:ext cx="64123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МЕТРОПОЛИЯ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ОСУДАРСТВО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ЖИТЕЛИ КОТОРОГ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СНОВАЛИ 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20000" y="4724280"/>
            <a:ext cx="1655640" cy="13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9D3-3629-4FA0-B132-AAFF88DD7C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855" t="5009" r="35153" b="5009"/>
          <a:stretch/>
        </p:blipFill>
        <p:spPr>
          <a:xfrm>
            <a:off x="539640" y="338040"/>
            <a:ext cx="3760920" cy="6043680"/>
          </a:xfrm>
          <a:prstGeom prst="rect">
            <a:avLst/>
          </a:prstGeom>
          <a:ln w="57240">
            <a:solidFill>
              <a:srgbClr val="3333cc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060360" y="4221000"/>
            <a:ext cx="5538960" cy="173988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ОЛОНИИ АНГЛ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 СЕВЕРНОЙ АМЕРИК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1664 г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83920" y="6200640"/>
            <a:ext cx="237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cc"/>
                </a:solidFill>
                <a:latin typeface="Times New Roman"/>
              </a:rPr>
              <a:t>Карта взята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cc"/>
                </a:solidFill>
                <a:latin typeface="Times New Roman"/>
              </a:rPr>
              <a:t>ИНТЕРНЕТ-ресурс сайт «Древний мир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7A8F-115D-4455-92FE-80069C9843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582" t="6076" r="1582" b="4513"/>
          <a:stretch/>
        </p:blipFill>
        <p:spPr>
          <a:xfrm>
            <a:off x="611280" y="525600"/>
            <a:ext cx="4684680" cy="5805360"/>
          </a:xfrm>
          <a:prstGeom prst="rect">
            <a:avLst/>
          </a:prstGeom>
          <a:ln w="57240">
            <a:solidFill>
              <a:srgbClr val="3333cc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5763960" y="3411360"/>
            <a:ext cx="2980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РИТАН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ЛА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 СЕВЕР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МЕРИ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1713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26640" y="6200640"/>
            <a:ext cx="237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cc"/>
                </a:solidFill>
                <a:latin typeface="Times New Roman"/>
              </a:rPr>
              <a:t>Карта взята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cc"/>
                </a:solidFill>
                <a:latin typeface="Times New Roman"/>
              </a:rPr>
              <a:t>ИНТЕРНЕТ-ресурс сайт «Древний мир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9B7F-E6D6-468E-827C-2ED68B30FE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14440" y="68400"/>
            <a:ext cx="4217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 Black"/>
              </a:rPr>
              <a:t>АНГЛ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 Black"/>
              </a:rPr>
              <a:t>(МЕТРОПОЛИЯ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35600" y="2981160"/>
            <a:ext cx="63313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 Black"/>
              </a:rPr>
              <a:t>16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первое постоянно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английско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поселение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1" lang="ru-RU" sz="4400" spc="-1" strike="noStrike">
                <a:solidFill>
                  <a:srgbClr val="0000ff"/>
                </a:solidFill>
                <a:latin typeface="Arial Black"/>
              </a:rPr>
              <a:t>колония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в Северной Амери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14600" y="1676520"/>
            <a:ext cx="3886200" cy="2133000"/>
            <a:chOff x="2514600" y="1676520"/>
            <a:chExt cx="3886200" cy="2133000"/>
          </a:xfrm>
        </p:grpSpPr>
        <p:sp>
          <p:nvSpPr>
            <p:cNvPr id="56" name=""/>
            <p:cNvSpPr/>
            <p:nvPr/>
          </p:nvSpPr>
          <p:spPr>
            <a:xfrm>
              <a:off x="2514600" y="1676520"/>
              <a:ext cx="0" cy="213300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00800" y="1676520"/>
              <a:ext cx="0" cy="213300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B34B-7839-4824-B6A2-305F422F48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9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6880" y="581040"/>
            <a:ext cx="77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СЕВЕРНЫЕ 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9810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РЫБНЫЙ ПРОМЫСЕЛ МОРЕПЛАВ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РЕМЁСЛ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МАНУФАКТУ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ФЕРМ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DF79-BD51-4A68-B53C-E02CE242B0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7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25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06240" y="1341360"/>
            <a:ext cx="6138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cc"/>
                </a:solidFill>
                <a:latin typeface="Arial Black"/>
              </a:rPr>
              <a:t>Нью-Гемпшир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cc"/>
                </a:solidFill>
                <a:latin typeface="Arial Black"/>
              </a:rPr>
              <a:t>Массачусет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cc"/>
                </a:solidFill>
                <a:latin typeface="Arial Black"/>
              </a:rPr>
              <a:t>Коннектику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cc"/>
                </a:solidFill>
                <a:latin typeface="Arial Black"/>
              </a:rPr>
              <a:t>Род-Айленд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085A-239E-4D41-8962-B6C3C5FC93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54200" y="411120"/>
            <a:ext cx="761796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ЦЕНТРАЛЬНЫЕ 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7360" y="2003400"/>
            <a:ext cx="766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ФЕРМЕРСКОЕ ХОЗЯЙ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РЕМЁ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АБЛЕСТРО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D148-79B6-429F-A11C-C04EB7913D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75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5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7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14:26:04Z</dcterms:created>
  <dc:creator>ALAN</dc:creator>
  <dc:description/>
  <dc:language>en-US</dc:language>
  <cp:lastModifiedBy>Админ</cp:lastModifiedBy>
  <dcterms:modified xsi:type="dcterms:W3CDTF">2010-01-23T08:01:07Z</dcterms:modified>
  <cp:revision>13</cp:revision>
  <dc:subject/>
  <dc:title>Заголовок слайда отсутствует</dc:title>
</cp:coreProperties>
</file>