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793-2A80-4E95-9BD0-B8C86C9B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86E-016E-4D71-96CB-91A082E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AB3-689B-4BAF-B202-F5A68604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B08-8284-4FB6-B5DD-BBDA17BB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049E-8797-42DC-854A-398A6EBB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2E4D-2E84-4D5A-AAF8-C1E0E14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90FB-8723-43AB-B9C0-1ADD745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316-BBC0-4B92-9942-ECB65C1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6C8-5CEB-4FD1-A034-76AE85D9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2A8F-CF9C-4124-B56B-6C8A1C1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5CB-F326-4CEB-B5BD-D001CB7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CEC-9075-4C66-BF86-720004F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8C7-921D-461C-A6F8-493D4CB8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C28-D982-42C6-9576-C0E00AE0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0167-C78C-4C84-8F56-DD714D82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344-D31C-47B3-AE0B-21A91422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C5FB-9A97-4040-AF71-FDF01235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160-2FEF-419B-986F-A9AD4A7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C50-F1B8-4D49-B6E4-17DD4DEF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554-1E79-46F4-BC07-021049D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E3D-78A7-4194-AEC9-C429B91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801-209A-40CF-9B2A-E86A19E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7C0-DAE7-44F3-BC85-6A894BF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C64-C36F-4CB7-87FD-BDF99AB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10584B-4C80-4CC2-A285-533CF8A095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D81D3B-BE31-4A85-9121-19F1992B30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мещение при равномерном прямолинейном движении.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290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 физики в 9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ебник: Пёрышкин А.В. Гутник Е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: Кононова Е.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Дома :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§ 4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(уметь отвечать на вопросы)</a:t>
            </a: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Упр. 4 (1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устно </a:t>
            </a: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;  2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письмено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верим  домашнее задание: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7320" y="2214720"/>
            <a:ext cx="628632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Упр.3(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ано:            Решение 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2,4 м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а)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чальная координата 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- 1,25 м                       Х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 1м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б) проекция вектора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мещения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2.4 + (-1.25)=1.15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) конечная координата мяч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 X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+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 +1.15 =2.15 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рис к д.з..jpg"/>
          <p:cNvPicPr/>
          <p:nvPr/>
        </p:nvPicPr>
        <p:blipFill>
          <a:blip r:embed="rId1"/>
          <a:srcRect l="0" t="7140" r="36407" b="1190"/>
          <a:stretch/>
        </p:blipFill>
        <p:spPr>
          <a:xfrm>
            <a:off x="285840" y="571320"/>
            <a:ext cx="2642760" cy="442872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единительная линия 6"/>
          <p:cNvCxnSpPr/>
          <p:nvPr/>
        </p:nvCxnSpPr>
        <p:spPr>
          <a:xfrm flipH="1">
            <a:off x="4786200" y="2714400"/>
            <a:ext cx="1800" cy="20721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88" name="Прямая соединительная линия 8"/>
          <p:cNvCxnSpPr/>
          <p:nvPr/>
        </p:nvCxnSpPr>
        <p:spPr>
          <a:xfrm>
            <a:off x="3000240" y="4500360"/>
            <a:ext cx="1786320" cy="180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pic>
        <p:nvPicPr>
          <p:cNvPr id="89" name="Рисунок 11" descr="рис к д.з..jpg"/>
          <p:cNvPicPr/>
          <p:nvPr/>
        </p:nvPicPr>
        <p:blipFill>
          <a:blip r:embed="rId2"/>
          <a:srcRect l="59707" t="26194" r="0" b="42853"/>
          <a:stretch/>
        </p:blipFill>
        <p:spPr>
          <a:xfrm>
            <a:off x="3000240" y="857160"/>
            <a:ext cx="2428560" cy="1838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5286240" y="3500280"/>
            <a:ext cx="3500280" cy="9284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рямолинейное равномерное движение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, при котором тело, з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юбые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равные промежутки времени проходит одинаковые пути. (Траектория – прямая 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 с постоянной ( по величине и направлению) скоростью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L =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|S|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путь равен модулю перемещ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Рисунок 4" descr="imgpreview.gif"/>
          <p:cNvPicPr/>
          <p:nvPr/>
        </p:nvPicPr>
        <p:blipFill>
          <a:blip r:embed="rId1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imgpreview.gif"/>
          <p:cNvPicPr/>
          <p:nvPr/>
        </p:nvPicPr>
        <p:blipFill>
          <a:blip r:embed="rId2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5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7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499920" cy="65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рость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S     v</a:t>
            </a:r>
            <a:br>
              <a:rPr sz="6600"/>
            </a:b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71880" y="428760"/>
            <a:ext cx="6071760" cy="64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tarSymbol"/>
              <a:buChar char="-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остоянная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екторная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величина, равная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отношению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перемещени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тела за любой промежуток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времени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 значению этого промежутка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3,6 км/ч = 3600м/3600с=1м/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Скорость и перемещение сонаправлены (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и равномерном прямолинейном движении)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Рисунок 4" descr="img002.jpg"/>
          <p:cNvPicPr/>
          <p:nvPr/>
        </p:nvPicPr>
        <p:blipFill>
          <a:blip r:embed="rId1"/>
          <a:srcRect l="68397" t="72918" r="27063" b="23612"/>
          <a:stretch/>
        </p:blipFill>
        <p:spPr>
          <a:xfrm rot="16200000">
            <a:off x="685800" y="2743200"/>
            <a:ext cx="1628280" cy="1714320"/>
          </a:xfrm>
          <a:prstGeom prst="rect">
            <a:avLst/>
          </a:prstGeom>
          <a:ln w="57150">
            <a:solidFill>
              <a:srgbClr val="ffc000"/>
            </a:solidFill>
            <a:round/>
          </a:ln>
        </p:spPr>
      </p:pic>
      <p:cxnSp>
        <p:nvCxnSpPr>
          <p:cNvPr id="98" name="Прямая со стрелкой 6"/>
          <p:cNvCxnSpPr/>
          <p:nvPr/>
        </p:nvCxnSpPr>
        <p:spPr>
          <a:xfrm>
            <a:off x="928440" y="4929120"/>
            <a:ext cx="500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99" name="Прямая со стрелкой 9"/>
          <p:cNvCxnSpPr/>
          <p:nvPr/>
        </p:nvCxnSpPr>
        <p:spPr>
          <a:xfrm>
            <a:off x="2143080" y="5000400"/>
            <a:ext cx="428760" cy="2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00" name="Прямая со стрелкой 15"/>
          <p:cNvCxnSpPr/>
          <p:nvPr/>
        </p:nvCxnSpPr>
        <p:spPr>
          <a:xfrm flipV="1">
            <a:off x="1571400" y="4857480"/>
            <a:ext cx="180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V="1">
            <a:off x="1928520" y="4857480"/>
            <a:ext cx="216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sp>
        <p:nvSpPr>
          <p:cNvPr id="102" name="Скругленный прямоугольник 20"/>
          <p:cNvSpPr/>
          <p:nvPr/>
        </p:nvSpPr>
        <p:spPr>
          <a:xfrm>
            <a:off x="3357720" y="3571920"/>
            <a:ext cx="5357520" cy="49968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3" name="Прямая соединительная линия 22"/>
          <p:cNvCxnSpPr/>
          <p:nvPr/>
        </p:nvCxnSpPr>
        <p:spPr>
          <a:xfrm flipH="1">
            <a:off x="3143160" y="0"/>
            <a:ext cx="1800" cy="6858360"/>
          </a:xfrm>
          <a:prstGeom prst="straightConnector1">
            <a:avLst/>
          </a:prstGeom>
          <a:ln w="571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4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05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06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координаты от времени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1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12" name="Прямая соединительная линия 11"/>
          <p:cNvCxnSpPr/>
          <p:nvPr/>
        </p:nvCxnSpPr>
        <p:spPr>
          <a:xfrm flipV="1">
            <a:off x="2643120" y="2357280"/>
            <a:ext cx="2071800" cy="57168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13" name="Прямая соединительная линия 15"/>
          <p:cNvCxnSpPr/>
          <p:nvPr/>
        </p:nvCxnSpPr>
        <p:spPr>
          <a:xfrm>
            <a:off x="1071360" y="1857240"/>
            <a:ext cx="1572120" cy="242928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14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22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23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перемещения от времени</a:t>
            </a:r>
            <a:endParaRPr b="0" lang="ru-RU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6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7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8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29" name="Прямая соединительная линия 11"/>
          <p:cNvCxnSpPr/>
          <p:nvPr/>
        </p:nvCxnSpPr>
        <p:spPr>
          <a:xfrm flipV="1">
            <a:off x="2786040" y="2714400"/>
            <a:ext cx="2071800" cy="5720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30" name="Прямая соединительная линия 15"/>
          <p:cNvCxnSpPr/>
          <p:nvPr/>
        </p:nvCxnSpPr>
        <p:spPr>
          <a:xfrm>
            <a:off x="1071360" y="3429000"/>
            <a:ext cx="1572120" cy="242892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31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8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39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40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43040" y="1357200"/>
            <a:ext cx="70005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i="1" lang="ru-RU" sz="33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скорости от времени</a:t>
            </a:r>
            <a:endParaRPr b="0" lang="ru-RU" sz="3300" spc="-1" strike="noStrike">
              <a:solidFill>
                <a:srgbClr val="ffffff"/>
              </a:solidFill>
              <a:latin typeface="Calibri"/>
            </a:endParaRPr>
          </a:p>
          <a:p>
            <a:pPr marL="296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3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4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5" name="Прямая соединительная линия 10"/>
          <p:cNvCxnSpPr/>
          <p:nvPr/>
        </p:nvCxnSpPr>
        <p:spPr>
          <a:xfrm>
            <a:off x="1071360" y="2000160"/>
            <a:ext cx="1072080" cy="180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46" name="Прямая соединительная линия 11"/>
          <p:cNvCxnSpPr/>
          <p:nvPr/>
        </p:nvCxnSpPr>
        <p:spPr>
          <a:xfrm>
            <a:off x="2643120" y="2928600"/>
            <a:ext cx="2071800" cy="216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15"/>
          <p:cNvCxnSpPr/>
          <p:nvPr/>
        </p:nvCxnSpPr>
        <p:spPr>
          <a:xfrm>
            <a:off x="1142640" y="4286160"/>
            <a:ext cx="1500840" cy="180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48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и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Рисунок 3" descr="графическое представление равн.дв..jpg"/>
          <p:cNvPicPr/>
          <p:nvPr/>
        </p:nvPicPr>
        <p:blipFill>
          <a:blip r:embed="rId1"/>
          <a:stretch/>
        </p:blipFill>
        <p:spPr>
          <a:xfrm>
            <a:off x="428760" y="357120"/>
            <a:ext cx="83019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66434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уть числено равен площ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 графиком скорост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2040" y="1000080"/>
            <a:ext cx="4071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5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/с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 t 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 4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V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∙t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 5∙4 = 20 (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L =20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м/с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;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L = 18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-4м/с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4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2 (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L = 12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0" name="Прямая со стрелкой 4"/>
          <p:cNvCxnSpPr/>
          <p:nvPr/>
        </p:nvCxnSpPr>
        <p:spPr>
          <a:xfrm flipV="1">
            <a:off x="927720" y="1214280"/>
            <a:ext cx="1080" cy="51447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61" name="Прямая со стрелкой 8"/>
          <p:cNvCxnSpPr/>
          <p:nvPr/>
        </p:nvCxnSpPr>
        <p:spPr>
          <a:xfrm>
            <a:off x="0" y="3643200"/>
            <a:ext cx="41436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2" name="TextBox 14"/>
          <p:cNvSpPr/>
          <p:nvPr/>
        </p:nvSpPr>
        <p:spPr>
          <a:xfrm>
            <a:off x="357120" y="1000080"/>
            <a:ext cx="49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357120" y="1428840"/>
            <a:ext cx="549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6 4 2 0 2 4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928800" y="3643200"/>
            <a:ext cx="3857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      2      3      4    5     6   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Прямая соединительная линия 18"/>
          <p:cNvCxnSpPr/>
          <p:nvPr/>
        </p:nvCxnSpPr>
        <p:spPr>
          <a:xfrm>
            <a:off x="1000080" y="2000160"/>
            <a:ext cx="1786320" cy="180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cxnSp>
        <p:nvCxnSpPr>
          <p:cNvPr id="166" name="Прямая соединительная линия 21"/>
          <p:cNvCxnSpPr/>
          <p:nvPr/>
        </p:nvCxnSpPr>
        <p:spPr>
          <a:xfrm>
            <a:off x="1000080" y="5286240"/>
            <a:ext cx="1214640" cy="180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sp>
        <p:nvSpPr>
          <p:cNvPr id="167" name="Прямоугольник 23"/>
          <p:cNvSpPr/>
          <p:nvPr/>
        </p:nvSpPr>
        <p:spPr>
          <a:xfrm>
            <a:off x="1000080" y="2071800"/>
            <a:ext cx="1785600" cy="1499760"/>
          </a:xfrm>
          <a:prstGeom prst="rect">
            <a:avLst/>
          </a:prstGeom>
          <a:solidFill>
            <a:srgbClr val="ffff00">
              <a:alpha val="61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8" name="Прямая соединительная линия 19"/>
          <p:cNvCxnSpPr/>
          <p:nvPr/>
        </p:nvCxnSpPr>
        <p:spPr>
          <a:xfrm>
            <a:off x="1000080" y="2786040"/>
            <a:ext cx="2571840" cy="1800"/>
          </a:xfrm>
          <a:prstGeom prst="straightConnector1">
            <a:avLst/>
          </a:prstGeom>
          <a:ln w="57150">
            <a:solidFill>
              <a:srgbClr val="00b0f0"/>
            </a:solidFill>
            <a:round/>
          </a:ln>
        </p:spPr>
      </p:cxnSp>
      <p:sp>
        <p:nvSpPr>
          <p:cNvPr id="169" name="Прямоугольник 27"/>
          <p:cNvSpPr/>
          <p:nvPr/>
        </p:nvSpPr>
        <p:spPr>
          <a:xfrm>
            <a:off x="1000080" y="2857320"/>
            <a:ext cx="2571480" cy="713880"/>
          </a:xfrm>
          <a:prstGeom prst="rect">
            <a:avLst/>
          </a:prstGeom>
          <a:solidFill>
            <a:srgbClr val="00b0f0">
              <a:alpha val="70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Прямоугольник 28"/>
          <p:cNvSpPr/>
          <p:nvPr/>
        </p:nvSpPr>
        <p:spPr>
          <a:xfrm>
            <a:off x="1000080" y="3714840"/>
            <a:ext cx="1213920" cy="1499760"/>
          </a:xfrm>
          <a:prstGeom prst="rect">
            <a:avLst/>
          </a:prstGeom>
          <a:solidFill>
            <a:srgbClr val="ff0000">
              <a:alpha val="85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  <Words>342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ика</cp:lastModifiedBy>
  <dcterms:modified xsi:type="dcterms:W3CDTF">2011-09-12T05:53:00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