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B4C-BE95-4002-BA4D-34AF9975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E8C-19D2-4863-A651-9C47F3F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BB4-74A6-4084-8D16-11A4C425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1CE-D5B2-403F-9D2C-CBC1D9FB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5549-2923-4BE7-84DD-32F8562D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A19D-8161-4190-9BCA-7795D198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296A-B1DD-42E3-A984-44F7B514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7379-0A52-44CE-B38F-9FE2386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611E-4E67-4A97-BD66-59642C7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39CB-E578-425A-A8BD-7CFFB8B4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D70C-2F0C-41CC-AC43-06F0E06C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B62-00E6-42AE-B7C3-ED154B98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BA83-1A16-4375-A978-907BAAC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4C8E-E8E6-4FE9-AA8B-B945508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1407-88A9-4299-8B12-6AB7B0F4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FB00-9F87-4BAD-A553-8C0CEB12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493D-08CB-4AB4-B40A-DBA104A9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41E-3F86-4DAF-9FBF-89F13AD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8D9-74B7-4631-A8BF-7ED898C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80A-28E1-43FF-8F58-0ADA0D8A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DDA-2879-4C68-BF61-5D1CE9D7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FB7-2320-4AE2-AB25-BE02DD2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C75-0884-4387-840F-DE9936A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015-6924-44F0-803B-0932B31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633944-C5B8-4ED9-AEE1-E64C0CD007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30CA99-4002-4184-8477-EF4D1A3165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мещение при равномерном прямолинейном движении.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290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к физики в 9 клас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ебник: Пёрышкин А.В. Гутник Е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ь: Кононова Е.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1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Дома :</a:t>
            </a: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§ 4 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(уметь отвечать на вопросы)</a:t>
            </a: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Упр. 4 (1</a:t>
            </a:r>
            <a:r>
              <a:rPr b="0" lang="ru-RU" sz="6600" spc="-1" strike="noStrike" baseline="30000">
                <a:solidFill>
                  <a:srgbClr val="ffff00"/>
                </a:solidFill>
                <a:latin typeface="Calibri"/>
              </a:rPr>
              <a:t>устно </a:t>
            </a: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;  2</a:t>
            </a:r>
            <a:r>
              <a:rPr b="0" lang="ru-RU" sz="6600" spc="-1" strike="noStrike" baseline="30000">
                <a:solidFill>
                  <a:srgbClr val="ffff00"/>
                </a:solidFill>
                <a:latin typeface="Calibri"/>
              </a:rPr>
              <a:t>письмено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оверим  домашнее задание: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7320" y="2214720"/>
            <a:ext cx="628632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Упр.3(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ано:            Решение 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Calibri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2,4 м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а)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чальная координата 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=- 1,25 м                       Х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= 1м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б) проекция вектора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мещения 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 x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2.4 + (-1.25)=1.15(м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) конечная координата мяч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= X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+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 x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=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 +1.15 =2.15 (м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рис к д.з..jpg"/>
          <p:cNvPicPr/>
          <p:nvPr/>
        </p:nvPicPr>
        <p:blipFill>
          <a:blip r:embed="rId1"/>
          <a:srcRect l="0" t="7140" r="36407" b="1190"/>
          <a:stretch/>
        </p:blipFill>
        <p:spPr>
          <a:xfrm>
            <a:off x="285840" y="571320"/>
            <a:ext cx="2642760" cy="442872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единительная линия 6"/>
          <p:cNvCxnSpPr/>
          <p:nvPr/>
        </p:nvCxnSpPr>
        <p:spPr>
          <a:xfrm flipH="1">
            <a:off x="4786200" y="2714400"/>
            <a:ext cx="1800" cy="20721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88" name="Прямая соединительная линия 8"/>
          <p:cNvCxnSpPr/>
          <p:nvPr/>
        </p:nvCxnSpPr>
        <p:spPr>
          <a:xfrm>
            <a:off x="3000240" y="4500360"/>
            <a:ext cx="1786320" cy="180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pic>
        <p:nvPicPr>
          <p:cNvPr id="89" name="Рисунок 11" descr="рис к д.з..jpg"/>
          <p:cNvPicPr/>
          <p:nvPr/>
        </p:nvPicPr>
        <p:blipFill>
          <a:blip r:embed="rId2"/>
          <a:srcRect l="59707" t="26194" r="0" b="42853"/>
          <a:stretch/>
        </p:blipFill>
        <p:spPr>
          <a:xfrm>
            <a:off x="3000240" y="857160"/>
            <a:ext cx="2428560" cy="1838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"/>
          <p:cNvSpPr/>
          <p:nvPr/>
        </p:nvSpPr>
        <p:spPr>
          <a:xfrm>
            <a:off x="5286240" y="3500280"/>
            <a:ext cx="3500280" cy="9284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рямолинейное равномерное движение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5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вижение, при котором тело, з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любые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равные промежутки времени проходит одинаковые пути. (Траектория – прямая 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вижение с постоянной ( по величине и направлению) скоростью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L =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|S|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путь равен модулю перемещ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Рисунок 4" descr="imgpreview.gif"/>
          <p:cNvPicPr/>
          <p:nvPr/>
        </p:nvPicPr>
        <p:blipFill>
          <a:blip r:embed="rId1"/>
          <a:stretch/>
        </p:blipFill>
        <p:spPr>
          <a:xfrm>
            <a:off x="-1028880" y="2857320"/>
            <a:ext cx="2057040" cy="1285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imgpreview.gif"/>
          <p:cNvPicPr/>
          <p:nvPr/>
        </p:nvPicPr>
        <p:blipFill>
          <a:blip r:embed="rId2"/>
          <a:stretch/>
        </p:blipFill>
        <p:spPr>
          <a:xfrm>
            <a:off x="-1028880" y="2857320"/>
            <a:ext cx="20570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65 -0.01871 L 1.17726 -0.02079 E">
                                      <p:cBhvr>
                                        <p:cTn id="5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65 -0.01871 L 1.17726 -0.02079 E">
                                      <p:cBhvr>
                                        <p:cTn id="7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499920" cy="65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корость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S     v</a:t>
            </a:r>
            <a:br>
              <a:rPr sz="6600"/>
            </a:b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71880" y="428760"/>
            <a:ext cx="6071760" cy="64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tarSymbol"/>
              <a:buChar char="-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Постоянная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векторная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величина, равная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отношению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перемещени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тела за любой промежуток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времени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 значению этого промежутка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3,6 км/ч = 3600м/3600с=1м/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Скорость и перемещение сонаправлены (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при равномерном прямолинейном движении)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Рисунок 4" descr="img002.jpg"/>
          <p:cNvPicPr/>
          <p:nvPr/>
        </p:nvPicPr>
        <p:blipFill>
          <a:blip r:embed="rId1"/>
          <a:srcRect l="68397" t="72918" r="27063" b="23612"/>
          <a:stretch/>
        </p:blipFill>
        <p:spPr>
          <a:xfrm rot="16200000">
            <a:off x="685800" y="2743200"/>
            <a:ext cx="1628280" cy="1714320"/>
          </a:xfrm>
          <a:prstGeom prst="rect">
            <a:avLst/>
          </a:prstGeom>
          <a:ln w="57150">
            <a:solidFill>
              <a:srgbClr val="ffc000"/>
            </a:solidFill>
            <a:round/>
          </a:ln>
        </p:spPr>
      </p:pic>
      <p:cxnSp>
        <p:nvCxnSpPr>
          <p:cNvPr id="98" name="Прямая со стрелкой 6"/>
          <p:cNvCxnSpPr/>
          <p:nvPr/>
        </p:nvCxnSpPr>
        <p:spPr>
          <a:xfrm>
            <a:off x="928440" y="4929120"/>
            <a:ext cx="500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99" name="Прямая со стрелкой 9"/>
          <p:cNvCxnSpPr/>
          <p:nvPr/>
        </p:nvCxnSpPr>
        <p:spPr>
          <a:xfrm>
            <a:off x="2143080" y="5000400"/>
            <a:ext cx="428760" cy="2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00" name="Прямая со стрелкой 15"/>
          <p:cNvCxnSpPr/>
          <p:nvPr/>
        </p:nvCxnSpPr>
        <p:spPr>
          <a:xfrm flipV="1">
            <a:off x="1571400" y="4857480"/>
            <a:ext cx="1800" cy="643320"/>
          </a:xfrm>
          <a:prstGeom prst="straightConnector1">
            <a:avLst/>
          </a:prstGeom>
          <a:ln w="5715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V="1">
            <a:off x="1928520" y="4857480"/>
            <a:ext cx="2160" cy="643320"/>
          </a:xfrm>
          <a:prstGeom prst="straightConnector1">
            <a:avLst/>
          </a:prstGeom>
          <a:ln w="57150">
            <a:solidFill>
              <a:srgbClr val="ffff00"/>
            </a:solidFill>
            <a:round/>
            <a:tailEnd len="med" type="arrow" w="med"/>
          </a:ln>
        </p:spPr>
      </p:cxnSp>
      <p:sp>
        <p:nvSpPr>
          <p:cNvPr id="102" name="Скругленный прямоугольник 20"/>
          <p:cNvSpPr/>
          <p:nvPr/>
        </p:nvSpPr>
        <p:spPr>
          <a:xfrm>
            <a:off x="3357720" y="3571920"/>
            <a:ext cx="5357520" cy="49968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3" name="Прямая соединительная линия 22"/>
          <p:cNvCxnSpPr/>
          <p:nvPr/>
        </p:nvCxnSpPr>
        <p:spPr>
          <a:xfrm flipH="1">
            <a:off x="3143160" y="0"/>
            <a:ext cx="1800" cy="6858360"/>
          </a:xfrm>
          <a:prstGeom prst="straightConnector1">
            <a:avLst/>
          </a:prstGeom>
          <a:ln w="571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4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05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06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1146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координаты от времени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10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11" name="Прямая соединительная линия 10"/>
          <p:cNvCxnSpPr/>
          <p:nvPr/>
        </p:nvCxnSpPr>
        <p:spPr>
          <a:xfrm flipV="1">
            <a:off x="1071360" y="2000160"/>
            <a:ext cx="1000440" cy="135756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12" name="Прямая соединительная линия 11"/>
          <p:cNvCxnSpPr/>
          <p:nvPr/>
        </p:nvCxnSpPr>
        <p:spPr>
          <a:xfrm flipV="1">
            <a:off x="2643120" y="2357280"/>
            <a:ext cx="2071800" cy="57168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13" name="Прямая соединительная линия 15"/>
          <p:cNvCxnSpPr/>
          <p:nvPr/>
        </p:nvCxnSpPr>
        <p:spPr>
          <a:xfrm>
            <a:off x="1071360" y="1857240"/>
            <a:ext cx="1572120" cy="242928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14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22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23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1146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перемещения от времени</a:t>
            </a:r>
            <a:endParaRPr b="0" lang="ru-RU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6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27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28" name="Прямая соединительная линия 10"/>
          <p:cNvCxnSpPr/>
          <p:nvPr/>
        </p:nvCxnSpPr>
        <p:spPr>
          <a:xfrm flipV="1">
            <a:off x="1071360" y="2000160"/>
            <a:ext cx="1000440" cy="135756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29" name="Прямая соединительная линия 11"/>
          <p:cNvCxnSpPr/>
          <p:nvPr/>
        </p:nvCxnSpPr>
        <p:spPr>
          <a:xfrm flipV="1">
            <a:off x="2786040" y="2714400"/>
            <a:ext cx="2071800" cy="57204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30" name="Прямая соединительная линия 15"/>
          <p:cNvCxnSpPr/>
          <p:nvPr/>
        </p:nvCxnSpPr>
        <p:spPr>
          <a:xfrm>
            <a:off x="1071360" y="3429000"/>
            <a:ext cx="1572120" cy="242892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31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2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8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39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40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43040" y="1357200"/>
            <a:ext cx="70005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i="1" lang="ru-RU" sz="33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скорости от времени</a:t>
            </a:r>
            <a:endParaRPr b="0" lang="ru-RU" sz="3300" spc="-1" strike="noStrike">
              <a:solidFill>
                <a:srgbClr val="ffffff"/>
              </a:solidFill>
              <a:latin typeface="Calibri"/>
            </a:endParaRPr>
          </a:p>
          <a:p>
            <a:pPr marL="296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3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4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5" name="Прямая соединительная линия 10"/>
          <p:cNvCxnSpPr/>
          <p:nvPr/>
        </p:nvCxnSpPr>
        <p:spPr>
          <a:xfrm>
            <a:off x="1071360" y="2000160"/>
            <a:ext cx="1072080" cy="180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46" name="Прямая соединительная линия 11"/>
          <p:cNvCxnSpPr/>
          <p:nvPr/>
        </p:nvCxnSpPr>
        <p:spPr>
          <a:xfrm>
            <a:off x="2643120" y="2928600"/>
            <a:ext cx="2071800" cy="216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47" name="Прямая соединительная линия 15"/>
          <p:cNvCxnSpPr/>
          <p:nvPr/>
        </p:nvCxnSpPr>
        <p:spPr>
          <a:xfrm>
            <a:off x="1142640" y="4286160"/>
            <a:ext cx="1500840" cy="180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48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и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Рисунок 3" descr="графическое представление равн.дв..jpg"/>
          <p:cNvPicPr/>
          <p:nvPr/>
        </p:nvPicPr>
        <p:blipFill>
          <a:blip r:embed="rId1"/>
          <a:stretch/>
        </p:blipFill>
        <p:spPr>
          <a:xfrm>
            <a:off x="428760" y="357120"/>
            <a:ext cx="8301960" cy="61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664344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уть числено равен площ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д графиком скорост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2040" y="1000080"/>
            <a:ext cx="4071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=5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м/с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 t </a:t>
            </a:r>
            <a:r>
              <a:rPr b="0" lang="ru-RU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= 4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=V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∙t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= 5∙4 = 20 (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L =20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3м/с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;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t 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6 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=V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∙t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L = 18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-4м/с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t 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3 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S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=V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∙t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-4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2 (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L = 12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м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0" name="Прямая со стрелкой 4"/>
          <p:cNvCxnSpPr/>
          <p:nvPr/>
        </p:nvCxnSpPr>
        <p:spPr>
          <a:xfrm flipV="1">
            <a:off x="927720" y="1214280"/>
            <a:ext cx="1080" cy="51447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61" name="Прямая со стрелкой 8"/>
          <p:cNvCxnSpPr/>
          <p:nvPr/>
        </p:nvCxnSpPr>
        <p:spPr>
          <a:xfrm>
            <a:off x="0" y="3643200"/>
            <a:ext cx="41436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2" name="TextBox 14"/>
          <p:cNvSpPr/>
          <p:nvPr/>
        </p:nvSpPr>
        <p:spPr>
          <a:xfrm>
            <a:off x="357120" y="1000080"/>
            <a:ext cx="49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357120" y="1428840"/>
            <a:ext cx="549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6 4 2 0 2 4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928800" y="3643200"/>
            <a:ext cx="3857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      2      3      4    5     6   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Прямая соединительная линия 18"/>
          <p:cNvCxnSpPr/>
          <p:nvPr/>
        </p:nvCxnSpPr>
        <p:spPr>
          <a:xfrm>
            <a:off x="1000080" y="2000160"/>
            <a:ext cx="1786320" cy="1800"/>
          </a:xfrm>
          <a:prstGeom prst="straightConnector1">
            <a:avLst/>
          </a:prstGeom>
          <a:ln w="57150">
            <a:solidFill>
              <a:srgbClr val="ffc000"/>
            </a:solidFill>
            <a:round/>
          </a:ln>
        </p:spPr>
      </p:cxnSp>
      <p:cxnSp>
        <p:nvCxnSpPr>
          <p:cNvPr id="166" name="Прямая соединительная линия 21"/>
          <p:cNvCxnSpPr/>
          <p:nvPr/>
        </p:nvCxnSpPr>
        <p:spPr>
          <a:xfrm>
            <a:off x="1000080" y="5286240"/>
            <a:ext cx="1214640" cy="180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sp>
        <p:nvSpPr>
          <p:cNvPr id="167" name="Прямоугольник 23"/>
          <p:cNvSpPr/>
          <p:nvPr/>
        </p:nvSpPr>
        <p:spPr>
          <a:xfrm>
            <a:off x="1000080" y="2071800"/>
            <a:ext cx="1785600" cy="1499760"/>
          </a:xfrm>
          <a:prstGeom prst="rect">
            <a:avLst/>
          </a:prstGeom>
          <a:solidFill>
            <a:srgbClr val="ffff00">
              <a:alpha val="61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8" name="Прямая соединительная линия 19"/>
          <p:cNvCxnSpPr/>
          <p:nvPr/>
        </p:nvCxnSpPr>
        <p:spPr>
          <a:xfrm>
            <a:off x="1000080" y="2786040"/>
            <a:ext cx="2571840" cy="1800"/>
          </a:xfrm>
          <a:prstGeom prst="straightConnector1">
            <a:avLst/>
          </a:prstGeom>
          <a:ln w="57150">
            <a:solidFill>
              <a:srgbClr val="00b0f0"/>
            </a:solidFill>
            <a:round/>
          </a:ln>
        </p:spPr>
      </p:cxnSp>
      <p:sp>
        <p:nvSpPr>
          <p:cNvPr id="169" name="Прямоугольник 27"/>
          <p:cNvSpPr/>
          <p:nvPr/>
        </p:nvSpPr>
        <p:spPr>
          <a:xfrm>
            <a:off x="1000080" y="2857320"/>
            <a:ext cx="2571480" cy="713880"/>
          </a:xfrm>
          <a:prstGeom prst="rect">
            <a:avLst/>
          </a:prstGeom>
          <a:solidFill>
            <a:srgbClr val="00b0f0">
              <a:alpha val="70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Прямоугольник 28"/>
          <p:cNvSpPr/>
          <p:nvPr/>
        </p:nvSpPr>
        <p:spPr>
          <a:xfrm>
            <a:off x="1000080" y="3714840"/>
            <a:ext cx="1213920" cy="1499760"/>
          </a:xfrm>
          <a:prstGeom prst="rect">
            <a:avLst/>
          </a:prstGeom>
          <a:solidFill>
            <a:srgbClr val="ff0000">
              <a:alpha val="85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  <Words>342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зика</cp:lastModifiedBy>
  <dcterms:modified xsi:type="dcterms:W3CDTF">2011-09-12T05:53:00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