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FBE-D87E-4F10-9171-6F51BFD0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89E-112F-4AFD-98A2-64E9B32B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8E8-B0B9-433D-9599-438F4EFB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016-2168-4E67-B1E0-3DFE87EF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4A99-1C04-4E70-8666-396E3960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B616-5A28-4F83-B6F1-EC874943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7DA4-919F-4EE8-8169-0118FCC6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00CB-DBDA-4886-B729-7540DE73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2E2-BA97-4F07-BCEF-166327A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74E-EABF-47FC-AE72-B7A96F4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FC07-EF67-4208-9458-D758B3D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EDE-34E0-4CD2-8FE0-6A96E24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070-8AD2-4126-8144-9CC8C05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ED93-834E-42F3-A93C-00E7DA3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4823-53FE-402D-A149-E01A84E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397F-AD56-4F56-A66A-1E907D1A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216D-8884-4B11-BBF9-8C1C2C53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AB4-FABE-461D-BBC4-6D685F66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CB2-41CF-4D0D-BF4D-6BC8212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564-B878-4E30-AD19-284E20F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C86-3066-472C-BBE1-D027530A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585-CF61-4E46-88EB-4F1061B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68B-03BB-4592-BB3B-BA70C57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692-E100-43CE-830E-22E35996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FC8-C761-4B3E-A001-BDA42CF04CDB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7df399"/>
              </a:gs>
              <a:gs pos="50000">
                <a:srgbClr val="3399ff"/>
              </a:gs>
              <a:gs pos="100000">
                <a:srgbClr val="7df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7df399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7df399"/>
                </a:gs>
                <a:gs pos="50000">
                  <a:srgbClr val="699bcd"/>
                </a:gs>
                <a:gs pos="100000">
                  <a:srgbClr val="7df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dddd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D3EB-92A7-463C-87C8-409CF68EC2B9}" type="slidenum">
              <a:rPr b="0" lang="ru-RU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f399"/>
            </a:gs>
            <a:gs pos="50000">
              <a:srgbClr val="3399ff"/>
            </a:gs>
            <a:gs pos="100000">
              <a:srgbClr val="7df3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Муниципальное общеобразовательное учреждение Ореховская средняя общеобразовательная школа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ПРОЕКТ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«Бренд  школы»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834920" y="188640"/>
            <a:ext cx="705780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Принцип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уникальный подход в деятельности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Функции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Может быть использован в качестве критерия в оценке всех решений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05d"/>
                </a:solidFill>
                <a:latin typeface="Times New Roman"/>
              </a:rPr>
              <a:t>Позволяет видеть возможности улучшения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Должен быть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равдив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полезным для фокусировки деятельности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обеспечивать эмоциональный отклик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ясны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3305d"/>
                </a:solidFill>
                <a:latin typeface="Times New Roman"/>
              </a:rPr>
              <a:t>кратким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908000" y="25992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ндивидуальность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уникальная коммуникативная манера образовательного учреждения (устойчивая стилистика общения с заказчиком). Качества, с помощью которых можно описать компан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Функции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акцентирует особенность (преимущества!)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формирует у клиента впечатление о компании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диктует правила корпоративной культуры. Управляет действиями сотрудников при каждом взаимодействии с клиентом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05d"/>
                </a:solidFill>
                <a:latin typeface="Times New Roman"/>
              </a:rPr>
              <a:t>на базе индивидуальности формируется лидерство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835280" y="1052640"/>
            <a:ext cx="730872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. 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imes New Roman"/>
              </a:rPr>
              <a:t>Воспринимается клиентом на подсознательном уровне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34920" y="259920"/>
            <a:ext cx="70578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Эмоциональная сторон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Посредством ассоциаций взаимодействие с заказчиком носит более глубокий характер (вовлекается сфера неосознанного, интуитивного, чувственного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уществуют вне зависимости от того, управляет ли ими образовательное учреждение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Носят обобщенный и очевидный характер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Соответствуют стилю компании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1125360"/>
            <a:ext cx="7921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ренд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 Ореховской 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32000" y="333360"/>
            <a:ext cx="3600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12000" y="234936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640" y="4005360"/>
            <a:ext cx="72421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умайте, ищите, учитесь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ите себя и ми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жедневно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Times New Roman"/>
              </a:rPr>
              <a:t>Герб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Бренда образовательного учреж­дения  МОУ Ореховская СОШ отражает миссию учреждения.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708360" y="217800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843280" y="0"/>
            <a:ext cx="6300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центре герба располагается чистая книга, которую необходимо заполнить при обучении в школе. Над книгой находится восходящее солнце, как источник света знаний. С левой стороны располагаются три лесных ореха, как символ с. Орехова и символ твердости знаний учеников школы. С правой стороны находится перо, которым знания учащихся будут вписаны в чистую книгу. Сверху на лентах располагается название школы –МОУ Ореховская СОШ. На нижних лентах стоит дата 1938 , год основания Ореховсеой средней школы. Зеленый фон является отражением одной из главных достопримечательностей школы – учебного –участка (памятника природы «Малая тимирязека»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ветовая гамма герба: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628640"/>
            <a:ext cx="12952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158436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1628640"/>
            <a:ext cx="1584360" cy="79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2637000"/>
            <a:ext cx="216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Белый  как цвет мира, чистоты и непорочности , торжественности и величия. С белизной связано представление о законном, истинном, общепринятом. Белый цвет – цвет свободы.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2997360"/>
            <a:ext cx="1584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05d"/>
                </a:solidFill>
                <a:latin typeface="Times New Roman"/>
              </a:rPr>
              <a:t>Желтый  как цвет солнца, открытости всех учителей и учащихся;  </a:t>
            </a:r>
            <a:r>
              <a:rPr b="0" lang="en-US" sz="1800" spc="-1" strike="noStrike">
                <a:solidFill>
                  <a:srgbClr val="03305d"/>
                </a:solidFill>
                <a:latin typeface="Times New Roman"/>
              </a:rPr>
              <a:t> 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3141720"/>
            <a:ext cx="18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Цвет  травы и листьев, символизирует юность, надежду.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Миссия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305d"/>
                </a:solidFill>
                <a:latin typeface="Times New Roman"/>
              </a:rPr>
              <a:t>разностороннее развитие учащихся, формирования ключевых компетентностей, способствующих продолжению образования, на благо себя и процветания России, через любовь к своей малой родине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ЦЕЛЬ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БРЕНДА</a:t>
            </a:r>
            <a:r>
              <a:rPr b="0" lang="en-US" sz="3200" spc="-1" strike="noStrike">
                <a:solidFill>
                  <a:srgbClr val="03305d"/>
                </a:solidFill>
                <a:latin typeface="Times New Roman"/>
              </a:rPr>
              <a:t>, отражающего особенности и индивидуальность образовательного процесса МОУ Ореховской СОШ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Ценности 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23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Личность ребен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Патрио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Демократичность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храна Природ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Служение своей малой родин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Принцип школы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3305d"/>
                </a:solidFill>
                <a:latin typeface="Times New Roman"/>
              </a:rPr>
              <a:t>Надо верить, что ты много можешь, тогда многое станет возможным.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310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Образ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Творческ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ультур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Компетент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05d"/>
                </a:solidFill>
                <a:latin typeface="Times New Roman"/>
              </a:rPr>
              <a:t>Востребованны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3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Девиз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Разработчики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Соловьев С.А. директор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Исправникова Н.А. зам директора по УВР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Урядина Т.А. учитель, зав музея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Николаева Н.Н – учитель русского язык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Комарова М.Ю. –учитель биологии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Матвеева Л.Ю. – учитель нач классов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АДАЧИ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БРЕНД школы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ать и утвердить «Положение о Бренде МОУ Ореховской СОШ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ЭТАПЫ  ПРОЕКТ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понятием БРЕНД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Знакомство с БРЕНДАМи других образовательных учреждений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герба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Драйверов БРЕНД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305d"/>
                </a:solidFill>
                <a:latin typeface="Times New Roman"/>
              </a:rPr>
              <a:t>Разработка и утверждение «Положения о Бренде»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Определение  «БРЕНД»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Бренд 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совокупность функциональных и эмоциональных ассоциаций, существующих в сознании заказчика и рассматриваемых в долгосрочной перспективе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692360" y="259920"/>
            <a:ext cx="720072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Бренд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это весь спектр впечатлений, мнений, ожиданий заказчика образовательных услуг, возникающих при каждом соприкосновении с учреждением и его сотрудниками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3305d"/>
                </a:solidFill>
                <a:latin typeface="Times New Roman"/>
              </a:rPr>
              <a:t>При грамотной разработке и продвижении бренда эти мнения, впечатления и ожидания имеют удивительно согласованные позиции у большинства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Технология построения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не может быть передана как закрытый перечень предписаний и правил работы. Она должна осваиваться как открытая, непрерывно развивающаяся система технических и эвристических (поисковых, творческих) приемов и техник работы с проблемами. Для овладения ею необходима тренировка определенных умений и навыков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ДРАЙВЕРЫ БРЕНДА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Миссия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– «генетический код»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исывает то, что делает учреждение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Фокусируется на настоящем, но направлена в будущее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Дает возможность идентифицировать то, что нам дается лучше всего и строить на этом свою стратегию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3305d"/>
                </a:solidFill>
                <a:latin typeface="Times New Roman"/>
              </a:rPr>
              <a:t>Задачи миссии в структуре бренда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определяет границы бренда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воодушевля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305d"/>
                </a:solidFill>
                <a:latin typeface="Times New Roman"/>
              </a:rPr>
              <a:t>мотивирует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35280" y="188640"/>
            <a:ext cx="7129440" cy="58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енности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убеждения, которые образовательное учреждение ставит превыше всего. Управляют действиями сотрудников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                         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Задачи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Формируют преимущества бренда конкрет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3305d"/>
                </a:solidFill>
                <a:latin typeface="Times New Roman"/>
              </a:rPr>
              <a:t>Обеспечивают целостность корпоративной культуры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Ценности должны быть согласованы с 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реальной деятельностью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и достижениями образовательного учреждения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0:22:57Z</dcterms:created>
  <dc:creator>OK</dc:creator>
  <dc:description/>
  <dc:language>en-US</dc:language>
  <cp:lastModifiedBy>user</cp:lastModifiedBy>
  <dcterms:modified xsi:type="dcterms:W3CDTF">2009-10-27T12:08:36Z</dcterms:modified>
  <cp:revision>11</cp:revision>
  <dc:subject/>
  <dc:title>Муниципальное общеобразовательное учреждение Ореховская средняя общеобразовательная школа</dc:title>
</cp:coreProperties>
</file>