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17A-122D-4CE4-B490-570905A4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5D4-A56E-4286-AFF7-9EE8E94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31B-9DD2-452E-9110-7A636D7D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6F6-8973-40F2-9747-7D2FCE48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D6B5-0D97-4107-9C54-D29C846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0F19-5C56-49AC-96B9-D48165A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61BA-58A6-43DB-8FA3-FACDED3D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2B5-5779-420A-B02D-BFF6C75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69DB-DE4F-4D15-9818-831FDF7B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921A-AC99-4C2A-8E4B-25BC8B9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64D3-B91C-4723-B193-9D67BD3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711-203F-4AFF-AEAC-0CFFDE69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F97-2032-45F8-9CF6-4FC74F7D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8EA7-4892-4947-A41A-38194D9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C96-7572-4BBD-85E1-1FF5E0BB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D40-DEDE-4B3B-BF9F-874D238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6F9-2645-45A0-9A23-7A6FC1A4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C94-B4E0-480B-85E2-F5A16DB5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D62-47E8-4B34-BD71-6C165B6A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7C4-1798-4809-908A-E0E55F3E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BD2-16B5-4FCC-B4B3-36E59C2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A23-760D-4B28-959C-5DC99258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6BA-A873-4FEE-AC14-D3387A0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818-960B-46E4-9D3E-1D0E3A7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7df399"/>
              </a:gs>
              <a:gs pos="50000">
                <a:srgbClr val="3399ff"/>
              </a:gs>
              <a:gs pos="100000">
                <a:srgbClr val="7df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7df399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7df399"/>
                </a:gs>
                <a:gs pos="50000">
                  <a:srgbClr val="699bcd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B40E-3E95-486F-A7C9-59DA6D01710F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399"/>
            </a:gs>
            <a:gs pos="50000">
              <a:srgbClr val="3399ff"/>
            </a:gs>
            <a:gs pos="100000">
              <a:srgbClr val="7df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7df399"/>
              </a:gs>
              <a:gs pos="50000">
                <a:srgbClr val="3399ff"/>
              </a:gs>
              <a:gs pos="100000">
                <a:srgbClr val="7df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7df399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7df399"/>
                </a:gs>
                <a:gs pos="50000">
                  <a:srgbClr val="699bcd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0E5-A49E-48FC-9C6E-B15F35F05842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399"/>
            </a:gs>
            <a:gs pos="50000">
              <a:srgbClr val="3399ff"/>
            </a:gs>
            <a:gs pos="100000">
              <a:srgbClr val="7df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Муниципальное общеобразовательное учреждение Ореховская средняя общеобразовательная школа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«Бренд  школы»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834920" y="188640"/>
            <a:ext cx="7057800" cy="58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Принцип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уникальный подход в деятельности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Функции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Может быть использован в качестве критерия в оценке всех решений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Позволяет видеть возможности улучшения деятельности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Должен быть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правдивы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полезным для фокусировки деятельности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обеспечивать эмоциональный отклик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ясны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кратки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08000" y="25992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ндивидуальность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уникальная коммуникативная манера образовательного учреждения (устойчивая стилистика общения с заказчиком). Качества, с помощью которых можно описать компанию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Функции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акцентирует особенность (преимущества!) компании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формирует у клиента впечатление о компании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диктует правила корпоративной культуры. Управляет действиями сотрудников при каждом взаимодействии с клиентом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на базе индивидуальности формируется лидерство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835280" y="1052640"/>
            <a:ext cx="730872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Эмоциональная сторона бренда.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Воспринимается клиентом на подсознательном уровне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834920" y="259920"/>
            <a:ext cx="70578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Эмоциональная сторона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Посредством ассоциаций взаимодействие с заказчиком носит более глубокий характер (вовлекается сфера неосознанного, интуитивного, чувственного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Существуют вне зависимости от того, управляет ли ими образовательное учреждение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Носят обобщенный и очевидный характер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Соответствуют стилю компании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11280" y="1125360"/>
            <a:ext cx="7921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ренд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 Ореховской 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3600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2000" y="2349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640" y="4005360"/>
            <a:ext cx="72421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майте, ищите, учитес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ите себя и ми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жедневно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810108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Times New Roman"/>
              </a:rPr>
              <a:t>Герб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Бренда образовательного учреж­дения  МОУ Ореховская СОШ отражает миссию учреждения.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08360" y="217800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924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3280" y="0"/>
            <a:ext cx="63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центре герба располагается чистая книга, которую необходимо заполнить при обучении в школе. Над книгой находится восходящее солнце, как источник света знаний. С левой стороны располагаются три лесных ореха, как символ с. Орехова и символ твердости знаний учеников школы. С правой стороны находится перо, которым знания учащихся будут вписаны в чистую книгу. Сверху на лентах располагается название школы –МОУ Ореховская СОШ. На нижних лентах стоит дата 1938 , год основания Ореховсеой средней школы. Зеленый фон является отражением одной из главных достопримечательностей школы – учебного –участка (памятника природы «Малая тимирязека»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Цветовая гамма герба: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628640"/>
            <a:ext cx="12952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158436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1628640"/>
            <a:ext cx="1584360" cy="79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637000"/>
            <a:ext cx="216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Белый  как цвет мира, чистоты и непорочности , торжественности и величия. С белизной связано представление о законном, истинном, общепринятом. Белый цвет – цвет свободы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2997360"/>
            <a:ext cx="1584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05d"/>
                </a:solidFill>
                <a:latin typeface="Times New Roman"/>
              </a:rPr>
              <a:t>Желтый  как цвет солнца, открытости всех учителей и учащихся;  </a:t>
            </a:r>
            <a:r>
              <a:rPr b="0" lang="en-US" sz="1800" spc="-1" strike="noStrike">
                <a:solidFill>
                  <a:srgbClr val="03305d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 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7640" y="3141720"/>
            <a:ext cx="18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Цвет  травы и листьев, символизирует юность, надежду.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Миссия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305d"/>
                </a:solidFill>
                <a:latin typeface="Times New Roman"/>
              </a:rPr>
              <a:t>разностороннее развитие учащихся, формирования ключевых компетентностей, способствующих продолжению образования, на благо себя и процветания России, через любовь к своей малой родине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ЦЕЛЬ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05d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БРЕНДА</a:t>
            </a:r>
            <a:r>
              <a:rPr b="0" lang="en-US" sz="3200" spc="-1" strike="noStrike">
                <a:solidFill>
                  <a:srgbClr val="03305d"/>
                </a:solidFill>
                <a:latin typeface="Times New Roman"/>
              </a:rPr>
              <a:t>, отражающего особенности и индивидуальность образовательного процесса МОУ Ореховской СОШ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Ценности 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23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Личность ребенк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Патриотичность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Демократичность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Охрана Природ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Служение своей малой родине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Принцип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3305d"/>
                </a:solidFill>
                <a:latin typeface="Times New Roman"/>
              </a:rPr>
              <a:t>Надо верить, что ты много можешь, тогда многое станет возможным.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310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Образован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Творчески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Культур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Компетент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Востребован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3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Девиз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Разработчики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Соловьев С.А. директор школ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Исправникова Н.А. зам директора по УВР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Урядина Т.А. учитель, зав музея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Николаева Н.Н – учитель русского язык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Комарова М.Ю. –учитель биологии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Матвеева Л.Ю. – учитель нач классов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АДАЧИ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ать БРЕНД школ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ать и утвердить «Положение о Бренде МОУ Ореховской СОШ»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ЭТАПЫ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Знакомство с понятием БРЕНД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Знакомство с БРЕНДАМи других образовательных учреждени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герба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Драйверов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и утверждение «Положения о Бренде»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Определение  «БРЕНД»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Бренд –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это совокупность функциональных и эмоциональных ассоциаций, существующих в сознании заказчика и рассматриваемых в долгосрочной перспективе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92360" y="259920"/>
            <a:ext cx="720072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Бренд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это весь спектр впечатлений, мнений, ожиданий заказчика образовательных услуг, возникающих при каждом соприкосновении с учреждением и его сотрудниками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При грамотной разработке и продвижении бренда эти мнения, впечатления и ожидания имеют удивительно согласованные позиции у большинств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Технология построения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не может быть передана как закрытый перечень предписаний и правил работы. Она должна осваиваться как открытая, непрерывно развивающаяся система технических и эвристических (поисковых, творческих) приемов и техник работы с проблемами. Для овладения ею необходима тренировка определенных умений и навыков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ДРАЙВЕРЫ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иссия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– «генетический код» бренд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Описывает то, что делает учреждение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Фокусируется на настоящем, но направлена в будущее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Дает возможность идентифицировать то, что нам дается лучше всего и строить на этом свою стратегию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Задачи миссии в структуре бренда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определяет границы бренд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воодушевляет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мотивирует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129440" cy="58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енности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убеждения, которые образовательное учреждение ставит превыше всего. Управляют действиями сотрудников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                          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Задачи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Формируют преимущества бренда конкретного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Обеспечивают целостность корпоративной культуры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Ценности должны быть согласованы с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реальной деятельностью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и достижениями образовательного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0:22:57Z</dcterms:created>
  <dc:creator>OK</dc:creator>
  <dc:description/>
  <dc:language>en-US</dc:language>
  <cp:lastModifiedBy>user</cp:lastModifiedBy>
  <dcterms:modified xsi:type="dcterms:W3CDTF">2009-10-27T12:08:36Z</dcterms:modified>
  <cp:revision>11</cp:revision>
  <dc:subject/>
  <dc:title>Муниципальное общеобразовательное учреждение Ореховская средняя общеобразовательная школа</dc:title>
</cp:coreProperties>
</file>