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98E1-AC00-4387-8D67-20E595B1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18E5-AA2D-4561-9B84-944BAA00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BA9A-DEFB-4688-9802-046F8ED8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1BEB-1DF6-491C-AC3E-A0C298F1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50B1-70C3-418E-A90B-39DA571E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6DF8-66FD-4A24-B9C5-2F6FBA69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ED52-DD93-4C7F-9B51-848E8313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A874-4AF0-4FE8-94BC-C015CF30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9BB0-20FB-4940-94EF-B9077AC8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E19E-DAE1-4AAA-A6EF-12899E00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5C37-B59B-45EF-BCC3-54395DDC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6444-B356-41D5-8941-2493977C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BB12-32C5-4769-83F3-C83A2727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2226-D2EB-4057-B322-69E43E54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5758-6729-43FA-A721-4A8562A6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0046-FFC3-4F29-A09C-0B6AA4B4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EDC5-E8E6-4378-A02C-3552B9B5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70DB-82CC-4CE7-95E8-4E146442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1454-7EDF-4399-AC9D-DF04AFBA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B86A-5813-4371-80F0-2122BB15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6E36-C42C-4949-9E90-886E9436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808C-CAD2-43DD-993A-D1EA396E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3284-E398-4C2E-94F6-457FF1E1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1783-98B4-4F3D-A45F-D25CC11C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7df399"/>
              </a:gs>
              <a:gs pos="50000">
                <a:srgbClr val="3399ff"/>
              </a:gs>
              <a:gs pos="100000">
                <a:srgbClr val="7df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7df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7df399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7df399"/>
                </a:gs>
                <a:gs pos="50000">
                  <a:srgbClr val="699bcd"/>
                </a:gs>
                <a:gs pos="100000">
                  <a:srgbClr val="7df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D4C7-0C80-49C0-8236-52508A3B52A1}" type="slidenum">
              <a:rPr b="0" lang="ru-RU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399"/>
            </a:gs>
            <a:gs pos="50000">
              <a:srgbClr val="3399ff"/>
            </a:gs>
            <a:gs pos="100000">
              <a:srgbClr val="7df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7df399"/>
              </a:gs>
              <a:gs pos="50000">
                <a:srgbClr val="3399ff"/>
              </a:gs>
              <a:gs pos="100000">
                <a:srgbClr val="7df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7df399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7df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7df399"/>
                </a:gs>
                <a:gs pos="50000">
                  <a:srgbClr val="699bcd"/>
                </a:gs>
                <a:gs pos="100000">
                  <a:srgbClr val="7df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8ADC-2163-4605-88A2-F28F412B11E2}" type="slidenum">
              <a:rPr b="0" lang="ru-RU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dddddd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399"/>
            </a:gs>
            <a:gs pos="50000">
              <a:srgbClr val="3399ff"/>
            </a:gs>
            <a:gs pos="100000">
              <a:srgbClr val="7df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Муниципальное общеобразовательное учреждение Ореховская средняя общеобразовательная школа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ПРОЕКТ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«Бренд  школы»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834920" y="188640"/>
            <a:ext cx="7057800" cy="583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Принцип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– </a:t>
            </a:r>
            <a:r>
              <a:rPr b="1" lang="en-US" sz="2800" spc="-1" strike="noStrike">
                <a:solidFill>
                  <a:srgbClr val="03305d"/>
                </a:solidFill>
                <a:latin typeface="Times New Roman"/>
              </a:rPr>
              <a:t>уникальный подход в деятельности учреждения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Функции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05d"/>
                </a:solidFill>
                <a:latin typeface="Times New Roman"/>
              </a:rPr>
              <a:t>Может быть использован в качестве критерия в оценке всех решений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05d"/>
                </a:solidFill>
                <a:latin typeface="Times New Roman"/>
              </a:rPr>
              <a:t>Позволяет видеть возможности улучшения деятельности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3305d"/>
                </a:solidFill>
                <a:latin typeface="Times New Roman"/>
              </a:rPr>
              <a:t>Должен быть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3305d"/>
                </a:solidFill>
                <a:latin typeface="Times New Roman"/>
              </a:rPr>
              <a:t>правдивым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3305d"/>
                </a:solidFill>
                <a:latin typeface="Times New Roman"/>
              </a:rPr>
              <a:t>полезным для фокусировки деятельности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3305d"/>
                </a:solidFill>
                <a:latin typeface="Times New Roman"/>
              </a:rPr>
              <a:t>обеспечивать эмоциональный отклик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3305d"/>
                </a:solidFill>
                <a:latin typeface="Times New Roman"/>
              </a:rPr>
              <a:t>ясным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3305d"/>
                </a:solidFill>
                <a:latin typeface="Times New Roman"/>
              </a:rPr>
              <a:t>кратким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908000" y="259920"/>
            <a:ext cx="6912000" cy="575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Индивидуальность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 –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3305d"/>
                </a:solidFill>
                <a:latin typeface="Times New Roman"/>
              </a:rPr>
              <a:t>уникальная коммуникативная манера образовательного учреждения (устойчивая стилистика общения с заказчиком). Качества, с помощью которых можно описать компанию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Функции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05d"/>
                </a:solidFill>
                <a:latin typeface="Times New Roman"/>
              </a:rPr>
              <a:t>акцентирует особенность (преимущества!) компании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05d"/>
                </a:solidFill>
                <a:latin typeface="Times New Roman"/>
              </a:rPr>
              <a:t>формирует у клиента впечатление о компании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05d"/>
                </a:solidFill>
                <a:latin typeface="Times New Roman"/>
              </a:rPr>
              <a:t>диктует правила корпоративной культуры. Управляет действиями сотрудников при каждом взаимодействии с клиентом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05d"/>
                </a:solidFill>
                <a:latin typeface="Times New Roman"/>
              </a:rPr>
              <a:t>на базе индивидуальности формируется лидерство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835280" y="1052640"/>
            <a:ext cx="730872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Эмоциональная сторона бренда. 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Воспринимается клиентом на подсознательном уровне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834920" y="259920"/>
            <a:ext cx="7057800" cy="575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Эмоциональная сторона бренд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3305d"/>
                </a:solidFill>
                <a:latin typeface="Times New Roman"/>
              </a:rPr>
              <a:t>Посредством ассоциаций взаимодействие с заказчиком носит более глубокий характер (вовлекается сфера неосознанного, интуитивного, чувственного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3305d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3305d"/>
                </a:solidFill>
                <a:latin typeface="Times New Roman"/>
              </a:rPr>
              <a:t>Существуют вне зависимости от того, управляет ли ими образовательное учреждение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3305d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3305d"/>
                </a:solidFill>
                <a:latin typeface="Times New Roman"/>
              </a:rPr>
              <a:t>Носят обобщенный и очевидный характер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3305d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3305d"/>
                </a:solidFill>
                <a:latin typeface="Times New Roman"/>
              </a:rPr>
              <a:t>Соответствуют стилю компании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11280" y="1125360"/>
            <a:ext cx="792144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ренд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У  Ореховской  СО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132000" y="333360"/>
            <a:ext cx="3600720" cy="3597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012000" y="234936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71640" y="4005360"/>
            <a:ext cx="72421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умайте, ищите, учитесь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ворите себя и мир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жедневно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42560" y="259920"/>
            <a:ext cx="8101080" cy="575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Times New Roman"/>
              </a:rPr>
              <a:t>Герб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Бренда образовательного учреж­дения  МОУ Ореховская СОШ отражает миссию учреждения.</a:t>
            </a: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708360" y="2178000"/>
            <a:ext cx="482436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2924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843280" y="0"/>
            <a:ext cx="6300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В центре герба располагается чистая книга, которую необходимо заполнить при обучении в школе. Над книгой находится восходящее солнце, как источник света знаний. С левой стороны располагаются три лесных ореха, как символ с. Орехова и символ твердости знаний учеников школы. С правой стороны находится перо, которым знания учащихся будут вписаны в чистую книгу. Сверху на лентах располагается название школы –МОУ Ореховская СОШ. На нижних лентах стоит дата 1938 , год основания Ореховсеой средней школы. Зеленый фон является отражением одной из главных достопримечательностей школы – учебного –участка (памятника природы «Малая тимирязека»)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Цветовая гамма герба: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1628640"/>
            <a:ext cx="129528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48000" y="1628640"/>
            <a:ext cx="1584360" cy="79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72360" y="1628640"/>
            <a:ext cx="1584360" cy="79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2637000"/>
            <a:ext cx="2160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Белый  как цвет мира, чистоты и непорочности , торжественности и величия. С белизной связано представление о законном, истинном, общепринятом. Белый цвет – цвет свободы.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48000" y="2997360"/>
            <a:ext cx="158436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05d"/>
                </a:solidFill>
                <a:latin typeface="Times New Roman"/>
              </a:rPr>
              <a:t>Желтый  как цвет солнца, открытости всех учителей и учащихся;  </a:t>
            </a:r>
            <a:r>
              <a:rPr b="0" lang="en-US" sz="1800" spc="-1" strike="noStrike">
                <a:solidFill>
                  <a:srgbClr val="03305d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  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27640" y="3141720"/>
            <a:ext cx="18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Цвет  травы и листьев, символизирует юность, надежду.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Миссия школы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3305d"/>
                </a:solidFill>
                <a:latin typeface="Times New Roman"/>
              </a:rPr>
              <a:t>разностороннее развитие учащихся, формирования ключевых компетентностей, способствующих продолжению образования, на благо себя и процветания России, через любовь к своей малой родине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ЦЕЛЬ  ПРОЕКТА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05d"/>
                </a:solidFill>
                <a:latin typeface="Times New Roman"/>
              </a:rPr>
              <a:t>Создание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БРЕНДА</a:t>
            </a:r>
            <a:r>
              <a:rPr b="0" lang="en-US" sz="3200" spc="-1" strike="noStrike">
                <a:solidFill>
                  <a:srgbClr val="03305d"/>
                </a:solidFill>
                <a:latin typeface="Times New Roman"/>
              </a:rPr>
              <a:t>, отражающего особенности и индивидуальность образовательного процесса МОУ Ореховской СОШ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Ценности  школы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95640" y="1905120"/>
            <a:ext cx="6238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05d"/>
                </a:solidFill>
                <a:latin typeface="Times New Roman"/>
              </a:rPr>
              <a:t>Личность ребенк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05d"/>
                </a:solidFill>
                <a:latin typeface="Times New Roman"/>
              </a:rPr>
              <a:t>Патриотичность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05d"/>
                </a:solidFill>
                <a:latin typeface="Times New Roman"/>
              </a:rPr>
              <a:t>Демократичность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05d"/>
                </a:solidFill>
                <a:latin typeface="Times New Roman"/>
              </a:rPr>
              <a:t>Охрана Природы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05d"/>
                </a:solidFill>
                <a:latin typeface="Times New Roman"/>
              </a:rPr>
              <a:t>Служение своей малой родине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Принцип школы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3305d"/>
                </a:solidFill>
                <a:latin typeface="Times New Roman"/>
              </a:rPr>
              <a:t>Надо верить, что ты много можешь, тогда многое станет возможным.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23640" y="1905120"/>
            <a:ext cx="6310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05d"/>
                </a:solidFill>
                <a:latin typeface="Times New Roman"/>
              </a:rPr>
              <a:t>Образованный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05d"/>
                </a:solidFill>
                <a:latin typeface="Times New Roman"/>
              </a:rPr>
              <a:t>Творческий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05d"/>
                </a:solidFill>
                <a:latin typeface="Times New Roman"/>
              </a:rPr>
              <a:t>Культурный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05d"/>
                </a:solidFill>
                <a:latin typeface="Times New Roman"/>
              </a:rPr>
              <a:t>Компетентный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05d"/>
                </a:solidFill>
                <a:latin typeface="Times New Roman"/>
              </a:rPr>
              <a:t>Востребованный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338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Девиз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Разработчики Бренда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Соловьев С.А. директор школы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Исправникова Н.А. зам директора по УВР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Урядина Т.А. учитель, зав музея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Николаева Н.Н – учитель русского язык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Комарова М.Ю. –учитель биологии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Матвеева Л.Ю. – учитель нач классов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ЗАДАЧИ  ПРОЕКТА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Разработать БРЕНД школы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Разработать и утвердить «Положение о Бренде МОУ Ореховской СОШ»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ЭТАПЫ  ПРОЕКТА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Знакомство с понятием БРЕНД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Знакомство с БРЕНДАМи других образовательных учреждений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Разработка герба БРЕНД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Разработка Драйверов БРЕНД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Разработка и утверждение «Положения о Бренде»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Определение  «БРЕНД»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Бренд – </a:t>
            </a:r>
            <a:r>
              <a:rPr b="1" lang="ru-RU" sz="3200" spc="-1" strike="noStrike">
                <a:solidFill>
                  <a:srgbClr val="03305d"/>
                </a:solidFill>
                <a:latin typeface="Times New Roman"/>
              </a:rPr>
              <a:t>это совокупность функциональных и эмоциональных ассоциаций, существующих в сознании заказчика и рассматриваемых в долгосрочной перспективе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692360" y="259920"/>
            <a:ext cx="7200720" cy="575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Бренд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3305d"/>
                </a:solidFill>
                <a:latin typeface="Times New Roman"/>
              </a:rPr>
              <a:t>это весь спектр впечатлений, мнений, ожиданий заказчика образовательных услуг, возникающих при каждом соприкосновении с учреждением и его сотрудниками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305d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3305d"/>
                </a:solidFill>
                <a:latin typeface="Times New Roman"/>
              </a:rPr>
              <a:t>При грамотной разработке и продвижении бренда эти мнения, впечатления и ожидания имеют удивительно согласованные позиции у большинств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Технология построения бренда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305d"/>
                </a:solidFill>
                <a:latin typeface="Times New Roman"/>
              </a:rPr>
              <a:t>не может быть передана как закрытый перечень предписаний и правил работы. Она должна осваиваться как открытая, непрерывно развивающаяся система технических и эвристических (поисковых, творческих) приемов и техник работы с проблемами. Для овладения ею необходима тренировка определенных умений и навыков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ДРАЙВЕРЫ БРЕНДА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Миссия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– «генетический код» бренда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Описывает то, что делает учреждение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Фокусируется на настоящем, но направлена в будущее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Дает возможность идентифицировать то, что нам дается лучше всего и строить на этом свою стратегию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3305d"/>
                </a:solidFill>
                <a:latin typeface="Times New Roman"/>
              </a:rPr>
              <a:t>Задачи миссии в структуре бренда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определяет границы бренда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воодушевляет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мотивирует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35280" y="188640"/>
            <a:ext cx="7129440" cy="583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Ценности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3305d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03305d"/>
                </a:solidFill>
                <a:latin typeface="Times New Roman"/>
              </a:rPr>
              <a:t>убеждения, которые образовательное учреждение ставит превыше всего. Управляют действиями сотрудников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3305d"/>
                </a:solidFill>
                <a:latin typeface="Times New Roman"/>
              </a:rPr>
              <a:t>                           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Задачи</a:t>
            </a: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3305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3305d"/>
                </a:solidFill>
                <a:latin typeface="Times New Roman"/>
              </a:rPr>
              <a:t>Формируют преимущества бренда конкретного учреждения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305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3305d"/>
                </a:solidFill>
                <a:latin typeface="Times New Roman"/>
              </a:rPr>
              <a:t>Обеспечивают целостность корпоративной культуры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Ценности должны быть согласованы с </a:t>
            </a:r>
            <a:r>
              <a:rPr b="0" i="1" lang="ru-RU" sz="2800" spc="-1" strike="noStrike" u="sng">
                <a:solidFill>
                  <a:srgbClr val="008000"/>
                </a:solidFill>
                <a:uFillTx/>
                <a:latin typeface="Times New Roman"/>
              </a:rPr>
              <a:t>реальной деятельностью</a:t>
            </a: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 и достижениями образовательного учреждения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0:22:57Z</dcterms:created>
  <dc:creator>OK</dc:creator>
  <dc:description/>
  <dc:language>en-US</dc:language>
  <cp:lastModifiedBy>user</cp:lastModifiedBy>
  <dcterms:modified xsi:type="dcterms:W3CDTF">2009-10-27T12:08:36Z</dcterms:modified>
  <cp:revision>11</cp:revision>
  <dc:subject/>
  <dc:title>Муниципальное общеобразовательное учреждение Ореховская средняя общеобразовательная школа</dc:title>
</cp:coreProperties>
</file>