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jpeg" ContentType="image/jpe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D1D0B-971A-4721-9F73-4282E18EF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D872E-3D11-4BFA-BA2B-57797784C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D1E54-F4ED-40F2-A1D9-4C04E404C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F9A21-FDC8-4003-87F6-35A1A2844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37BD2-5528-4EAD-8C92-9734A020B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5B48C-73A9-4A3A-BD31-417569C79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79083-D2FA-4624-94C3-ACA502A6C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4C59B-AD8E-4778-BE93-EEAD2C7A5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26D35-D204-4116-9FCF-965230751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6E242-3548-4A09-82AD-118950CD8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F0858-B09B-4A9C-A471-393E696C1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319A5-5BC6-4D27-9FBB-061AF4D1F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0859C-C606-4254-B6D7-876EFF758051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FA6CA-9A5A-47BC-9E7E-72DE36BE11A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85600" y="2923920"/>
            <a:ext cx="5715000" cy="1576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53735"/>
                </a:solidFill>
                <a:latin typeface="Calibri"/>
              </a:rPr>
              <a:t>Загадки романа </a:t>
            </a:r>
            <a:br>
              <a:rPr sz="4800"/>
            </a:br>
            <a:r>
              <a:rPr b="1" lang="ru-RU" sz="4800" spc="-1" strike="noStrike">
                <a:solidFill>
                  <a:srgbClr val="953735"/>
                </a:solidFill>
                <a:latin typeface="Calibri"/>
              </a:rPr>
              <a:t>«Тихий Дон»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2" descr="H:\Documents and Settings\Aida\Рабочий стол\LT_Albhabets_co_13.jpg"/>
          <p:cNvPicPr/>
          <p:nvPr/>
        </p:nvPicPr>
        <p:blipFill>
          <a:blip r:embed="rId2"/>
          <a:stretch/>
        </p:blipFill>
        <p:spPr>
          <a:xfrm>
            <a:off x="-1981080" y="2890800"/>
            <a:ext cx="1628640" cy="857160"/>
          </a:xfrm>
          <a:prstGeom prst="rect">
            <a:avLst/>
          </a:prstGeom>
          <a:ln w="0">
            <a:noFill/>
          </a:ln>
        </p:spPr>
      </p:pic>
      <p:grpSp>
        <p:nvGrpSpPr>
          <p:cNvPr id="43" name="Прямоугольник 14"/>
          <p:cNvGrpSpPr/>
          <p:nvPr/>
        </p:nvGrpSpPr>
        <p:grpSpPr>
          <a:xfrm>
            <a:off x="19080" y="-109440"/>
            <a:ext cx="9180360" cy="7003800"/>
            <a:chOff x="19080" y="-109440"/>
            <a:chExt cx="9180360" cy="7003800"/>
          </a:xfrm>
        </p:grpSpPr>
        <p:pic>
          <p:nvPicPr>
            <p:cNvPr id="44" name="Прямоугольник 14" descr=""/>
            <p:cNvPicPr/>
            <p:nvPr/>
          </p:nvPicPr>
          <p:blipFill>
            <a:blip r:embed="rId3"/>
            <a:stretch/>
          </p:blipFill>
          <p:spPr>
            <a:xfrm>
              <a:off x="19080" y="-109440"/>
              <a:ext cx="9180360" cy="700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"/>
            <p:cNvSpPr/>
            <p:nvPr/>
          </p:nvSpPr>
          <p:spPr>
            <a:xfrm>
              <a:off x="285840" y="142920"/>
              <a:ext cx="8643960" cy="650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6" name="Picture 2" descr="H:\Documents and Settings\Aida\Рабочий стол\ПРО создание презнетаций шаблонов... и всё!\МОИ шаблоны ЭКСПЕРИМЕНТы\c6083dc3afa8a7a217aa7cd89793e60f.jpg"/>
          <p:cNvPicPr/>
          <p:nvPr/>
        </p:nvPicPr>
        <p:blipFill>
          <a:blip r:embed="rId4"/>
          <a:stretch/>
        </p:blipFill>
        <p:spPr>
          <a:xfrm>
            <a:off x="3408480" y="993600"/>
            <a:ext cx="2468520" cy="2597400"/>
          </a:xfrm>
          <a:prstGeom prst="rect">
            <a:avLst/>
          </a:prstGeom>
          <a:ln w="0">
            <a:noFill/>
          </a:ln>
        </p:spPr>
      </p:pic>
      <p:sp>
        <p:nvSpPr>
          <p:cNvPr id="47" name="Прямоугольник 5"/>
          <p:cNvSpPr/>
          <p:nvPr/>
        </p:nvSpPr>
        <p:spPr>
          <a:xfrm>
            <a:off x="295200" y="6642000"/>
            <a:ext cx="960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84807"/>
                </a:solidFill>
                <a:latin typeface="Calibri"/>
              </a:rPr>
              <a:t>http://aida.ucoz.ru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38331-BCA9-417A-9EDA-F312B9F90A31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4FDFC-B6FB-439F-A098-0039382D74B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рямоугольник 4"/>
          <p:cNvSpPr/>
          <p:nvPr/>
        </p:nvSpPr>
        <p:spPr>
          <a:xfrm>
            <a:off x="1187280" y="907920"/>
            <a:ext cx="6553440" cy="413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32523"/>
                </a:solidFill>
                <a:latin typeface="Arial"/>
              </a:rPr>
              <a:t>М.Шолох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32523"/>
                </a:solidFill>
                <a:latin typeface="Arial"/>
              </a:rPr>
              <a:t>«Донские рассказы.» «АЛЕШКИНО СЕРДЦЕ.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32523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632523"/>
                </a:solidFill>
                <a:latin typeface="Arial"/>
              </a:rPr>
              <a:t>Два лета подряд засуха дочерна вылизывала мужицкие поля. Два лета подряд жестокий восточный ветер дул с киргизских степей, трепал порыжелые космы хлебов и сушил устремленные на высохшую степь глаза мужиков и скупые, колючие мужицкие слезы. Следом шагал голод. Алешка представлял себе его большущим безглазым человеком: идет он бездорожно, шарит руками по поселкам, хуторам, станицам, душит людей и вот-вот черствыми пальцами насмерть стиснет Алешкино сердце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BAA0D-F111-4723-9D42-193D37570141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72DE1-25CF-490E-A133-18F791291C4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оугольник 3"/>
          <p:cNvSpPr/>
          <p:nvPr/>
        </p:nvSpPr>
        <p:spPr>
          <a:xfrm>
            <a:off x="1042920" y="549360"/>
            <a:ext cx="7274160" cy="59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32523"/>
                </a:solidFill>
                <a:latin typeface="Arial"/>
              </a:rPr>
              <a:t>Федор Крюков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32523"/>
                </a:solidFill>
                <a:latin typeface="Arial"/>
              </a:rPr>
              <a:t>Казачка. (Из станичного быт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32523"/>
                </a:solidFill>
                <a:latin typeface="Arial"/>
              </a:rPr>
              <a:t>В маленькой комнатке с низким потолком, с потемневшими, старинного письма, деревянными иконами в переднем углу, с оружием и дешевыми олеографиями по стенам находилось два лица: студент в старом, форменном сюртуке и молодая казачка. Студент стоял на коленях среди комнаты перед большим раскрытым чемоданом и вынимал из него книги, разные свертки и — больше всего — кипы литографированных лекций и исписанной бумаги. Русые волосы его, подстриженные в кружок и слегка вьющиеся, в беспорядке падали ему на лоб; он беспрестанно поправлял их, то встряхивая головой, то откидывая рукой назад. Молодая собеседница его, которая сидела на сундуке, около двери, с несколько недоумевающим любопытством посматривала на эти груды книг и лекций, разложенных на полу вокруг чемодана</a:t>
            </a:r>
            <a:r>
              <a:rPr b="0" lang="ru-RU" sz="1800" spc="-1" strike="noStrike">
                <a:solidFill>
                  <a:srgbClr val="632523"/>
                </a:solidFill>
                <a:latin typeface="Arial"/>
              </a:rPr>
              <a:t>…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32523"/>
                </a:solidFill>
                <a:latin typeface="Calibri"/>
              </a:rPr>
              <a:t>«Кто же он М.Шолохов?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Дата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B99F8-7D0A-41B7-8B90-1CE9DDCA00AE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A596B-A336-43A3-A42A-005FE15341C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4"/>
          <p:cNvSpPr/>
          <p:nvPr/>
        </p:nvSpPr>
        <p:spPr>
          <a:xfrm>
            <a:off x="755640" y="1268280"/>
            <a:ext cx="28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953735"/>
                </a:solidFill>
                <a:uFillTx/>
                <a:latin typeface="Arial"/>
              </a:rPr>
              <a:t>Плагиат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5"/>
          <p:cNvSpPr/>
          <p:nvPr/>
        </p:nvSpPr>
        <p:spPr>
          <a:xfrm>
            <a:off x="4859280" y="1268280"/>
            <a:ext cx="33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953735"/>
                </a:solidFill>
                <a:uFillTx/>
                <a:latin typeface="Arial"/>
              </a:rPr>
              <a:t>Г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6"/>
          <p:cNvSpPr/>
          <p:nvPr/>
        </p:nvSpPr>
        <p:spPr>
          <a:xfrm>
            <a:off x="684360" y="1916280"/>
            <a:ext cx="32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32523"/>
                </a:solidFill>
                <a:latin typeface="Arial"/>
              </a:rPr>
              <a:t>Молодость (23 год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оугольник 7"/>
          <p:cNvSpPr/>
          <p:nvPr/>
        </p:nvSpPr>
        <p:spPr>
          <a:xfrm>
            <a:off x="755640" y="3500280"/>
            <a:ext cx="309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32523"/>
                </a:solidFill>
                <a:latin typeface="Arial"/>
              </a:rPr>
              <a:t>Отсутствие образования (неполных 4 класса гимнази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8"/>
          <p:cNvSpPr/>
          <p:nvPr/>
        </p:nvSpPr>
        <p:spPr>
          <a:xfrm>
            <a:off x="684360" y="5300640"/>
            <a:ext cx="30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32523"/>
                </a:solidFill>
                <a:latin typeface="Arial"/>
              </a:rPr>
              <a:t>Недостаточный житейский опы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9"/>
          <p:cNvSpPr/>
          <p:nvPr/>
        </p:nvSpPr>
        <p:spPr>
          <a:xfrm>
            <a:off x="3851280" y="1844640"/>
            <a:ext cx="4753080" cy="17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53735"/>
                </a:solidFill>
                <a:latin typeface="Arial"/>
              </a:rPr>
              <a:t>Молодость  не означает отсутствие таланта (А. С. Пушкин «Евгений Онегин» (начало) – 23 года; М. Ю. Лермонтов «Герой нашего времени» – 26 лет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10"/>
          <p:cNvSpPr/>
          <p:nvPr/>
        </p:nvSpPr>
        <p:spPr>
          <a:xfrm>
            <a:off x="3780000" y="3284640"/>
            <a:ext cx="4608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53735"/>
                </a:solidFill>
                <a:latin typeface="Arial"/>
              </a:rPr>
              <a:t>Наличие университетского образования не является признаком таланта, тем более гениальности (И. А. Бунин  – 3 класса гимназии; А. М. Горький, Л. Леонов  – отсутствие университетского образования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11"/>
          <p:cNvSpPr/>
          <p:nvPr/>
        </p:nvSpPr>
        <p:spPr>
          <a:xfrm>
            <a:off x="3780000" y="5229360"/>
            <a:ext cx="43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53735"/>
                </a:solidFill>
                <a:latin typeface="Arial"/>
              </a:rPr>
              <a:t>Исторические катаклизмы ускоряют взросление лич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32523"/>
                </a:solidFill>
                <a:latin typeface="Calibri"/>
              </a:rPr>
              <a:t>Вывод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Дата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061C8-0BE0-4DA6-BFCF-45C95FC5370E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7F267-F78C-4C80-B89C-99CF6A449AE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4"/>
          <p:cNvSpPr/>
          <p:nvPr/>
        </p:nvSpPr>
        <p:spPr>
          <a:xfrm>
            <a:off x="4572000" y="1197000"/>
            <a:ext cx="374508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632523"/>
                </a:solidFill>
                <a:latin typeface="Arial"/>
              </a:rPr>
              <a:t>М. Шолохов  – «несравненный гений» русской литературы и действительный автор романа «Тихий Дон». Михаил Александрович смог написать в свои юные годы это произведение потому, что «от Бога ему дано было видение человеческих сердец и талант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32523"/>
                </a:solidFill>
                <a:latin typeface="Arial"/>
              </a:rPr>
              <a:t>                                                 </a:t>
            </a:r>
            <a:r>
              <a:rPr b="1" lang="ru-RU" sz="2000" spc="-1" strike="noStrike">
                <a:solidFill>
                  <a:srgbClr val="632523"/>
                </a:solidFill>
                <a:latin typeface="Arial"/>
              </a:rPr>
              <a:t>(П.Н.Кудинов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2" descr="Картинка 1 из 3541"/>
          <p:cNvPicPr/>
          <p:nvPr/>
        </p:nvPicPr>
        <p:blipFill>
          <a:blip r:embed="rId1"/>
          <a:stretch/>
        </p:blipFill>
        <p:spPr>
          <a:xfrm>
            <a:off x="755640" y="620640"/>
            <a:ext cx="285768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BB9B0-75E3-40EC-9C75-3C5D850859E1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3B65B-FCFE-4BEF-9078-EE8B7B43AAB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" descr="Картинка 2 из 3541"/>
          <p:cNvPicPr/>
          <p:nvPr/>
        </p:nvPicPr>
        <p:blipFill>
          <a:blip r:embed="rId1"/>
          <a:stretch/>
        </p:blipFill>
        <p:spPr>
          <a:xfrm>
            <a:off x="2484360" y="549360"/>
            <a:ext cx="4181400" cy="50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F2B09-BD4D-468B-B3F8-31B36313C974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4C727-9825-4C84-9F61-63AB6DEA8B3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3"/>
          <p:cNvSpPr/>
          <p:nvPr/>
        </p:nvSpPr>
        <p:spPr>
          <a:xfrm>
            <a:off x="900000" y="476280"/>
            <a:ext cx="7488360" cy="55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32523"/>
                </a:solidFill>
                <a:latin typeface="Arial"/>
              </a:rPr>
              <a:t>Первую книгу «Тихого Дона» М. Шолохов опубликовал, когда ему было 23 года. Роман прозвучал как взрыв, волны от которого разошлись по всему свет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32523"/>
                </a:solidFill>
                <a:latin typeface="Arial"/>
              </a:rPr>
              <a:t>            </a:t>
            </a:r>
            <a:r>
              <a:rPr b="1" lang="ru-RU" sz="1800" spc="-1" strike="noStrike">
                <a:solidFill>
                  <a:srgbClr val="632523"/>
                </a:solidFill>
                <a:latin typeface="Arial"/>
              </a:rPr>
              <a:t>Британская газета «Санди график» заявляла: «Книга эта удивила мир! В последние годы ни одно произведение не приблизилось к этой величественной саге о русской жизни по своей силе, взволнованности и безжалостному реализму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32523"/>
                </a:solidFill>
                <a:latin typeface="Arial"/>
              </a:rPr>
              <a:t>            </a:t>
            </a:r>
            <a:r>
              <a:rPr b="1" lang="ru-RU" sz="1800" spc="-1" strike="noStrike">
                <a:solidFill>
                  <a:srgbClr val="632523"/>
                </a:solidFill>
                <a:latin typeface="Arial"/>
              </a:rPr>
              <a:t>В писательской среде в 1928 г.  зародился слух: молодой малообразованный писатель с Дона не мог написать такой роман. Эти сомнения позже сфокусировал в предисловии к  книге «Стремя «Тихого Дона» И. Н. Медведевой – Томашевской (Париж, 1974 г.) А. И. Солженицын, сказав, что с самого своего появления «Тихий Дон» породил «цепь загадок». Он писал: «Книга удалась такой художественной силы, которая достижима лишь после многих проб опытного мастера… Тогда несравненный гений?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32523"/>
                </a:solidFill>
                <a:latin typeface="Arial"/>
              </a:rPr>
              <a:t>             </a:t>
            </a:r>
            <a:r>
              <a:rPr b="1" lang="ru-RU" sz="1800" spc="-1" strike="noStrike">
                <a:solidFill>
                  <a:srgbClr val="632523"/>
                </a:solidFill>
                <a:latin typeface="Arial"/>
              </a:rPr>
              <a:t>Одной из главных загадок «Тихого Дона» было то, что в своей оценке русской революции книга на много десятилетий опережала время. В ней чувствовалась  неизбывная боль  за народ, для которого прорыв в будущее обернулся тяжкой бед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32523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53735"/>
                </a:solidFill>
                <a:latin typeface="Calibri"/>
              </a:rPr>
              <a:t>Версии об авторстве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Дата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0C77D-7FA0-4094-8F95-84C99A55C4C6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FFF20-F65D-433F-AC94-01AB7448A83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IN00343_"/>
          <p:cNvPicPr/>
          <p:nvPr/>
        </p:nvPicPr>
        <p:blipFill>
          <a:blip r:embed="rId1"/>
          <a:stretch/>
        </p:blipFill>
        <p:spPr>
          <a:xfrm>
            <a:off x="971640" y="1700280"/>
            <a:ext cx="2124000" cy="266364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5"/>
          <p:cNvSpPr/>
          <p:nvPr/>
        </p:nvSpPr>
        <p:spPr>
          <a:xfrm>
            <a:off x="3564000" y="2637000"/>
            <a:ext cx="2016000" cy="24476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99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6" descr=""/>
          <p:cNvPicPr/>
          <p:nvPr/>
        </p:nvPicPr>
        <p:blipFill>
          <a:blip r:embed="rId2"/>
          <a:stretch/>
        </p:blipFill>
        <p:spPr>
          <a:xfrm>
            <a:off x="6012000" y="3357720"/>
            <a:ext cx="2160360" cy="24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A4A9C-56C3-4FCE-817D-7AF646A5D6BF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2A69C-B00C-455A-B79F-348EE9289FC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4"/>
          <p:cNvSpPr/>
          <p:nvPr/>
        </p:nvSpPr>
        <p:spPr>
          <a:xfrm>
            <a:off x="826920" y="692280"/>
            <a:ext cx="27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32523"/>
                </a:solidFill>
                <a:latin typeface="Arial"/>
              </a:rPr>
              <a:t>Верс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5"/>
          <p:cNvSpPr/>
          <p:nvPr/>
        </p:nvSpPr>
        <p:spPr>
          <a:xfrm>
            <a:off x="755640" y="1773360"/>
            <a:ext cx="36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53735"/>
                </a:solidFill>
                <a:latin typeface="Arial"/>
              </a:rPr>
              <a:t>Белогвардейский офиц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6"/>
          <p:cNvSpPr/>
          <p:nvPr/>
        </p:nvSpPr>
        <p:spPr>
          <a:xfrm>
            <a:off x="755640" y="2492280"/>
            <a:ext cx="32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53735"/>
                </a:solidFill>
                <a:latin typeface="Arial"/>
              </a:rPr>
              <a:t>Голоушев С.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оугольник 7"/>
          <p:cNvSpPr/>
          <p:nvPr/>
        </p:nvSpPr>
        <p:spPr>
          <a:xfrm>
            <a:off x="755640" y="3573360"/>
            <a:ext cx="30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53735"/>
                </a:solidFill>
                <a:latin typeface="Arial"/>
              </a:rPr>
              <a:t>Крюков Ф.Д</a:t>
            </a:r>
            <a:r>
              <a:rPr b="1" lang="ru-RU" sz="2000" spc="-1" strike="noStrike">
                <a:solidFill>
                  <a:srgbClr val="953735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Прямоугольник 8"/>
          <p:cNvSpPr/>
          <p:nvPr/>
        </p:nvSpPr>
        <p:spPr>
          <a:xfrm>
            <a:off x="4716360" y="692280"/>
            <a:ext cx="352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32523"/>
                </a:solidFill>
                <a:latin typeface="Arial"/>
              </a:rPr>
              <a:t>Несостоятель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Прямоугольник 9"/>
          <p:cNvSpPr/>
          <p:nvPr/>
        </p:nvSpPr>
        <p:spPr>
          <a:xfrm>
            <a:off x="4716360" y="1700280"/>
            <a:ext cx="36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53735"/>
                </a:solidFill>
                <a:latin typeface="Arial"/>
              </a:rPr>
              <a:t>Погиб во время гражданской вой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оугольник 10"/>
          <p:cNvSpPr/>
          <p:nvPr/>
        </p:nvSpPr>
        <p:spPr>
          <a:xfrm>
            <a:off x="4788000" y="2565360"/>
            <a:ext cx="360036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53735"/>
                </a:solidFill>
                <a:latin typeface="Arial"/>
              </a:rPr>
              <a:t>Отсутствие доказательст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рямоугольник 11"/>
          <p:cNvSpPr/>
          <p:nvPr/>
        </p:nvSpPr>
        <p:spPr>
          <a:xfrm>
            <a:off x="4643280" y="3573360"/>
            <a:ext cx="3745080" cy="124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53735"/>
                </a:solidFill>
                <a:latin typeface="Arial"/>
              </a:rPr>
              <a:t>Умер в 1920 год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53735"/>
                </a:solidFill>
                <a:latin typeface="Arial"/>
              </a:rPr>
              <a:t>В личном архиве писателя нет сведений о работе над роман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E3B84-ECBF-42D1-B6C9-E89467482A81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2957D-AD62-45CD-9028-C7F4DC79745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оугольник 3"/>
          <p:cNvSpPr/>
          <p:nvPr/>
        </p:nvSpPr>
        <p:spPr>
          <a:xfrm>
            <a:off x="684360" y="1125360"/>
            <a:ext cx="3166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32523"/>
                </a:solidFill>
                <a:latin typeface="Arial"/>
              </a:rPr>
              <a:t>Относительное творческое бесплодие в течение последних 45 л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оугольник 4"/>
          <p:cNvSpPr/>
          <p:nvPr/>
        </p:nvSpPr>
        <p:spPr>
          <a:xfrm>
            <a:off x="826920" y="3933720"/>
            <a:ext cx="30243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32523"/>
                </a:solidFill>
                <a:latin typeface="Arial"/>
              </a:rPr>
              <a:t>Отсутствие рукописи («… ни в одном архиве, никому не предъявлены, не показаны черновые рукописи романа» (А. И. Солженицын, 1974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оугольник 5"/>
          <p:cNvSpPr/>
          <p:nvPr/>
        </p:nvSpPr>
        <p:spPr>
          <a:xfrm>
            <a:off x="4211640" y="620640"/>
            <a:ext cx="4392720" cy="29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32523"/>
                </a:solidFill>
                <a:latin typeface="Arial"/>
              </a:rPr>
              <a:t>Аналогичный случай с Л. Н. Толстым: после создания основных шедевров не создано ничего значительного, за исключением «Хаджи   –  Мурат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32523"/>
                </a:solidFill>
                <a:latin typeface="Arial"/>
              </a:rPr>
              <a:t>«Вы не ждите от меня ничего более значительного, чем «Тихий Дон». Я сгорел, работая над «Тихим Доном». Сгорел …» М.А. Шолох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Прямоугольник 6"/>
          <p:cNvSpPr/>
          <p:nvPr/>
        </p:nvSpPr>
        <p:spPr>
          <a:xfrm>
            <a:off x="4211640" y="4005360"/>
            <a:ext cx="396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32523"/>
                </a:solidFill>
                <a:latin typeface="Arial"/>
              </a:rPr>
              <a:t>В 1999 г. найдена рукопись и выкуплена ИМЛИ имени А. М. Горького РАН за 50000 долларов и предъявлена обществ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32523"/>
                </a:solidFill>
                <a:latin typeface="Calibri"/>
              </a:rPr>
              <a:t>Соотношение реалий действительности в романе с жизненной биографией автор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Дата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CF34A-7FF8-4CF0-8841-64B2953B219C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836AC-9618-4815-B143-2804349B91A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рямоугольник 4"/>
          <p:cNvSpPr/>
          <p:nvPr/>
        </p:nvSpPr>
        <p:spPr>
          <a:xfrm>
            <a:off x="826920" y="155736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953735"/>
                </a:solidFill>
                <a:uFillTx/>
                <a:latin typeface="Arial"/>
              </a:rPr>
              <a:t>Реалии текс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Прямоугольник 5"/>
          <p:cNvSpPr/>
          <p:nvPr/>
        </p:nvSpPr>
        <p:spPr>
          <a:xfrm>
            <a:off x="4859280" y="148428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953735"/>
                </a:solidFill>
                <a:uFillTx/>
                <a:latin typeface="Arial"/>
              </a:rPr>
              <a:t>Биография авто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Прямоугольник 6"/>
          <p:cNvSpPr/>
          <p:nvPr/>
        </p:nvSpPr>
        <p:spPr>
          <a:xfrm>
            <a:off x="971640" y="2133720"/>
            <a:ext cx="28796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53735"/>
                </a:solidFill>
                <a:latin typeface="Arial"/>
              </a:rPr>
              <a:t>Станица Вешенс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53735"/>
                </a:solidFill>
                <a:latin typeface="Arial"/>
              </a:rPr>
              <a:t>Гетманский шля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Прямоугольник 7"/>
          <p:cNvSpPr/>
          <p:nvPr/>
        </p:nvSpPr>
        <p:spPr>
          <a:xfrm>
            <a:off x="900000" y="3500280"/>
            <a:ext cx="3384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53735"/>
                </a:solidFill>
                <a:latin typeface="Arial"/>
              </a:rPr>
              <a:t>Лиза Мохова жила по адресу: «Москва, Плющиха, Долгий</a:t>
            </a:r>
            <a:r>
              <a:rPr b="1" lang="ru-RU" sz="2400" spc="-1" strike="noStrike">
                <a:solidFill>
                  <a:srgbClr val="953735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953735"/>
                </a:solidFill>
                <a:latin typeface="Arial"/>
              </a:rPr>
              <a:t>переулок, д.20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Прямоугольник 8"/>
          <p:cNvSpPr/>
          <p:nvPr/>
        </p:nvSpPr>
        <p:spPr>
          <a:xfrm>
            <a:off x="900000" y="4797360"/>
            <a:ext cx="309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53735"/>
                </a:solidFill>
                <a:latin typeface="Arial"/>
              </a:rPr>
              <a:t>Григорий Мелехов лечится в глазолечебной больнице Снегире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оугольник 9"/>
          <p:cNvSpPr/>
          <p:nvPr/>
        </p:nvSpPr>
        <p:spPr>
          <a:xfrm>
            <a:off x="5003640" y="2060640"/>
            <a:ext cx="3456000" cy="13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53735"/>
                </a:solidFill>
                <a:latin typeface="Arial"/>
              </a:rPr>
              <a:t>Здесь родился и жил М.А.Шолохов</a:t>
            </a:r>
            <a:r>
              <a:rPr b="0" lang="ru-RU" sz="2400" spc="-1" strike="noStrike">
                <a:solidFill>
                  <a:srgbClr val="953735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53735"/>
                </a:solidFill>
                <a:latin typeface="Arial"/>
              </a:rPr>
              <a:t>О шляхе помнят лишь старожилы Вешенск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Прямоугольник 10"/>
          <p:cNvSpPr/>
          <p:nvPr/>
        </p:nvSpPr>
        <p:spPr>
          <a:xfrm>
            <a:off x="5076720" y="3789360"/>
            <a:ext cx="3167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53735"/>
                </a:solidFill>
                <a:latin typeface="Arial"/>
              </a:rPr>
              <a:t>По этому адресу жил М.Шолохов, когда учился в гимназии Шелапути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рямоугольник 11"/>
          <p:cNvSpPr/>
          <p:nvPr/>
        </p:nvSpPr>
        <p:spPr>
          <a:xfrm>
            <a:off x="5148360" y="5013360"/>
            <a:ext cx="280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53735"/>
                </a:solidFill>
                <a:latin typeface="Arial"/>
              </a:rPr>
              <a:t>Здесь лечился М.Шолохов, когда ему было 9 л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052640"/>
            <a:ext cx="82296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32523"/>
                </a:solidFill>
                <a:latin typeface="Calibri"/>
              </a:rPr>
              <a:t>Лингвистический анализ отрывков из повести Ф.Крюкова  «Казачка» и «Донских рассказов» М.Шолохов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Дата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ED4F6-B75E-4F7B-83DA-E02CA681C4B1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75E7A-57BF-497C-8E9B-DD9B0224E5D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4"/>
          <p:cNvSpPr/>
          <p:nvPr/>
        </p:nvSpPr>
        <p:spPr>
          <a:xfrm>
            <a:off x="900000" y="2133720"/>
            <a:ext cx="7632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53735"/>
                </a:solidFill>
                <a:latin typeface="Arial"/>
              </a:rPr>
              <a:t>Было исследовано 3000 предложений, 50000 сл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53735"/>
                </a:solidFill>
                <a:latin typeface="Arial"/>
              </a:rPr>
              <a:t>По манере письма Ф.Крюков и М.Шолохов заметно отличаются друг от друг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53735"/>
                </a:solidFill>
                <a:latin typeface="Arial"/>
              </a:rPr>
              <a:t>Стиль автора «Тихого Дона» и «Донских рассказов» в высшей степени совпада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2934E-6312-484C-A7E1-7D9A8422AFE7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E147A-908D-405E-8F7F-D25C4523C9F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2" descr="Картинка 1 из 15"/>
          <p:cNvPicPr/>
          <p:nvPr/>
        </p:nvPicPr>
        <p:blipFill>
          <a:blip r:embed="rId1"/>
          <a:stretch/>
        </p:blipFill>
        <p:spPr>
          <a:xfrm>
            <a:off x="900000" y="620640"/>
            <a:ext cx="741708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3T13:51:10Z</dcterms:created>
  <dc:creator>Aida_Alex</dc:creator>
  <dc:description/>
  <dc:language>en-US</dc:language>
  <cp:lastModifiedBy>.</cp:lastModifiedBy>
  <dcterms:modified xsi:type="dcterms:W3CDTF">2011-11-18T01:20:19Z</dcterms:modified>
  <cp:revision>11</cp:revision>
  <dc:subject/>
  <dc:title>Слайд 1</dc:title>
</cp:coreProperties>
</file>