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D75-6B2F-4C0A-B49C-5E1D263E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845-4B3D-4AC9-8D72-60CC4E44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933-F029-482B-8595-2244B965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7DF-2C98-4351-B30E-1F0E7414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2D9-E8E8-4503-9226-16972ED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A7C-440E-414E-AADE-A1AE93C6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54C-5EEA-41B9-A982-B4D1B12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7FC-5D83-4F0B-A4BE-4E69838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E79-6502-4A32-9EA8-10D2835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8DC-8C00-4E3E-874D-A726A5C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42C-89B2-4F74-AA93-EEE4F2C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45F-7E1B-4B5A-B532-456C787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B872-8CA7-4234-B157-74C0288F30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A0C-452D-4007-9C2C-010B91D98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2923920"/>
            <a:ext cx="57150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Загадки романа </a:t>
            </a:r>
            <a:br>
              <a:rPr sz="4800"/>
            </a:b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LT_Albhabets_co_13.jpg"/>
          <p:cNvPicPr/>
          <p:nvPr/>
        </p:nvPicPr>
        <p:blipFill>
          <a:blip r:embed="rId2"/>
          <a:stretch/>
        </p:blipFill>
        <p:spPr>
          <a:xfrm>
            <a:off x="-1981080" y="2890800"/>
            <a:ext cx="1628640" cy="85716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14"/>
          <p:cNvGrpSpPr/>
          <p:nvPr/>
        </p:nvGrpSpPr>
        <p:grpSpPr>
          <a:xfrm>
            <a:off x="19080" y="-109440"/>
            <a:ext cx="9180360" cy="7003800"/>
            <a:chOff x="19080" y="-109440"/>
            <a:chExt cx="9180360" cy="7003800"/>
          </a:xfrm>
        </p:grpSpPr>
        <p:pic>
          <p:nvPicPr>
            <p:cNvPr id="44" name="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19080" y="-109440"/>
              <a:ext cx="9180360" cy="70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H:\Documents and Settings\Aida\Рабочий стол\ПРО создание презнетаций шаблонов... и всё!\МОИ шаблоны ЭКСПЕРИМЕНТы\c6083dc3afa8a7a217aa7cd89793e60f.jpg"/>
          <p:cNvPicPr/>
          <p:nvPr/>
        </p:nvPicPr>
        <p:blipFill>
          <a:blip r:embed="rId4"/>
          <a:stretch/>
        </p:blipFill>
        <p:spPr>
          <a:xfrm>
            <a:off x="3408480" y="993600"/>
            <a:ext cx="2468520" cy="25974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95200" y="66420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84807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25F-AEF4-4286-9B89-6081524CB5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66D-D6F3-4653-BC08-D8758E86E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187280" y="907920"/>
            <a:ext cx="6553440" cy="41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М.Шоло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«Донские рассказы.» «АЛЕШКИНО СЕРДЦ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Два лета подряд засуха дочерна вылизывала мужицкие поля. Два лета подряд жестокий восточный ветер дул с киргизских степей, трепал порыжелые космы хлебов и сушил устремленные на высохшую степь глаза мужиков и скупые, колючие мужицкие слезы. Следом шагал голод. Алешка представлял себе его большущим безглазым человеком: идет он бездорожно, шарит руками по поселкам, хуторам, станицам, душит людей и вот-вот черствыми пальцами насмерть стиснет Алешкино сердц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04AC-A869-4C02-9CC3-1285EF0677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4351-FE71-4C34-AD0D-61078FA05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42920" y="549360"/>
            <a:ext cx="7274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Федор Крю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Казачка. (Из станичного бы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маленькой комнатке с низким потолком, с потемневшими, старинного письма, деревянными иконами в переднем углу, с оружием и дешевыми олеографиями по стенам находилось два лица: студент в старом, форменном сюртуке и молодая казачка. Студент стоял на коленях среди комнаты перед большим раскрытым чемоданом и вынимал из него книги, разные свертки и — больше всего — кипы литографированных лекций и исписанной бумаги. Русые волосы его, подстриженные в кружок и слегка вьющиеся, в беспорядке падали ему на лоб; он беспрестанно поправлял их, то встряхивая головой, то откидывая рукой назад. Молодая собеседница его, которая сидела на сундуке, около двери, с несколько недоумевающим любопытством посматривала на эти груды книг и лекций, разложенных на полу вокруг чемодана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«Кто же он М.Шолохов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15A3-B741-40FA-8B89-2E3811C569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3B0-A018-4E83-94B3-CBF111231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755640" y="1268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Плаги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859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684360" y="19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Молодость (23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755640" y="3500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образования (неполных 4 класса гимназ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684360" y="530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Недостаточный житей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3851280" y="1844640"/>
            <a:ext cx="475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Молодость  не означает отсутствие таланта (А. С. Пушкин «Евгений Онегин» (начало) – 23 года; М. Ю. Лермонтов «Герой нашего времени» – 2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3780000" y="328464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Наличие университетского образования не является признаком таланта, тем более гениальности (И. А. Бунин  – 3 класса гимназии; А. М. Горький, Л. Леонов  – отсутствие университетского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780000" y="5229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Исторические катаклизмы ускоряют взросле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374-7480-4F07-99FF-094E6A151C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8D1-DA13-41AA-8246-D2313AA5C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4572000" y="119700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М. Шолохов  – «несравненный гений» русской литературы и действительный автор романа «Тихий Дон». Михаил Александрович смог написать в свои юные годы это произведение потому, что «от Бога ему дано было видение человеческих сердец и талан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(П.Н.Куди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Картинка 1 из 3541"/>
          <p:cNvPicPr/>
          <p:nvPr/>
        </p:nvPicPr>
        <p:blipFill>
          <a:blip r:embed="rId1"/>
          <a:stretch/>
        </p:blipFill>
        <p:spPr>
          <a:xfrm>
            <a:off x="755640" y="620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F38-E993-4B5B-B1E5-F3DD0BF6C4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302-42CE-479B-89F4-8371ADC3D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2 из 3541"/>
          <p:cNvPicPr/>
          <p:nvPr/>
        </p:nvPicPr>
        <p:blipFill>
          <a:blip r:embed="rId1"/>
          <a:stretch/>
        </p:blipFill>
        <p:spPr>
          <a:xfrm>
            <a:off x="2484360" y="549360"/>
            <a:ext cx="4181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5BA-B8FD-468A-AB0B-BF37C4C17E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EF4-1B3A-4CEF-9252-74A21BE16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476280"/>
            <a:ext cx="74883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Первую книгу «Тихого Дона» М. Шолохов опубликовал, когда ему было 23 года. Роман прозвучал как взрыв, волны от которого разошлись по всему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Британская газета «Санди график» заявляла: «Книга эта удивила мир! В последние годы ни одно произведение не приблизилось к этой величественной саге о русской жизни по своей силе, взволнованности и безжалостному реализ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писательской среде в 1928 г.  зародился слух: молодой малообразованный писатель с Дона не мог написать такой роман. Эти сомнения позже сфокусировал в предисловии к  книге «Стремя «Тихого Дона» И. Н. Медведевой – Томашевской (Париж, 1974 г.) А. И. Солженицын, сказав, что с самого своего появления «Тихий Дон» породил «цепь загадок». Он писал: «Книга удалась такой художественной силы, которая достижима лишь после многих проб опытного мастера… Тогда несравненный гени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дной из главных загадок «Тихого Дона» было то, что в своей оценке русской революции книга на много десятилетий опережала время. В ней чувствовалась  неизбывная боль  за народ, для которого прорыв в будущее обернулся тяжкой б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ерсии об авторст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795-990D-4EF8-A346-15640BF762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A344-24FE-41D8-93C7-E237DAE71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N00343_"/>
          <p:cNvPicPr/>
          <p:nvPr/>
        </p:nvPicPr>
        <p:blipFill>
          <a:blip r:embed="rId1"/>
          <a:stretch/>
        </p:blipFill>
        <p:spPr>
          <a:xfrm>
            <a:off x="97164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56400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B8A-92F3-4D79-9CB0-C628F98531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4E7-C644-42FF-BC05-3A011F38E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826920" y="6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755640" y="177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Белогвардейский оф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55640" y="2492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олоушев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755640" y="3573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Крюков Ф.Д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716360" y="692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Нес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716360" y="1700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гиб во время гражданск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4788000" y="2565360"/>
            <a:ext cx="360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тсутствие дока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643280" y="3573360"/>
            <a:ext cx="3745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Умер в 192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В личном архиве писателя нет сведений о работе над ром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5DD-8322-4BAF-A822-151D3402B6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88B-C7B6-4D99-9D9D-2DEE53237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84360" y="1125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носительное творческое бесплодие в течение последних 4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826920" y="39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рукописи («… ни в одном архиве, никому не предъявлены, не показаны черновые рукописи романа» (А. И. Солженицын, 197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211640" y="620640"/>
            <a:ext cx="4392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Аналогичный случай с Л. Н. Толстым: после создания основных шедевров не создано ничего значительного, за исключением «Хаджи   –  Мур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«Вы не ждите от меня ничего более значительного, чем «Тихий Дон». Я сгорел, работая над «Тихим Доном». Сгорел …» М.А. Шоло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1164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1999 г. найдена рукопись и выкуплена ИМЛИ имени А. М. Горького РАН за 50000 долларов и предъявлена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оотношение реалий действительности в романе с жизненной биографией ав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9C8-2D12-421D-A21A-D99283815D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7501-5ECE-492F-8EBE-0FD48D22E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82692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Реалии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859280" y="148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Биография ав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971640" y="2133720"/>
            <a:ext cx="28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Станица Веш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етманский ш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900000" y="350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Лиза Мохова жила по адресу: «Москва, Плющиха, Долгий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ереулок, д.2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900000" y="4797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ригорий Мелехов лечится в глазолечебной больнице Снеги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5003640" y="2060640"/>
            <a:ext cx="3456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родился и жил М.А.Шолохов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 шляхе помнят лишь старожилы Веше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5076720" y="378936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 этому адресу жил М.Шолохов, когда учился в гимназии Шелапу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14836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лечился М.Шолохов, когда ему было 9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Лингвистический анализ отрывков из повести Ф.Крюкова  «Казачка» и «Донских рассказов» М.Шолох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184-DE95-4BC7-B61D-D319D4F12B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75F-18E4-4512-BAFB-5E2D2C0F5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900000" y="213372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Было исследовано 3000 предложений, 5000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По манере письма Ф.Крюков и М.Шолохов заметно отличаются друг от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Стиль автора «Тихого Дона» и «Донских рассказов» в высшей степени сов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C93-A19C-449D-A0C1-A449953006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4CC-4A6F-4EC2-8EA3-AC23282A8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1 из 15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3:51:10Z</dcterms:created>
  <dc:creator>Aida_Alex</dc:creator>
  <dc:description/>
  <dc:language>en-US</dc:language>
  <cp:lastModifiedBy>.</cp:lastModifiedBy>
  <dcterms:modified xsi:type="dcterms:W3CDTF">2011-11-18T01:20:19Z</dcterms:modified>
  <cp:revision>11</cp:revision>
  <dc:subject/>
  <dc:title>Слайд 1</dc:title>
</cp:coreProperties>
</file>