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152A-481A-4283-83E5-AA415E23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8092-38A5-4EA7-A0E3-ED37C8C4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7985-6230-441C-A83C-ACE403471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F542-63E4-4D63-8BE6-DC6CAE90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C524-AE0C-4DDE-8F23-FFDDD2FC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34C7-900C-42A1-AA10-D934049C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6F2A-864F-4579-B7FA-A99BE813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C28F-CADE-43A4-A289-A884B0FD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ED8D-33AD-48B0-BCAA-E01308EB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5FE5-5054-40D9-BA3F-22F12518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4534-11FC-4441-B047-29A19424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C892-F880-4661-9370-4B870C9D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87F3-A55C-49D8-8C0E-AD25164026F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891C-2EDA-4D35-B036-00B0B950BC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5600" y="2923920"/>
            <a:ext cx="5715000" cy="15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53735"/>
                </a:solidFill>
                <a:latin typeface="Calibri"/>
              </a:rPr>
              <a:t>Загадки романа </a:t>
            </a:r>
            <a:br>
              <a:rPr sz="4800"/>
            </a:br>
            <a:r>
              <a:rPr b="1" lang="ru-RU" sz="4800" spc="-1" strike="noStrike">
                <a:solidFill>
                  <a:srgbClr val="953735"/>
                </a:solidFill>
                <a:latin typeface="Calibri"/>
              </a:rPr>
              <a:t>«Тихий Дон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:\Documents and Settings\Aida\Рабочий стол\LT_Albhabets_co_13.jpg"/>
          <p:cNvPicPr/>
          <p:nvPr/>
        </p:nvPicPr>
        <p:blipFill>
          <a:blip r:embed="rId2"/>
          <a:stretch/>
        </p:blipFill>
        <p:spPr>
          <a:xfrm>
            <a:off x="-1981080" y="2890800"/>
            <a:ext cx="1628640" cy="857160"/>
          </a:xfrm>
          <a:prstGeom prst="rect">
            <a:avLst/>
          </a:prstGeom>
          <a:ln w="0">
            <a:noFill/>
          </a:ln>
        </p:spPr>
      </p:pic>
      <p:grpSp>
        <p:nvGrpSpPr>
          <p:cNvPr id="43" name="Прямоугольник 14"/>
          <p:cNvGrpSpPr/>
          <p:nvPr/>
        </p:nvGrpSpPr>
        <p:grpSpPr>
          <a:xfrm>
            <a:off x="19080" y="-109440"/>
            <a:ext cx="9180360" cy="7003800"/>
            <a:chOff x="19080" y="-109440"/>
            <a:chExt cx="9180360" cy="7003800"/>
          </a:xfrm>
        </p:grpSpPr>
        <p:pic>
          <p:nvPicPr>
            <p:cNvPr id="44" name="Прямоугольник 14" descr=""/>
            <p:cNvPicPr/>
            <p:nvPr/>
          </p:nvPicPr>
          <p:blipFill>
            <a:blip r:embed="rId3"/>
            <a:stretch/>
          </p:blipFill>
          <p:spPr>
            <a:xfrm>
              <a:off x="19080" y="-109440"/>
              <a:ext cx="9180360" cy="700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85840" y="142920"/>
              <a:ext cx="8643960" cy="65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2" descr="H:\Documents and Settings\Aida\Рабочий стол\ПРО создание презнетаций шаблонов... и всё!\МОИ шаблоны ЭКСПЕРИМЕНТы\c6083dc3afa8a7a217aa7cd89793e60f.jpg"/>
          <p:cNvPicPr/>
          <p:nvPr/>
        </p:nvPicPr>
        <p:blipFill>
          <a:blip r:embed="rId4"/>
          <a:stretch/>
        </p:blipFill>
        <p:spPr>
          <a:xfrm>
            <a:off x="3408480" y="993600"/>
            <a:ext cx="2468520" cy="25974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5"/>
          <p:cNvSpPr/>
          <p:nvPr/>
        </p:nvSpPr>
        <p:spPr>
          <a:xfrm>
            <a:off x="295200" y="6642000"/>
            <a:ext cx="96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84807"/>
                </a:solidFill>
                <a:latin typeface="Calibri"/>
              </a:rPr>
              <a:t>http://aida.ucoz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BFE8-F749-41DF-A174-481CCA01491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4C32-5078-41C3-8539-6A4C869169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1187280" y="907920"/>
            <a:ext cx="6553440" cy="41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Arial"/>
              </a:rPr>
              <a:t>М.Шолох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Arial"/>
              </a:rPr>
              <a:t>«Донские рассказы.» «АЛЕШКИНО СЕРДЦЕ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632523"/>
                </a:solidFill>
                <a:latin typeface="Arial"/>
              </a:rPr>
              <a:t>Два лета подряд засуха дочерна вылизывала мужицкие поля. Два лета подряд жестокий восточный ветер дул с киргизских степей, трепал порыжелые космы хлебов и сушил устремленные на высохшую степь глаза мужиков и скупые, колючие мужицкие слезы. Следом шагал голод. Алешка представлял себе его большущим безглазым человеком: идет он бездорожно, шарит руками по поселкам, хуторам, станицам, душит людей и вот-вот черствыми пальцами насмерть стиснет Алешкино сердц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3794-5D82-4168-8763-F9DAFFC7FF1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BB2F-CD5A-4BD5-8957-B7329FAE3B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3"/>
          <p:cNvSpPr/>
          <p:nvPr/>
        </p:nvSpPr>
        <p:spPr>
          <a:xfrm>
            <a:off x="1042920" y="549360"/>
            <a:ext cx="727416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Arial"/>
              </a:rPr>
              <a:t>Федор Крюк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Arial"/>
              </a:rPr>
              <a:t>Казачка. (Из станичного бы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В маленькой комнатке с низким потолком, с потемневшими, старинного письма, деревянными иконами в переднем углу, с оружием и дешевыми олеографиями по стенам находилось два лица: студент в старом, форменном сюртуке и молодая казачка. Студент стоял на коленях среди комнаты перед большим раскрытым чемоданом и вынимал из него книги, разные свертки и — больше всего — кипы литографированных лекций и исписанной бумаги. Русые волосы его, подстриженные в кружок и слегка вьющиеся, в беспорядке падали ему на лоб; он беспрестанно поправлял их, то встряхивая головой, то откидывая рукой назад. Молодая собеседница его, которая сидела на сундуке, около двери, с несколько недоумевающим любопытством посматривала на эти груды книг и лекций, разложенных на полу вокруг чемодана</a:t>
            </a:r>
            <a:r>
              <a:rPr b="0" lang="ru-RU" sz="1800" spc="-1" strike="noStrike">
                <a:solidFill>
                  <a:srgbClr val="632523"/>
                </a:solidFill>
                <a:latin typeface="Arial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«Кто же он М.Шолохов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543D-A479-427A-886F-BDA85F9E136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DAEF-85F3-4EC2-8977-4818ECBE38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755640" y="1268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53735"/>
                </a:solidFill>
                <a:uFillTx/>
                <a:latin typeface="Arial"/>
              </a:rPr>
              <a:t>Плаги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4859280" y="12682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53735"/>
                </a:solidFill>
                <a:uFillTx/>
                <a:latin typeface="Arial"/>
              </a:rPr>
              <a:t>Г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6"/>
          <p:cNvSpPr/>
          <p:nvPr/>
        </p:nvSpPr>
        <p:spPr>
          <a:xfrm>
            <a:off x="684360" y="191628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Молодость (23 г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7"/>
          <p:cNvSpPr/>
          <p:nvPr/>
        </p:nvSpPr>
        <p:spPr>
          <a:xfrm>
            <a:off x="755640" y="350028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Отсутствие образования (неполных 4 класса гимназ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8"/>
          <p:cNvSpPr/>
          <p:nvPr/>
        </p:nvSpPr>
        <p:spPr>
          <a:xfrm>
            <a:off x="684360" y="530064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Недостаточный житейский опы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9"/>
          <p:cNvSpPr/>
          <p:nvPr/>
        </p:nvSpPr>
        <p:spPr>
          <a:xfrm>
            <a:off x="3851280" y="1844640"/>
            <a:ext cx="47530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Молодость  не означает отсутствие таланта (А. С. Пушкин «Евгений Онегин» (начало) – 23 года; М. Ю. Лермонтов «Герой нашего времени» – 26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0"/>
          <p:cNvSpPr/>
          <p:nvPr/>
        </p:nvSpPr>
        <p:spPr>
          <a:xfrm>
            <a:off x="3780000" y="3284640"/>
            <a:ext cx="46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Наличие университетского образования не является признаком таланта, тем более гениальности (И. А. Бунин  – 3 класса гимназии; А. М. Горький, Л. Леонов  – отсутствие университетского образова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1"/>
          <p:cNvSpPr/>
          <p:nvPr/>
        </p:nvSpPr>
        <p:spPr>
          <a:xfrm>
            <a:off x="3780000" y="522936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Исторические катаклизмы ускоряют взрослен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6A5A-0340-4904-A5AB-9C1A9D53420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FB80-4B95-4F1D-B4E0-887BB88FE1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4"/>
          <p:cNvSpPr/>
          <p:nvPr/>
        </p:nvSpPr>
        <p:spPr>
          <a:xfrm>
            <a:off x="4572000" y="1197000"/>
            <a:ext cx="3745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32523"/>
                </a:solidFill>
                <a:latin typeface="Arial"/>
              </a:rPr>
              <a:t>М. Шолохов  – «несравненный гений» русской литературы и действительный автор романа «Тихий Дон». Михаил Александрович смог написать в свои юные годы это произведение потому, что «от Бога ему дано было видение человеческих сердец и талант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Arial"/>
              </a:rPr>
              <a:t>                                                 </a:t>
            </a:r>
            <a:r>
              <a:rPr b="1" lang="ru-RU" sz="2000" spc="-1" strike="noStrike">
                <a:solidFill>
                  <a:srgbClr val="632523"/>
                </a:solidFill>
                <a:latin typeface="Arial"/>
              </a:rPr>
              <a:t>(П.Н.Кудин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Картинка 1 из 3541"/>
          <p:cNvPicPr/>
          <p:nvPr/>
        </p:nvPicPr>
        <p:blipFill>
          <a:blip r:embed="rId1"/>
          <a:stretch/>
        </p:blipFill>
        <p:spPr>
          <a:xfrm>
            <a:off x="755640" y="620640"/>
            <a:ext cx="2857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5AAB-6CB5-4A62-9894-C3B75DE6439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FC53-8F0F-43D7-A05B-33F53F2AE7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Картинка 2 из 3541"/>
          <p:cNvPicPr/>
          <p:nvPr/>
        </p:nvPicPr>
        <p:blipFill>
          <a:blip r:embed="rId1"/>
          <a:stretch/>
        </p:blipFill>
        <p:spPr>
          <a:xfrm>
            <a:off x="2484360" y="549360"/>
            <a:ext cx="41814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072F-B34D-45DB-A945-3F7657A7D12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312A-AE6F-4DC2-A391-5EE01420F4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900000" y="476280"/>
            <a:ext cx="748836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Первую книгу «Тихого Дона» М. Шолохов опубликовал, когда ему было 23 года. Роман прозвучал как взрыв, волны от которого разошлись по всему св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Британская газета «Санди график» заявляла: «Книга эта удивила мир! В последние годы ни одно произведение не приблизилось к этой величественной саге о русской жизни по своей силе, взволнованности и безжалостному реализм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В писательской среде в 1928 г.  зародился слух: молодой малообразованный писатель с Дона не мог написать такой роман. Эти сомнения позже сфокусировал в предисловии к  книге «Стремя «Тихого Дона» И. Н. Медведевой – Томашевской (Париж, 1974 г.) А. И. Солженицын, сказав, что с самого своего появления «Тихий Дон» породил «цепь загадок». Он писал: «Книга удалась такой художественной силы, которая достижима лишь после многих проб опытного мастера… Тогда несравненный гений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Одной из главных загадок «Тихого Дона» было то, что в своей оценке русской революции книга на много десятилетий опережала время. В ней чувствовалась  неизбывная боль  за народ, для которого прорыв в будущее обернулся тяжкой бе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Версии об авторств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3EC8-D821-4D1F-8360-BBDE076B88D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4378-8144-4996-92EB-9A44FFA04C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IN00343_"/>
          <p:cNvPicPr/>
          <p:nvPr/>
        </p:nvPicPr>
        <p:blipFill>
          <a:blip r:embed="rId1"/>
          <a:stretch/>
        </p:blipFill>
        <p:spPr>
          <a:xfrm>
            <a:off x="971640" y="1700280"/>
            <a:ext cx="2124000" cy="26636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3564000" y="2637000"/>
            <a:ext cx="2016000" cy="24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6012000" y="3357720"/>
            <a:ext cx="21603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174A-6EE0-4CCF-AC48-14D56875ABF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A6CD-92D2-4108-8019-52A5C88456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826920" y="6922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Arial"/>
              </a:rPr>
              <a:t>Ве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755640" y="1773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Белогвардейский офиц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755640" y="249228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Голоушев С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7"/>
          <p:cNvSpPr/>
          <p:nvPr/>
        </p:nvSpPr>
        <p:spPr>
          <a:xfrm>
            <a:off x="755640" y="357336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Крюков Ф.Д</a:t>
            </a:r>
            <a:r>
              <a:rPr b="1" lang="ru-RU" sz="2000" spc="-1" strike="noStrike">
                <a:solidFill>
                  <a:srgbClr val="953735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8"/>
          <p:cNvSpPr/>
          <p:nvPr/>
        </p:nvSpPr>
        <p:spPr>
          <a:xfrm>
            <a:off x="4716360" y="69228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Arial"/>
              </a:rPr>
              <a:t>Несосто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9"/>
          <p:cNvSpPr/>
          <p:nvPr/>
        </p:nvSpPr>
        <p:spPr>
          <a:xfrm>
            <a:off x="4716360" y="17002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Погиб во время гражданской вой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0"/>
          <p:cNvSpPr/>
          <p:nvPr/>
        </p:nvSpPr>
        <p:spPr>
          <a:xfrm>
            <a:off x="4788000" y="2565360"/>
            <a:ext cx="36003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Отсутствие доказатель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1"/>
          <p:cNvSpPr/>
          <p:nvPr/>
        </p:nvSpPr>
        <p:spPr>
          <a:xfrm>
            <a:off x="4643280" y="3573360"/>
            <a:ext cx="374508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Умер в 1920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В личном архиве писателя нет сведений о работе над рома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99D9-9337-4ED7-B9C3-1464B3E663B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C3C0-D2AB-447B-A313-22D49908EB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684360" y="1125360"/>
            <a:ext cx="31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Относительное творческое бесплодие в течение последних 45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826920" y="3933720"/>
            <a:ext cx="302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Отсутствие рукописи («… ни в одном архиве, никому не предъявлены, не показаны черновые рукописи романа» (А. И. Солженицын, 197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4211640" y="620640"/>
            <a:ext cx="439272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Аналогичный случай с Л. Н. Толстым: после создания основных шедевров не создано ничего значительного, за исключением «Хаджи   –  Мура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«Вы не ждите от меня ничего более значительного, чем «Тихий Дон». Я сгорел, работая над «Тихим Доном». Сгорел …» М.А. Шолох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4211640" y="400536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В 1999 г. найдена рукопись и выкуплена ИМЛИ имени А. М. Горького РАН за 50000 долларов и предъявлена обще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Соотношение реалий действительности в романе с жизненной биографией ав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3BB3-2B3C-4289-BF46-19440F928D3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F126-8D8B-49CD-BEC3-9EA7F54359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826920" y="1557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53735"/>
                </a:solidFill>
                <a:uFillTx/>
                <a:latin typeface="Arial"/>
              </a:rPr>
              <a:t>Реалии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4859280" y="148428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53735"/>
                </a:solidFill>
                <a:uFillTx/>
                <a:latin typeface="Arial"/>
              </a:rPr>
              <a:t>Биография ав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971640" y="2133720"/>
            <a:ext cx="28796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Станица Веше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Гетманский шл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7"/>
          <p:cNvSpPr/>
          <p:nvPr/>
        </p:nvSpPr>
        <p:spPr>
          <a:xfrm>
            <a:off x="900000" y="3500280"/>
            <a:ext cx="33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Лиза Мохова жила по адресу: «Москва, Плющиха, Долгий</a:t>
            </a:r>
            <a:r>
              <a:rPr b="1" lang="ru-RU" sz="24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переулок, д.20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8"/>
          <p:cNvSpPr/>
          <p:nvPr/>
        </p:nvSpPr>
        <p:spPr>
          <a:xfrm>
            <a:off x="900000" y="479736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Григорий Мелехов лечится в глазолечебной больнице Снегире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9"/>
          <p:cNvSpPr/>
          <p:nvPr/>
        </p:nvSpPr>
        <p:spPr>
          <a:xfrm>
            <a:off x="5003640" y="2060640"/>
            <a:ext cx="34560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Здесь родился и жил М.А.Шолохов</a:t>
            </a:r>
            <a:r>
              <a:rPr b="0" lang="ru-RU" sz="2400" spc="-1" strike="noStrike">
                <a:solidFill>
                  <a:srgbClr val="953735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О шляхе помнят лишь старожилы Вешен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0"/>
          <p:cNvSpPr/>
          <p:nvPr/>
        </p:nvSpPr>
        <p:spPr>
          <a:xfrm>
            <a:off x="5076720" y="3789360"/>
            <a:ext cx="31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По этому адресу жил М.Шолохов, когда учился в гимназии Шелапут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1"/>
          <p:cNvSpPr/>
          <p:nvPr/>
        </p:nvSpPr>
        <p:spPr>
          <a:xfrm>
            <a:off x="5148360" y="501336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Здесь лечился М.Шолохов, когда ему было 9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Лингвистический анализ отрывков из повести Ф.Крюкова  «Казачка» и «Донских рассказов» М.Шолох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8B29-52BF-4032-A9CC-5C14C8C6D1B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F7A6-61F4-4325-977A-C02ED50547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900000" y="2133720"/>
            <a:ext cx="763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"/>
              </a:rPr>
              <a:t>Было исследовано 3000 предложений, 50000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"/>
              </a:rPr>
              <a:t>По манере письма Ф.Крюков и М.Шолохов заметно отличаются друг от дру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"/>
              </a:rPr>
              <a:t>Стиль автора «Тихого Дона» и «Донских рассказов» в высшей степени совпад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8736-2BAE-4424-8606-047BEEC21CA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4A86-38E0-4014-B3DB-CC7402973D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Картинка 1 из 15"/>
          <p:cNvPicPr/>
          <p:nvPr/>
        </p:nvPicPr>
        <p:blipFill>
          <a:blip r:embed="rId1"/>
          <a:stretch/>
        </p:blipFill>
        <p:spPr>
          <a:xfrm>
            <a:off x="900000" y="620640"/>
            <a:ext cx="7417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13:51:10Z</dcterms:created>
  <dc:creator>Aida_Alex</dc:creator>
  <dc:description/>
  <dc:language>en-US</dc:language>
  <cp:lastModifiedBy>.</cp:lastModifiedBy>
  <dcterms:modified xsi:type="dcterms:W3CDTF">2011-11-18T01:20:19Z</dcterms:modified>
  <cp:revision>11</cp:revision>
  <dc:subject/>
  <dc:title>Слайд 1</dc:title>
</cp:coreProperties>
</file>