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866-57A3-45BB-8C02-B21919E8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C62-F2BD-405F-8A91-BDFE1893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9AD-647C-4E28-A9AF-54C9AF8D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C5A-AC66-4A53-8C28-5DD0EFD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60F4-4C48-4D71-94BD-0DEB51AA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8307-0839-4694-8B2D-7B791E64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7460-F0CE-4BB8-B929-175EA66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78C1-966B-4711-BA76-CCFF790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D19E-D4E3-4285-B665-132FE17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26D1-8577-40C2-9B48-35D5F00A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CC3B-199E-4E04-B3EA-0A7978A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320-BE15-4BC5-9D79-55716B04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89C0-9516-48AB-A79A-2BDF6B32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CFC-E204-4AFA-817B-D56326E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AED5-52A2-4C43-8D64-A7DC001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4919-12D3-48CC-8F95-5B7CB0AD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796A-F093-405B-AEB4-7C2EA1C7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61D4-CF85-4E93-9597-D14B160A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9967-D1EF-43FE-B9E5-0739818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F748-DA35-4B99-B02C-078CFEC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A1C2-1310-47FA-A42C-2A6787E5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C1BA-24BB-4964-BC64-7E82FC6F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7DA-388A-4BF4-A1C3-D1070D6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3C7E-E4F9-48CC-B057-FD2E38FD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AB1C-DEDC-4BE0-A52C-125E353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5533-5722-4C58-98E7-94E1F6F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7694-7779-4865-942E-694EBE6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06B3-7A5A-44F3-A0A2-D4F22C6A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22ED-C918-4254-84C0-A6529B46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F236-97B3-4485-A03B-536E88AE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D307-A21F-4605-B83D-9852AF20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4C4D-1D1E-4BFD-89C3-D851C4E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E9B2-C627-49C3-91BD-AD4ADD27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B21-8B4D-4813-A794-CA78A4DA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ED653-FE9A-4756-A23D-BE2809D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2FA7-61DF-448E-93E6-377A1D7A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066A-641C-40A7-8309-46F2136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9269-D04A-4E57-A1B9-95FA3B9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36A45-CF66-4111-BF95-9BCADCE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B3D3-CA20-4EFE-AE07-ECC2204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48CB-3A63-4869-B068-8056E0C9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11E6-D597-4B89-8C58-50273A2B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CAAD-5774-4C54-B40F-B60A73AC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90B69-1904-45F6-956C-47FBA27C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4CD-E5AE-46F7-90A3-74BF210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6C9D-3132-4779-AACD-ADAE8E98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45E3-D2BE-4AFD-AE6E-F22627F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9936-34B5-4D6F-AFC4-55F35B02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33F9-2292-4383-B5DC-B57E6BF1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8F4C-458A-46A1-B519-8D67FA9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7CAC-1B03-46A9-A884-D78AB26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BF9D-2D54-4854-97A6-050DDCB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97A5-0DD8-4583-8BF4-9DB1F3C0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776B-D5D7-40FE-80BA-F95A296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F763-1AB5-41E1-8E3C-79138680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D8F-3B2B-45A4-A087-914011B7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A4D3-6510-4A77-B0EE-2F146819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D376-000B-4642-8FD8-D75599E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8DCEE-1392-46B5-B74A-C9972FB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1B3B-734C-4E33-A5B7-710209C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AD51-A213-4020-AB81-211BC883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772B-556E-49C0-B2FB-567B0E9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D754-CCBF-4DCB-987C-2F0C721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743E-8480-4D8F-98F0-8D3B8C1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9F29E-AFD7-4884-A9A6-4D703DC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E5C9-3605-47DD-9768-D5978DE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213-60C9-429E-BEA9-B583D76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CF03E-55F1-44FD-A795-63E6C89D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7C74-C886-4161-8657-00E1BAB8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6C01-5A87-4FBA-B402-83AA1500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C51CE-30CA-4745-BC3D-BDBF2209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B926F-017F-4BBD-AC6A-BC51645C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B1DD-A21C-4F16-842D-55C5C584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3F5A-CF1C-4DCD-9467-41674DF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5ADEA-E875-491F-9310-C52B752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5F289-9963-418C-B625-A83180EB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5A2A-8581-4E10-8766-E9C0C1F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F4E-E37F-40B7-8687-69C4DCF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94FA-B3EC-46C3-A000-A7DBE19C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F70E-9521-438F-99DE-134C595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FB7C-BB21-498E-8031-EEFDE1B6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B2E16-3DCA-42A8-9670-0521AF64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03FD-D7F8-4608-A72E-7A3DAD4B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2228-D0C1-4D8F-A61A-86BC2ECC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0271-E1B3-4968-84CE-B18B1084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3AF5-858B-439F-B7AE-2CB9EB8D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EB26C-3855-4A3E-87A0-9C95A0E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1F84-365D-4B89-BEF3-16E9BCE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999-021F-4399-985B-1DA8A57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CCAB5-4BE0-44EB-847D-607AD52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BAA6-68BB-4CB7-9FB4-59E9F95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B775-E82B-4C7B-B6F7-8F84B22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488F4-1F8E-4148-9527-5E4CCD9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4E01-4FCD-4AF1-9653-691D0B2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EC04-0CC5-4825-9D8C-5BAB228C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BD895-8EA7-422F-9300-B42EEEF8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884-E8B5-4D2E-9097-08EE280049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965-36B1-48CB-93FE-82C83E3AF7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D8F5-48C1-4DA1-A604-A096A64ACE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76E2-95E7-413C-8B56-00BD365F5E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439-7E78-4A89-B1BA-3CF63AF40C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A76-11C0-4CAF-A173-7FDE391142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7F0B-5ACB-45D2-BA35-4780F14937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418F-DB56-4DEA-A22D-3177FDFDEA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53880" y="920880"/>
            <a:ext cx="8558280" cy="2517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28840" y="4143240"/>
            <a:ext cx="5929200" cy="149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2100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8760" y="71388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й шаг. Учимся признавать свои ошиб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ходе самооценки ученик отвечает на вопрос «Сделал сам или с ошибкой?», необходимо помочь ему увидеть ошибку (сравнивая, например, с образцом выполнения задания). Затем нужно обязательно похвалить ученика: «Молодец, нашёл у себя ошибку, не постеснялся признать это. Надеюсь, в следующий раз ошибки не будет!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й шаг. Учимся признавать свою неудач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оценивать себя в ситуации, когда совсем не справились с зада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й шаг. Используем умение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(или почти все) ученики хотя бы раз оценили свою работу в классе, алгоритм самооценки сворачивается: после просьбы оценить свой ответ, ученики формулируют: «Цель достигнута, ошибок не было», или «Решение я получил, но с помощью класса или с помощью учител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3" descr="File0001.jpg"/>
          <p:cNvPicPr/>
          <p:nvPr/>
        </p:nvPicPr>
        <p:blipFill>
          <a:blip r:embed="rId1"/>
          <a:stretch/>
        </p:blipFill>
        <p:spPr>
          <a:xfrm>
            <a:off x="2714760" y="285840"/>
            <a:ext cx="400032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56760" y="121428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как ученик овладевает умениями по использованию знаний в рамках конкретного учебного предмета, т. е., как реализуются современные цели образования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ученика умения самостоятельно оценивать результат своих действий, контролировать самого себя, находить и исправлять собственные ошибки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иентировать ученика на успех, избавить его от страха перед школьным контролем и оцениванием, создать комфортную для учёбы обстановку, сберечь психологическое здоровье дете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365040" y="122400"/>
            <a:ext cx="83282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Содержимое 3" descr="File0002.jpg"/>
          <p:cNvPicPr/>
          <p:nvPr/>
        </p:nvPicPr>
        <p:blipFill>
          <a:blip r:embed="rId1"/>
          <a:stretch/>
        </p:blipFill>
        <p:spPr>
          <a:xfrm>
            <a:off x="2357280" y="214200"/>
            <a:ext cx="50007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ы доволен собой, у тебя все получалось, то рисуй улыбающееся лицо или зеленый кружок.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временами было непросто, не все получалось, то рисуй такое лицо          или желт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было сложно, многое не получалось, рисуй грустное лиц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ли красн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Улыбающееся лицо 3"/>
          <p:cNvSpPr/>
          <p:nvPr/>
        </p:nvSpPr>
        <p:spPr>
          <a:xfrm>
            <a:off x="8001000" y="17859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4572000" y="2286000"/>
            <a:ext cx="500040" cy="50004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0868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Овал 5"/>
          <p:cNvSpPr/>
          <p:nvPr/>
        </p:nvSpPr>
        <p:spPr>
          <a:xfrm>
            <a:off x="7500960" y="3571920"/>
            <a:ext cx="500040" cy="5000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вал 6"/>
          <p:cNvSpPr/>
          <p:nvPr/>
        </p:nvSpPr>
        <p:spPr>
          <a:xfrm>
            <a:off x="4286160" y="4929120"/>
            <a:ext cx="500040" cy="50004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вал 7"/>
          <p:cNvSpPr/>
          <p:nvPr/>
        </p:nvSpPr>
        <p:spPr>
          <a:xfrm>
            <a:off x="2928960" y="364320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8"/>
          <p:cNvSpPr/>
          <p:nvPr/>
        </p:nvSpPr>
        <p:spPr>
          <a:xfrm>
            <a:off x="6786720" y="450072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Овал 9"/>
          <p:cNvSpPr/>
          <p:nvPr/>
        </p:nvSpPr>
        <p:spPr>
          <a:xfrm>
            <a:off x="30718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Овал 10"/>
          <p:cNvSpPr/>
          <p:nvPr/>
        </p:nvSpPr>
        <p:spPr>
          <a:xfrm>
            <a:off x="32860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Овал 11"/>
          <p:cNvSpPr/>
          <p:nvPr/>
        </p:nvSpPr>
        <p:spPr>
          <a:xfrm>
            <a:off x="6929280" y="4643280"/>
            <a:ext cx="7164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Овал 12"/>
          <p:cNvSpPr/>
          <p:nvPr/>
        </p:nvSpPr>
        <p:spPr>
          <a:xfrm>
            <a:off x="7143840" y="4643280"/>
            <a:ext cx="712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1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20"/>
          <p:cNvSpPr/>
          <p:nvPr/>
        </p:nvSpPr>
        <p:spPr>
          <a:xfrm flipH="1">
            <a:off x="3000240" y="4070520"/>
            <a:ext cx="12960" cy="144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Минус 31"/>
          <p:cNvSpPr/>
          <p:nvPr/>
        </p:nvSpPr>
        <p:spPr>
          <a:xfrm>
            <a:off x="3071880" y="4000680"/>
            <a:ext cx="214200" cy="45720"/>
          </a:xfrm>
          <a:custGeom>
            <a:avLst/>
            <a:gdLst>
              <a:gd name="textAreaLeft" fmla="*/ 28080 w 214200"/>
              <a:gd name="textAreaRight" fmla="*/ 186120 w 214200"/>
              <a:gd name="textAreaTop" fmla="*/ 17280 h 45720"/>
              <a:gd name="textAreaBottom" fmla="*/ 28440 h 45720"/>
            </a:gdLst>
            <a:ahLst/>
            <a:rect l="textAreaLeft" t="textAreaTop" r="textAreaRight" b="textAreaBottom"/>
            <a:pathLst>
              <a:path w="214314" h="45719">
                <a:moveTo>
                  <a:pt x="28407" y="17483"/>
                </a:moveTo>
                <a:lnTo>
                  <a:pt x="185907" y="17483"/>
                </a:lnTo>
                <a:lnTo>
                  <a:pt x="185907" y="28236"/>
                </a:lnTo>
                <a:lnTo>
                  <a:pt x="28407" y="28236"/>
                </a:lnTo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Арка 32"/>
          <p:cNvSpPr/>
          <p:nvPr/>
        </p:nvSpPr>
        <p:spPr>
          <a:xfrm>
            <a:off x="7000920" y="4857840"/>
            <a:ext cx="142920" cy="46080"/>
          </a:xfrm>
          <a:custGeom>
            <a:avLst/>
            <a:gdLst>
              <a:gd name="textAreaLeft" fmla="*/ 0 w 142920"/>
              <a:gd name="textAreaRight" fmla="*/ 143280 w 14292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w="142876" h="45719">
                <a:moveTo>
                  <a:pt x="0" y="22859"/>
                </a:moveTo>
                <a:lnTo>
                  <a:pt x="0" y="22859"/>
                </a:lnTo>
                <a:arcTo wR="71438" hR="22860" stAng="10800000" swAng="10800000"/>
                <a:lnTo>
                  <a:pt x="131446" y="22860"/>
                </a:lnTo>
                <a:lnTo>
                  <a:pt x="131446" y="22860"/>
                </a:lnTo>
                <a:arcTo wR="60008" hR="11430" stAng="0" swAng="-10800000"/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File0004.jpg"/>
          <p:cNvPicPr/>
          <p:nvPr/>
        </p:nvPicPr>
        <p:blipFill>
          <a:blip r:embed="rId1"/>
          <a:stretch/>
        </p:blipFill>
        <p:spPr>
          <a:xfrm>
            <a:off x="3174840" y="39600"/>
            <a:ext cx="4326120" cy="6777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3" descr="File0005.jpg"/>
          <p:cNvPicPr/>
          <p:nvPr/>
        </p:nvPicPr>
        <p:blipFill>
          <a:blip r:embed="rId1"/>
          <a:stretch/>
        </p:blipFill>
        <p:spPr>
          <a:xfrm>
            <a:off x="3201840" y="84240"/>
            <a:ext cx="4156200" cy="6867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4285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й шаг (на первых уроках). Даём возможность детям эмоционально оценивать прошедший урок (день)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й шаг (через 2 – 4 недели). Даём детям возможность оценивать содержание своей письменной работ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68200" y="420840"/>
            <a:ext cx="84250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й шаг ( через месяц). Устанавливаем порядок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ценить свою работ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было задани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ог выполни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авильно или с ошибкой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м или с чьей – то помощью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урок для работы по развитию самооценки. Планируя этот урок, выбираем несложное задание, выполнение которого будем анализировать. После того как один ученик объяснил, как он выполнил задание учитель говорит: «А теперь давай вместе оценим твой ответ!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3:18:12Z</dcterms:created>
  <dc:creator>Kulakov</dc:creator>
  <dc:description/>
  <dc:language>en-US</dc:language>
  <cp:lastModifiedBy>Kulakov</cp:lastModifiedBy>
  <dcterms:modified xsi:type="dcterms:W3CDTF">2011-05-17T17:30:09Z</dcterms:modified>
  <cp:revision>8</cp:revision>
  <dc:subject/>
  <dc:title>Технология оценивания образовательных достижений</dc:title>
</cp:coreProperties>
</file>