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5BE-73B9-43C1-99D3-FC5FB9CB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E69-B0AB-4F58-9FC6-C3F61C40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377-FAE9-4B57-8D2D-8968398A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BB7-440E-4C90-BE47-29C9EE57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2710-AFCA-40C1-A561-CBE563E0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1884-5859-43A0-AE88-9698DA20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2CF-890B-4170-8B6D-7FB3ED2A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B8E4-39B8-4B08-908C-4050EFE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0C54-DAA8-4FCD-98C6-1AFAB3E0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F71B-2A36-4A2A-9AD7-09328867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40E9-A43A-4D47-B12D-3C9F03B5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F59-EAAF-4D90-B2D1-95D2C0C4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43E0-C741-4D26-8F2E-839928BA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D8FA-1434-4F0D-A496-3C0A5AF2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50E6-2650-49A2-ACAB-572C4AF9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F161-54DC-470E-A2B4-ACC75510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E69D-DAD1-4F50-B201-BD487D77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064A-525E-46F8-BF3E-ECD956EC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94C07-5A1C-45C5-AF90-25C12F29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F85F-A68B-4838-8F30-F984F595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5F78-A4F9-4A98-A613-75CE2674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1FAE-9A3D-4456-B4B7-936C41A0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5D2-B2FC-4116-9136-E33EA37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A605-4508-4154-8C14-22FBA88C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343E0-2C75-458A-8AD6-D713F2E2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D7FD-A3A4-4E0F-A886-C8ACAA5B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3193-5D70-4627-AB12-B98AA25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E8AC-4232-4494-8E9C-B3F5DD62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B248F-6DE1-4002-8D32-D86C9A46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0290-85A6-4A63-8431-0E27089F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2177-A3DE-4A21-AC63-30B6530F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4475-6BE8-4B5A-92A5-E015FF13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5CE7-FEEB-415D-86BD-3EE48855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DA4-DF03-44EB-8606-BB61FFDB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DE4B0-944B-4B16-85F1-603D89BC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75E1-AEA0-44C9-BE61-0ECD19FB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8EC4-0444-4D2C-8D0E-B3D3496A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0EA6-886A-4632-948E-5903665D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F828-2F0A-4F54-A284-3E6A9D84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BA6C-A26B-499A-AE32-63FD8CB0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50A7-E47A-42A9-A77D-AA03329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D721-1747-4B2B-B118-C7938FB9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5F80-7AA5-4CEA-8A16-A3C9DADB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1CFCE-5F55-45DD-AA5E-8BFE2E79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205-1DF5-49EC-A589-1450663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EEFD-93FF-4150-85FA-20D33070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563D1-67F5-41CC-8094-A8EFF44A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B748B-B3B4-4019-8B34-60AB11A6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9384B-C8BE-44C4-936B-8B8979AF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60C7E-F00F-4F19-9EF2-0A660C2A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50FE9-A1CB-46A6-8F01-16674B84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F58B1-4AE1-4A2B-998B-46E6239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148A-BBF2-421B-B4F8-1FA55481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B198F-566E-4CEB-B432-F5A07983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F2B50-803A-43BC-879D-CBCAD518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901-00CC-4011-8A92-16611168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1BCB0-92D7-4A12-9752-DED40186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586C2-04D4-499B-8066-8B3C2C24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89549-577D-48D9-84BF-CEDAD26B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41AD7-9716-4BCA-B010-11E0D854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D3E3D-91BD-481E-819A-0DDC2D8E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39642-4AA6-444D-86C0-D805B67B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7BA0-C219-4E88-BA80-7ADBC8ED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8E0EC-5945-4993-B1EF-06C1271C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D8FA-53EC-4796-954C-60BC5ABD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1F17A-A49C-448D-BF9D-1A810BA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A80-EF0A-4BB5-8AAE-2C82227C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81331-5220-47A5-8D66-8999EE15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2EC80-31B2-4A67-8774-5EA16958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DA5BF-F5D7-408A-BF15-CE314E4B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5C209-22B5-42BE-AAD5-27C94F77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849B-5980-4101-A6AF-6D1E26F2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F7C65-6FDF-48FE-8E45-92453E9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9198-4CFE-44F2-B4DA-C78318D7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E283A-1BB2-4596-9051-9C6BF79F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76353-9501-45F2-ABC6-FC0CC6E0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DDA78-38B9-49A1-9B98-25753BDE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6D7-63DC-40DD-98D8-43AC39D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47E37-8FF7-486C-92DB-676DDADC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66E97-7D92-4814-925B-0DB483C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93813-9076-49B8-97D7-892BC62E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3200-D94B-4DD2-B8FF-AC209C2C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FC2C7-D412-4170-874C-1EC751FA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5C78B-D47A-46F8-A5C7-60387438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F80F7-3424-4132-B4A3-8A77F5E5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D2890-E9B8-42EC-930A-0CAA3E94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D13EB-569F-4813-A3E8-7B6737AB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5EF6-C011-4B84-B21C-8D00B150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B30-18C9-49FE-B54C-EC4E5C83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B63E4-FBF8-4359-8A04-884EBB8D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68188-97E5-4F0C-8FC1-CC30F59B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5342F-BB43-4029-8862-5DA9CD7F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1F244-3982-4959-8F0B-3E084A4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6086B-3E96-4803-94CB-1DCB6B5D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29B98-48BC-45A2-8ADF-A05172C5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18E9D-8578-46E6-84E7-55D7B029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80CF-F39B-44EB-8C85-D00541C5FE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9142-04DD-4847-99F5-EC5FB2B263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7B48-42A4-4FBB-ACE3-553AD23336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654-45A9-4935-B2DA-622818AFE5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6FB9-F0E3-45FB-9D82-B26BD1066E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EC08-0E98-4A22-A8E6-E05E417668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054F-3AF7-4B95-B8D5-5BE2A0DB55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AB0B-3213-4577-AAFB-E0C38659BF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53880" y="920880"/>
            <a:ext cx="8558280" cy="25174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28840" y="4143240"/>
            <a:ext cx="5929200" cy="149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систем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2100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28760" y="71388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й шаг. Учимся признавать свои ошиб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ходе самооценки ученик отвечает на вопрос «Сделал сам или с ошибкой?», необходимо помочь ему увидеть ошибку (сравнивая, например, с образцом выполнения задания). Затем нужно обязательно похвалить ученика: «Молодец, нашёл у себя ошибку, не постеснялся признать это. Надеюсь, в следующий раз ошибки не будет!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й шаг. Учимся признавать свою неудач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мся оценивать себя в ситуации, когда совсем не справились с задани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й шаг. Используем умение самооцен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се (или почти все) ученики хотя бы раз оценили свою работу в классе, алгоритм самооценки сворачивается: после просьбы оценить свой ответ, ученики формулируют: «Цель достигнута, ошибок не было», или «Решение я получил, но с помощью класса или с помощью учителя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Содержимое 3" descr="File0001.jpg"/>
          <p:cNvPicPr/>
          <p:nvPr/>
        </p:nvPicPr>
        <p:blipFill>
          <a:blip r:embed="rId1"/>
          <a:stretch/>
        </p:blipFill>
        <p:spPr>
          <a:xfrm>
            <a:off x="2714760" y="285840"/>
            <a:ext cx="400032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56760" y="121428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, как ученик овладевает умениями по использованию знаний в рамках конкретного учебного предмета, т. е., как реализуются современные цели образования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ученика умения самостоятельно оценивать результат своих действий, контролировать самого себя, находить и исправлять собственные ошибки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иентировать ученика на успех, избавить его от страха перед школьным контролем и оцениванием, создать комфортную для учёбы обстановку, сберечь психологическое здоровье детей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365040" y="122400"/>
            <a:ext cx="832824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Содержимое 3" descr="File0002.jpg"/>
          <p:cNvPicPr/>
          <p:nvPr/>
        </p:nvPicPr>
        <p:blipFill>
          <a:blip r:embed="rId1"/>
          <a:stretch/>
        </p:blipFill>
        <p:spPr>
          <a:xfrm>
            <a:off x="2357280" y="214200"/>
            <a:ext cx="500076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ты доволен собой, у тебя все получалось, то рисуй улыбающееся лицо или зеленый кружок.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тебе на уроке временами было непросто, не все получалось, то рисуй такое лицо          или желтый круж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сли тебе на уроке было сложно, многое не получалось, рисуй грустное лицо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ли красный круж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Улыбающееся лицо 3"/>
          <p:cNvSpPr/>
          <p:nvPr/>
        </p:nvSpPr>
        <p:spPr>
          <a:xfrm>
            <a:off x="8001000" y="1785960"/>
            <a:ext cx="571680" cy="5000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Овал 4"/>
          <p:cNvSpPr/>
          <p:nvPr/>
        </p:nvSpPr>
        <p:spPr>
          <a:xfrm>
            <a:off x="4572000" y="2286000"/>
            <a:ext cx="500040" cy="500040"/>
          </a:xfrm>
          <a:prstGeom prst="ellipse">
            <a:avLst/>
          </a:prstGeom>
          <a:solidFill>
            <a:srgbClr val="00b050"/>
          </a:solidFill>
          <a:ln w="55080">
            <a:solidFill>
              <a:srgbClr val="0868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Овал 5"/>
          <p:cNvSpPr/>
          <p:nvPr/>
        </p:nvSpPr>
        <p:spPr>
          <a:xfrm>
            <a:off x="7500960" y="3571920"/>
            <a:ext cx="500040" cy="5000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Овал 6"/>
          <p:cNvSpPr/>
          <p:nvPr/>
        </p:nvSpPr>
        <p:spPr>
          <a:xfrm>
            <a:off x="4286160" y="4929120"/>
            <a:ext cx="500040" cy="50004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Овал 7"/>
          <p:cNvSpPr/>
          <p:nvPr/>
        </p:nvSpPr>
        <p:spPr>
          <a:xfrm>
            <a:off x="2928960" y="3643200"/>
            <a:ext cx="571320" cy="50004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8"/>
          <p:cNvSpPr/>
          <p:nvPr/>
        </p:nvSpPr>
        <p:spPr>
          <a:xfrm>
            <a:off x="6786720" y="4500720"/>
            <a:ext cx="571320" cy="500040"/>
          </a:xfrm>
          <a:prstGeom prst="ellipse">
            <a:avLst/>
          </a:prstGeom>
          <a:solidFill>
            <a:srgbClr val="fff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Овал 9"/>
          <p:cNvSpPr/>
          <p:nvPr/>
        </p:nvSpPr>
        <p:spPr>
          <a:xfrm>
            <a:off x="3071880" y="3786120"/>
            <a:ext cx="4608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Овал 10"/>
          <p:cNvSpPr/>
          <p:nvPr/>
        </p:nvSpPr>
        <p:spPr>
          <a:xfrm>
            <a:off x="3286080" y="3786120"/>
            <a:ext cx="4608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Овал 11"/>
          <p:cNvSpPr/>
          <p:nvPr/>
        </p:nvSpPr>
        <p:spPr>
          <a:xfrm>
            <a:off x="6929280" y="4643280"/>
            <a:ext cx="7164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Овал 12"/>
          <p:cNvSpPr/>
          <p:nvPr/>
        </p:nvSpPr>
        <p:spPr>
          <a:xfrm>
            <a:off x="7143840" y="4643280"/>
            <a:ext cx="71280" cy="71640"/>
          </a:xfrm>
          <a:prstGeom prst="ellipse">
            <a:avLst/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Прямая соединительная линия 18"/>
          <p:cNvSpPr/>
          <p:nvPr/>
        </p:nvSpPr>
        <p:spPr>
          <a:xfrm>
            <a:off x="3013200" y="4070520"/>
            <a:ext cx="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Прямая соединительная линия 20"/>
          <p:cNvSpPr/>
          <p:nvPr/>
        </p:nvSpPr>
        <p:spPr>
          <a:xfrm flipH="1">
            <a:off x="3000240" y="4070520"/>
            <a:ext cx="12960" cy="144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>
            <a:off x="3013200" y="4070520"/>
            <a:ext cx="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Минус 31"/>
          <p:cNvSpPr/>
          <p:nvPr/>
        </p:nvSpPr>
        <p:spPr>
          <a:xfrm>
            <a:off x="3071880" y="4000680"/>
            <a:ext cx="214200" cy="45720"/>
          </a:xfrm>
          <a:custGeom>
            <a:avLst/>
            <a:gdLst>
              <a:gd name="textAreaLeft" fmla="*/ 28080 w 214200"/>
              <a:gd name="textAreaRight" fmla="*/ 186120 w 214200"/>
              <a:gd name="textAreaTop" fmla="*/ 17280 h 45720"/>
              <a:gd name="textAreaBottom" fmla="*/ 28440 h 45720"/>
            </a:gdLst>
            <a:ahLst/>
            <a:rect l="textAreaLeft" t="textAreaTop" r="textAreaRight" b="textAreaBottom"/>
            <a:pathLst>
              <a:path w="214314" h="45719">
                <a:moveTo>
                  <a:pt x="28407" y="17483"/>
                </a:moveTo>
                <a:lnTo>
                  <a:pt x="185907" y="17483"/>
                </a:lnTo>
                <a:lnTo>
                  <a:pt x="185907" y="28236"/>
                </a:lnTo>
                <a:lnTo>
                  <a:pt x="28407" y="28236"/>
                </a:lnTo>
                <a:close/>
              </a:path>
            </a:pathLst>
          </a:custGeom>
          <a:solidFill>
            <a:srgbClr val="0f6fc6"/>
          </a:solidFill>
          <a:ln w="55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Арка 32"/>
          <p:cNvSpPr/>
          <p:nvPr/>
        </p:nvSpPr>
        <p:spPr>
          <a:xfrm>
            <a:off x="7000920" y="4857840"/>
            <a:ext cx="142920" cy="46080"/>
          </a:xfrm>
          <a:custGeom>
            <a:avLst/>
            <a:gdLst>
              <a:gd name="textAreaLeft" fmla="*/ 0 w 142920"/>
              <a:gd name="textAreaRight" fmla="*/ 143280 w 14292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w="142876" h="45719">
                <a:moveTo>
                  <a:pt x="0" y="22859"/>
                </a:moveTo>
                <a:lnTo>
                  <a:pt x="0" y="22859"/>
                </a:lnTo>
                <a:arcTo wR="71438" hR="22860" stAng="10800000" swAng="10800000"/>
                <a:lnTo>
                  <a:pt x="131446" y="22860"/>
                </a:lnTo>
                <a:lnTo>
                  <a:pt x="131446" y="22860"/>
                </a:lnTo>
                <a:arcTo wR="60008" hR="11430" stAng="0" swAng="-10800000"/>
                <a:close/>
              </a:path>
            </a:pathLst>
          </a:custGeom>
          <a:solidFill>
            <a:srgbClr val="0f6fc6"/>
          </a:solidFill>
          <a:ln w="55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Содержимое 3" descr="File0004.jpg"/>
          <p:cNvPicPr/>
          <p:nvPr/>
        </p:nvPicPr>
        <p:blipFill>
          <a:blip r:embed="rId1"/>
          <a:stretch/>
        </p:blipFill>
        <p:spPr>
          <a:xfrm>
            <a:off x="3174840" y="39600"/>
            <a:ext cx="4326120" cy="6777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4617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Содержимое 3" descr="File0005.jpg"/>
          <p:cNvPicPr/>
          <p:nvPr/>
        </p:nvPicPr>
        <p:blipFill>
          <a:blip r:embed="rId1"/>
          <a:stretch/>
        </p:blipFill>
        <p:spPr>
          <a:xfrm>
            <a:off x="3201840" y="84240"/>
            <a:ext cx="4156200" cy="68673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4617b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24285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й шаг (на первых уроках). Даём возможность детям эмоционально оценивать прошедший урок (день)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й шаг (через 2 – 4 недели). Даём детям возможность оценивать содержание своей письменной работ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268200" y="420840"/>
            <a:ext cx="84250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6426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й шаг ( через месяц). Устанавливаем порядок самооцен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ценить свою работу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е было задани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мог выполнить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авильно или с ошибкой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ам или с чьей – то помощью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урок для работы по развитию самооценки. Планируя этот урок, выбираем несложное задание, выполнение которого будем анализировать. После того как один ученик объяснил, как он выполнил задание учитель говорит: «А теперь давай вместе оценим твой ответ!»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3:18:12Z</dcterms:created>
  <dc:creator>Kulakov</dc:creator>
  <dc:description/>
  <dc:language>en-US</dc:language>
  <cp:lastModifiedBy>Kulakov</cp:lastModifiedBy>
  <dcterms:modified xsi:type="dcterms:W3CDTF">2011-05-17T17:30:09Z</dcterms:modified>
  <cp:revision>8</cp:revision>
  <dc:subject/>
  <dc:title>Технология оценивания образовательных достижений</dc:title>
</cp:coreProperties>
</file>