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5B9-65BA-46AF-A332-93D4CC97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899-9C92-4B23-A6BE-96BF30D7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BCA-8113-4724-8751-CFF4399B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751-5FCE-4851-BFDA-D751CD2E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462-0DAA-4327-9113-5F4078EE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5E8-DBCA-4DC5-8DE7-9ED5DE2F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2B18-9BEF-4F85-8361-674A7F6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51D-B59B-4185-8C5F-203D7A9E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5FE-74C9-476C-909A-C1CA4F0E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B334-9E17-4662-AB01-FDEF4A7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1BB-2BE2-405A-882F-54D4D39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DAD-BDCC-4835-844C-FF2F84F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9CB4-57E6-4DCF-BA45-B4B18EF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F2DF-780D-443E-955A-F00AD86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F788-5021-4B7F-A461-4DA52D1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59C3-B707-48FC-B236-5179179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23B-3545-44DA-8A22-D1A938C4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40B1-590E-4683-917D-8A8DCD72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CE48-4DFE-4E04-8DFD-809398E4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2221-738D-43DD-9734-634C791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26E2-1968-4833-88C3-0D2C3E8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776A-5786-4553-87FD-D6D90C0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E13-B0E8-4F1F-9E05-D5DAF6F2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D4AB-E6A9-4C43-8ED2-463F857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17FA-DABB-40F9-A334-8DAF628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5071-6526-43D8-88DC-A1DFFF6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BB09-66C6-4C65-B656-5B28C33D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CD00-94CB-46DF-8886-0227903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42A7-F481-411A-98C5-7EE6DB20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0CAE-FE99-4CDC-AAF8-40BFE281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4EE7-BA7F-45ED-8EF8-C2291F1F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0EED-81BD-4F77-AE5E-1B1CA39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6F76-52E9-4D0A-9C42-EFF2C00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276-E6BD-4EF6-944B-B42085B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E4BE-6DB2-4DF1-A6AD-DB354B3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205D-B23A-413C-BB0B-C3E23A7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C372-6F64-4F40-BD05-5842040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444F-1F17-4905-8325-8F869C0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1B7A-1598-4FF6-9E60-265BCB1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F0B1-235F-45E0-AF35-4C76C20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7C68-BCC1-485A-883B-7C8DFEA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BD91-30E7-4CAB-99E6-F2FAF829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6D15-1EDD-44E4-920A-A9AB666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04E0-E7F5-49FE-9F6E-B91D4A56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16F-A1FA-4040-A90B-2A454FEB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4F65-F1BE-4BDA-8C70-24B67E0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6AD4F-2CC2-427A-A4A1-B58AF1B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ADC7-BA91-480F-9292-53463A32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74FF-3E14-4A3F-8882-5B4389C3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A82C-64C6-4488-9B03-9E64448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B857-00AE-4530-BC76-6D1950C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3B8C0-50BB-4E3D-B6C0-70A55E0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8557-1D1E-4E7C-A4C3-4044B41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40F7-58D0-417E-AEFB-79C0DD9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BC22-718E-46C0-BF0F-D65146A2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86C-2E15-4ACD-A0F1-84FF3E2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CED41-0E22-4E17-B86D-840AD976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EA02-88D1-44F4-B9C7-984AC940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470B-0727-48C6-A13C-784B3F1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13A56-CB6D-4039-962C-F8584D7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685EB-FBF9-49B7-BFCD-F9E9C95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2C2F-A8BE-465D-8E42-CF559A9D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60E4A-8B6F-4499-B0A1-C3C8186D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E250-A8DA-4EF1-9D53-73E38FB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1BBD-F01C-4FEB-9AD9-1F6CF87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5B16-4A7C-4FD7-BC9E-2F75EC2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E3E-7ADE-4280-97CF-2789743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F629-A459-4680-80A2-D1B3AAC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3372-4D89-4E60-9F35-5B658BC7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8042-994C-4701-95FB-4CD45534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DE29-E50B-4DD1-8ECC-39DD20AD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2CCA-8FF3-4660-8E46-B95D88D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CC08-C68A-44AB-9C99-424FA70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26D6-D195-4791-9F99-673C868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C348-A17F-4594-A6B8-9A7EEA2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D486-BDFF-40F2-9478-BAF298D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D137-B549-428E-835C-232FECB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EFB-8FC8-4E41-9A69-E8A2D47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610E-88CA-48FA-9268-A499CA3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C04D-4824-48EF-8603-E4EDE65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3877-D6CA-4277-95A3-4B36267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D989-5B5F-45D0-93F6-D194214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B7EF-3E2E-4EA1-B1E3-7E9582E5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690A-3A7B-4000-A41D-5BF44F68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B14ED-C8F0-4384-AC40-7EE4042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00C58-92FD-4454-BF10-C1126EF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70372-AFEA-47D4-AF34-B4C5EF9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84794-AD79-407D-92EB-B12762C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52C-DC6F-4618-95D2-D6B848F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C62C6-8016-43E1-97CD-90D863D8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42874-EB62-46BB-8F14-685D20C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F815-C99A-4D9A-8D8B-150109B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0724-C620-4F23-8DD9-37C494C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D2FB-DDB7-4A2A-9BBA-2B2F657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D15F-1F3D-4EB7-80CE-5F7139A1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EB20-7A0E-4ECC-9303-0EC90500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3FA-E75A-4734-812F-46BD9675A0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585-86B6-4692-887C-AF73DD52CB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251B-5630-46FF-B858-1C573AD2C1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BF8C-7127-4320-9F98-1BF9A54A03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5D2-D75F-45AD-BCF6-809A0D8493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0DEC-3CDF-4D56-B3D0-473439666A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CD4-BBDE-4818-9700-420BD01F3C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E1C-5DBA-4388-B539-6D9E33249C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53880" y="920880"/>
            <a:ext cx="8558280" cy="2517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28840" y="4143240"/>
            <a:ext cx="5929200" cy="149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2100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8760" y="71388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й шаг. Учимся признавать свои ошиб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ходе самооценки ученик отвечает на вопрос «Сделал сам или с ошибкой?», необходимо помочь ему увидеть ошибку (сравнивая, например, с образцом выполнения задания). Затем нужно обязательно похвалить ученика: «Молодец, нашёл у себя ошибку, не постеснялся признать это. Надеюсь, в следующий раз ошибки не будет!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й шаг. Учимся признавать свою неудач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оценивать себя в ситуации, когда совсем не справились с зада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й шаг. Используем умение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(или почти все) ученики хотя бы раз оценили свою работу в классе, алгоритм самооценки сворачивается: после просьбы оценить свой ответ, ученики формулируют: «Цель достигнута, ошибок не было», или «Решение я получил, но с помощью класса или с помощью учител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3" descr="File0001.jpg"/>
          <p:cNvPicPr/>
          <p:nvPr/>
        </p:nvPicPr>
        <p:blipFill>
          <a:blip r:embed="rId1"/>
          <a:stretch/>
        </p:blipFill>
        <p:spPr>
          <a:xfrm>
            <a:off x="2714760" y="285840"/>
            <a:ext cx="400032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56760" y="121428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как ученик овладевает умениями по использованию знаний в рамках конкретного учебного предмета, т. е., как реализуются современные цели образования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ученика умения самостоятельно оценивать результат своих действий, контролировать самого себя, находить и исправлять собственные ошибки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иентировать ученика на успех, избавить его от страха перед школьным контролем и оцениванием, создать комфортную для учёбы обстановку, сберечь психологическое здоровье дете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365040" y="122400"/>
            <a:ext cx="83282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Содержимое 3" descr="File0002.jpg"/>
          <p:cNvPicPr/>
          <p:nvPr/>
        </p:nvPicPr>
        <p:blipFill>
          <a:blip r:embed="rId1"/>
          <a:stretch/>
        </p:blipFill>
        <p:spPr>
          <a:xfrm>
            <a:off x="2357280" y="214200"/>
            <a:ext cx="50007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ы доволен собой, у тебя все получалось, то рисуй улыбающееся лицо или зеленый кружок.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временами было непросто, не все получалось, то рисуй такое лицо          или желт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было сложно, многое не получалось, рисуй грустное лиц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ли красн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Улыбающееся лицо 3"/>
          <p:cNvSpPr/>
          <p:nvPr/>
        </p:nvSpPr>
        <p:spPr>
          <a:xfrm>
            <a:off x="8001000" y="17859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4572000" y="2286000"/>
            <a:ext cx="500040" cy="50004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0868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Овал 5"/>
          <p:cNvSpPr/>
          <p:nvPr/>
        </p:nvSpPr>
        <p:spPr>
          <a:xfrm>
            <a:off x="7500960" y="3571920"/>
            <a:ext cx="500040" cy="5000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вал 6"/>
          <p:cNvSpPr/>
          <p:nvPr/>
        </p:nvSpPr>
        <p:spPr>
          <a:xfrm>
            <a:off x="4286160" y="4929120"/>
            <a:ext cx="500040" cy="50004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вал 7"/>
          <p:cNvSpPr/>
          <p:nvPr/>
        </p:nvSpPr>
        <p:spPr>
          <a:xfrm>
            <a:off x="2928960" y="364320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8"/>
          <p:cNvSpPr/>
          <p:nvPr/>
        </p:nvSpPr>
        <p:spPr>
          <a:xfrm>
            <a:off x="6786720" y="450072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Овал 9"/>
          <p:cNvSpPr/>
          <p:nvPr/>
        </p:nvSpPr>
        <p:spPr>
          <a:xfrm>
            <a:off x="30718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Овал 10"/>
          <p:cNvSpPr/>
          <p:nvPr/>
        </p:nvSpPr>
        <p:spPr>
          <a:xfrm>
            <a:off x="32860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Овал 11"/>
          <p:cNvSpPr/>
          <p:nvPr/>
        </p:nvSpPr>
        <p:spPr>
          <a:xfrm>
            <a:off x="6929280" y="4643280"/>
            <a:ext cx="7164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Овал 12"/>
          <p:cNvSpPr/>
          <p:nvPr/>
        </p:nvSpPr>
        <p:spPr>
          <a:xfrm>
            <a:off x="7143840" y="4643280"/>
            <a:ext cx="712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1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20"/>
          <p:cNvSpPr/>
          <p:nvPr/>
        </p:nvSpPr>
        <p:spPr>
          <a:xfrm flipH="1">
            <a:off x="3000240" y="4070520"/>
            <a:ext cx="12960" cy="144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Минус 31"/>
          <p:cNvSpPr/>
          <p:nvPr/>
        </p:nvSpPr>
        <p:spPr>
          <a:xfrm>
            <a:off x="3071880" y="4000680"/>
            <a:ext cx="214200" cy="45720"/>
          </a:xfrm>
          <a:custGeom>
            <a:avLst/>
            <a:gdLst>
              <a:gd name="textAreaLeft" fmla="*/ 28080 w 214200"/>
              <a:gd name="textAreaRight" fmla="*/ 186120 w 214200"/>
              <a:gd name="textAreaTop" fmla="*/ 17280 h 45720"/>
              <a:gd name="textAreaBottom" fmla="*/ 28440 h 45720"/>
            </a:gdLst>
            <a:ahLst/>
            <a:rect l="textAreaLeft" t="textAreaTop" r="textAreaRight" b="textAreaBottom"/>
            <a:pathLst>
              <a:path w="214314" h="45719">
                <a:moveTo>
                  <a:pt x="28407" y="17483"/>
                </a:moveTo>
                <a:lnTo>
                  <a:pt x="185907" y="17483"/>
                </a:lnTo>
                <a:lnTo>
                  <a:pt x="185907" y="28236"/>
                </a:lnTo>
                <a:lnTo>
                  <a:pt x="28407" y="28236"/>
                </a:lnTo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Арка 32"/>
          <p:cNvSpPr/>
          <p:nvPr/>
        </p:nvSpPr>
        <p:spPr>
          <a:xfrm>
            <a:off x="7000920" y="4857840"/>
            <a:ext cx="142920" cy="46080"/>
          </a:xfrm>
          <a:custGeom>
            <a:avLst/>
            <a:gdLst>
              <a:gd name="textAreaLeft" fmla="*/ 0 w 142920"/>
              <a:gd name="textAreaRight" fmla="*/ 143280 w 14292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w="142876" h="45719">
                <a:moveTo>
                  <a:pt x="0" y="22859"/>
                </a:moveTo>
                <a:lnTo>
                  <a:pt x="0" y="22859"/>
                </a:lnTo>
                <a:arcTo wR="71438" hR="22860" stAng="10800000" swAng="10800000"/>
                <a:lnTo>
                  <a:pt x="131446" y="22860"/>
                </a:lnTo>
                <a:lnTo>
                  <a:pt x="131446" y="22860"/>
                </a:lnTo>
                <a:arcTo wR="60008" hR="11430" stAng="0" swAng="-10800000"/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File0004.jpg"/>
          <p:cNvPicPr/>
          <p:nvPr/>
        </p:nvPicPr>
        <p:blipFill>
          <a:blip r:embed="rId1"/>
          <a:stretch/>
        </p:blipFill>
        <p:spPr>
          <a:xfrm>
            <a:off x="3174840" y="39600"/>
            <a:ext cx="4326120" cy="6777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3" descr="File0005.jpg"/>
          <p:cNvPicPr/>
          <p:nvPr/>
        </p:nvPicPr>
        <p:blipFill>
          <a:blip r:embed="rId1"/>
          <a:stretch/>
        </p:blipFill>
        <p:spPr>
          <a:xfrm>
            <a:off x="3201840" y="84240"/>
            <a:ext cx="4156200" cy="6867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4285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й шаг (на первых уроках). Даём возможность детям эмоционально оценивать прошедший урок (день)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й шаг (через 2 – 4 недели). Даём детям возможность оценивать содержание своей письменной работ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68200" y="420840"/>
            <a:ext cx="84250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й шаг ( через месяц). Устанавливаем порядок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ценить свою работ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было задани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ог выполни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авильно или с ошибкой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м или с чьей – то помощью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урок для работы по развитию самооценки. Планируя этот урок, выбираем несложное задание, выполнение которого будем анализировать. После того как один ученик объяснил, как он выполнил задание учитель говорит: «А теперь давай вместе оценим твой ответ!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3:18:12Z</dcterms:created>
  <dc:creator>Kulakov</dc:creator>
  <dc:description/>
  <dc:language>en-US</dc:language>
  <cp:lastModifiedBy>Kulakov</cp:lastModifiedBy>
  <dcterms:modified xsi:type="dcterms:W3CDTF">2011-05-17T17:30:09Z</dcterms:modified>
  <cp:revision>8</cp:revision>
  <dc:subject/>
  <dc:title>Технология оценивания образовательных достижений</dc:title>
</cp:coreProperties>
</file>