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9E98-55C7-420A-B948-999BFCAC8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7857-79DE-4C29-9B2B-633A71D3D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0DC-0110-4DBC-8BBB-3E49BE9D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C7B-CD01-4F94-B36E-04FF2555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8D0-A0C8-41F8-AB72-81F28219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048-8095-4596-9F7B-5BC72FC7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9DCA-4C0F-474B-8DF7-CB51ECFF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AB88-A35A-4711-AF17-7E7DC75C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8B3-E79A-461F-B582-6D15AF0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A4B-3343-4454-AA4D-B88573B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5BD0-DBA0-4E31-AC6C-E7D22F5F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D36-9243-47E3-8EA4-E1E60B40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5EC-6DE0-4353-B55B-06EC13F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212E-96DD-4BE4-BA9B-425D604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1A4A-DB5F-427E-835A-E5BA6CD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B2BD-A642-4482-BD74-258948D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889-26EA-4326-BFB5-1756E2E9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F5F-3703-4BB5-88BC-107AD5BA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66F-BE86-4A55-8C1C-2528B801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6AD-152F-49B5-979F-852AA2E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91E-6630-47CF-9777-F863BD1F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AFD-0427-4397-AC57-3DEFC01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288-C3FD-4D24-A013-8FC0AF8A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04C-D71A-4AEC-AA8A-5DF39A1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855-5371-4D08-B49C-AC91F53D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684-81C3-4BD7-B71D-08454A0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F12A-CF09-4BAA-A040-C4EA1D6690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DD62-0741-45AF-B3A2-331021E06C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611280" y="476280"/>
            <a:ext cx="7056360" cy="475308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Нетрадиционное рисовани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Baskerville Old Face"/>
              </a:rPr>
              <a:t>по клеточ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200"/>
                </a:solidFill>
                <a:latin typeface="Baskerville Old Face"/>
              </a:rPr>
              <a:t>Подготовка руки к пись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 по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МДОУ «Детский сад №168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Кировского района г. Перм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Ухова Лариса Анатоль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200"/>
                </a:solidFill>
                <a:latin typeface="Baskerville Old Face"/>
              </a:rPr>
              <a:t>Педагогический стаж 27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Baskerville Old Face"/>
              </a:rPr>
              <a:t>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6870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Второй эта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бота с</a:t>
            </a:r>
            <a:r>
              <a:rPr b="0" lang="en-US" sz="3600" spc="-1" strike="noStrike">
                <a:solidFill>
                  <a:srgbClr val="00cc00"/>
                </a:solidFill>
                <a:latin typeface="Arial"/>
              </a:rPr>
              <a:t> воспитателями и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родителями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лагаются карточки в крупную клетку с различными фигурами и задания к ни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3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2943360" cy="40622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"/>
          <p:cNvPicPr/>
          <p:nvPr/>
        </p:nvPicPr>
        <p:blipFill>
          <a:blip r:embed="rId2"/>
          <a:stretch/>
        </p:blipFill>
        <p:spPr>
          <a:xfrm>
            <a:off x="3611520" y="3573360"/>
            <a:ext cx="4416480" cy="305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5" descr=""/>
          <p:cNvPicPr/>
          <p:nvPr/>
        </p:nvPicPr>
        <p:blipFill>
          <a:blip r:embed="rId3"/>
          <a:stretch/>
        </p:blipFill>
        <p:spPr>
          <a:xfrm>
            <a:off x="3611520" y="289080"/>
            <a:ext cx="4143240" cy="294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11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Трети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6880" y="1429920"/>
            <a:ext cx="769644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исование рамки для картины на тетрадном листе в мелкую клетк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2911320" y="2565360"/>
            <a:ext cx="5472360" cy="37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Четвертый эта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360" y="857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Предметное рисов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Рисунок 3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543640" cy="413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9440" y="333360"/>
            <a:ext cx="76964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Сюжетное рисование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6692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"/>
          <p:cNvPicPr/>
          <p:nvPr/>
        </p:nvPicPr>
        <p:blipFill>
          <a:blip r:embed="rId2"/>
          <a:stretch/>
        </p:blipFill>
        <p:spPr>
          <a:xfrm>
            <a:off x="4317840" y="3244680"/>
            <a:ext cx="4032360" cy="29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Декоративное рис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Объект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4038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3330360" cy="330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971640" y="476280"/>
            <a:ext cx="7129440" cy="3860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38836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200"/>
              </a:solidFill>
              <a:latin typeface="Comic Sans MS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828720" y="457200"/>
            <a:ext cx="7272360" cy="484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Освоив принцип рисования по клеточкам дети самостоятельно начинают придумывать узоры, сочетания цветов, используют этот опыт в </a:t>
            </a:r>
            <a:r>
              <a:rPr b="0" lang="en-US" sz="3200" spc="-1" strike="noStrike">
                <a:solidFill>
                  <a:srgbClr val="00cc00"/>
                </a:solidFill>
                <a:latin typeface="Arial Unicode MS"/>
              </a:rPr>
              <a:t>прикладном искусстве (вышивк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Comic Sans MS"/>
              </a:rPr>
              <a:t>Рисование по клеточкам позволяет вовремя выявлять несовершенность развития руки и своевременно обеспечить необходимую помощь ребенк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9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СПАСИБО ЗА</a:t>
            </a:r>
            <a:br>
              <a:rPr sz="6600"/>
            </a:b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ВНИМАНИЕ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Теоретическая б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Развитие мелкой моторики является необходимой частью практически любых систем дошкольного воспитания – как традиционных, так и вновь открыт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Можно по-разному объяснять, зачем пальцы ребенка должны развиваться и тренироваться, но нет таких педагогов, которые отрицали бы значение работы с рук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Уже давно известно, какие блага несет моторика руки: это развитие соответствующих отделов мозга, обострение тактильных возможностей, тренировка мускульной памяти, развитие усидчивости и внимания, подготовка к обучению пись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744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Родителей и педагогов всегда волнует вопрос: как обеспечить полноценное развитие ребенка в дошкольном возрасте? Здесь важно не упустить время, сделать все необходимое, чтобы учиться малышу в современной школе было легко. В этом возрасте важн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именно подготовка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исьму, а не обучение к нему. Поэтому в старшем дошкольном возрасте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детям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предлагаются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такие занятия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как рисовани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о клеточ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Адресная направленность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актическ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м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материал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ом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могут пользоваться воспитател</a:t>
            </a:r>
            <a:r>
              <a:rPr b="0" lang="en-US" sz="2800" spc="-1" strike="noStrike">
                <a:solidFill>
                  <a:srgbClr val="00b200"/>
                </a:solidFill>
                <a:latin typeface="Arial Unicode MS"/>
              </a:rPr>
              <a:t>и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, родители, а также он может быть использован в коррекционной работе с детьми. </a:t>
            </a:r>
            <a:br>
              <a:rPr sz="2800"/>
            </a:b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Это поможет более полно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 обеспечить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развитие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ребенка в дошкольном возрасте и правильно подготовить его к школ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Новизна опы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использование нетрадиционных современных подходов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оригинальны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способ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ов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в развитии руки ребенка;</a:t>
            </a:r>
            <a:br>
              <a:rPr sz="3200"/>
            </a:b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- систематическая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целенаправленная работа по подготовке руки дошкольников к пись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Трудоемкость.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Опыт работы рисования по клеточкам трудоемкий. Имеет несколько этапов, каждый из этапов должен быть осмыслен и отработа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Технологии опыта.</a:t>
            </a:r>
            <a:br>
              <a:rPr sz="4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Начинать работу рисования по клеточкам нужно в старшем дошкольном возрасте, т.к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она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требует внимания, усидчивости и сосредоточенности. 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Во время занятия обязательно проводятся пальчиковые игры и упражнения для расслабления глаз и кисти рук.</a:t>
            </a:r>
            <a:br>
              <a:rPr sz="2800"/>
            </a:b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Простой и эффективный способ подготовки к письму имеет несколько этап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Первый этап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Знакомство детей с народным промыслом «Вышивка»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Рассматривание образцов, объяснения принципов рисования по крупным клеткам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4" descr=""/>
          <p:cNvPicPr/>
          <p:nvPr/>
        </p:nvPicPr>
        <p:blipFill>
          <a:blip r:embed="rId1"/>
          <a:stretch/>
        </p:blipFill>
        <p:spPr>
          <a:xfrm>
            <a:off x="3635280" y="547560"/>
            <a:ext cx="4192560" cy="34149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2"/>
          <a:stretch/>
        </p:blipFill>
        <p:spPr>
          <a:xfrm>
            <a:off x="1042920" y="3949560"/>
            <a:ext cx="7907400" cy="2376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2808360" cy="37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1:40:59Z</dcterms:created>
  <dc:creator>User</dc:creator>
  <dc:description/>
  <dc:language>en-US</dc:language>
  <cp:lastModifiedBy>z</cp:lastModifiedBy>
  <dcterms:modified xsi:type="dcterms:W3CDTF">2012-02-15T10:53:51Z</dcterms:modified>
  <cp:revision>40</cp:revision>
  <dc:subject/>
  <dc:title>Дошкольный возраст – период интенсивного интереса к сопоставлению различных позиций по отношению к предмету деятельности. </dc:title>
</cp:coreProperties>
</file>