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1D1D-0E98-4BC4-A9C0-EC2D64ED4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1BDF-FD80-493E-A84F-0DBD86E5D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29B-E2EE-4BE6-B1C1-FFC68A93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212-98D5-4927-A3EB-127CA441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E9A-F59D-4696-B074-C0EA4963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9FE-FE59-4CCF-BE05-8AFEE872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4BFD-8BE3-4285-829B-2B4119C5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D846-68F7-4899-A6D1-6EB14A17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0DAE-895E-4F77-9A57-C10EF86F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75D5-DD0C-4ABA-BB16-B2901C91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350E-E416-4D0E-B4FD-462995B7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A793-C71D-4010-A7FB-1F68BE9A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8EDC-6136-4A52-B618-AD62D67A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DFF-EAA3-455E-AC9A-230AE3EA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08D2-E225-4C14-9150-C4AE1EDD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E65B-1098-44ED-ACEF-7DE8231A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9E1D-51FA-4F17-8F47-294F270F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169C-6758-455E-9ABD-9BD8F4C9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7DEF-7740-4F4A-9DD8-D6EE866F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D61-497A-41BC-91DE-3BE99076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BB5-AF19-4B1E-B51C-653171CE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392-A95F-4647-93DF-35A270CA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C97-5F36-40F2-8D77-68D5F4BA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7C2-AC1F-48F8-A9F8-8C624712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C42-5A53-46FB-BB3F-F242EF97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5EB-D6D2-4F12-BDB4-CB76C986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94A3-6E5B-41EF-BDF9-BF1F90AE37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4B6A-4B16-440C-8780-EA5CB4E4F2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9"/>
          <p:cNvSpPr/>
          <p:nvPr/>
        </p:nvSpPr>
        <p:spPr>
          <a:xfrm>
            <a:off x="611280" y="476280"/>
            <a:ext cx="7056360" cy="475308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b200"/>
                </a:solidFill>
                <a:latin typeface="Baskerville Old Face"/>
              </a:rPr>
              <a:t>Нетрадиционное рисование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Baskerville Old Face"/>
              </a:rPr>
              <a:t>по клеточк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200"/>
                </a:solidFill>
                <a:latin typeface="Baskerville Old Face"/>
              </a:rPr>
              <a:t>Подготовка руки к письм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Педагог по изобрази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МДОУ «Детский сад №168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Кировского района г. Перм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Ухова Лариса Анатоль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Педагогический стаж 27 л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Baskerville Old Face"/>
              </a:rPr>
              <a:t>2011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Второй эта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Работа с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воспитателями и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 родителями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Предлагаются карточки в крупную клетку с различными фигурами и задания к ни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3" descr=""/>
          <p:cNvPicPr/>
          <p:nvPr/>
        </p:nvPicPr>
        <p:blipFill>
          <a:blip r:embed="rId1"/>
          <a:stretch/>
        </p:blipFill>
        <p:spPr>
          <a:xfrm>
            <a:off x="438120" y="836640"/>
            <a:ext cx="2943360" cy="40622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2"/>
          <a:stretch/>
        </p:blipFill>
        <p:spPr>
          <a:xfrm>
            <a:off x="3611520" y="3573360"/>
            <a:ext cx="4416480" cy="3054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"/>
          <p:cNvPicPr/>
          <p:nvPr/>
        </p:nvPicPr>
        <p:blipFill>
          <a:blip r:embed="rId3"/>
          <a:stretch/>
        </p:blipFill>
        <p:spPr>
          <a:xfrm>
            <a:off x="3611520" y="289080"/>
            <a:ext cx="4143240" cy="29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11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Трети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6880" y="1429920"/>
            <a:ext cx="769644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Рисование рамки для картины на тетрадном листе в мелкую клетку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2911320" y="2565360"/>
            <a:ext cx="5472360" cy="379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Четверты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360" y="857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Предметное рисов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Рисунок 3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543640" cy="413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9440" y="333360"/>
            <a:ext cx="76964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Сюжетное рисовани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066920" cy="30956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8" descr=""/>
          <p:cNvPicPr/>
          <p:nvPr/>
        </p:nvPicPr>
        <p:blipFill>
          <a:blip r:embed="rId2"/>
          <a:stretch/>
        </p:blipFill>
        <p:spPr>
          <a:xfrm>
            <a:off x="4317840" y="3244680"/>
            <a:ext cx="4032360" cy="29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Декоративное рис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Объект 6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403880" cy="31687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7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3330360" cy="330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971640" y="476280"/>
            <a:ext cx="7129440" cy="386064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838836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200"/>
              </a:solidFill>
              <a:latin typeface="Comic Sans MS"/>
            </a:endParaRPr>
          </a:p>
        </p:txBody>
      </p:sp>
      <p:pic>
        <p:nvPicPr>
          <p:cNvPr id="189" name="Рисунок 4" descr=""/>
          <p:cNvPicPr/>
          <p:nvPr/>
        </p:nvPicPr>
        <p:blipFill>
          <a:blip r:embed="rId1"/>
          <a:stretch/>
        </p:blipFill>
        <p:spPr>
          <a:xfrm>
            <a:off x="828720" y="457200"/>
            <a:ext cx="7272360" cy="484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Освоив принцип рисования по клеточкам дети самостоятельно начинают придумывать узоры, сочетания цветов, используют этот опыт в </a:t>
            </a:r>
            <a:r>
              <a:rPr b="0" lang="en-US" sz="3200" spc="-1" strike="noStrike">
                <a:solidFill>
                  <a:srgbClr val="00cc00"/>
                </a:solidFill>
                <a:latin typeface="Arial Unicode MS"/>
              </a:rPr>
              <a:t>прикладном искусстве (вышивк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Comic Sans MS"/>
              </a:rPr>
              <a:t>Рисование по клеточкам позволяет вовремя выявлять несовершенность развития руки и своевременно обеспечить необходимую помощь ребенк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СПАСИБО ЗА</a:t>
            </a:r>
            <a:br>
              <a:rPr sz="6600"/>
            </a:b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ВНИМАНИ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08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Теоретическая ба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Развитие мелкой моторики является необходимой частью практически любых систем дошкольного воспитания – как традиционных, так и вновь открыт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Можно по-разному объяснять, зачем пальцы ребенка должны развиваться и тренироваться, но нет таких педагогов, которые отрицали бы значение работы с руко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Уже давно известно, какие блага несет моторика руки: это развитие соответствующих отделов мозга, обострение тактильных возможностей, тренировка мускульной памяти, развитие усидчивости и внимания, подготовка к обучению пись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744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Родителей и педагогов всегда волнует вопрос: как обеспечить полноценное развитие ребенка в дошкольном возрасте? Здесь важно не упустить время, сделать все необходимое, чтобы учиться малышу в современной школе было легко. В этом возрасте важн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именно подготовка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письму, а не обучение к нему. Поэтому в старшем дошкольном возрасте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детям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предлагаются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такие занятия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как рисовани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по клеточк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Адресная направленность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рактическ</a:t>
            </a:r>
            <a:r>
              <a:rPr b="0" lang="en-US" sz="2800" spc="-1" strike="noStrike">
                <a:solidFill>
                  <a:srgbClr val="00b200"/>
                </a:solidFill>
                <a:latin typeface="Arial Unicode MS"/>
              </a:rPr>
              <a:t>им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материал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ом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могут пользоваться воспитател</a:t>
            </a:r>
            <a:r>
              <a:rPr b="0" lang="en-US" sz="2800" spc="-1" strike="noStrike">
                <a:solidFill>
                  <a:srgbClr val="00b200"/>
                </a:solidFill>
                <a:latin typeface="Arial Unicode MS"/>
              </a:rPr>
              <a:t>и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, родители, а также он может быть использован в коррекционной работе с детьми. </a:t>
            </a:r>
            <a:br>
              <a:rPr sz="2800"/>
            </a:b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Это поможет более полно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 обеспечить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развитие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ребенка в дошкольном возрасте и правильно подготовить его к школ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Новизна опыта.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- использование нетрадиционных современных подходов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оригинальны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способ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ов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в развитии руки ребенка;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- систематическая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целенаправленная работа по подготовке руки дошкольников к пись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Трудоемкость.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Опыт работы рисования по клеточкам трудоемкий. Имеет несколько этапов, каждый из этапов должен быть осмыслен и отработа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Технологии опыта.</a:t>
            </a:r>
            <a:br>
              <a:rPr sz="48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Начинать работу рисования по клеточкам нужно в старшем дошкольном возрасте, т.к.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она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требует внимания, усидчивости и сосредоточенности. 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Во время занятия обязательно проводятся пальчиковые игры и упражнения для расслабления глаз и кисти рук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Простой и эффективный способ подготовки к письму имеет несколько этапо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Первый этап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Знакомство детей с народным промыслом «Вышивка»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Рассматривание образцов, объяснения принципов рисования по крупным клеткам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4" descr=""/>
          <p:cNvPicPr/>
          <p:nvPr/>
        </p:nvPicPr>
        <p:blipFill>
          <a:blip r:embed="rId1"/>
          <a:stretch/>
        </p:blipFill>
        <p:spPr>
          <a:xfrm>
            <a:off x="3635280" y="547560"/>
            <a:ext cx="4192560" cy="34149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"/>
          <p:cNvPicPr/>
          <p:nvPr/>
        </p:nvPicPr>
        <p:blipFill>
          <a:blip r:embed="rId2"/>
          <a:stretch/>
        </p:blipFill>
        <p:spPr>
          <a:xfrm>
            <a:off x="1042920" y="3949560"/>
            <a:ext cx="7907400" cy="2376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2808360" cy="377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1:40:59Z</dcterms:created>
  <dc:creator>User</dc:creator>
  <dc:description/>
  <dc:language>en-US</dc:language>
  <cp:lastModifiedBy>z</cp:lastModifiedBy>
  <dcterms:modified xsi:type="dcterms:W3CDTF">2012-02-15T10:53:51Z</dcterms:modified>
  <cp:revision>40</cp:revision>
  <dc:subject/>
  <dc:title>Дошкольный возраст – период интенсивного интереса к сопоставлению различных позиций по отношению к предмету деятельности. </dc:title>
</cp:coreProperties>
</file>