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DE51-100D-45B9-823C-F98C36C8D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3A33-6484-40A1-8817-61648498C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503-3422-4612-B74A-1830BC1B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FF6-77EB-49D4-BF2B-1C48474F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479-1D0F-46F2-A1C0-2D44DA38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B79-238F-4CEE-B4E2-3E48AFBF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ECF1-8A56-4512-A460-5029F6D0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BC89-4B62-4820-A3F8-73C8547D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CEB6-E505-49BC-AB76-F62B8F7D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01C4-88A3-4233-83AE-9EBA5210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EFF-2C78-4C95-8026-3DBE3736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1E56-01D8-4DD2-B96E-ADD5E2CF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8478-8FB1-42EE-A50E-198B058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8B4-C7F4-4E03-AEB8-8306AC4A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B82A-3371-45FA-9634-B8867C28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B3A6-D9EC-4472-9507-727BA7C8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F55A-2BD0-4EDF-8BFD-F014F204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F093-60C8-489E-AD34-C21D9B16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5630-F487-479C-870C-49D56405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759-805D-499A-B921-2D26BC4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ED4-CE3C-4826-9044-27EF2469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180-1741-4655-B4C4-B62AEAA0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E52-B729-4DFF-B804-33764DB4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69F-28E1-4560-8BD9-30D0A5E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355-77ED-44E2-9CA5-593DD160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5B3-25E4-419C-ABEA-A6F46B7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97BA-4533-48B4-972B-FD002716F1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673-3AF1-4F4E-BA6F-2E89BB205A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9"/>
          <p:cNvSpPr/>
          <p:nvPr/>
        </p:nvSpPr>
        <p:spPr>
          <a:xfrm>
            <a:off x="611280" y="476280"/>
            <a:ext cx="7056360" cy="475308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b200"/>
                </a:solidFill>
                <a:latin typeface="Baskerville Old Face"/>
              </a:rPr>
              <a:t>Нетрадиционное рисование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Baskerville Old Face"/>
              </a:rPr>
              <a:t>по клеточк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200"/>
                </a:solidFill>
                <a:latin typeface="Baskerville Old Face"/>
              </a:rPr>
              <a:t>Подготовка руки к пись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Педагог по изобраз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МДОУ «Детский сад №168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Кировского района г. Перм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Ухова Лариса Анатоль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Педагогический стаж 27 л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Baskerville Old Face"/>
              </a:rPr>
              <a:t>2011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Второй эта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абота с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воспитателями и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 родителям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Предлагаются карточки в крупную клетку с различными фигурами и задания к ни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438120" y="836640"/>
            <a:ext cx="2943360" cy="40622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tretch/>
        </p:blipFill>
        <p:spPr>
          <a:xfrm>
            <a:off x="3611520" y="3573360"/>
            <a:ext cx="4416480" cy="3054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3"/>
          <a:stretch/>
        </p:blipFill>
        <p:spPr>
          <a:xfrm>
            <a:off x="3611520" y="289080"/>
            <a:ext cx="4143240" cy="29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11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рети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6880" y="1429920"/>
            <a:ext cx="769644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исование рамки для картины на тетрадном листе в мелкую клетк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2911320" y="2565360"/>
            <a:ext cx="5472360" cy="37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Четверты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857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Предметное рисов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исунок 3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543640" cy="413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9440" y="333360"/>
            <a:ext cx="76964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Сюжетное рисовани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66920" cy="30956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"/>
          <p:cNvPicPr/>
          <p:nvPr/>
        </p:nvPicPr>
        <p:blipFill>
          <a:blip r:embed="rId2"/>
          <a:stretch/>
        </p:blipFill>
        <p:spPr>
          <a:xfrm>
            <a:off x="4317840" y="3244680"/>
            <a:ext cx="4032360" cy="29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Декоративное рис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Объект 6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4038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330360" cy="330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971640" y="476280"/>
            <a:ext cx="7129440" cy="3860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38836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200"/>
              </a:solidFill>
              <a:latin typeface="Comic Sans MS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828720" y="457200"/>
            <a:ext cx="7272360" cy="484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Освоив принцип рисования по клеточкам дети самостоятельно начинают придумывать узоры, сочетания цветов, используют этот опыт в </a:t>
            </a:r>
            <a:r>
              <a:rPr b="0" lang="en-US" sz="3200" spc="-1" strike="noStrike">
                <a:solidFill>
                  <a:srgbClr val="00cc00"/>
                </a:solidFill>
                <a:latin typeface="Arial Unicode MS"/>
              </a:rPr>
              <a:t>прикладном искусстве (вышивк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Comic Sans MS"/>
              </a:rPr>
              <a:t>Рисование по клеточкам позволяет вовремя выявлять несовершенность развития руки и своевременно обеспечить необходимую помощь ребенк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СПАСИБО ЗА</a:t>
            </a:r>
            <a:br>
              <a:rPr sz="6600"/>
            </a:b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ВНИМАНИ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8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Теоретическая б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Развитие мелкой моторики является необходимой частью практически любых систем дошкольного воспитания – как традиционных, так и вновь открыт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Можно по-разному объяснять, зачем пальцы ребенка должны развиваться и тренироваться, но нет таких педагогов, которые отрицали бы значение работы с рук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Уже давно известно, какие блага несет моторика руки: это развитие соответствующих отделов мозга, обострение тактильных возможностей, тренировка мускульной памяти, развитие усидчивости и внимания, подготовка к обучению пись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744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Родителей и педагогов всегда волнует вопрос: как обеспечить полноценное развитие ребенка в дошкольном возрасте? Здесь важно не упустить время, сделать все необходимое, чтобы учиться малышу в современной школе было легко. В этом возрасте важн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именно подготовка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исьму, а не обучение к нему. Поэтому в старшем дошкольном возрасте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детям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предлагаются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такие занятия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как рисовани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о клеточ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Адресная направленность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актическ</a:t>
            </a:r>
            <a:r>
              <a:rPr b="0" lang="en-US" sz="2800" spc="-1" strike="noStrike">
                <a:solidFill>
                  <a:srgbClr val="00b200"/>
                </a:solidFill>
                <a:latin typeface="Arial Unicode MS"/>
              </a:rPr>
              <a:t>им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материал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ом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огут пользоваться воспитател</a:t>
            </a:r>
            <a:r>
              <a:rPr b="0" lang="en-US" sz="2800" spc="-1" strike="noStrike">
                <a:solidFill>
                  <a:srgbClr val="00b200"/>
                </a:solidFill>
                <a:latin typeface="Arial Unicode MS"/>
              </a:rPr>
              <a:t>и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, родители, а также он может быть использован в коррекционной работе с детьми. </a:t>
            </a:r>
            <a:br>
              <a:rPr sz="2800"/>
            </a:b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Это поможет более полно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 обеспечить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развитие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ебенка в дошкольном возрасте и правильно подготовить его к школ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Новизна опыта.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- использование нетрадиционных современных подходов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оригинальны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способ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ов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в развитии руки ребенка;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- систематическая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целенаправленная работа по подготовке руки дошкольников к пись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Трудоемкость.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Опыт работы рисования по клеточкам трудоемкий. Имеет несколько этапов, каждый из этапов должен быть осмыслен и отработа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Технологии опыта.</a:t>
            </a:r>
            <a:br>
              <a:rPr sz="4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Начинать работу рисования по клеточкам нужно в старшем дошкольном возрасте, т.к.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она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требует внимания, усидчивости и сосредоточенности. 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Во время занятия обязательно проводятся пальчиковые игры и упражнения для расслабления глаз и кисти рук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ростой и эффективный способ подготовки к письму имеет несколько этап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Первый этап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Знакомство детей с народным промыслом «Вышивка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ассматривание образцов, объяснения принципов рисования по крупным клеткам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3635280" y="547560"/>
            <a:ext cx="4192560" cy="34149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"/>
          <p:cNvPicPr/>
          <p:nvPr/>
        </p:nvPicPr>
        <p:blipFill>
          <a:blip r:embed="rId2"/>
          <a:stretch/>
        </p:blipFill>
        <p:spPr>
          <a:xfrm>
            <a:off x="1042920" y="3949560"/>
            <a:ext cx="7907400" cy="2376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2808360" cy="377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1:40:59Z</dcterms:created>
  <dc:creator>User</dc:creator>
  <dc:description/>
  <dc:language>en-US</dc:language>
  <cp:lastModifiedBy>z</cp:lastModifiedBy>
  <dcterms:modified xsi:type="dcterms:W3CDTF">2012-02-15T10:53:51Z</dcterms:modified>
  <cp:revision>40</cp:revision>
  <dc:subject/>
  <dc:title>Дошкольный возраст – период интенсивного интереса к сопоставлению различных позиций по отношению к предмету деятельности. </dc:title>
</cp:coreProperties>
</file>