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144-A6BC-4360-9B41-8DDA828E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5D1-D869-413F-A0B9-397C3840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4A8-562F-45ED-B71A-909D6E6A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BD4-C61D-45DA-864F-E629DAED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0AA-0FD0-411A-812B-8663924A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CBD-3D2E-4E4B-970A-0A3E5DC2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1D5-7FC1-4487-B173-B5ADBC0B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33F-5540-48C4-97BE-0095C28C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A25-8F17-4691-950B-4DB16F2C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714-D191-4889-B2DF-5E57668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5E0-D83F-4A2B-983A-F80B175B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BBE-BF6B-4928-A44C-156DF2EE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5F56-2D9D-4ACD-AA08-9C4DB57D1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рковный Собор 1654 года (Патриарх Никон представляет новые богослужебные тексты)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ласть и церковь.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й раск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резентация учител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ГБОУ СОШ № 512 Невского района г.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Субботиной Натальи Игор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360" y="6237000"/>
            <a:ext cx="46260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7164000" y="2565360"/>
            <a:ext cx="108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996480" y="63061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102" name="Прямоугольник 2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685800"/>
            <a:ext cx="7467840" cy="3124080"/>
          </a:xfrm>
          <a:prstGeom prst="downArrowCallout">
            <a:avLst>
              <a:gd name="adj1" fmla="val 59766"/>
              <a:gd name="adj2" fmla="val 59760"/>
              <a:gd name="adj3" fmla="val 16667"/>
              <a:gd name="adj4" fmla="val 6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8600" y="3657600"/>
            <a:ext cx="8686800" cy="28195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§ 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7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, р/т № 1-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стр.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 22-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2280" y="270000"/>
            <a:ext cx="8763120" cy="836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Источники и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2280" y="1473120"/>
            <a:ext cx="8763120" cy="4043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тория России. Конец XVI-XVIII век.    7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ая тетрадь. Конец XVI-XVIII век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www.leonidzl.com/forum/viewtopic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идеофильм “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43 Раскол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” - http://files.tvspas.ru/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5840"/>
            <a:ext cx="8856720" cy="706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360" y="2781000"/>
            <a:ext cx="4555800" cy="3911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                (п. Игнатий короновал Лжедмитрия I на царст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5"/>
          <p:cNvCxnSpPr/>
          <p:nvPr/>
        </p:nvCxnSpPr>
        <p:spPr>
          <a:xfrm>
            <a:off x="6617880" y="2349360"/>
            <a:ext cx="1080" cy="496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9" name="Picture 10" descr="http://assets1.lookatme.ru/assets/article_image-image/dd/b0/2446749/article_image-image-article.ba044c69-f763-4a9f-8b86-eeef05149deb.jpg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0" name="Прямоугольник 10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3" name="Прямоугольник 5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5" name="Прямоугольник 4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p2.patriarchia.ru/2011/03/04/1233367412/1.jpg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le:Novoierusalimsky monastyr 1.jpg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99840"/>
            <a:ext cx="8856720" cy="2260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5157720" y="4723920"/>
            <a:ext cx="72000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7" name="Прямоугольник 12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3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005000"/>
            <a:ext cx="8785440" cy="2692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ичины церковной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к готовили рефор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ероприятия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удьба патриарха Ник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43 Раскол.avi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chron.eduhmao.ru/img_7_12_0_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836280"/>
            <a:ext cx="8928000" cy="34131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8" idx="2"/>
          </p:cNvCxnSpPr>
          <p:nvPr/>
        </p:nvCxnSpPr>
        <p:spPr>
          <a:xfrm>
            <a:off x="4571640" y="4249800"/>
            <a:ext cx="1080" cy="475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www.peremeny.ru/books/osminog/wp-content/uploads/2009/01/mitrkir2.jpg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6" name="Прямоугольник 1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10T12:46:15Z</dcterms:modified>
  <cp:revision>25</cp:revision>
  <dc:subject/>
  <dc:title>Презентация PowerPoint</dc:title>
</cp:coreProperties>
</file>