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FFE5-7C70-4401-AF36-4D03E43D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A2C-A634-4C17-B0AE-C131169B84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3317-62DF-40BB-82CE-4A9634303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2A32-F8C0-4E30-908D-28761D293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9E46-594F-49AC-90EF-AA3AB920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B8C2-23A8-4D2A-996D-2E8F6EDE5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5000" y="328320"/>
            <a:ext cx="64706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70AB-BE4F-411F-97DB-A37ED1533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6487-D65C-4C04-A556-DF43F2473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ADF7-5C80-4CD3-90D9-3C2F1FDB1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1F6C-8890-4BF5-939B-42FE32757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5000" y="328320"/>
            <a:ext cx="64706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91EB-653B-42DE-912D-3ADC23683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2E12-6FCA-4233-9183-2A07B9462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A1F1-385F-4F97-809B-B066107AB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498A-BAEF-4A84-87A4-66DF52FF8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9" descr="2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7E357AD-DEB8-4058-8AE9-EDD309F7D09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71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8"/>
          <p:cNvSpPr/>
          <p:nvPr/>
        </p:nvSpPr>
        <p:spPr>
          <a:xfrm>
            <a:off x="468360" y="914400"/>
            <a:ext cx="8207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0">
            <a:hlinkClick r:id="rId3"/>
          </p:cNvPr>
          <p:cNvSpPr/>
          <p:nvPr/>
        </p:nvSpPr>
        <p:spPr>
          <a:xfrm>
            <a:off x="0" y="6384960"/>
            <a:ext cx="8748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hom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9" descr="22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222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2360" y="3718080"/>
            <a:ext cx="887256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сихология и педагогика обучения одаренных дете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пособности к спорту и методы их диагностик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-36360" y="-33480"/>
            <a:ext cx="91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9160" y="4075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ческие методы в спор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следования ощущения и восприят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психомоторики спортсмен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памят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мышления и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следования быстроты переработки информа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ованные самоотч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лич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рогрессивных матриц Р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не­вербальным тестам. Он состоит из заданий возра­стающей трудности, которые представляют собой набор изображений, организованных по определенному закону Испытуемый должен раскрыть закономерность и вставить недо­стающее изобра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рогрессивных матриц Р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videoplayback (online-video-cutter.com).mp4" descr=""/>
          <p:cNvPicPr/>
          <p:nvPr/>
        </p:nvPicPr>
        <p:blipFill>
          <a:blip r:embed="rId1"/>
          <a:stretch/>
        </p:blipFill>
        <p:spPr>
          <a:xfrm>
            <a:off x="1387440" y="1004760"/>
            <a:ext cx="674676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ерская или социальная ода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ая, или социальная одаренность. Такая одаренность характеризуется способностью понимать других людей, строить с ними конструктивные отношения, руководить ими. Лидерская одаренность предполагает достаточно высокий уровень интеллекта, однако наряду с этим, необходима и хорошо развитая интуиция, понимание чувств и потребностей других людей, способность к сопережи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Lenovo\Desktop\IMG_2022-09-20.jpg"/>
          <p:cNvPicPr/>
          <p:nvPr/>
        </p:nvPicPr>
        <p:blipFill>
          <a:blip r:embed="rId1"/>
          <a:stretch/>
        </p:blipFill>
        <p:spPr>
          <a:xfrm>
            <a:off x="6165720" y="5183280"/>
            <a:ext cx="29782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хнологии формирования лидер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групповых предпочтений – выявление черт, которыми лидер должен обладать, по мнению группы, формирование идеального образа лид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подбор претендентов на лидерство. Социометрия внутри группы, выявление наиболее предпочтительных кандидатов внутри группы, анализ внешних кандидатов, предварительная оценка возможных последствий, при внедрении внешних кандид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лидера – подбор кандидата, подходящего под идеальный образ, оценка условий при которых лидер может состояться, формирование первичного имиджа лидера под ожидание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будущей команды лидера. Поиск проводника, формирование группы надеж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оманды лидера – процесс происходит постепенно, по мере формирования команды. Каждый публично представленный член команды получает пан доверия полномочий от лид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лидера по мобилизации группы на достижение поставленных целей и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ода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6680" y="1108080"/>
            <a:ext cx="8345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 комплекс природных качеств, дающих возможность достичь спортивных вершин в процессе многолетней трен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чи врожденными особенностями человека, они обуславливают определенный уровень его спортивных дости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еся спортивные достижения– это результат взаимодействия наследственных факторов и влияния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не являются врождённы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формируются в процессе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Lenovo\Desktop\Group_2_copy_2.png"/>
          <p:cNvPicPr/>
          <p:nvPr/>
        </p:nvPicPr>
        <p:blipFill>
          <a:blip r:embed="rId1"/>
          <a:stretch/>
        </p:blipFill>
        <p:spPr>
          <a:xfrm>
            <a:off x="4780080" y="3471840"/>
            <a:ext cx="411156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развити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3920"/>
            <a:ext cx="8207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ые общие способности. К ним можно отнести хорошее здоровье, нормальное физическое развитие, трудолюбие, настойчивость, работоспособность, интересы, склон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элементы спортивных способностей: быстрое освоение спортивной техники, умение адаптироваться к значительным мышечным напряжениям, высокий уровень функциональной подготовки, способность преодолевать утомление, успешное восстановление после тренировочных нагрузок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циальные элементы спортивных способностей: быстрый прирост спортивных результатов, высокий уровень развития специальных качеств, высокая мобилизация, готовность и устойчивость в условиях противоборства с противником и т.д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ьных видах спорта структура способностей неодинакова. Так, в циклических видах спорта важную роль в структуре способностей играют стабильность мышечно-двигательных дифферинцировок, "чувство темпа", "чувства ритма", способность к адекватным оценкам функциональ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оростно-силовых видах спорта важны точные мышечно-двигательные дифферинцировки, точная пространственно-временная ориентировка, "чувство ритма". В играх и единоборствах на первый план выступают психические качества, в основе которых лежит система процессов, определяющая возможность в кратчайшие сроки воспринимать возникающие ситуации, принимать и реализовывать творчески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специалисты одним из проявлений "двигательной одарённости" считают способность быстро, "буквально на лету", схватывать и запоминать технику выполнения сложных элементов, а также достаточно прочное её за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усилился генетический подход к проблеме спортивны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Астауров Б.Л. отмечает, что возможности воспитания и тренировки не беспредельны, их границы определены наследственной конституцией (генотипом) данного индивиду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 указывал ещё Ч.Дарвин. Он говорил, что воспитание и окружающая остановка производит лишь слабое влияние на способности человека, большинство которых в действительности являются врождё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Lenovo\Desktop\ДАРВИН.jpg"/>
          <p:cNvPicPr/>
          <p:nvPr/>
        </p:nvPicPr>
        <p:blipFill>
          <a:blip r:embed="rId1"/>
          <a:stretch/>
        </p:blipFill>
        <p:spPr>
          <a:xfrm>
            <a:off x="6757920" y="4178160"/>
            <a:ext cx="20862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ый фактор в значительной степени определяет физическое развитие, формирование двигательных качеств, аэробную и анаэробную производительность организма, величину прироста функциональных возможностей под влиянием спортивной трен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Lenovo\Desktop\16307132be5d4a165aa5f636c6c39256.jpg"/>
          <p:cNvPicPr/>
          <p:nvPr/>
        </p:nvPicPr>
        <p:blipFill>
          <a:blip r:embed="rId1"/>
          <a:stretch/>
        </p:blipFill>
        <p:spPr>
          <a:xfrm>
            <a:off x="4557600" y="3468600"/>
            <a:ext cx="428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ко-биологические критерии одарённости в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возра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функциональные при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ункциональных и сенсорных систем организ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собенности высшей нерв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6440" y="328320"/>
            <a:ext cx="70992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е критерии одарённости в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физических качест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о-тактическая  подготов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о-техническое мастер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ы роста спортивных дост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ая обуч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ны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эффективному решению двигательных задач в условиях напряжённой борь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20840" y="46944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ческие методы в спор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нность любой методики в свете требований спортивной психо­диагностики заключается в возможности адекватно измерять значимые психологические характеристики спортсменов и на этой основе решать основные практические задачи - осуществлять отбор, определять уровень готовности и прогнозировать успешность спортивной деятельно­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Users\Lenovo\Desktop\lechenie-sosudov-mozga-narodnye-recepty-dlya-golovy-1.jpg"/>
          <p:cNvPicPr/>
          <p:nvPr/>
        </p:nvPicPr>
        <p:blipFill>
          <a:blip r:embed="rId1"/>
          <a:stretch/>
        </p:blipFill>
        <p:spPr>
          <a:xfrm>
            <a:off x="5256360" y="3978360"/>
            <a:ext cx="3398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Lenovo</cp:lastModifiedBy>
  <dcterms:modified xsi:type="dcterms:W3CDTF">2024-10-11T09:43:27Z</dcterms:modified>
  <cp:revision>184</cp:revision>
  <dc:subject/>
  <dc:title>PowerPoint Template</dc:title>
</cp:coreProperties>
</file>