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4D06-D43C-4DDB-9A02-5512A75D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1D7-7623-440B-BA98-B1521BF8B7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7DBF-AAD3-4036-B498-D13C6AD00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7BD5-0124-48E8-8FA1-87D0C232C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C0A1-21EF-4A09-A866-626325F26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0573-7EF7-4298-83A5-C647DA691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5000" y="328320"/>
            <a:ext cx="64706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C853-3450-4B0D-9F1B-C3C6517AF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8C01-869D-4195-93B2-000DFE001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4075-DCC3-4C9C-BF75-72421A507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13BC-789F-4FA9-81F4-6A446DA4B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5000" y="328320"/>
            <a:ext cx="64706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66C7-5383-496D-9C27-A5C2D04E5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85B9-BA79-4530-AC0E-154AF3AF2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9DF7-C1CB-4CFB-8752-1BD1646F3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E64B-E8B8-4866-9212-7DEFD95EE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9" descr="2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371248D-5DC3-40B0-AC4D-77C76FA7F75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71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8"/>
          <p:cNvSpPr/>
          <p:nvPr/>
        </p:nvSpPr>
        <p:spPr>
          <a:xfrm>
            <a:off x="468360" y="914400"/>
            <a:ext cx="8207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0">
            <a:hlinkClick r:id="rId3"/>
          </p:cNvPr>
          <p:cNvSpPr/>
          <p:nvPr/>
        </p:nvSpPr>
        <p:spPr>
          <a:xfrm>
            <a:off x="0" y="6384960"/>
            <a:ext cx="8748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hom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9" descr="22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222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2360" y="3718080"/>
            <a:ext cx="887256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сихология и педагогика обучения одаренных дете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пособности к спорту и методы их диагностик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-36360" y="-33480"/>
            <a:ext cx="91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9160" y="4075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ческие методы в спор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следования ощущения и восприят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психомоторики спортсмен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памят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 мышления и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следования быстроты переработки информа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ованные самоотч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 лич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рогрессивных матриц Р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не­вербальным тестам. Он состоит из заданий возра­стающей трудности, которые представляют собой набор изображений, организованных по определенному закону Испытуемый должен раскрыть закономерность и вставить недо­стающее изобра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рогрессивных матриц Р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videoplayback (online-video-cutter.com).mp4" descr=""/>
          <p:cNvPicPr/>
          <p:nvPr/>
        </p:nvPicPr>
        <p:blipFill>
          <a:blip r:embed="rId1"/>
          <a:stretch/>
        </p:blipFill>
        <p:spPr>
          <a:xfrm>
            <a:off x="1387440" y="1004760"/>
            <a:ext cx="674676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ерская или социальная ода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ая, или социальная одаренность. Такая одаренность характеризуется способностью понимать других людей, строить с ними конструктивные отношения, руководить ими. Лидерская одаренность предполагает достаточно высокий уровень интеллекта, однако наряду с этим, необходима и хорошо развитая интуиция, понимание чувств и потребностей других людей, способность к сопережи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Lenovo\Desktop\IMG_2022-09-20.jpg"/>
          <p:cNvPicPr/>
          <p:nvPr/>
        </p:nvPicPr>
        <p:blipFill>
          <a:blip r:embed="rId1"/>
          <a:stretch/>
        </p:blipFill>
        <p:spPr>
          <a:xfrm>
            <a:off x="6165720" y="5183280"/>
            <a:ext cx="29782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хнологии формирования лидер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групповых предпочтений – выявление черт, которыми лидер должен обладать, по мнению группы, формирование идеального образа лид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подбор претендентов на лидерство. Социометрия внутри группы, выявление наиболее предпочтительных кандидатов внутри группы, анализ внешних кандидатов, предварительная оценка возможных последствий, при внедрении внешних кандид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лидера – подбор кандидата, подходящего под идеальный образ, оценка условий при которых лидер может состояться, формирование первичного имиджа лидера под ожидание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будущей команды лидера. Поиск проводника, формирование группы надеж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оманды лидера – процесс происходит постепенно, по мере формирования команды. Каждый публично представленный член команды получает пан доверия полномочий от лид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              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лидера по мобилизации группы на достижение поставленных целей и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50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одар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6680" y="1108080"/>
            <a:ext cx="8345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 комплекс природных качеств, дающих возможность достичь спортивных вершин в процессе многолетней трен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чи врожденными особенностями человека, они обуславливают определенный уровень его спортивных дости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еся спортивные достижения– это результат взаимодействия наследственных факторов и влияния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не являются врождённы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формируются в процессе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Lenovo\Desktop\Group_2_copy_2.png"/>
          <p:cNvPicPr/>
          <p:nvPr/>
        </p:nvPicPr>
        <p:blipFill>
          <a:blip r:embed="rId1"/>
          <a:stretch/>
        </p:blipFill>
        <p:spPr>
          <a:xfrm>
            <a:off x="4780080" y="3471840"/>
            <a:ext cx="411156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развити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3920"/>
            <a:ext cx="8207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ые общие способности. К ним можно отнести хорошее здоровье, нормальное физическое развитие, трудолюбие, настойчивость, работоспособность, интересы, склон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элементы спортивных способностей: быстрое освоение спортивной техники, умение адаптироваться к значительным мышечным напряжениям, высокий уровень функциональной подготовки, способность преодолевать утомление, успешное восстановление после тренировочных нагрузок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циальные элементы спортивных способностей: быстрый прирост спортивных результатов, высокий уровень развития специальных качеств, высокая мобилизация, готовность и устойчивость в условиях противоборства с противником и т.д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ьных видах спорта структура способностей неодинакова. Так, в циклических видах спорта важную роль в структуре способностей играют стабильность мышечно-двигательных дифферинцировок, "чувство темпа", "чувства ритма", способность к адекватным оценкам функциональ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оростно-силовых видах спорта важны точные мышечно-двигательные дифферинцировки, точная пространственно-временная ориентировка, "чувство ритма". В играх и единоборствах на первый план выступают психические качества, в основе которых лежит система процессов, определяющая возможность в кратчайшие сроки воспринимать возникающие ситуации, принимать и реализовывать творчески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специалисты одним из проявлений "двигательной одарённости" считают способность быстро, "буквально на лету", схватывать и запоминать технику выполнения сложных элементов, а также достаточно прочное её за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усилился генетический подход к проблеме спортивны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Астауров Б.Л. отмечает, что возможности воспитания и тренировки не беспредельны, их границы определены наследственной конституцией (генотипом) данного индивиду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 указывал ещё Ч.Дарвин. Он говорил, что воспитание и окружающая остановка производит лишь слабое влияние на способности человека, большинство которых в действительности являются врождё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Lenovo\Desktop\ДАРВИН.jpg"/>
          <p:cNvPicPr/>
          <p:nvPr/>
        </p:nvPicPr>
        <p:blipFill>
          <a:blip r:embed="rId1"/>
          <a:stretch/>
        </p:blipFill>
        <p:spPr>
          <a:xfrm>
            <a:off x="6757920" y="4178160"/>
            <a:ext cx="20862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ый фактор в значительной степени определяет физическое развитие, формирование двигательных качеств, аэробную и анаэробную производительность организма, величину прироста функциональных возможностей под влиянием спортивной трен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Lenovo\Desktop\16307132be5d4a165aa5f636c6c39256.jpg"/>
          <p:cNvPicPr/>
          <p:nvPr/>
        </p:nvPicPr>
        <p:blipFill>
          <a:blip r:embed="rId1"/>
          <a:stretch/>
        </p:blipFill>
        <p:spPr>
          <a:xfrm>
            <a:off x="4557600" y="3468600"/>
            <a:ext cx="428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32832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ко-биологические критерии одарённости в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возра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функциональные при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ункциональных и сенсорных систем организ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собенности высшей нерв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6440" y="328320"/>
            <a:ext cx="70992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е критерии одарённости в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физических качест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о-тактическая  подготов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о-техническое мастер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ы роста спортивных дост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ая обуч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ны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эффективному решению двигательных задач в условиях напряжённой борь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20840" y="469440"/>
            <a:ext cx="64706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диагностические методы в спор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нность любой методики в свете требований спортивной психо­диагностики заключается в возможности адекватно измерять значимые психологические характеристики спортсменов и на этой основе решать основные практические задачи - осуществлять отбор, определять уровень готовности и прогнозировать успешность спортивной деятельно­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Users\Lenovo\Desktop\lechenie-sosudov-mozga-narodnye-recepty-dlya-golovy-1.jpg"/>
          <p:cNvPicPr/>
          <p:nvPr/>
        </p:nvPicPr>
        <p:blipFill>
          <a:blip r:embed="rId1"/>
          <a:stretch/>
        </p:blipFill>
        <p:spPr>
          <a:xfrm>
            <a:off x="5256360" y="3978360"/>
            <a:ext cx="3398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Lenovo</cp:lastModifiedBy>
  <dcterms:modified xsi:type="dcterms:W3CDTF">2024-10-11T09:43:27Z</dcterms:modified>
  <cp:revision>184</cp:revision>
  <dc:subject/>
  <dc:title>PowerPoint Template</dc:title>
</cp:coreProperties>
</file>