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853C-25C8-4AE1-B913-70DA8C65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9A90-D51F-43E6-AA16-A118EA96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5B6-E293-4D79-9692-1908ED4D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EF4D-876B-484F-8573-83E9E514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DD87-A180-4582-9E07-D37282F6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3248-1CC5-4B11-A5AF-2EF2134E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B2E8-7CDD-47E2-A927-EEEA53B1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A733-38B1-4EB1-98CA-0209881B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38D5-F680-4FBA-A971-50776FA4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909B-3F69-48CC-9D7D-0B7E74C2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EC48-3611-4905-A475-1AAF7B3B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4312-D936-42DB-84A0-3830C6CE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2D5F-D40C-4CCF-B194-0477C8C1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0247-7175-4E68-A657-94EE5312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4AD9-8399-4A30-8918-032B8AB4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0C50-85FD-45C9-B2CE-30CC2B91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2264-80B2-4104-A0FA-FAFE8C75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F30-4BF2-443C-8235-32367ADC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213-FD2E-4D82-932E-44933B24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10A9-14B1-44DB-B25D-47C6105F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5630-7738-406B-8DB3-D83115BF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30B-09F8-40FF-92E1-84C3D0CD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D60-5B5C-45B4-A0D5-859565D6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329-5AD6-4601-83AC-67D18317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8B0A-F98C-4E5B-B933-B49EDAE96A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51C9-6E9A-419F-BD2A-18766770B9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kidwelcome.ru/zagadki-dlya-detei/pro-cveti" TargetMode="External"/><Relationship Id="rId2" Type="http://schemas.openxmlformats.org/officeDocument/2006/relationships/hyperlink" Target="http://kidsclever.ru/content/zagadki-pro-iris" TargetMode="External"/><Relationship Id="rId3" Type="http://schemas.openxmlformats.org/officeDocument/2006/relationships/hyperlink" Target="http://kidsclever.ru/content/zagadki-pro-iris" TargetMode="External"/><Relationship Id="rId4" Type="http://schemas.openxmlformats.org/officeDocument/2006/relationships/hyperlink" Target="http://kidsclever.ru/content/zagadki-pro-iris" TargetMode="External"/><Relationship Id="rId5" Type="http://schemas.openxmlformats.org/officeDocument/2006/relationships/hyperlink" Target="http://kidsclever.ru/content/zagadki-pro-iris" TargetMode="External"/><Relationship Id="rId6" Type="http://schemas.openxmlformats.org/officeDocument/2006/relationships/hyperlink" Target="http://kidsclever.ru/content/zagadki-pro-iris" TargetMode="External"/><Relationship Id="rId7" Type="http://schemas.openxmlformats.org/officeDocument/2006/relationships/hyperlink" Target="http://kidsclever.ru/content/zagadki-pro-iris" TargetMode="External"/><Relationship Id="rId8" Type="http://schemas.openxmlformats.org/officeDocument/2006/relationships/hyperlink" Target="http://kidsclever.ru/content/zagadki-pro-iris" TargetMode="External"/><Relationship Id="rId9" Type="http://schemas.openxmlformats.org/officeDocument/2006/relationships/hyperlink" Target="https://yandex.ru/images/search?img_url=http%3A%2F%2Fconventart.ru%2Fwa-data%2Fpublic%2Fshop%2Fproducts%2F06%2F55%2F5506%2Fimages%2F3285%2F3285.750x0.jpg&amp;text=&#1080;&#1088;&#1080;&#1089;%20&#1092;&#1086;&#1090;&#1086;&amp;noreask=1&amp;pos=11&amp;lr=194&amp;rpt=simage" TargetMode="External"/><Relationship Id="rId10" Type="http://schemas.openxmlformats.org/officeDocument/2006/relationships/hyperlink" Target="https://yandex.ru/images/search?text=&#1088;&#1086;&#1084;&#1072;&#1096;&#1082;&#1072;%20&#1092;&#1086;&#1090;&#1086;&amp;stype=image&amp;lr=194&amp;noreask=1&amp;parent-reqid=1489299607659024-8671049832962789443376504-ugr1-0117&amp;source=wiz" TargetMode="External"/><Relationship Id="rId11" Type="http://schemas.openxmlformats.org/officeDocument/2006/relationships/hyperlink" Target="https://yandex.ru/images/search?text=&#1083;&#1072;&#1085;&#1076;&#1099;&#1096;%20&#1092;&#1086;&#1090;&#1086;&amp;lr=194" TargetMode="External"/><Relationship Id="rId12" Type="http://schemas.openxmlformats.org/officeDocument/2006/relationships/hyperlink" Target="https://yandex.ru/images/search?text=&#1074;&#1072;&#1089;&#1080;&#1083;&#1105;&#1082;%20&#1092;&#1086;&#1090;&#1086;&amp;lr=194" TargetMode="External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Загадки про цвет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898560"/>
            <a:ext cx="807732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ВАСИЛЁК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00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лосится в поле рожь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ам, во ржи, цветок найдешь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рко-синий и пушистый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олько жаль, что не душистый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00400" y="3232080"/>
            <a:ext cx="3429000" cy="2921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743200" y="2666880"/>
            <a:ext cx="426708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РОЗ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 капризна и нежна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 любому празднику нужна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гу быть белой, желтой, красной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 остаюсь всегда прекрасной!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971800" y="28954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666880" y="2590920"/>
            <a:ext cx="42674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РОМАШК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8007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оит в саду кудряшка 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елая рубашка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рдечко золотое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 это такое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362320" y="2962440"/>
            <a:ext cx="4800600" cy="3000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56390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ЛАНДЫШ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36160" y="1143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елые горошки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зелёной ножк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4800600" cy="3605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56390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ИРИС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00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 — травянистое раст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 цветком сиреневого цвета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 переставьте ударение,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превращаюсь я в конфе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198960" cy="4800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470480" y="1371600"/>
            <a:ext cx="4292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ИСТОЧНИКИ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https://yandex.ru/images/search?img_url=http%3A%2F%2Fpreviews.123rf.com%2Fimages%2Fshutterboythailand%2Fshutterboythailand1406%2Fshutterboythailand140600301%2F29315103-question-mark-icon-Stock Photo.jpg&amp;text=знак%20вопроса%20фото&amp;noreask=1&amp;pos=14&amp;lr=194&amp;rpt=simage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kidwelcome.ru/zagadki-dlya-detei/pro-cveti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kidsclever.ru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content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zagadki-pro-iris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https://yandex.ru/images/search?img_url=http%3A%2F%2Fconventart.ru%2Fwa-data%2Fpublic%2Fshop%2Fproducts%2F06%2F55%2F5506%2Fimages%2F3285%2F3285.750x0.jpg&amp;text=ирис%20фото&amp;noreask=1&amp;pos=11&amp;lr=194&amp;rpt=sim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https://yandex.ru/images/search?text=ромашка%20фото&amp;stype=image&amp;lr=194&amp;noreask=1&amp;parent-reqid=1489299607659024-8671049832962789443376504-ugr1-0117&amp;source=wi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https://yandex.ru/images/search?text=ландыш%20фото&amp;lr=1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https://yandex.ru/images/search?text=василёк%20фото&amp;lr=1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https://yandex.ru/images/search?text=роза%20фото&amp;lr=1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ttps://yandex.ru/images/search?text=букетфото&amp;lr=19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1T13:13:29Z</dcterms:created>
  <dc:creator>Елена</dc:creator>
  <dc:description/>
  <dc:language>en-US</dc:language>
  <cp:lastModifiedBy>Microsoft Office</cp:lastModifiedBy>
  <dcterms:modified xsi:type="dcterms:W3CDTF">2017-03-12T06:30:2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