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B22-A855-412A-8C41-869DCD0C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872-0FBC-4369-8E91-01347ED9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460-F505-458B-A0C9-97C511A9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F2C-7720-4433-8C85-39D63388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D47F-BD20-4EEE-B914-B8C16763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F8C7-7E95-455B-ADA7-8AD9AEE7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C1C5-6B1B-4D61-9A36-196E46C3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FC49-D63E-4D68-8A3D-C40F6D6A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E46A-1B6F-4E55-ABE6-7780B559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664D-4A6E-495A-BF0E-D911919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D368-5817-4464-B642-3132849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404-9EAC-4CBA-8219-1819730F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651A-3FEE-43D2-B226-4A10BE4D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59D9-30A6-4D8B-AB3C-28E5B38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78B4-A248-47A9-857C-D4B154EF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7AC8-6F8D-44E9-9D42-AB949250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E5D2-CD0E-4CDC-BE8A-AE53C051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69E-CA81-4B05-B80F-A4008CC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758-8D2D-4C12-A7AF-09974B41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C9D-DC9E-437D-A1B6-2AC133F0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C0F-689E-4E3C-B691-D158A5C5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52E-B503-4C79-8DAD-39DBB4B5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3CB-90E5-4796-9740-2958866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0DC-8C21-4D9F-B898-0C103535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6066-C93C-4954-B544-DCB607C1FE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FCEF-8CCA-42D8-8947-EE8E485DB9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idwelcome.ru/zagadki-dlya-detei/pro-cveti" TargetMode="External"/><Relationship Id="rId2" Type="http://schemas.openxmlformats.org/officeDocument/2006/relationships/hyperlink" Target="http://kidsclever.ru/content/zagadki-pro-iris" TargetMode="External"/><Relationship Id="rId3" Type="http://schemas.openxmlformats.org/officeDocument/2006/relationships/hyperlink" Target="http://kidsclever.ru/content/zagadki-pro-iris" TargetMode="External"/><Relationship Id="rId4" Type="http://schemas.openxmlformats.org/officeDocument/2006/relationships/hyperlink" Target="http://kidsclever.ru/content/zagadki-pro-iris" TargetMode="External"/><Relationship Id="rId5" Type="http://schemas.openxmlformats.org/officeDocument/2006/relationships/hyperlink" Target="http://kidsclever.ru/content/zagadki-pro-iris" TargetMode="External"/><Relationship Id="rId6" Type="http://schemas.openxmlformats.org/officeDocument/2006/relationships/hyperlink" Target="http://kidsclever.ru/content/zagadki-pro-iris" TargetMode="External"/><Relationship Id="rId7" Type="http://schemas.openxmlformats.org/officeDocument/2006/relationships/hyperlink" Target="http://kidsclever.ru/content/zagadki-pro-iris" TargetMode="External"/><Relationship Id="rId8" Type="http://schemas.openxmlformats.org/officeDocument/2006/relationships/hyperlink" Target="http://kidsclever.ru/content/zagadki-pro-iris" TargetMode="External"/><Relationship Id="rId9" Type="http://schemas.openxmlformats.org/officeDocument/2006/relationships/hyperlink" Target="https://yandex.ru/images/search?img_url=http%3A%2F%2Fconventart.ru%2Fwa-data%2Fpublic%2Fshop%2Fproducts%2F06%2F55%2F5506%2Fimages%2F3285%2F3285.750x0.jpg&amp;text=&#1080;&#1088;&#1080;&#1089;%20&#1092;&#1086;&#1090;&#1086;&amp;noreask=1&amp;pos=11&amp;lr=194&amp;rpt=simage" TargetMode="External"/><Relationship Id="rId10" Type="http://schemas.openxmlformats.org/officeDocument/2006/relationships/hyperlink" Target="https://yandex.ru/images/search?text=&#1088;&#1086;&#1084;&#1072;&#1096;&#1082;&#1072;%20&#1092;&#1086;&#1090;&#1086;&amp;stype=image&amp;lr=194&amp;noreask=1&amp;parent-reqid=1489299607659024-8671049832962789443376504-ugr1-0117&amp;source=wiz" TargetMode="External"/><Relationship Id="rId11" Type="http://schemas.openxmlformats.org/officeDocument/2006/relationships/hyperlink" Target="https://yandex.ru/images/search?text=&#1083;&#1072;&#1085;&#1076;&#1099;&#1096;%20&#1092;&#1086;&#1090;&#1086;&amp;lr=194" TargetMode="External"/><Relationship Id="rId12" Type="http://schemas.openxmlformats.org/officeDocument/2006/relationships/hyperlink" Target="https://yandex.ru/images/search?text=&#1074;&#1072;&#1089;&#1080;&#1083;&#1105;&#1082;%20&#1092;&#1086;&#1090;&#1086;&amp;lr=194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гадки про цве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898560"/>
            <a:ext cx="807732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АСИЛЁК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осится в поле рож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м, во ржи, цветок найдешь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рко-синий и пушисты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лько жаль, что не душисты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3232080"/>
            <a:ext cx="342900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2666880"/>
            <a:ext cx="42670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ОЗ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капризна и нежна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 любому празднику нужн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гу быть белой, желтой, красно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остаюсь всегда прекрасной!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66880" y="2590920"/>
            <a:ext cx="42674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ОМАШ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007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оит в саду кудряшка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ая рубашка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дечко золотое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это такое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62320" y="2962440"/>
            <a:ext cx="48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639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ЛАНДЫШ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ые горошк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зелёной нож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800600" cy="360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639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РИС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0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— травянистое раст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цветком сиреневого цвет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переставьте ударение,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превращаюсь я в конф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19896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70480" y="1371600"/>
            <a:ext cx="4292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СТОЧНИКИ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s://yandex.ru/images/search?img_url=http%3A%2F%2Fpreviews.123rf.com%2Fimages%2Fshutterboythailand%2Fshutterboythailand1406%2Fshutterboythailand140600301%2F29315103-question-mark-icon-Stock Photo.jpg&amp;text=знак%20вопроса%20фото&amp;noreask=1&amp;pos=14&amp;lr=194&amp;rpt=simage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kidwelcome.ru/zagadki-dlya-detei/pro-cveti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kidsclever.ru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content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zagadki-pro-iri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https://yandex.ru/images/search?img_url=http%3A%2F%2Fconventart.ru%2Fwa-data%2Fpublic%2Fshop%2Fproducts%2F06%2F55%2F5506%2Fimages%2F3285%2F3285.750x0.jpg&amp;text=ирис%20фото&amp;noreask=1&amp;pos=11&amp;lr=194&amp;rpt=sim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https://yandex.ru/images/search?text=ромашка%20фото&amp;stype=image&amp;lr=194&amp;noreask=1&amp;parent-reqid=1489299607659024-8671049832962789443376504-ugr1-0117&amp;source=w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https://yandex.ru/images/search?text=ландыш%20фото&amp;lr=1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https://yandex.ru/images/search?text=василёк%20фото&amp;lr=1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s://yandex.ru/images/search?text=роза%20фото&amp;lr=1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s://yandex.ru/images/search?text=букетфото&amp;lr=1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1T13:13:29Z</dcterms:created>
  <dc:creator>Елена</dc:creator>
  <dc:description/>
  <dc:language>en-US</dc:language>
  <cp:lastModifiedBy>Microsoft Office</cp:lastModifiedBy>
  <dcterms:modified xsi:type="dcterms:W3CDTF">2017-03-12T06:30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