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752013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7A65-ABB1-4242-88DD-D4F6E187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79FB-32CA-45C0-9490-74B7EBC7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B187-7B9D-499A-A35E-1A127240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1F5B-1209-4308-A679-C6DBB988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FCE1-A66F-48FD-9BD6-4D4D107E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AC28-9348-4F30-9EFF-29A47465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A250-B6C6-429A-8B08-4CF624F4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E0C0-4590-453B-A333-85E40D1F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2000-A577-4BCC-B4FD-1C33E523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B823-F55F-4BCD-A96B-A52F4B74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3AE9-F8F6-4DE9-BD16-81156427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A659-AE41-4E53-A0BF-8FA9C610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ED97-E2E7-45F6-A7B5-6F47C682F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8b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704880" y="4965840"/>
            <a:ext cx="11161800" cy="3595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200160" y="512640"/>
            <a:ext cx="9353520" cy="44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69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Libre Baskerville Bold Italics"/>
              </a:rPr>
              <a:t>Концепция экологического образования в системе общего образования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69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0" y="4965840"/>
            <a:ext cx="2925720" cy="2925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2925720" y="4965840"/>
            <a:ext cx="2925720" cy="2925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5851440" y="4965840"/>
            <a:ext cx="2927520" cy="2925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5"/>
          <a:stretch/>
        </p:blipFill>
        <p:spPr>
          <a:xfrm>
            <a:off x="8778960" y="4965840"/>
            <a:ext cx="2925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8b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3606840" y="-216000"/>
            <a:ext cx="6784920" cy="809172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3314880" y="84240"/>
            <a:ext cx="6111720" cy="71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62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Libre Baskerville Italics"/>
              </a:rPr>
              <a:t>Концепция представляет собой систему взглядов на совершенствование экологического образования по формированию основ эко-культуры, обучающихся в сфере общего образования РФ.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196920" y="2193840"/>
            <a:ext cx="276048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0" t="12502" r="0" b="1250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679920" y="480960"/>
            <a:ext cx="5408640" cy="2417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674640" y="2511360"/>
            <a:ext cx="7661160" cy="385776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3808440" y="595440"/>
            <a:ext cx="5151240" cy="28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df8b"/>
                </a:solidFill>
                <a:latin typeface="Bebas Neue"/>
              </a:rPr>
              <a:t>ЗНАЧЕНИЕ КОНЦЕПЦИИ В СОВРЕМЕННОМ ОБРАЗОВАН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907920" y="2631960"/>
            <a:ext cx="7194600" cy="57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6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bas Neue Bold"/>
              </a:rPr>
              <a:t>УСПЕШНОСТЬ РАЗВИТИЯ ЧЕЛОВЕЧЕСКОГО КАПИТАЛА, КАЧЕСТВА ЖИЗНИ РОССИЯН, НАЦИОНАЛЬНОЙ БЕЗОПАСНОСТИ, ЕЕ КОНКУРЕНТОСПОСОБНОСТИ В МИРЕ</a:t>
            </a:r>
            <a:r>
              <a:rPr b="0" lang="en-US" sz="4000" spc="-1" strike="noStrike">
                <a:solidFill>
                  <a:srgbClr val="000000"/>
                </a:solidFill>
                <a:latin typeface="Bebas Neu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4"/>
          <a:stretch/>
        </p:blipFill>
        <p:spPr>
          <a:xfrm>
            <a:off x="-341280" y="890640"/>
            <a:ext cx="24987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495520" y="-969840"/>
            <a:ext cx="7661160" cy="978984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 rot="16200000">
            <a:off x="377280" y="2127240"/>
            <a:ext cx="3546720" cy="30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60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648b5f"/>
                </a:solidFill>
                <a:latin typeface="Bebas Neue"/>
              </a:rPr>
              <a:t>ПРОБЛЕМА РАЗВИТИЯ 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2843280" y="206280"/>
            <a:ext cx="6910200" cy="90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42960" indent="-320760" algn="ctr">
              <a:lnSpc>
                <a:spcPts val="41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bas Neue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Bebas Neue"/>
              </a:rPr>
              <a:t>ОБРАЗОВАНИЕ РЕАЛИЗУЕТСЯ ФРАГМЕНТАРНО И НЕ СВЯЗАННО МЕЖДУ СОБОЙ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42960" indent="-320760" algn="ctr">
              <a:lnSpc>
                <a:spcPts val="41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bas Neue"/>
              </a:rPr>
              <a:t>ОСТАЕТСЯ НИЗКОЙ ОСВЕДОМЛЁННОСТЬ ПЕД. РАБОТНИКОВ О ЗАДАЧАХ СОВРЕМЕННОГО ЭКОЛОГИЧЕСКОГО ВОСПИТАНИЯ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42960" indent="-320760" algn="ctr">
              <a:lnSpc>
                <a:spcPts val="41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bas Neue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Bebas Neue"/>
              </a:rPr>
              <a:t>ВНЕУРОЧНАЯ ДЕЯТЕЛЬНОСТЬ НОСИТ УЗКОСПЕЦИАЛЬНЫЙ ХАРАКТЕР, А НЕ ОБЩЕКУЛЬТУРНЫЙ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42960" indent="-320760" algn="ctr">
              <a:lnSpc>
                <a:spcPts val="41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bas Neue"/>
              </a:rPr>
              <a:t>СИСТЕМА ГОСУДАРСТВЕННОГО МОНИТОРИНГА РЕЗУЛЬТАТОВ ЭКОЛОГИЧЕСКОГО ОБРАЗОВАНИЯ ОТСУТСТВУЕТ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42960" indent="-320760" algn="ctr">
              <a:lnSpc>
                <a:spcPts val="41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bas Neue"/>
              </a:rPr>
              <a:t>ОХВАТ УЧАСТНИКОВ НЕ ВЕЛИ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0" t="12502" r="0" b="1250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674640" y="2511360"/>
            <a:ext cx="7661160" cy="3857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4726080" y="949320"/>
            <a:ext cx="4362480" cy="1949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974880" y="358920"/>
            <a:ext cx="3902040" cy="253980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811080" y="2925720"/>
            <a:ext cx="7388280" cy="34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93560" indent="-245880">
              <a:lnSpc>
                <a:spcPts val="536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Libre Baskerville Italics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Libre Baskerville Italics"/>
              </a:rPr>
              <a:t>совершенствование экологического образования для формирования у обучающихся базовых основ современной экологической культур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5164200" y="1523880"/>
            <a:ext cx="34891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6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545454"/>
                </a:solidFill>
                <a:latin typeface="Bebas Neue"/>
              </a:rPr>
              <a:t>ЦЕЛЬ: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0" t="12502" r="0" b="1250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1093680" y="596880"/>
            <a:ext cx="8506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8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adf8b"/>
                </a:solidFill>
                <a:latin typeface="Bebas Neue"/>
              </a:rPr>
              <a:t>ЗАДАЧИ: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41120" y="1461960"/>
            <a:ext cx="9458640" cy="53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31640" indent="-215640">
              <a:lnSpc>
                <a:spcPts val="4686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Libre Baskerville Italics"/>
              </a:rPr>
              <a:t>·обновить экологическое образование в системе общего образова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31640" indent="-215640">
              <a:lnSpc>
                <a:spcPts val="4686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Libre Baskerville Italics"/>
              </a:rPr>
              <a:t>·модернизировать систему подготовки и дополнительного профессионального образования педагогических работников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31640" indent="-215640">
              <a:lnSpc>
                <a:spcPts val="4686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Libre Baskerville Italics"/>
              </a:rPr>
              <a:t>·обеспечить совершенствование системы экологического просвещения участников образовательных отношений во взаимодействии с организациями просвещения, культуры, С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2"/>
          <a:srcRect l="0" t="49389" r="0" b="49389"/>
          <a:stretch/>
        </p:blipFill>
        <p:spPr>
          <a:xfrm>
            <a:off x="-2527200" y="1503360"/>
            <a:ext cx="8350200" cy="1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8b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762280" y="-209520"/>
            <a:ext cx="6113520" cy="8496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-1600200" y="266760"/>
            <a:ext cx="6904080" cy="26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04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100" spc="-1" strike="noStrike">
                <a:solidFill>
                  <a:srgbClr val="545454"/>
                </a:solidFill>
                <a:latin typeface="Bebas Neue"/>
              </a:rPr>
              <a:t>КРИТЕРИИ</a:t>
            </a: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 rot="7467000">
            <a:off x="714960" y="1815120"/>
            <a:ext cx="1736640" cy="525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3"/>
          <a:stretch/>
        </p:blipFill>
        <p:spPr>
          <a:xfrm rot="6330000">
            <a:off x="1691640" y="2385720"/>
            <a:ext cx="2454120" cy="74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4"/>
          <a:stretch/>
        </p:blipFill>
        <p:spPr>
          <a:xfrm rot="4266600">
            <a:off x="3252240" y="2074680"/>
            <a:ext cx="1957680" cy="592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5"/>
          <a:stretch/>
        </p:blipFill>
        <p:spPr>
          <a:xfrm rot="2624400">
            <a:off x="4874760" y="1751040"/>
            <a:ext cx="2165400" cy="654120"/>
          </a:xfrm>
          <a:prstGeom prst="rect">
            <a:avLst/>
          </a:prstGeom>
          <a:ln w="0">
            <a:noFill/>
          </a:ln>
        </p:spPr>
      </p:pic>
      <p:sp>
        <p:nvSpPr>
          <p:cNvPr id="75" name="TextBox 8"/>
          <p:cNvSpPr/>
          <p:nvPr/>
        </p:nvSpPr>
        <p:spPr>
          <a:xfrm>
            <a:off x="7089840" y="665280"/>
            <a:ext cx="241776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bas Neue Bold"/>
              </a:rPr>
              <a:t>ЭКОЛОГИЧЕС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bas Neue Bold"/>
              </a:rPr>
              <a:t>ОТВЕТСТВЕННО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bas Neue Bold"/>
              </a:rPr>
              <a:t>МИРОВОЗЗР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6"/>
          <a:stretch/>
        </p:blipFill>
        <p:spPr>
          <a:xfrm rot="1815600">
            <a:off x="5317920" y="796680"/>
            <a:ext cx="1958760" cy="592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7"/>
          <a:stretch/>
        </p:blipFill>
        <p:spPr>
          <a:xfrm>
            <a:off x="2751120" y="5003640"/>
            <a:ext cx="6124680" cy="2273400"/>
          </a:xfrm>
          <a:prstGeom prst="rect">
            <a:avLst/>
          </a:prstGeom>
          <a:ln w="0">
            <a:noFill/>
          </a:ln>
        </p:spPr>
      </p:pic>
      <p:sp>
        <p:nvSpPr>
          <p:cNvPr id="78" name="TextBox 11"/>
          <p:cNvSpPr/>
          <p:nvPr/>
        </p:nvSpPr>
        <p:spPr>
          <a:xfrm>
            <a:off x="39600" y="2765520"/>
            <a:ext cx="291960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bas Neue Bold"/>
              </a:rPr>
              <a:t>ЭКОЛОГИЧЕСКАЯ ГРАМОТНОСТ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704880" y="3833640"/>
            <a:ext cx="2482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bas Neue Bold"/>
              </a:rPr>
              <a:t>ЭКОЛОГО-КУЛЬТУРНАЯ ГРАМОТНОСТ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2762280" y="3260880"/>
            <a:ext cx="387828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bas Neue Bold"/>
              </a:rPr>
              <a:t>ЭКОЛОГИЧЕСКОЕ БЕЗОПАСНОЕ ПОВЕД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6669000" y="2830680"/>
            <a:ext cx="240660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bas Neue Bold"/>
              </a:rPr>
              <a:t>ЭКОЛОГИЧЕСКО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bas Neue Bold"/>
              </a:rPr>
              <a:t>МЫШЛЕНИ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0" t="11133" r="0" b="13868"/>
          <a:stretch/>
        </p:blipFill>
        <p:spPr>
          <a:xfrm>
            <a:off x="-14400" y="-228600"/>
            <a:ext cx="9753840" cy="7575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7791480" y="-590400"/>
            <a:ext cx="6113520" cy="849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-380880" y="995400"/>
            <a:ext cx="9786960" cy="575316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123840" y="-128520"/>
            <a:ext cx="6057720" cy="21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5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adf8b"/>
                </a:solidFill>
                <a:latin typeface="Bebas Neue"/>
              </a:rPr>
              <a:t>ОБЕСПЕЧЕНИЕ НЕПРЕРЫВНОСТ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3240" y="1214280"/>
            <a:ext cx="386388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5760" indent="-227160">
              <a:lnSpc>
                <a:spcPts val="378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ibre Baskerville Bold Italics"/>
              </a:rPr>
              <a:t>в рамках дошкольного образования – первичная грамотность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5760" indent="-227160">
              <a:lnSpc>
                <a:spcPts val="378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ibre Baskerville Bold Italics"/>
              </a:rPr>
              <a:t>начальное образование и 5-6 классы – формирование связи экологического и патриотического воспитани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572000" y="1158840"/>
            <a:ext cx="48639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6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3483000" y="1116000"/>
            <a:ext cx="4378320" cy="67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5760" indent="-227160">
              <a:lnSpc>
                <a:spcPts val="378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ibre Baskerville Bold Italics"/>
              </a:rPr>
              <a:t>основное общее образование (7-9 классы) – реализуется взаимосвязь экологического, правового, патриотического и нравственного воспитани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5760" indent="-227160">
              <a:lnSpc>
                <a:spcPts val="378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ibre Baskerville Bold Italics"/>
              </a:rPr>
              <a:t>среднее общее образование – реализуется во взаимосвязи эколого-патриотического, трудового и гражданского воспитани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0" t="12502" r="0" b="1250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666720" y="-247680"/>
            <a:ext cx="6113520" cy="849636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0" y="1420920"/>
            <a:ext cx="9753480" cy="65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19120" indent="-258840">
              <a:lnSpc>
                <a:spcPts val="4311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ibre Baskerville"/>
              </a:rPr>
              <a:t>осведомленность участников образовательных отношений в вопросах экологически безопасного поведения, устойчивого (биосферосовместимого) развит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9120" indent="-258840">
              <a:lnSpc>
                <a:spcPts val="4311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ibre Baskerville"/>
              </a:rPr>
              <a:t>повышение экологической грамотности участников образовательных отношений, в том числе путем вовлечения обучающихся в экологическое просвещение среди родителе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9120" indent="-258840">
              <a:lnSpc>
                <a:spcPts val="4311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ibre Baskerville"/>
              </a:rPr>
              <a:t>обновление ресурсов (нормативно-правовых, программно-методических, кадровых, информационных и др.) развития системы экологического образования и просвещ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388800" y="523800"/>
            <a:ext cx="6251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5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48b5f"/>
                </a:solidFill>
                <a:latin typeface="Bebas Neue Bold"/>
              </a:rPr>
              <a:t>В РЕЗУЛЬТАТ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2465280" y="1241280"/>
            <a:ext cx="8350200" cy="1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Юлия Гусева</dc:creator>
  <dc:description/>
  <dc:language>en-US</dc:language>
  <cp:lastModifiedBy>ylkarazvivalka@mail.ru</cp:lastModifiedBy>
  <dcterms:modified xsi:type="dcterms:W3CDTF">2023-03-27T05:57:04Z</dcterms:modified>
  <cp:revision>3</cp:revision>
  <dc:subject/>
  <dc:title>Концепция экологического образования в системе общего образования</dc:title>
</cp:coreProperties>
</file>