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752013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208-6C12-4EAB-BB55-AE7A7889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408-534F-411D-A16B-E5336E64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320-974C-4B2E-9308-796BFB8B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225-5E48-44CA-93B8-59D8F7CC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DCC-759F-452A-9077-BE43C1A0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96F-F55B-4720-829E-6D541C68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62B-702C-4F8D-BFDF-A69B0702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DB9-7EC3-42D4-A4F7-6CF314A5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557-D019-40ED-B260-B02840D5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880-39B4-4534-BD2F-230AF531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7FA-9ED5-46F4-87B9-22A21F9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17D-528C-430C-995B-B37E2D7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23E-3DA5-434C-ABC3-6C8F39E3D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8b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704880" y="4965840"/>
            <a:ext cx="11161800" cy="359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00160" y="512640"/>
            <a:ext cx="935352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9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Libre Baskerville Bold Italics"/>
              </a:rPr>
              <a:t>Концепция экологического образования в системе общего образования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69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0" y="496584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2925720" y="496584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5851440" y="4965840"/>
            <a:ext cx="2927520" cy="292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8778960" y="496584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8b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606840" y="-216000"/>
            <a:ext cx="6784920" cy="8091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314880" y="84240"/>
            <a:ext cx="6111720" cy="71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6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Libre Baskerville Italics"/>
              </a:rPr>
              <a:t>Концепция представляет собой систему взглядов на совершенствование экологического образования по формированию основ эко-культуры, обучающихся в сфере общего образования РФ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96920" y="2193840"/>
            <a:ext cx="27604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679920" y="480960"/>
            <a:ext cx="5408640" cy="241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74640" y="2511360"/>
            <a:ext cx="7661160" cy="3857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3808440" y="595440"/>
            <a:ext cx="5151240" cy="28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df8b"/>
                </a:solidFill>
                <a:latin typeface="Bebas Neue"/>
              </a:rPr>
              <a:t>ЗНАЧЕНИЕ КОНЦЕПЦИИ В СОВРЕМЕННОМ ОБРАЗОВАН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907920" y="2631960"/>
            <a:ext cx="7194600" cy="57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bas Neue Bold"/>
              </a:rPr>
              <a:t>УСПЕШНОСТЬ РАЗВИТИЯ ЧЕЛОВЕЧЕСКОГО КАПИТАЛА, КАЧЕСТВА ЖИЗНИ РОССИЯН, НАЦИОНАЛЬНОЙ БЕЗОПАСНОСТИ, ЕЕ КОНКУРЕНТОСПОСОБНОСТИ В МИРЕ</a:t>
            </a:r>
            <a:r>
              <a:rPr b="0" lang="en-US" sz="4000" spc="-1" strike="noStrike">
                <a:solidFill>
                  <a:srgbClr val="000000"/>
                </a:solidFill>
                <a:latin typeface="Bebas Neu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-341280" y="890640"/>
            <a:ext cx="24987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95520" y="-969840"/>
            <a:ext cx="7661160" cy="97898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 rot="16200000">
            <a:off x="377280" y="2127240"/>
            <a:ext cx="3546720" cy="30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0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48b5f"/>
                </a:solidFill>
                <a:latin typeface="Bebas Neue"/>
              </a:rPr>
              <a:t>ПРОБЛЕМА РАЗВИТИЯ 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843280" y="206280"/>
            <a:ext cx="6910200" cy="90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ОБРАЗОВАНИЕ РЕАЛИЗУЕТСЯ ФРАГМЕНТАРНО И НЕ СВЯЗАННО МЕЖДУ СОБО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ОСТАЕТСЯ НИЗКОЙ ОСВЕДОМЛЁННОСТЬ ПЕД. РАБОТНИКОВ О ЗАДАЧАХ СОВРЕМЕННОГО ЭКОЛОГИЧЕСКОГО ВОСПИТАНИ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ВНЕУРОЧНАЯ ДЕЯТЕЛЬНОСТЬ НОСИТ УЗКОСПЕЦИАЛЬНЫЙ ХАРАКТЕР, А НЕ ОБЩЕКУЛЬТУРНЫ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СИСТЕМА ГОСУДАРСТВЕННОГО МОНИТОРИНГА РЕЗУЛЬТАТОВ ЭКОЛОГИЧЕСКОГО ОБРАЗОВАНИЯ ОТСУТСТВУЕ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42960" indent="-320760" algn="ctr">
              <a:lnSpc>
                <a:spcPts val="41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bas Neue"/>
              </a:rPr>
              <a:t>ОХВАТ УЧАСТНИКОВ НЕ ВЕ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74640" y="2511360"/>
            <a:ext cx="7661160" cy="385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4726080" y="949320"/>
            <a:ext cx="4362480" cy="194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974880" y="358920"/>
            <a:ext cx="3902040" cy="2539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811080" y="2925720"/>
            <a:ext cx="738828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93560" indent="-245880">
              <a:lnSpc>
                <a:spcPts val="536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Libre Baskerville Italics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Libre Baskerville Italics"/>
              </a:rPr>
              <a:t>совершенствование экологического образования для формирования у обучающихся базовых основ современной экологической культу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5164200" y="1523880"/>
            <a:ext cx="3489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545454"/>
                </a:solidFill>
                <a:latin typeface="Bebas Neue"/>
              </a:rPr>
              <a:t>ЦЕЛЬ: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093680" y="596880"/>
            <a:ext cx="850608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8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adf8b"/>
                </a:solidFill>
                <a:latin typeface="Bebas Neue"/>
              </a:rPr>
              <a:t>ЗАДАЧИ: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41120" y="1461960"/>
            <a:ext cx="945864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31640" indent="-215640">
              <a:lnSpc>
                <a:spcPts val="4686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ibre Baskerville Italics"/>
              </a:rPr>
              <a:t>·обновить экологическое образование в системе общего образов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31640" indent="-215640">
              <a:lnSpc>
                <a:spcPts val="4686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ibre Baskerville Italics"/>
              </a:rPr>
              <a:t>·модернизировать систему подготовки и дополнительного профессионального образования педагогических работник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31640" indent="-215640">
              <a:lnSpc>
                <a:spcPts val="4686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Libre Baskerville Italics"/>
              </a:rPr>
              <a:t>·обеспечить совершенствование системы экологического просвещения участников образовательных отношений во взаимодействии с организациями просвещения, культуры, С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rcRect l="0" t="49389" r="0" b="49389"/>
          <a:stretch/>
        </p:blipFill>
        <p:spPr>
          <a:xfrm>
            <a:off x="-2527200" y="1503360"/>
            <a:ext cx="835020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8b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62280" y="-209520"/>
            <a:ext cx="6113520" cy="8496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-1600200" y="266760"/>
            <a:ext cx="690408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0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100" spc="-1" strike="noStrike">
                <a:solidFill>
                  <a:srgbClr val="545454"/>
                </a:solidFill>
                <a:latin typeface="Bebas Neue"/>
              </a:rPr>
              <a:t>КРИТЕРИИ</a:t>
            </a:r>
            <a:endParaRPr b="0" lang="en-US" sz="1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 rot="7467000">
            <a:off x="714960" y="1815120"/>
            <a:ext cx="1736640" cy="525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 rot="6330000">
            <a:off x="1691640" y="2385720"/>
            <a:ext cx="2454120" cy="74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4"/>
          <a:stretch/>
        </p:blipFill>
        <p:spPr>
          <a:xfrm rot="4266600">
            <a:off x="3252240" y="2074680"/>
            <a:ext cx="1957680" cy="59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5"/>
          <a:stretch/>
        </p:blipFill>
        <p:spPr>
          <a:xfrm rot="2624400">
            <a:off x="4874760" y="1751040"/>
            <a:ext cx="2165400" cy="654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7089840" y="665280"/>
            <a:ext cx="241776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ЭКОЛОГИЧЕС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ОТВЕТСТВЕННО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МИРОВОЗЗР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6"/>
          <a:stretch/>
        </p:blipFill>
        <p:spPr>
          <a:xfrm rot="1815600">
            <a:off x="5317920" y="796680"/>
            <a:ext cx="1958760" cy="5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2751120" y="5003640"/>
            <a:ext cx="6124680" cy="2273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1"/>
          <p:cNvSpPr/>
          <p:nvPr/>
        </p:nvSpPr>
        <p:spPr>
          <a:xfrm>
            <a:off x="39600" y="2765520"/>
            <a:ext cx="29196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bas Neue Bold"/>
              </a:rPr>
              <a:t>ЭКОЛОГИЧЕСКАЯ ГРАМОТНОС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704880" y="3833640"/>
            <a:ext cx="2482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bas Neue Bold"/>
              </a:rPr>
              <a:t>ЭКОЛОГО-КУЛЬТУРНАЯ ГРАМОТНОС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2762280" y="3260880"/>
            <a:ext cx="3878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ЭКОЛОГИЧЕСКОЕ БЕЗОПАСНОЕ ПОВЕД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6669000" y="2830680"/>
            <a:ext cx="24066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ЭКОЛОГИЧЕСКО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bas Neue Bold"/>
              </a:rPr>
              <a:t>МЫШЛЕНИ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11133" r="0" b="13868"/>
          <a:stretch/>
        </p:blipFill>
        <p:spPr>
          <a:xfrm>
            <a:off x="-14400" y="-228600"/>
            <a:ext cx="9753840" cy="757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7791480" y="-590400"/>
            <a:ext cx="6113520" cy="849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-380880" y="995400"/>
            <a:ext cx="9786960" cy="5753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23840" y="-128520"/>
            <a:ext cx="605772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df8b"/>
                </a:solidFill>
                <a:latin typeface="Bebas Neue"/>
              </a:rPr>
              <a:t>ОБЕСПЕЧЕНИЕ НЕПРЕРЫВНОС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240" y="1214280"/>
            <a:ext cx="386388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227160">
              <a:lnSpc>
                <a:spcPts val="378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ibre Baskerville Bold Italics"/>
              </a:rPr>
              <a:t>в рамках дошкольного образования – первичная грамотность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-227160">
              <a:lnSpc>
                <a:spcPts val="378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ibre Baskerville Bold Italics"/>
              </a:rPr>
              <a:t>начальное образование и 5-6 классы – формирование связи экологического и патриотического воспитан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572000" y="1158840"/>
            <a:ext cx="4863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483000" y="1116000"/>
            <a:ext cx="4378320" cy="67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227160">
              <a:lnSpc>
                <a:spcPts val="378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ibre Baskerville Bold Italics"/>
              </a:rPr>
              <a:t>основное общее образование (7-9 классы) – реализуется взаимосвязь экологического, правового, патриотического и нравственного воспитан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-227160">
              <a:lnSpc>
                <a:spcPts val="378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Libre Baskerville Bold Italics"/>
              </a:rPr>
              <a:t>среднее общее образование – реализуется во взаимосвязи эколого-патриотического, трудового и гражданского воспитан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0" t="12502" r="0" b="1250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66720" y="-247680"/>
            <a:ext cx="6113520" cy="8496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0" y="1420920"/>
            <a:ext cx="975348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19120" indent="-258840">
              <a:lnSpc>
                <a:spcPts val="4311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ibre Baskerville"/>
              </a:rPr>
              <a:t>осведомленность участников образовательных отношений в вопросах экологически безопасного поведения, устойчивого (биосферосовместимого) развит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9120" indent="-258840">
              <a:lnSpc>
                <a:spcPts val="4311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ibre Baskerville"/>
              </a:rPr>
              <a:t>повышение экологической грамотности участников образовательных отношений, в том числе путем вовлечения обучающихся в экологическое просвещение среди родител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9120" indent="-258840">
              <a:lnSpc>
                <a:spcPts val="4311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ibre Baskerville"/>
              </a:rPr>
              <a:t>обновление ресурсов (нормативно-правовых, программно-методических, кадровых, информационных и др.) развития системы экологического образования и просве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88800" y="523800"/>
            <a:ext cx="6251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5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48b5f"/>
                </a:solidFill>
                <a:latin typeface="Bebas Neue Bold"/>
              </a:rPr>
              <a:t>В РЕЗУЛЬТАТ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2465280" y="1241280"/>
            <a:ext cx="8350200" cy="1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Юлия Гусева</dc:creator>
  <dc:description/>
  <dc:language>en-US</dc:language>
  <cp:lastModifiedBy>ylkarazvivalka@mail.ru</cp:lastModifiedBy>
  <dcterms:modified xsi:type="dcterms:W3CDTF">2023-03-27T05:57:04Z</dcterms:modified>
  <cp:revision>3</cp:revision>
  <dc:subject/>
  <dc:title>Концепция экологического образования в системе общего образования</dc:title>
</cp:coreProperties>
</file>