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20.gif" ContentType="image/gif"/>
  <Override PartName="/ppt/media/image13.jpeg" ContentType="image/jpeg"/>
  <Override PartName="/ppt/media/image1.gif" ContentType="image/gif"/>
  <Override PartName="/ppt/media/image4.png" ContentType="image/png"/>
  <Override PartName="/ppt/media/image3.png" ContentType="image/png"/>
  <Override PartName="/ppt/media/applause.wav" ContentType="audio/x-wav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9DEF-F850-49A4-BBFD-FDFC88DA47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82BB-2753-4D98-941B-70018917D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6654-CE16-45C0-99C8-EBDC4589A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22EA-55D7-4CE9-8ECF-1C5774D8E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BFD-3FE1-4B35-BD97-8D97EE62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BEE-24AC-4491-BFBD-C105D973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1B5-D592-4D00-A63F-7EF52A72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057-044F-43D0-901D-AD103050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5B8-8F74-475E-AF88-C92D1B67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BEB-25D8-4EE2-BB78-A3268934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691-5DD7-451F-AC4B-C82C5351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191-A95A-4ACF-B84C-21C340BE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A7B-61D6-416E-A6BE-9320ABE1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2BE-B05D-4DD7-AFC2-67EEC29E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000-167C-4019-AF6C-DFBF4327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AAC-24C3-4DA9-8626-71A192B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F32A-7716-40A6-A7E0-ABF9C0E1E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audio" Target="../media/applause.wav"/><Relationship Id="rId16" Type="http://schemas.openxmlformats.org/officeDocument/2006/relationships/audio" Target="../media/applaus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applause.wav"/><Relationship Id="rId20" Type="http://schemas.openxmlformats.org/officeDocument/2006/relationships/audio" Target="../media/applause.wav"/><Relationship Id="rId21" Type="http://schemas.openxmlformats.org/officeDocument/2006/relationships/audio" Target="../media/applause.wav"/><Relationship Id="rId22" Type="http://schemas.openxmlformats.org/officeDocument/2006/relationships/audio" Target="../media/applause.wav"/><Relationship Id="rId23" Type="http://schemas.openxmlformats.org/officeDocument/2006/relationships/audio" Target="../media/applause.wav"/><Relationship Id="rId24" Type="http://schemas.openxmlformats.org/officeDocument/2006/relationships/audio" Target="../media/applause.wav"/><Relationship Id="rId25" Type="http://schemas.openxmlformats.org/officeDocument/2006/relationships/audio" Target="../media/applause.wav"/><Relationship Id="rId26" Type="http://schemas.openxmlformats.org/officeDocument/2006/relationships/audio" Target="../media/applause.wav"/><Relationship Id="rId27" Type="http://schemas.openxmlformats.org/officeDocument/2006/relationships/audio" Target="../media/applause.wav"/><Relationship Id="rId28" Type="http://schemas.openxmlformats.org/officeDocument/2006/relationships/audio" Target="../media/applause.wav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file:///&#1059;&#1084;&#1085;&#1080;&#1094;&#1099;%20&#1080;%20&#1091;&#1084;&#1085;&#1080;&#1082;&#1080;.ppt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&#1059;&#1084;&#1085;&#1080;&#1094;&#1099;%20&#1080;%20&#1091;&#1084;&#1085;&#1080;&#1082;&#1080;.ppt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hyperlink" Target="file:///&#1059;&#1084;&#1085;&#1080;&#1094;&#1099;%20&#1080;%20&#1091;&#1084;&#1085;&#1080;&#1082;&#1080;.ppt" TargetMode="External"/><Relationship Id="rId14" Type="http://schemas.openxmlformats.org/officeDocument/2006/relationships/hyperlink" Target="file:///usr/lib/libreoffice/share/gallery/sounds/applause.wav" TargetMode="Externa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8.xml"/><Relationship Id="rId18" Type="http://schemas.openxmlformats.org/officeDocument/2006/relationships/hyperlink" Target="file:///usr/lib/libreoffice/share/gallery/sounds/applause.wav" TargetMode="External"/><Relationship Id="rId19" Type="http://schemas.openxmlformats.org/officeDocument/2006/relationships/hyperlink" Target="file:///&#1059;&#1084;&#1085;&#1080;&#1094;&#1099;%20&#1080;%20&#1091;&#1084;&#1085;&#1080;&#1082;&#1080;.ppt" TargetMode="External"/><Relationship Id="rId20" Type="http://schemas.openxmlformats.org/officeDocument/2006/relationships/hyperlink" Target="file:///&#1059;&#1084;&#1085;&#1080;&#1094;&#1099;%20&#1080;%20&#1091;&#1084;&#1085;&#1080;&#1082;&#1080;.ppt" TargetMode="External"/><Relationship Id="rId21" Type="http://schemas.openxmlformats.org/officeDocument/2006/relationships/hyperlink" Target="file:///&#1059;&#1084;&#1085;&#1080;&#1094;&#1099;%20&#1080;%20&#1091;&#1084;&#1085;&#1080;&#1082;&#1080;.ppt" TargetMode="External"/><Relationship Id="rId22" Type="http://schemas.openxmlformats.org/officeDocument/2006/relationships/hyperlink" Target="file:///&#1059;&#1084;&#1085;&#1080;&#1094;&#1099;%20&#1080;%20&#1091;&#1084;&#1085;&#1080;&#1082;&#1080;.ppt" TargetMode="External"/><Relationship Id="rId23" Type="http://schemas.openxmlformats.org/officeDocument/2006/relationships/hyperlink" Target="file:///&#1059;&#1084;&#1085;&#1080;&#1094;&#1099;%20&#1080;%20&#1091;&#1084;&#1085;&#1080;&#1082;&#1080;.ppt" TargetMode="External"/><Relationship Id="rId24" Type="http://schemas.openxmlformats.org/officeDocument/2006/relationships/hyperlink" Target="file:///&#1059;&#1084;&#1085;&#1080;&#1094;&#1099;%20&#1080;%20&#1091;&#1084;&#1085;&#1080;&#1082;&#1080;.ppt" TargetMode="External"/><Relationship Id="rId25" Type="http://schemas.openxmlformats.org/officeDocument/2006/relationships/hyperlink" Target="file:///&#1059;&#1084;&#1085;&#1080;&#1094;&#1099;%20&#1080;%20&#1091;&#1084;&#1085;&#1080;&#1082;&#1080;.ppt" TargetMode="External"/><Relationship Id="rId26" Type="http://schemas.openxmlformats.org/officeDocument/2006/relationships/hyperlink" Target="file:///usr/lib/libreoffice/share/gallery/sounds/applause.wav" TargetMode="External"/><Relationship Id="rId27" Type="http://schemas.openxmlformats.org/officeDocument/2006/relationships/slide" Target="slide5.xml"/><Relationship Id="rId28" Type="http://schemas.openxmlformats.org/officeDocument/2006/relationships/hyperlink" Target="file:///usr/lib/libreoffice/share/gallery/sounds/applause.wav" TargetMode="External"/><Relationship Id="rId29" Type="http://schemas.openxmlformats.org/officeDocument/2006/relationships/slide" Target="slide10.xml"/><Relationship Id="rId30" Type="http://schemas.openxmlformats.org/officeDocument/2006/relationships/slide" Target="slide10.xml"/><Relationship Id="rId31" Type="http://schemas.openxmlformats.org/officeDocument/2006/relationships/slide" Target="slide5.xml"/><Relationship Id="rId32" Type="http://schemas.openxmlformats.org/officeDocument/2006/relationships/slide" Target="slide5.xml"/><Relationship Id="rId33" Type="http://schemas.openxmlformats.org/officeDocument/2006/relationships/slide" Target="slide5.xml"/><Relationship Id="rId34" Type="http://schemas.openxmlformats.org/officeDocument/2006/relationships/hyperlink" Target="file:///usr/lib/libreoffice/share/gallery/sounds/applause.wav" TargetMode="External"/><Relationship Id="rId35" Type="http://schemas.openxmlformats.org/officeDocument/2006/relationships/hyperlink" Target="file:///usr/lib/libreoffice/share/gallery/sounds/applause.wav" TargetMode="External"/><Relationship Id="rId36" Type="http://schemas.openxmlformats.org/officeDocument/2006/relationships/image" Target="../media/image1.gif"/><Relationship Id="rId37" Type="http://schemas.openxmlformats.org/officeDocument/2006/relationships/image" Target="../media/image3.png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video/&#1084;&#1099;&#1096;&#1100;%20&#1082;&#1083;&#1072;&#1074;&#1080;&#1072;&#1090;&#1091;&#1088;&#1072;%20&#1073;&#1083;&#1086;&#1082;%20&#1087;&#1080;&#1090;&#1072;&#1085;&#1080;&#1103;.mpg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image" Target="../media/image1.gif"/><Relationship Id="rId13" Type="http://schemas.openxmlformats.org/officeDocument/2006/relationships/slide" Target="slide10.xml"/><Relationship Id="rId14" Type="http://schemas.openxmlformats.org/officeDocument/2006/relationships/image" Target="../media/image6.jpeg"/><Relationship Id="rId15" Type="http://schemas.openxmlformats.org/officeDocument/2006/relationships/slide" Target="slide10.xml"/><Relationship Id="rId16" Type="http://schemas.openxmlformats.org/officeDocument/2006/relationships/image" Target="../media/image7.jpeg"/><Relationship Id="rId17" Type="http://schemas.openxmlformats.org/officeDocument/2006/relationships/slide" Target="slide10.xml"/><Relationship Id="rId18" Type="http://schemas.openxmlformats.org/officeDocument/2006/relationships/image" Target="../media/image8.jpeg"/><Relationship Id="rId19" Type="http://schemas.openxmlformats.org/officeDocument/2006/relationships/slide" Target="slide10.xml"/><Relationship Id="rId20" Type="http://schemas.openxmlformats.org/officeDocument/2006/relationships/image" Target="../media/image9.jpeg"/><Relationship Id="rId21" Type="http://schemas.openxmlformats.org/officeDocument/2006/relationships/slide" Target="slide6.xml"/><Relationship Id="rId22" Type="http://schemas.openxmlformats.org/officeDocument/2006/relationships/image" Target="../media/image10.jpeg"/><Relationship Id="rId23" Type="http://schemas.openxmlformats.org/officeDocument/2006/relationships/slide" Target="slide6.xml"/><Relationship Id="rId24" Type="http://schemas.openxmlformats.org/officeDocument/2006/relationships/image" Target="../media/image11.jpeg"/><Relationship Id="rId25" Type="http://schemas.openxmlformats.org/officeDocument/2006/relationships/slide" Target="slide6.xml"/><Relationship Id="rId26" Type="http://schemas.openxmlformats.org/officeDocument/2006/relationships/image" Target="../media/image12.jpeg"/><Relationship Id="rId27" Type="http://schemas.openxmlformats.org/officeDocument/2006/relationships/slide" Target="slide6.xml"/><Relationship Id="rId28" Type="http://schemas.openxmlformats.org/officeDocument/2006/relationships/image" Target="../media/image13.jpeg"/><Relationship Id="rId29" Type="http://schemas.openxmlformats.org/officeDocument/2006/relationships/image" Target="../media/image3.png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hyperlink" Target="file:///IGRA/comandi2.sb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hyperlink" Target="file:///IGRA/comandi2.sb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usr/lib/libreoffice/share/gallery/sounds/applause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slide" Target="slide9.xml"/><Relationship Id="rId14" Type="http://schemas.openxmlformats.org/officeDocument/2006/relationships/hyperlink" Target="file:///usr/lib/libreoffice/share/gallery/sounds/applause.wav" TargetMode="Externa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9.xml"/><Relationship Id="rId18" Type="http://schemas.openxmlformats.org/officeDocument/2006/relationships/hyperlink" Target="file:///usr/lib/libreoffice/share/gallery/sounds/applause.wav" TargetMode="Externa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hyperlink" Target="file:///usr/lib/libreoffice/share/gallery/sounds/applause.wav" TargetMode="External"/><Relationship Id="rId24" Type="http://schemas.openxmlformats.org/officeDocument/2006/relationships/hyperlink" Target="file:///usr/lib/libreoffice/share/gallery/sounds/applause.wav" TargetMode="External"/><Relationship Id="rId25" Type="http://schemas.openxmlformats.org/officeDocument/2006/relationships/image" Target="../media/image1.gif"/><Relationship Id="rId26" Type="http://schemas.openxmlformats.org/officeDocument/2006/relationships/image" Target="../media/image14.jpe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8.png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215D-7FB5-4CF9-BE91-F5AF5FF067D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кладная инфор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44DD-6425-4741-AFA3-4B851420B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Умники и умниц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G00317_"/>
          <p:cNvPicPr/>
          <p:nvPr/>
        </p:nvPicPr>
        <p:blipFill>
          <a:blip r:embed="rId1"/>
          <a:stretch/>
        </p:blipFill>
        <p:spPr>
          <a:xfrm>
            <a:off x="357120" y="-214200"/>
            <a:ext cx="2879640" cy="2714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684360" y="3213000"/>
            <a:ext cx="78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оу-игра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03 - D.Modena - Mystical Force.mp3" descr=""/>
          <p:cNvPicPr/>
          <p:nvPr/>
        </p:nvPicPr>
        <p:blipFill>
          <a:blip r:embed="rId4"/>
          <a:stretch/>
        </p:blipFill>
        <p:spPr>
          <a:xfrm>
            <a:off x="1429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WordArt 3"/>
          <p:cNvSpPr txBox="1"/>
          <p:nvPr/>
        </p:nvSpPr>
        <p:spPr>
          <a:xfrm>
            <a:off x="971640" y="1916280"/>
            <a:ext cx="748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большое за игр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2" name="Picture 4" descr="image004"/>
          <p:cNvPicPr/>
          <p:nvPr/>
        </p:nvPicPr>
        <p:blipFill>
          <a:blip r:embed="rId1"/>
          <a:stretch/>
        </p:blipFill>
        <p:spPr>
          <a:xfrm>
            <a:off x="3643200" y="285840"/>
            <a:ext cx="2016360" cy="1425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AG00557_"/>
          <p:cNvPicPr/>
          <p:nvPr/>
        </p:nvPicPr>
        <p:blipFill>
          <a:blip r:embed="rId2"/>
          <a:stretch/>
        </p:blipFill>
        <p:spPr>
          <a:xfrm>
            <a:off x="1928880" y="3789360"/>
            <a:ext cx="5256000" cy="3068640"/>
          </a:xfrm>
          <a:prstGeom prst="rect">
            <a:avLst/>
          </a:prstGeom>
          <a:ln w="0">
            <a:noFill/>
          </a:ln>
        </p:spPr>
      </p:pic>
      <p:pic>
        <p:nvPicPr>
          <p:cNvPr id="414" name="Bad - Безобразие1.mp3" descr=""/>
          <p:cNvPicPr/>
          <p:nvPr/>
        </p:nvPicPr>
        <p:blipFill>
          <a:blip r:embed="rId3"/>
          <a:stretch/>
        </p:blipFill>
        <p:spPr>
          <a:xfrm>
            <a:off x="828684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0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1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2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4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6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2" dur="2694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091A-60C3-4AF4-A2D3-19E62C068E3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кладная инфор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5E0F-D6F6-4B07-804D-64FB565ECE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G00317_"/>
          <p:cNvPicPr/>
          <p:nvPr/>
        </p:nvPicPr>
        <p:blipFill>
          <a:blip r:embed="rId1"/>
          <a:stretch/>
        </p:blipFill>
        <p:spPr>
          <a:xfrm>
            <a:off x="539640" y="25560"/>
            <a:ext cx="2880000" cy="2465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Жеребьев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920" y="3068640"/>
            <a:ext cx="9136080" cy="20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ребуютс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2 смельча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92A5-B1D6-4A61-B995-4CC90C6FCF4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кладная инфор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4F21-F343-4CD8-B696-9EA594C23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3 - D.Modena - Mystical Force.mp3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244800" cy="244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Умники и умниц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920" y="3068640"/>
            <a:ext cx="9136080" cy="20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Встречаются  команд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БИТ» и «БАЙ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G00317_"/>
          <p:cNvPicPr/>
          <p:nvPr/>
        </p:nvPicPr>
        <p:blipFill>
          <a:blip r:embed="rId2"/>
          <a:stretch/>
        </p:blipFill>
        <p:spPr>
          <a:xfrm>
            <a:off x="539640" y="25560"/>
            <a:ext cx="2880000" cy="24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0"/>
          <p:cNvSpPr/>
          <p:nvPr/>
        </p:nvSpPr>
        <p:spPr>
          <a:xfrm>
            <a:off x="3059280" y="2924280"/>
            <a:ext cx="2879640" cy="720720"/>
          </a:xfrm>
          <a:custGeom>
            <a:avLst/>
            <a:gdLst>
              <a:gd name="textAreaLeft" fmla="*/ 46440 w 2879640"/>
              <a:gd name="textAreaRight" fmla="*/ 2833200 w 287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86271" h="21600">
                <a:moveTo>
                  <a:pt x="0" y="0"/>
                </a:moveTo>
                <a:lnTo>
                  <a:pt x="86271" y="0"/>
                </a:lnTo>
                <a:lnTo>
                  <a:pt x="86271" y="21600"/>
                </a:lnTo>
                <a:lnTo>
                  <a:pt x="0" y="21600"/>
                </a:lnTo>
                <a:close/>
              </a:path>
              <a:path fill="lightenLess" w="86271" h="21600">
                <a:moveTo>
                  <a:pt x="0" y="0"/>
                </a:moveTo>
                <a:lnTo>
                  <a:pt x="86271" y="0"/>
                </a:lnTo>
                <a:lnTo>
                  <a:pt x="84871" y="1400"/>
                </a:lnTo>
                <a:lnTo>
                  <a:pt x="1400" y="1400"/>
                </a:lnTo>
                <a:close/>
              </a:path>
              <a:path fill="darken" w="86271" h="21600">
                <a:moveTo>
                  <a:pt x="86271" y="0"/>
                </a:moveTo>
                <a:lnTo>
                  <a:pt x="86271" y="21600"/>
                </a:lnTo>
                <a:lnTo>
                  <a:pt x="84871" y="20200"/>
                </a:lnTo>
                <a:lnTo>
                  <a:pt x="84871" y="1400"/>
                </a:lnTo>
                <a:close/>
              </a:path>
              <a:path fill="darkenLess" w="86271" h="21600">
                <a:moveTo>
                  <a:pt x="86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71" y="20200"/>
                </a:lnTo>
                <a:close/>
              </a:path>
              <a:path fill="lighten" w="86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О П Р О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395280" y="620640"/>
            <a:ext cx="10810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АЛ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395280" y="270828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6"/>
          <p:cNvSpPr/>
          <p:nvPr/>
        </p:nvSpPr>
        <p:spPr>
          <a:xfrm>
            <a:off x="7236000" y="270828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395280" y="1268280"/>
            <a:ext cx="4105440" cy="72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4643280" y="1268280"/>
            <a:ext cx="4105440" cy="72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0"/>
          <p:cNvSpPr/>
          <p:nvPr/>
        </p:nvSpPr>
        <p:spPr>
          <a:xfrm>
            <a:off x="39528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667640" y="620640"/>
            <a:ext cx="10810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АЛ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1619280" y="620640"/>
            <a:ext cx="223200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Б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5292720" y="620640"/>
            <a:ext cx="223200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Б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3419640" y="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М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395280" y="2276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,,,,,,,,,,,,,,,,,,,,,,,,,,,,,,,,,,,,,,,,,,,,,,,,,,,,,,,,,,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4500720" y="2276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,,,,,,,,,,,,,,,,,,,,,,,,,,,,,,,,,,,,,,,,,,,,,,,,,,,,,,,,,,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2"/>
          <p:cNvSpPr/>
          <p:nvPr/>
        </p:nvSpPr>
        <p:spPr>
          <a:xfrm>
            <a:off x="817236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4"/>
          <p:cNvSpPr/>
          <p:nvPr/>
        </p:nvSpPr>
        <p:spPr>
          <a:xfrm>
            <a:off x="104292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5"/>
          <p:cNvSpPr/>
          <p:nvPr/>
        </p:nvSpPr>
        <p:spPr>
          <a:xfrm>
            <a:off x="1692360" y="134136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6"/>
          <p:cNvSpPr/>
          <p:nvPr/>
        </p:nvSpPr>
        <p:spPr>
          <a:xfrm>
            <a:off x="752472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7"/>
          <p:cNvSpPr/>
          <p:nvPr/>
        </p:nvSpPr>
        <p:spPr>
          <a:xfrm>
            <a:off x="687708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234000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298764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363528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3"/>
          <p:cNvSpPr/>
          <p:nvPr/>
        </p:nvSpPr>
        <p:spPr>
          <a:xfrm>
            <a:off x="622764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4"/>
          <p:cNvSpPr/>
          <p:nvPr/>
        </p:nvSpPr>
        <p:spPr>
          <a:xfrm>
            <a:off x="558000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5"/>
          <p:cNvSpPr/>
          <p:nvPr/>
        </p:nvSpPr>
        <p:spPr>
          <a:xfrm>
            <a:off x="4932360" y="134136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6"/>
          <p:cNvSpPr/>
          <p:nvPr/>
        </p:nvSpPr>
        <p:spPr>
          <a:xfrm>
            <a:off x="395280" y="3357720"/>
            <a:ext cx="2089080" cy="720720"/>
          </a:xfrm>
          <a:custGeom>
            <a:avLst/>
            <a:gdLst>
              <a:gd name="textAreaLeft" fmla="*/ 46440 w 2089080"/>
              <a:gd name="textAreaRight" fmla="*/ 2042640 w 2089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2589" h="21600">
                <a:moveTo>
                  <a:pt x="0" y="0"/>
                </a:moveTo>
                <a:lnTo>
                  <a:pt x="62589" y="0"/>
                </a:lnTo>
                <a:lnTo>
                  <a:pt x="62589" y="21600"/>
                </a:lnTo>
                <a:lnTo>
                  <a:pt x="0" y="21600"/>
                </a:lnTo>
                <a:close/>
              </a:path>
              <a:path fill="lightenLess" w="62589" h="21600">
                <a:moveTo>
                  <a:pt x="0" y="0"/>
                </a:moveTo>
                <a:lnTo>
                  <a:pt x="62589" y="0"/>
                </a:lnTo>
                <a:lnTo>
                  <a:pt x="61189" y="1400"/>
                </a:lnTo>
                <a:lnTo>
                  <a:pt x="1400" y="1400"/>
                </a:lnTo>
                <a:close/>
              </a:path>
              <a:path fill="darken" w="62589" h="21600">
                <a:moveTo>
                  <a:pt x="62589" y="0"/>
                </a:moveTo>
                <a:lnTo>
                  <a:pt x="62589" y="21600"/>
                </a:lnTo>
                <a:lnTo>
                  <a:pt x="61189" y="20200"/>
                </a:lnTo>
                <a:lnTo>
                  <a:pt x="61189" y="1400"/>
                </a:lnTo>
                <a:close/>
              </a:path>
              <a:path fill="darkenLess" w="62589" h="21600">
                <a:moveTo>
                  <a:pt x="62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89" y="20200"/>
                </a:lnTo>
                <a:close/>
              </a:path>
              <a:path fill="lighten" w="62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7"/>
          <p:cNvSpPr/>
          <p:nvPr/>
        </p:nvSpPr>
        <p:spPr>
          <a:xfrm>
            <a:off x="6659640" y="3357720"/>
            <a:ext cx="2089080" cy="720720"/>
          </a:xfrm>
          <a:custGeom>
            <a:avLst/>
            <a:gdLst>
              <a:gd name="textAreaLeft" fmla="*/ 46440 w 2089080"/>
              <a:gd name="textAreaRight" fmla="*/ 2042640 w 2089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2589" h="21600">
                <a:moveTo>
                  <a:pt x="0" y="0"/>
                </a:moveTo>
                <a:lnTo>
                  <a:pt x="62589" y="0"/>
                </a:lnTo>
                <a:lnTo>
                  <a:pt x="62589" y="21600"/>
                </a:lnTo>
                <a:lnTo>
                  <a:pt x="0" y="21600"/>
                </a:lnTo>
                <a:close/>
              </a:path>
              <a:path fill="lightenLess" w="62589" h="21600">
                <a:moveTo>
                  <a:pt x="0" y="0"/>
                </a:moveTo>
                <a:lnTo>
                  <a:pt x="62589" y="0"/>
                </a:lnTo>
                <a:lnTo>
                  <a:pt x="61189" y="1400"/>
                </a:lnTo>
                <a:lnTo>
                  <a:pt x="1400" y="1400"/>
                </a:lnTo>
                <a:close/>
              </a:path>
              <a:path fill="darken" w="62589" h="21600">
                <a:moveTo>
                  <a:pt x="62589" y="0"/>
                </a:moveTo>
                <a:lnTo>
                  <a:pt x="62589" y="21600"/>
                </a:lnTo>
                <a:lnTo>
                  <a:pt x="61189" y="20200"/>
                </a:lnTo>
                <a:lnTo>
                  <a:pt x="61189" y="1400"/>
                </a:lnTo>
                <a:close/>
              </a:path>
              <a:path fill="darkenLess" w="62589" h="21600">
                <a:moveTo>
                  <a:pt x="62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89" y="20200"/>
                </a:lnTo>
                <a:close/>
              </a:path>
              <a:path fill="lighten" w="62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полн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39528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9"/>
          <p:cNvSpPr/>
          <p:nvPr/>
        </p:nvSpPr>
        <p:spPr>
          <a:xfrm>
            <a:off x="971640" y="198900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154764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1"/>
          <p:cNvSpPr/>
          <p:nvPr/>
        </p:nvSpPr>
        <p:spPr>
          <a:xfrm>
            <a:off x="212400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2"/>
          <p:cNvSpPr/>
          <p:nvPr/>
        </p:nvSpPr>
        <p:spPr>
          <a:xfrm>
            <a:off x="270036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3"/>
          <p:cNvSpPr/>
          <p:nvPr/>
        </p:nvSpPr>
        <p:spPr>
          <a:xfrm>
            <a:off x="3276720" y="198900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4" descr="AG00317_"/>
          <p:cNvPicPr/>
          <p:nvPr/>
        </p:nvPicPr>
        <p:blipFill>
          <a:blip r:embed="rId1"/>
          <a:stretch/>
        </p:blipFill>
        <p:spPr>
          <a:xfrm>
            <a:off x="4140360" y="404640"/>
            <a:ext cx="936360" cy="8017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66"/>
          <p:cNvSpPr/>
          <p:nvPr/>
        </p:nvSpPr>
        <p:spPr>
          <a:xfrm>
            <a:off x="3995640" y="6237360"/>
            <a:ext cx="1081080" cy="3585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5082" h="21600">
                <a:moveTo>
                  <a:pt x="0" y="0"/>
                </a:moveTo>
                <a:lnTo>
                  <a:pt x="65082" y="0"/>
                </a:lnTo>
                <a:lnTo>
                  <a:pt x="65082" y="21600"/>
                </a:lnTo>
                <a:lnTo>
                  <a:pt x="0" y="21600"/>
                </a:lnTo>
                <a:close/>
              </a:path>
              <a:path fill="lightenLess" w="65082" h="21600">
                <a:moveTo>
                  <a:pt x="0" y="0"/>
                </a:moveTo>
                <a:lnTo>
                  <a:pt x="65082" y="0"/>
                </a:lnTo>
                <a:lnTo>
                  <a:pt x="63682" y="1400"/>
                </a:lnTo>
                <a:lnTo>
                  <a:pt x="1400" y="1400"/>
                </a:lnTo>
                <a:close/>
              </a:path>
              <a:path fill="darken" w="65082" h="21600">
                <a:moveTo>
                  <a:pt x="65082" y="0"/>
                </a:moveTo>
                <a:lnTo>
                  <a:pt x="65082" y="21600"/>
                </a:lnTo>
                <a:lnTo>
                  <a:pt x="63682" y="20200"/>
                </a:lnTo>
                <a:lnTo>
                  <a:pt x="63682" y="1400"/>
                </a:lnTo>
                <a:close/>
              </a:path>
              <a:path fill="darkenLess" w="65082" h="21600">
                <a:moveTo>
                  <a:pt x="6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82" y="20200"/>
                </a:lnTo>
                <a:close/>
              </a:path>
              <a:path fill="lighten" w="6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 в е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7"/>
          <p:cNvSpPr/>
          <p:nvPr/>
        </p:nvSpPr>
        <p:spPr>
          <a:xfrm>
            <a:off x="810108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8"/>
          <p:cNvSpPr/>
          <p:nvPr/>
        </p:nvSpPr>
        <p:spPr>
          <a:xfrm>
            <a:off x="752472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9"/>
          <p:cNvSpPr/>
          <p:nvPr/>
        </p:nvSpPr>
        <p:spPr>
          <a:xfrm>
            <a:off x="694836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0"/>
          <p:cNvSpPr/>
          <p:nvPr/>
        </p:nvSpPr>
        <p:spPr>
          <a:xfrm>
            <a:off x="6372360" y="1989000"/>
            <a:ext cx="57600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1"/>
          <p:cNvSpPr/>
          <p:nvPr/>
        </p:nvSpPr>
        <p:spPr>
          <a:xfrm>
            <a:off x="579600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2"/>
          <p:cNvSpPr/>
          <p:nvPr/>
        </p:nvSpPr>
        <p:spPr>
          <a:xfrm>
            <a:off x="5219640" y="1989000"/>
            <a:ext cx="57636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3" descr="0-22"/>
          <p:cNvPicPr/>
          <p:nvPr/>
        </p:nvPicPr>
        <p:blipFill>
          <a:blip r:embed="rId2"/>
          <a:stretch/>
        </p:blipFill>
        <p:spPr>
          <a:xfrm>
            <a:off x="4140360" y="5516640"/>
            <a:ext cx="792000" cy="657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4"/>
          <p:cNvSpPr/>
          <p:nvPr/>
        </p:nvSpPr>
        <p:spPr>
          <a:xfrm>
            <a:off x="900000" y="4076640"/>
            <a:ext cx="7417080" cy="936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имя основателя фирм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5"/>
          <p:cNvSpPr/>
          <p:nvPr/>
        </p:nvSpPr>
        <p:spPr>
          <a:xfrm>
            <a:off x="2192400" y="0"/>
            <a:ext cx="449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илл Гейт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8"/>
          <p:cNvSpPr/>
          <p:nvPr/>
        </p:nvSpPr>
        <p:spPr>
          <a:xfrm>
            <a:off x="0" y="4076640"/>
            <a:ext cx="9144000" cy="720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анель инструментов для работы с 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9"/>
          <p:cNvSpPr/>
          <p:nvPr/>
        </p:nvSpPr>
        <p:spPr>
          <a:xfrm>
            <a:off x="977400" y="0"/>
            <a:ext cx="718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нель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орматир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0"/>
          <p:cNvSpPr/>
          <p:nvPr/>
        </p:nvSpPr>
        <p:spPr>
          <a:xfrm>
            <a:off x="395280" y="4076640"/>
            <a:ext cx="842472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единицу измерения количества электри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1"/>
          <p:cNvSpPr/>
          <p:nvPr/>
        </p:nvSpPr>
        <p:spPr>
          <a:xfrm>
            <a:off x="3278520" y="907920"/>
            <a:ext cx="24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ул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2"/>
          <p:cNvSpPr/>
          <p:nvPr/>
        </p:nvSpPr>
        <p:spPr>
          <a:xfrm>
            <a:off x="0" y="4076640"/>
            <a:ext cx="914400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мы не получаем ожога от кратковременного кас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ячего утюга мокрыми ру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лота, выделяемая утюгом, и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испарение воды и охлаждает ру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4"/>
          <p:cNvSpPr/>
          <p:nvPr/>
        </p:nvSpPr>
        <p:spPr>
          <a:xfrm>
            <a:off x="826920" y="4076640"/>
            <a:ext cx="741708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4fae8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ячеек имеет диапазон А1:В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9"/>
          <p:cNvGrpSpPr/>
          <p:nvPr/>
        </p:nvGrpSpPr>
        <p:grpSpPr>
          <a:xfrm>
            <a:off x="3419640" y="0"/>
            <a:ext cx="2231640" cy="1726920"/>
            <a:chOff x="3419640" y="0"/>
            <a:chExt cx="2231640" cy="1726920"/>
          </a:xfrm>
        </p:grpSpPr>
        <p:pic>
          <p:nvPicPr>
            <p:cNvPr id="119" name="Picture 115" descr=""/>
            <p:cNvPicPr/>
            <p:nvPr/>
          </p:nvPicPr>
          <p:blipFill>
            <a:blip r:embed="rId3"/>
            <a:srcRect l="0" t="21707" r="80472" b="62321"/>
            <a:stretch/>
          </p:blipFill>
          <p:spPr>
            <a:xfrm>
              <a:off x="3419640" y="0"/>
              <a:ext cx="2231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8"/>
            <p:cNvSpPr/>
            <p:nvPr/>
          </p:nvSpPr>
          <p:spPr>
            <a:xfrm>
              <a:off x="4565520" y="665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20"/>
          <p:cNvSpPr/>
          <p:nvPr/>
        </p:nvSpPr>
        <p:spPr>
          <a:xfrm>
            <a:off x="395280" y="4149720"/>
            <a:ext cx="835344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ют гипертекстовые документы, котор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овокупности составля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Й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1"/>
          <p:cNvSpPr/>
          <p:nvPr/>
        </p:nvSpPr>
        <p:spPr>
          <a:xfrm>
            <a:off x="2340000" y="0"/>
            <a:ext cx="435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ани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2"/>
          <p:cNvSpPr/>
          <p:nvPr/>
        </p:nvSpPr>
        <p:spPr>
          <a:xfrm>
            <a:off x="395280" y="4076640"/>
            <a:ext cx="835344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действие электрического 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ует у сверхпроводни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3"/>
          <p:cNvSpPr/>
          <p:nvPr/>
        </p:nvSpPr>
        <p:spPr>
          <a:xfrm>
            <a:off x="3060360" y="0"/>
            <a:ext cx="286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пло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4"/>
          <p:cNvSpPr/>
          <p:nvPr/>
        </p:nvSpPr>
        <p:spPr>
          <a:xfrm>
            <a:off x="826920" y="4076640"/>
            <a:ext cx="741708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заставить воду кипеть при комна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туре в домашних условия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5"/>
          <p:cNvSpPr/>
          <p:nvPr/>
        </p:nvSpPr>
        <p:spPr>
          <a:xfrm>
            <a:off x="539640" y="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нить давление. Налить в шприц воду, затем закр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ьцем отверстие и резко  вытяну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шень до крайнего пол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6"/>
          <p:cNvSpPr/>
          <p:nvPr/>
        </p:nvSpPr>
        <p:spPr>
          <a:xfrm>
            <a:off x="1116000" y="4149720"/>
            <a:ext cx="6912000" cy="79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содержит имя файла и указывает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 его размещения на ди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7"/>
          <p:cNvSpPr/>
          <p:nvPr/>
        </p:nvSpPr>
        <p:spPr>
          <a:xfrm>
            <a:off x="3349440" y="0"/>
            <a:ext cx="23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8"/>
          <p:cNvSpPr/>
          <p:nvPr/>
        </p:nvSpPr>
        <p:spPr>
          <a:xfrm>
            <a:off x="395280" y="4076640"/>
            <a:ext cx="835344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и когда была создана первая ЭВ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9"/>
          <p:cNvSpPr/>
          <p:nvPr/>
        </p:nvSpPr>
        <p:spPr>
          <a:xfrm>
            <a:off x="2631960" y="260280"/>
            <a:ext cx="378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ША, 1945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0"/>
          <p:cNvSpPr/>
          <p:nvPr/>
        </p:nvSpPr>
        <p:spPr>
          <a:xfrm>
            <a:off x="395280" y="4076640"/>
            <a:ext cx="8353440" cy="792360"/>
          </a:xfrm>
          <a:prstGeom prst="rect">
            <a:avLst/>
          </a:prstGeom>
          <a:gradFill rotWithShape="0">
            <a:gsLst>
              <a:gs pos="0">
                <a:srgbClr val="a4fae8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растения не следует поливать в то врем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на них падают солнечные лу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2"/>
          <p:cNvSpPr/>
          <p:nvPr/>
        </p:nvSpPr>
        <p:spPr>
          <a:xfrm>
            <a:off x="468360" y="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как капельки воды подобны собирающим линзам, поэтому растение может получить ожог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3"/>
          <p:cNvSpPr/>
          <p:nvPr/>
        </p:nvSpPr>
        <p:spPr>
          <a:xfrm>
            <a:off x="395280" y="4076640"/>
            <a:ext cx="8353440" cy="1008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то, что позволяет оказаться снач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дном месте, а потом в другом, без него не было бы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4"/>
          <p:cNvSpPr/>
          <p:nvPr/>
        </p:nvSpPr>
        <p:spPr>
          <a:xfrm>
            <a:off x="3278160" y="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9"/>
          <p:cNvSpPr/>
          <p:nvPr/>
        </p:nvSpPr>
        <p:spPr>
          <a:xfrm>
            <a:off x="815184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13 - D.Modena - Song Of Babe Jane.mp3" descr=""/>
          <p:cNvPicPr/>
          <p:nvPr/>
        </p:nvPicPr>
        <p:blipFill>
          <a:blip r:embed="rId4"/>
          <a:stretch/>
        </p:blipFill>
        <p:spPr>
          <a:xfrm>
            <a:off x="8429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evt="onNext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0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5" dur="20367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нкурс 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13 - D.Modena - Song Of Babe Jane.mp3" descr=""/>
          <p:cNvPicPr/>
          <p:nvPr/>
        </p:nvPicPr>
        <p:blipFill>
          <a:blip r:embed="rId1"/>
          <a:stretch/>
        </p:blipFill>
        <p:spPr>
          <a:xfrm>
            <a:off x="539640" y="6453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39" name="03 - D.Modena - Mystical Force.mp3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179280" y="1268280"/>
            <a:ext cx="8785440" cy="97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ичество баллов: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…………………………………………………………………………………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17928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Что называют файло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6">
            <a:hlinkClick r:id="rId4"/>
          </p:cNvPr>
          <p:cNvSpPr/>
          <p:nvPr/>
        </p:nvSpPr>
        <p:spPr>
          <a:xfrm>
            <a:off x="2484360" y="2997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9"/>
          <p:cNvSpPr/>
          <p:nvPr/>
        </p:nvSpPr>
        <p:spPr>
          <a:xfrm>
            <a:off x="262728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0"/>
          <p:cNvSpPr/>
          <p:nvPr/>
        </p:nvSpPr>
        <p:spPr>
          <a:xfrm>
            <a:off x="313200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Что называют архиваци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1">
            <a:hlinkClick r:id="rId6"/>
          </p:cNvPr>
          <p:cNvSpPr/>
          <p:nvPr/>
        </p:nvSpPr>
        <p:spPr>
          <a:xfrm>
            <a:off x="543564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2"/>
          <p:cNvSpPr/>
          <p:nvPr/>
        </p:nvSpPr>
        <p:spPr>
          <a:xfrm>
            <a:off x="3203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3"/>
          <p:cNvSpPr/>
          <p:nvPr/>
        </p:nvSpPr>
        <p:spPr>
          <a:xfrm>
            <a:off x="608472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чему в руке металл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ложка кажется знач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холоднее, чем деревянна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4">
            <a:hlinkClick r:id="rId10"/>
          </p:cNvPr>
          <p:cNvSpPr/>
          <p:nvPr/>
        </p:nvSpPr>
        <p:spPr>
          <a:xfrm>
            <a:off x="838836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5"/>
          <p:cNvSpPr/>
          <p:nvPr/>
        </p:nvSpPr>
        <p:spPr>
          <a:xfrm>
            <a:off x="3780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4"/>
          <p:cNvSpPr/>
          <p:nvPr/>
        </p:nvSpPr>
        <p:spPr>
          <a:xfrm>
            <a:off x="17928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Почему вода га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огонь костр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5">
            <a:hlinkClick r:id="rId14"/>
          </p:cNvPr>
          <p:cNvSpPr/>
          <p:nvPr/>
        </p:nvSpPr>
        <p:spPr>
          <a:xfrm>
            <a:off x="2484360" y="443700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8406"/>
                </a:moveTo>
                <a:lnTo>
                  <a:pt x="16283" y="8406"/>
                </a:lnTo>
                <a:lnTo>
                  <a:pt x="20705" y="3794"/>
                </a:lnTo>
                <a:lnTo>
                  <a:pt x="20705" y="17806"/>
                </a:lnTo>
                <a:lnTo>
                  <a:pt x="16283" y="13194"/>
                </a:lnTo>
                <a:lnTo>
                  <a:pt x="11853" y="13194"/>
                </a:lnTo>
                <a:close/>
              </a:path>
              <a:path fill="darken" w="37719" h="21600">
                <a:moveTo>
                  <a:pt x="22359" y="10800"/>
                </a:moveTo>
                <a:lnTo>
                  <a:pt x="25866" y="10800"/>
                </a:lnTo>
              </a:path>
              <a:path fill="darken" w="37719" h="21600">
                <a:moveTo>
                  <a:pt x="22359" y="8406"/>
                </a:moveTo>
                <a:lnTo>
                  <a:pt x="25866" y="5639"/>
                </a:lnTo>
              </a:path>
              <a:path fill="darken" w="37719" h="21600">
                <a:moveTo>
                  <a:pt x="22359" y="13194"/>
                </a:moveTo>
                <a:lnTo>
                  <a:pt x="2586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7"/>
          <p:cNvSpPr/>
          <p:nvPr/>
        </p:nvSpPr>
        <p:spPr>
          <a:xfrm>
            <a:off x="435600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8"/>
          <p:cNvSpPr/>
          <p:nvPr/>
        </p:nvSpPr>
        <p:spPr>
          <a:xfrm>
            <a:off x="313200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Как падает челове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когда споткнется и ког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оскользнет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9">
            <a:hlinkClick r:id="rId18"/>
          </p:cNvPr>
          <p:cNvSpPr/>
          <p:nvPr/>
        </p:nvSpPr>
        <p:spPr>
          <a:xfrm>
            <a:off x="543564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1"/>
          <p:cNvSpPr/>
          <p:nvPr/>
        </p:nvSpPr>
        <p:spPr>
          <a:xfrm>
            <a:off x="493236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2"/>
          <p:cNvSpPr/>
          <p:nvPr/>
        </p:nvSpPr>
        <p:spPr>
          <a:xfrm>
            <a:off x="608472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Как называют фалы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ра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сширением  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rar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zi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3">
            <a:hlinkClick r:id="rId26"/>
          </p:cNvPr>
          <p:cNvSpPr/>
          <p:nvPr/>
        </p:nvSpPr>
        <p:spPr>
          <a:xfrm>
            <a:off x="838836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4"/>
          <p:cNvSpPr/>
          <p:nvPr/>
        </p:nvSpPr>
        <p:spPr>
          <a:xfrm>
            <a:off x="550872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8"/>
          <p:cNvSpPr/>
          <p:nvPr/>
        </p:nvSpPr>
        <p:spPr>
          <a:xfrm>
            <a:off x="17928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Сколько бит в бай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9">
            <a:hlinkClick r:id="rId28"/>
          </p:cNvPr>
          <p:cNvSpPr/>
          <p:nvPr/>
        </p:nvSpPr>
        <p:spPr>
          <a:xfrm>
            <a:off x="2484360" y="587700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1"/>
          <p:cNvSpPr/>
          <p:nvPr/>
        </p:nvSpPr>
        <p:spPr>
          <a:xfrm>
            <a:off x="608472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93"/>
          <p:cNvSpPr/>
          <p:nvPr/>
        </p:nvSpPr>
        <p:spPr>
          <a:xfrm>
            <a:off x="32400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94"/>
          <p:cNvSpPr/>
          <p:nvPr/>
        </p:nvSpPr>
        <p:spPr>
          <a:xfrm>
            <a:off x="327672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5"/>
          <p:cNvSpPr/>
          <p:nvPr/>
        </p:nvSpPr>
        <p:spPr>
          <a:xfrm>
            <a:off x="6227640" y="2060640"/>
            <a:ext cx="43200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6"/>
          <p:cNvSpPr/>
          <p:nvPr/>
        </p:nvSpPr>
        <p:spPr>
          <a:xfrm>
            <a:off x="32400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97"/>
          <p:cNvSpPr/>
          <p:nvPr/>
        </p:nvSpPr>
        <p:spPr>
          <a:xfrm>
            <a:off x="327672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8"/>
          <p:cNvSpPr/>
          <p:nvPr/>
        </p:nvSpPr>
        <p:spPr>
          <a:xfrm>
            <a:off x="6227640" y="350028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9"/>
          <p:cNvSpPr/>
          <p:nvPr/>
        </p:nvSpPr>
        <p:spPr>
          <a:xfrm>
            <a:off x="32400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0"/>
          <p:cNvSpPr/>
          <p:nvPr/>
        </p:nvSpPr>
        <p:spPr>
          <a:xfrm>
            <a:off x="313200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Почему опасно 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время грозы стоять в толп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1"/>
          <p:cNvSpPr/>
          <p:nvPr/>
        </p:nvSpPr>
        <p:spPr>
          <a:xfrm>
            <a:off x="608472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Назовите команды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 Cd, R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2">
            <a:hlinkClick r:id="rId34"/>
          </p:cNvPr>
          <p:cNvSpPr/>
          <p:nvPr/>
        </p:nvSpPr>
        <p:spPr>
          <a:xfrm>
            <a:off x="543564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4"/>
          <p:cNvSpPr/>
          <p:nvPr/>
        </p:nvSpPr>
        <p:spPr>
          <a:xfrm>
            <a:off x="6659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6"/>
          <p:cNvSpPr/>
          <p:nvPr/>
        </p:nvSpPr>
        <p:spPr>
          <a:xfrm>
            <a:off x="327672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07"/>
          <p:cNvSpPr/>
          <p:nvPr/>
        </p:nvSpPr>
        <p:spPr>
          <a:xfrm>
            <a:off x="6227640" y="494172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8">
            <a:hlinkClick r:id="rId35"/>
          </p:cNvPr>
          <p:cNvSpPr/>
          <p:nvPr/>
        </p:nvSpPr>
        <p:spPr>
          <a:xfrm>
            <a:off x="838836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9"/>
          <p:cNvSpPr/>
          <p:nvPr/>
        </p:nvSpPr>
        <p:spPr>
          <a:xfrm>
            <a:off x="7236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2"/>
          <p:cNvSpPr/>
          <p:nvPr/>
        </p:nvSpPr>
        <p:spPr>
          <a:xfrm>
            <a:off x="179280" y="6329520"/>
            <a:ext cx="878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3300"/>
                </a:solidFill>
                <a:latin typeface="Arial"/>
              </a:rPr>
              <a:t>Сп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бо за участие в иг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3"/>
          <p:cNvSpPr/>
          <p:nvPr/>
        </p:nvSpPr>
        <p:spPr>
          <a:xfrm>
            <a:off x="8172360" y="6381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7020" y="3837"/>
                </a:moveTo>
                <a:lnTo>
                  <a:pt x="29597" y="6448"/>
                </a:ln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lnTo>
                  <a:pt x="33983" y="10800"/>
                </a:lnTo>
                <a:lnTo>
                  <a:pt x="32330" y="10800"/>
                </a:lnTo>
                <a:lnTo>
                  <a:pt x="32330" y="17989"/>
                </a:lnTo>
                <a:lnTo>
                  <a:pt x="21711" y="17989"/>
                </a:lnTo>
                <a:lnTo>
                  <a:pt x="21711" y="10800"/>
                </a:lnTo>
                <a:lnTo>
                  <a:pt x="20057" y="10800"/>
                </a:lnTo>
                <a:close/>
              </a:path>
              <a:path fill="darkenLess" w="54041" h="21600">
                <a:moveTo>
                  <a:pt x="29597" y="6448"/>
                </a:move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close/>
              </a:path>
              <a:path fill="darkenLess" w="54041" h="21600">
                <a:moveTo>
                  <a:pt x="26098" y="14299"/>
                </a:moveTo>
                <a:lnTo>
                  <a:pt x="27943" y="14299"/>
                </a:lnTo>
                <a:lnTo>
                  <a:pt x="27943" y="17989"/>
                </a:lnTo>
                <a:lnTo>
                  <a:pt x="32330" y="17989"/>
                </a:lnTo>
                <a:lnTo>
                  <a:pt x="32330" y="10800"/>
                </a:lnTo>
                <a:lnTo>
                  <a:pt x="21711" y="10800"/>
                </a:lnTo>
                <a:lnTo>
                  <a:pt x="21711" y="17989"/>
                </a:lnTo>
                <a:lnTo>
                  <a:pt x="260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17" descr="AG00317_"/>
          <p:cNvPicPr/>
          <p:nvPr/>
        </p:nvPicPr>
        <p:blipFill>
          <a:blip r:embed="rId36"/>
          <a:stretch/>
        </p:blipFill>
        <p:spPr>
          <a:xfrm>
            <a:off x="324000" y="333360"/>
            <a:ext cx="936360" cy="8017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123"/>
          <p:cNvSpPr/>
          <p:nvPr/>
        </p:nvSpPr>
        <p:spPr>
          <a:xfrm>
            <a:off x="250920" y="2997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6"/>
          <p:cNvSpPr/>
          <p:nvPr/>
        </p:nvSpPr>
        <p:spPr>
          <a:xfrm>
            <a:off x="25092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7"/>
          <p:cNvSpPr/>
          <p:nvPr/>
        </p:nvSpPr>
        <p:spPr>
          <a:xfrm>
            <a:off x="75564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9"/>
          <p:cNvSpPr/>
          <p:nvPr/>
        </p:nvSpPr>
        <p:spPr>
          <a:xfrm>
            <a:off x="3276720" y="2997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0"/>
          <p:cNvSpPr/>
          <p:nvPr/>
        </p:nvSpPr>
        <p:spPr>
          <a:xfrm>
            <a:off x="125892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1"/>
          <p:cNvSpPr/>
          <p:nvPr/>
        </p:nvSpPr>
        <p:spPr>
          <a:xfrm>
            <a:off x="6156360" y="2997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2"/>
          <p:cNvSpPr/>
          <p:nvPr/>
        </p:nvSpPr>
        <p:spPr>
          <a:xfrm>
            <a:off x="1763640" y="0"/>
            <a:ext cx="43200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3"/>
          <p:cNvSpPr/>
          <p:nvPr/>
        </p:nvSpPr>
        <p:spPr>
          <a:xfrm>
            <a:off x="250920" y="443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34"/>
          <p:cNvSpPr/>
          <p:nvPr/>
        </p:nvSpPr>
        <p:spPr>
          <a:xfrm>
            <a:off x="2268360" y="0"/>
            <a:ext cx="43200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35"/>
          <p:cNvSpPr/>
          <p:nvPr/>
        </p:nvSpPr>
        <p:spPr>
          <a:xfrm>
            <a:off x="3276720" y="443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36"/>
          <p:cNvSpPr/>
          <p:nvPr/>
        </p:nvSpPr>
        <p:spPr>
          <a:xfrm>
            <a:off x="2771640" y="0"/>
            <a:ext cx="43200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37"/>
          <p:cNvSpPr/>
          <p:nvPr/>
        </p:nvSpPr>
        <p:spPr>
          <a:xfrm>
            <a:off x="6156360" y="443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8"/>
          <p:cNvSpPr/>
          <p:nvPr/>
        </p:nvSpPr>
        <p:spPr>
          <a:xfrm>
            <a:off x="327672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9"/>
          <p:cNvSpPr/>
          <p:nvPr/>
        </p:nvSpPr>
        <p:spPr>
          <a:xfrm>
            <a:off x="250920" y="587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40"/>
          <p:cNvSpPr/>
          <p:nvPr/>
        </p:nvSpPr>
        <p:spPr>
          <a:xfrm>
            <a:off x="378000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41"/>
          <p:cNvSpPr/>
          <p:nvPr/>
        </p:nvSpPr>
        <p:spPr>
          <a:xfrm>
            <a:off x="3276720" y="587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2"/>
          <p:cNvSpPr/>
          <p:nvPr/>
        </p:nvSpPr>
        <p:spPr>
          <a:xfrm>
            <a:off x="4284720" y="0"/>
            <a:ext cx="431640" cy="289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3"/>
          <p:cNvSpPr/>
          <p:nvPr/>
        </p:nvSpPr>
        <p:spPr>
          <a:xfrm>
            <a:off x="6156360" y="587700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89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820" h="21600">
                <a:moveTo>
                  <a:pt x="20016" y="14281"/>
                </a:moveTo>
                <a:lnTo>
                  <a:pt x="20016" y="12323"/>
                </a:lnTo>
                <a:cubicBezTo>
                  <a:pt x="20016" y="11496"/>
                  <a:pt x="20346" y="10800"/>
                  <a:pt x="20947" y="10800"/>
                </a:cubicBezTo>
                <a:cubicBezTo>
                  <a:pt x="22078" y="10800"/>
                  <a:pt x="22975" y="9434"/>
                  <a:pt x="22975" y="7849"/>
                </a:cubicBezTo>
                <a:cubicBezTo>
                  <a:pt x="22975" y="5534"/>
                  <a:pt x="21121" y="3794"/>
                  <a:pt x="18910" y="3794"/>
                </a:cubicBezTo>
                <a:cubicBezTo>
                  <a:pt x="16699" y="3794"/>
                  <a:pt x="15028" y="5534"/>
                  <a:pt x="15028" y="7849"/>
                </a:cubicBezTo>
                <a:lnTo>
                  <a:pt x="16882" y="7849"/>
                </a:lnTo>
                <a:cubicBezTo>
                  <a:pt x="16882" y="6709"/>
                  <a:pt x="17805" y="5821"/>
                  <a:pt x="18910" y="5821"/>
                </a:cubicBezTo>
                <a:cubicBezTo>
                  <a:pt x="20016" y="5821"/>
                  <a:pt x="20947" y="6709"/>
                  <a:pt x="20947" y="7849"/>
                </a:cubicBezTo>
                <a:cubicBezTo>
                  <a:pt x="20947" y="8589"/>
                  <a:pt x="20477" y="9320"/>
                  <a:pt x="20016" y="9320"/>
                </a:cubicBezTo>
                <a:cubicBezTo>
                  <a:pt x="18910" y="9320"/>
                  <a:pt x="17805" y="10800"/>
                  <a:pt x="17805" y="12323"/>
                </a:cubicBezTo>
                <a:lnTo>
                  <a:pt x="17805" y="14281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4"/>
          <p:cNvSpPr/>
          <p:nvPr/>
        </p:nvSpPr>
        <p:spPr>
          <a:xfrm>
            <a:off x="6044040" y="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олнительные б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53"/>
          <p:cNvSpPr/>
          <p:nvPr/>
        </p:nvSpPr>
        <p:spPr>
          <a:xfrm>
            <a:off x="8172360" y="62064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54"/>
          <p:cNvSpPr/>
          <p:nvPr/>
        </p:nvSpPr>
        <p:spPr>
          <a:xfrm>
            <a:off x="1763640" y="6308640"/>
            <a:ext cx="43200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55"/>
          <p:cNvSpPr/>
          <p:nvPr/>
        </p:nvSpPr>
        <p:spPr>
          <a:xfrm>
            <a:off x="468360" y="6308640"/>
            <a:ext cx="43164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56"/>
          <p:cNvSpPr/>
          <p:nvPr/>
        </p:nvSpPr>
        <p:spPr>
          <a:xfrm>
            <a:off x="900000" y="6308640"/>
            <a:ext cx="43200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7"/>
          <p:cNvSpPr/>
          <p:nvPr/>
        </p:nvSpPr>
        <p:spPr>
          <a:xfrm>
            <a:off x="1332000" y="6308640"/>
            <a:ext cx="43164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58"/>
          <p:cNvSpPr/>
          <p:nvPr/>
        </p:nvSpPr>
        <p:spPr>
          <a:xfrm>
            <a:off x="2195640" y="6308640"/>
            <a:ext cx="43164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9"/>
          <p:cNvSpPr/>
          <p:nvPr/>
        </p:nvSpPr>
        <p:spPr>
          <a:xfrm>
            <a:off x="2627280" y="6308640"/>
            <a:ext cx="43200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60"/>
          <p:cNvSpPr/>
          <p:nvPr/>
        </p:nvSpPr>
        <p:spPr>
          <a:xfrm>
            <a:off x="3059280" y="6308640"/>
            <a:ext cx="43164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61"/>
          <p:cNvSpPr/>
          <p:nvPr/>
        </p:nvSpPr>
        <p:spPr>
          <a:xfrm>
            <a:off x="3492360" y="6308640"/>
            <a:ext cx="43200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62"/>
          <p:cNvSpPr/>
          <p:nvPr/>
        </p:nvSpPr>
        <p:spPr>
          <a:xfrm>
            <a:off x="3924360" y="6308640"/>
            <a:ext cx="431640" cy="549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13 - D.Modena - Song Of Babe Jane.mp3" descr=""/>
          <p:cNvPicPr/>
          <p:nvPr/>
        </p:nvPicPr>
        <p:blipFill>
          <a:blip r:embed="rId37"/>
          <a:stretch/>
        </p:blipFill>
        <p:spPr>
          <a:xfrm>
            <a:off x="757224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3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evt="end">
                                        <p:tn val="554"/>
                                      </p:cond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evt="end">
                                        <p:tn val="578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6" dur="1" fill="hold">
                                    <p:stCondLst>
                                      <p:cond evt="end">
                                        <p:tn val="602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evt="end">
                                        <p:tn val="621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8" dur="1" fill="hold">
                                    <p:stCondLst>
                                      <p:cond evt="end">
                                        <p:tn val="634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0" dur="1" fill="hold">
                                    <p:stCondLst>
                                      <p:cond evt="end">
                                        <p:tn val="656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8" dur="1" fill="hold">
                                    <p:stCondLst>
                                      <p:cond evt="end">
                                        <p:tn val="664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203679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evt="end">
                                        <p:tn val="701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37" dur="1" fill="hold">
                                    <p:stCondLst>
                                      <p:cond evt="end">
                                        <p:tn val="721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evt="end">
                                        <p:tn val="741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evt="end">
                                        <p:tn val="761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97" dur="1" fill="hold">
                                    <p:stCondLst>
                                      <p:cond evt="end">
                                        <p:tn val="781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79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17" dur="1" fill="hold">
                                    <p:stCondLst>
                                      <p:cond evt="end">
                                        <p:tn val="801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37" dur="1" fill="hold">
                                    <p:stCondLst>
                                      <p:cond evt="end">
                                        <p:tn val="821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57" dur="1" fill="hold">
                                    <p:stCondLst>
                                      <p:cond evt="end">
                                        <p:tn val="841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5" dur="1" fill="hold">
                                    <p:stCondLst>
                                      <p:cond evt="end">
                                        <p:tn val="861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2" dur="1" fill="hold">
                                    <p:stCondLst>
                                      <p:cond evt="end">
                                        <p:tn val="868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9" dur="1" fill="hold">
                                    <p:stCondLst>
                                      <p:cond evt="end">
                                        <p:tn val="875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6" dur="1" fill="hold">
                                    <p:stCondLst>
                                      <p:cond evt="end">
                                        <p:tn val="882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3" dur="1" fill="hold">
                                    <p:stCondLst>
                                      <p:cond evt="end">
                                        <p:tn val="889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0" dur="1" fill="hold">
                                    <p:stCondLst>
                                      <p:cond evt="end">
                                        <p:tn val="896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7" dur="1" fill="hold">
                                    <p:stCondLst>
                                      <p:cond evt="end">
                                        <p:tn val="903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4" dur="1" fill="hold">
                                    <p:stCondLst>
                                      <p:cond evt="end">
                                        <p:tn val="910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1" dur="1" fill="hold">
                                    <p:stCondLst>
                                      <p:cond evt="end">
                                        <p:tn val="917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2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6" dur="20367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79280" y="6329520"/>
            <a:ext cx="878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3300"/>
                </a:solidFill>
                <a:latin typeface="Arial"/>
              </a:rPr>
              <a:t>Сп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бо за участие в иг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3059280" y="6308640"/>
            <a:ext cx="1152360" cy="287280"/>
          </a:xfrm>
          <a:custGeom>
            <a:avLst/>
            <a:gdLst>
              <a:gd name="textAreaLeft" fmla="*/ 18360 w 1152360"/>
              <a:gd name="textAreaRight" fmla="*/ 1134000 w 115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562" h="21600">
                <a:moveTo>
                  <a:pt x="0" y="0"/>
                </a:moveTo>
                <a:lnTo>
                  <a:pt x="86562" y="0"/>
                </a:lnTo>
                <a:lnTo>
                  <a:pt x="86562" y="21600"/>
                </a:lnTo>
                <a:lnTo>
                  <a:pt x="0" y="21600"/>
                </a:lnTo>
                <a:close/>
              </a:path>
              <a:path fill="lightenLess" w="86562" h="21600">
                <a:moveTo>
                  <a:pt x="0" y="0"/>
                </a:moveTo>
                <a:lnTo>
                  <a:pt x="86562" y="0"/>
                </a:lnTo>
                <a:lnTo>
                  <a:pt x="85162" y="1400"/>
                </a:lnTo>
                <a:lnTo>
                  <a:pt x="1400" y="1400"/>
                </a:lnTo>
                <a:close/>
              </a:path>
              <a:path fill="darken" w="86562" h="21600">
                <a:moveTo>
                  <a:pt x="86562" y="0"/>
                </a:moveTo>
                <a:lnTo>
                  <a:pt x="86562" y="21600"/>
                </a:lnTo>
                <a:lnTo>
                  <a:pt x="85162" y="20200"/>
                </a:lnTo>
                <a:lnTo>
                  <a:pt x="85162" y="1400"/>
                </a:lnTo>
                <a:close/>
              </a:path>
              <a:path fill="darkenLess" w="86562" h="21600">
                <a:moveTo>
                  <a:pt x="86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62" y="20200"/>
                </a:lnTo>
                <a:close/>
              </a:path>
              <a:path fill="lighten" w="86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562" h="21600">
                <a:moveTo>
                  <a:pt x="432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6562" h="21600">
                <a:moveTo>
                  <a:pt x="44386" y="14281"/>
                </a:moveTo>
                <a:lnTo>
                  <a:pt x="44386" y="12323"/>
                </a:lnTo>
                <a:cubicBezTo>
                  <a:pt x="44386" y="11496"/>
                  <a:pt x="44717" y="10800"/>
                  <a:pt x="45318" y="10800"/>
                </a:cubicBezTo>
                <a:cubicBezTo>
                  <a:pt x="46449" y="10800"/>
                  <a:pt x="47346" y="9434"/>
                  <a:pt x="47346" y="7849"/>
                </a:cubicBezTo>
                <a:cubicBezTo>
                  <a:pt x="47346" y="5534"/>
                  <a:pt x="45492" y="3794"/>
                  <a:pt x="43281" y="3794"/>
                </a:cubicBezTo>
                <a:cubicBezTo>
                  <a:pt x="41070" y="3794"/>
                  <a:pt x="39399" y="5534"/>
                  <a:pt x="39399" y="7849"/>
                </a:cubicBezTo>
                <a:lnTo>
                  <a:pt x="41253" y="7849"/>
                </a:lnTo>
                <a:cubicBezTo>
                  <a:pt x="41253" y="6709"/>
                  <a:pt x="42176" y="5821"/>
                  <a:pt x="43281" y="5821"/>
                </a:cubicBezTo>
                <a:cubicBezTo>
                  <a:pt x="44386" y="5821"/>
                  <a:pt x="45318" y="6709"/>
                  <a:pt x="45318" y="7849"/>
                </a:cubicBezTo>
                <a:cubicBezTo>
                  <a:pt x="45318" y="8589"/>
                  <a:pt x="44848" y="9320"/>
                  <a:pt x="44386" y="9320"/>
                </a:cubicBezTo>
                <a:cubicBezTo>
                  <a:pt x="43281" y="9320"/>
                  <a:pt x="42176" y="10800"/>
                  <a:pt x="42176" y="12323"/>
                </a:cubicBezTo>
                <a:lnTo>
                  <a:pt x="42176" y="1428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 +/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03 - D.Modena - Mystical Force.mp3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нкурс 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79280" y="1268280"/>
            <a:ext cx="8785440" cy="97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ичество баллов: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…………………………………………………………………………………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7928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">
            <a:hlinkClick r:id="rId2"/>
          </p:cNvPr>
          <p:cNvSpPr/>
          <p:nvPr/>
        </p:nvSpPr>
        <p:spPr>
          <a:xfrm>
            <a:off x="2484360" y="2997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62728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313200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2">
            <a:hlinkClick r:id="rId3"/>
          </p:cNvPr>
          <p:cNvSpPr/>
          <p:nvPr/>
        </p:nvSpPr>
        <p:spPr>
          <a:xfrm>
            <a:off x="543564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3203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608472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">
            <a:hlinkClick r:id="rId4"/>
          </p:cNvPr>
          <p:cNvSpPr/>
          <p:nvPr/>
        </p:nvSpPr>
        <p:spPr>
          <a:xfrm>
            <a:off x="838836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780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17928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8">
            <a:hlinkClick r:id="rId5"/>
          </p:cNvPr>
          <p:cNvSpPr/>
          <p:nvPr/>
        </p:nvSpPr>
        <p:spPr>
          <a:xfrm>
            <a:off x="2484360" y="443700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8406"/>
                </a:moveTo>
                <a:lnTo>
                  <a:pt x="16283" y="8406"/>
                </a:lnTo>
                <a:lnTo>
                  <a:pt x="20705" y="3794"/>
                </a:lnTo>
                <a:lnTo>
                  <a:pt x="20705" y="17806"/>
                </a:lnTo>
                <a:lnTo>
                  <a:pt x="16283" y="13194"/>
                </a:lnTo>
                <a:lnTo>
                  <a:pt x="11853" y="13194"/>
                </a:lnTo>
                <a:close/>
              </a:path>
              <a:path fill="darken" w="37719" h="21600">
                <a:moveTo>
                  <a:pt x="22359" y="10800"/>
                </a:moveTo>
                <a:lnTo>
                  <a:pt x="25866" y="10800"/>
                </a:lnTo>
              </a:path>
              <a:path fill="darken" w="37719" h="21600">
                <a:moveTo>
                  <a:pt x="22359" y="8406"/>
                </a:moveTo>
                <a:lnTo>
                  <a:pt x="25866" y="5639"/>
                </a:lnTo>
              </a:path>
              <a:path fill="darken" w="37719" h="21600">
                <a:moveTo>
                  <a:pt x="22359" y="13194"/>
                </a:moveTo>
                <a:lnTo>
                  <a:pt x="2586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435600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0"/>
          <p:cNvSpPr/>
          <p:nvPr/>
        </p:nvSpPr>
        <p:spPr>
          <a:xfrm>
            <a:off x="313200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1">
            <a:hlinkClick r:id="rId6"/>
          </p:cNvPr>
          <p:cNvSpPr/>
          <p:nvPr/>
        </p:nvSpPr>
        <p:spPr>
          <a:xfrm>
            <a:off x="543564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493236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3"/>
          <p:cNvSpPr/>
          <p:nvPr/>
        </p:nvSpPr>
        <p:spPr>
          <a:xfrm>
            <a:off x="608472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4">
            <a:hlinkClick r:id="rId7"/>
          </p:cNvPr>
          <p:cNvSpPr/>
          <p:nvPr/>
        </p:nvSpPr>
        <p:spPr>
          <a:xfrm>
            <a:off x="838836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550872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6"/>
          <p:cNvSpPr/>
          <p:nvPr/>
        </p:nvSpPr>
        <p:spPr>
          <a:xfrm>
            <a:off x="17928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7">
            <a:hlinkClick r:id="rId8"/>
          </p:cNvPr>
          <p:cNvSpPr/>
          <p:nvPr/>
        </p:nvSpPr>
        <p:spPr>
          <a:xfrm>
            <a:off x="2484360" y="587700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608472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9"/>
          <p:cNvSpPr/>
          <p:nvPr/>
        </p:nvSpPr>
        <p:spPr>
          <a:xfrm>
            <a:off x="32400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0"/>
          <p:cNvSpPr/>
          <p:nvPr/>
        </p:nvSpPr>
        <p:spPr>
          <a:xfrm>
            <a:off x="327672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1"/>
          <p:cNvSpPr/>
          <p:nvPr/>
        </p:nvSpPr>
        <p:spPr>
          <a:xfrm>
            <a:off x="6227640" y="2060640"/>
            <a:ext cx="43200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2"/>
          <p:cNvSpPr/>
          <p:nvPr/>
        </p:nvSpPr>
        <p:spPr>
          <a:xfrm>
            <a:off x="32400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3"/>
          <p:cNvSpPr/>
          <p:nvPr/>
        </p:nvSpPr>
        <p:spPr>
          <a:xfrm>
            <a:off x="327672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4"/>
          <p:cNvSpPr/>
          <p:nvPr/>
        </p:nvSpPr>
        <p:spPr>
          <a:xfrm>
            <a:off x="6227640" y="350028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5"/>
          <p:cNvSpPr/>
          <p:nvPr/>
        </p:nvSpPr>
        <p:spPr>
          <a:xfrm>
            <a:off x="32400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6"/>
          <p:cNvSpPr/>
          <p:nvPr/>
        </p:nvSpPr>
        <p:spPr>
          <a:xfrm>
            <a:off x="313200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Какие устройства подключен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7"/>
          <p:cNvSpPr/>
          <p:nvPr/>
        </p:nvSpPr>
        <p:spPr>
          <a:xfrm>
            <a:off x="608472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8">
            <a:hlinkClick r:id="rId10"/>
          </p:cNvPr>
          <p:cNvSpPr/>
          <p:nvPr/>
        </p:nvSpPr>
        <p:spPr>
          <a:xfrm>
            <a:off x="543564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9"/>
          <p:cNvSpPr/>
          <p:nvPr/>
        </p:nvSpPr>
        <p:spPr>
          <a:xfrm>
            <a:off x="6659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0"/>
          <p:cNvSpPr/>
          <p:nvPr/>
        </p:nvSpPr>
        <p:spPr>
          <a:xfrm>
            <a:off x="327672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1"/>
          <p:cNvSpPr/>
          <p:nvPr/>
        </p:nvSpPr>
        <p:spPr>
          <a:xfrm>
            <a:off x="6227640" y="494172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2">
            <a:hlinkClick r:id="rId11"/>
          </p:cNvPr>
          <p:cNvSpPr/>
          <p:nvPr/>
        </p:nvSpPr>
        <p:spPr>
          <a:xfrm>
            <a:off x="838836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3"/>
          <p:cNvSpPr/>
          <p:nvPr/>
        </p:nvSpPr>
        <p:spPr>
          <a:xfrm>
            <a:off x="7236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4"/>
          <p:cNvSpPr/>
          <p:nvPr/>
        </p:nvSpPr>
        <p:spPr>
          <a:xfrm>
            <a:off x="8172360" y="6381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7020" y="3837"/>
                </a:moveTo>
                <a:lnTo>
                  <a:pt x="29597" y="6448"/>
                </a:ln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lnTo>
                  <a:pt x="33983" y="10800"/>
                </a:lnTo>
                <a:lnTo>
                  <a:pt x="32330" y="10800"/>
                </a:lnTo>
                <a:lnTo>
                  <a:pt x="32330" y="17989"/>
                </a:lnTo>
                <a:lnTo>
                  <a:pt x="21711" y="17989"/>
                </a:lnTo>
                <a:lnTo>
                  <a:pt x="21711" y="10800"/>
                </a:lnTo>
                <a:lnTo>
                  <a:pt x="20057" y="10800"/>
                </a:lnTo>
                <a:close/>
              </a:path>
              <a:path fill="darkenLess" w="54041" h="21600">
                <a:moveTo>
                  <a:pt x="29597" y="6448"/>
                </a:move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close/>
              </a:path>
              <a:path fill="darkenLess" w="54041" h="21600">
                <a:moveTo>
                  <a:pt x="26098" y="14299"/>
                </a:moveTo>
                <a:lnTo>
                  <a:pt x="27943" y="14299"/>
                </a:lnTo>
                <a:lnTo>
                  <a:pt x="27943" y="17989"/>
                </a:lnTo>
                <a:lnTo>
                  <a:pt x="32330" y="17989"/>
                </a:lnTo>
                <a:lnTo>
                  <a:pt x="32330" y="10800"/>
                </a:lnTo>
                <a:lnTo>
                  <a:pt x="21711" y="10800"/>
                </a:lnTo>
                <a:lnTo>
                  <a:pt x="21711" y="17989"/>
                </a:lnTo>
                <a:lnTo>
                  <a:pt x="260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5" descr="AG00317_"/>
          <p:cNvPicPr/>
          <p:nvPr/>
        </p:nvPicPr>
        <p:blipFill>
          <a:blip r:embed="rId12"/>
          <a:stretch/>
        </p:blipFill>
        <p:spPr>
          <a:xfrm>
            <a:off x="250920" y="187200"/>
            <a:ext cx="936360" cy="801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6"/>
          <p:cNvSpPr/>
          <p:nvPr/>
        </p:nvSpPr>
        <p:spPr>
          <a:xfrm>
            <a:off x="176364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7"/>
          <p:cNvSpPr/>
          <p:nvPr/>
        </p:nvSpPr>
        <p:spPr>
          <a:xfrm>
            <a:off x="241128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8"/>
          <p:cNvSpPr/>
          <p:nvPr/>
        </p:nvSpPr>
        <p:spPr>
          <a:xfrm>
            <a:off x="3059280" y="0"/>
            <a:ext cx="576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9"/>
          <p:cNvSpPr/>
          <p:nvPr/>
        </p:nvSpPr>
        <p:spPr>
          <a:xfrm>
            <a:off x="370836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0"/>
          <p:cNvSpPr/>
          <p:nvPr/>
        </p:nvSpPr>
        <p:spPr>
          <a:xfrm>
            <a:off x="435600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1"/>
          <p:cNvSpPr/>
          <p:nvPr/>
        </p:nvSpPr>
        <p:spPr>
          <a:xfrm>
            <a:off x="500364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2"/>
          <p:cNvSpPr/>
          <p:nvPr/>
        </p:nvSpPr>
        <p:spPr>
          <a:xfrm>
            <a:off x="5651640" y="0"/>
            <a:ext cx="576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3"/>
          <p:cNvSpPr/>
          <p:nvPr/>
        </p:nvSpPr>
        <p:spPr>
          <a:xfrm>
            <a:off x="630072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4"/>
          <p:cNvSpPr/>
          <p:nvPr/>
        </p:nvSpPr>
        <p:spPr>
          <a:xfrm>
            <a:off x="694836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0" y="0"/>
            <a:ext cx="1187280" cy="260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твет +/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6"/>
          <p:cNvSpPr/>
          <p:nvPr/>
        </p:nvSpPr>
        <p:spPr>
          <a:xfrm>
            <a:off x="176364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241128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3059280" y="981000"/>
            <a:ext cx="576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9"/>
          <p:cNvSpPr/>
          <p:nvPr/>
        </p:nvSpPr>
        <p:spPr>
          <a:xfrm>
            <a:off x="370836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0"/>
          <p:cNvSpPr/>
          <p:nvPr/>
        </p:nvSpPr>
        <p:spPr>
          <a:xfrm>
            <a:off x="435600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1"/>
          <p:cNvSpPr/>
          <p:nvPr/>
        </p:nvSpPr>
        <p:spPr>
          <a:xfrm>
            <a:off x="500364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2"/>
          <p:cNvSpPr/>
          <p:nvPr/>
        </p:nvSpPr>
        <p:spPr>
          <a:xfrm>
            <a:off x="5651640" y="981000"/>
            <a:ext cx="576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3"/>
          <p:cNvSpPr/>
          <p:nvPr/>
        </p:nvSpPr>
        <p:spPr>
          <a:xfrm>
            <a:off x="630072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694836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0" y="981000"/>
            <a:ext cx="1187280" cy="260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6"/>
          <p:cNvSpPr/>
          <p:nvPr/>
        </p:nvSpPr>
        <p:spPr>
          <a:xfrm>
            <a:off x="4932360" y="6308640"/>
            <a:ext cx="1152360" cy="289080"/>
          </a:xfrm>
          <a:custGeom>
            <a:avLst/>
            <a:gdLst>
              <a:gd name="textAreaLeft" fmla="*/ 18720 w 1152360"/>
              <a:gd name="textAreaRight" fmla="*/ 1133640 w 115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6024" h="21600">
                <a:moveTo>
                  <a:pt x="0" y="0"/>
                </a:moveTo>
                <a:lnTo>
                  <a:pt x="86024" y="0"/>
                </a:lnTo>
                <a:lnTo>
                  <a:pt x="86024" y="21600"/>
                </a:lnTo>
                <a:lnTo>
                  <a:pt x="0" y="21600"/>
                </a:lnTo>
                <a:close/>
              </a:path>
              <a:path fill="lightenLess" w="86024" h="21600">
                <a:moveTo>
                  <a:pt x="0" y="0"/>
                </a:moveTo>
                <a:lnTo>
                  <a:pt x="86024" y="0"/>
                </a:lnTo>
                <a:lnTo>
                  <a:pt x="84624" y="1400"/>
                </a:lnTo>
                <a:lnTo>
                  <a:pt x="1400" y="1400"/>
                </a:lnTo>
                <a:close/>
              </a:path>
              <a:path fill="darken" w="86024" h="21600">
                <a:moveTo>
                  <a:pt x="86024" y="0"/>
                </a:moveTo>
                <a:lnTo>
                  <a:pt x="86024" y="21600"/>
                </a:lnTo>
                <a:lnTo>
                  <a:pt x="84624" y="20200"/>
                </a:lnTo>
                <a:lnTo>
                  <a:pt x="84624" y="1400"/>
                </a:lnTo>
                <a:close/>
              </a:path>
              <a:path fill="darkenLess" w="86024" h="21600">
                <a:moveTo>
                  <a:pt x="8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24" y="20200"/>
                </a:lnTo>
                <a:close/>
              </a:path>
              <a:path fill="lighten" w="8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7" descr="bp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55640" y="206064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8" descr="audio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708360" y="206064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9" descr="hd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877080" y="206064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1" descr="mp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708360" y="350028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3" descr="электроскоп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826920" y="4941720"/>
            <a:ext cx="1657440" cy="1224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4" descr="вольтметр">
            <a:hlinkClick r:id="rId23" action="ppaction://hlinksldjump"/>
          </p:cNvPr>
          <p:cNvPicPr/>
          <p:nvPr/>
        </p:nvPicPr>
        <p:blipFill>
          <a:blip r:embed="rId24"/>
          <a:srcRect l="8360" t="5836" r="8360" b="5966"/>
          <a:stretch/>
        </p:blipFill>
        <p:spPr>
          <a:xfrm>
            <a:off x="6877080" y="494172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5" descr="трансформатор1">
            <a:hlinkClick r:id="rId25" action="ppaction://hlinksldjump"/>
          </p:cNvPr>
          <p:cNvPicPr/>
          <p:nvPr/>
        </p:nvPicPr>
        <p:blipFill>
          <a:blip r:embed="rId26"/>
          <a:srcRect l="16609" t="5906" r="0" b="0"/>
          <a:stretch/>
        </p:blipFill>
        <p:spPr>
          <a:xfrm>
            <a:off x="826920" y="3500280"/>
            <a:ext cx="1657440" cy="1152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6" descr="психрометр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6877080" y="350028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282" name="13 - D.Modena - Song Of Babe Jane.mp3" descr=""/>
          <p:cNvPicPr/>
          <p:nvPr/>
        </p:nvPicPr>
        <p:blipFill>
          <a:blip r:embed="rId29"/>
          <a:stretch/>
        </p:blipFill>
        <p:spPr>
          <a:xfrm>
            <a:off x="8572680" y="500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2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5" dur="1" fill="hold">
                                    <p:stCondLst>
                                      <p:cond evt="end">
                                        <p:tn val="941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3" dur="1" fill="hold">
                                    <p:stCondLst>
                                      <p:cond evt="end">
                                        <p:tn val="949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95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evt="end">
                                        <p:tn val="957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9" dur="1" fill="hold">
                                    <p:stCondLst>
                                      <p:cond evt="end">
                                        <p:tn val="965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7" dur="1" fill="hold">
                                    <p:stCondLst>
                                      <p:cond evt="end">
                                        <p:tn val="973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5" dur="1" fill="hold">
                                    <p:stCondLst>
                                      <p:cond evt="end">
                                        <p:tn val="981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98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3" dur="1" fill="hold">
                                    <p:stCondLst>
                                      <p:cond evt="end">
                                        <p:tn val="989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01" dur="1" fill="hold">
                                    <p:stCondLst>
                                      <p:cond evt="end">
                                        <p:tn val="997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036" dur="1" fill="hold">
                                    <p:stCondLst>
                                      <p:cond evt="end">
                                        <p:tn val="1020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055" dur="1" fill="hold">
                                    <p:stCondLst>
                                      <p:cond evt="end">
                                        <p:tn val="1039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074" dur="1" fill="hold">
                                    <p:stCondLst>
                                      <p:cond evt="end">
                                        <p:tn val="1058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093" dur="1" fill="hold">
                                    <p:stCondLst>
                                      <p:cond evt="end">
                                        <p:tn val="1077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12" dur="1" fill="hold">
                                    <p:stCondLst>
                                      <p:cond evt="end">
                                        <p:tn val="1096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31" dur="1" fill="hold">
                                    <p:stCondLst>
                                      <p:cond evt="end">
                                        <p:tn val="1115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50" dur="1" fill="hold">
                                    <p:stCondLst>
                                      <p:cond evt="end">
                                        <p:tn val="1134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69" dur="1" fill="hold">
                                    <p:stCondLst>
                                      <p:cond evt="end">
                                        <p:tn val="1153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88" dur="1" fill="hold">
                                    <p:stCondLst>
                                      <p:cond evt="end">
                                        <p:tn val="1172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19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5" dur="1" fill="hold">
                                    <p:stCondLst>
                                      <p:cond evt="end">
                                        <p:tn val="1192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1" dur="1" fill="hold">
                                    <p:stCondLst>
                                      <p:cond evt="end">
                                        <p:tn val="1198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7" dur="1" fill="hold">
                                    <p:stCondLst>
                                      <p:cond evt="end">
                                        <p:tn val="1204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evt="end">
                                        <p:tn val="1210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9" dur="1" fill="hold">
                                    <p:stCondLst>
                                      <p:cond evt="end">
                                        <p:tn val="1216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5" dur="1" fill="hold">
                                    <p:stCondLst>
                                      <p:cond evt="end">
                                        <p:tn val="1222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1" dur="1" fill="hold">
                                    <p:stCondLst>
                                      <p:cond evt="end">
                                        <p:tn val="1228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7" dur="1" fill="hold">
                                    <p:stCondLst>
                                      <p:cond evt="end">
                                        <p:tn val="1234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3" dur="1" fill="hold">
                                    <p:stCondLst>
                                      <p:cond evt="end">
                                        <p:tn val="1240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26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9" dur="1" fill="hold">
                                    <p:stCondLst>
                                      <p:cond evt="end">
                                        <p:tn val="1265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7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277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8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28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29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0" dur="203679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79280" y="6329520"/>
            <a:ext cx="878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3300"/>
                </a:solidFill>
                <a:latin typeface="Arial"/>
              </a:rPr>
              <a:t>Сп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бо за участие в иг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03 - D.Modena - Mystical Force.mp3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79280" y="1268280"/>
            <a:ext cx="8785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ичество баллов:              Количество баллов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8172360" y="6381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7020" y="3837"/>
                </a:moveTo>
                <a:lnTo>
                  <a:pt x="29597" y="6448"/>
                </a:ln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lnTo>
                  <a:pt x="33983" y="10800"/>
                </a:lnTo>
                <a:lnTo>
                  <a:pt x="32330" y="10800"/>
                </a:lnTo>
                <a:lnTo>
                  <a:pt x="32330" y="17989"/>
                </a:lnTo>
                <a:lnTo>
                  <a:pt x="21711" y="17989"/>
                </a:lnTo>
                <a:lnTo>
                  <a:pt x="21711" y="10800"/>
                </a:lnTo>
                <a:lnTo>
                  <a:pt x="20057" y="10800"/>
                </a:lnTo>
                <a:close/>
              </a:path>
              <a:path fill="darkenLess" w="54041" h="21600">
                <a:moveTo>
                  <a:pt x="29597" y="6448"/>
                </a:move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close/>
              </a:path>
              <a:path fill="darkenLess" w="54041" h="21600">
                <a:moveTo>
                  <a:pt x="26098" y="14299"/>
                </a:moveTo>
                <a:lnTo>
                  <a:pt x="27943" y="14299"/>
                </a:lnTo>
                <a:lnTo>
                  <a:pt x="27943" y="17989"/>
                </a:lnTo>
                <a:lnTo>
                  <a:pt x="32330" y="17989"/>
                </a:lnTo>
                <a:lnTo>
                  <a:pt x="32330" y="10800"/>
                </a:lnTo>
                <a:lnTo>
                  <a:pt x="21711" y="10800"/>
                </a:lnTo>
                <a:lnTo>
                  <a:pt x="21711" y="17989"/>
                </a:lnTo>
                <a:lnTo>
                  <a:pt x="260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AG00317_"/>
          <p:cNvPicPr/>
          <p:nvPr/>
        </p:nvPicPr>
        <p:blipFill>
          <a:blip r:embed="rId2"/>
          <a:stretch/>
        </p:blipFill>
        <p:spPr>
          <a:xfrm>
            <a:off x="250920" y="187200"/>
            <a:ext cx="936360" cy="801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9"/>
          <p:cNvSpPr/>
          <p:nvPr/>
        </p:nvSpPr>
        <p:spPr>
          <a:xfrm>
            <a:off x="179280" y="213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манда в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395280" y="256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манда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46836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манда присва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469440" y="342900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541800" y="38606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541440" y="4292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20div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6500880" y="21337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, Read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6084720" y="2565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rite, Writ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6372360" y="299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541440" y="47242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mod7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41440" y="515772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qrt(sqr(4) + sqr(3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968040" y="5661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6553440" y="3429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6443640" y="3860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6558120" y="4292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6454440" y="51577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6454440" y="47242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6300720" y="2205000"/>
            <a:ext cx="2664000" cy="36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7" descr="0-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5516640"/>
            <a:ext cx="792000" cy="657000"/>
          </a:xfrm>
          <a:prstGeom prst="rect">
            <a:avLst/>
          </a:prstGeom>
          <a:ln w="0">
            <a:noFill/>
          </a:ln>
        </p:spPr>
      </p:pic>
      <p:sp>
        <p:nvSpPr>
          <p:cNvPr id="308" name="Oval 28"/>
          <p:cNvSpPr/>
          <p:nvPr/>
        </p:nvSpPr>
        <p:spPr>
          <a:xfrm>
            <a:off x="7667640" y="1341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9"/>
          <p:cNvSpPr/>
          <p:nvPr/>
        </p:nvSpPr>
        <p:spPr>
          <a:xfrm>
            <a:off x="971640" y="1341360"/>
            <a:ext cx="57600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3348000" y="2205000"/>
            <a:ext cx="0" cy="367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13 - D.Modena - Song Of Babe Jane.mp3" descr=""/>
          <p:cNvPicPr/>
          <p:nvPr/>
        </p:nvPicPr>
        <p:blipFill>
          <a:blip r:embed="rId5"/>
          <a:stretch/>
        </p:blipFill>
        <p:spPr>
          <a:xfrm>
            <a:off x="8429760" y="428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32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9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330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3" dur="203679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79280" y="6329520"/>
            <a:ext cx="878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3300"/>
                </a:solidFill>
                <a:latin typeface="Arial"/>
              </a:rPr>
              <a:t>Сп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бо за участие в иг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03 - D.Modena - Mystical Force.mp3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79280" y="1268280"/>
            <a:ext cx="87854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ичество баллов:              Количество баллов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8172360" y="6381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7020" y="3837"/>
                </a:moveTo>
                <a:lnTo>
                  <a:pt x="29597" y="6448"/>
                </a:ln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lnTo>
                  <a:pt x="33983" y="10800"/>
                </a:lnTo>
                <a:lnTo>
                  <a:pt x="32330" y="10800"/>
                </a:lnTo>
                <a:lnTo>
                  <a:pt x="32330" y="17989"/>
                </a:lnTo>
                <a:lnTo>
                  <a:pt x="21711" y="17989"/>
                </a:lnTo>
                <a:lnTo>
                  <a:pt x="21711" y="10800"/>
                </a:lnTo>
                <a:lnTo>
                  <a:pt x="20057" y="10800"/>
                </a:lnTo>
                <a:close/>
              </a:path>
              <a:path fill="darkenLess" w="54041" h="21600">
                <a:moveTo>
                  <a:pt x="29597" y="6448"/>
                </a:move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close/>
              </a:path>
              <a:path fill="darkenLess" w="54041" h="21600">
                <a:moveTo>
                  <a:pt x="26098" y="14299"/>
                </a:moveTo>
                <a:lnTo>
                  <a:pt x="27943" y="14299"/>
                </a:lnTo>
                <a:lnTo>
                  <a:pt x="27943" y="17989"/>
                </a:lnTo>
                <a:lnTo>
                  <a:pt x="32330" y="17989"/>
                </a:lnTo>
                <a:lnTo>
                  <a:pt x="32330" y="10800"/>
                </a:lnTo>
                <a:lnTo>
                  <a:pt x="21711" y="10800"/>
                </a:lnTo>
                <a:lnTo>
                  <a:pt x="21711" y="17989"/>
                </a:lnTo>
                <a:lnTo>
                  <a:pt x="260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AG00317_"/>
          <p:cNvPicPr/>
          <p:nvPr/>
        </p:nvPicPr>
        <p:blipFill>
          <a:blip r:embed="rId2"/>
          <a:stretch/>
        </p:blipFill>
        <p:spPr>
          <a:xfrm>
            <a:off x="250920" y="187200"/>
            <a:ext cx="936360" cy="8017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0" y="21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 Ку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0" y="256536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кон Ома для у. 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0" y="299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 Ома для п. 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0" y="3429000"/>
            <a:ext cx="29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диница эл. заря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0" y="386064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диница напря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0" y="4292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диница сопротивления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372360" y="2133720"/>
            <a:ext cx="164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 = kq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/r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6"/>
          <p:cNvSpPr/>
          <p:nvPr/>
        </p:nvSpPr>
        <p:spPr>
          <a:xfrm>
            <a:off x="6084720" y="2565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= U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6156360" y="299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= E/R 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60480" y="47242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диниц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0" y="5157720"/>
            <a:ext cx="29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диница мощности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968040" y="5661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6443640" y="3429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6443640" y="3860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ь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6372360" y="429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6084720" y="51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т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6143760" y="472428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жо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6"/>
          <p:cNvSpPr/>
          <p:nvPr/>
        </p:nvSpPr>
        <p:spPr>
          <a:xfrm>
            <a:off x="6300720" y="2133720"/>
            <a:ext cx="2664000" cy="36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7" descr="0-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5516640"/>
            <a:ext cx="792000" cy="657000"/>
          </a:xfrm>
          <a:prstGeom prst="rect">
            <a:avLst/>
          </a:prstGeom>
          <a:ln w="0">
            <a:noFill/>
          </a:ln>
        </p:spPr>
      </p:pic>
      <p:sp>
        <p:nvSpPr>
          <p:cNvPr id="337" name="Oval 28"/>
          <p:cNvSpPr/>
          <p:nvPr/>
        </p:nvSpPr>
        <p:spPr>
          <a:xfrm>
            <a:off x="7667640" y="1341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971640" y="1341360"/>
            <a:ext cx="57600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0"/>
          <p:cNvSpPr/>
          <p:nvPr/>
        </p:nvSpPr>
        <p:spPr>
          <a:xfrm>
            <a:off x="3059280" y="2133720"/>
            <a:ext cx="0" cy="36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13 - D.Modena - Song Of Babe Jane.mp3" descr=""/>
          <p:cNvPicPr/>
          <p:nvPr/>
        </p:nvPicPr>
        <p:blipFill>
          <a:blip r:embed="rId5"/>
          <a:stretch/>
        </p:blipFill>
        <p:spPr>
          <a:xfrm>
            <a:off x="8429760" y="500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0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9" dur="1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5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346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353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6" dur="203679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50"/>
          <p:cNvSpPr/>
          <p:nvPr/>
        </p:nvSpPr>
        <p:spPr>
          <a:xfrm>
            <a:off x="179280" y="6329520"/>
            <a:ext cx="878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3300"/>
                </a:solidFill>
                <a:latin typeface="Arial"/>
              </a:rPr>
              <a:t>Сп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бо за участие в иг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2916360" y="6308640"/>
            <a:ext cx="1152360" cy="287280"/>
          </a:xfrm>
          <a:custGeom>
            <a:avLst/>
            <a:gdLst>
              <a:gd name="textAreaLeft" fmla="*/ 18360 w 1152360"/>
              <a:gd name="textAreaRight" fmla="*/ 1134000 w 115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6562" h="21600">
                <a:moveTo>
                  <a:pt x="0" y="0"/>
                </a:moveTo>
                <a:lnTo>
                  <a:pt x="86562" y="0"/>
                </a:lnTo>
                <a:lnTo>
                  <a:pt x="86562" y="21600"/>
                </a:lnTo>
                <a:lnTo>
                  <a:pt x="0" y="21600"/>
                </a:lnTo>
                <a:close/>
              </a:path>
              <a:path fill="lightenLess" w="86562" h="21600">
                <a:moveTo>
                  <a:pt x="0" y="0"/>
                </a:moveTo>
                <a:lnTo>
                  <a:pt x="86562" y="0"/>
                </a:lnTo>
                <a:lnTo>
                  <a:pt x="85162" y="1400"/>
                </a:lnTo>
                <a:lnTo>
                  <a:pt x="1400" y="1400"/>
                </a:lnTo>
                <a:close/>
              </a:path>
              <a:path fill="darken" w="86562" h="21600">
                <a:moveTo>
                  <a:pt x="86562" y="0"/>
                </a:moveTo>
                <a:lnTo>
                  <a:pt x="86562" y="21600"/>
                </a:lnTo>
                <a:lnTo>
                  <a:pt x="85162" y="20200"/>
                </a:lnTo>
                <a:lnTo>
                  <a:pt x="85162" y="1400"/>
                </a:lnTo>
                <a:close/>
              </a:path>
              <a:path fill="darkenLess" w="86562" h="21600">
                <a:moveTo>
                  <a:pt x="86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62" y="20200"/>
                </a:lnTo>
                <a:close/>
              </a:path>
              <a:path fill="lighten" w="86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562" h="21600">
                <a:moveTo>
                  <a:pt x="432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86562" h="21600">
                <a:moveTo>
                  <a:pt x="44386" y="14281"/>
                </a:moveTo>
                <a:lnTo>
                  <a:pt x="44386" y="12323"/>
                </a:lnTo>
                <a:cubicBezTo>
                  <a:pt x="44386" y="11496"/>
                  <a:pt x="44717" y="10800"/>
                  <a:pt x="45318" y="10800"/>
                </a:cubicBezTo>
                <a:cubicBezTo>
                  <a:pt x="46449" y="10800"/>
                  <a:pt x="47346" y="9434"/>
                  <a:pt x="47346" y="7849"/>
                </a:cubicBezTo>
                <a:cubicBezTo>
                  <a:pt x="47346" y="5534"/>
                  <a:pt x="45492" y="3794"/>
                  <a:pt x="43281" y="3794"/>
                </a:cubicBezTo>
                <a:cubicBezTo>
                  <a:pt x="41070" y="3794"/>
                  <a:pt x="39399" y="5534"/>
                  <a:pt x="39399" y="7849"/>
                </a:cubicBezTo>
                <a:lnTo>
                  <a:pt x="41253" y="7849"/>
                </a:lnTo>
                <a:cubicBezTo>
                  <a:pt x="41253" y="6709"/>
                  <a:pt x="42176" y="5821"/>
                  <a:pt x="43281" y="5821"/>
                </a:cubicBezTo>
                <a:cubicBezTo>
                  <a:pt x="44386" y="5821"/>
                  <a:pt x="45318" y="6709"/>
                  <a:pt x="45318" y="7849"/>
                </a:cubicBezTo>
                <a:cubicBezTo>
                  <a:pt x="45318" y="8589"/>
                  <a:pt x="44848" y="9320"/>
                  <a:pt x="44386" y="9320"/>
                </a:cubicBezTo>
                <a:cubicBezTo>
                  <a:pt x="43281" y="9320"/>
                  <a:pt x="42176" y="10800"/>
                  <a:pt x="42176" y="12323"/>
                </a:cubicBezTo>
                <a:lnTo>
                  <a:pt x="42176" y="14281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 +/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03 - D.Modena - Mystical Force.mp3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гра со зр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79280" y="1268280"/>
            <a:ext cx="8785440" cy="97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личество баллов: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…………………………………………………………………………………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7928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лавиш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psLock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">
            <a:hlinkClick r:id="rId5"/>
          </p:cNvPr>
          <p:cNvSpPr/>
          <p:nvPr/>
        </p:nvSpPr>
        <p:spPr>
          <a:xfrm>
            <a:off x="2484360" y="2997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262728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9"/>
          <p:cNvSpPr/>
          <p:nvPr/>
        </p:nvSpPr>
        <p:spPr>
          <a:xfrm>
            <a:off x="313200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>
            <a:hlinkClick r:id="rId6"/>
          </p:cNvPr>
          <p:cNvSpPr/>
          <p:nvPr/>
        </p:nvSpPr>
        <p:spPr>
          <a:xfrm>
            <a:off x="543564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3203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2"/>
          <p:cNvSpPr/>
          <p:nvPr/>
        </p:nvSpPr>
        <p:spPr>
          <a:xfrm>
            <a:off x="6084720" y="1989000"/>
            <a:ext cx="2880000" cy="136872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45443" h="21600">
                <a:moveTo>
                  <a:pt x="0" y="0"/>
                </a:moveTo>
                <a:lnTo>
                  <a:pt x="45443" y="0"/>
                </a:lnTo>
                <a:lnTo>
                  <a:pt x="45443" y="21600"/>
                </a:lnTo>
                <a:lnTo>
                  <a:pt x="0" y="21600"/>
                </a:lnTo>
                <a:close/>
              </a:path>
              <a:path fill="lightenLess" w="45443" h="21600">
                <a:moveTo>
                  <a:pt x="0" y="0"/>
                </a:moveTo>
                <a:lnTo>
                  <a:pt x="45443" y="0"/>
                </a:lnTo>
                <a:lnTo>
                  <a:pt x="44044" y="1400"/>
                </a:lnTo>
                <a:lnTo>
                  <a:pt x="1400" y="1400"/>
                </a:lnTo>
                <a:close/>
              </a:path>
              <a:path fill="darken" w="45443" h="21600">
                <a:moveTo>
                  <a:pt x="45443" y="0"/>
                </a:moveTo>
                <a:lnTo>
                  <a:pt x="45443" y="21600"/>
                </a:lnTo>
                <a:lnTo>
                  <a:pt x="44044" y="20200"/>
                </a:lnTo>
                <a:lnTo>
                  <a:pt x="44044" y="1400"/>
                </a:lnTo>
                <a:close/>
              </a:path>
              <a:path fill="darkenLess" w="45443" h="21600">
                <a:moveTo>
                  <a:pt x="45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44" y="20200"/>
                </a:lnTo>
                <a:close/>
              </a:path>
              <a:path fill="lighten" w="45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лавиш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pac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>
            <a:hlinkClick r:id="rId10"/>
          </p:cNvPr>
          <p:cNvSpPr/>
          <p:nvPr/>
        </p:nvSpPr>
        <p:spPr>
          <a:xfrm>
            <a:off x="8388360" y="299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3780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8"/>
          <p:cNvSpPr/>
          <p:nvPr/>
        </p:nvSpPr>
        <p:spPr>
          <a:xfrm>
            <a:off x="17928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9">
            <a:hlinkClick r:id="rId11"/>
          </p:cNvPr>
          <p:cNvSpPr/>
          <p:nvPr/>
        </p:nvSpPr>
        <p:spPr>
          <a:xfrm>
            <a:off x="2484360" y="443700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8406"/>
                </a:moveTo>
                <a:lnTo>
                  <a:pt x="16283" y="8406"/>
                </a:lnTo>
                <a:lnTo>
                  <a:pt x="20705" y="3794"/>
                </a:lnTo>
                <a:lnTo>
                  <a:pt x="20705" y="17806"/>
                </a:lnTo>
                <a:lnTo>
                  <a:pt x="16283" y="13194"/>
                </a:lnTo>
                <a:lnTo>
                  <a:pt x="11853" y="13194"/>
                </a:lnTo>
                <a:close/>
              </a:path>
              <a:path fill="darken" w="37719" h="21600">
                <a:moveTo>
                  <a:pt x="22359" y="10800"/>
                </a:moveTo>
                <a:lnTo>
                  <a:pt x="25866" y="10800"/>
                </a:lnTo>
              </a:path>
              <a:path fill="darken" w="37719" h="21600">
                <a:moveTo>
                  <a:pt x="22359" y="8406"/>
                </a:moveTo>
                <a:lnTo>
                  <a:pt x="25866" y="5639"/>
                </a:lnTo>
              </a:path>
              <a:path fill="darken" w="37719" h="21600">
                <a:moveTo>
                  <a:pt x="22359" y="13194"/>
                </a:moveTo>
                <a:lnTo>
                  <a:pt x="2586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435600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2"/>
          <p:cNvSpPr/>
          <p:nvPr/>
        </p:nvSpPr>
        <p:spPr>
          <a:xfrm>
            <a:off x="313200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3">
            <a:hlinkClick r:id="rId12"/>
          </p:cNvPr>
          <p:cNvSpPr/>
          <p:nvPr/>
        </p:nvSpPr>
        <p:spPr>
          <a:xfrm>
            <a:off x="543564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493236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6"/>
          <p:cNvSpPr/>
          <p:nvPr/>
        </p:nvSpPr>
        <p:spPr>
          <a:xfrm>
            <a:off x="6084720" y="342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7">
            <a:hlinkClick r:id="rId14"/>
          </p:cNvPr>
          <p:cNvSpPr/>
          <p:nvPr/>
        </p:nvSpPr>
        <p:spPr>
          <a:xfrm>
            <a:off x="8388360" y="4437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8406"/>
                </a:moveTo>
                <a:lnTo>
                  <a:pt x="16270" y="8406"/>
                </a:lnTo>
                <a:lnTo>
                  <a:pt x="20691" y="3794"/>
                </a:lnTo>
                <a:lnTo>
                  <a:pt x="20691" y="17806"/>
                </a:lnTo>
                <a:lnTo>
                  <a:pt x="16270" y="13194"/>
                </a:lnTo>
                <a:lnTo>
                  <a:pt x="11840" y="13194"/>
                </a:lnTo>
                <a:close/>
              </a:path>
              <a:path fill="darken" w="37693" h="21600">
                <a:moveTo>
                  <a:pt x="22345" y="10800"/>
                </a:moveTo>
                <a:lnTo>
                  <a:pt x="25853" y="10800"/>
                </a:lnTo>
              </a:path>
              <a:path fill="darken" w="37693" h="21600">
                <a:moveTo>
                  <a:pt x="22345" y="8406"/>
                </a:moveTo>
                <a:lnTo>
                  <a:pt x="25853" y="5639"/>
                </a:lnTo>
              </a:path>
              <a:path fill="darken" w="37693" h="21600">
                <a:moveTo>
                  <a:pt x="22345" y="13194"/>
                </a:moveTo>
                <a:lnTo>
                  <a:pt x="25853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8"/>
          <p:cNvSpPr/>
          <p:nvPr/>
        </p:nvSpPr>
        <p:spPr>
          <a:xfrm>
            <a:off x="550872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0"/>
          <p:cNvSpPr/>
          <p:nvPr/>
        </p:nvSpPr>
        <p:spPr>
          <a:xfrm>
            <a:off x="17928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Клавиш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PageUp</a:t>
            </a:r>
            <a:r>
              <a:rPr b="0" lang="be-BY" sz="16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31">
            <a:hlinkClick r:id="rId18"/>
          </p:cNvPr>
          <p:cNvSpPr/>
          <p:nvPr/>
        </p:nvSpPr>
        <p:spPr>
          <a:xfrm>
            <a:off x="2484360" y="587700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8406"/>
                </a:moveTo>
                <a:lnTo>
                  <a:pt x="16307" y="8406"/>
                </a:lnTo>
                <a:lnTo>
                  <a:pt x="20728" y="3794"/>
                </a:lnTo>
                <a:lnTo>
                  <a:pt x="20728" y="17806"/>
                </a:lnTo>
                <a:lnTo>
                  <a:pt x="16307" y="13194"/>
                </a:lnTo>
                <a:lnTo>
                  <a:pt x="11877" y="13194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25890" y="10800"/>
                </a:lnTo>
              </a:path>
              <a:path fill="darken" w="37766" h="21600">
                <a:moveTo>
                  <a:pt x="22382" y="8406"/>
                </a:moveTo>
                <a:lnTo>
                  <a:pt x="25890" y="5639"/>
                </a:lnTo>
              </a:path>
              <a:path fill="darken" w="37766" h="21600">
                <a:moveTo>
                  <a:pt x="22382" y="13194"/>
                </a:moveTo>
                <a:lnTo>
                  <a:pt x="25890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3"/>
          <p:cNvSpPr/>
          <p:nvPr/>
        </p:nvSpPr>
        <p:spPr>
          <a:xfrm>
            <a:off x="6084720" y="1341360"/>
            <a:ext cx="50508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4"/>
          <p:cNvSpPr/>
          <p:nvPr/>
        </p:nvSpPr>
        <p:spPr>
          <a:xfrm>
            <a:off x="32400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>
            <a:off x="3276720" y="2060640"/>
            <a:ext cx="431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6227640" y="2060640"/>
            <a:ext cx="43200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400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76720" y="350028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6227640" y="350028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0"/>
          <p:cNvSpPr/>
          <p:nvPr/>
        </p:nvSpPr>
        <p:spPr>
          <a:xfrm>
            <a:off x="32400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1"/>
          <p:cNvSpPr/>
          <p:nvPr/>
        </p:nvSpPr>
        <p:spPr>
          <a:xfrm>
            <a:off x="313200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Клавиш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PageDow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2"/>
          <p:cNvSpPr/>
          <p:nvPr/>
        </p:nvSpPr>
        <p:spPr>
          <a:xfrm>
            <a:off x="6084720" y="4869000"/>
            <a:ext cx="2880000" cy="1368360"/>
          </a:xfrm>
          <a:custGeom>
            <a:avLst/>
            <a:gdLst>
              <a:gd name="textAreaLeft" fmla="*/ 88560 w 2880000"/>
              <a:gd name="textAreaRight" fmla="*/ 2791440 w 288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45455" h="21600">
                <a:moveTo>
                  <a:pt x="0" y="0"/>
                </a:moveTo>
                <a:lnTo>
                  <a:pt x="45455" y="0"/>
                </a:lnTo>
                <a:lnTo>
                  <a:pt x="45455" y="21600"/>
                </a:lnTo>
                <a:lnTo>
                  <a:pt x="0" y="21600"/>
                </a:lnTo>
                <a:close/>
              </a:path>
              <a:path fill="lightenLess" w="45455" h="21600">
                <a:moveTo>
                  <a:pt x="0" y="0"/>
                </a:moveTo>
                <a:lnTo>
                  <a:pt x="45455" y="0"/>
                </a:lnTo>
                <a:lnTo>
                  <a:pt x="44056" y="1400"/>
                </a:lnTo>
                <a:lnTo>
                  <a:pt x="1400" y="1400"/>
                </a:lnTo>
                <a:close/>
              </a:path>
              <a:path fill="darken" w="45455" h="21600">
                <a:moveTo>
                  <a:pt x="45455" y="0"/>
                </a:moveTo>
                <a:lnTo>
                  <a:pt x="45455" y="21600"/>
                </a:lnTo>
                <a:lnTo>
                  <a:pt x="44056" y="20200"/>
                </a:lnTo>
                <a:lnTo>
                  <a:pt x="44056" y="1400"/>
                </a:lnTo>
                <a:close/>
              </a:path>
              <a:path fill="darkenLess" w="45455" h="21600">
                <a:moveTo>
                  <a:pt x="45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6" y="20200"/>
                </a:lnTo>
                <a:close/>
              </a:path>
              <a:path fill="lighten" w="45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Клавиш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spac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43">
            <a:hlinkClick r:id="rId23"/>
          </p:cNvPr>
          <p:cNvSpPr/>
          <p:nvPr/>
        </p:nvSpPr>
        <p:spPr>
          <a:xfrm>
            <a:off x="543564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5"/>
          <p:cNvSpPr/>
          <p:nvPr/>
        </p:nvSpPr>
        <p:spPr>
          <a:xfrm>
            <a:off x="665964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46"/>
          <p:cNvSpPr/>
          <p:nvPr/>
        </p:nvSpPr>
        <p:spPr>
          <a:xfrm>
            <a:off x="3276720" y="4941720"/>
            <a:ext cx="431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7"/>
          <p:cNvSpPr/>
          <p:nvPr/>
        </p:nvSpPr>
        <p:spPr>
          <a:xfrm>
            <a:off x="6227640" y="4941720"/>
            <a:ext cx="43200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48">
            <a:hlinkClick r:id="rId24"/>
          </p:cNvPr>
          <p:cNvSpPr/>
          <p:nvPr/>
        </p:nvSpPr>
        <p:spPr>
          <a:xfrm>
            <a:off x="8388360" y="5877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8406"/>
                </a:moveTo>
                <a:lnTo>
                  <a:pt x="16293" y="8406"/>
                </a:lnTo>
                <a:lnTo>
                  <a:pt x="20715" y="3794"/>
                </a:lnTo>
                <a:lnTo>
                  <a:pt x="20715" y="17806"/>
                </a:lnTo>
                <a:lnTo>
                  <a:pt x="16293" y="13194"/>
                </a:lnTo>
                <a:lnTo>
                  <a:pt x="11863" y="13194"/>
                </a:lnTo>
                <a:close/>
              </a:path>
              <a:path fill="darken" w="37739" h="21600">
                <a:moveTo>
                  <a:pt x="22369" y="10800"/>
                </a:moveTo>
                <a:lnTo>
                  <a:pt x="25876" y="10800"/>
                </a:lnTo>
              </a:path>
              <a:path fill="darken" w="37739" h="21600">
                <a:moveTo>
                  <a:pt x="22369" y="8406"/>
                </a:moveTo>
                <a:lnTo>
                  <a:pt x="25876" y="5639"/>
                </a:lnTo>
              </a:path>
              <a:path fill="darken" w="37739" h="21600">
                <a:moveTo>
                  <a:pt x="22369" y="13194"/>
                </a:moveTo>
                <a:lnTo>
                  <a:pt x="25876" y="1596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9"/>
          <p:cNvSpPr/>
          <p:nvPr/>
        </p:nvSpPr>
        <p:spPr>
          <a:xfrm>
            <a:off x="7236000" y="1341360"/>
            <a:ext cx="5047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51"/>
          <p:cNvSpPr/>
          <p:nvPr/>
        </p:nvSpPr>
        <p:spPr>
          <a:xfrm>
            <a:off x="8172360" y="638172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7020" y="3837"/>
                </a:moveTo>
                <a:lnTo>
                  <a:pt x="29597" y="6448"/>
                </a:ln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lnTo>
                  <a:pt x="33983" y="10800"/>
                </a:lnTo>
                <a:lnTo>
                  <a:pt x="32330" y="10800"/>
                </a:lnTo>
                <a:lnTo>
                  <a:pt x="32330" y="17989"/>
                </a:lnTo>
                <a:lnTo>
                  <a:pt x="21711" y="17989"/>
                </a:lnTo>
                <a:lnTo>
                  <a:pt x="21711" y="10800"/>
                </a:lnTo>
                <a:lnTo>
                  <a:pt x="20057" y="10800"/>
                </a:lnTo>
                <a:close/>
              </a:path>
              <a:path fill="darkenLess" w="54041" h="21600">
                <a:moveTo>
                  <a:pt x="29597" y="6448"/>
                </a:moveTo>
                <a:lnTo>
                  <a:pt x="29597" y="4707"/>
                </a:lnTo>
                <a:lnTo>
                  <a:pt x="31372" y="4707"/>
                </a:lnTo>
                <a:lnTo>
                  <a:pt x="31372" y="8224"/>
                </a:lnTo>
                <a:close/>
              </a:path>
              <a:path fill="darkenLess" w="54041" h="21600">
                <a:moveTo>
                  <a:pt x="26098" y="14299"/>
                </a:moveTo>
                <a:lnTo>
                  <a:pt x="27943" y="14299"/>
                </a:lnTo>
                <a:lnTo>
                  <a:pt x="27943" y="17989"/>
                </a:lnTo>
                <a:lnTo>
                  <a:pt x="32330" y="17989"/>
                </a:lnTo>
                <a:lnTo>
                  <a:pt x="32330" y="10800"/>
                </a:lnTo>
                <a:lnTo>
                  <a:pt x="21711" y="10800"/>
                </a:lnTo>
                <a:lnTo>
                  <a:pt x="21711" y="17989"/>
                </a:lnTo>
                <a:lnTo>
                  <a:pt x="260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3" descr="AG00317_"/>
          <p:cNvPicPr/>
          <p:nvPr/>
        </p:nvPicPr>
        <p:blipFill>
          <a:blip r:embed="rId25"/>
          <a:stretch/>
        </p:blipFill>
        <p:spPr>
          <a:xfrm>
            <a:off x="250920" y="187200"/>
            <a:ext cx="936360" cy="801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5" descr="14"/>
          <p:cNvPicPr/>
          <p:nvPr/>
        </p:nvPicPr>
        <p:blipFill>
          <a:blip r:embed="rId26"/>
          <a:stretch/>
        </p:blipFill>
        <p:spPr>
          <a:xfrm>
            <a:off x="0" y="191628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80"/>
          <p:cNvSpPr/>
          <p:nvPr/>
        </p:nvSpPr>
        <p:spPr>
          <a:xfrm>
            <a:off x="176364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1"/>
          <p:cNvSpPr/>
          <p:nvPr/>
        </p:nvSpPr>
        <p:spPr>
          <a:xfrm>
            <a:off x="241128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2"/>
          <p:cNvSpPr/>
          <p:nvPr/>
        </p:nvSpPr>
        <p:spPr>
          <a:xfrm>
            <a:off x="3059280" y="0"/>
            <a:ext cx="576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3"/>
          <p:cNvSpPr/>
          <p:nvPr/>
        </p:nvSpPr>
        <p:spPr>
          <a:xfrm>
            <a:off x="370836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4"/>
          <p:cNvSpPr/>
          <p:nvPr/>
        </p:nvSpPr>
        <p:spPr>
          <a:xfrm>
            <a:off x="435600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5"/>
          <p:cNvSpPr/>
          <p:nvPr/>
        </p:nvSpPr>
        <p:spPr>
          <a:xfrm>
            <a:off x="500364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9"/>
          <p:cNvSpPr/>
          <p:nvPr/>
        </p:nvSpPr>
        <p:spPr>
          <a:xfrm>
            <a:off x="5651640" y="0"/>
            <a:ext cx="576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0"/>
          <p:cNvSpPr/>
          <p:nvPr/>
        </p:nvSpPr>
        <p:spPr>
          <a:xfrm>
            <a:off x="630072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1"/>
          <p:cNvSpPr/>
          <p:nvPr/>
        </p:nvSpPr>
        <p:spPr>
          <a:xfrm>
            <a:off x="6948360" y="0"/>
            <a:ext cx="576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2"/>
          <p:cNvSpPr/>
          <p:nvPr/>
        </p:nvSpPr>
        <p:spPr>
          <a:xfrm>
            <a:off x="0" y="0"/>
            <a:ext cx="1187280" cy="260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твет +/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3"/>
          <p:cNvSpPr/>
          <p:nvPr/>
        </p:nvSpPr>
        <p:spPr>
          <a:xfrm>
            <a:off x="176364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4"/>
          <p:cNvSpPr/>
          <p:nvPr/>
        </p:nvSpPr>
        <p:spPr>
          <a:xfrm>
            <a:off x="241128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5"/>
          <p:cNvSpPr/>
          <p:nvPr/>
        </p:nvSpPr>
        <p:spPr>
          <a:xfrm>
            <a:off x="3059280" y="981000"/>
            <a:ext cx="576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6"/>
          <p:cNvSpPr/>
          <p:nvPr/>
        </p:nvSpPr>
        <p:spPr>
          <a:xfrm>
            <a:off x="370836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7"/>
          <p:cNvSpPr/>
          <p:nvPr/>
        </p:nvSpPr>
        <p:spPr>
          <a:xfrm>
            <a:off x="435600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8"/>
          <p:cNvSpPr/>
          <p:nvPr/>
        </p:nvSpPr>
        <p:spPr>
          <a:xfrm>
            <a:off x="500364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5651640" y="981000"/>
            <a:ext cx="576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0"/>
          <p:cNvSpPr/>
          <p:nvPr/>
        </p:nvSpPr>
        <p:spPr>
          <a:xfrm>
            <a:off x="630072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1"/>
          <p:cNvSpPr/>
          <p:nvPr/>
        </p:nvSpPr>
        <p:spPr>
          <a:xfrm>
            <a:off x="6948360" y="981000"/>
            <a:ext cx="57636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2"/>
          <p:cNvSpPr/>
          <p:nvPr/>
        </p:nvSpPr>
        <p:spPr>
          <a:xfrm>
            <a:off x="0" y="981000"/>
            <a:ext cx="1187280" cy="260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03"/>
          <p:cNvSpPr/>
          <p:nvPr/>
        </p:nvSpPr>
        <p:spPr>
          <a:xfrm>
            <a:off x="4932360" y="6308640"/>
            <a:ext cx="1152360" cy="289080"/>
          </a:xfrm>
          <a:custGeom>
            <a:avLst/>
            <a:gdLst>
              <a:gd name="textAreaLeft" fmla="*/ 18720 w 1152360"/>
              <a:gd name="textAreaRight" fmla="*/ 1133640 w 115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6024" h="21600">
                <a:moveTo>
                  <a:pt x="0" y="0"/>
                </a:moveTo>
                <a:lnTo>
                  <a:pt x="86024" y="0"/>
                </a:lnTo>
                <a:lnTo>
                  <a:pt x="86024" y="21600"/>
                </a:lnTo>
                <a:lnTo>
                  <a:pt x="0" y="21600"/>
                </a:lnTo>
                <a:close/>
              </a:path>
              <a:path fill="lightenLess" w="86024" h="21600">
                <a:moveTo>
                  <a:pt x="0" y="0"/>
                </a:moveTo>
                <a:lnTo>
                  <a:pt x="86024" y="0"/>
                </a:lnTo>
                <a:lnTo>
                  <a:pt x="84624" y="1400"/>
                </a:lnTo>
                <a:lnTo>
                  <a:pt x="1400" y="1400"/>
                </a:lnTo>
                <a:close/>
              </a:path>
              <a:path fill="darken" w="86024" h="21600">
                <a:moveTo>
                  <a:pt x="86024" y="0"/>
                </a:moveTo>
                <a:lnTo>
                  <a:pt x="86024" y="21600"/>
                </a:lnTo>
                <a:lnTo>
                  <a:pt x="84624" y="20200"/>
                </a:lnTo>
                <a:lnTo>
                  <a:pt x="84624" y="1400"/>
                </a:lnTo>
                <a:close/>
              </a:path>
              <a:path fill="darkenLess" w="86024" h="21600">
                <a:moveTo>
                  <a:pt x="8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624" y="20200"/>
                </a:lnTo>
                <a:close/>
              </a:path>
              <a:path fill="lighten" w="8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т от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4" descr="викторина2"/>
          <p:cNvPicPr/>
          <p:nvPr/>
        </p:nvPicPr>
        <p:blipFill>
          <a:blip r:embed="rId27"/>
          <a:stretch/>
        </p:blipFill>
        <p:spPr>
          <a:xfrm>
            <a:off x="755640" y="350028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5" descr="викторина1"/>
          <p:cNvPicPr/>
          <p:nvPr/>
        </p:nvPicPr>
        <p:blipFill>
          <a:blip r:embed="rId28"/>
          <a:stretch/>
        </p:blipFill>
        <p:spPr>
          <a:xfrm>
            <a:off x="3780000" y="350028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6" descr="викторина4"/>
          <p:cNvPicPr/>
          <p:nvPr/>
        </p:nvPicPr>
        <p:blipFill>
          <a:blip r:embed="rId29"/>
          <a:stretch/>
        </p:blipFill>
        <p:spPr>
          <a:xfrm>
            <a:off x="6227640" y="3789360"/>
            <a:ext cx="2160720" cy="907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7" descr="викторина3"/>
          <p:cNvPicPr/>
          <p:nvPr/>
        </p:nvPicPr>
        <p:blipFill>
          <a:blip r:embed="rId30"/>
          <a:srcRect l="0" t="10160" r="0" b="0"/>
          <a:stretch/>
        </p:blipFill>
        <p:spPr>
          <a:xfrm>
            <a:off x="3203640" y="2349360"/>
            <a:ext cx="2232000" cy="935280"/>
          </a:xfrm>
          <a:prstGeom prst="rect">
            <a:avLst/>
          </a:prstGeom>
          <a:ln w="0">
            <a:noFill/>
          </a:ln>
        </p:spPr>
      </p:pic>
      <p:pic>
        <p:nvPicPr>
          <p:cNvPr id="410" name="13 - D.Modena - Song Of Babe Jane.mp3" descr=""/>
          <p:cNvPicPr/>
          <p:nvPr/>
        </p:nvPicPr>
        <p:blipFill>
          <a:blip r:embed="rId31"/>
          <a:stretch/>
        </p:blipFill>
        <p:spPr>
          <a:xfrm>
            <a:off x="850104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2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37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0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381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391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403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410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421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7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428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43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5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446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457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469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481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500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7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3" dur="1" fill="hold">
                                    <p:stCondLst>
                                      <p:cond evt="end">
                                        <p:tn val="1680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9" dur="1" fill="hold">
                                    <p:stCondLst>
                                      <p:cond evt="end">
                                        <p:tn val="1686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5" dur="1" fill="hold">
                                    <p:stCondLst>
                                      <p:cond evt="end">
                                        <p:tn val="1692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1" dur="1" fill="hold">
                                    <p:stCondLst>
                                      <p:cond evt="end">
                                        <p:tn val="1698"/>
                                      </p:cond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7" dur="1" fill="hold">
                                    <p:stCondLst>
                                      <p:cond evt="end">
                                        <p:tn val="1704"/>
                                      </p:cond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3" dur="1" fill="hold">
                                    <p:stCondLst>
                                      <p:cond evt="end">
                                        <p:tn val="1710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9" dur="1" fill="hold">
                                    <p:stCondLst>
                                      <p:cond evt="end">
                                        <p:tn val="1716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731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4" dur="203679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0:11:22Z</dcterms:created>
  <dc:creator>User</dc:creator>
  <dc:description/>
  <dc:language>en-US</dc:language>
  <cp:lastModifiedBy>Admin</cp:lastModifiedBy>
  <dcterms:modified xsi:type="dcterms:W3CDTF">2010-05-06T10:35:23Z</dcterms:modified>
  <cp:revision>76</cp:revision>
  <dc:subject/>
  <dc:title>Умницы и умники</dc:title>
</cp:coreProperties>
</file>