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AF7D-AF9C-4FE2-96E0-03E879C95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D735-1F59-4AF0-8E7D-138A14139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F6B-EB31-4403-B259-A009D850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2D9-2856-42F0-AAC9-308203A6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C3F-6447-488D-AAE3-47C0DAC4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DFF-31A4-4AA7-AC9D-8CD57E3E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A04-605C-4078-8BBB-B91AE75C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5AF-FDC1-4F1B-9589-A0E91A5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E39-2F9E-478F-BD19-8D0DEF45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05C-5E15-4860-8CBC-2DA222C7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6FD-254F-461E-B1E1-60BCE49B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15D-964E-42DD-8B02-446FB5F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7AA-432F-4EE9-A596-2FCE8236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22F-88EC-460F-9C6E-AAC370C4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7FA3-964B-48B9-B913-5900A1C8F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Копия (5) погода (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WHATEVER THE WEATHER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WHETHER WE LIKE IT OR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c1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 you remember my po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 (3)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 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Копия (4) погода (8)"/>
          <p:cNvPicPr/>
          <p:nvPr/>
        </p:nvPicPr>
        <p:blipFill>
          <a:blip r:embed="rId1"/>
          <a:stretch/>
        </p:blipFill>
        <p:spPr>
          <a:xfrm>
            <a:off x="0" y="0"/>
            <a:ext cx="89917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Копия (5) погода (8)"/>
          <p:cNvPicPr/>
          <p:nvPr/>
        </p:nvPicPr>
        <p:blipFill>
          <a:blip r:embed="rId2"/>
          <a:stretch/>
        </p:blipFill>
        <p:spPr>
          <a:xfrm>
            <a:off x="533520" y="3809880"/>
            <a:ext cx="4038480" cy="2793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3352680" y="76320"/>
            <a:ext cx="457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Копия 1 (1)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9" name="Oval 5"/>
          <p:cNvSpPr/>
          <p:nvPr/>
        </p:nvSpPr>
        <p:spPr>
          <a:xfrm>
            <a:off x="4648320" y="228600"/>
            <a:ext cx="4267080" cy="19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876920" y="243828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4495680" y="2895480"/>
            <a:ext cx="53352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4267080" y="320040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5105520" y="1219320"/>
            <a:ext cx="36576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 have some task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or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погода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ааааа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Копия 1 (1)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4724280" y="228600"/>
            <a:ext cx="4267440" cy="1905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4876920" y="2438280"/>
            <a:ext cx="7617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4495680" y="2895480"/>
            <a:ext cx="53352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4267080" y="320040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4952880" y="1219320"/>
            <a:ext cx="381024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 have so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w words for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ol [ ku:l ]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прохла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rost [ frɔst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моро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y [ drai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сух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ot [ hɔt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ld [ kɔld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хол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owers ['ʃa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ә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z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ли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now [ sn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ә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izzle [ drizl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изморо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st [ mist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легкий туман, ды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blossom [æt 'blɔs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ә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цве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il [ heil 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understorm [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Arial"/>
              </a:rPr>
              <a:t>θʌ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d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ә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ɔ:m]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- гро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погода (3)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Новый рисунок (16)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3" name="Oval 5"/>
          <p:cNvSpPr/>
          <p:nvPr/>
        </p:nvSpPr>
        <p:spPr>
          <a:xfrm>
            <a:off x="3657600" y="2438280"/>
            <a:ext cx="25146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4267080" y="3886200"/>
            <a:ext cx="19814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6095880" y="472428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6400800" y="4876920"/>
            <a:ext cx="22860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733920" y="3352680"/>
            <a:ext cx="30456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733920" y="3581280"/>
            <a:ext cx="15228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1"/>
          <p:cNvSpPr txBox="1"/>
          <p:nvPr/>
        </p:nvSpPr>
        <p:spPr>
          <a:xfrm rot="322200">
            <a:off x="3814920" y="2663640"/>
            <a:ext cx="2209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1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llo my friends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1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12"/>
          <p:cNvSpPr txBox="1"/>
          <p:nvPr/>
        </p:nvSpPr>
        <p:spPr>
          <a:xfrm rot="394800">
            <a:off x="4419720" y="4038480"/>
            <a:ext cx="175716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8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 are Ti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8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8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 Tom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8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погода (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Новый рисунок (17)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пог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ааа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погода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Новый рисунок (15)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погода (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погода (21)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1295280" y="2895480"/>
            <a:ext cx="6934320" cy="373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hether the weather is hot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hether the weather is not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e‘ll weather the weather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hatever the weather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entury"/>
              </a:rPr>
              <a:t>Whether we like it or not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1295280" y="2895480"/>
            <a:ext cx="6934320" cy="373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Жаркая ли погода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Или погода не жаркая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Мы выдержим погоду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Любую погоду 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entury"/>
              </a:rPr>
              <a:t>Нравится нам это или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Копия 1 (1)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4" name="Oval 7"/>
          <p:cNvSpPr/>
          <p:nvPr/>
        </p:nvSpPr>
        <p:spPr>
          <a:xfrm>
            <a:off x="4800600" y="380880"/>
            <a:ext cx="3962520" cy="198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5181480" y="838080"/>
            <a:ext cx="327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day we'll speak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bout the weather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Oval 9"/>
          <p:cNvSpPr/>
          <p:nvPr/>
        </p:nvSpPr>
        <p:spPr>
          <a:xfrm>
            <a:off x="5029200" y="2362320"/>
            <a:ext cx="6858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4724280" y="2895480"/>
            <a:ext cx="45720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4343400" y="320040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914400" y="16002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ll don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Oval 6"/>
          <p:cNvSpPr/>
          <p:nvPr/>
        </p:nvSpPr>
        <p:spPr>
          <a:xfrm>
            <a:off x="3581280" y="2133720"/>
            <a:ext cx="23623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352680" y="3124080"/>
            <a:ext cx="3812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124080" y="3429000"/>
            <a:ext cx="2286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3809880" y="2514600"/>
            <a:ext cx="19051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ood by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533520" y="609480"/>
            <a:ext cx="7086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many season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 you know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457200" y="297180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are they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Копия (2) 1 (1)"/>
          <p:cNvPicPr/>
          <p:nvPr/>
        </p:nvPicPr>
        <p:blipFill>
          <a:blip r:embed="rId1"/>
          <a:stretch/>
        </p:blipFill>
        <p:spPr>
          <a:xfrm>
            <a:off x="5737320" y="2286000"/>
            <a:ext cx="3178080" cy="428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опия погода (15)"/>
          <p:cNvPicPr/>
          <p:nvPr/>
        </p:nvPicPr>
        <p:blipFill>
          <a:blip r:embed="rId2"/>
          <a:stretch/>
        </p:blipFill>
        <p:spPr>
          <a:xfrm rot="20662200">
            <a:off x="738360" y="4476240"/>
            <a:ext cx="183672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Копия погода"/>
          <p:cNvPicPr/>
          <p:nvPr/>
        </p:nvPicPr>
        <p:blipFill>
          <a:blip r:embed="rId3"/>
          <a:stretch/>
        </p:blipFill>
        <p:spPr>
          <a:xfrm rot="389400">
            <a:off x="3124080" y="4191120"/>
            <a:ext cx="22860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Новый рисунок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Новый рисунок (14)"/>
          <p:cNvPicPr/>
          <p:nvPr/>
        </p:nvPicPr>
        <p:blipFill>
          <a:blip r:embed="rId1"/>
          <a:stretch/>
        </p:blipFill>
        <p:spPr>
          <a:xfrm>
            <a:off x="304920" y="762120"/>
            <a:ext cx="8076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447920" y="533520"/>
            <a:ext cx="6400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's the season toda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990720" y="1752480"/>
            <a:ext cx="697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's describe the weather in Autumn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6" descr="Копия (2) погода (15)"/>
          <p:cNvPicPr/>
          <p:nvPr/>
        </p:nvPicPr>
        <p:blipFill>
          <a:blip r:embed="rId5"/>
          <a:stretch/>
        </p:blipFill>
        <p:spPr>
          <a:xfrm>
            <a:off x="3581280" y="2895480"/>
            <a:ext cx="250056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 rot="916200">
            <a:off x="914400" y="2971440"/>
            <a:ext cx="19526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9999"/>
                    </a:gs>
                  </a:gsLst>
                  <a:lin ang="352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cloudy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9999"/>
                  </a:gs>
                </a:gsLst>
                <a:lin ang="352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8"/>
          <p:cNvSpPr txBox="1"/>
          <p:nvPr/>
        </p:nvSpPr>
        <p:spPr>
          <a:xfrm rot="20308800">
            <a:off x="6553080" y="3124080"/>
            <a:ext cx="1533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9999"/>
                    </a:gs>
                  </a:gsLst>
                  <a:lin ang="795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rain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9999"/>
                  </a:gs>
                </a:gsLst>
                <a:lin ang="795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WordArt 9"/>
          <p:cNvSpPr txBox="1"/>
          <p:nvPr/>
        </p:nvSpPr>
        <p:spPr>
          <a:xfrm>
            <a:off x="838080" y="4038480"/>
            <a:ext cx="1857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windy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6781680" y="4267080"/>
            <a:ext cx="1781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foggy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11"/>
          <p:cNvSpPr txBox="1"/>
          <p:nvPr/>
        </p:nvSpPr>
        <p:spPr>
          <a:xfrm rot="20791200">
            <a:off x="1218960" y="5105520"/>
            <a:ext cx="12096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9999"/>
                    </a:gs>
                  </a:gsLst>
                  <a:lin ang="699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... 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9999"/>
                  </a:gs>
                </a:gsLst>
                <a:lin ang="699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12"/>
          <p:cNvSpPr txBox="1"/>
          <p:nvPr/>
        </p:nvSpPr>
        <p:spPr>
          <a:xfrm rot="1032600">
            <a:off x="6781320" y="5410080"/>
            <a:ext cx="12099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99cc00"/>
                    </a:gs>
                  </a:gsLst>
                  <a:lin ang="32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's ... 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99cc00"/>
                  </a:gs>
                </a:gsLst>
                <a:lin ang="32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опия погода (8)"/>
          <p:cNvPicPr/>
          <p:nvPr/>
        </p:nvPicPr>
        <p:blipFill>
          <a:blip r:embed="rId1"/>
          <a:stretch/>
        </p:blipFill>
        <p:spPr>
          <a:xfrm>
            <a:off x="457200" y="258840"/>
            <a:ext cx="8153280" cy="124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Копия (2) погода (8)"/>
          <p:cNvPicPr/>
          <p:nvPr/>
        </p:nvPicPr>
        <p:blipFill>
          <a:blip r:embed="rId2"/>
          <a:stretch/>
        </p:blipFill>
        <p:spPr>
          <a:xfrm>
            <a:off x="304920" y="1676520"/>
            <a:ext cx="3292200" cy="44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Копия (3) погода (8)"/>
          <p:cNvPicPr/>
          <p:nvPr/>
        </p:nvPicPr>
        <p:blipFill>
          <a:blip r:embed="rId3"/>
          <a:stretch/>
        </p:blipFill>
        <p:spPr>
          <a:xfrm>
            <a:off x="3809880" y="3581280"/>
            <a:ext cx="5096160" cy="236088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3962520" y="1905120"/>
            <a:ext cx="45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 have a poem for you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3962520" y="2743200"/>
            <a:ext cx="4838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et's read it together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Check Yoursel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погода (19)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7-30T18:05:18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