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D4ED-94EF-4457-9EE2-B73D932E5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114-27F6-47D4-9359-B01B903C4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B49-CC6C-40C5-9FB5-8436898B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97D-88BD-4D4C-962A-C3EBAD75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496-9A44-42C5-92FF-71D89E38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472-A3F3-4F58-AEDF-892D82BB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7AB-8A04-4261-AA29-811CBC8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3F3-79E5-45E6-BFE1-4FA87F0A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0CF-0EC2-4415-B5F0-760F2AD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F7B-283C-4FC6-917B-E900AA02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65E-7AC1-4AED-9404-43E4595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981-FB2D-4132-945B-7D6A48E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1E7-402D-412C-8E02-859A079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CB1-B6C3-434F-A5B0-981237E0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B65-E39F-4D1E-AFD1-D99D7CE0E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опия (5) погода (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WHATEVER THE WEATHER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WHETHER WE LIKE IT OR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c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remember my po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 (3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 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Копия (4) погода (8)"/>
          <p:cNvPicPr/>
          <p:nvPr/>
        </p:nvPicPr>
        <p:blipFill>
          <a:blip r:embed="rId1"/>
          <a:stretch/>
        </p:blipFill>
        <p:spPr>
          <a:xfrm>
            <a:off x="0" y="0"/>
            <a:ext cx="89917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опия (5) погода (8)"/>
          <p:cNvPicPr/>
          <p:nvPr/>
        </p:nvPicPr>
        <p:blipFill>
          <a:blip r:embed="rId2"/>
          <a:stretch/>
        </p:blipFill>
        <p:spPr>
          <a:xfrm>
            <a:off x="533520" y="3809880"/>
            <a:ext cx="4038480" cy="2793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3352680" y="763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опия 1 (1)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4648320" y="228600"/>
            <a:ext cx="4267080" cy="19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876920" y="243828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4495680" y="2895480"/>
            <a:ext cx="533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26708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105520" y="1219320"/>
            <a:ext cx="36576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 have some task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or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погода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ааааа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Копия 1 (1)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4724280" y="228600"/>
            <a:ext cx="4267440" cy="1905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876920" y="243828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4495680" y="2895480"/>
            <a:ext cx="533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426708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4952880" y="1219320"/>
            <a:ext cx="381024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 have so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w words for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ol [ ku:l ]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рохла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ost [ frɔs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y [ drai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сух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t [ hɔ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d [ kɔld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owers ['ʃa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л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now [ sn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izzle [ drizl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изморо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st [ mis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легкий туман, ды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blossom [æt 'blɔs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цв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il [ heil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understorm [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Arial"/>
              </a:rPr>
              <a:t>θ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ɔ:m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гр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погода (3)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Новый рисунок (16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3" name="Oval 5"/>
          <p:cNvSpPr/>
          <p:nvPr/>
        </p:nvSpPr>
        <p:spPr>
          <a:xfrm>
            <a:off x="3657600" y="2438280"/>
            <a:ext cx="25146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267080" y="3886200"/>
            <a:ext cx="19814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6095880" y="472428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6400800" y="4876920"/>
            <a:ext cx="22860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733920" y="3352680"/>
            <a:ext cx="30456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733920" y="358128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 rot="322200">
            <a:off x="3814920" y="2663640"/>
            <a:ext cx="2209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llo my friend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2"/>
          <p:cNvSpPr txBox="1"/>
          <p:nvPr/>
        </p:nvSpPr>
        <p:spPr>
          <a:xfrm rot="394800">
            <a:off x="4419720" y="4038480"/>
            <a:ext cx="17571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are Ti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To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погода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Новый рисунок (17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г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ааа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погода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Новый рисунок (15)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погода 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погода (21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295280" y="2895480"/>
            <a:ext cx="693432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the weather is hot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the weather is not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e‘ll weather the weather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atever the weather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we like it or not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1295280" y="2895480"/>
            <a:ext cx="693432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Жаркая ли погода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Или погода не жаркая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Мы выдержим погоду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Любую погоду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Нравится нам это или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опия 1 (1)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Oval 7"/>
          <p:cNvSpPr/>
          <p:nvPr/>
        </p:nvSpPr>
        <p:spPr>
          <a:xfrm>
            <a:off x="4800600" y="380880"/>
            <a:ext cx="3962520" cy="198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5181480" y="83808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day we'll spea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bout the weather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Oval 9"/>
          <p:cNvSpPr/>
          <p:nvPr/>
        </p:nvSpPr>
        <p:spPr>
          <a:xfrm>
            <a:off x="5029200" y="2362320"/>
            <a:ext cx="6858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724280" y="2895480"/>
            <a:ext cx="45720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434340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14400" y="16002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ll don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Oval 6"/>
          <p:cNvSpPr/>
          <p:nvPr/>
        </p:nvSpPr>
        <p:spPr>
          <a:xfrm>
            <a:off x="3581280" y="2133720"/>
            <a:ext cx="23623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352680" y="3124080"/>
            <a:ext cx="3812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124080" y="342900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809880" y="2514600"/>
            <a:ext cx="1905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ood by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533520" y="609480"/>
            <a:ext cx="7086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many season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 you know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57200" y="29718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Копия (2) 1 (1)"/>
          <p:cNvPicPr/>
          <p:nvPr/>
        </p:nvPicPr>
        <p:blipFill>
          <a:blip r:embed="rId1"/>
          <a:stretch/>
        </p:blipFill>
        <p:spPr>
          <a:xfrm>
            <a:off x="5737320" y="2286000"/>
            <a:ext cx="3178080" cy="42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опия погода (15)"/>
          <p:cNvPicPr/>
          <p:nvPr/>
        </p:nvPicPr>
        <p:blipFill>
          <a:blip r:embed="rId2"/>
          <a:stretch/>
        </p:blipFill>
        <p:spPr>
          <a:xfrm rot="20662200">
            <a:off x="738360" y="4476240"/>
            <a:ext cx="183672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Копия погода"/>
          <p:cNvPicPr/>
          <p:nvPr/>
        </p:nvPicPr>
        <p:blipFill>
          <a:blip r:embed="rId3"/>
          <a:stretch/>
        </p:blipFill>
        <p:spPr>
          <a:xfrm rot="389400">
            <a:off x="3124080" y="4191120"/>
            <a:ext cx="2286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Новый рисунок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Новый рисунок (14)"/>
          <p:cNvPicPr/>
          <p:nvPr/>
        </p:nvPicPr>
        <p:blipFill>
          <a:blip r:embed="rId1"/>
          <a:stretch/>
        </p:blipFill>
        <p:spPr>
          <a:xfrm>
            <a:off x="304920" y="762120"/>
            <a:ext cx="8076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447920" y="533520"/>
            <a:ext cx="6400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's the season toda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990720" y="1752480"/>
            <a:ext cx="697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describe the weather in Autumn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Копия (2) погода (15)"/>
          <p:cNvPicPr/>
          <p:nvPr/>
        </p:nvPicPr>
        <p:blipFill>
          <a:blip r:embed="rId5"/>
          <a:stretch/>
        </p:blipFill>
        <p:spPr>
          <a:xfrm>
            <a:off x="3581280" y="2895480"/>
            <a:ext cx="250056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 rot="916200">
            <a:off x="914400" y="2971440"/>
            <a:ext cx="1952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9999"/>
                    </a:gs>
                  </a:gsLst>
                  <a:lin ang="352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cloud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9999"/>
                  </a:gs>
                </a:gsLst>
                <a:lin ang="352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8"/>
          <p:cNvSpPr txBox="1"/>
          <p:nvPr/>
        </p:nvSpPr>
        <p:spPr>
          <a:xfrm rot="20308800">
            <a:off x="6553080" y="3124080"/>
            <a:ext cx="1533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99"/>
                    </a:gs>
                  </a:gsLst>
                  <a:lin ang="795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rain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9999"/>
                  </a:gs>
                </a:gsLst>
                <a:lin ang="795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838080" y="4038480"/>
            <a:ext cx="1857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wind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6781680" y="4267080"/>
            <a:ext cx="1781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fogg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11"/>
          <p:cNvSpPr txBox="1"/>
          <p:nvPr/>
        </p:nvSpPr>
        <p:spPr>
          <a:xfrm rot="20791200">
            <a:off x="1218960" y="5105520"/>
            <a:ext cx="1209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99"/>
                    </a:gs>
                  </a:gsLst>
                  <a:lin ang="699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... 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9999"/>
                  </a:gs>
                </a:gsLst>
                <a:lin ang="699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12"/>
          <p:cNvSpPr txBox="1"/>
          <p:nvPr/>
        </p:nvSpPr>
        <p:spPr>
          <a:xfrm rot="1032600">
            <a:off x="6781320" y="5410080"/>
            <a:ext cx="12099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99cc00"/>
                    </a:gs>
                  </a:gsLst>
                  <a:lin ang="32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... 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99cc00"/>
                  </a:gs>
                </a:gsLst>
                <a:lin ang="32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опия погода (8)"/>
          <p:cNvPicPr/>
          <p:nvPr/>
        </p:nvPicPr>
        <p:blipFill>
          <a:blip r:embed="rId1"/>
          <a:stretch/>
        </p:blipFill>
        <p:spPr>
          <a:xfrm>
            <a:off x="457200" y="258840"/>
            <a:ext cx="8153280" cy="124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опия (2) погода (8)"/>
          <p:cNvPicPr/>
          <p:nvPr/>
        </p:nvPicPr>
        <p:blipFill>
          <a:blip r:embed="rId2"/>
          <a:stretch/>
        </p:blipFill>
        <p:spPr>
          <a:xfrm>
            <a:off x="304920" y="1676520"/>
            <a:ext cx="3292200" cy="44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Копия (3) погода (8)"/>
          <p:cNvPicPr/>
          <p:nvPr/>
        </p:nvPicPr>
        <p:blipFill>
          <a:blip r:embed="rId3"/>
          <a:stretch/>
        </p:blipFill>
        <p:spPr>
          <a:xfrm>
            <a:off x="3809880" y="3581280"/>
            <a:ext cx="5096160" cy="236088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3962520" y="1905120"/>
            <a:ext cx="45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 have a poem for you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3962520" y="2743200"/>
            <a:ext cx="4838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et's read it together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Check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погода (19)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7-30T18:05:18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