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png" ContentType="image/png"/>
  <Override PartName="/ppt/media/image20.wmf" ContentType="image/x-wmf"/>
  <Override PartName="/ppt/media/image4.png" ContentType="image/png"/>
  <Override PartName="/ppt/media/image13.jpeg" ContentType="image/jpeg"/>
  <Override PartName="/ppt/media/image19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E99-621C-4282-99AD-11F0BFB3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57A-03B3-47CA-B53C-B8DEB084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7036-CF35-4F63-A9B9-73BC832E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6076-078A-4DB5-9D56-49CB7AB4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C58-66CE-485E-ABFB-253CBB6B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F69-90BB-455E-AEE8-3BD6DA58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4A8-9FE9-4631-9E24-DF8EF356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438-6321-4B25-A903-7D5B1928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FB66-8B1F-42F5-A9F0-9CE0E774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2A3A-8F2D-4EE8-97C8-D11466AF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FC8D-E1BE-4063-B687-586A9F7A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C421-A60E-4314-A64B-6B273055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A8CF-4E0F-4CCE-99A4-A8EC8B9F2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8.jpeg"/><Relationship Id="rId2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19640" y="105264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ff"/>
                </a:solidFill>
                <a:latin typeface="Monotype Corsiva"/>
              </a:rPr>
              <a:t>Тем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844640"/>
            <a:ext cx="8135640" cy="31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Monotype Corsiva"/>
              </a:rPr>
              <a:t>Влияние сотового телефона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Monotype Corsiva"/>
              </a:rPr>
              <a:t> </a:t>
            </a:r>
            <a:r>
              <a:rPr b="1" i="1" lang="en-US" sz="4800" spc="-1" strike="noStrike">
                <a:solidFill>
                  <a:srgbClr val="cc00ff"/>
                </a:solidFill>
                <a:latin typeface="Monotype Corsiva"/>
              </a:rPr>
              <a:t>на организм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1080" y="189000"/>
            <a:ext cx="86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Районная конференция учебно-исследовательских работ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51320" y="3716280"/>
            <a:ext cx="655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Выполнили: Астапчик Юля, Толстик В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Уащиеся гр.№25 МГПЛ 2 легкой промыш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Научный руководитель: Федоренчик А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реподаватель  физики и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91040" y="620568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г.Минс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55640" y="0"/>
            <a:ext cx="74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Преимущества мобильной связ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2700360" cy="3380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39640" y="2421000"/>
            <a:ext cx="4608720" cy="3529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50000">
                      <a:srgbClr val="aeaef0"/>
                    </a:gs>
                    <a:gs pos="100000">
                      <a:srgbClr val="66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Чистое звучание речи</a:t>
            </a:r>
            <a:endParaRPr b="0" lang="en-US" sz="20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50000">
                    <a:srgbClr val="aeaef0"/>
                  </a:gs>
                  <a:gs pos="100000">
                    <a:srgbClr val="66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50000">
                      <a:srgbClr val="aeaef0"/>
                    </a:gs>
                    <a:gs pos="100000">
                      <a:srgbClr val="66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Отсутствие</a:t>
            </a:r>
            <a:endParaRPr b="0" lang="en-US" sz="20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50000">
                    <a:srgbClr val="aeaef0"/>
                  </a:gs>
                  <a:gs pos="100000">
                    <a:srgbClr val="66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50000">
                      <a:srgbClr val="aeaef0"/>
                    </a:gs>
                    <a:gs pos="100000">
                      <a:srgbClr val="66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50000">
                      <a:srgbClr val="aeaef0"/>
                    </a:gs>
                    <a:gs pos="100000">
                      <a:srgbClr val="66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торонних шумов</a:t>
            </a:r>
            <a:endParaRPr b="0" lang="en-US" sz="20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50000">
                    <a:srgbClr val="aeaef0"/>
                  </a:gs>
                  <a:gs pos="100000">
                    <a:srgbClr val="66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50000">
                      <a:srgbClr val="aeaef0"/>
                    </a:gs>
                    <a:gs pos="100000">
                      <a:srgbClr val="66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Высокое качество связи</a:t>
            </a:r>
            <a:endParaRPr b="0" lang="en-US" sz="20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50000">
                    <a:srgbClr val="aeaef0"/>
                  </a:gs>
                  <a:gs pos="100000">
                    <a:srgbClr val="66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50000">
                      <a:srgbClr val="aeaef0"/>
                    </a:gs>
                    <a:gs pos="100000">
                      <a:srgbClr val="66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Защита от прослушивания</a:t>
            </a:r>
            <a:endParaRPr b="0" lang="en-US" sz="20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50000">
                    <a:srgbClr val="aeaef0"/>
                  </a:gs>
                  <a:gs pos="100000">
                    <a:srgbClr val="66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50000">
                      <a:srgbClr val="aeaef0"/>
                    </a:gs>
                    <a:gs pos="100000">
                      <a:srgbClr val="66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Высокая скорость </a:t>
            </a:r>
            <a:endParaRPr b="0" lang="en-US" sz="20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50000">
                    <a:srgbClr val="aeaef0"/>
                  </a:gs>
                  <a:gs pos="100000">
                    <a:srgbClr val="66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92360" y="620640"/>
            <a:ext cx="64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Мнение учены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06560" y="2492280"/>
            <a:ext cx="633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Британский Институт раковых исследований обнародовал данные собственного исследования, по итогам был сделан вывод: использование мобильных телефонов не приводит к увеличению риска возникновения рака моз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248436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79640" y="0"/>
            <a:ext cx="60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Так ли опасен мобильны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637000"/>
            <a:ext cx="626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 статьях отечественных и зарубежных изданий не дается конкретного и четкого ответа на вопрос,  вредно или безвредно это излучение для человека и каковы критерии “безвредности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ока не вынесен обвинительный приговор сотовому телеф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372360" y="2708280"/>
            <a:ext cx="21412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00000" y="189000"/>
            <a:ext cx="70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«Мобильный детям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   </a:t>
            </a: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не игрушк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2852640"/>
            <a:ext cx="763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Излучение мобильников особенно сказывается на детском организме, что связано с недостаточным развитием у них иммунной системы. Огромный вред наносится мозгу ребёнка, так как его клетки мозга только начали развиваться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радиоволны разрушают кле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головной коры и моз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903240" cy="1582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651640" y="4076640"/>
            <a:ext cx="27367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57000" y="0"/>
            <a:ext cx="758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Самые опасны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  </a:t>
            </a: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телефон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42920" y="2708280"/>
          <a:ext cx="6329520" cy="3208320"/>
        </p:xfrm>
        <a:graphic>
          <a:graphicData uri="http://schemas.openxmlformats.org/drawingml/2006/table">
            <a:tbl>
              <a:tblPr/>
              <a:tblGrid>
                <a:gridCol w="3164040"/>
                <a:gridCol w="316548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а телеф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ola SLVR L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8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ola V120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5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ola V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5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ola V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4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ola V70 C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3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ola ST7868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3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ola A8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1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m Treo 650 G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1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asonic Al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1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87280" y="0"/>
            <a:ext cx="698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Самые безопасные    телефон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19280" y="2924280"/>
          <a:ext cx="6329160" cy="2749320"/>
        </p:xfrm>
        <a:graphic>
          <a:graphicData uri="http://schemas.openxmlformats.org/drawingml/2006/table">
            <a:tbl>
              <a:tblPr/>
              <a:tblGrid>
                <a:gridCol w="3163680"/>
                <a:gridCol w="3165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и телеф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diovox PPC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 Вт/кг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ola MPx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ola Timeport L7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comm pdQ-1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34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-Mobile Sidek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76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sung SGH-S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96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sung SGH-S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96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emens S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3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4360" y="260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Georgia"/>
              </a:rPr>
              <a:t>Рекомендаци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884960"/>
            <a:ext cx="51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* Не вешайте телефон ребенку на ше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267696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* Детям и подросткам нужно ограничивать время пользования телефон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3427920"/>
            <a:ext cx="747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*Сократите до минимума разговоры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местах с плохой связь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3880" y="436464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* Используйте гарни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479628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* Помните, что максимальная мощность излучается сотовым телефоном во время установления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94840"/>
            <a:ext cx="85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* При покупке телефона обращайте внимание не только на возможности и дизайн телефона, но и на значение S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732720" y="3068640"/>
            <a:ext cx="21589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240840" y="260280"/>
            <a:ext cx="96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Интересные факт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76360" y="1557360"/>
            <a:ext cx="766764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Во всем мире насчитывается 3,3 млрд.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ункционирующих сотовых телефонов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125 млн. телевонов каждый год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правляется в мусорное ведро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Подросток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правляет 20000 sms в год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92360" y="3933720"/>
            <a:ext cx="7200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10% абонентов - это дети 5-7 лет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На всем земном шаре осталась одна страна,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шенная мобильной связи - это государство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увинские остров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14731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74560" y="476280"/>
            <a:ext cx="85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Телефонный этике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1916280"/>
            <a:ext cx="8459640" cy="1728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Необходимо  отключать мобильный телефон,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гда его использование может подвергнуть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асности жизни людей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Следует воздержаться от использования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лефона во время управления транспортом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4005360"/>
            <a:ext cx="6662880" cy="10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Необходимо отключать телефон в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атрах, кинотеатрах, в музеях и других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щественных местах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3"/>
          <a:srcRect l="21166" t="0" r="21166" b="0"/>
          <a:stretch/>
        </p:blipFill>
        <p:spPr>
          <a:xfrm>
            <a:off x="7667640" y="4076640"/>
            <a:ext cx="1476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1537200" y="260280"/>
            <a:ext cx="1215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Monotype Corsiva"/>
              </a:rPr>
              <a:t>Какова средняя длительность одн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Monotype Corsiva"/>
              </a:rPr>
              <a:t>  </a:t>
            </a:r>
            <a:r>
              <a:rPr b="1" i="1" lang="en-US" sz="4800" spc="-1" strike="noStrike">
                <a:solidFill>
                  <a:srgbClr val="cc00ff"/>
                </a:solidFill>
                <a:latin typeface="Monotype Corsiva"/>
              </a:rPr>
              <a:t>разговора по сотовому телефону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26920" y="1989000"/>
          <a:ext cx="7944120" cy="38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89000"/>
                    <a:ext cx="79441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ff"/>
                </a:solidFill>
                <a:latin typeface="Monotype Corsiva"/>
              </a:rPr>
              <a:t>   </a:t>
            </a: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Актуальность тем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9280" y="1811160"/>
            <a:ext cx="57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ейчас у многих взрослых и даже детей имеются свои собственные сотовые телефоны. Мы все оценили преимущество и удобство беспроводной сотовой связи, и  с каждым годом «трубок» становится больше и бол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24256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-608760"/>
            <a:ext cx="830088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9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</a:t>
            </a:r>
            <a:r>
              <a:rPr b="1" i="1" lang="en-US" sz="4800" spc="-1" strike="noStrike">
                <a:solidFill>
                  <a:srgbClr val="cc00ff"/>
                </a:solidFill>
                <a:latin typeface="Monotype Corsiva"/>
              </a:rPr>
              <a:t>Где вы носите сотовый телефон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9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26920" y="1916280"/>
          <a:ext cx="7344000" cy="41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16280"/>
                    <a:ext cx="7344000" cy="41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068200" y="500112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-541440" y="1657440"/>
          <a:ext cx="9506160" cy="52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1440" y="1657440"/>
                    <a:ext cx="950616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-1521360" y="476280"/>
            <a:ext cx="1156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Monotype Corsiva"/>
              </a:rPr>
              <a:t>Самый популярный телефон в лиц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52160" y="115920"/>
            <a:ext cx="580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Заключе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924200"/>
            <a:ext cx="8569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В своей работе мы не ответили однозначно на вопрос: «Какой вред оказывает сотовый телефон на здоровье человека?» Ведь даже ученые не пришли к единому мнению. Но такая проблема существует, и  каждый из нас обязан принять простые меры предосторожности. Ведь здоровье человека потом ни 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какие деньги не купишь. Поэтому 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выпустили буклет с рекомендац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о пользовании сотовым телеф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И своим долгом считаем информир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насе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88000" y="3573360"/>
            <a:ext cx="1944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68360" y="-747720"/>
            <a:ext cx="39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     </a:t>
            </a: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Гипотез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55640" y="2060640"/>
            <a:ext cx="716616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ff00"/>
                    </a:gs>
                    <a:gs pos="100000">
                      <a:srgbClr val="66ff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умное использование 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ffff00"/>
                  </a:gs>
                  <a:gs pos="100000">
                    <a:srgbClr val="66ff33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ff00"/>
                    </a:gs>
                    <a:gs pos="100000">
                      <a:srgbClr val="66ff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тового телефона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ffff00"/>
                  </a:gs>
                  <a:gs pos="100000">
                    <a:srgbClr val="66ff33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ff00"/>
                    </a:gs>
                    <a:gs pos="100000">
                      <a:srgbClr val="66ff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ff00"/>
                    </a:gs>
                    <a:gs pos="100000">
                      <a:srgbClr val="66ff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наносит вреда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ffff00"/>
                  </a:gs>
                  <a:gs pos="100000">
                    <a:srgbClr val="66ff33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ff00"/>
                    </a:gs>
                    <a:gs pos="100000">
                      <a:srgbClr val="66ff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ff00"/>
                    </a:gs>
                    <a:gs pos="100000">
                      <a:srgbClr val="66ff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ью человека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ffff00"/>
                  </a:gs>
                  <a:gs pos="100000">
                    <a:srgbClr val="66ff33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8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385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38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38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47840" y="72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60280"/>
            <a:ext cx="968544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           </a:t>
            </a: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Проблема</a:t>
            </a:r>
            <a:r>
              <a:rPr b="1" i="1" lang="en-US" sz="5400" spc="-1" strike="noStrike">
                <a:solidFill>
                  <a:srgbClr val="cc00ff"/>
                </a:solidFill>
                <a:latin typeface="Monotype Corsiv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47640" y="4986360"/>
            <a:ext cx="619308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3399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достаток знаний среди населения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3399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3399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 теме: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3399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3399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3399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ияние сотового телефона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3399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3399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организм человека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3399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63640" y="1916280"/>
          <a:ext cx="6048360" cy="28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16280"/>
                    <a:ext cx="6048360" cy="28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160" y="4436640"/>
            <a:ext cx="4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980640"/>
            <a:ext cx="842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На вопрос: Читали ли вы когда-либо в СМИ о влиянии сотового телефона на организм человека?,   23 опрошенных ответили так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89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       </a:t>
            </a: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Цель работ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2205000"/>
            <a:ext cx="8497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учить влияние сотового телефона </a:t>
            </a:r>
            <a:endParaRPr b="1" lang="en-US" sz="1800" spc="1" strike="noStrike">
              <a:ln w="1584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организм человека</a:t>
            </a:r>
            <a:endParaRPr b="1" lang="en-US" sz="1800" spc="1" strike="noStrike">
              <a:ln w="1584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2000" y="4437000"/>
            <a:ext cx="26827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5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950"/>
                            </p:stCondLst>
                            <p:childTnLst>
                              <p:par>
                                <p:cTn id="7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348640" y="189000"/>
            <a:ext cx="34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Задач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2060640"/>
            <a:ext cx="8829720" cy="28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Изучить теоритеческий материал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Выяснить, как сотовый телефон влияет н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доровье человек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Выяснить, как сотовый телефон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ияет на детский организм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Создать работу по данной теме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484360" y="5084640"/>
            <a:ext cx="385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Выпустить буклет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620640" y="333360"/>
            <a:ext cx="1068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Методы исследова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26920" y="1989000"/>
            <a:ext cx="59198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Анализ и синтез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Сравне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Статистический мето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Анткетиров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164360" y="3860640"/>
            <a:ext cx="17445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40280" y="333360"/>
            <a:ext cx="61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Содержание</a:t>
            </a:r>
            <a:r>
              <a:rPr b="1" i="1" lang="en-US" sz="6000" spc="-1" strike="noStrike">
                <a:solidFill>
                  <a:srgbClr val="cc00ff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3840" y="1484280"/>
            <a:ext cx="7943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История создания сотового телеф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Преимущества мобильной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Интервью 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Мнения уче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Так ли опасен моби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Мобильный детям не игр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Самые опасные телеф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Самые безопасные телеф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Рекоменд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Интересные фа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Телефонный этик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672560" y="189000"/>
            <a:ext cx="1247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ff"/>
                </a:solidFill>
                <a:latin typeface="Monotype Corsiva"/>
              </a:rPr>
              <a:t>История создания сотовог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ff"/>
                </a:solidFill>
                <a:latin typeface="Monotype Corsiva"/>
              </a:rPr>
              <a:t>             </a:t>
            </a:r>
            <a:r>
              <a:rPr b="1" i="1" lang="en-US" sz="6600" spc="-1" strike="noStrike">
                <a:solidFill>
                  <a:srgbClr val="cc00ff"/>
                </a:solidFill>
                <a:latin typeface="Monotype Corsiva"/>
              </a:rPr>
              <a:t>телефо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2857320" cy="3694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419640" y="2997360"/>
            <a:ext cx="504000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Первый сотовый </a:t>
            </a:r>
            <a:endParaRPr b="0" lang="en-US" sz="20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лефон изобрели</a:t>
            </a:r>
            <a:endParaRPr b="0" lang="en-US" sz="20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1947 году в США</a:t>
            </a:r>
            <a:endParaRPr b="0" lang="en-US" sz="20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3 апреля 1973 года</a:t>
            </a:r>
            <a:endParaRPr b="0" lang="en-US" sz="20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ыла смонтирована </a:t>
            </a:r>
            <a:endParaRPr b="0" lang="en-US" sz="20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вая базовоя станция</a:t>
            </a:r>
            <a:endParaRPr b="0" lang="en-US" sz="20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прошли испытания </a:t>
            </a:r>
            <a:endParaRPr b="0" lang="en-US" sz="20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вого в мире</a:t>
            </a:r>
            <a:endParaRPr b="0" lang="en-US" sz="20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бильного телефона </a:t>
            </a:r>
            <a:endParaRPr b="0" lang="en-US" sz="20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14:05:01Z</dcterms:created>
  <dc:creator>WinXPProSP3</dc:creator>
  <dc:description/>
  <dc:language>en-US</dc:language>
  <cp:lastModifiedBy>WinXPProSP3</cp:lastModifiedBy>
  <dcterms:modified xsi:type="dcterms:W3CDTF">2014-01-22T10:18:00Z</dcterms:modified>
  <cp:revision>3</cp:revision>
  <dc:subject/>
  <dc:title>Слайд 1</dc:title>
</cp:coreProperties>
</file>