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1B7-4765-4F3C-BD9B-413A85A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60B-3371-42A9-A45F-172EE9D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841-1AA3-4B09-BB51-2A617CAA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E99-7BA0-4DFA-9449-694E14C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36D-5689-43FF-A8FB-CBC624F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C07-8531-445D-8C79-946133B7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98E-8939-494E-A26D-E9102D4C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CAA-8E00-4B5F-B39B-2F5567B5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143-5682-4ADC-88FF-DC72C7EC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279-C01D-4439-9FDC-18A3EA0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C74-9278-4C34-BF15-8DB203D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3F3-C1A0-4FE1-88AF-F7C1E51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A97-DEE1-45D1-AF2C-196A9836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1052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Тем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844640"/>
            <a:ext cx="813564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Влияние сотового телефона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1080" y="189000"/>
            <a:ext cx="86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Районная конференция учебно-исследовательских работ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1320" y="3716280"/>
            <a:ext cx="65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Выполнили: Астапчик Юля, Толстик В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Уащиеся гр.№25 МГПЛ 2 легко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Научный руководитель: Федоренчик А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реподаватель  физ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91040" y="620568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г.Мин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Преимущества мобильной связ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700360" cy="338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2421000"/>
            <a:ext cx="4608720" cy="352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Чистое звучание речи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Отсутствие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оронних шумов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сокое качество связи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Защита от прослушивания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aeaef0"/>
                    </a:gs>
                    <a:gs pos="100000">
                      <a:srgbClr val="66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сокая скорость </a:t>
            </a:r>
            <a:endParaRPr b="0" lang="en-US" sz="2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aeaef0"/>
                  </a:gs>
                  <a:gs pos="100000">
                    <a:srgbClr val="66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62064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Мнение уче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2492280"/>
            <a:ext cx="63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Британский Институт раковых исследований обнародовал данные собственного исследования, по итогам был сделан вывод: использование мобильных телефонов не приводит к увеличению риска возникновения рака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484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79640" y="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ак ли опасен мобиль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37000"/>
            <a:ext cx="62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 статьях отечественных и зарубежных изданий не дается конкретного и четкого ответа на вопрос,  вредно или безвредно это излучение для человека и каковы критерии “безвредност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не вынесен обвинительный приговор сотовому 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72360" y="2708280"/>
            <a:ext cx="2141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189000"/>
            <a:ext cx="70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«Мобильный детям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не игруш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285264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Излучение мобильников особенно сказывается на детском организме, что связано с недостаточным развитием у них иммунной системы. Огромный вред наносится мозгу ребёнка, так как его клетки мозга только начали развиваться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радиоволны разрушают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головной коры и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903240" cy="158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651640" y="4076640"/>
            <a:ext cx="2736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7000" y="0"/>
            <a:ext cx="758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амые опасны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елеф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42920" y="2708280"/>
          <a:ext cx="6329520" cy="3208320"/>
        </p:xfrm>
        <a:graphic>
          <a:graphicData uri="http://schemas.openxmlformats.org/drawingml/2006/table">
            <a:tbl>
              <a:tblPr/>
              <a:tblGrid>
                <a:gridCol w="3164040"/>
                <a:gridCol w="316548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а телеф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SLVR 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8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120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V70 C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ST7868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A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m Treo 650 G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sonic Al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87280" y="0"/>
            <a:ext cx="698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амые безопасные    телефо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19280" y="2924280"/>
          <a:ext cx="6329160" cy="2749320"/>
        </p:xfrm>
        <a:graphic>
          <a:graphicData uri="http://schemas.openxmlformats.org/drawingml/2006/table">
            <a:tbl>
              <a:tblPr/>
              <a:tblGrid>
                <a:gridCol w="3163680"/>
                <a:gridCol w="3165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и телеф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ovox PP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 Вт/к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MPx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orola Timeport L7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pdQ-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34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Mobile Sidek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sung SGH-S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sung SGH-S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96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mens S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3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260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Georgia"/>
              </a:rPr>
              <a:t>Рекомендац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84960"/>
            <a:ext cx="51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Не вешайте телефон ребенку на ш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6769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Детям и подросткам нужно ограничивать время пользования телефо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427920"/>
            <a:ext cx="747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Сократите до минимума разговор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местах с плохой связь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3880" y="4364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Используйте гарни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796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Помните, что максимальная мощность излучается сотовым телефоном во время установления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9484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* При покупке телефона обращайте внимание не только на возможности и дизайн телефона, но и на значение S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32720" y="3068640"/>
            <a:ext cx="2158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40840" y="260280"/>
            <a:ext cx="96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Интересные фак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6360" y="1557360"/>
            <a:ext cx="76676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о всем мире насчитывается 3,3 млрд.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нкционирующих сотовых телефонов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125 млн. телевонов каждый год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правляется в мусорное ведро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Подросток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правляет 20000 sms в год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2360" y="3933720"/>
            <a:ext cx="72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10% абонентов - это дети 5-7 лет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а всем земном шаре осталась одна страна,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шенная мобильной связи - это государство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увинские остров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1473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74560" y="47628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Телефонный этик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916280"/>
            <a:ext cx="8459640" cy="17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еобходимо  отключать мобильный телефон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да его использование может подвергнуть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жизни людей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ледует воздержаться от использования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лефона во время управления транспорто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4005360"/>
            <a:ext cx="666288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Необходимо отключать телефон в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атрах, кинотеатрах, в музеях и других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ественных местах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3"/>
          <a:srcRect l="21166" t="0" r="21166" b="0"/>
          <a:stretch/>
        </p:blipFill>
        <p:spPr>
          <a:xfrm>
            <a:off x="7667640" y="4076640"/>
            <a:ext cx="1476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537200" y="260280"/>
            <a:ext cx="1215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Какова средняя длительность од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 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разговора по сотовому телефон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26920" y="1989000"/>
          <a:ext cx="794412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9000"/>
                    <a:ext cx="79441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Актуальность те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1811160"/>
            <a:ext cx="57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ейчас у многих взрослых и даже детей имеются свои собственные сотовые телефоны. Мы все оценили преимущество и удобство беспроводной сотовой связи, и  с каждым годом «трубок» становится больше и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42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-608760"/>
            <a:ext cx="83008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9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Где вы носите сотовый телефон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9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916280"/>
          <a:ext cx="734400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34400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068200" y="50011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541440" y="1657440"/>
          <a:ext cx="950616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657440"/>
                    <a:ext cx="95061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-1521360" y="476280"/>
            <a:ext cx="1156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Monotype Corsiva"/>
              </a:rPr>
              <a:t>Самый популярный телефон в лиц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52160" y="115920"/>
            <a:ext cx="580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Заключ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92420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 своей работе мы не ответили однозначно на вопрос: «Какой вред оказывает сотовый телефон на здоровье человека?» Ведь даже ученые не пришли к единому мнению. Но такая проблема существует, и  каждый из нас обязан принять простые меры предосторожности. Ведь здоровье человека потом н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какие деньги не купишь. Поэтому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ыпустили буклет с рекомендац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о пользовании сотовым телеф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 своим долгом считаем информ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насе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94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-74772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Гипотез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2060640"/>
            <a:ext cx="71661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мное использование 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тового телефон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наносит вред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ff00"/>
                    </a:gs>
                    <a:gs pos="100000">
                      <a:srgbClr val="66ff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ю человека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ff00"/>
                  </a:gs>
                  <a:gs pos="100000">
                    <a:srgbClr val="66ff33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7840" y="72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0280"/>
            <a:ext cx="96854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 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Проблема</a:t>
            </a:r>
            <a:r>
              <a:rPr b="1" i="1" lang="en-US" sz="5400" spc="-1" strike="noStrike">
                <a:solidFill>
                  <a:srgbClr val="cc00ff"/>
                </a:solidFill>
                <a:latin typeface="Monotype Corsiv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4986360"/>
            <a:ext cx="61930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остаток знаний среди населения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 теме: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сотового телефона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рганизм человека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33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3640" y="1916280"/>
          <a:ext cx="604836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604836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160" y="4436640"/>
            <a:ext cx="4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98064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На вопрос: Читали ли вы когда-либо в СМИ о влиянии сотового телефона на организм человека?,   23 опрошенных ответили т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8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       </a:t>
            </a: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Цель рабо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205000"/>
            <a:ext cx="84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учить влияние сотового телефона 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организм человека</a:t>
            </a:r>
            <a:endParaRPr b="1" lang="en-US" sz="1800" spc="1" strike="noStrike">
              <a:ln w="1584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8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950"/>
                            </p:stCondLst>
                            <p:childTnLst>
                              <p:par>
                                <p:cTn id="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8640" y="18900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Зада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060640"/>
            <a:ext cx="8829720" cy="28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Изучить теоритеческий материал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яснить, как сотовый телефон влияет н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 челове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яснить, как сотовый телефон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ет на детский орга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оздать работу по данной теме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5084640"/>
            <a:ext cx="385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Выпустить букле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620640" y="333360"/>
            <a:ext cx="106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Методы исследова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989000"/>
            <a:ext cx="59198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Анализ и синте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равн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Статистический мет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Анткетир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64360" y="3860640"/>
            <a:ext cx="1744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0280" y="333360"/>
            <a:ext cx="61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00ff"/>
                </a:solidFill>
                <a:latin typeface="Monotype Corsiva"/>
              </a:rPr>
              <a:t>Содержание</a:t>
            </a:r>
            <a:r>
              <a:rPr b="1" i="1" lang="en-US" sz="6000" spc="-1" strike="noStrike">
                <a:solidFill>
                  <a:srgbClr val="cc00ff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840" y="1484280"/>
            <a:ext cx="794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стория создания сотового телеф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реимущества мобиль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нтервью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нения уче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ак ли опасен моб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обильный детям не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амые опасные телеф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амые безопасные телеф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Рекомен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Интересные ф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елефонный этик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672560" y="189000"/>
            <a:ext cx="1247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История создания сотовог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             </a:t>
            </a:r>
            <a:r>
              <a:rPr b="1" i="1" lang="en-US" sz="6600" spc="-1" strike="noStrike">
                <a:solidFill>
                  <a:srgbClr val="cc00ff"/>
                </a:solidFill>
                <a:latin typeface="Monotype Corsiva"/>
              </a:rPr>
              <a:t>телеф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857320" cy="369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419640" y="2997360"/>
            <a:ext cx="5040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Первый сотовый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лефон изобрели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1947 году в США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 3 апреля 1973 года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ыла смонтирована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базовоя станция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прошли испытания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ого в мире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бильного телефона </a:t>
            </a:r>
            <a:endParaRPr b="0" lang="en-US" sz="2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14:05:01Z</dcterms:created>
  <dc:creator>WinXPProSP3</dc:creator>
  <dc:description/>
  <dc:language>en-US</dc:language>
  <cp:lastModifiedBy>WinXPProSP3</cp:lastModifiedBy>
  <dcterms:modified xsi:type="dcterms:W3CDTF">2014-01-22T10:18:00Z</dcterms:modified>
  <cp:revision>3</cp:revision>
  <dc:subject/>
  <dc:title>Слайд 1</dc:title>
</cp:coreProperties>
</file>