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87F-C6EF-401F-8A09-7AEDA096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D61-2D9B-4979-8C45-C64DA470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D23-28E9-4A91-973C-BF7FA53B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6CA-E060-4FD3-80E6-81A9960A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C90-C192-47C4-BAC3-E58F9BA7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262-591D-48AF-9537-1D78C9CF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436-EEEC-4FEE-A600-AED1C819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EDE-0166-4E5F-93E4-F1435597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B31-364E-4A0F-B59B-B176B8FA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527-617D-4AFD-B2AB-82D0F184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DA0-E434-4547-A0B2-07F47DD3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810-5388-4FCA-A81E-F27451A9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13F29-2518-4673-9390-D2C8ABEB29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60360" y="1619280"/>
            <a:ext cx="828036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Calligraph  Medium"/>
              </a:rPr>
              <a:t>Бумажное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Calligraph  Medium"/>
              </a:rPr>
              <a:t>кружев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7964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6036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4000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4000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000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000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000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79640" y="0"/>
            <a:ext cx="7551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8108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31T04:05:29Z</dcterms:created>
  <dc:creator/>
  <dc:description/>
  <dc:language>en-US</dc:language>
  <cp:lastModifiedBy/>
  <cp:revision>1</cp:revision>
  <dc:subject/>
  <dc:title/>
</cp:coreProperties>
</file>