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655-4A90-46B7-8EE4-8FE3201A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6467-8688-4575-9CB4-FA53171B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22C-51B6-4990-BBEE-2ED1759F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C98-34D8-452C-86F8-60F57889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4F1-BB9B-4917-B669-149A1A00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11EA-0ED3-464F-B2A1-C167951F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9BE3-EDCB-42F9-89EC-5EFEA617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806-EA19-46D9-9050-EC473357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E567-2FEC-4195-AABD-6AB4E60B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0A5A-8F9F-47A4-A0D1-3ABA3C69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FAA-0AC8-4D7B-AE21-2B22452F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2367-2FF6-443D-8419-620F93B4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763E2-5743-41AC-A76E-58AC396F3F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60360" y="1619280"/>
            <a:ext cx="828036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Calligraph  Medium"/>
              </a:rPr>
              <a:t>Бумажное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Calligraph  Medium"/>
              </a:rPr>
              <a:t>кружев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79640" y="0"/>
            <a:ext cx="75596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60360" y="0"/>
            <a:ext cx="75596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40000" y="0"/>
            <a:ext cx="75596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40000" y="0"/>
            <a:ext cx="75596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0000" y="0"/>
            <a:ext cx="75596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40000" y="0"/>
            <a:ext cx="75596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0000" y="0"/>
            <a:ext cx="75596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79640" y="0"/>
            <a:ext cx="7551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81080" y="0"/>
            <a:ext cx="75596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31T04:05:29Z</dcterms:created>
  <dc:creator/>
  <dc:description/>
  <dc:language>en-US</dc:language>
  <cp:lastModifiedBy/>
  <cp:revision>1</cp:revision>
  <dc:subject/>
  <dc:title/>
</cp:coreProperties>
</file>