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2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media/image19.png" ContentType="image/pn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211-C180-4F5D-B93D-1252DAFF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CA7-E2AE-4389-8772-7E7FC50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83198-FF9C-44B7-8487-C60595E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65BA6-3170-453E-B4A1-D3EBD93E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D6B66-B94C-4A20-8B43-9D3ED68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29438-24D8-4B39-97DB-7D7B3E2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14BE-AB55-4F87-B464-FA021F8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C6E09-CC4A-4D7E-8B59-E5373C9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4ECEB-15E7-4691-8FE0-1C5B9A72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46372-B40B-4672-8C02-2A476004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69624-E2F2-478B-B76D-02D8B8B5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D2414-CAFA-42F2-8ACD-6265E515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3D6-808F-4D44-8EBD-2090AF94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BECFE-ACC6-4887-9D40-3E3AB53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A2BA-366C-44CA-BCEA-7C617A10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35FA1-540E-41A9-BB3E-7C75274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25781-EBEB-4983-A48E-1D3AB9D0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CB45F-0D44-4ECC-B158-AC89A52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19F64-85E1-4551-B48C-4883000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021D5-D41B-40BF-8056-83DE57A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23D67-1143-48CE-87C6-4B35D867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7F83B-73F1-4077-9A1F-EF9324C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55E3F-B6A7-4492-8B7E-91308FAC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78B-2B06-42C4-A861-EF65CF0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9F19-6921-43F7-852D-9590DF3C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B4CA-5F8E-4198-B61F-0B22741E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DD762-E36C-437F-A47D-17241D9E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3860-8F54-460C-A5E9-3E1B855C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46F23-1E18-4679-8E78-A6356CD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1214A-C787-4B35-AF48-7190EDD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F38D-8F1B-42A2-993C-F6C4FC4E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75733-4B54-4AC3-84D7-96E99882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49DA-2758-43B7-9426-4407BA2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0D163-BFAF-4AB3-887D-89E24EAC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E5A8-4370-4246-A2F4-518A53C6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3895-0FF7-41E7-8D50-52D770C8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F41F8-B128-43AF-B3BE-CD1D8D76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B3B48-27FE-4677-AFDF-625FEC24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6B710-7C92-41DA-86F1-DE6EBADB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21512-E63A-4844-A0F7-3513258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9DD80-F0C7-46F9-95AB-7F402B9A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19BBD-CCCB-4E43-BF7C-A9DEB05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0E91D-8034-4A0E-9BA0-A8F24FDD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66CE5-23DE-4EA5-9C29-98ACC10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A2625-F693-4145-9411-013D5EA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F14A-FDD4-413C-927F-951CF262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D6EF4-37E0-493F-AB0E-E8000C6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DDA6E-D24B-4002-8DAA-C1DEFF1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CB764-C0A4-41DA-A895-9594244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F07C9-E3E7-4D64-9318-67473C9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BA76A-CA41-4F23-A298-32A37594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64DEF-AC16-4DB9-8103-A0065E32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8C236-F3C9-4775-A8E9-D5C9365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76641-1E9F-41F8-B1B9-114ACD3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1BC39-4348-4035-AF5A-724995E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8DE63-5418-4380-BAA3-5A88504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9D1-B29C-494F-A804-7B516A33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07323-791A-4E75-BC4E-28C3A4F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E677B-287A-41A8-8D04-F59E9EA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423E9-9D51-4A2C-811C-88B2662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F0F72-A86F-4B6A-A603-8E9410C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5C8B9-A336-4E1E-8D51-DAE77BB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2B1BF-FFCE-4A74-9D40-C9B4ADF5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84946-0A4E-4B0C-BD86-EDA8643E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E96C-9155-4926-B9A3-B7BDC20F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CDB-0C43-44F8-985F-3DFE6FA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3A0-567A-4576-9D5D-A6DB3D43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01B9-2516-48E5-B298-E17FACB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BBC-9E50-4342-9EAF-D617826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444-1CD8-478C-BB90-5336953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2290-E9C1-4CE2-9505-937F188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B8F-18E0-48E8-8A3D-27C642DE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74C5-83B5-45E8-A88A-C87600DF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875-37A3-48EF-BB6D-D82C8F21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D689-0034-4314-9D0A-6F77FC7F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AD4E-9222-4AAB-A891-E252BA8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4AF0-4FF4-40E6-9160-1C7A7B9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05EE-D185-439A-A2B7-B974180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3A06-61B3-457D-B470-FA616548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1BF-A44B-4F85-900F-62C0FBD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92B2-00BB-44FF-A958-7C6C235A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8A5F-A840-4630-859B-B48842F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5D70-5E51-4CFA-A9D5-56B32DE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4493-11E8-4CE0-B412-E10DE2E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2DFC-466B-47B7-B53D-634F3DB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3FF4-073A-444E-908B-B9217AA1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DE88-8519-419A-ACFA-1586E90A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94385-AB56-4C31-822A-AE77C9C7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A528-77DF-4853-AC88-C224F8F2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239D-7FC9-4FEC-BC1C-21E81F36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E8D-5B99-48F3-A461-379BA51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12CA-8202-420E-8B8C-1B993B4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3E21-E232-4D2B-8A33-17B9D97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3C26-643C-4A6D-8DB7-8F3DABF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3388-DB9B-40CA-A306-8836B67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D89B-EC14-4EA9-B16C-4268D1F1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2FF2-5452-4616-8400-9E0FB45E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6F30-4B47-43CA-8034-B60F672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A322-2F5E-4225-9C21-B9BCBE0A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432B-F57B-478A-B5E3-44FE0F5B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B9C5-FAE8-436C-BEBD-BC713ED0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6DF-D17F-4D9B-9D79-80C94321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3D69-9584-49BF-9614-342C9F4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ED69-9738-4638-908B-6BB12E2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9EFB-146A-4529-939B-6D1E9C42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437F-B13C-453A-A1AE-FE49AF6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69B0-E389-4DCC-B6A3-1B98E3D9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3C36-6B0E-4901-A552-0FDBDB6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01C1-1467-4226-9523-AC3EF379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FEA2-1A4F-4E3B-8CA5-AEA4586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C94E2-43A5-4062-AAA5-DCC9BD9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CD212-084D-495E-8002-50AE8D29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7ED-4F6F-4EED-B614-A3DCEE2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D54D2-9249-4AB6-AEF8-4F7F3C78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E641B-745C-4B48-B239-DBB054D9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EAFB-2A89-4451-907D-E322E59F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1E3E-E031-4BDE-8158-E37E631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6383-9584-44A7-974E-A8535E1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F793F-5E15-4088-B23B-882665F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2734-9B27-4200-9781-EC433F72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04CB-5741-4E97-B602-828AE42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25D7-1FB4-47C5-8E03-AD2FF7B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99FE-7915-4A1F-8B1E-7CD34BFB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E94-DE74-471D-B492-D9BAB1A0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6994-D615-45C6-B8AC-9CA44F6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28D70-27B0-42F1-986C-2C0807D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32A3-0816-4B67-94AE-019D721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3D3E-5BBD-4C1F-8A32-476D6CB3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9344-37D0-4F2A-9CD3-4C57F2E5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5DFD9-B955-4EB7-B5EA-DA96AC4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3E67-2E06-43D3-9CD5-7B67B6FA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78BA-561A-4F24-A7A6-A813031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82DFF-1591-4ECE-8F1B-E302DBC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8878A-1654-4A4E-8A22-90A7A0C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D2A-9A63-4237-B8FA-E92773A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E00C-AEED-4494-BE56-8B4D497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7DD0F-195F-438D-99A9-027723EF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535B-AD45-499D-9B9A-D4B6EA9D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67D8-3921-41F4-A2A6-8CCC928E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9D6C-9DD6-4EAC-8AE1-A961A41F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CDCB1-9149-4930-BD34-8DE8AA0E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EB19-21DE-4755-80F5-7AD18E4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8EAD6-2B2E-404A-B12A-70E7AC52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181D-59B8-4117-89C4-F5A4707D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A9C1-ADB7-44EF-95C1-2DE5638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F5E-A0AE-4E2E-82A9-11D75F68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E863-D32A-4F11-AD45-7CB416F9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A74C-F2A3-4E38-9C8B-3B6F63B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563C-E565-4FBD-A650-84C11EE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4A25-0BE1-4482-A140-EE03C4CD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4DA1-5FA7-4055-B5EB-8C5AF73E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832D-CDBD-4008-B0AA-4077C82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4DD33-732D-4156-8394-073E538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154C9-ECA4-49AE-B361-A43DF7C4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FFF86-676C-4749-8B93-E4A79D6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0026-EFF2-4014-B1BE-ECB2A9B1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7CB4-F796-445A-B889-77E85E4E9B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CE8-6E43-4B4C-84C1-C8991D6D2A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5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08A7-08C7-4611-A434-B3B06506EB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C2C0-ACA0-4EE4-B73D-5F6F897568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D6AB-EEA9-4051-9120-5B558D5E65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A9C-674E-433F-8B92-DC6D448CDF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7C2-1EB0-4A51-819B-A8F19B8A70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806-848B-41E3-BBED-71353FD47F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E2FE-1A27-4AAE-B666-3F0E743FBD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3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160-EA25-4142-B0EA-5402FFC7C4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7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B91-F19E-4730-AE6F-D401C855BD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2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28BA-FB4F-4866-BDD4-2D0BD5E038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C51-8A90-4FE4-BECE-35A36AC235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10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F:\презентация питание\Заставки 890.bmp"/>
          <p:cNvPicPr/>
          <p:nvPr/>
        </p:nvPicPr>
        <p:blipFill>
          <a:blip r:embed="rId2"/>
          <a:stretch/>
        </p:blipFill>
        <p:spPr>
          <a:xfrm>
            <a:off x="-1015920" y="-58680"/>
            <a:ext cx="10159920" cy="7621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cc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Franklin Gothic Medium"/>
              </a:rPr>
              <a:t>БУКВЕННЫЙ КОД ПИЩЕВЫХ ДОБАВОК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Пищевые добавки в составе пищевых продуктов обозначают с помощью спе циального Е-номера, который состоит из 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буквы Е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  (от слова  «</a:t>
            </a:r>
            <a:r>
              <a:rPr b="1" lang="en-US" sz="3600" spc="-1" strike="noStrike">
                <a:solidFill>
                  <a:srgbClr val="4e3b3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») и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ёхзначным числом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, стоящем после буквы Е. Например,  </a:t>
            </a:r>
            <a:r>
              <a:rPr b="1" lang="ru-RU" sz="3600" spc="-1" strike="noStrike">
                <a:solidFill>
                  <a:srgbClr val="ff0066"/>
                </a:solidFill>
                <a:latin typeface="Garamond"/>
              </a:rPr>
              <a:t>Е133, Е 330,Е602, </a:t>
            </a:r>
            <a:r>
              <a:rPr b="1" lang="ru-RU" sz="3600" spc="-1" strike="noStrike">
                <a:solidFill>
                  <a:srgbClr val="4e3b30"/>
                </a:solidFill>
                <a:latin typeface="Garamond"/>
              </a:rPr>
              <a:t> цифры говорят о типе пищевой добав-ки (консерванты, красители и т.д.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cc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9152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e3b30"/>
                </a:solidFill>
                <a:latin typeface="Franklin Gothic Book"/>
              </a:rPr>
              <a:t>Е100 – Е199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ru-RU" sz="22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АСИТЕЛИ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(усиливают и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осстанавли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ают цвет продуктов);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2" name="Picture 20" descr="56692470_orig"/>
          <p:cNvPicPr/>
          <p:nvPr/>
        </p:nvPicPr>
        <p:blipFill>
          <a:blip r:embed="rId1"/>
          <a:stretch/>
        </p:blipFill>
        <p:spPr>
          <a:xfrm>
            <a:off x="5292720" y="15573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3" descr="iCAJM8T1V"/>
          <p:cNvPicPr/>
          <p:nvPr/>
        </p:nvPicPr>
        <p:blipFill>
          <a:blip r:embed="rId2"/>
          <a:stretch/>
        </p:blipFill>
        <p:spPr>
          <a:xfrm>
            <a:off x="5969160" y="4416480"/>
            <a:ext cx="1396800" cy="1231920"/>
          </a:xfrm>
          <a:prstGeom prst="rect">
            <a:avLst/>
          </a:prstGeom>
          <a:ln w="0">
            <a:noFill/>
          </a:ln>
        </p:spPr>
      </p:pic>
      <p:sp>
        <p:nvSpPr>
          <p:cNvPr id="634" name="WordArt 4"/>
          <p:cNvSpPr txBox="1"/>
          <p:nvPr/>
        </p:nvSpPr>
        <p:spPr>
          <a:xfrm>
            <a:off x="395280" y="476280"/>
            <a:ext cx="8582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Georgia"/>
              </a:rPr>
              <a:t>Классификация пищевых доб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250920" y="249228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200 – Е2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КОНСЕРВА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удлиняют срок годности продукта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250920" y="328464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300 – Е3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АНТИОКИСЛИТ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амедляют окисление, предохраняя продукты от порчи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250920" y="407664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400 – Е4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ТАБИЛИЗ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храняют заданную консистенцию продуктов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250920" y="5013360"/>
            <a:ext cx="8642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500 – Е5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ЭМУЛЬГАТО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оддерживают определён-ную структуру продуктов питания);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0"/>
          <p:cNvSpPr/>
          <p:nvPr/>
        </p:nvSpPr>
        <p:spPr>
          <a:xfrm>
            <a:off x="250920" y="5877000"/>
            <a:ext cx="864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Е600 – Е699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ИЛИТЕЛИ ВКУСА И АРОМАТА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700~Е799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-антибиотики;</a:t>
            </a:r>
            <a:br>
              <a:rPr sz="3200"/>
            </a:b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800~Е899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-резерв (данные цифры пока не задействованы)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 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900~Е999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 -глазирующие агенты, улучшители хлеба и муки и другие веществ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Е-1000 и боле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глазирователи, подсластители, разрыхлители, регуляторы кислотно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роль ароматизаторов -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ЛУТАМАТ   НАТРИЯ – Е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621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-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иливает вкусовое восприяти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здействуя на центры удовольствия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621 - негативно влияет на головной мозг, нарушает психику детей, ухудшает состояние больных бронхиальной астмой, приводит к разрушению сетчатки глаза и глауко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ЛУТАМАТ НАТРИЯ действует как НАРКОТИК ! !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6" name="Picture 5" descr="КЛАСС 039"/>
          <p:cNvPicPr/>
          <p:nvPr/>
        </p:nvPicPr>
        <p:blipFill>
          <a:blip r:embed="rId1"/>
          <a:stretch/>
        </p:blipFill>
        <p:spPr>
          <a:xfrm>
            <a:off x="5580000" y="1700280"/>
            <a:ext cx="2641680" cy="19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600360" cy="1803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8" name="Picture 7" descr="1_5_160_3"/>
          <p:cNvPicPr/>
          <p:nvPr/>
        </p:nvPicPr>
        <p:blipFill>
          <a:blip r:embed="rId3"/>
          <a:stretch/>
        </p:blipFill>
        <p:spPr>
          <a:xfrm>
            <a:off x="3203640" y="2924280"/>
            <a:ext cx="2979720" cy="198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4"/>
          <p:cNvSpPr txBox="1"/>
          <p:nvPr/>
        </p:nvSpPr>
        <p:spPr>
          <a:xfrm>
            <a:off x="1476360" y="260280"/>
            <a:ext cx="7199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Воздействие пищевых 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обавок на организм</a:t>
            </a:r>
            <a:endParaRPr b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496728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рещенн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пасны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ют расстройства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ишеч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ют сып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лияют на дав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редные для кож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кообразующ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ают холестери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лияют на ЦНС, зр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spcBef>
                <a:spcPts val="524"/>
              </a:spcBef>
              <a:buNone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1" name="Picture 7" descr=""/>
          <p:cNvPicPr/>
          <p:nvPr/>
        </p:nvPicPr>
        <p:blipFill>
          <a:blip r:embed="rId10"/>
          <a:stretch/>
        </p:blipFill>
        <p:spPr>
          <a:xfrm>
            <a:off x="5508720" y="4653000"/>
            <a:ext cx="2154240" cy="204768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652" name="Picture 10" descr=""/>
          <p:cNvPicPr/>
          <p:nvPr/>
        </p:nvPicPr>
        <p:blipFill>
          <a:blip r:embed="rId11"/>
          <a:stretch/>
        </p:blipFill>
        <p:spPr>
          <a:xfrm>
            <a:off x="7056360" y="3141720"/>
            <a:ext cx="2087640" cy="16365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653" name="Picture 13" descr="016"/>
          <p:cNvPicPr/>
          <p:nvPr/>
        </p:nvPicPr>
        <p:blipFill>
          <a:blip r:embed="rId12"/>
          <a:stretch/>
        </p:blipFill>
        <p:spPr>
          <a:xfrm>
            <a:off x="5292720" y="1700280"/>
            <a:ext cx="1800360" cy="1800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4e3b30"/>
                </a:solidFill>
                <a:latin typeface="Georgia"/>
              </a:rPr>
              <a:t>П Р А К Т И Ч Е С К А Я     Р А Б О Т А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Тема: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4e3b30"/>
                </a:solidFill>
                <a:latin typeface="Arial Narrow"/>
              </a:rPr>
              <a:t>Исследование продуктов питания на содержание пищевых добаво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e3b30"/>
                </a:solidFill>
                <a:latin typeface="Times New Roman"/>
              </a:rPr>
              <a:t> 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Times New Roman"/>
              </a:rPr>
              <a:t>Цель: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научиться использовать информацию на упаковках (этикетках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продуктов питания на наличие пищевых добаво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</a:t>
            </a:r>
            <a:r>
              <a:rPr b="1" lang="ru-RU" sz="2000" spc="-1" strike="noStrike" u="sng">
                <a:solidFill>
                  <a:srgbClr val="4e3b30"/>
                </a:solidFill>
                <a:uFillTx/>
                <a:latin typeface="Times New Roman"/>
              </a:rPr>
              <a:t>Оборудование: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упаковки (этикетки) продуктов питания, подлежащих исследованию, таблица пищевых добав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Ход работы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1. Изучить этикетки некоторых продуктов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2. Содержание пищевых добавок в продукте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</a:rPr>
              <a:t>Вывод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360" y="3929040"/>
          <a:ext cx="8729640" cy="1312920"/>
        </p:xfrm>
        <a:graphic>
          <a:graphicData uri="http://schemas.openxmlformats.org/drawingml/2006/table">
            <a:tbl>
              <a:tblPr/>
              <a:tblGrid>
                <a:gridCol w="1147680"/>
                <a:gridCol w="3816360"/>
                <a:gridCol w="376560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ие продук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ые добав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, к которой относятся обнаруженные пищевые добав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250560" y="1196640"/>
            <a:ext cx="88930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Внимательно читайте надписи на этикетке продук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родукты с чрезмерно длительным сроком хран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родукты с неестественно яркой окраско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одкрашенную газировку, делайте соки са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переработанных или законсервирован-ных мясных продуктов (колбаса, сосиски, тушёнка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окуп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 супы и каши быстрого приготовления, готовьте их са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Не перекусывайте</a:t>
            </a: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 чипсами, сухариками, замените их орехами, изюмо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Georgia"/>
              </a:rPr>
              <a:t>В питании всё должно быть в меру, безопасно и по возможности разнообраз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Рекомендации по употреблению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  </a:t>
            </a: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продуктов питания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2000"/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Bookman Old Style"/>
              </a:rPr>
              <a:t>ДОМАШНЕЕ ЗАД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60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Разработать  для младших классов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в виде памятки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перечень продуктов,  которые безопасно употреблять в пищу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400" spc="-1" strike="noStrike">
                <a:solidFill>
                  <a:srgbClr val="4e3b30"/>
                </a:solidFill>
                <a:latin typeface="Franklin Gothic Book"/>
              </a:rPr>
              <a:t>растущему организму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4"/>
          <p:cNvSpPr/>
          <p:nvPr/>
        </p:nvSpPr>
        <p:spPr>
          <a:xfrm>
            <a:off x="250920" y="260280"/>
            <a:ext cx="856908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50920" y="260280"/>
            <a:ext cx="4392360" cy="6264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WordArt 30"/>
          <p:cNvGrpSpPr/>
          <p:nvPr/>
        </p:nvGrpSpPr>
        <p:grpSpPr>
          <a:xfrm>
            <a:off x="609480" y="401760"/>
            <a:ext cx="6248520" cy="1244520"/>
            <a:chOff x="609480" y="401760"/>
            <a:chExt cx="6248520" cy="1244520"/>
          </a:xfrm>
        </p:grpSpPr>
        <p:pic>
          <p:nvPicPr>
            <p:cNvPr id="586" name="WordArt 30" descr=""/>
            <p:cNvPicPr/>
            <p:nvPr/>
          </p:nvPicPr>
          <p:blipFill>
            <a:blip r:embed="rId1"/>
            <a:stretch/>
          </p:blipFill>
          <p:spPr>
            <a:xfrm>
              <a:off x="609480" y="401760"/>
              <a:ext cx="62485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11280" y="404640"/>
              <a:ext cx="62467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Palatino Linotype"/>
                </a:rPr>
                <a:t>"Пищевые добавки  и их влияние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8" name="Picture 31" descr="КЛАСС 042"/>
          <p:cNvPicPr/>
          <p:nvPr/>
        </p:nvPicPr>
        <p:blipFill>
          <a:blip r:embed="rId2"/>
          <a:stretch/>
        </p:blipFill>
        <p:spPr>
          <a:xfrm>
            <a:off x="1042920" y="177336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89" name="Picture 32" descr=""/>
          <p:cNvPicPr/>
          <p:nvPr/>
        </p:nvPicPr>
        <p:blipFill>
          <a:blip r:embed="rId3"/>
          <a:stretch/>
        </p:blipFill>
        <p:spPr>
          <a:xfrm>
            <a:off x="2124000" y="335772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590" name="Picture 33" descr=""/>
          <p:cNvPicPr/>
          <p:nvPr/>
        </p:nvPicPr>
        <p:blipFill>
          <a:blip r:embed="rId4"/>
          <a:stretch/>
        </p:blipFill>
        <p:spPr>
          <a:xfrm>
            <a:off x="5857920" y="1785960"/>
            <a:ext cx="2698560" cy="31431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591" name="WordArt 34"/>
          <p:cNvGrpSpPr/>
          <p:nvPr/>
        </p:nvGrpSpPr>
        <p:grpSpPr>
          <a:xfrm>
            <a:off x="3133800" y="5419800"/>
            <a:ext cx="5467320" cy="1438200"/>
            <a:chOff x="3133800" y="5419800"/>
            <a:chExt cx="5467320" cy="1438200"/>
          </a:xfrm>
        </p:grpSpPr>
        <p:pic>
          <p:nvPicPr>
            <p:cNvPr id="592" name="WordArt 34" descr=""/>
            <p:cNvPicPr/>
            <p:nvPr/>
          </p:nvPicPr>
          <p:blipFill>
            <a:blip r:embed="rId5"/>
            <a:stretch/>
          </p:blipFill>
          <p:spPr>
            <a:xfrm>
              <a:off x="3135240" y="5419800"/>
              <a:ext cx="5462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133800" y="5421240"/>
              <a:ext cx="546732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Palatino Linotype"/>
                </a:rPr>
                <a:t>на здоровье человека"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AutoShape 36"/>
          <p:cNvSpPr/>
          <p:nvPr/>
        </p:nvSpPr>
        <p:spPr>
          <a:xfrm rot="823200">
            <a:off x="3492000" y="2565360"/>
            <a:ext cx="2305080" cy="1082880"/>
          </a:xfrm>
          <a:custGeom>
            <a:avLst/>
            <a:gdLst>
              <a:gd name="textAreaLeft" fmla="*/ 360000 w 2305080"/>
              <a:gd name="textAreaRight" fmla="*/ 2158920 w 2305080"/>
              <a:gd name="textAreaTop" fmla="*/ 426960 h 1082880"/>
              <a:gd name="textAreaBottom" fmla="*/ 655920 h 1082880"/>
            </a:gdLst>
            <a:ahLst/>
            <a:rect l="textAreaLeft" t="textAreaTop" r="textAreaRight" b="textAreaBottom"/>
            <a:pathLst>
              <a:path w="21600" h="21600">
                <a:moveTo>
                  <a:pt x="15109" y="0"/>
                </a:moveTo>
                <a:lnTo>
                  <a:pt x="15109" y="8519"/>
                </a:lnTo>
                <a:lnTo>
                  <a:pt x="3375" y="8519"/>
                </a:lnTo>
                <a:lnTo>
                  <a:pt x="3375" y="13081"/>
                </a:lnTo>
                <a:lnTo>
                  <a:pt x="15109" y="13081"/>
                </a:lnTo>
                <a:lnTo>
                  <a:pt x="15109" y="21600"/>
                </a:lnTo>
                <a:lnTo>
                  <a:pt x="21600" y="10800"/>
                </a:lnTo>
                <a:lnTo>
                  <a:pt x="15109" y="0"/>
                </a:lnTo>
                <a:close/>
              </a:path>
              <a:path w="21600" h="21600">
                <a:moveTo>
                  <a:pt x="1350" y="8519"/>
                </a:moveTo>
                <a:lnTo>
                  <a:pt x="1350" y="13081"/>
                </a:lnTo>
                <a:lnTo>
                  <a:pt x="2700" y="13081"/>
                </a:lnTo>
                <a:lnTo>
                  <a:pt x="2700" y="8519"/>
                </a:lnTo>
                <a:lnTo>
                  <a:pt x="1350" y="8519"/>
                </a:lnTo>
                <a:close/>
              </a:path>
              <a:path w="21600" h="21600">
                <a:moveTo>
                  <a:pt x="0" y="8519"/>
                </a:moveTo>
                <a:lnTo>
                  <a:pt x="0" y="13081"/>
                </a:lnTo>
                <a:lnTo>
                  <a:pt x="675" y="13081"/>
                </a:lnTo>
                <a:lnTo>
                  <a:pt x="675" y="8519"/>
                </a:lnTo>
                <a:lnTo>
                  <a:pt x="0" y="8519"/>
                </a:ln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Franklin Gothic Medium"/>
              </a:rPr>
              <a:t>ЭПИГРАФ УРОКА: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Franklin Gothic Book"/>
              </a:rPr>
              <a:t>«Пища, услаждающая вкус и заставляющая есть больше, чем это нужно, отравляет вместо того, чтобы    питать»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Французский писатель –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Ф.Фенело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7" name="Picture 15" descr="Eating_200"/>
          <p:cNvPicPr/>
          <p:nvPr/>
        </p:nvPicPr>
        <p:blipFill>
          <a:blip r:embed="rId1"/>
          <a:stretch/>
        </p:blipFill>
        <p:spPr>
          <a:xfrm>
            <a:off x="395280" y="3357720"/>
            <a:ext cx="2373480" cy="1684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598" name="Picture 17" descr="iCA9UKALQ"/>
          <p:cNvPicPr/>
          <p:nvPr/>
        </p:nvPicPr>
        <p:blipFill>
          <a:blip r:embed="rId2"/>
          <a:stretch/>
        </p:blipFill>
        <p:spPr>
          <a:xfrm>
            <a:off x="2268360" y="443700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P1310082"/>
          <p:cNvPicPr/>
          <p:nvPr/>
        </p:nvPicPr>
        <p:blipFill>
          <a:blip r:embed="rId2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601" name="Text Box 4"/>
          <p:cNvSpPr/>
          <p:nvPr/>
        </p:nvSpPr>
        <p:spPr>
          <a:xfrm>
            <a:off x="179280" y="1413000"/>
            <a:ext cx="33829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bat"/>
              </a:rPr>
              <a:t>Есть</a:t>
            </a: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 или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bat"/>
              </a:rPr>
              <a:t>не есть</a:t>
            </a: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? -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вот в чё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e3b30"/>
                </a:solidFill>
                <a:latin typeface="Arbat"/>
              </a:rPr>
              <a:t>вопрос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ПРОДУКТЫ ПИТАНИЯ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cc0066"/>
                </a:solidFill>
                <a:latin typeface="Bookman Old Style"/>
              </a:rPr>
              <a:t>должны быть: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cc0066"/>
              </a:solidFill>
              <a:latin typeface="Bookman Old Style"/>
              <a:ea typeface="Bookman Old Style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безопасны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Georgia"/>
              </a:rPr>
              <a:t>соответствовать санитарным норма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4" name="Picture 5" descr=""/>
          <p:cNvPicPr/>
          <p:nvPr/>
        </p:nvPicPr>
        <p:blipFill>
          <a:blip r:embed="rId1"/>
          <a:stretch/>
        </p:blipFill>
        <p:spPr>
          <a:xfrm>
            <a:off x="1403280" y="2765520"/>
            <a:ext cx="6337440" cy="3795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вещества, добавляющиеся в технологических целях в пищевые продукты в процессе производства, упаковки или хранения для придания им желаемы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Пищевые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684360" y="2852640"/>
            <a:ext cx="792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Современные пищевые добавки выполняют две главные задачи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дают продуктам питания необходимые и прият-     ные свойства – цвет, вкус и аромат, нужную консис-тенцию;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ют срок хранения продуктов питания, что необходимо для их транспортировки и хран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15"/>
          <p:cNvSpPr txBox="1"/>
          <p:nvPr/>
        </p:nvSpPr>
        <p:spPr>
          <a:xfrm>
            <a:off x="971640" y="260280"/>
            <a:ext cx="7419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Категории качества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 </a:t>
            </a: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50000">
                      <a:srgbClr val="0000ff"/>
                    </a:gs>
                    <a:gs pos="100000">
                      <a:srgbClr val="33ccff"/>
                    </a:gs>
                  </a:gsLst>
                  <a:lin ang="2700000"/>
                </a:gradFill>
                <a:latin typeface="Bookman Old Style"/>
              </a:rPr>
              <a:t>продовольственных товаров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50000">
                    <a:srgbClr val="0000ff"/>
                  </a:gs>
                  <a:gs pos="100000">
                    <a:srgbClr val="33ccff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sp>
        <p:nvSpPr>
          <p:cNvPr id="610" name="AutoShape 24"/>
          <p:cNvSpPr/>
          <p:nvPr/>
        </p:nvSpPr>
        <p:spPr>
          <a:xfrm>
            <a:off x="250920" y="1628640"/>
            <a:ext cx="3097080" cy="2592360"/>
          </a:xfrm>
          <a:prstGeom prst="horizontalScroll">
            <a:avLst>
              <a:gd name="adj" fmla="val 94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а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этих товара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личество 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пы спецдобаво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рого контролируютс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5"/>
          <p:cNvSpPr/>
          <p:nvPr/>
        </p:nvSpPr>
        <p:spPr>
          <a:xfrm>
            <a:off x="5651640" y="1557360"/>
            <a:ext cx="3024000" cy="2519280"/>
          </a:xfrm>
          <a:prstGeom prst="horizontalScroll">
            <a:avLst>
              <a:gd name="adj" fmla="val 898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а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чество товаров контролируется менее строго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26"/>
          <p:cNvSpPr/>
          <p:nvPr/>
        </p:nvSpPr>
        <p:spPr>
          <a:xfrm>
            <a:off x="1908000" y="3860640"/>
            <a:ext cx="5256360" cy="280836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я категор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 эти товары не распространяют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ногие ограничения на использова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е спецдобавок. Себестоимость и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же, а производство выгоднее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 этой категории относится 80 %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дуктов питания поставляемы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а мировой рын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7"/>
          <p:cNvSpPr/>
          <p:nvPr/>
        </p:nvSpPr>
        <p:spPr>
          <a:xfrm flipH="1">
            <a:off x="1692000" y="1341360"/>
            <a:ext cx="2663640" cy="57636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8"/>
          <p:cNvSpPr/>
          <p:nvPr/>
        </p:nvSpPr>
        <p:spPr>
          <a:xfrm>
            <a:off x="4788000" y="1341360"/>
            <a:ext cx="2520720" cy="5032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9"/>
          <p:cNvSpPr/>
          <p:nvPr/>
        </p:nvSpPr>
        <p:spPr>
          <a:xfrm>
            <a:off x="4572000" y="1341360"/>
            <a:ext cx="0" cy="259092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99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Rectangle 18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332920" cy="1444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f165p20-3"/>
          <p:cNvPicPr/>
          <p:nvPr/>
        </p:nvPicPr>
        <p:blipFill>
          <a:blip r:embed="rId2"/>
          <a:stretch/>
        </p:blipFill>
        <p:spPr>
          <a:xfrm>
            <a:off x="324000" y="16286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graphicFrame>
        <p:nvGraphicFramePr>
          <p:cNvPr id="618" name="Object 20"/>
          <p:cNvGraphicFramePr/>
          <p:nvPr/>
        </p:nvGraphicFramePr>
        <p:xfrm>
          <a:off x="6431040" y="1278000"/>
          <a:ext cx="155520" cy="1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1040" y="1278000"/>
                    <a:ext cx="1555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0" name="Picture 17" descr="фото с сайта г-ты &quot;Новые известия&quot;"/>
          <p:cNvPicPr/>
          <p:nvPr/>
        </p:nvPicPr>
        <p:blipFill>
          <a:blip r:embed="rId5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Rectangle 5" descr=""/>
          <p:cNvPicPr/>
          <p:nvPr/>
        </p:nvPicPr>
        <p:blipFill>
          <a:blip r:embed="rId1"/>
          <a:stretch/>
        </p:blipFill>
        <p:spPr>
          <a:xfrm>
            <a:off x="4821120" y="334800"/>
            <a:ext cx="4084920" cy="6188400"/>
          </a:xfrm>
          <a:prstGeom prst="rect">
            <a:avLst/>
          </a:prstGeom>
          <a:ln w="0">
            <a:noFill/>
          </a:ln>
        </p:spPr>
      </p:pic>
      <p:sp>
        <p:nvSpPr>
          <p:cNvPr id="622" name="Oval 7"/>
          <p:cNvSpPr/>
          <p:nvPr/>
        </p:nvSpPr>
        <p:spPr>
          <a:xfrm>
            <a:off x="4932360" y="765000"/>
            <a:ext cx="792000" cy="3603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6372360" y="3284640"/>
            <a:ext cx="1150920" cy="57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62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6948360" y="3860640"/>
            <a:ext cx="1150920" cy="5763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160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6012000" y="4365720"/>
            <a:ext cx="1150920" cy="57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 3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D:\DOWNLOADS\sukhariki_kirieshki_rzhanye_so_vkusom_vetchiny_i_syra_40_g.jpg"/>
          <p:cNvPicPr/>
          <p:nvPr/>
        </p:nvPicPr>
        <p:blipFill>
          <a:blip r:embed="rId3"/>
          <a:stretch/>
        </p:blipFill>
        <p:spPr>
          <a:xfrm>
            <a:off x="228600" y="944640"/>
            <a:ext cx="470376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24-07-25T08:06:50Z</dcterms:modified>
  <cp:revision>75</cp:revision>
  <dc:subject/>
  <dc:title>Слайд 1</dc:title>
</cp:coreProperties>
</file>