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2.jpeg" ContentType="image/jpeg"/>
  <Override PartName="/ppt/media/image34.wmf" ContentType="image/x-wmf"/>
  <Override PartName="/ppt/media/image10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wmf" ContentType="image/x-wmf"/>
  <Override PartName="/ppt/media/image19.png" ContentType="image/pn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3A0-9792-436F-97E9-F7F268F0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6C4-A3BF-431E-B63B-AB031B3B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B2534-67E4-42A7-AC16-6A03DC39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5E11C-3AF4-4EEE-A0FD-D0CFE821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74DB7-D273-42CE-AD26-73BA75DE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2863B-4E57-4595-8BDE-CF04F2CC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5837E-ED82-4074-A8F7-EA8D869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945A8-193A-45CA-BC3A-969CC0FD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86232-72D3-4BB4-8109-D1931438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98C66-C074-4C2A-9052-3BABB465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EEDD2-0C69-40A2-A97F-1C68971D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A23CA-EFA6-4B24-81D4-F4BD322E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D1C-5E6A-469F-85BC-FDEECA72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93D13-D433-461D-BC55-447D7372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F8F9A-CD2A-48D1-B215-489BF3E0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D2223-41EB-4E7E-ACB9-94837D22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047D3-79DD-4651-B135-C3AB856D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256B8-CF95-4C33-A8DB-2CE8D0BD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79AE4-824A-4364-B657-2EEC6177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FD4C5-B61B-434D-B600-06AE864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F0F67-4376-4A45-B1DC-CCC500E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245A3-0C23-4A2C-9E58-A4883FF8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B3C41-8692-46B0-AA42-8D030AE1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C08-1AC8-42AA-A716-DDAC4B11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6B9AD-E3FB-4481-A793-A82582E4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46BFE-7992-4575-A921-FA42241F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B79BA-4A15-43B1-9A11-8838A85E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21E87-7C01-475D-94E9-AE23A3C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C1DCB-3230-4AEC-A923-701AE17E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69517-F65F-4588-94E2-A287EE8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1D486-C940-48C5-BD80-01067FA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CDA10-D4F4-4157-A0D4-DAC13FA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AA128-036E-48C1-8C58-9EAAF60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A924C-A2A4-4A33-B733-9DB45FBA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71F3-0629-4DE1-86A2-42384AC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2B980-A550-4E13-AA19-BDB52AB9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5F1AB-2E7C-4AA5-B853-3D2A05E0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14685-6378-4D42-A8BD-21A566D7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77D11-F88E-4B7A-886F-6E907921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D82E3-E034-43D9-AB53-26D6DCD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73463-3A94-4C6C-B1CB-A802A6D2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FDC26-FD68-46FD-8C7C-43FFC065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E771B-B4B0-4DEF-8093-20EE8B8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0C434-4D9D-4356-8069-4BA246DC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566F2-4C12-43F3-84D7-E58F062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6BC0-87B3-4B3F-8124-186CB9E0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D572D-4ECA-49E4-9427-3B5E3ADF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B4DD9-6E54-4B1E-B105-4137020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5751E-250A-4A07-9F60-D3BF563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45FDB-EC92-41D3-92D6-01C8B245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C1A65-E89D-41A2-B804-37C425B5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6159A-1920-487F-8BEB-EA597E48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16735-296A-479C-94E2-8D79E0A2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E2020-45D5-4C1D-8870-9FEB5739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639BB-9AE5-46DA-9F11-DDEC82D3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E7E08-A4FD-48F9-A9FC-727903CD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240C-35A8-4704-B8F0-06E3ED15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D6836-8E97-45AB-A113-75308BFB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935D4-DDE6-4B3C-A71F-4AD9FAAA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39324-C609-4627-BD96-B3E22B41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9C990-6A81-4D91-AEB7-4DAC7A5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29B98-D4D0-4531-8FEE-C0DE6B86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9FA97-189E-44E1-B8E5-73C44150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D6216-DE9A-4B48-8801-F22DAEEC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929-A69E-47FA-8BD5-E1457071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B810-FCB1-4E5E-A672-D590F76F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1967-390D-428F-9FC2-367812D9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9CD6-3DF1-4514-9C9E-69252F30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4E9-E6AA-4EA1-8FC7-B6D11A26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15BD-A7D0-42DE-AD96-496F2046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2DB6-475B-4988-8481-867FEBB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5989-1CC9-4C40-87CA-6EFA4EF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24FA-0FA6-46F9-ACF3-81EE6771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E3E4-B967-4177-B7B1-280E1887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3B95-A3EF-46E2-B20D-FC68759D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2EE5-3A0F-4B9C-84AB-B2BF3090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B48C-9C58-486E-8F30-2037EBBF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039C-C454-48C1-9C8B-D4C759C0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8DA9-6CCF-4770-ACB8-6E90CDB8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EFE-758B-4D19-AE5F-290645A8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5B97-BED0-4A00-96B8-3D0B8C44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00FC-9730-4F7A-9E99-DD5DC443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3787-EC1B-4075-9C74-DFD889F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9A2D-A125-47EC-A55F-F9808897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1AD0-EC35-4155-974B-49080EE7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376B-B2FE-4DB9-A22D-B46383B8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BF6A-7BA0-48F0-BB5D-6D477D52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18E2F-91DE-4118-967E-D007FB5C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5F22-B8BC-4713-A84F-1BE942AD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9610-CFE0-4163-BEDB-F84ED89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E0D-B4B4-4389-8ADB-D4C64538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10C1-8734-4260-8BC9-3207281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CDE3F-DA05-4C3B-B3A6-3950B912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2A54-DFF7-448E-91CE-A659C79B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C3F4-29F0-4577-B027-48C001D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9A29-680A-470D-9714-87704A9B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5987-E439-4F46-ABD3-47C283F2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2BD5-92B6-40CD-A667-9F0630E6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B63E8-0DD8-44FD-94F8-85FE922D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9D19-E16E-4BD8-9C33-981A5D9C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F4C5F-428E-429A-862B-9F08A5F4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E49-C1A3-4F64-9C00-72D7062C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170E-BC6B-4571-AF5A-BDEEAB5D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FDF11-8008-47D4-8CBF-7C71D55A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55F9A-0B14-43A9-9FCD-8A553303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3FCE-94CA-488A-B56C-03D48BE5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CAF5-1407-40D9-8AB7-34F84DE1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4EEB-E448-4CEC-897B-F9EDEC8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E8DF-8042-4743-96CA-A4D170BC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6B05F-9702-45A1-ABB4-139306B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8E9A3-44E6-4D3E-A46E-A1D82EE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EF576-86AE-47F4-B0FE-2050E61F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7A9-633F-4E8E-9DFC-F84461F8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7F26-9309-4BA3-8313-772B687D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03BB-4C10-45DE-BCD9-50C5F9C3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4979C-C23B-4F49-97ED-C5D97D48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A6B6-9A18-452D-B947-54BE4F4E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FD0EA-A619-434A-9676-80149373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42E8-74AE-4C37-8725-ACA4C30B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32FD9-7D45-4E40-9D90-4107D85D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A95F0-5636-42AE-9ABD-AC1EE839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1C2E-36AA-4D5E-81F2-14CF9F3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AD266-3908-4B28-91F8-4DF4332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818-CC79-4C17-9636-0071CD4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D55F-52F7-4B15-933F-CCE76023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43D57-29D5-46A0-8D6F-9FEC4D3C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7167D-6CEF-4294-B485-69C27E8D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E4864-3FCA-4C6C-BD1B-B072DC56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A0B32-92A0-47B4-A320-83FD1325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2BAAC-82FC-4A44-8566-B72BAEB0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2384-E8EA-49AE-9754-744EA11D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8E3AC-65F0-483A-8B30-02B253D9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BB3C0-D9C2-4F5E-9803-0ACC815E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36D2-486C-4E2C-8BA7-3BE5D68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389-A965-436C-8A28-ED5E5103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50698-BC67-4359-9CC4-99FB640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4F83F-576F-4208-AFDC-95948175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0E0F-9130-42D6-ACB2-4C23C542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1DA33-FA34-45D3-B67A-556C5A28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162BB-CC87-4A58-AF8C-C1E2C328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CB3C0-66D8-47A1-A685-3C416DE5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133EC-61A9-49FF-9A2A-3ECBB94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1C31E-C7D6-4A3E-A409-D2511281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1A7A0-4A8B-48BF-AE41-6F32041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4227B-070D-4968-961E-90B3AF09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F68-3C64-400C-92D9-52F787B8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09A2C-F0D7-42F8-8849-5D01542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2C8C2-8F67-4E2D-960C-29F072D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323E-3923-4B41-BB45-5210642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3DB7-C65F-484D-A77C-EE55D10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52F1D-C4A7-47DE-BEAA-7F2CCD5D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4BE90-E3C2-47EE-9474-53DDE631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E962C-BA11-4324-AFDC-0A617F38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CE9C2-E20F-4682-A2A6-8A6C6429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6F35A-CB1E-4BFE-9DBF-9841A7FB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F3EE6-A5AA-4602-A064-E882773D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A3AE-22C9-4863-8483-318ED4BB1A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BC3-4775-440A-A0E3-8AD658FC0A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5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47EC-2758-4610-BF05-1AC4F1E2E7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D037-E337-4F03-AB6B-9A44E9E833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A3A-F157-46B2-B802-C68F245257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BC71-4D9A-437A-9856-A842719999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9500-BBD6-4E5F-8A87-85683FA994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9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926-FB01-4F5F-A3A7-A5C70D51A6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19DD-DBB6-4F6A-AD73-1D7105AD3F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3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4A84-DE0D-429A-82EC-CB7773FEB6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7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7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8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32CC-F054-4BB8-ACDA-DDA871673A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2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91C-8BA7-4E81-B5E2-9F0410EDF4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7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2CD-6C47-477D-B37B-040393467B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image" Target="../media/image10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F:\презентация питание\Заставки 890.bmp"/>
          <p:cNvPicPr/>
          <p:nvPr/>
        </p:nvPicPr>
        <p:blipFill>
          <a:blip r:embed="rId2"/>
          <a:stretch/>
        </p:blipFill>
        <p:spPr>
          <a:xfrm>
            <a:off x="-1015920" y="-58680"/>
            <a:ext cx="10159920" cy="7621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cc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Franklin Gothic Medium"/>
              </a:rPr>
              <a:t>БУКВЕННЫЙ КОД ПИЩЕВЫХ ДОБАВОК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Пищевые добавки в составе пищевых продуктов обозначают с помощью спе циального Е-номера, который состоит из 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буквы Е</a:t>
            </a: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  (от слова  «</a:t>
            </a:r>
            <a:r>
              <a:rPr b="1" lang="en-US" sz="3600" spc="-1" strike="noStrike">
                <a:solidFill>
                  <a:srgbClr val="4e3b30"/>
                </a:solidFill>
                <a:latin typeface="Garamond"/>
              </a:rPr>
              <a:t>Europe</a:t>
            </a: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») и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трёхзначным числом</a:t>
            </a: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, стоящем после буквы Е. Например,  </a:t>
            </a:r>
            <a:r>
              <a:rPr b="1" lang="ru-RU" sz="3600" spc="-1" strike="noStrike">
                <a:solidFill>
                  <a:srgbClr val="ff0066"/>
                </a:solidFill>
                <a:latin typeface="Garamond"/>
              </a:rPr>
              <a:t>Е133, Е 330,Е602, </a:t>
            </a: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 цифры говорят о типе пищевой добав-ки (консерванты, красители и т.д.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cc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9152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e3b30"/>
                </a:solidFill>
                <a:latin typeface="Franklin Gothic Book"/>
              </a:rPr>
              <a:t>Е100 – Е199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КРАСИТЕЛИ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(усиливают и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осстанавли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ают цвет продуктов)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2" name="Picture 20" descr="56692470_orig"/>
          <p:cNvPicPr/>
          <p:nvPr/>
        </p:nvPicPr>
        <p:blipFill>
          <a:blip r:embed="rId1"/>
          <a:stretch/>
        </p:blipFill>
        <p:spPr>
          <a:xfrm>
            <a:off x="5292720" y="155736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3" descr="iCAJM8T1V"/>
          <p:cNvPicPr/>
          <p:nvPr/>
        </p:nvPicPr>
        <p:blipFill>
          <a:blip r:embed="rId2"/>
          <a:stretch/>
        </p:blipFill>
        <p:spPr>
          <a:xfrm>
            <a:off x="5969160" y="4416480"/>
            <a:ext cx="1396800" cy="1231920"/>
          </a:xfrm>
          <a:prstGeom prst="rect">
            <a:avLst/>
          </a:prstGeom>
          <a:ln w="0">
            <a:noFill/>
          </a:ln>
        </p:spPr>
      </p:pic>
      <p:sp>
        <p:nvSpPr>
          <p:cNvPr id="634" name="WordArt 4"/>
          <p:cNvSpPr txBox="1"/>
          <p:nvPr/>
        </p:nvSpPr>
        <p:spPr>
          <a:xfrm>
            <a:off x="395280" y="476280"/>
            <a:ext cx="85820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Классификация пищевых добав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250920" y="249228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200 – Е2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КОНСЕРВАН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удлиняют срок годности продукта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250920" y="328464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300 – Е3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АНТИОКИСЛИТ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амедляют окисление, предохраняя продукты от порчи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250920" y="407664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400 – Е4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СТАБИЛИЗАТО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охраняют заданную консистенцию продуктов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250920" y="501336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500 – Е5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ЭМУЛЬГАТО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оддерживают определён-ную структуру продуктов питания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0"/>
          <p:cNvSpPr/>
          <p:nvPr/>
        </p:nvSpPr>
        <p:spPr>
          <a:xfrm>
            <a:off x="250920" y="5877000"/>
            <a:ext cx="864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600 – Е6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СИЛИТЕЛИ ВКУСА И АРОМАТА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 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700~Е799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-антибиотики;</a:t>
            </a:r>
            <a:br>
              <a:rPr sz="3200"/>
            </a:b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800~Е899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-резерв (данные цифры пока не задействованы)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 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900~Е999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 -глазирующие агенты, улучшители хлеба и муки и другие веществ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-1000 и боле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глазирователи, подсластители, разрыхлители, регуляторы кислотност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роль ароматизаторов -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ГЛУТАМАТ   НАТРИЯ – Е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621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-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иливает вкусовое восприяти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здействуя на центры удовольствия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0920" y="4869000"/>
            <a:ext cx="80643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621 - негативно влияет на головной мозг, нарушает психику детей, ухудшает состояние больных бронхиальной астмой, приводит к разрушению сетчатки глаза и глауко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ЛУТАМАТ НАТРИЯ действует как НАРКОТИК ! !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6" name="Picture 5" descr="КЛАСС 039"/>
          <p:cNvPicPr/>
          <p:nvPr/>
        </p:nvPicPr>
        <p:blipFill>
          <a:blip r:embed="rId1"/>
          <a:stretch/>
        </p:blipFill>
        <p:spPr>
          <a:xfrm>
            <a:off x="5580000" y="1700280"/>
            <a:ext cx="2641680" cy="19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600360" cy="1803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48" name="Picture 7" descr="1_5_160_3"/>
          <p:cNvPicPr/>
          <p:nvPr/>
        </p:nvPicPr>
        <p:blipFill>
          <a:blip r:embed="rId3"/>
          <a:stretch/>
        </p:blipFill>
        <p:spPr>
          <a:xfrm>
            <a:off x="3203640" y="2924280"/>
            <a:ext cx="2979720" cy="19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>
    <p:split dir="out" orient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WordArt 4"/>
          <p:cNvSpPr txBox="1"/>
          <p:nvPr/>
        </p:nvSpPr>
        <p:spPr>
          <a:xfrm>
            <a:off x="1476360" y="260280"/>
            <a:ext cx="7199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оздействие пищевых 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обавок на организм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496728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рещенны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пасны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зывают расстройства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ишеч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зывают сып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лияют на дав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редные для кож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кообразующ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вышают холестери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лияют на ЦНС, зр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524"/>
              </a:spcBef>
              <a:buNone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524"/>
              </a:spcBef>
              <a:buNone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524"/>
              </a:spcBef>
              <a:buNone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1" name="Picture 7" descr=""/>
          <p:cNvPicPr/>
          <p:nvPr/>
        </p:nvPicPr>
        <p:blipFill>
          <a:blip r:embed="rId10"/>
          <a:stretch/>
        </p:blipFill>
        <p:spPr>
          <a:xfrm>
            <a:off x="5508720" y="4653000"/>
            <a:ext cx="2154240" cy="204768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652" name="Picture 10" descr=""/>
          <p:cNvPicPr/>
          <p:nvPr/>
        </p:nvPicPr>
        <p:blipFill>
          <a:blip r:embed="rId11"/>
          <a:stretch/>
        </p:blipFill>
        <p:spPr>
          <a:xfrm>
            <a:off x="7056360" y="3141720"/>
            <a:ext cx="2087640" cy="16365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653" name="Picture 13" descr="016"/>
          <p:cNvPicPr/>
          <p:nvPr/>
        </p:nvPicPr>
        <p:blipFill>
          <a:blip r:embed="rId12"/>
          <a:stretch/>
        </p:blipFill>
        <p:spPr>
          <a:xfrm>
            <a:off x="5292720" y="1700280"/>
            <a:ext cx="1800360" cy="1800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200" spc="-1" strike="noStrike">
                <a:solidFill>
                  <a:srgbClr val="4e3b30"/>
                </a:solidFill>
                <a:latin typeface="Georgia"/>
              </a:rPr>
              <a:t>П Р А К Т И Ч Е С К А Я     Р А Б О Т А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Тема: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e3b30"/>
                </a:solidFill>
                <a:latin typeface="Arial Narrow"/>
              </a:rPr>
              <a:t>Исследование продуктов питания на содержание пищевых добаво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Times New Roman"/>
              </a:rPr>
              <a:t>  </a:t>
            </a:r>
            <a:r>
              <a:rPr b="1" lang="ru-RU" sz="2000" spc="-1" strike="noStrike" u="sng">
                <a:solidFill>
                  <a:srgbClr val="4e3b30"/>
                </a:solidFill>
                <a:uFillTx/>
                <a:latin typeface="Times New Roman"/>
              </a:rPr>
              <a:t>Цель: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научиться использовать информацию на упаковках (этикетках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продуктов питания на наличие пищевых добаво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</a:t>
            </a:r>
            <a:r>
              <a:rPr b="1" lang="ru-RU" sz="2000" spc="-1" strike="noStrike" u="sng">
                <a:solidFill>
                  <a:srgbClr val="4e3b30"/>
                </a:solidFill>
                <a:uFillTx/>
                <a:latin typeface="Times New Roman"/>
              </a:rPr>
              <a:t>Оборудование: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упаковки (этикетки) продуктов питания, подлежащих исследованию, таблица пищевых добавок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Ход работы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1. Изучить этикетки некоторых продуктов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2. Содержание пищевых добавок в продукте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Вывод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360" y="3929040"/>
          <a:ext cx="8729640" cy="1312920"/>
        </p:xfrm>
        <a:graphic>
          <a:graphicData uri="http://schemas.openxmlformats.org/drawingml/2006/table">
            <a:tbl>
              <a:tblPr/>
              <a:tblGrid>
                <a:gridCol w="1147680"/>
                <a:gridCol w="3816360"/>
                <a:gridCol w="376560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ие продук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ые добав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, к которой относятся обнаруженные пищевые добав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250560" y="1196640"/>
            <a:ext cx="88930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Внимательно читайте надписи на этикетке продук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продукты с чрезмерно длительным сроком хран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продукты с неестественно яркой окраско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подкрашенную газировку, делайте соки са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переработанных или законсервирован-ных мясных продуктов (колбаса, сосиски, тушёнка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 супы и каши быстрого приготовления, готовьте их са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ерекусыв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чипсами, сухариками, замените их орехами, изюмо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В питании всё должно быть в меру, безопасно и по возможности разнообраз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Рекомендации по употреблению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  </a:t>
            </a: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продуктов питания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split dir="out" orient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50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50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Bookman Old Style"/>
              </a:rPr>
              <a:t>ДОМАШНЕЕ ЗАДА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60" name="Picture 4" descr="AMPRODUC"/>
          <p:cNvPicPr/>
          <p:nvPr/>
        </p:nvPicPr>
        <p:blipFill>
          <a:blip r:embed="rId1"/>
          <a:stretch/>
        </p:blipFill>
        <p:spPr>
          <a:xfrm>
            <a:off x="611280" y="2133720"/>
            <a:ext cx="3214440" cy="3456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851280" y="2060640"/>
            <a:ext cx="4906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400" spc="-1" strike="noStrike">
                <a:solidFill>
                  <a:srgbClr val="4e3b30"/>
                </a:solidFill>
                <a:latin typeface="Franklin Gothic Book"/>
              </a:rPr>
              <a:t>Разработать  для младших классов</a:t>
            </a:r>
            <a:r>
              <a:rPr b="0" lang="ru-RU" sz="3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400" spc="-1" strike="noStrike">
                <a:solidFill>
                  <a:srgbClr val="4e3b30"/>
                </a:solidFill>
                <a:latin typeface="Franklin Gothic Book"/>
              </a:rPr>
              <a:t>в виде памятки</a:t>
            </a:r>
            <a:r>
              <a:rPr b="0" lang="ru-RU" sz="3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400" spc="-1" strike="noStrike">
                <a:solidFill>
                  <a:srgbClr val="4e3b30"/>
                </a:solidFill>
                <a:latin typeface="Franklin Gothic Book"/>
              </a:rPr>
              <a:t>перечень продуктов,  которые безопасно употреблять в пищу</a:t>
            </a:r>
            <a:r>
              <a:rPr b="0" lang="ru-RU" sz="3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400" spc="-1" strike="noStrike">
                <a:solidFill>
                  <a:srgbClr val="4e3b30"/>
                </a:solidFill>
                <a:latin typeface="Franklin Gothic Book"/>
              </a:rPr>
              <a:t>растущему организму.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250920" y="260280"/>
            <a:ext cx="8569080" cy="6408720"/>
          </a:xfrm>
          <a:prstGeom prst="rect">
            <a:avLst/>
          </a:prstGeom>
          <a:noFill/>
          <a:ln w="101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250920" y="260280"/>
            <a:ext cx="4392360" cy="6264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WordArt 30"/>
          <p:cNvGrpSpPr/>
          <p:nvPr/>
        </p:nvGrpSpPr>
        <p:grpSpPr>
          <a:xfrm>
            <a:off x="609480" y="401760"/>
            <a:ext cx="6248520" cy="1244520"/>
            <a:chOff x="609480" y="401760"/>
            <a:chExt cx="6248520" cy="1244520"/>
          </a:xfrm>
        </p:grpSpPr>
        <p:pic>
          <p:nvPicPr>
            <p:cNvPr id="586" name="WordArt 30" descr=""/>
            <p:cNvPicPr/>
            <p:nvPr/>
          </p:nvPicPr>
          <p:blipFill>
            <a:blip r:embed="rId1"/>
            <a:stretch/>
          </p:blipFill>
          <p:spPr>
            <a:xfrm>
              <a:off x="609480" y="401760"/>
              <a:ext cx="62485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11280" y="404640"/>
              <a:ext cx="62467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Palatino Linotype"/>
                </a:rPr>
                <a:t>"Пищевые добавки  и их влияние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8" name="Picture 31" descr="КЛАСС 042"/>
          <p:cNvPicPr/>
          <p:nvPr/>
        </p:nvPicPr>
        <p:blipFill>
          <a:blip r:embed="rId2"/>
          <a:stretch/>
        </p:blipFill>
        <p:spPr>
          <a:xfrm>
            <a:off x="1042920" y="177336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89" name="Picture 32" descr=""/>
          <p:cNvPicPr/>
          <p:nvPr/>
        </p:nvPicPr>
        <p:blipFill>
          <a:blip r:embed="rId3"/>
          <a:stretch/>
        </p:blipFill>
        <p:spPr>
          <a:xfrm>
            <a:off x="2124000" y="3357720"/>
            <a:ext cx="2160720" cy="1689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590" name="Picture 33" descr=""/>
          <p:cNvPicPr/>
          <p:nvPr/>
        </p:nvPicPr>
        <p:blipFill>
          <a:blip r:embed="rId4"/>
          <a:stretch/>
        </p:blipFill>
        <p:spPr>
          <a:xfrm>
            <a:off x="5857920" y="1785960"/>
            <a:ext cx="2698560" cy="31431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grpSp>
        <p:nvGrpSpPr>
          <p:cNvPr id="591" name="WordArt 34"/>
          <p:cNvGrpSpPr/>
          <p:nvPr/>
        </p:nvGrpSpPr>
        <p:grpSpPr>
          <a:xfrm>
            <a:off x="3133800" y="5419800"/>
            <a:ext cx="5467320" cy="1438200"/>
            <a:chOff x="3133800" y="5419800"/>
            <a:chExt cx="5467320" cy="1438200"/>
          </a:xfrm>
        </p:grpSpPr>
        <p:pic>
          <p:nvPicPr>
            <p:cNvPr id="592" name="WordArt 34" descr=""/>
            <p:cNvPicPr/>
            <p:nvPr/>
          </p:nvPicPr>
          <p:blipFill>
            <a:blip r:embed="rId5"/>
            <a:stretch/>
          </p:blipFill>
          <p:spPr>
            <a:xfrm>
              <a:off x="3135240" y="5419800"/>
              <a:ext cx="5462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3133800" y="5421240"/>
              <a:ext cx="546732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Palatino Linotype"/>
                </a:rPr>
                <a:t>на здоровье человека"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AutoShape 36"/>
          <p:cNvSpPr/>
          <p:nvPr/>
        </p:nvSpPr>
        <p:spPr>
          <a:xfrm rot="823200">
            <a:off x="3492000" y="2565360"/>
            <a:ext cx="2305080" cy="1082880"/>
          </a:xfrm>
          <a:custGeom>
            <a:avLst/>
            <a:gdLst>
              <a:gd name="textAreaLeft" fmla="*/ 360000 w 2305080"/>
              <a:gd name="textAreaRight" fmla="*/ 2158920 w 2305080"/>
              <a:gd name="textAreaTop" fmla="*/ 426960 h 1082880"/>
              <a:gd name="textAreaBottom" fmla="*/ 655920 h 1082880"/>
            </a:gdLst>
            <a:ahLst/>
            <a:rect l="textAreaLeft" t="textAreaTop" r="textAreaRight" b="textAreaBottom"/>
            <a:pathLst>
              <a:path w="21600" h="21600">
                <a:moveTo>
                  <a:pt x="15109" y="0"/>
                </a:moveTo>
                <a:lnTo>
                  <a:pt x="15109" y="8519"/>
                </a:lnTo>
                <a:lnTo>
                  <a:pt x="3375" y="8519"/>
                </a:lnTo>
                <a:lnTo>
                  <a:pt x="3375" y="13081"/>
                </a:lnTo>
                <a:lnTo>
                  <a:pt x="15109" y="13081"/>
                </a:lnTo>
                <a:lnTo>
                  <a:pt x="15109" y="21600"/>
                </a:lnTo>
                <a:lnTo>
                  <a:pt x="21600" y="10800"/>
                </a:lnTo>
                <a:lnTo>
                  <a:pt x="15109" y="0"/>
                </a:lnTo>
                <a:close/>
              </a:path>
              <a:path w="21600" h="21600">
                <a:moveTo>
                  <a:pt x="1350" y="8519"/>
                </a:moveTo>
                <a:lnTo>
                  <a:pt x="1350" y="13081"/>
                </a:lnTo>
                <a:lnTo>
                  <a:pt x="2700" y="13081"/>
                </a:lnTo>
                <a:lnTo>
                  <a:pt x="2700" y="8519"/>
                </a:lnTo>
                <a:lnTo>
                  <a:pt x="1350" y="8519"/>
                </a:lnTo>
                <a:close/>
              </a:path>
              <a:path w="21600" h="21600">
                <a:moveTo>
                  <a:pt x="0" y="8519"/>
                </a:moveTo>
                <a:lnTo>
                  <a:pt x="0" y="13081"/>
                </a:lnTo>
                <a:lnTo>
                  <a:pt x="675" y="13081"/>
                </a:lnTo>
                <a:lnTo>
                  <a:pt x="675" y="8519"/>
                </a:lnTo>
                <a:lnTo>
                  <a:pt x="0" y="8519"/>
                </a:lnTo>
                <a:close/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Franklin Gothic Medium"/>
              </a:rPr>
              <a:t>ЭПИГРАФ УРОКА: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Franklin Gothic Book"/>
              </a:rPr>
              <a:t>«Пища, услаждающая вкус и заставляющая есть больше, чем это нужно, отравляет вместо того, чтобы    питать»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Franklin Gothic Book"/>
              </a:rPr>
              <a:t>Французский писатель –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Franklin Gothic Book"/>
              </a:rPr>
              <a:t>Ф.Фенело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7" name="Picture 15" descr="Eating_200"/>
          <p:cNvPicPr/>
          <p:nvPr/>
        </p:nvPicPr>
        <p:blipFill>
          <a:blip r:embed="rId1"/>
          <a:stretch/>
        </p:blipFill>
        <p:spPr>
          <a:xfrm>
            <a:off x="395280" y="3357720"/>
            <a:ext cx="2373480" cy="1684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598" name="Picture 17" descr="iCA9UKALQ"/>
          <p:cNvPicPr/>
          <p:nvPr/>
        </p:nvPicPr>
        <p:blipFill>
          <a:blip r:embed="rId2"/>
          <a:stretch/>
        </p:blipFill>
        <p:spPr>
          <a:xfrm>
            <a:off x="2268360" y="4437000"/>
            <a:ext cx="2160720" cy="216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P1310082"/>
          <p:cNvPicPr/>
          <p:nvPr/>
        </p:nvPicPr>
        <p:blipFill>
          <a:blip r:embed="rId2"/>
          <a:stretch/>
        </p:blipFill>
        <p:spPr>
          <a:xfrm>
            <a:off x="3780000" y="333360"/>
            <a:ext cx="5153040" cy="6264360"/>
          </a:xfrm>
          <a:prstGeom prst="rect">
            <a:avLst/>
          </a:prstGeom>
          <a:ln w="47520">
            <a:solidFill>
              <a:srgbClr val="990099"/>
            </a:solidFill>
            <a:miter/>
          </a:ln>
        </p:spPr>
      </p:pic>
      <p:sp>
        <p:nvSpPr>
          <p:cNvPr id="601" name="Text Box 4"/>
          <p:cNvSpPr/>
          <p:nvPr/>
        </p:nvSpPr>
        <p:spPr>
          <a:xfrm>
            <a:off x="179280" y="1413000"/>
            <a:ext cx="33829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bat"/>
              </a:rPr>
              <a:t>Есть</a:t>
            </a:r>
            <a:r>
              <a:rPr b="1" i="1" lang="ru-RU" sz="4400" spc="-1" strike="noStrike">
                <a:solidFill>
                  <a:srgbClr val="4e3b30"/>
                </a:solidFill>
                <a:latin typeface="Arbat"/>
              </a:rPr>
              <a:t> или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bat"/>
              </a:rPr>
              <a:t>не есть</a:t>
            </a:r>
            <a:r>
              <a:rPr b="1" i="1" lang="ru-RU" sz="4400" spc="-1" strike="noStrike">
                <a:solidFill>
                  <a:srgbClr val="4e3b30"/>
                </a:solidFill>
                <a:latin typeface="Arbat"/>
              </a:rPr>
              <a:t>? -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e3b30"/>
                </a:solidFill>
                <a:latin typeface="Arbat"/>
              </a:rPr>
              <a:t>вот в чём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e3b30"/>
                </a:solidFill>
                <a:latin typeface="Arbat"/>
              </a:rPr>
              <a:t>вопрос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ДУКТЫ ПИТАНИЯ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должны быть: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безопасны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соответствовать санитарным норма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4" name="Picture 5" descr=""/>
          <p:cNvPicPr/>
          <p:nvPr/>
        </p:nvPicPr>
        <p:blipFill>
          <a:blip r:embed="rId1"/>
          <a:stretch/>
        </p:blipFill>
        <p:spPr>
          <a:xfrm>
            <a:off x="1403280" y="2765520"/>
            <a:ext cx="6337440" cy="37954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вещества, добавляющиеся в технологических целях в пищевые продукты в процессе производства, упаковки или хранения для придания им желаемы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WordArt 4"/>
          <p:cNvSpPr txBox="1"/>
          <p:nvPr/>
        </p:nvSpPr>
        <p:spPr>
          <a:xfrm>
            <a:off x="684360" y="260280"/>
            <a:ext cx="61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Пищевые доб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684360" y="2852640"/>
            <a:ext cx="792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Современные пищевые добавки выполняют две главные задач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39640" y="3716280"/>
            <a:ext cx="7925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дают продуктам питания необходимые и прият-     ные свойства – цвет, вкус и аромат, нужную консис-тенцию;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ют срок хранения продуктов питания, что необходимо для их транспортировки и хран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15"/>
          <p:cNvSpPr txBox="1"/>
          <p:nvPr/>
        </p:nvSpPr>
        <p:spPr>
          <a:xfrm>
            <a:off x="971640" y="260280"/>
            <a:ext cx="7419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0000ff"/>
                    </a:gs>
                    <a:gs pos="100000">
                      <a:srgbClr val="33ccff"/>
                    </a:gs>
                  </a:gsLst>
                  <a:lin ang="2700000"/>
                </a:gradFill>
                <a:latin typeface="Bookman Old Style"/>
              </a:rPr>
              <a:t>Категории качества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50000">
                    <a:srgbClr val="0000ff"/>
                  </a:gs>
                  <a:gs pos="100000">
                    <a:srgbClr val="33ccff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0000ff"/>
                    </a:gs>
                    <a:gs pos="100000">
                      <a:srgbClr val="33ccff"/>
                    </a:gs>
                  </a:gsLst>
                  <a:lin ang="2700000"/>
                </a:gradFill>
                <a:latin typeface="Bookman Old Style"/>
              </a:rPr>
              <a:t> </a:t>
            </a: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0000ff"/>
                    </a:gs>
                    <a:gs pos="100000">
                      <a:srgbClr val="33ccff"/>
                    </a:gs>
                  </a:gsLst>
                  <a:lin ang="2700000"/>
                </a:gradFill>
                <a:latin typeface="Bookman Old Style"/>
              </a:rPr>
              <a:t>продовольственных товаров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50000">
                    <a:srgbClr val="0000ff"/>
                  </a:gs>
                  <a:gs pos="100000">
                    <a:srgbClr val="33ccff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  <p:sp>
        <p:nvSpPr>
          <p:cNvPr id="610" name="AutoShape 24"/>
          <p:cNvSpPr/>
          <p:nvPr/>
        </p:nvSpPr>
        <p:spPr>
          <a:xfrm>
            <a:off x="250920" y="1628640"/>
            <a:ext cx="3097080" cy="2592360"/>
          </a:xfrm>
          <a:prstGeom prst="horizontalScroll">
            <a:avLst>
              <a:gd name="adj" fmla="val 948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ая категор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этих товара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личество 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ипы спецдобаво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рого контролируютс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5"/>
          <p:cNvSpPr/>
          <p:nvPr/>
        </p:nvSpPr>
        <p:spPr>
          <a:xfrm>
            <a:off x="5651640" y="1557360"/>
            <a:ext cx="3024000" cy="2519280"/>
          </a:xfrm>
          <a:prstGeom prst="horizontalScroll">
            <a:avLst>
              <a:gd name="adj" fmla="val 898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ая категор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чество товаров контролируется менее строго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26"/>
          <p:cNvSpPr/>
          <p:nvPr/>
        </p:nvSpPr>
        <p:spPr>
          <a:xfrm>
            <a:off x="1908000" y="3860640"/>
            <a:ext cx="5256360" cy="280836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тья категор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а эти товары не распространяют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ногие ограничения на использова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ие спецдобавок. Себестоимость и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иже, а производство выгоднее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 этой категории относится 80 %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дуктов питания поставляемы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а мировой рынок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7"/>
          <p:cNvSpPr/>
          <p:nvPr/>
        </p:nvSpPr>
        <p:spPr>
          <a:xfrm flipH="1">
            <a:off x="1692000" y="1341360"/>
            <a:ext cx="2663640" cy="57636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8"/>
          <p:cNvSpPr/>
          <p:nvPr/>
        </p:nvSpPr>
        <p:spPr>
          <a:xfrm>
            <a:off x="4788000" y="1341360"/>
            <a:ext cx="2520720" cy="50328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9"/>
          <p:cNvSpPr/>
          <p:nvPr/>
        </p:nvSpPr>
        <p:spPr>
          <a:xfrm>
            <a:off x="4572000" y="1341360"/>
            <a:ext cx="0" cy="259092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99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18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332920" cy="1444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f165p20-3"/>
          <p:cNvPicPr/>
          <p:nvPr/>
        </p:nvPicPr>
        <p:blipFill>
          <a:blip r:embed="rId2"/>
          <a:stretch/>
        </p:blipFill>
        <p:spPr>
          <a:xfrm>
            <a:off x="324000" y="1628640"/>
            <a:ext cx="3724200" cy="496728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graphicFrame>
        <p:nvGraphicFramePr>
          <p:cNvPr id="618" name="Object 20"/>
          <p:cNvGraphicFramePr/>
          <p:nvPr/>
        </p:nvGraphicFramePr>
        <p:xfrm>
          <a:off x="6431040" y="1278000"/>
          <a:ext cx="155520" cy="1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1040" y="1278000"/>
                    <a:ext cx="1555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0" name="Picture 17" descr="фото с сайта г-ты &quot;Новые известия&quot;"/>
          <p:cNvPicPr/>
          <p:nvPr/>
        </p:nvPicPr>
        <p:blipFill>
          <a:blip r:embed="rId5"/>
          <a:stretch/>
        </p:blipFill>
        <p:spPr>
          <a:xfrm>
            <a:off x="4568760" y="1628640"/>
            <a:ext cx="4154400" cy="4969080"/>
          </a:xfrm>
          <a:prstGeom prst="rect">
            <a:avLst/>
          </a:prstGeom>
          <a:ln w="63360">
            <a:solidFill>
              <a:srgbClr val="008000"/>
            </a:solidFill>
            <a:miter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Rectangle 5" descr=""/>
          <p:cNvPicPr/>
          <p:nvPr/>
        </p:nvPicPr>
        <p:blipFill>
          <a:blip r:embed="rId1"/>
          <a:stretch/>
        </p:blipFill>
        <p:spPr>
          <a:xfrm>
            <a:off x="4821120" y="334800"/>
            <a:ext cx="4084920" cy="6188400"/>
          </a:xfrm>
          <a:prstGeom prst="rect">
            <a:avLst/>
          </a:prstGeom>
          <a:ln w="0">
            <a:noFill/>
          </a:ln>
        </p:spPr>
      </p:pic>
      <p:sp>
        <p:nvSpPr>
          <p:cNvPr id="622" name="Oval 7"/>
          <p:cNvSpPr/>
          <p:nvPr/>
        </p:nvSpPr>
        <p:spPr>
          <a:xfrm>
            <a:off x="4932360" y="765000"/>
            <a:ext cx="792000" cy="3603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6372360" y="3284640"/>
            <a:ext cx="1150920" cy="57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 62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6948360" y="3860640"/>
            <a:ext cx="1150920" cy="57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 160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6012000" y="4365720"/>
            <a:ext cx="1150920" cy="57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 34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D:\DOWNLOADS\sukhariki_kirieshki_rzhanye_so_vkusom_vetchiny_i_syra_40_g.jpg"/>
          <p:cNvPicPr/>
          <p:nvPr/>
        </p:nvPicPr>
        <p:blipFill>
          <a:blip r:embed="rId3"/>
          <a:stretch/>
        </p:blipFill>
        <p:spPr>
          <a:xfrm>
            <a:off x="228600" y="944640"/>
            <a:ext cx="470376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3:55Z</dcterms:created>
  <dc:creator>user</dc:creator>
  <dc:description/>
  <dc:language>en-US</dc:language>
  <cp:lastModifiedBy>ADMIN</cp:lastModifiedBy>
  <dcterms:modified xsi:type="dcterms:W3CDTF">2024-07-25T08:06:50Z</dcterms:modified>
  <cp:revision>75</cp:revision>
  <dc:subject/>
  <dc:title>Слайд 1</dc:title>
</cp:coreProperties>
</file>