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35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B3DA-AE3C-4B5E-9C94-D7BE1498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3A0A-E13B-4F46-B4E9-5973FFF0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738A-D699-4030-A02E-3FABB523B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BEFF-70FF-4DC3-9236-C238A8A5D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09E9-5BA5-4E7A-9520-30F00D217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D541-8222-4FB7-959F-C2D50D4D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998D-7C97-484C-809A-56151470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A032-116F-45D5-B82C-BE277AF6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548E-9DD7-4812-B53F-62EDD71B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C051-6F95-459E-B08B-9DD5C910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6E14-0B2F-4C1E-BE17-CD230286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43BF-4B50-41DB-AB95-ECC73109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E37C-01DF-4AFC-A937-CAB5B06A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6C0E-0718-4EB8-93B0-ABA54A31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8481-69C9-4E05-BFE2-A3F9134B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E22D-69A5-4D8E-8ACC-940439E1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A7F4-D312-46A3-B355-50A439A28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95CBC-F6C6-469C-A4EB-BF45345AE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6B545-F46B-482E-8AAB-76EA11D8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B9D18-1FD7-478C-BDF7-31E2585F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166AC-48C4-40A3-8ACB-8B893FCF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B46C7-4F02-4F91-8396-8EF79C6F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4B35-84AF-415B-AC8F-D38634DC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AE549-BDAA-4A8E-A5AB-A4EFADFD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49307-2820-4B51-8392-50EEC7DC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6C552-4BD6-4935-98DD-D47B123E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B2393-B17B-4CF1-9739-9CB91E02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8D18F-8421-471A-9E2D-99FA2568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62921-6FB9-4F70-A893-197D17833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890CF-42B4-42FD-BE81-6AC118692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591C1-17C1-44BD-A93B-28A27345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5FC0A-60EB-43D9-88E3-BE018338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5C726-BB2F-4927-B903-C10CC0CA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693E-2E8E-4BED-BE31-CAAA40A9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90C9B-5A40-4112-B6CF-C938E845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4AC41-8F68-40DD-9814-02112F14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5F179-8913-43D3-9040-93C0CB03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662C8-6769-4753-8BE7-7C9A21B2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3506F-B90F-47DC-B83E-6AE4295D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16BA6-01B4-424E-8A15-D9321744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1A31E-4C6E-48F8-80D9-6E94FF77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E38B5-35A2-40E6-BE23-55377FB01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31D74-4E09-49A5-B454-95BA9B621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2BD03-56DB-4D77-A023-55978897D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CCFA-CDDA-4C26-98AD-411F3274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D9A88-81D1-450D-A04A-D87468FA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CAE1C-A30D-4CF3-B8B5-810E8EBC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72153-FF33-4121-8284-15372B53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790BA-D4EE-4313-9187-52BD2C1E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88DA4-684F-47B9-BD9A-6B1B2A4F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52468-E4FB-4C5D-AD78-DCDC44AD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51D22-25AD-4D1B-8470-3D421797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1A080-60FA-4FB8-AF2D-E806DA14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6DF41-C61C-4B12-8D32-53F459A9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DDDD8-9448-4498-8A9E-B1F277F49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AEAF-C7F4-4E24-B3EB-BFF9C27D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8B919-691F-4914-BCCD-60DF4433B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692EF-2D91-4639-853E-5822D1A86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5E077-AD7E-437E-A286-1BCC1D30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E089E-955E-449C-8BD4-A5BCC766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06925-6006-4F8B-8CBD-755E9638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E5B11-D563-477E-9354-1964405F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F22EB-7ADE-4203-8A61-A2B7DBFB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A5CF7-A100-437C-A858-0A098454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16AE1-AEFF-496C-8D99-206BB1F3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79297-276E-4119-9543-57C87CFA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16A2-2AF9-4190-BF8A-391F6E97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10BDC-4FB7-4161-BF5B-257A01D9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ECDE1-E4C6-4F97-BAD4-B99ED38DD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BA5FB-BFC6-415B-818F-DB74CF168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A1CBE-86AC-4F6A-AFD1-372080D0C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16797-1344-427E-982D-CEF03012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C3348-DF04-4C91-96B5-B3B849E4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310E3-AFA2-4BDA-93E3-C33550D8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DAEBC-8350-43E5-9C89-E4912DE5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5B108-FEC5-451E-A495-E6DF70C7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54F39-3D31-4282-A14A-8B99311A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DF3F-2C1F-4959-AFCF-F9DA85A0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FA7D7-657E-43F0-B806-32B5A74B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A7BBF-050B-43BF-8BF1-5DA80974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32576-76B5-424E-B9A0-02856BE9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1ECA9-6903-47D7-BB8E-42A8B04C6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E8E0D-91EF-4D05-85B3-C5D61A7E0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1A29-47EF-4716-9F08-0EC49C17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77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262480" y="4076640"/>
            <a:ext cx="1396440" cy="1748880"/>
            <a:chOff x="5262480" y="4076640"/>
            <a:chExt cx="1396440" cy="1748880"/>
          </a:xfrm>
        </p:grpSpPr>
        <p:sp>
          <p:nvSpPr>
            <p:cNvPr id="1" name="未知"/>
            <p:cNvSpPr/>
            <p:nvPr/>
          </p:nvSpPr>
          <p:spPr>
            <a:xfrm>
              <a:off x="6203520" y="4752720"/>
              <a:ext cx="455400" cy="809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199" y="6295"/>
                  </a:moveTo>
                  <a:lnTo>
                    <a:pt x="7199" y="6186"/>
                  </a:lnTo>
                  <a:lnTo>
                    <a:pt x="7010" y="5861"/>
                  </a:lnTo>
                  <a:lnTo>
                    <a:pt x="7199" y="5535"/>
                  </a:lnTo>
                  <a:lnTo>
                    <a:pt x="7389" y="5209"/>
                  </a:lnTo>
                  <a:lnTo>
                    <a:pt x="7389" y="4775"/>
                  </a:lnTo>
                  <a:lnTo>
                    <a:pt x="7768" y="4450"/>
                  </a:lnTo>
                  <a:lnTo>
                    <a:pt x="7957" y="4341"/>
                  </a:lnTo>
                  <a:lnTo>
                    <a:pt x="8336" y="4016"/>
                  </a:lnTo>
                  <a:lnTo>
                    <a:pt x="8715" y="3581"/>
                  </a:lnTo>
                  <a:lnTo>
                    <a:pt x="8905" y="3256"/>
                  </a:lnTo>
                  <a:lnTo>
                    <a:pt x="9283" y="3039"/>
                  </a:lnTo>
                  <a:lnTo>
                    <a:pt x="9473" y="2821"/>
                  </a:lnTo>
                  <a:lnTo>
                    <a:pt x="9852" y="2713"/>
                  </a:lnTo>
                  <a:lnTo>
                    <a:pt x="10041" y="2604"/>
                  </a:lnTo>
                  <a:lnTo>
                    <a:pt x="10231" y="2387"/>
                  </a:lnTo>
                  <a:lnTo>
                    <a:pt x="10420" y="2279"/>
                  </a:lnTo>
                  <a:lnTo>
                    <a:pt x="10420" y="2170"/>
                  </a:lnTo>
                  <a:lnTo>
                    <a:pt x="10610" y="2062"/>
                  </a:lnTo>
                  <a:lnTo>
                    <a:pt x="10800" y="1953"/>
                  </a:lnTo>
                  <a:lnTo>
                    <a:pt x="10989" y="1953"/>
                  </a:lnTo>
                  <a:lnTo>
                    <a:pt x="11368" y="1845"/>
                  </a:lnTo>
                  <a:lnTo>
                    <a:pt x="11557" y="1736"/>
                  </a:lnTo>
                  <a:lnTo>
                    <a:pt x="11747" y="1627"/>
                  </a:lnTo>
                  <a:lnTo>
                    <a:pt x="11936" y="1627"/>
                  </a:lnTo>
                  <a:lnTo>
                    <a:pt x="12126" y="1410"/>
                  </a:lnTo>
                  <a:lnTo>
                    <a:pt x="12315" y="1410"/>
                  </a:lnTo>
                  <a:lnTo>
                    <a:pt x="12694" y="1302"/>
                  </a:lnTo>
                  <a:lnTo>
                    <a:pt x="12883" y="1302"/>
                  </a:lnTo>
                  <a:lnTo>
                    <a:pt x="12883" y="1302"/>
                  </a:lnTo>
                  <a:lnTo>
                    <a:pt x="12883" y="1302"/>
                  </a:lnTo>
                  <a:lnTo>
                    <a:pt x="12883" y="1302"/>
                  </a:lnTo>
                  <a:lnTo>
                    <a:pt x="12883" y="1302"/>
                  </a:lnTo>
                  <a:lnTo>
                    <a:pt x="12315" y="1302"/>
                  </a:lnTo>
                  <a:lnTo>
                    <a:pt x="11747" y="1410"/>
                  </a:lnTo>
                  <a:lnTo>
                    <a:pt x="11178" y="1519"/>
                  </a:lnTo>
                  <a:lnTo>
                    <a:pt x="10800" y="1627"/>
                  </a:lnTo>
                  <a:lnTo>
                    <a:pt x="10610" y="1736"/>
                  </a:lnTo>
                  <a:lnTo>
                    <a:pt x="10041" y="1953"/>
                  </a:lnTo>
                  <a:lnTo>
                    <a:pt x="9662" y="2062"/>
                  </a:lnTo>
                  <a:lnTo>
                    <a:pt x="9283" y="2279"/>
                  </a:lnTo>
                  <a:lnTo>
                    <a:pt x="8905" y="2387"/>
                  </a:lnTo>
                  <a:lnTo>
                    <a:pt x="8526" y="2604"/>
                  </a:lnTo>
                  <a:lnTo>
                    <a:pt x="8147" y="2604"/>
                  </a:lnTo>
                  <a:lnTo>
                    <a:pt x="7578" y="2821"/>
                  </a:lnTo>
                  <a:lnTo>
                    <a:pt x="7199" y="2930"/>
                  </a:lnTo>
                  <a:lnTo>
                    <a:pt x="6631" y="3256"/>
                  </a:lnTo>
                  <a:lnTo>
                    <a:pt x="6252" y="3364"/>
                  </a:lnTo>
                  <a:lnTo>
                    <a:pt x="5494" y="3690"/>
                  </a:lnTo>
                  <a:lnTo>
                    <a:pt x="5305" y="3690"/>
                  </a:lnTo>
                  <a:lnTo>
                    <a:pt x="5115" y="3581"/>
                  </a:lnTo>
                  <a:lnTo>
                    <a:pt x="4926" y="3581"/>
                  </a:lnTo>
                  <a:lnTo>
                    <a:pt x="4547" y="3581"/>
                  </a:lnTo>
                  <a:lnTo>
                    <a:pt x="4547" y="3473"/>
                  </a:lnTo>
                  <a:lnTo>
                    <a:pt x="4168" y="3256"/>
                  </a:lnTo>
                  <a:lnTo>
                    <a:pt x="3789" y="3039"/>
                  </a:lnTo>
                  <a:lnTo>
                    <a:pt x="3789" y="2930"/>
                  </a:lnTo>
                  <a:lnTo>
                    <a:pt x="3410" y="2604"/>
                  </a:lnTo>
                  <a:lnTo>
                    <a:pt x="3220" y="2387"/>
                  </a:lnTo>
                  <a:lnTo>
                    <a:pt x="2842" y="2170"/>
                  </a:lnTo>
                  <a:lnTo>
                    <a:pt x="2463" y="1953"/>
                  </a:lnTo>
                  <a:lnTo>
                    <a:pt x="2273" y="1845"/>
                  </a:lnTo>
                  <a:lnTo>
                    <a:pt x="1894" y="1519"/>
                  </a:lnTo>
                  <a:lnTo>
                    <a:pt x="1515" y="1302"/>
                  </a:lnTo>
                  <a:lnTo>
                    <a:pt x="1515" y="1085"/>
                  </a:lnTo>
                  <a:lnTo>
                    <a:pt x="1326" y="868"/>
                  </a:lnTo>
                  <a:lnTo>
                    <a:pt x="1136" y="650"/>
                  </a:lnTo>
                  <a:lnTo>
                    <a:pt x="947" y="434"/>
                  </a:lnTo>
                  <a:lnTo>
                    <a:pt x="568" y="325"/>
                  </a:lnTo>
                  <a:lnTo>
                    <a:pt x="378" y="216"/>
                  </a:lnTo>
                  <a:lnTo>
                    <a:pt x="378" y="0"/>
                  </a:lnTo>
                  <a:lnTo>
                    <a:pt x="189" y="0"/>
                  </a:lnTo>
                  <a:lnTo>
                    <a:pt x="189" y="0"/>
                  </a:lnTo>
                  <a:lnTo>
                    <a:pt x="189" y="0"/>
                  </a:lnTo>
                  <a:lnTo>
                    <a:pt x="189" y="108"/>
                  </a:lnTo>
                  <a:lnTo>
                    <a:pt x="0" y="216"/>
                  </a:lnTo>
                  <a:lnTo>
                    <a:pt x="189" y="325"/>
                  </a:lnTo>
                  <a:lnTo>
                    <a:pt x="189" y="542"/>
                  </a:lnTo>
                  <a:lnTo>
                    <a:pt x="378" y="976"/>
                  </a:lnTo>
                  <a:lnTo>
                    <a:pt x="378" y="1302"/>
                  </a:lnTo>
                  <a:lnTo>
                    <a:pt x="757" y="1627"/>
                  </a:lnTo>
                  <a:lnTo>
                    <a:pt x="947" y="1845"/>
                  </a:lnTo>
                  <a:lnTo>
                    <a:pt x="1136" y="2062"/>
                  </a:lnTo>
                  <a:lnTo>
                    <a:pt x="1326" y="2279"/>
                  </a:lnTo>
                  <a:lnTo>
                    <a:pt x="1326" y="2496"/>
                  </a:lnTo>
                  <a:lnTo>
                    <a:pt x="1704" y="2713"/>
                  </a:lnTo>
                  <a:lnTo>
                    <a:pt x="1894" y="3039"/>
                  </a:lnTo>
                  <a:lnTo>
                    <a:pt x="2273" y="3256"/>
                  </a:lnTo>
                  <a:lnTo>
                    <a:pt x="2463" y="3473"/>
                  </a:lnTo>
                  <a:lnTo>
                    <a:pt x="2842" y="3798"/>
                  </a:lnTo>
                  <a:lnTo>
                    <a:pt x="3220" y="3907"/>
                  </a:lnTo>
                  <a:lnTo>
                    <a:pt x="3410" y="4232"/>
                  </a:lnTo>
                  <a:lnTo>
                    <a:pt x="3599" y="4341"/>
                  </a:lnTo>
                  <a:lnTo>
                    <a:pt x="3599" y="4558"/>
                  </a:lnTo>
                  <a:lnTo>
                    <a:pt x="3789" y="4775"/>
                  </a:lnTo>
                  <a:lnTo>
                    <a:pt x="3978" y="4992"/>
                  </a:lnTo>
                  <a:lnTo>
                    <a:pt x="3978" y="5209"/>
                  </a:lnTo>
                  <a:lnTo>
                    <a:pt x="3978" y="5535"/>
                  </a:lnTo>
                  <a:lnTo>
                    <a:pt x="3978" y="5861"/>
                  </a:lnTo>
                  <a:lnTo>
                    <a:pt x="3789" y="6295"/>
                  </a:lnTo>
                  <a:lnTo>
                    <a:pt x="3599" y="6729"/>
                  </a:lnTo>
                  <a:lnTo>
                    <a:pt x="3599" y="7163"/>
                  </a:lnTo>
                  <a:lnTo>
                    <a:pt x="3599" y="7597"/>
                  </a:lnTo>
                  <a:lnTo>
                    <a:pt x="3410" y="7923"/>
                  </a:lnTo>
                  <a:lnTo>
                    <a:pt x="3410" y="8466"/>
                  </a:lnTo>
                  <a:lnTo>
                    <a:pt x="3220" y="8900"/>
                  </a:lnTo>
                  <a:lnTo>
                    <a:pt x="3031" y="9443"/>
                  </a:lnTo>
                  <a:lnTo>
                    <a:pt x="3031" y="9768"/>
                  </a:lnTo>
                  <a:lnTo>
                    <a:pt x="2842" y="10311"/>
                  </a:lnTo>
                  <a:lnTo>
                    <a:pt x="2842" y="10854"/>
                  </a:lnTo>
                  <a:lnTo>
                    <a:pt x="2652" y="11288"/>
                  </a:lnTo>
                  <a:lnTo>
                    <a:pt x="2652" y="11722"/>
                  </a:lnTo>
                  <a:lnTo>
                    <a:pt x="2652" y="12156"/>
                  </a:lnTo>
                  <a:lnTo>
                    <a:pt x="2652" y="12807"/>
                  </a:lnTo>
                  <a:lnTo>
                    <a:pt x="2842" y="13241"/>
                  </a:lnTo>
                  <a:lnTo>
                    <a:pt x="2652" y="13784"/>
                  </a:lnTo>
                  <a:lnTo>
                    <a:pt x="2842" y="14218"/>
                  </a:lnTo>
                  <a:lnTo>
                    <a:pt x="2842" y="14761"/>
                  </a:lnTo>
                  <a:lnTo>
                    <a:pt x="2842" y="15087"/>
                  </a:lnTo>
                  <a:lnTo>
                    <a:pt x="3031" y="15630"/>
                  </a:lnTo>
                  <a:lnTo>
                    <a:pt x="3220" y="16172"/>
                  </a:lnTo>
                  <a:lnTo>
                    <a:pt x="3410" y="16715"/>
                  </a:lnTo>
                  <a:lnTo>
                    <a:pt x="3599" y="17149"/>
                  </a:lnTo>
                  <a:lnTo>
                    <a:pt x="3978" y="17583"/>
                  </a:lnTo>
                  <a:lnTo>
                    <a:pt x="4357" y="18018"/>
                  </a:lnTo>
                  <a:lnTo>
                    <a:pt x="4736" y="18452"/>
                  </a:lnTo>
                  <a:lnTo>
                    <a:pt x="5305" y="18994"/>
                  </a:lnTo>
                  <a:lnTo>
                    <a:pt x="5684" y="19320"/>
                  </a:lnTo>
                  <a:lnTo>
                    <a:pt x="6441" y="19646"/>
                  </a:lnTo>
                  <a:lnTo>
                    <a:pt x="7010" y="20080"/>
                  </a:lnTo>
                  <a:lnTo>
                    <a:pt x="7389" y="20297"/>
                  </a:lnTo>
                  <a:lnTo>
                    <a:pt x="8147" y="20623"/>
                  </a:lnTo>
                  <a:lnTo>
                    <a:pt x="8526" y="20948"/>
                  </a:lnTo>
                  <a:lnTo>
                    <a:pt x="9283" y="21057"/>
                  </a:lnTo>
                  <a:lnTo>
                    <a:pt x="9662" y="21274"/>
                  </a:lnTo>
                  <a:lnTo>
                    <a:pt x="10231" y="21491"/>
                  </a:lnTo>
                  <a:lnTo>
                    <a:pt x="10800" y="21491"/>
                  </a:lnTo>
                  <a:lnTo>
                    <a:pt x="11368" y="21491"/>
                  </a:lnTo>
                  <a:lnTo>
                    <a:pt x="12126" y="21600"/>
                  </a:lnTo>
                  <a:lnTo>
                    <a:pt x="12504" y="21491"/>
                  </a:lnTo>
                  <a:lnTo>
                    <a:pt x="12883" y="21491"/>
                  </a:lnTo>
                  <a:lnTo>
                    <a:pt x="13452" y="21382"/>
                  </a:lnTo>
                  <a:lnTo>
                    <a:pt x="14020" y="21274"/>
                  </a:lnTo>
                  <a:lnTo>
                    <a:pt x="14589" y="21057"/>
                  </a:lnTo>
                  <a:lnTo>
                    <a:pt x="15157" y="20948"/>
                  </a:lnTo>
                  <a:lnTo>
                    <a:pt x="15726" y="20839"/>
                  </a:lnTo>
                  <a:lnTo>
                    <a:pt x="16105" y="20623"/>
                  </a:lnTo>
                  <a:lnTo>
                    <a:pt x="16294" y="20405"/>
                  </a:lnTo>
                  <a:lnTo>
                    <a:pt x="16863" y="20188"/>
                  </a:lnTo>
                  <a:lnTo>
                    <a:pt x="17431" y="19754"/>
                  </a:lnTo>
                  <a:lnTo>
                    <a:pt x="17620" y="19537"/>
                  </a:lnTo>
                  <a:lnTo>
                    <a:pt x="18189" y="19211"/>
                  </a:lnTo>
                  <a:lnTo>
                    <a:pt x="18378" y="18886"/>
                  </a:lnTo>
                  <a:lnTo>
                    <a:pt x="18947" y="18560"/>
                  </a:lnTo>
                  <a:lnTo>
                    <a:pt x="19326" y="18126"/>
                  </a:lnTo>
                  <a:lnTo>
                    <a:pt x="19515" y="17692"/>
                  </a:lnTo>
                  <a:lnTo>
                    <a:pt x="19894" y="17257"/>
                  </a:lnTo>
                  <a:lnTo>
                    <a:pt x="20083" y="17041"/>
                  </a:lnTo>
                  <a:lnTo>
                    <a:pt x="20273" y="16606"/>
                  </a:lnTo>
                  <a:lnTo>
                    <a:pt x="20462" y="16064"/>
                  </a:lnTo>
                  <a:lnTo>
                    <a:pt x="20841" y="15630"/>
                  </a:lnTo>
                  <a:lnTo>
                    <a:pt x="20841" y="15412"/>
                  </a:lnTo>
                  <a:lnTo>
                    <a:pt x="20841" y="15195"/>
                  </a:lnTo>
                  <a:lnTo>
                    <a:pt x="20841" y="14978"/>
                  </a:lnTo>
                  <a:lnTo>
                    <a:pt x="21031" y="14653"/>
                  </a:lnTo>
                  <a:lnTo>
                    <a:pt x="21031" y="14436"/>
                  </a:lnTo>
                  <a:lnTo>
                    <a:pt x="21220" y="14218"/>
                  </a:lnTo>
                  <a:lnTo>
                    <a:pt x="21220" y="13893"/>
                  </a:lnTo>
                  <a:lnTo>
                    <a:pt x="21410" y="13676"/>
                  </a:lnTo>
                  <a:lnTo>
                    <a:pt x="21220" y="13459"/>
                  </a:lnTo>
                  <a:lnTo>
                    <a:pt x="21410" y="13241"/>
                  </a:lnTo>
                  <a:lnTo>
                    <a:pt x="21410" y="12916"/>
                  </a:lnTo>
                  <a:lnTo>
                    <a:pt x="21410" y="12590"/>
                  </a:lnTo>
                  <a:lnTo>
                    <a:pt x="21410" y="12373"/>
                  </a:lnTo>
                  <a:lnTo>
                    <a:pt x="21600" y="12048"/>
                  </a:lnTo>
                  <a:lnTo>
                    <a:pt x="21600" y="11722"/>
                  </a:lnTo>
                  <a:lnTo>
                    <a:pt x="21600" y="11613"/>
                  </a:lnTo>
                  <a:lnTo>
                    <a:pt x="21410" y="11288"/>
                  </a:lnTo>
                  <a:lnTo>
                    <a:pt x="21600" y="11071"/>
                  </a:lnTo>
                  <a:lnTo>
                    <a:pt x="21410" y="10854"/>
                  </a:lnTo>
                  <a:lnTo>
                    <a:pt x="21410" y="10528"/>
                  </a:lnTo>
                  <a:lnTo>
                    <a:pt x="21600" y="10202"/>
                  </a:lnTo>
                  <a:lnTo>
                    <a:pt x="21410" y="9985"/>
                  </a:lnTo>
                  <a:lnTo>
                    <a:pt x="21410" y="9768"/>
                  </a:lnTo>
                  <a:lnTo>
                    <a:pt x="21220" y="9334"/>
                  </a:lnTo>
                  <a:lnTo>
                    <a:pt x="21220" y="9009"/>
                  </a:lnTo>
                  <a:lnTo>
                    <a:pt x="21031" y="8791"/>
                  </a:lnTo>
                  <a:lnTo>
                    <a:pt x="21031" y="8466"/>
                  </a:lnTo>
                  <a:lnTo>
                    <a:pt x="21031" y="8140"/>
                  </a:lnTo>
                  <a:lnTo>
                    <a:pt x="20841" y="7923"/>
                  </a:lnTo>
                  <a:lnTo>
                    <a:pt x="20841" y="7706"/>
                  </a:lnTo>
                  <a:lnTo>
                    <a:pt x="20652" y="7272"/>
                  </a:lnTo>
                  <a:lnTo>
                    <a:pt x="20652" y="6946"/>
                  </a:lnTo>
                  <a:lnTo>
                    <a:pt x="20652" y="6946"/>
                  </a:lnTo>
                  <a:lnTo>
                    <a:pt x="20652" y="6946"/>
                  </a:lnTo>
                  <a:lnTo>
                    <a:pt x="20652" y="7055"/>
                  </a:lnTo>
                  <a:lnTo>
                    <a:pt x="20462" y="7163"/>
                  </a:lnTo>
                  <a:lnTo>
                    <a:pt x="20652" y="7380"/>
                  </a:lnTo>
                  <a:lnTo>
                    <a:pt x="20652" y="7597"/>
                  </a:lnTo>
                  <a:lnTo>
                    <a:pt x="20652" y="7814"/>
                  </a:lnTo>
                  <a:lnTo>
                    <a:pt x="20841" y="8140"/>
                  </a:lnTo>
                  <a:lnTo>
                    <a:pt x="20652" y="8466"/>
                  </a:lnTo>
                  <a:lnTo>
                    <a:pt x="20841" y="8683"/>
                  </a:lnTo>
                  <a:lnTo>
                    <a:pt x="20841" y="9009"/>
                  </a:lnTo>
                  <a:lnTo>
                    <a:pt x="20841" y="9334"/>
                  </a:lnTo>
                  <a:lnTo>
                    <a:pt x="21031" y="9660"/>
                  </a:lnTo>
                  <a:lnTo>
                    <a:pt x="21031" y="9877"/>
                  </a:lnTo>
                  <a:lnTo>
                    <a:pt x="21220" y="10094"/>
                  </a:lnTo>
                  <a:lnTo>
                    <a:pt x="21031" y="10311"/>
                  </a:lnTo>
                  <a:lnTo>
                    <a:pt x="21220" y="10962"/>
                  </a:lnTo>
                  <a:lnTo>
                    <a:pt x="21220" y="11396"/>
                  </a:lnTo>
                  <a:lnTo>
                    <a:pt x="21031" y="11939"/>
                  </a:lnTo>
                  <a:lnTo>
                    <a:pt x="21031" y="12482"/>
                  </a:lnTo>
                  <a:lnTo>
                    <a:pt x="20841" y="13133"/>
                  </a:lnTo>
                  <a:lnTo>
                    <a:pt x="20841" y="13676"/>
                  </a:lnTo>
                  <a:lnTo>
                    <a:pt x="20462" y="14218"/>
                  </a:lnTo>
                  <a:lnTo>
                    <a:pt x="20273" y="14761"/>
                  </a:lnTo>
                  <a:lnTo>
                    <a:pt x="19894" y="15304"/>
                  </a:lnTo>
                  <a:lnTo>
                    <a:pt x="19515" y="15955"/>
                  </a:lnTo>
                  <a:lnTo>
                    <a:pt x="19136" y="16498"/>
                  </a:lnTo>
                  <a:lnTo>
                    <a:pt x="18757" y="16932"/>
                  </a:lnTo>
                  <a:lnTo>
                    <a:pt x="18189" y="17366"/>
                  </a:lnTo>
                  <a:lnTo>
                    <a:pt x="17810" y="17800"/>
                  </a:lnTo>
                  <a:lnTo>
                    <a:pt x="17241" y="18343"/>
                  </a:lnTo>
                  <a:lnTo>
                    <a:pt x="16863" y="18669"/>
                  </a:lnTo>
                  <a:lnTo>
                    <a:pt x="16484" y="18994"/>
                  </a:lnTo>
                  <a:lnTo>
                    <a:pt x="15915" y="19320"/>
                  </a:lnTo>
                  <a:lnTo>
                    <a:pt x="15347" y="19646"/>
                  </a:lnTo>
                  <a:lnTo>
                    <a:pt x="14589" y="19754"/>
                  </a:lnTo>
                  <a:lnTo>
                    <a:pt x="14210" y="20080"/>
                  </a:lnTo>
                  <a:lnTo>
                    <a:pt x="13452" y="20188"/>
                  </a:lnTo>
                  <a:lnTo>
                    <a:pt x="12883" y="20188"/>
                  </a:lnTo>
                  <a:lnTo>
                    <a:pt x="12315" y="20188"/>
                  </a:lnTo>
                  <a:lnTo>
                    <a:pt x="11747" y="20080"/>
                  </a:lnTo>
                  <a:lnTo>
                    <a:pt x="10989" y="19971"/>
                  </a:lnTo>
                  <a:lnTo>
                    <a:pt x="10420" y="19863"/>
                  </a:lnTo>
                  <a:lnTo>
                    <a:pt x="9852" y="19537"/>
                  </a:lnTo>
                  <a:lnTo>
                    <a:pt x="9283" y="19211"/>
                  </a:lnTo>
                  <a:lnTo>
                    <a:pt x="8905" y="18669"/>
                  </a:lnTo>
                  <a:lnTo>
                    <a:pt x="8336" y="18234"/>
                  </a:lnTo>
                  <a:lnTo>
                    <a:pt x="7768" y="17692"/>
                  </a:lnTo>
                  <a:lnTo>
                    <a:pt x="7578" y="17583"/>
                  </a:lnTo>
                  <a:lnTo>
                    <a:pt x="7389" y="17475"/>
                  </a:lnTo>
                  <a:lnTo>
                    <a:pt x="7199" y="17149"/>
                  </a:lnTo>
                  <a:lnTo>
                    <a:pt x="7199" y="16932"/>
                  </a:lnTo>
                  <a:lnTo>
                    <a:pt x="6820" y="16715"/>
                  </a:lnTo>
                  <a:lnTo>
                    <a:pt x="7010" y="16606"/>
                  </a:lnTo>
                  <a:lnTo>
                    <a:pt x="6631" y="16389"/>
                  </a:lnTo>
                  <a:lnTo>
                    <a:pt x="6441" y="16064"/>
                  </a:lnTo>
                  <a:lnTo>
                    <a:pt x="6441" y="15847"/>
                  </a:lnTo>
                  <a:lnTo>
                    <a:pt x="6252" y="15630"/>
                  </a:lnTo>
                  <a:lnTo>
                    <a:pt x="6252" y="15412"/>
                  </a:lnTo>
                  <a:lnTo>
                    <a:pt x="6063" y="15195"/>
                  </a:lnTo>
                  <a:lnTo>
                    <a:pt x="6252" y="14978"/>
                  </a:lnTo>
                  <a:lnTo>
                    <a:pt x="6063" y="14761"/>
                  </a:lnTo>
                  <a:lnTo>
                    <a:pt x="5873" y="14436"/>
                  </a:lnTo>
                  <a:lnTo>
                    <a:pt x="6063" y="14218"/>
                  </a:lnTo>
                  <a:lnTo>
                    <a:pt x="6063" y="13893"/>
                  </a:lnTo>
                  <a:lnTo>
                    <a:pt x="5873" y="13676"/>
                  </a:lnTo>
                  <a:lnTo>
                    <a:pt x="5873" y="13567"/>
                  </a:lnTo>
                  <a:lnTo>
                    <a:pt x="5873" y="13350"/>
                  </a:lnTo>
                  <a:lnTo>
                    <a:pt x="5684" y="13025"/>
                  </a:lnTo>
                  <a:lnTo>
                    <a:pt x="5873" y="12807"/>
                  </a:lnTo>
                  <a:lnTo>
                    <a:pt x="5684" y="12590"/>
                  </a:lnTo>
                  <a:lnTo>
                    <a:pt x="5873" y="12373"/>
                  </a:lnTo>
                  <a:lnTo>
                    <a:pt x="5684" y="12156"/>
                  </a:lnTo>
                  <a:lnTo>
                    <a:pt x="5684" y="11939"/>
                  </a:lnTo>
                  <a:lnTo>
                    <a:pt x="5684" y="11722"/>
                  </a:lnTo>
                  <a:lnTo>
                    <a:pt x="5684" y="11722"/>
                  </a:lnTo>
                  <a:lnTo>
                    <a:pt x="5684" y="11505"/>
                  </a:lnTo>
                  <a:lnTo>
                    <a:pt x="5684" y="11179"/>
                  </a:lnTo>
                  <a:lnTo>
                    <a:pt x="5684" y="11071"/>
                  </a:lnTo>
                  <a:lnTo>
                    <a:pt x="5684" y="10962"/>
                  </a:lnTo>
                  <a:lnTo>
                    <a:pt x="5684" y="10962"/>
                  </a:lnTo>
                  <a:lnTo>
                    <a:pt x="5684" y="10637"/>
                  </a:lnTo>
                  <a:lnTo>
                    <a:pt x="5684" y="10419"/>
                  </a:lnTo>
                  <a:lnTo>
                    <a:pt x="5873" y="10202"/>
                  </a:lnTo>
                  <a:lnTo>
                    <a:pt x="5684" y="9877"/>
                  </a:lnTo>
                  <a:lnTo>
                    <a:pt x="5873" y="9660"/>
                  </a:lnTo>
                  <a:lnTo>
                    <a:pt x="5684" y="9443"/>
                  </a:lnTo>
                  <a:lnTo>
                    <a:pt x="5873" y="9117"/>
                  </a:lnTo>
                  <a:lnTo>
                    <a:pt x="6063" y="8791"/>
                  </a:lnTo>
                  <a:lnTo>
                    <a:pt x="5873" y="8574"/>
                  </a:lnTo>
                  <a:lnTo>
                    <a:pt x="6063" y="8248"/>
                  </a:lnTo>
                  <a:lnTo>
                    <a:pt x="6063" y="8032"/>
                  </a:lnTo>
                  <a:lnTo>
                    <a:pt x="6063" y="7923"/>
                  </a:lnTo>
                  <a:lnTo>
                    <a:pt x="6063" y="7814"/>
                  </a:lnTo>
                  <a:lnTo>
                    <a:pt x="6441" y="7706"/>
                  </a:lnTo>
                  <a:lnTo>
                    <a:pt x="6441" y="7706"/>
                  </a:lnTo>
                  <a:lnTo>
                    <a:pt x="6441" y="7706"/>
                  </a:lnTo>
                  <a:lnTo>
                    <a:pt x="6441" y="7597"/>
                  </a:lnTo>
                  <a:lnTo>
                    <a:pt x="6441" y="7597"/>
                  </a:lnTo>
                  <a:lnTo>
                    <a:pt x="6441" y="7489"/>
                  </a:lnTo>
                  <a:lnTo>
                    <a:pt x="6441" y="7489"/>
                  </a:lnTo>
                  <a:lnTo>
                    <a:pt x="6441" y="7489"/>
                  </a:lnTo>
                  <a:lnTo>
                    <a:pt x="6441" y="7380"/>
                  </a:lnTo>
                  <a:lnTo>
                    <a:pt x="6441" y="7380"/>
                  </a:lnTo>
                  <a:lnTo>
                    <a:pt x="6631" y="7597"/>
                  </a:lnTo>
                  <a:lnTo>
                    <a:pt x="7010" y="7706"/>
                  </a:lnTo>
                  <a:lnTo>
                    <a:pt x="7010" y="7923"/>
                  </a:lnTo>
                  <a:lnTo>
                    <a:pt x="7389" y="8248"/>
                  </a:lnTo>
                  <a:lnTo>
                    <a:pt x="7578" y="8357"/>
                  </a:lnTo>
                  <a:lnTo>
                    <a:pt x="7768" y="8683"/>
                  </a:lnTo>
                  <a:lnTo>
                    <a:pt x="7957" y="9009"/>
                  </a:lnTo>
                  <a:lnTo>
                    <a:pt x="7957" y="9225"/>
                  </a:lnTo>
                  <a:lnTo>
                    <a:pt x="8336" y="9443"/>
                  </a:lnTo>
                  <a:lnTo>
                    <a:pt x="8336" y="9660"/>
                  </a:lnTo>
                  <a:lnTo>
                    <a:pt x="8526" y="9877"/>
                  </a:lnTo>
                  <a:lnTo>
                    <a:pt x="8715" y="10094"/>
                  </a:lnTo>
                  <a:lnTo>
                    <a:pt x="8905" y="10094"/>
                  </a:lnTo>
                  <a:lnTo>
                    <a:pt x="9094" y="10202"/>
                  </a:lnTo>
                  <a:lnTo>
                    <a:pt x="9283" y="10094"/>
                  </a:lnTo>
                  <a:lnTo>
                    <a:pt x="9283" y="9985"/>
                  </a:lnTo>
                  <a:lnTo>
                    <a:pt x="9473" y="9877"/>
                  </a:lnTo>
                  <a:lnTo>
                    <a:pt x="9283" y="9551"/>
                  </a:lnTo>
                  <a:lnTo>
                    <a:pt x="9473" y="9334"/>
                  </a:lnTo>
                  <a:lnTo>
                    <a:pt x="9283" y="9117"/>
                  </a:lnTo>
                  <a:lnTo>
                    <a:pt x="9283" y="8900"/>
                  </a:lnTo>
                  <a:lnTo>
                    <a:pt x="9283" y="8683"/>
                  </a:lnTo>
                  <a:lnTo>
                    <a:pt x="9094" y="8466"/>
                  </a:lnTo>
                  <a:lnTo>
                    <a:pt x="8905" y="8248"/>
                  </a:lnTo>
                  <a:lnTo>
                    <a:pt x="8526" y="8032"/>
                  </a:lnTo>
                  <a:lnTo>
                    <a:pt x="8526" y="7814"/>
                  </a:lnTo>
                  <a:lnTo>
                    <a:pt x="8147" y="7489"/>
                  </a:lnTo>
                  <a:lnTo>
                    <a:pt x="7957" y="7272"/>
                  </a:lnTo>
                  <a:lnTo>
                    <a:pt x="7768" y="7055"/>
                  </a:lnTo>
                  <a:lnTo>
                    <a:pt x="7578" y="6838"/>
                  </a:lnTo>
                  <a:lnTo>
                    <a:pt x="7389" y="6512"/>
                  </a:lnTo>
                  <a:lnTo>
                    <a:pt x="7199" y="6295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5737320" y="4898160"/>
              <a:ext cx="439920" cy="59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065" y="9831"/>
                  </a:moveTo>
                  <a:lnTo>
                    <a:pt x="18261" y="9533"/>
                  </a:lnTo>
                  <a:lnTo>
                    <a:pt x="18261" y="9235"/>
                  </a:lnTo>
                  <a:lnTo>
                    <a:pt x="18261" y="8937"/>
                  </a:lnTo>
                  <a:lnTo>
                    <a:pt x="18458" y="8639"/>
                  </a:lnTo>
                  <a:lnTo>
                    <a:pt x="18654" y="8341"/>
                  </a:lnTo>
                  <a:lnTo>
                    <a:pt x="18850" y="8043"/>
                  </a:lnTo>
                  <a:lnTo>
                    <a:pt x="19046" y="7597"/>
                  </a:lnTo>
                  <a:lnTo>
                    <a:pt x="19243" y="7597"/>
                  </a:lnTo>
                  <a:lnTo>
                    <a:pt x="19439" y="7299"/>
                  </a:lnTo>
                  <a:lnTo>
                    <a:pt x="19636" y="6852"/>
                  </a:lnTo>
                  <a:lnTo>
                    <a:pt x="19832" y="6554"/>
                  </a:lnTo>
                  <a:lnTo>
                    <a:pt x="20028" y="6107"/>
                  </a:lnTo>
                  <a:lnTo>
                    <a:pt x="20421" y="5958"/>
                  </a:lnTo>
                  <a:lnTo>
                    <a:pt x="20421" y="5511"/>
                  </a:lnTo>
                  <a:lnTo>
                    <a:pt x="20618" y="5064"/>
                  </a:lnTo>
                  <a:lnTo>
                    <a:pt x="20814" y="4915"/>
                  </a:lnTo>
                  <a:lnTo>
                    <a:pt x="21010" y="4468"/>
                  </a:lnTo>
                  <a:lnTo>
                    <a:pt x="21010" y="4170"/>
                  </a:lnTo>
                  <a:lnTo>
                    <a:pt x="21207" y="3873"/>
                  </a:lnTo>
                  <a:lnTo>
                    <a:pt x="21403" y="3426"/>
                  </a:lnTo>
                  <a:lnTo>
                    <a:pt x="21403" y="3128"/>
                  </a:lnTo>
                  <a:lnTo>
                    <a:pt x="21403" y="2830"/>
                  </a:lnTo>
                  <a:lnTo>
                    <a:pt x="21600" y="2532"/>
                  </a:lnTo>
                  <a:lnTo>
                    <a:pt x="21403" y="2234"/>
                  </a:lnTo>
                  <a:lnTo>
                    <a:pt x="21403" y="1936"/>
                  </a:lnTo>
                  <a:lnTo>
                    <a:pt x="21403" y="1638"/>
                  </a:lnTo>
                  <a:lnTo>
                    <a:pt x="21207" y="1340"/>
                  </a:lnTo>
                  <a:lnTo>
                    <a:pt x="21207" y="1191"/>
                  </a:lnTo>
                  <a:lnTo>
                    <a:pt x="21010" y="744"/>
                  </a:lnTo>
                  <a:lnTo>
                    <a:pt x="20618" y="595"/>
                  </a:lnTo>
                  <a:lnTo>
                    <a:pt x="20814" y="297"/>
                  </a:lnTo>
                  <a:lnTo>
                    <a:pt x="20421" y="148"/>
                  </a:lnTo>
                  <a:lnTo>
                    <a:pt x="20028" y="0"/>
                  </a:lnTo>
                  <a:lnTo>
                    <a:pt x="19832" y="0"/>
                  </a:lnTo>
                  <a:lnTo>
                    <a:pt x="19636" y="0"/>
                  </a:lnTo>
                  <a:lnTo>
                    <a:pt x="19439" y="148"/>
                  </a:lnTo>
                  <a:lnTo>
                    <a:pt x="19243" y="148"/>
                  </a:lnTo>
                  <a:lnTo>
                    <a:pt x="18850" y="297"/>
                  </a:lnTo>
                  <a:lnTo>
                    <a:pt x="18654" y="595"/>
                  </a:lnTo>
                  <a:lnTo>
                    <a:pt x="18458" y="893"/>
                  </a:lnTo>
                  <a:lnTo>
                    <a:pt x="18065" y="1191"/>
                  </a:lnTo>
                  <a:lnTo>
                    <a:pt x="18065" y="1489"/>
                  </a:lnTo>
                  <a:lnTo>
                    <a:pt x="17672" y="1936"/>
                  </a:lnTo>
                  <a:lnTo>
                    <a:pt x="17279" y="2383"/>
                  </a:lnTo>
                  <a:lnTo>
                    <a:pt x="17279" y="2830"/>
                  </a:lnTo>
                  <a:lnTo>
                    <a:pt x="16887" y="3277"/>
                  </a:lnTo>
                  <a:lnTo>
                    <a:pt x="16690" y="3724"/>
                  </a:lnTo>
                  <a:lnTo>
                    <a:pt x="16494" y="4319"/>
                  </a:lnTo>
                  <a:lnTo>
                    <a:pt x="16297" y="4766"/>
                  </a:lnTo>
                  <a:lnTo>
                    <a:pt x="16101" y="5362"/>
                  </a:lnTo>
                  <a:lnTo>
                    <a:pt x="15905" y="5958"/>
                  </a:lnTo>
                  <a:lnTo>
                    <a:pt x="15708" y="6554"/>
                  </a:lnTo>
                  <a:lnTo>
                    <a:pt x="15708" y="7001"/>
                  </a:lnTo>
                  <a:lnTo>
                    <a:pt x="15316" y="7448"/>
                  </a:lnTo>
                  <a:lnTo>
                    <a:pt x="15119" y="8043"/>
                  </a:lnTo>
                  <a:lnTo>
                    <a:pt x="14923" y="8639"/>
                  </a:lnTo>
                  <a:lnTo>
                    <a:pt x="14727" y="9235"/>
                  </a:lnTo>
                  <a:lnTo>
                    <a:pt x="14727" y="9682"/>
                  </a:lnTo>
                  <a:lnTo>
                    <a:pt x="14334" y="10129"/>
                  </a:lnTo>
                  <a:lnTo>
                    <a:pt x="14138" y="10725"/>
                  </a:lnTo>
                  <a:lnTo>
                    <a:pt x="14138" y="11023"/>
                  </a:lnTo>
                  <a:lnTo>
                    <a:pt x="13941" y="11470"/>
                  </a:lnTo>
                  <a:lnTo>
                    <a:pt x="13941" y="11768"/>
                  </a:lnTo>
                  <a:lnTo>
                    <a:pt x="13745" y="12065"/>
                  </a:lnTo>
                  <a:lnTo>
                    <a:pt x="13745" y="12512"/>
                  </a:lnTo>
                  <a:lnTo>
                    <a:pt x="13352" y="13108"/>
                  </a:lnTo>
                  <a:lnTo>
                    <a:pt x="13156" y="13704"/>
                  </a:lnTo>
                  <a:lnTo>
                    <a:pt x="12959" y="14151"/>
                  </a:lnTo>
                  <a:lnTo>
                    <a:pt x="12763" y="14598"/>
                  </a:lnTo>
                  <a:lnTo>
                    <a:pt x="12567" y="15045"/>
                  </a:lnTo>
                  <a:lnTo>
                    <a:pt x="12174" y="15343"/>
                  </a:lnTo>
                  <a:lnTo>
                    <a:pt x="11977" y="15790"/>
                  </a:lnTo>
                  <a:lnTo>
                    <a:pt x="11781" y="16236"/>
                  </a:lnTo>
                  <a:lnTo>
                    <a:pt x="11585" y="16534"/>
                  </a:lnTo>
                  <a:lnTo>
                    <a:pt x="11192" y="16832"/>
                  </a:lnTo>
                  <a:lnTo>
                    <a:pt x="11192" y="17130"/>
                  </a:lnTo>
                  <a:lnTo>
                    <a:pt x="10800" y="17428"/>
                  </a:lnTo>
                  <a:lnTo>
                    <a:pt x="10603" y="17726"/>
                  </a:lnTo>
                  <a:lnTo>
                    <a:pt x="10407" y="18024"/>
                  </a:lnTo>
                  <a:lnTo>
                    <a:pt x="10014" y="18173"/>
                  </a:lnTo>
                  <a:lnTo>
                    <a:pt x="9818" y="18471"/>
                  </a:lnTo>
                  <a:lnTo>
                    <a:pt x="9425" y="18769"/>
                  </a:lnTo>
                  <a:lnTo>
                    <a:pt x="9032" y="18769"/>
                  </a:lnTo>
                  <a:lnTo>
                    <a:pt x="9032" y="19067"/>
                  </a:lnTo>
                  <a:lnTo>
                    <a:pt x="8639" y="19216"/>
                  </a:lnTo>
                  <a:lnTo>
                    <a:pt x="8246" y="19514"/>
                  </a:lnTo>
                  <a:lnTo>
                    <a:pt x="7854" y="19663"/>
                  </a:lnTo>
                  <a:lnTo>
                    <a:pt x="7461" y="19812"/>
                  </a:lnTo>
                  <a:lnTo>
                    <a:pt x="7265" y="19812"/>
                  </a:lnTo>
                  <a:lnTo>
                    <a:pt x="6676" y="20110"/>
                  </a:lnTo>
                  <a:lnTo>
                    <a:pt x="6283" y="20259"/>
                  </a:lnTo>
                  <a:lnTo>
                    <a:pt x="5694" y="20259"/>
                  </a:lnTo>
                  <a:lnTo>
                    <a:pt x="5497" y="20557"/>
                  </a:lnTo>
                  <a:lnTo>
                    <a:pt x="4908" y="20557"/>
                  </a:lnTo>
                  <a:lnTo>
                    <a:pt x="4516" y="20706"/>
                  </a:lnTo>
                  <a:lnTo>
                    <a:pt x="3927" y="20706"/>
                  </a:lnTo>
                  <a:lnTo>
                    <a:pt x="3730" y="20706"/>
                  </a:lnTo>
                  <a:lnTo>
                    <a:pt x="3338" y="20706"/>
                  </a:lnTo>
                  <a:lnTo>
                    <a:pt x="3141" y="20855"/>
                  </a:lnTo>
                  <a:lnTo>
                    <a:pt x="2748" y="21004"/>
                  </a:lnTo>
                  <a:lnTo>
                    <a:pt x="2159" y="21004"/>
                  </a:lnTo>
                  <a:lnTo>
                    <a:pt x="1963" y="21153"/>
                  </a:lnTo>
                  <a:lnTo>
                    <a:pt x="1570" y="21302"/>
                  </a:lnTo>
                  <a:lnTo>
                    <a:pt x="1177" y="21302"/>
                  </a:lnTo>
                  <a:lnTo>
                    <a:pt x="981" y="21302"/>
                  </a:lnTo>
                  <a:lnTo>
                    <a:pt x="588" y="21451"/>
                  </a:lnTo>
                  <a:lnTo>
                    <a:pt x="392" y="21451"/>
                  </a:lnTo>
                  <a:lnTo>
                    <a:pt x="196" y="21451"/>
                  </a:lnTo>
                  <a:lnTo>
                    <a:pt x="0" y="21600"/>
                  </a:lnTo>
                  <a:lnTo>
                    <a:pt x="0" y="21600"/>
                  </a:lnTo>
                  <a:lnTo>
                    <a:pt x="196" y="21451"/>
                  </a:lnTo>
                  <a:lnTo>
                    <a:pt x="392" y="21451"/>
                  </a:lnTo>
                  <a:lnTo>
                    <a:pt x="785" y="21451"/>
                  </a:lnTo>
                  <a:lnTo>
                    <a:pt x="1177" y="21302"/>
                  </a:lnTo>
                  <a:lnTo>
                    <a:pt x="1767" y="21302"/>
                  </a:lnTo>
                  <a:lnTo>
                    <a:pt x="1963" y="21153"/>
                  </a:lnTo>
                  <a:lnTo>
                    <a:pt x="2356" y="21153"/>
                  </a:lnTo>
                  <a:lnTo>
                    <a:pt x="2945" y="21004"/>
                  </a:lnTo>
                  <a:lnTo>
                    <a:pt x="3534" y="21004"/>
                  </a:lnTo>
                  <a:lnTo>
                    <a:pt x="3927" y="21004"/>
                  </a:lnTo>
                  <a:lnTo>
                    <a:pt x="4516" y="21004"/>
                  </a:lnTo>
                  <a:lnTo>
                    <a:pt x="4908" y="20855"/>
                  </a:lnTo>
                  <a:lnTo>
                    <a:pt x="5301" y="20855"/>
                  </a:lnTo>
                  <a:lnTo>
                    <a:pt x="5694" y="20855"/>
                  </a:lnTo>
                  <a:lnTo>
                    <a:pt x="6087" y="20855"/>
                  </a:lnTo>
                  <a:lnTo>
                    <a:pt x="6676" y="20855"/>
                  </a:lnTo>
                  <a:lnTo>
                    <a:pt x="7069" y="20855"/>
                  </a:lnTo>
                  <a:lnTo>
                    <a:pt x="7461" y="20706"/>
                  </a:lnTo>
                  <a:lnTo>
                    <a:pt x="8246" y="20706"/>
                  </a:lnTo>
                  <a:lnTo>
                    <a:pt x="8639" y="20557"/>
                  </a:lnTo>
                  <a:lnTo>
                    <a:pt x="8836" y="20408"/>
                  </a:lnTo>
                  <a:lnTo>
                    <a:pt x="9228" y="20408"/>
                  </a:lnTo>
                  <a:lnTo>
                    <a:pt x="9818" y="20110"/>
                  </a:lnTo>
                  <a:lnTo>
                    <a:pt x="10210" y="20110"/>
                  </a:lnTo>
                  <a:lnTo>
                    <a:pt x="10603" y="19812"/>
                  </a:lnTo>
                  <a:lnTo>
                    <a:pt x="10800" y="19663"/>
                  </a:lnTo>
                  <a:lnTo>
                    <a:pt x="11192" y="19514"/>
                  </a:lnTo>
                  <a:lnTo>
                    <a:pt x="11585" y="19216"/>
                  </a:lnTo>
                  <a:lnTo>
                    <a:pt x="11781" y="19067"/>
                  </a:lnTo>
                  <a:lnTo>
                    <a:pt x="12370" y="18918"/>
                  </a:lnTo>
                  <a:lnTo>
                    <a:pt x="12370" y="18620"/>
                  </a:lnTo>
                  <a:lnTo>
                    <a:pt x="12959" y="18173"/>
                  </a:lnTo>
                  <a:lnTo>
                    <a:pt x="13156" y="18024"/>
                  </a:lnTo>
                  <a:lnTo>
                    <a:pt x="13548" y="17577"/>
                  </a:lnTo>
                  <a:lnTo>
                    <a:pt x="13548" y="17279"/>
                  </a:lnTo>
                  <a:lnTo>
                    <a:pt x="13745" y="17130"/>
                  </a:lnTo>
                  <a:lnTo>
                    <a:pt x="13941" y="16832"/>
                  </a:lnTo>
                  <a:lnTo>
                    <a:pt x="14138" y="16832"/>
                  </a:lnTo>
                  <a:lnTo>
                    <a:pt x="14138" y="16534"/>
                  </a:lnTo>
                  <a:lnTo>
                    <a:pt x="14530" y="16236"/>
                  </a:lnTo>
                  <a:lnTo>
                    <a:pt x="14530" y="16088"/>
                  </a:lnTo>
                  <a:lnTo>
                    <a:pt x="14727" y="15790"/>
                  </a:lnTo>
                  <a:lnTo>
                    <a:pt x="14923" y="15492"/>
                  </a:lnTo>
                  <a:lnTo>
                    <a:pt x="15119" y="15194"/>
                  </a:lnTo>
                  <a:lnTo>
                    <a:pt x="15119" y="14896"/>
                  </a:lnTo>
                  <a:lnTo>
                    <a:pt x="15316" y="14598"/>
                  </a:lnTo>
                  <a:lnTo>
                    <a:pt x="15512" y="14598"/>
                  </a:lnTo>
                  <a:lnTo>
                    <a:pt x="15512" y="14300"/>
                  </a:lnTo>
                  <a:lnTo>
                    <a:pt x="15708" y="14002"/>
                  </a:lnTo>
                  <a:lnTo>
                    <a:pt x="15905" y="13555"/>
                  </a:lnTo>
                  <a:lnTo>
                    <a:pt x="16101" y="13257"/>
                  </a:lnTo>
                  <a:lnTo>
                    <a:pt x="16101" y="12959"/>
                  </a:lnTo>
                  <a:lnTo>
                    <a:pt x="16494" y="12661"/>
                  </a:lnTo>
                  <a:lnTo>
                    <a:pt x="16494" y="12363"/>
                  </a:lnTo>
                  <a:lnTo>
                    <a:pt x="16494" y="12065"/>
                  </a:lnTo>
                  <a:lnTo>
                    <a:pt x="16887" y="12065"/>
                  </a:lnTo>
                  <a:lnTo>
                    <a:pt x="16887" y="11768"/>
                  </a:lnTo>
                  <a:lnTo>
                    <a:pt x="16887" y="11470"/>
                  </a:lnTo>
                  <a:lnTo>
                    <a:pt x="17279" y="11172"/>
                  </a:lnTo>
                  <a:lnTo>
                    <a:pt x="17279" y="11023"/>
                  </a:lnTo>
                  <a:lnTo>
                    <a:pt x="17476" y="10725"/>
                  </a:lnTo>
                  <a:lnTo>
                    <a:pt x="17672" y="10576"/>
                  </a:lnTo>
                  <a:lnTo>
                    <a:pt x="17672" y="10278"/>
                  </a:lnTo>
                  <a:lnTo>
                    <a:pt x="17869" y="9980"/>
                  </a:lnTo>
                  <a:lnTo>
                    <a:pt x="17869" y="9831"/>
                  </a:lnTo>
                  <a:lnTo>
                    <a:pt x="18065" y="9831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5610600" y="4788720"/>
              <a:ext cx="418320" cy="56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811" y="156"/>
                  </a:moveTo>
                  <a:lnTo>
                    <a:pt x="14399" y="312"/>
                  </a:lnTo>
                  <a:lnTo>
                    <a:pt x="13988" y="312"/>
                  </a:lnTo>
                  <a:lnTo>
                    <a:pt x="13371" y="469"/>
                  </a:lnTo>
                  <a:lnTo>
                    <a:pt x="12959" y="469"/>
                  </a:lnTo>
                  <a:lnTo>
                    <a:pt x="12548" y="469"/>
                  </a:lnTo>
                  <a:lnTo>
                    <a:pt x="11931" y="312"/>
                  </a:lnTo>
                  <a:lnTo>
                    <a:pt x="11519" y="469"/>
                  </a:lnTo>
                  <a:lnTo>
                    <a:pt x="11108" y="469"/>
                  </a:lnTo>
                  <a:lnTo>
                    <a:pt x="10696" y="625"/>
                  </a:lnTo>
                  <a:lnTo>
                    <a:pt x="10285" y="625"/>
                  </a:lnTo>
                  <a:lnTo>
                    <a:pt x="9874" y="625"/>
                  </a:lnTo>
                  <a:lnTo>
                    <a:pt x="9462" y="782"/>
                  </a:lnTo>
                  <a:lnTo>
                    <a:pt x="9051" y="625"/>
                  </a:lnTo>
                  <a:lnTo>
                    <a:pt x="8434" y="782"/>
                  </a:lnTo>
                  <a:lnTo>
                    <a:pt x="7816" y="782"/>
                  </a:lnTo>
                  <a:lnTo>
                    <a:pt x="7405" y="939"/>
                  </a:lnTo>
                  <a:lnTo>
                    <a:pt x="7199" y="782"/>
                  </a:lnTo>
                  <a:lnTo>
                    <a:pt x="6582" y="939"/>
                  </a:lnTo>
                  <a:lnTo>
                    <a:pt x="6171" y="939"/>
                  </a:lnTo>
                  <a:lnTo>
                    <a:pt x="5554" y="939"/>
                  </a:lnTo>
                  <a:lnTo>
                    <a:pt x="5142" y="939"/>
                  </a:lnTo>
                  <a:lnTo>
                    <a:pt x="4731" y="1095"/>
                  </a:lnTo>
                  <a:lnTo>
                    <a:pt x="3908" y="1095"/>
                  </a:lnTo>
                  <a:lnTo>
                    <a:pt x="3702" y="1095"/>
                  </a:lnTo>
                  <a:lnTo>
                    <a:pt x="3085" y="1095"/>
                  </a:lnTo>
                  <a:lnTo>
                    <a:pt x="2673" y="1252"/>
                  </a:lnTo>
                  <a:lnTo>
                    <a:pt x="2262" y="1252"/>
                  </a:lnTo>
                  <a:lnTo>
                    <a:pt x="1645" y="1408"/>
                  </a:lnTo>
                  <a:lnTo>
                    <a:pt x="1233" y="1252"/>
                  </a:lnTo>
                  <a:lnTo>
                    <a:pt x="822" y="1408"/>
                  </a:lnTo>
                  <a:lnTo>
                    <a:pt x="616" y="1564"/>
                  </a:lnTo>
                  <a:lnTo>
                    <a:pt x="0" y="1564"/>
                  </a:lnTo>
                  <a:lnTo>
                    <a:pt x="0" y="1564"/>
                  </a:lnTo>
                  <a:lnTo>
                    <a:pt x="205" y="1564"/>
                  </a:lnTo>
                  <a:lnTo>
                    <a:pt x="411" y="1721"/>
                  </a:lnTo>
                  <a:lnTo>
                    <a:pt x="616" y="1721"/>
                  </a:lnTo>
                  <a:lnTo>
                    <a:pt x="1028" y="1721"/>
                  </a:lnTo>
                  <a:lnTo>
                    <a:pt x="1645" y="1721"/>
                  </a:lnTo>
                  <a:lnTo>
                    <a:pt x="2262" y="1721"/>
                  </a:lnTo>
                  <a:lnTo>
                    <a:pt x="2879" y="1878"/>
                  </a:lnTo>
                  <a:lnTo>
                    <a:pt x="3496" y="2034"/>
                  </a:lnTo>
                  <a:lnTo>
                    <a:pt x="3908" y="1878"/>
                  </a:lnTo>
                  <a:lnTo>
                    <a:pt x="4731" y="2034"/>
                  </a:lnTo>
                  <a:lnTo>
                    <a:pt x="5348" y="2034"/>
                  </a:lnTo>
                  <a:lnTo>
                    <a:pt x="5965" y="2034"/>
                  </a:lnTo>
                  <a:lnTo>
                    <a:pt x="6376" y="2191"/>
                  </a:lnTo>
                  <a:lnTo>
                    <a:pt x="7199" y="2034"/>
                  </a:lnTo>
                  <a:lnTo>
                    <a:pt x="7405" y="2034"/>
                  </a:lnTo>
                  <a:lnTo>
                    <a:pt x="7611" y="2034"/>
                  </a:lnTo>
                  <a:lnTo>
                    <a:pt x="7816" y="1878"/>
                  </a:lnTo>
                  <a:lnTo>
                    <a:pt x="8228" y="1721"/>
                  </a:lnTo>
                  <a:lnTo>
                    <a:pt x="8639" y="1721"/>
                  </a:lnTo>
                  <a:lnTo>
                    <a:pt x="9051" y="1721"/>
                  </a:lnTo>
                  <a:lnTo>
                    <a:pt x="9256" y="1721"/>
                  </a:lnTo>
                  <a:lnTo>
                    <a:pt x="9668" y="1564"/>
                  </a:lnTo>
                  <a:lnTo>
                    <a:pt x="10285" y="1564"/>
                  </a:lnTo>
                  <a:lnTo>
                    <a:pt x="10491" y="1408"/>
                  </a:lnTo>
                  <a:lnTo>
                    <a:pt x="10902" y="1408"/>
                  </a:lnTo>
                  <a:lnTo>
                    <a:pt x="11314" y="1408"/>
                  </a:lnTo>
                  <a:lnTo>
                    <a:pt x="11725" y="1252"/>
                  </a:lnTo>
                  <a:lnTo>
                    <a:pt x="12342" y="1408"/>
                  </a:lnTo>
                  <a:lnTo>
                    <a:pt x="12754" y="1252"/>
                  </a:lnTo>
                  <a:lnTo>
                    <a:pt x="13165" y="1252"/>
                  </a:lnTo>
                  <a:lnTo>
                    <a:pt x="13577" y="1252"/>
                  </a:lnTo>
                  <a:lnTo>
                    <a:pt x="13988" y="1252"/>
                  </a:lnTo>
                  <a:lnTo>
                    <a:pt x="14399" y="1252"/>
                  </a:lnTo>
                  <a:lnTo>
                    <a:pt x="14811" y="1252"/>
                  </a:lnTo>
                  <a:lnTo>
                    <a:pt x="15222" y="1408"/>
                  </a:lnTo>
                  <a:lnTo>
                    <a:pt x="15634" y="1408"/>
                  </a:lnTo>
                  <a:lnTo>
                    <a:pt x="16045" y="1564"/>
                  </a:lnTo>
                  <a:lnTo>
                    <a:pt x="16457" y="1564"/>
                  </a:lnTo>
                  <a:lnTo>
                    <a:pt x="16868" y="1564"/>
                  </a:lnTo>
                  <a:lnTo>
                    <a:pt x="17279" y="1878"/>
                  </a:lnTo>
                  <a:lnTo>
                    <a:pt x="17485" y="1878"/>
                  </a:lnTo>
                  <a:lnTo>
                    <a:pt x="17691" y="2034"/>
                  </a:lnTo>
                  <a:lnTo>
                    <a:pt x="17897" y="2347"/>
                  </a:lnTo>
                  <a:lnTo>
                    <a:pt x="18102" y="2504"/>
                  </a:lnTo>
                  <a:lnTo>
                    <a:pt x="18308" y="2660"/>
                  </a:lnTo>
                  <a:lnTo>
                    <a:pt x="18514" y="2817"/>
                  </a:lnTo>
                  <a:lnTo>
                    <a:pt x="18514" y="3130"/>
                  </a:lnTo>
                  <a:lnTo>
                    <a:pt x="18719" y="3443"/>
                  </a:lnTo>
                  <a:lnTo>
                    <a:pt x="18719" y="4069"/>
                  </a:lnTo>
                  <a:lnTo>
                    <a:pt x="18925" y="4382"/>
                  </a:lnTo>
                  <a:lnTo>
                    <a:pt x="18925" y="4695"/>
                  </a:lnTo>
                  <a:lnTo>
                    <a:pt x="18925" y="5165"/>
                  </a:lnTo>
                  <a:lnTo>
                    <a:pt x="18925" y="5634"/>
                  </a:lnTo>
                  <a:lnTo>
                    <a:pt x="18925" y="5947"/>
                  </a:lnTo>
                  <a:lnTo>
                    <a:pt x="18925" y="6417"/>
                  </a:lnTo>
                  <a:lnTo>
                    <a:pt x="18719" y="6886"/>
                  </a:lnTo>
                  <a:lnTo>
                    <a:pt x="18719" y="7199"/>
                  </a:lnTo>
                  <a:lnTo>
                    <a:pt x="18514" y="7669"/>
                  </a:lnTo>
                  <a:lnTo>
                    <a:pt x="18514" y="8138"/>
                  </a:lnTo>
                  <a:lnTo>
                    <a:pt x="18102" y="8608"/>
                  </a:lnTo>
                  <a:lnTo>
                    <a:pt x="17897" y="9078"/>
                  </a:lnTo>
                  <a:lnTo>
                    <a:pt x="17897" y="9391"/>
                  </a:lnTo>
                  <a:lnTo>
                    <a:pt x="17485" y="9704"/>
                  </a:lnTo>
                  <a:lnTo>
                    <a:pt x="17485" y="10017"/>
                  </a:lnTo>
                  <a:lnTo>
                    <a:pt x="17074" y="10486"/>
                  </a:lnTo>
                  <a:lnTo>
                    <a:pt x="16868" y="10800"/>
                  </a:lnTo>
                  <a:lnTo>
                    <a:pt x="16457" y="11112"/>
                  </a:lnTo>
                  <a:lnTo>
                    <a:pt x="16457" y="11582"/>
                  </a:lnTo>
                  <a:lnTo>
                    <a:pt x="16045" y="11895"/>
                  </a:lnTo>
                  <a:lnTo>
                    <a:pt x="15839" y="12364"/>
                  </a:lnTo>
                  <a:lnTo>
                    <a:pt x="15428" y="12678"/>
                  </a:lnTo>
                  <a:lnTo>
                    <a:pt x="15222" y="12991"/>
                  </a:lnTo>
                  <a:lnTo>
                    <a:pt x="14811" y="13304"/>
                  </a:lnTo>
                  <a:lnTo>
                    <a:pt x="14605" y="13773"/>
                  </a:lnTo>
                  <a:lnTo>
                    <a:pt x="14194" y="13930"/>
                  </a:lnTo>
                  <a:lnTo>
                    <a:pt x="13988" y="14243"/>
                  </a:lnTo>
                  <a:lnTo>
                    <a:pt x="13577" y="14556"/>
                  </a:lnTo>
                  <a:lnTo>
                    <a:pt x="13577" y="14869"/>
                  </a:lnTo>
                  <a:lnTo>
                    <a:pt x="13371" y="15026"/>
                  </a:lnTo>
                  <a:lnTo>
                    <a:pt x="13371" y="15026"/>
                  </a:lnTo>
                  <a:lnTo>
                    <a:pt x="13165" y="14869"/>
                  </a:lnTo>
                  <a:lnTo>
                    <a:pt x="12959" y="14556"/>
                  </a:lnTo>
                  <a:lnTo>
                    <a:pt x="12754" y="14243"/>
                  </a:lnTo>
                  <a:lnTo>
                    <a:pt x="12342" y="13930"/>
                  </a:lnTo>
                  <a:lnTo>
                    <a:pt x="12136" y="13304"/>
                  </a:lnTo>
                  <a:lnTo>
                    <a:pt x="11931" y="12678"/>
                  </a:lnTo>
                  <a:lnTo>
                    <a:pt x="11519" y="12208"/>
                  </a:lnTo>
                  <a:lnTo>
                    <a:pt x="11108" y="11582"/>
                  </a:lnTo>
                  <a:lnTo>
                    <a:pt x="11108" y="11269"/>
                  </a:lnTo>
                  <a:lnTo>
                    <a:pt x="10696" y="10956"/>
                  </a:lnTo>
                  <a:lnTo>
                    <a:pt x="10285" y="10643"/>
                  </a:lnTo>
                  <a:lnTo>
                    <a:pt x="10079" y="10643"/>
                  </a:lnTo>
                  <a:lnTo>
                    <a:pt x="9874" y="10643"/>
                  </a:lnTo>
                  <a:lnTo>
                    <a:pt x="9668" y="10800"/>
                  </a:lnTo>
                  <a:lnTo>
                    <a:pt x="9462" y="11112"/>
                  </a:lnTo>
                  <a:lnTo>
                    <a:pt x="9256" y="11739"/>
                  </a:lnTo>
                  <a:lnTo>
                    <a:pt x="9256" y="12364"/>
                  </a:lnTo>
                  <a:lnTo>
                    <a:pt x="9051" y="12834"/>
                  </a:lnTo>
                  <a:lnTo>
                    <a:pt x="9051" y="13460"/>
                  </a:lnTo>
                  <a:lnTo>
                    <a:pt x="9256" y="13773"/>
                  </a:lnTo>
                  <a:lnTo>
                    <a:pt x="9462" y="14243"/>
                  </a:lnTo>
                  <a:lnTo>
                    <a:pt x="9668" y="14712"/>
                  </a:lnTo>
                  <a:lnTo>
                    <a:pt x="9874" y="15182"/>
                  </a:lnTo>
                  <a:lnTo>
                    <a:pt x="10079" y="15495"/>
                  </a:lnTo>
                  <a:lnTo>
                    <a:pt x="10079" y="16121"/>
                  </a:lnTo>
                  <a:lnTo>
                    <a:pt x="10285" y="16434"/>
                  </a:lnTo>
                  <a:lnTo>
                    <a:pt x="10285" y="16747"/>
                  </a:lnTo>
                  <a:lnTo>
                    <a:pt x="10696" y="17217"/>
                  </a:lnTo>
                  <a:lnTo>
                    <a:pt x="10696" y="17686"/>
                  </a:lnTo>
                  <a:lnTo>
                    <a:pt x="10491" y="18313"/>
                  </a:lnTo>
                  <a:lnTo>
                    <a:pt x="10491" y="18782"/>
                  </a:lnTo>
                  <a:lnTo>
                    <a:pt x="10491" y="19095"/>
                  </a:lnTo>
                  <a:lnTo>
                    <a:pt x="10696" y="19408"/>
                  </a:lnTo>
                  <a:lnTo>
                    <a:pt x="10696" y="19721"/>
                  </a:lnTo>
                  <a:lnTo>
                    <a:pt x="11108" y="20034"/>
                  </a:lnTo>
                  <a:lnTo>
                    <a:pt x="11314" y="20347"/>
                  </a:lnTo>
                  <a:lnTo>
                    <a:pt x="11725" y="20660"/>
                  </a:lnTo>
                  <a:lnTo>
                    <a:pt x="11931" y="20817"/>
                  </a:lnTo>
                  <a:lnTo>
                    <a:pt x="12342" y="20973"/>
                  </a:lnTo>
                  <a:lnTo>
                    <a:pt x="12754" y="21130"/>
                  </a:lnTo>
                  <a:lnTo>
                    <a:pt x="12959" y="21286"/>
                  </a:lnTo>
                  <a:lnTo>
                    <a:pt x="13165" y="21286"/>
                  </a:lnTo>
                  <a:lnTo>
                    <a:pt x="13577" y="21600"/>
                  </a:lnTo>
                  <a:lnTo>
                    <a:pt x="13782" y="21443"/>
                  </a:lnTo>
                  <a:lnTo>
                    <a:pt x="13988" y="21443"/>
                  </a:lnTo>
                  <a:lnTo>
                    <a:pt x="14194" y="21600"/>
                  </a:lnTo>
                  <a:lnTo>
                    <a:pt x="14194" y="21443"/>
                  </a:lnTo>
                  <a:lnTo>
                    <a:pt x="14194" y="20973"/>
                  </a:lnTo>
                  <a:lnTo>
                    <a:pt x="14399" y="20504"/>
                  </a:lnTo>
                  <a:lnTo>
                    <a:pt x="14399" y="20191"/>
                  </a:lnTo>
                  <a:lnTo>
                    <a:pt x="14605" y="19878"/>
                  </a:lnTo>
                  <a:lnTo>
                    <a:pt x="14811" y="19408"/>
                  </a:lnTo>
                  <a:lnTo>
                    <a:pt x="15017" y="18782"/>
                  </a:lnTo>
                  <a:lnTo>
                    <a:pt x="15428" y="18313"/>
                  </a:lnTo>
                  <a:lnTo>
                    <a:pt x="15634" y="17686"/>
                  </a:lnTo>
                  <a:lnTo>
                    <a:pt x="16045" y="17373"/>
                  </a:lnTo>
                  <a:lnTo>
                    <a:pt x="16251" y="17060"/>
                  </a:lnTo>
                  <a:lnTo>
                    <a:pt x="16457" y="16434"/>
                  </a:lnTo>
                  <a:lnTo>
                    <a:pt x="16868" y="15965"/>
                  </a:lnTo>
                  <a:lnTo>
                    <a:pt x="17074" y="15651"/>
                  </a:lnTo>
                  <a:lnTo>
                    <a:pt x="17279" y="15339"/>
                  </a:lnTo>
                  <a:lnTo>
                    <a:pt x="17485" y="14869"/>
                  </a:lnTo>
                  <a:lnTo>
                    <a:pt x="17691" y="14712"/>
                  </a:lnTo>
                  <a:lnTo>
                    <a:pt x="17691" y="14399"/>
                  </a:lnTo>
                  <a:lnTo>
                    <a:pt x="17897" y="14243"/>
                  </a:lnTo>
                  <a:lnTo>
                    <a:pt x="18102" y="13930"/>
                  </a:lnTo>
                  <a:lnTo>
                    <a:pt x="18102" y="13617"/>
                  </a:lnTo>
                  <a:lnTo>
                    <a:pt x="18308" y="13304"/>
                  </a:lnTo>
                  <a:lnTo>
                    <a:pt x="18514" y="13147"/>
                  </a:lnTo>
                  <a:lnTo>
                    <a:pt x="18514" y="12834"/>
                  </a:lnTo>
                  <a:lnTo>
                    <a:pt x="18719" y="12521"/>
                  </a:lnTo>
                  <a:lnTo>
                    <a:pt x="18719" y="12364"/>
                  </a:lnTo>
                  <a:lnTo>
                    <a:pt x="18925" y="12208"/>
                  </a:lnTo>
                  <a:lnTo>
                    <a:pt x="19131" y="11895"/>
                  </a:lnTo>
                  <a:lnTo>
                    <a:pt x="19131" y="11582"/>
                  </a:lnTo>
                  <a:lnTo>
                    <a:pt x="19131" y="11269"/>
                  </a:lnTo>
                  <a:lnTo>
                    <a:pt x="19542" y="10956"/>
                  </a:lnTo>
                  <a:lnTo>
                    <a:pt x="19542" y="10643"/>
                  </a:lnTo>
                  <a:lnTo>
                    <a:pt x="19748" y="10330"/>
                  </a:lnTo>
                  <a:lnTo>
                    <a:pt x="19748" y="10017"/>
                  </a:lnTo>
                  <a:lnTo>
                    <a:pt x="19954" y="9860"/>
                  </a:lnTo>
                  <a:lnTo>
                    <a:pt x="20159" y="9704"/>
                  </a:lnTo>
                  <a:lnTo>
                    <a:pt x="20159" y="9547"/>
                  </a:lnTo>
                  <a:lnTo>
                    <a:pt x="20159" y="9234"/>
                  </a:lnTo>
                  <a:lnTo>
                    <a:pt x="20571" y="8921"/>
                  </a:lnTo>
                  <a:lnTo>
                    <a:pt x="20571" y="8608"/>
                  </a:lnTo>
                  <a:lnTo>
                    <a:pt x="20777" y="8295"/>
                  </a:lnTo>
                  <a:lnTo>
                    <a:pt x="20777" y="7982"/>
                  </a:lnTo>
                  <a:lnTo>
                    <a:pt x="20982" y="7669"/>
                  </a:lnTo>
                  <a:lnTo>
                    <a:pt x="20982" y="7356"/>
                  </a:lnTo>
                  <a:lnTo>
                    <a:pt x="20982" y="7199"/>
                  </a:lnTo>
                  <a:lnTo>
                    <a:pt x="21188" y="6886"/>
                  </a:lnTo>
                  <a:lnTo>
                    <a:pt x="21394" y="6573"/>
                  </a:lnTo>
                  <a:lnTo>
                    <a:pt x="21600" y="6260"/>
                  </a:lnTo>
                  <a:lnTo>
                    <a:pt x="21600" y="5947"/>
                  </a:lnTo>
                  <a:lnTo>
                    <a:pt x="21600" y="4851"/>
                  </a:lnTo>
                  <a:lnTo>
                    <a:pt x="21600" y="4226"/>
                  </a:lnTo>
                  <a:lnTo>
                    <a:pt x="21600" y="3286"/>
                  </a:lnTo>
                  <a:lnTo>
                    <a:pt x="21394" y="2504"/>
                  </a:lnTo>
                  <a:lnTo>
                    <a:pt x="20982" y="2034"/>
                  </a:lnTo>
                  <a:lnTo>
                    <a:pt x="20777" y="1564"/>
                  </a:lnTo>
                  <a:lnTo>
                    <a:pt x="20365" y="1252"/>
                  </a:lnTo>
                  <a:lnTo>
                    <a:pt x="19748" y="782"/>
                  </a:lnTo>
                  <a:lnTo>
                    <a:pt x="19131" y="469"/>
                  </a:lnTo>
                  <a:lnTo>
                    <a:pt x="18514" y="312"/>
                  </a:lnTo>
                  <a:lnTo>
                    <a:pt x="17691" y="156"/>
                  </a:lnTo>
                  <a:lnTo>
                    <a:pt x="17279" y="156"/>
                  </a:lnTo>
                  <a:lnTo>
                    <a:pt x="16457" y="0"/>
                  </a:lnTo>
                  <a:lnTo>
                    <a:pt x="15839" y="0"/>
                  </a:lnTo>
                  <a:lnTo>
                    <a:pt x="15222" y="0"/>
                  </a:lnTo>
                  <a:lnTo>
                    <a:pt x="14811" y="156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084000" y="4609440"/>
              <a:ext cx="196920" cy="92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939"/>
                  </a:moveTo>
                  <a:lnTo>
                    <a:pt x="20718" y="0"/>
                  </a:lnTo>
                  <a:lnTo>
                    <a:pt x="20277" y="939"/>
                  </a:lnTo>
                  <a:lnTo>
                    <a:pt x="19395" y="939"/>
                  </a:lnTo>
                  <a:lnTo>
                    <a:pt x="18955" y="1878"/>
                  </a:lnTo>
                  <a:lnTo>
                    <a:pt x="18073" y="939"/>
                  </a:lnTo>
                  <a:lnTo>
                    <a:pt x="17191" y="1878"/>
                  </a:lnTo>
                  <a:lnTo>
                    <a:pt x="16750" y="939"/>
                  </a:lnTo>
                  <a:lnTo>
                    <a:pt x="15428" y="1878"/>
                  </a:lnTo>
                  <a:lnTo>
                    <a:pt x="14546" y="939"/>
                  </a:lnTo>
                  <a:lnTo>
                    <a:pt x="13224" y="1878"/>
                  </a:lnTo>
                  <a:lnTo>
                    <a:pt x="12342" y="1878"/>
                  </a:lnTo>
                  <a:lnTo>
                    <a:pt x="11020" y="1878"/>
                  </a:lnTo>
                  <a:lnTo>
                    <a:pt x="10138" y="939"/>
                  </a:lnTo>
                  <a:lnTo>
                    <a:pt x="9697" y="1878"/>
                  </a:lnTo>
                  <a:lnTo>
                    <a:pt x="8816" y="1878"/>
                  </a:lnTo>
                  <a:lnTo>
                    <a:pt x="7934" y="1878"/>
                  </a:lnTo>
                  <a:lnTo>
                    <a:pt x="7052" y="2817"/>
                  </a:lnTo>
                  <a:lnTo>
                    <a:pt x="6171" y="2817"/>
                  </a:lnTo>
                  <a:lnTo>
                    <a:pt x="5289" y="2817"/>
                  </a:lnTo>
                  <a:lnTo>
                    <a:pt x="4407" y="2817"/>
                  </a:lnTo>
                  <a:lnTo>
                    <a:pt x="3526" y="3756"/>
                  </a:lnTo>
                  <a:lnTo>
                    <a:pt x="2644" y="4695"/>
                  </a:lnTo>
                  <a:lnTo>
                    <a:pt x="2203" y="5634"/>
                  </a:lnTo>
                  <a:lnTo>
                    <a:pt x="1762" y="4695"/>
                  </a:lnTo>
                  <a:lnTo>
                    <a:pt x="1322" y="5634"/>
                  </a:lnTo>
                  <a:lnTo>
                    <a:pt x="1322" y="7513"/>
                  </a:lnTo>
                  <a:lnTo>
                    <a:pt x="440" y="8452"/>
                  </a:lnTo>
                  <a:lnTo>
                    <a:pt x="440" y="9391"/>
                  </a:lnTo>
                  <a:lnTo>
                    <a:pt x="440" y="10330"/>
                  </a:lnTo>
                  <a:lnTo>
                    <a:pt x="0" y="12208"/>
                  </a:lnTo>
                  <a:lnTo>
                    <a:pt x="0" y="13147"/>
                  </a:lnTo>
                  <a:lnTo>
                    <a:pt x="440" y="15026"/>
                  </a:lnTo>
                  <a:lnTo>
                    <a:pt x="881" y="17843"/>
                  </a:lnTo>
                  <a:lnTo>
                    <a:pt x="1762" y="20660"/>
                  </a:lnTo>
                  <a:lnTo>
                    <a:pt x="3085" y="20660"/>
                  </a:lnTo>
                  <a:lnTo>
                    <a:pt x="4407" y="21600"/>
                  </a:lnTo>
                  <a:lnTo>
                    <a:pt x="6612" y="20660"/>
                  </a:lnTo>
                  <a:lnTo>
                    <a:pt x="7934" y="19721"/>
                  </a:lnTo>
                  <a:lnTo>
                    <a:pt x="10138" y="17843"/>
                  </a:lnTo>
                  <a:lnTo>
                    <a:pt x="11461" y="14086"/>
                  </a:lnTo>
                  <a:lnTo>
                    <a:pt x="13665" y="11269"/>
                  </a:lnTo>
                  <a:lnTo>
                    <a:pt x="15869" y="9391"/>
                  </a:lnTo>
                  <a:lnTo>
                    <a:pt x="16750" y="8452"/>
                  </a:lnTo>
                  <a:lnTo>
                    <a:pt x="18514" y="4695"/>
                  </a:lnTo>
                  <a:lnTo>
                    <a:pt x="19836" y="3756"/>
                  </a:lnTo>
                  <a:lnTo>
                    <a:pt x="20718" y="939"/>
                  </a:lnTo>
                  <a:lnTo>
                    <a:pt x="21159" y="939"/>
                  </a:lnTo>
                  <a:lnTo>
                    <a:pt x="21600" y="939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149160" y="4431600"/>
              <a:ext cx="191880" cy="113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649" y="8485"/>
                  </a:moveTo>
                  <a:lnTo>
                    <a:pt x="16200" y="8485"/>
                  </a:lnTo>
                  <a:lnTo>
                    <a:pt x="16200" y="7714"/>
                  </a:lnTo>
                  <a:lnTo>
                    <a:pt x="16200" y="7714"/>
                  </a:lnTo>
                  <a:lnTo>
                    <a:pt x="16200" y="6942"/>
                  </a:lnTo>
                  <a:lnTo>
                    <a:pt x="15299" y="7714"/>
                  </a:lnTo>
                  <a:lnTo>
                    <a:pt x="13949" y="7714"/>
                  </a:lnTo>
                  <a:lnTo>
                    <a:pt x="13049" y="7714"/>
                  </a:lnTo>
                  <a:lnTo>
                    <a:pt x="12150" y="6942"/>
                  </a:lnTo>
                  <a:lnTo>
                    <a:pt x="10800" y="6942"/>
                  </a:lnTo>
                  <a:lnTo>
                    <a:pt x="10349" y="6171"/>
                  </a:lnTo>
                  <a:lnTo>
                    <a:pt x="9450" y="6171"/>
                  </a:lnTo>
                  <a:lnTo>
                    <a:pt x="8549" y="5400"/>
                  </a:lnTo>
                  <a:lnTo>
                    <a:pt x="7199" y="5400"/>
                  </a:lnTo>
                  <a:lnTo>
                    <a:pt x="6299" y="3856"/>
                  </a:lnTo>
                  <a:lnTo>
                    <a:pt x="5400" y="3856"/>
                  </a:lnTo>
                  <a:lnTo>
                    <a:pt x="4050" y="2314"/>
                  </a:lnTo>
                  <a:lnTo>
                    <a:pt x="3149" y="2314"/>
                  </a:lnTo>
                  <a:lnTo>
                    <a:pt x="2249" y="771"/>
                  </a:lnTo>
                  <a:lnTo>
                    <a:pt x="1350" y="77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71"/>
                  </a:lnTo>
                  <a:lnTo>
                    <a:pt x="449" y="2314"/>
                  </a:lnTo>
                  <a:lnTo>
                    <a:pt x="449" y="3856"/>
                  </a:lnTo>
                  <a:lnTo>
                    <a:pt x="899" y="5400"/>
                  </a:lnTo>
                  <a:lnTo>
                    <a:pt x="1799" y="6942"/>
                  </a:lnTo>
                  <a:lnTo>
                    <a:pt x="1799" y="8485"/>
                  </a:lnTo>
                  <a:lnTo>
                    <a:pt x="2700" y="10800"/>
                  </a:lnTo>
                  <a:lnTo>
                    <a:pt x="3149" y="11571"/>
                  </a:lnTo>
                  <a:lnTo>
                    <a:pt x="4050" y="13114"/>
                  </a:lnTo>
                  <a:lnTo>
                    <a:pt x="4949" y="14656"/>
                  </a:lnTo>
                  <a:lnTo>
                    <a:pt x="5400" y="15428"/>
                  </a:lnTo>
                  <a:lnTo>
                    <a:pt x="6299" y="16971"/>
                  </a:lnTo>
                  <a:lnTo>
                    <a:pt x="7199" y="17742"/>
                  </a:lnTo>
                  <a:lnTo>
                    <a:pt x="7649" y="17742"/>
                  </a:lnTo>
                  <a:lnTo>
                    <a:pt x="8100" y="17742"/>
                  </a:lnTo>
                  <a:lnTo>
                    <a:pt x="8999" y="18514"/>
                  </a:lnTo>
                  <a:lnTo>
                    <a:pt x="9450" y="18514"/>
                  </a:lnTo>
                  <a:lnTo>
                    <a:pt x="10349" y="19285"/>
                  </a:lnTo>
                  <a:lnTo>
                    <a:pt x="10800" y="19285"/>
                  </a:lnTo>
                  <a:lnTo>
                    <a:pt x="11699" y="19285"/>
                  </a:lnTo>
                  <a:lnTo>
                    <a:pt x="11699" y="20828"/>
                  </a:lnTo>
                  <a:lnTo>
                    <a:pt x="12599" y="20828"/>
                  </a:lnTo>
                  <a:lnTo>
                    <a:pt x="13500" y="20828"/>
                  </a:lnTo>
                  <a:lnTo>
                    <a:pt x="13949" y="21600"/>
                  </a:lnTo>
                  <a:lnTo>
                    <a:pt x="14850" y="21600"/>
                  </a:lnTo>
                  <a:lnTo>
                    <a:pt x="15299" y="20828"/>
                  </a:lnTo>
                  <a:lnTo>
                    <a:pt x="16200" y="21600"/>
                  </a:lnTo>
                  <a:lnTo>
                    <a:pt x="16649" y="21600"/>
                  </a:lnTo>
                  <a:lnTo>
                    <a:pt x="17550" y="20828"/>
                  </a:lnTo>
                  <a:lnTo>
                    <a:pt x="18449" y="20828"/>
                  </a:lnTo>
                  <a:lnTo>
                    <a:pt x="19349" y="20056"/>
                  </a:lnTo>
                  <a:lnTo>
                    <a:pt x="20250" y="19285"/>
                  </a:lnTo>
                  <a:lnTo>
                    <a:pt x="20699" y="19285"/>
                  </a:lnTo>
                  <a:lnTo>
                    <a:pt x="21149" y="18514"/>
                  </a:lnTo>
                  <a:lnTo>
                    <a:pt x="21600" y="17742"/>
                  </a:lnTo>
                  <a:lnTo>
                    <a:pt x="21600" y="17742"/>
                  </a:lnTo>
                  <a:lnTo>
                    <a:pt x="21600" y="16971"/>
                  </a:lnTo>
                  <a:lnTo>
                    <a:pt x="21600" y="16200"/>
                  </a:lnTo>
                  <a:lnTo>
                    <a:pt x="21149" y="15428"/>
                  </a:lnTo>
                  <a:lnTo>
                    <a:pt x="20699" y="14656"/>
                  </a:lnTo>
                  <a:lnTo>
                    <a:pt x="20699" y="13114"/>
                  </a:lnTo>
                  <a:lnTo>
                    <a:pt x="19799" y="12342"/>
                  </a:lnTo>
                  <a:lnTo>
                    <a:pt x="18900" y="12342"/>
                  </a:lnTo>
                  <a:lnTo>
                    <a:pt x="17999" y="10800"/>
                  </a:lnTo>
                  <a:lnTo>
                    <a:pt x="17550" y="10028"/>
                  </a:lnTo>
                  <a:lnTo>
                    <a:pt x="16649" y="8485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5888880" y="4076640"/>
              <a:ext cx="207360" cy="301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184" y="13718"/>
                  </a:moveTo>
                  <a:lnTo>
                    <a:pt x="21184" y="12259"/>
                  </a:lnTo>
                  <a:lnTo>
                    <a:pt x="21184" y="10507"/>
                  </a:lnTo>
                  <a:lnTo>
                    <a:pt x="21600" y="8756"/>
                  </a:lnTo>
                  <a:lnTo>
                    <a:pt x="20769" y="7589"/>
                  </a:lnTo>
                  <a:lnTo>
                    <a:pt x="19938" y="6421"/>
                  </a:lnTo>
                  <a:lnTo>
                    <a:pt x="19107" y="4961"/>
                  </a:lnTo>
                  <a:lnTo>
                    <a:pt x="18276" y="3794"/>
                  </a:lnTo>
                  <a:lnTo>
                    <a:pt x="17861" y="2918"/>
                  </a:lnTo>
                  <a:lnTo>
                    <a:pt x="16200" y="2043"/>
                  </a:lnTo>
                  <a:lnTo>
                    <a:pt x="15369" y="1459"/>
                  </a:lnTo>
                  <a:lnTo>
                    <a:pt x="13707" y="1167"/>
                  </a:lnTo>
                  <a:lnTo>
                    <a:pt x="12461" y="583"/>
                  </a:lnTo>
                  <a:lnTo>
                    <a:pt x="11215" y="583"/>
                  </a:lnTo>
                  <a:lnTo>
                    <a:pt x="9553" y="291"/>
                  </a:lnTo>
                  <a:lnTo>
                    <a:pt x="8722" y="0"/>
                  </a:lnTo>
                  <a:lnTo>
                    <a:pt x="7476" y="291"/>
                  </a:lnTo>
                  <a:lnTo>
                    <a:pt x="7061" y="0"/>
                  </a:lnTo>
                  <a:lnTo>
                    <a:pt x="6645" y="291"/>
                  </a:lnTo>
                  <a:lnTo>
                    <a:pt x="6230" y="583"/>
                  </a:lnTo>
                  <a:lnTo>
                    <a:pt x="5815" y="875"/>
                  </a:lnTo>
                  <a:lnTo>
                    <a:pt x="4984" y="1167"/>
                  </a:lnTo>
                  <a:lnTo>
                    <a:pt x="4569" y="1459"/>
                  </a:lnTo>
                  <a:lnTo>
                    <a:pt x="4569" y="1751"/>
                  </a:lnTo>
                  <a:lnTo>
                    <a:pt x="4153" y="2043"/>
                  </a:lnTo>
                  <a:lnTo>
                    <a:pt x="3322" y="2626"/>
                  </a:lnTo>
                  <a:lnTo>
                    <a:pt x="2907" y="2626"/>
                  </a:lnTo>
                  <a:lnTo>
                    <a:pt x="2492" y="2918"/>
                  </a:lnTo>
                  <a:lnTo>
                    <a:pt x="2076" y="3210"/>
                  </a:lnTo>
                  <a:lnTo>
                    <a:pt x="1245" y="3502"/>
                  </a:lnTo>
                  <a:lnTo>
                    <a:pt x="830" y="3794"/>
                  </a:lnTo>
                  <a:lnTo>
                    <a:pt x="415" y="3794"/>
                  </a:lnTo>
                  <a:lnTo>
                    <a:pt x="0" y="3794"/>
                  </a:lnTo>
                  <a:lnTo>
                    <a:pt x="0" y="4086"/>
                  </a:lnTo>
                  <a:lnTo>
                    <a:pt x="0" y="4378"/>
                  </a:lnTo>
                  <a:lnTo>
                    <a:pt x="0" y="4378"/>
                  </a:lnTo>
                  <a:lnTo>
                    <a:pt x="415" y="4378"/>
                  </a:lnTo>
                  <a:lnTo>
                    <a:pt x="830" y="4378"/>
                  </a:lnTo>
                  <a:lnTo>
                    <a:pt x="1245" y="4669"/>
                  </a:lnTo>
                  <a:lnTo>
                    <a:pt x="1661" y="4961"/>
                  </a:lnTo>
                  <a:lnTo>
                    <a:pt x="2492" y="4961"/>
                  </a:lnTo>
                  <a:lnTo>
                    <a:pt x="3322" y="5253"/>
                  </a:lnTo>
                  <a:lnTo>
                    <a:pt x="3738" y="5545"/>
                  </a:lnTo>
                  <a:lnTo>
                    <a:pt x="4569" y="5837"/>
                  </a:lnTo>
                  <a:lnTo>
                    <a:pt x="5400" y="5837"/>
                  </a:lnTo>
                  <a:lnTo>
                    <a:pt x="6230" y="5837"/>
                  </a:lnTo>
                  <a:lnTo>
                    <a:pt x="7061" y="6129"/>
                  </a:lnTo>
                  <a:lnTo>
                    <a:pt x="7476" y="5837"/>
                  </a:lnTo>
                  <a:lnTo>
                    <a:pt x="8307" y="5837"/>
                  </a:lnTo>
                  <a:lnTo>
                    <a:pt x="8307" y="5545"/>
                  </a:lnTo>
                  <a:lnTo>
                    <a:pt x="8722" y="5837"/>
                  </a:lnTo>
                  <a:lnTo>
                    <a:pt x="9138" y="5837"/>
                  </a:lnTo>
                  <a:lnTo>
                    <a:pt x="9553" y="5837"/>
                  </a:lnTo>
                  <a:lnTo>
                    <a:pt x="9553" y="5837"/>
                  </a:lnTo>
                  <a:lnTo>
                    <a:pt x="9969" y="5837"/>
                  </a:lnTo>
                  <a:lnTo>
                    <a:pt x="10384" y="6129"/>
                  </a:lnTo>
                  <a:lnTo>
                    <a:pt x="10800" y="6129"/>
                  </a:lnTo>
                  <a:lnTo>
                    <a:pt x="11215" y="6129"/>
                  </a:lnTo>
                  <a:lnTo>
                    <a:pt x="12045" y="6129"/>
                  </a:lnTo>
                  <a:lnTo>
                    <a:pt x="12461" y="6713"/>
                  </a:lnTo>
                  <a:lnTo>
                    <a:pt x="12876" y="7005"/>
                  </a:lnTo>
                  <a:lnTo>
                    <a:pt x="12876" y="7297"/>
                  </a:lnTo>
                  <a:lnTo>
                    <a:pt x="13292" y="7589"/>
                  </a:lnTo>
                  <a:lnTo>
                    <a:pt x="14122" y="8172"/>
                  </a:lnTo>
                  <a:lnTo>
                    <a:pt x="14122" y="8756"/>
                  </a:lnTo>
                  <a:lnTo>
                    <a:pt x="14122" y="9048"/>
                  </a:lnTo>
                  <a:lnTo>
                    <a:pt x="14122" y="9048"/>
                  </a:lnTo>
                  <a:lnTo>
                    <a:pt x="14122" y="9340"/>
                  </a:lnTo>
                  <a:lnTo>
                    <a:pt x="14538" y="9632"/>
                  </a:lnTo>
                  <a:lnTo>
                    <a:pt x="14538" y="9924"/>
                  </a:lnTo>
                  <a:lnTo>
                    <a:pt x="14122" y="10215"/>
                  </a:lnTo>
                  <a:lnTo>
                    <a:pt x="14122" y="10800"/>
                  </a:lnTo>
                  <a:lnTo>
                    <a:pt x="14122" y="10800"/>
                  </a:lnTo>
                  <a:lnTo>
                    <a:pt x="14122" y="11091"/>
                  </a:lnTo>
                  <a:lnTo>
                    <a:pt x="14122" y="11383"/>
                  </a:lnTo>
                  <a:lnTo>
                    <a:pt x="14122" y="11383"/>
                  </a:lnTo>
                  <a:lnTo>
                    <a:pt x="14122" y="11675"/>
                  </a:lnTo>
                  <a:lnTo>
                    <a:pt x="14122" y="11967"/>
                  </a:lnTo>
                  <a:lnTo>
                    <a:pt x="14122" y="12259"/>
                  </a:lnTo>
                  <a:lnTo>
                    <a:pt x="14122" y="12551"/>
                  </a:lnTo>
                  <a:lnTo>
                    <a:pt x="14122" y="12551"/>
                  </a:lnTo>
                  <a:lnTo>
                    <a:pt x="14122" y="13134"/>
                  </a:lnTo>
                  <a:lnTo>
                    <a:pt x="14122" y="14010"/>
                  </a:lnTo>
                  <a:lnTo>
                    <a:pt x="14122" y="14594"/>
                  </a:lnTo>
                  <a:lnTo>
                    <a:pt x="13707" y="15178"/>
                  </a:lnTo>
                  <a:lnTo>
                    <a:pt x="13292" y="15761"/>
                  </a:lnTo>
                  <a:lnTo>
                    <a:pt x="12876" y="16345"/>
                  </a:lnTo>
                  <a:lnTo>
                    <a:pt x="12461" y="16053"/>
                  </a:lnTo>
                  <a:lnTo>
                    <a:pt x="11630" y="16637"/>
                  </a:lnTo>
                  <a:lnTo>
                    <a:pt x="11215" y="17221"/>
                  </a:lnTo>
                  <a:lnTo>
                    <a:pt x="10800" y="17513"/>
                  </a:lnTo>
                  <a:lnTo>
                    <a:pt x="10384" y="17513"/>
                  </a:lnTo>
                  <a:lnTo>
                    <a:pt x="9553" y="17805"/>
                  </a:lnTo>
                  <a:lnTo>
                    <a:pt x="9553" y="18097"/>
                  </a:lnTo>
                  <a:lnTo>
                    <a:pt x="8722" y="18389"/>
                  </a:lnTo>
                  <a:lnTo>
                    <a:pt x="8307" y="18389"/>
                  </a:lnTo>
                  <a:lnTo>
                    <a:pt x="8307" y="18680"/>
                  </a:lnTo>
                  <a:lnTo>
                    <a:pt x="7892" y="18680"/>
                  </a:lnTo>
                  <a:lnTo>
                    <a:pt x="7476" y="18680"/>
                  </a:lnTo>
                  <a:lnTo>
                    <a:pt x="7476" y="18680"/>
                  </a:lnTo>
                  <a:lnTo>
                    <a:pt x="7061" y="18389"/>
                  </a:lnTo>
                  <a:lnTo>
                    <a:pt x="6645" y="18097"/>
                  </a:lnTo>
                  <a:lnTo>
                    <a:pt x="6230" y="17805"/>
                  </a:lnTo>
                  <a:lnTo>
                    <a:pt x="6230" y="17513"/>
                  </a:lnTo>
                  <a:lnTo>
                    <a:pt x="6230" y="17221"/>
                  </a:lnTo>
                  <a:lnTo>
                    <a:pt x="5815" y="16929"/>
                  </a:lnTo>
                  <a:lnTo>
                    <a:pt x="5400" y="16637"/>
                  </a:lnTo>
                  <a:lnTo>
                    <a:pt x="4984" y="16345"/>
                  </a:lnTo>
                  <a:lnTo>
                    <a:pt x="4984" y="15761"/>
                  </a:lnTo>
                  <a:lnTo>
                    <a:pt x="4569" y="15469"/>
                  </a:lnTo>
                  <a:lnTo>
                    <a:pt x="4153" y="14886"/>
                  </a:lnTo>
                  <a:lnTo>
                    <a:pt x="3738" y="14886"/>
                  </a:lnTo>
                  <a:lnTo>
                    <a:pt x="3322" y="14886"/>
                  </a:lnTo>
                  <a:lnTo>
                    <a:pt x="3322" y="14886"/>
                  </a:lnTo>
                  <a:lnTo>
                    <a:pt x="3322" y="14886"/>
                  </a:lnTo>
                  <a:lnTo>
                    <a:pt x="3322" y="14886"/>
                  </a:lnTo>
                  <a:lnTo>
                    <a:pt x="3322" y="15469"/>
                  </a:lnTo>
                  <a:lnTo>
                    <a:pt x="3322" y="15761"/>
                  </a:lnTo>
                  <a:lnTo>
                    <a:pt x="2907" y="16053"/>
                  </a:lnTo>
                  <a:lnTo>
                    <a:pt x="2907" y="16345"/>
                  </a:lnTo>
                  <a:lnTo>
                    <a:pt x="2907" y="16345"/>
                  </a:lnTo>
                  <a:lnTo>
                    <a:pt x="3738" y="18097"/>
                  </a:lnTo>
                  <a:lnTo>
                    <a:pt x="4984" y="19556"/>
                  </a:lnTo>
                  <a:lnTo>
                    <a:pt x="5400" y="20140"/>
                  </a:lnTo>
                  <a:lnTo>
                    <a:pt x="7061" y="21015"/>
                  </a:lnTo>
                  <a:lnTo>
                    <a:pt x="8722" y="21600"/>
                  </a:lnTo>
                  <a:lnTo>
                    <a:pt x="9553" y="21307"/>
                  </a:lnTo>
                  <a:lnTo>
                    <a:pt x="11215" y="21307"/>
                  </a:lnTo>
                  <a:lnTo>
                    <a:pt x="12045" y="21307"/>
                  </a:lnTo>
                  <a:lnTo>
                    <a:pt x="13707" y="20432"/>
                  </a:lnTo>
                  <a:lnTo>
                    <a:pt x="14953" y="19848"/>
                  </a:lnTo>
                  <a:lnTo>
                    <a:pt x="16615" y="18972"/>
                  </a:lnTo>
                  <a:lnTo>
                    <a:pt x="17861" y="17805"/>
                  </a:lnTo>
                  <a:lnTo>
                    <a:pt x="18692" y="17221"/>
                  </a:lnTo>
                  <a:lnTo>
                    <a:pt x="19522" y="15761"/>
                  </a:lnTo>
                  <a:lnTo>
                    <a:pt x="20353" y="14594"/>
                  </a:lnTo>
                  <a:lnTo>
                    <a:pt x="21184" y="13718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5809320" y="4402800"/>
              <a:ext cx="362520" cy="227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428" y="13114"/>
                  </a:moveTo>
                  <a:lnTo>
                    <a:pt x="14953" y="13114"/>
                  </a:lnTo>
                  <a:lnTo>
                    <a:pt x="14241" y="12728"/>
                  </a:lnTo>
                  <a:lnTo>
                    <a:pt x="13292" y="13114"/>
                  </a:lnTo>
                  <a:lnTo>
                    <a:pt x="13054" y="13500"/>
                  </a:lnTo>
                  <a:lnTo>
                    <a:pt x="12342" y="13114"/>
                  </a:lnTo>
                  <a:lnTo>
                    <a:pt x="11867" y="13500"/>
                  </a:lnTo>
                  <a:lnTo>
                    <a:pt x="11155" y="13500"/>
                  </a:lnTo>
                  <a:lnTo>
                    <a:pt x="10918" y="13114"/>
                  </a:lnTo>
                  <a:lnTo>
                    <a:pt x="10206" y="13500"/>
                  </a:lnTo>
                  <a:lnTo>
                    <a:pt x="9731" y="13500"/>
                  </a:lnTo>
                  <a:lnTo>
                    <a:pt x="9256" y="13500"/>
                  </a:lnTo>
                  <a:lnTo>
                    <a:pt x="8544" y="13500"/>
                  </a:lnTo>
                  <a:lnTo>
                    <a:pt x="8070" y="13885"/>
                  </a:lnTo>
                  <a:lnTo>
                    <a:pt x="7120" y="13885"/>
                  </a:lnTo>
                  <a:lnTo>
                    <a:pt x="6645" y="13885"/>
                  </a:lnTo>
                  <a:lnTo>
                    <a:pt x="5933" y="13885"/>
                  </a:lnTo>
                  <a:lnTo>
                    <a:pt x="5696" y="13885"/>
                  </a:lnTo>
                  <a:lnTo>
                    <a:pt x="5221" y="13885"/>
                  </a:lnTo>
                  <a:lnTo>
                    <a:pt x="4984" y="13500"/>
                  </a:lnTo>
                  <a:lnTo>
                    <a:pt x="4984" y="13114"/>
                  </a:lnTo>
                  <a:lnTo>
                    <a:pt x="4509" y="12728"/>
                  </a:lnTo>
                  <a:lnTo>
                    <a:pt x="4034" y="12342"/>
                  </a:lnTo>
                  <a:lnTo>
                    <a:pt x="4034" y="11571"/>
                  </a:lnTo>
                  <a:lnTo>
                    <a:pt x="3560" y="11185"/>
                  </a:lnTo>
                  <a:lnTo>
                    <a:pt x="3322" y="10414"/>
                  </a:lnTo>
                  <a:lnTo>
                    <a:pt x="3322" y="9256"/>
                  </a:lnTo>
                  <a:lnTo>
                    <a:pt x="3085" y="8485"/>
                  </a:lnTo>
                  <a:lnTo>
                    <a:pt x="3322" y="7714"/>
                  </a:lnTo>
                  <a:lnTo>
                    <a:pt x="3322" y="7328"/>
                  </a:lnTo>
                  <a:lnTo>
                    <a:pt x="3322" y="6942"/>
                  </a:lnTo>
                  <a:lnTo>
                    <a:pt x="3560" y="6556"/>
                  </a:lnTo>
                  <a:lnTo>
                    <a:pt x="4034" y="5785"/>
                  </a:lnTo>
                  <a:lnTo>
                    <a:pt x="4272" y="5400"/>
                  </a:lnTo>
                  <a:lnTo>
                    <a:pt x="4272" y="5014"/>
                  </a:lnTo>
                  <a:lnTo>
                    <a:pt x="4509" y="4628"/>
                  </a:lnTo>
                  <a:lnTo>
                    <a:pt x="4747" y="4242"/>
                  </a:lnTo>
                  <a:lnTo>
                    <a:pt x="4747" y="3856"/>
                  </a:lnTo>
                  <a:lnTo>
                    <a:pt x="4984" y="3856"/>
                  </a:lnTo>
                  <a:lnTo>
                    <a:pt x="4984" y="3471"/>
                  </a:lnTo>
                  <a:lnTo>
                    <a:pt x="5221" y="2700"/>
                  </a:lnTo>
                  <a:lnTo>
                    <a:pt x="5221" y="2314"/>
                  </a:lnTo>
                  <a:lnTo>
                    <a:pt x="5221" y="1928"/>
                  </a:lnTo>
                  <a:lnTo>
                    <a:pt x="5221" y="1542"/>
                  </a:lnTo>
                  <a:lnTo>
                    <a:pt x="4984" y="1156"/>
                  </a:lnTo>
                  <a:lnTo>
                    <a:pt x="4984" y="1156"/>
                  </a:lnTo>
                  <a:lnTo>
                    <a:pt x="4984" y="385"/>
                  </a:lnTo>
                  <a:lnTo>
                    <a:pt x="4984" y="0"/>
                  </a:lnTo>
                  <a:lnTo>
                    <a:pt x="4747" y="0"/>
                  </a:lnTo>
                  <a:lnTo>
                    <a:pt x="4509" y="0"/>
                  </a:lnTo>
                  <a:lnTo>
                    <a:pt x="4034" y="0"/>
                  </a:lnTo>
                  <a:lnTo>
                    <a:pt x="3797" y="0"/>
                  </a:lnTo>
                  <a:lnTo>
                    <a:pt x="3322" y="385"/>
                  </a:lnTo>
                  <a:lnTo>
                    <a:pt x="3085" y="1542"/>
                  </a:lnTo>
                  <a:lnTo>
                    <a:pt x="2373" y="2314"/>
                  </a:lnTo>
                  <a:lnTo>
                    <a:pt x="1898" y="3471"/>
                  </a:lnTo>
                  <a:lnTo>
                    <a:pt x="1424" y="5014"/>
                  </a:lnTo>
                  <a:lnTo>
                    <a:pt x="949" y="6171"/>
                  </a:lnTo>
                  <a:lnTo>
                    <a:pt x="711" y="7328"/>
                  </a:lnTo>
                  <a:lnTo>
                    <a:pt x="474" y="8871"/>
                  </a:lnTo>
                  <a:lnTo>
                    <a:pt x="237" y="10414"/>
                  </a:lnTo>
                  <a:lnTo>
                    <a:pt x="0" y="11956"/>
                  </a:lnTo>
                  <a:lnTo>
                    <a:pt x="0" y="12728"/>
                  </a:lnTo>
                  <a:lnTo>
                    <a:pt x="237" y="13885"/>
                  </a:lnTo>
                  <a:lnTo>
                    <a:pt x="711" y="15428"/>
                  </a:lnTo>
                  <a:lnTo>
                    <a:pt x="949" y="16585"/>
                  </a:lnTo>
                  <a:lnTo>
                    <a:pt x="1186" y="17356"/>
                  </a:lnTo>
                  <a:lnTo>
                    <a:pt x="1661" y="18128"/>
                  </a:lnTo>
                  <a:lnTo>
                    <a:pt x="1898" y="18900"/>
                  </a:lnTo>
                  <a:lnTo>
                    <a:pt x="2373" y="19285"/>
                  </a:lnTo>
                  <a:lnTo>
                    <a:pt x="2848" y="20056"/>
                  </a:lnTo>
                  <a:lnTo>
                    <a:pt x="3322" y="20056"/>
                  </a:lnTo>
                  <a:lnTo>
                    <a:pt x="3560" y="20828"/>
                  </a:lnTo>
                  <a:lnTo>
                    <a:pt x="4034" y="20828"/>
                  </a:lnTo>
                  <a:lnTo>
                    <a:pt x="4272" y="20828"/>
                  </a:lnTo>
                  <a:lnTo>
                    <a:pt x="4747" y="21214"/>
                  </a:lnTo>
                  <a:lnTo>
                    <a:pt x="5221" y="21214"/>
                  </a:lnTo>
                  <a:lnTo>
                    <a:pt x="5696" y="21214"/>
                  </a:lnTo>
                  <a:lnTo>
                    <a:pt x="6171" y="21600"/>
                  </a:lnTo>
                  <a:lnTo>
                    <a:pt x="6645" y="21214"/>
                  </a:lnTo>
                  <a:lnTo>
                    <a:pt x="7120" y="21600"/>
                  </a:lnTo>
                  <a:lnTo>
                    <a:pt x="7595" y="21214"/>
                  </a:lnTo>
                  <a:lnTo>
                    <a:pt x="8070" y="21214"/>
                  </a:lnTo>
                  <a:lnTo>
                    <a:pt x="8544" y="21214"/>
                  </a:lnTo>
                  <a:lnTo>
                    <a:pt x="9019" y="20828"/>
                  </a:lnTo>
                  <a:lnTo>
                    <a:pt x="9494" y="21214"/>
                  </a:lnTo>
                  <a:lnTo>
                    <a:pt x="9969" y="20828"/>
                  </a:lnTo>
                  <a:lnTo>
                    <a:pt x="10443" y="20442"/>
                  </a:lnTo>
                  <a:lnTo>
                    <a:pt x="10918" y="20828"/>
                  </a:lnTo>
                  <a:lnTo>
                    <a:pt x="11155" y="20442"/>
                  </a:lnTo>
                  <a:lnTo>
                    <a:pt x="11630" y="20442"/>
                  </a:lnTo>
                  <a:lnTo>
                    <a:pt x="11867" y="20442"/>
                  </a:lnTo>
                  <a:lnTo>
                    <a:pt x="12105" y="20442"/>
                  </a:lnTo>
                  <a:lnTo>
                    <a:pt x="12580" y="20442"/>
                  </a:lnTo>
                  <a:lnTo>
                    <a:pt x="13054" y="20442"/>
                  </a:lnTo>
                  <a:lnTo>
                    <a:pt x="13292" y="20442"/>
                  </a:lnTo>
                  <a:lnTo>
                    <a:pt x="13766" y="20828"/>
                  </a:lnTo>
                  <a:lnTo>
                    <a:pt x="14241" y="21214"/>
                  </a:lnTo>
                  <a:lnTo>
                    <a:pt x="14478" y="20828"/>
                  </a:lnTo>
                  <a:lnTo>
                    <a:pt x="14953" y="21214"/>
                  </a:lnTo>
                  <a:lnTo>
                    <a:pt x="15428" y="21214"/>
                  </a:lnTo>
                  <a:lnTo>
                    <a:pt x="15903" y="21600"/>
                  </a:lnTo>
                  <a:lnTo>
                    <a:pt x="15903" y="21214"/>
                  </a:lnTo>
                  <a:lnTo>
                    <a:pt x="16615" y="20828"/>
                  </a:lnTo>
                  <a:lnTo>
                    <a:pt x="17089" y="20828"/>
                  </a:lnTo>
                  <a:lnTo>
                    <a:pt x="17564" y="20828"/>
                  </a:lnTo>
                  <a:lnTo>
                    <a:pt x="17802" y="20442"/>
                  </a:lnTo>
                  <a:lnTo>
                    <a:pt x="18276" y="20056"/>
                  </a:lnTo>
                  <a:lnTo>
                    <a:pt x="18751" y="20056"/>
                  </a:lnTo>
                  <a:lnTo>
                    <a:pt x="18988" y="19671"/>
                  </a:lnTo>
                  <a:lnTo>
                    <a:pt x="19463" y="19285"/>
                  </a:lnTo>
                  <a:lnTo>
                    <a:pt x="19938" y="19671"/>
                  </a:lnTo>
                  <a:lnTo>
                    <a:pt x="20175" y="19285"/>
                  </a:lnTo>
                  <a:lnTo>
                    <a:pt x="20175" y="18514"/>
                  </a:lnTo>
                  <a:lnTo>
                    <a:pt x="20650" y="18514"/>
                  </a:lnTo>
                  <a:lnTo>
                    <a:pt x="21125" y="17742"/>
                  </a:lnTo>
                  <a:lnTo>
                    <a:pt x="21125" y="16971"/>
                  </a:lnTo>
                  <a:lnTo>
                    <a:pt x="21125" y="16585"/>
                  </a:lnTo>
                  <a:lnTo>
                    <a:pt x="21600" y="15814"/>
                  </a:lnTo>
                  <a:lnTo>
                    <a:pt x="21362" y="15428"/>
                  </a:lnTo>
                  <a:lnTo>
                    <a:pt x="21362" y="14656"/>
                  </a:lnTo>
                  <a:lnTo>
                    <a:pt x="21362" y="14271"/>
                  </a:lnTo>
                  <a:lnTo>
                    <a:pt x="21125" y="13885"/>
                  </a:lnTo>
                  <a:lnTo>
                    <a:pt x="20887" y="13114"/>
                  </a:lnTo>
                  <a:lnTo>
                    <a:pt x="20887" y="13114"/>
                  </a:lnTo>
                  <a:lnTo>
                    <a:pt x="20413" y="12728"/>
                  </a:lnTo>
                  <a:lnTo>
                    <a:pt x="19938" y="12728"/>
                  </a:lnTo>
                  <a:lnTo>
                    <a:pt x="19463" y="12728"/>
                  </a:lnTo>
                  <a:lnTo>
                    <a:pt x="18988" y="12728"/>
                  </a:lnTo>
                  <a:lnTo>
                    <a:pt x="18751" y="12728"/>
                  </a:lnTo>
                  <a:lnTo>
                    <a:pt x="18514" y="12728"/>
                  </a:lnTo>
                  <a:lnTo>
                    <a:pt x="18276" y="12728"/>
                  </a:lnTo>
                  <a:lnTo>
                    <a:pt x="18039" y="12728"/>
                  </a:lnTo>
                  <a:lnTo>
                    <a:pt x="17802" y="12728"/>
                  </a:lnTo>
                  <a:lnTo>
                    <a:pt x="17564" y="12342"/>
                  </a:lnTo>
                  <a:lnTo>
                    <a:pt x="17327" y="12342"/>
                  </a:lnTo>
                  <a:lnTo>
                    <a:pt x="17089" y="12728"/>
                  </a:lnTo>
                  <a:lnTo>
                    <a:pt x="17089" y="12728"/>
                  </a:lnTo>
                  <a:lnTo>
                    <a:pt x="16852" y="12728"/>
                  </a:lnTo>
                  <a:lnTo>
                    <a:pt x="16615" y="12728"/>
                  </a:lnTo>
                  <a:lnTo>
                    <a:pt x="16377" y="12728"/>
                  </a:lnTo>
                  <a:lnTo>
                    <a:pt x="16140" y="12728"/>
                  </a:lnTo>
                  <a:lnTo>
                    <a:pt x="15903" y="12728"/>
                  </a:lnTo>
                  <a:lnTo>
                    <a:pt x="15665" y="12728"/>
                  </a:lnTo>
                  <a:lnTo>
                    <a:pt x="15428" y="13114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5387040" y="4186080"/>
              <a:ext cx="489240" cy="19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726" y="14246"/>
                  </a:moveTo>
                  <a:lnTo>
                    <a:pt x="8077" y="13327"/>
                  </a:lnTo>
                  <a:lnTo>
                    <a:pt x="8253" y="12867"/>
                  </a:lnTo>
                  <a:lnTo>
                    <a:pt x="8780" y="11948"/>
                  </a:lnTo>
                  <a:lnTo>
                    <a:pt x="9131" y="11489"/>
                  </a:lnTo>
                  <a:lnTo>
                    <a:pt x="9482" y="11029"/>
                  </a:lnTo>
                  <a:lnTo>
                    <a:pt x="9658" y="11029"/>
                  </a:lnTo>
                  <a:lnTo>
                    <a:pt x="10185" y="10569"/>
                  </a:lnTo>
                  <a:lnTo>
                    <a:pt x="10536" y="10110"/>
                  </a:lnTo>
                  <a:lnTo>
                    <a:pt x="10711" y="9651"/>
                  </a:lnTo>
                  <a:lnTo>
                    <a:pt x="11063" y="9191"/>
                  </a:lnTo>
                  <a:lnTo>
                    <a:pt x="11414" y="8731"/>
                  </a:lnTo>
                  <a:lnTo>
                    <a:pt x="11590" y="8272"/>
                  </a:lnTo>
                  <a:lnTo>
                    <a:pt x="11941" y="7812"/>
                  </a:lnTo>
                  <a:lnTo>
                    <a:pt x="12292" y="7353"/>
                  </a:lnTo>
                  <a:lnTo>
                    <a:pt x="12643" y="7353"/>
                  </a:lnTo>
                  <a:lnTo>
                    <a:pt x="12995" y="6893"/>
                  </a:lnTo>
                  <a:lnTo>
                    <a:pt x="13170" y="6433"/>
                  </a:lnTo>
                  <a:lnTo>
                    <a:pt x="13521" y="6433"/>
                  </a:lnTo>
                  <a:lnTo>
                    <a:pt x="13873" y="5974"/>
                  </a:lnTo>
                  <a:lnTo>
                    <a:pt x="14048" y="5974"/>
                  </a:lnTo>
                  <a:lnTo>
                    <a:pt x="14399" y="5974"/>
                  </a:lnTo>
                  <a:lnTo>
                    <a:pt x="14751" y="5055"/>
                  </a:lnTo>
                  <a:lnTo>
                    <a:pt x="15102" y="4595"/>
                  </a:lnTo>
                  <a:lnTo>
                    <a:pt x="15453" y="4595"/>
                  </a:lnTo>
                  <a:lnTo>
                    <a:pt x="15980" y="4595"/>
                  </a:lnTo>
                  <a:lnTo>
                    <a:pt x="16331" y="4595"/>
                  </a:lnTo>
                  <a:lnTo>
                    <a:pt x="16858" y="4595"/>
                  </a:lnTo>
                  <a:lnTo>
                    <a:pt x="17385" y="4136"/>
                  </a:lnTo>
                  <a:lnTo>
                    <a:pt x="17560" y="4136"/>
                  </a:lnTo>
                  <a:lnTo>
                    <a:pt x="18263" y="4136"/>
                  </a:lnTo>
                  <a:lnTo>
                    <a:pt x="18965" y="4595"/>
                  </a:lnTo>
                  <a:lnTo>
                    <a:pt x="19316" y="5055"/>
                  </a:lnTo>
                  <a:lnTo>
                    <a:pt x="19843" y="5055"/>
                  </a:lnTo>
                  <a:lnTo>
                    <a:pt x="20370" y="5514"/>
                  </a:lnTo>
                  <a:lnTo>
                    <a:pt x="20721" y="5055"/>
                  </a:lnTo>
                  <a:lnTo>
                    <a:pt x="21072" y="5055"/>
                  </a:lnTo>
                  <a:lnTo>
                    <a:pt x="21248" y="4136"/>
                  </a:lnTo>
                  <a:lnTo>
                    <a:pt x="21424" y="3676"/>
                  </a:lnTo>
                  <a:lnTo>
                    <a:pt x="21600" y="2757"/>
                  </a:lnTo>
                  <a:lnTo>
                    <a:pt x="21424" y="2297"/>
                  </a:lnTo>
                  <a:lnTo>
                    <a:pt x="21248" y="1838"/>
                  </a:lnTo>
                  <a:lnTo>
                    <a:pt x="21072" y="918"/>
                  </a:lnTo>
                  <a:lnTo>
                    <a:pt x="20897" y="459"/>
                  </a:lnTo>
                  <a:lnTo>
                    <a:pt x="20721" y="459"/>
                  </a:lnTo>
                  <a:lnTo>
                    <a:pt x="20194" y="0"/>
                  </a:lnTo>
                  <a:lnTo>
                    <a:pt x="19668" y="0"/>
                  </a:lnTo>
                  <a:lnTo>
                    <a:pt x="18965" y="459"/>
                  </a:lnTo>
                  <a:lnTo>
                    <a:pt x="18263" y="459"/>
                  </a:lnTo>
                  <a:lnTo>
                    <a:pt x="17736" y="459"/>
                  </a:lnTo>
                  <a:lnTo>
                    <a:pt x="17560" y="918"/>
                  </a:lnTo>
                  <a:lnTo>
                    <a:pt x="17033" y="1838"/>
                  </a:lnTo>
                  <a:lnTo>
                    <a:pt x="16507" y="1838"/>
                  </a:lnTo>
                  <a:lnTo>
                    <a:pt x="15980" y="1838"/>
                  </a:lnTo>
                  <a:lnTo>
                    <a:pt x="15277" y="2297"/>
                  </a:lnTo>
                  <a:lnTo>
                    <a:pt x="14751" y="2757"/>
                  </a:lnTo>
                  <a:lnTo>
                    <a:pt x="14399" y="3216"/>
                  </a:lnTo>
                  <a:lnTo>
                    <a:pt x="13521" y="3676"/>
                  </a:lnTo>
                  <a:lnTo>
                    <a:pt x="12995" y="3676"/>
                  </a:lnTo>
                  <a:lnTo>
                    <a:pt x="12292" y="3676"/>
                  </a:lnTo>
                  <a:lnTo>
                    <a:pt x="11765" y="4136"/>
                  </a:lnTo>
                  <a:lnTo>
                    <a:pt x="11239" y="4595"/>
                  </a:lnTo>
                  <a:lnTo>
                    <a:pt x="10711" y="4136"/>
                  </a:lnTo>
                  <a:lnTo>
                    <a:pt x="9833" y="4595"/>
                  </a:lnTo>
                  <a:lnTo>
                    <a:pt x="9131" y="5055"/>
                  </a:lnTo>
                  <a:lnTo>
                    <a:pt x="8780" y="5514"/>
                  </a:lnTo>
                  <a:lnTo>
                    <a:pt x="8077" y="5974"/>
                  </a:lnTo>
                  <a:lnTo>
                    <a:pt x="7375" y="5974"/>
                  </a:lnTo>
                  <a:lnTo>
                    <a:pt x="6672" y="6433"/>
                  </a:lnTo>
                  <a:lnTo>
                    <a:pt x="6146" y="6893"/>
                  </a:lnTo>
                  <a:lnTo>
                    <a:pt x="5619" y="7353"/>
                  </a:lnTo>
                  <a:lnTo>
                    <a:pt x="4916" y="7812"/>
                  </a:lnTo>
                  <a:lnTo>
                    <a:pt x="4390" y="8272"/>
                  </a:lnTo>
                  <a:lnTo>
                    <a:pt x="3863" y="8272"/>
                  </a:lnTo>
                  <a:lnTo>
                    <a:pt x="3512" y="9191"/>
                  </a:lnTo>
                  <a:lnTo>
                    <a:pt x="2809" y="9191"/>
                  </a:lnTo>
                  <a:lnTo>
                    <a:pt x="2634" y="10110"/>
                  </a:lnTo>
                  <a:lnTo>
                    <a:pt x="2282" y="10569"/>
                  </a:lnTo>
                  <a:lnTo>
                    <a:pt x="1756" y="11029"/>
                  </a:lnTo>
                  <a:lnTo>
                    <a:pt x="1580" y="11948"/>
                  </a:lnTo>
                  <a:lnTo>
                    <a:pt x="1404" y="12408"/>
                  </a:lnTo>
                  <a:lnTo>
                    <a:pt x="878" y="13787"/>
                  </a:lnTo>
                  <a:lnTo>
                    <a:pt x="526" y="15165"/>
                  </a:lnTo>
                  <a:lnTo>
                    <a:pt x="351" y="16084"/>
                  </a:lnTo>
                  <a:lnTo>
                    <a:pt x="175" y="17004"/>
                  </a:lnTo>
                  <a:lnTo>
                    <a:pt x="175" y="18382"/>
                  </a:lnTo>
                  <a:lnTo>
                    <a:pt x="0" y="19302"/>
                  </a:lnTo>
                  <a:lnTo>
                    <a:pt x="0" y="19761"/>
                  </a:lnTo>
                  <a:lnTo>
                    <a:pt x="175" y="20220"/>
                  </a:lnTo>
                  <a:lnTo>
                    <a:pt x="351" y="21140"/>
                  </a:lnTo>
                  <a:lnTo>
                    <a:pt x="526" y="21140"/>
                  </a:lnTo>
                  <a:lnTo>
                    <a:pt x="878" y="21140"/>
                  </a:lnTo>
                  <a:lnTo>
                    <a:pt x="1229" y="21600"/>
                  </a:lnTo>
                  <a:lnTo>
                    <a:pt x="1580" y="21140"/>
                  </a:lnTo>
                  <a:lnTo>
                    <a:pt x="1756" y="20680"/>
                  </a:lnTo>
                  <a:lnTo>
                    <a:pt x="2107" y="20680"/>
                  </a:lnTo>
                  <a:lnTo>
                    <a:pt x="2458" y="19761"/>
                  </a:lnTo>
                  <a:lnTo>
                    <a:pt x="2985" y="19761"/>
                  </a:lnTo>
                  <a:lnTo>
                    <a:pt x="3336" y="18842"/>
                  </a:lnTo>
                  <a:lnTo>
                    <a:pt x="3687" y="18382"/>
                  </a:lnTo>
                  <a:lnTo>
                    <a:pt x="3863" y="18382"/>
                  </a:lnTo>
                  <a:lnTo>
                    <a:pt x="4214" y="17923"/>
                  </a:lnTo>
                  <a:lnTo>
                    <a:pt x="4741" y="17923"/>
                  </a:lnTo>
                  <a:lnTo>
                    <a:pt x="4916" y="17463"/>
                  </a:lnTo>
                  <a:lnTo>
                    <a:pt x="5092" y="17004"/>
                  </a:lnTo>
                  <a:lnTo>
                    <a:pt x="5268" y="16544"/>
                  </a:lnTo>
                  <a:lnTo>
                    <a:pt x="5619" y="17004"/>
                  </a:lnTo>
                  <a:lnTo>
                    <a:pt x="5794" y="16544"/>
                  </a:lnTo>
                  <a:lnTo>
                    <a:pt x="6146" y="16084"/>
                  </a:lnTo>
                  <a:lnTo>
                    <a:pt x="6497" y="16084"/>
                  </a:lnTo>
                  <a:lnTo>
                    <a:pt x="6848" y="15165"/>
                  </a:lnTo>
                  <a:lnTo>
                    <a:pt x="7199" y="14706"/>
                  </a:lnTo>
                  <a:lnTo>
                    <a:pt x="7726" y="14246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5262480" y="4959000"/>
              <a:ext cx="650520" cy="866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443" y="4765"/>
                  </a:moveTo>
                  <a:lnTo>
                    <a:pt x="14708" y="4664"/>
                  </a:lnTo>
                  <a:lnTo>
                    <a:pt x="14841" y="4461"/>
                  </a:lnTo>
                  <a:lnTo>
                    <a:pt x="14973" y="4258"/>
                  </a:lnTo>
                  <a:lnTo>
                    <a:pt x="15106" y="3954"/>
                  </a:lnTo>
                  <a:lnTo>
                    <a:pt x="15239" y="3650"/>
                  </a:lnTo>
                  <a:lnTo>
                    <a:pt x="15371" y="3447"/>
                  </a:lnTo>
                  <a:lnTo>
                    <a:pt x="15504" y="3143"/>
                  </a:lnTo>
                  <a:lnTo>
                    <a:pt x="15769" y="2737"/>
                  </a:lnTo>
                  <a:lnTo>
                    <a:pt x="15769" y="2433"/>
                  </a:lnTo>
                  <a:lnTo>
                    <a:pt x="16034" y="2027"/>
                  </a:lnTo>
                  <a:lnTo>
                    <a:pt x="16166" y="1926"/>
                  </a:lnTo>
                  <a:lnTo>
                    <a:pt x="16299" y="1622"/>
                  </a:lnTo>
                  <a:lnTo>
                    <a:pt x="16564" y="1419"/>
                  </a:lnTo>
                  <a:lnTo>
                    <a:pt x="16829" y="1115"/>
                  </a:lnTo>
                  <a:lnTo>
                    <a:pt x="17094" y="1115"/>
                  </a:lnTo>
                  <a:lnTo>
                    <a:pt x="17359" y="912"/>
                  </a:lnTo>
                  <a:lnTo>
                    <a:pt x="17624" y="811"/>
                  </a:lnTo>
                  <a:lnTo>
                    <a:pt x="18021" y="709"/>
                  </a:lnTo>
                  <a:lnTo>
                    <a:pt x="18551" y="608"/>
                  </a:lnTo>
                  <a:lnTo>
                    <a:pt x="19214" y="608"/>
                  </a:lnTo>
                  <a:lnTo>
                    <a:pt x="19612" y="608"/>
                  </a:lnTo>
                  <a:lnTo>
                    <a:pt x="20009" y="405"/>
                  </a:lnTo>
                  <a:lnTo>
                    <a:pt x="20407" y="304"/>
                  </a:lnTo>
                  <a:lnTo>
                    <a:pt x="20937" y="202"/>
                  </a:lnTo>
                  <a:lnTo>
                    <a:pt x="21202" y="101"/>
                  </a:lnTo>
                  <a:lnTo>
                    <a:pt x="21467" y="0"/>
                  </a:lnTo>
                  <a:lnTo>
                    <a:pt x="21600" y="101"/>
                  </a:lnTo>
                  <a:lnTo>
                    <a:pt x="21467" y="0"/>
                  </a:lnTo>
                  <a:lnTo>
                    <a:pt x="21334" y="0"/>
                  </a:lnTo>
                  <a:lnTo>
                    <a:pt x="21069" y="101"/>
                  </a:lnTo>
                  <a:lnTo>
                    <a:pt x="20539" y="202"/>
                  </a:lnTo>
                  <a:lnTo>
                    <a:pt x="19612" y="405"/>
                  </a:lnTo>
                  <a:lnTo>
                    <a:pt x="19346" y="405"/>
                  </a:lnTo>
                  <a:lnTo>
                    <a:pt x="18949" y="506"/>
                  </a:lnTo>
                  <a:lnTo>
                    <a:pt x="18419" y="608"/>
                  </a:lnTo>
                  <a:lnTo>
                    <a:pt x="18021" y="608"/>
                  </a:lnTo>
                  <a:lnTo>
                    <a:pt x="17624" y="709"/>
                  </a:lnTo>
                  <a:lnTo>
                    <a:pt x="17359" y="811"/>
                  </a:lnTo>
                  <a:lnTo>
                    <a:pt x="16961" y="1013"/>
                  </a:lnTo>
                  <a:lnTo>
                    <a:pt x="16696" y="1115"/>
                  </a:lnTo>
                  <a:lnTo>
                    <a:pt x="16299" y="1216"/>
                  </a:lnTo>
                  <a:lnTo>
                    <a:pt x="15901" y="1419"/>
                  </a:lnTo>
                  <a:lnTo>
                    <a:pt x="15636" y="1622"/>
                  </a:lnTo>
                  <a:lnTo>
                    <a:pt x="15371" y="1723"/>
                  </a:lnTo>
                  <a:lnTo>
                    <a:pt x="14973" y="1926"/>
                  </a:lnTo>
                  <a:lnTo>
                    <a:pt x="14841" y="2129"/>
                  </a:lnTo>
                  <a:lnTo>
                    <a:pt x="14576" y="2535"/>
                  </a:lnTo>
                  <a:lnTo>
                    <a:pt x="14311" y="2839"/>
                  </a:lnTo>
                  <a:lnTo>
                    <a:pt x="14311" y="2940"/>
                  </a:lnTo>
                  <a:lnTo>
                    <a:pt x="14178" y="3042"/>
                  </a:lnTo>
                  <a:lnTo>
                    <a:pt x="14046" y="3143"/>
                  </a:lnTo>
                  <a:lnTo>
                    <a:pt x="13913" y="3244"/>
                  </a:lnTo>
                  <a:lnTo>
                    <a:pt x="13781" y="3346"/>
                  </a:lnTo>
                  <a:lnTo>
                    <a:pt x="13648" y="3549"/>
                  </a:lnTo>
                  <a:lnTo>
                    <a:pt x="13383" y="3752"/>
                  </a:lnTo>
                  <a:lnTo>
                    <a:pt x="13251" y="3853"/>
                  </a:lnTo>
                  <a:lnTo>
                    <a:pt x="13118" y="4056"/>
                  </a:lnTo>
                  <a:lnTo>
                    <a:pt x="12986" y="4258"/>
                  </a:lnTo>
                  <a:lnTo>
                    <a:pt x="12721" y="4563"/>
                  </a:lnTo>
                  <a:lnTo>
                    <a:pt x="12588" y="4664"/>
                  </a:lnTo>
                  <a:lnTo>
                    <a:pt x="12588" y="4867"/>
                  </a:lnTo>
                  <a:lnTo>
                    <a:pt x="12323" y="5070"/>
                  </a:lnTo>
                  <a:lnTo>
                    <a:pt x="12191" y="5374"/>
                  </a:lnTo>
                  <a:lnTo>
                    <a:pt x="12058" y="5577"/>
                  </a:lnTo>
                  <a:lnTo>
                    <a:pt x="12058" y="5678"/>
                  </a:lnTo>
                  <a:lnTo>
                    <a:pt x="12058" y="5881"/>
                  </a:lnTo>
                  <a:lnTo>
                    <a:pt x="11926" y="5983"/>
                  </a:lnTo>
                  <a:lnTo>
                    <a:pt x="11793" y="6185"/>
                  </a:lnTo>
                  <a:lnTo>
                    <a:pt x="11661" y="6388"/>
                  </a:lnTo>
                  <a:lnTo>
                    <a:pt x="11528" y="6591"/>
                  </a:lnTo>
                  <a:lnTo>
                    <a:pt x="11396" y="6895"/>
                  </a:lnTo>
                  <a:lnTo>
                    <a:pt x="11396" y="7199"/>
                  </a:lnTo>
                  <a:lnTo>
                    <a:pt x="11131" y="7605"/>
                  </a:lnTo>
                  <a:lnTo>
                    <a:pt x="10998" y="7909"/>
                  </a:lnTo>
                  <a:lnTo>
                    <a:pt x="10998" y="8214"/>
                  </a:lnTo>
                  <a:lnTo>
                    <a:pt x="10866" y="8416"/>
                  </a:lnTo>
                  <a:lnTo>
                    <a:pt x="10866" y="8619"/>
                  </a:lnTo>
                  <a:lnTo>
                    <a:pt x="10600" y="8720"/>
                  </a:lnTo>
                  <a:lnTo>
                    <a:pt x="10600" y="8923"/>
                  </a:lnTo>
                  <a:lnTo>
                    <a:pt x="10600" y="9025"/>
                  </a:lnTo>
                  <a:lnTo>
                    <a:pt x="10468" y="9126"/>
                  </a:lnTo>
                  <a:lnTo>
                    <a:pt x="10335" y="9430"/>
                  </a:lnTo>
                  <a:lnTo>
                    <a:pt x="10203" y="9735"/>
                  </a:lnTo>
                  <a:lnTo>
                    <a:pt x="10203" y="9937"/>
                  </a:lnTo>
                  <a:lnTo>
                    <a:pt x="10203" y="10242"/>
                  </a:lnTo>
                  <a:lnTo>
                    <a:pt x="10070" y="10647"/>
                  </a:lnTo>
                  <a:lnTo>
                    <a:pt x="10070" y="10951"/>
                  </a:lnTo>
                  <a:lnTo>
                    <a:pt x="10070" y="11357"/>
                  </a:lnTo>
                  <a:lnTo>
                    <a:pt x="9938" y="11661"/>
                  </a:lnTo>
                  <a:lnTo>
                    <a:pt x="9938" y="11966"/>
                  </a:lnTo>
                  <a:lnTo>
                    <a:pt x="9938" y="12270"/>
                  </a:lnTo>
                  <a:lnTo>
                    <a:pt x="9938" y="12472"/>
                  </a:lnTo>
                  <a:lnTo>
                    <a:pt x="9938" y="12574"/>
                  </a:lnTo>
                  <a:lnTo>
                    <a:pt x="10070" y="12574"/>
                  </a:lnTo>
                  <a:lnTo>
                    <a:pt x="10203" y="12472"/>
                  </a:lnTo>
                  <a:lnTo>
                    <a:pt x="10468" y="12371"/>
                  </a:lnTo>
                  <a:lnTo>
                    <a:pt x="10600" y="12067"/>
                  </a:lnTo>
                  <a:lnTo>
                    <a:pt x="10733" y="11763"/>
                  </a:lnTo>
                  <a:lnTo>
                    <a:pt x="10733" y="11560"/>
                  </a:lnTo>
                  <a:lnTo>
                    <a:pt x="10866" y="11256"/>
                  </a:lnTo>
                  <a:lnTo>
                    <a:pt x="10998" y="10951"/>
                  </a:lnTo>
                  <a:lnTo>
                    <a:pt x="10998" y="10647"/>
                  </a:lnTo>
                  <a:lnTo>
                    <a:pt x="11131" y="10242"/>
                  </a:lnTo>
                  <a:lnTo>
                    <a:pt x="11263" y="10039"/>
                  </a:lnTo>
                  <a:lnTo>
                    <a:pt x="11396" y="9937"/>
                  </a:lnTo>
                  <a:lnTo>
                    <a:pt x="11528" y="9633"/>
                  </a:lnTo>
                  <a:lnTo>
                    <a:pt x="11793" y="9227"/>
                  </a:lnTo>
                  <a:lnTo>
                    <a:pt x="11793" y="8923"/>
                  </a:lnTo>
                  <a:lnTo>
                    <a:pt x="12191" y="8720"/>
                  </a:lnTo>
                  <a:lnTo>
                    <a:pt x="12323" y="8518"/>
                  </a:lnTo>
                  <a:lnTo>
                    <a:pt x="12721" y="8315"/>
                  </a:lnTo>
                  <a:lnTo>
                    <a:pt x="13118" y="8214"/>
                  </a:lnTo>
                  <a:lnTo>
                    <a:pt x="13118" y="8112"/>
                  </a:lnTo>
                  <a:lnTo>
                    <a:pt x="13251" y="8112"/>
                  </a:lnTo>
                  <a:lnTo>
                    <a:pt x="13383" y="8112"/>
                  </a:lnTo>
                  <a:lnTo>
                    <a:pt x="13516" y="8214"/>
                  </a:lnTo>
                  <a:lnTo>
                    <a:pt x="13648" y="8315"/>
                  </a:lnTo>
                  <a:lnTo>
                    <a:pt x="13781" y="8416"/>
                  </a:lnTo>
                  <a:lnTo>
                    <a:pt x="13781" y="8619"/>
                  </a:lnTo>
                  <a:lnTo>
                    <a:pt x="13781" y="8619"/>
                  </a:lnTo>
                  <a:lnTo>
                    <a:pt x="13913" y="8822"/>
                  </a:lnTo>
                  <a:lnTo>
                    <a:pt x="13781" y="9025"/>
                  </a:lnTo>
                  <a:lnTo>
                    <a:pt x="13913" y="9227"/>
                  </a:lnTo>
                  <a:lnTo>
                    <a:pt x="13781" y="9532"/>
                  </a:lnTo>
                  <a:lnTo>
                    <a:pt x="13913" y="9836"/>
                  </a:lnTo>
                  <a:lnTo>
                    <a:pt x="13781" y="10039"/>
                  </a:lnTo>
                  <a:lnTo>
                    <a:pt x="13913" y="10242"/>
                  </a:lnTo>
                  <a:lnTo>
                    <a:pt x="13781" y="10445"/>
                  </a:lnTo>
                  <a:lnTo>
                    <a:pt x="13781" y="10749"/>
                  </a:lnTo>
                  <a:lnTo>
                    <a:pt x="13781" y="10951"/>
                  </a:lnTo>
                  <a:lnTo>
                    <a:pt x="13781" y="11256"/>
                  </a:lnTo>
                  <a:lnTo>
                    <a:pt x="13648" y="11560"/>
                  </a:lnTo>
                  <a:lnTo>
                    <a:pt x="13516" y="11864"/>
                  </a:lnTo>
                  <a:lnTo>
                    <a:pt x="13516" y="11966"/>
                  </a:lnTo>
                  <a:lnTo>
                    <a:pt x="13648" y="12168"/>
                  </a:lnTo>
                  <a:lnTo>
                    <a:pt x="13516" y="12472"/>
                  </a:lnTo>
                  <a:lnTo>
                    <a:pt x="13516" y="12676"/>
                  </a:lnTo>
                  <a:lnTo>
                    <a:pt x="13383" y="12878"/>
                  </a:lnTo>
                  <a:lnTo>
                    <a:pt x="13383" y="12980"/>
                  </a:lnTo>
                  <a:lnTo>
                    <a:pt x="13383" y="13081"/>
                  </a:lnTo>
                  <a:lnTo>
                    <a:pt x="13383" y="13182"/>
                  </a:lnTo>
                  <a:lnTo>
                    <a:pt x="13251" y="13284"/>
                  </a:lnTo>
                  <a:lnTo>
                    <a:pt x="13251" y="13284"/>
                  </a:lnTo>
                  <a:lnTo>
                    <a:pt x="13251" y="13284"/>
                  </a:lnTo>
                  <a:lnTo>
                    <a:pt x="13118" y="13689"/>
                  </a:lnTo>
                  <a:lnTo>
                    <a:pt x="13118" y="13994"/>
                  </a:lnTo>
                  <a:lnTo>
                    <a:pt x="12986" y="14298"/>
                  </a:lnTo>
                  <a:lnTo>
                    <a:pt x="12853" y="14703"/>
                  </a:lnTo>
                  <a:lnTo>
                    <a:pt x="12853" y="15008"/>
                  </a:lnTo>
                  <a:lnTo>
                    <a:pt x="12721" y="15413"/>
                  </a:lnTo>
                  <a:lnTo>
                    <a:pt x="12588" y="15616"/>
                  </a:lnTo>
                  <a:lnTo>
                    <a:pt x="12456" y="15920"/>
                  </a:lnTo>
                  <a:lnTo>
                    <a:pt x="12323" y="16225"/>
                  </a:lnTo>
                  <a:lnTo>
                    <a:pt x="12191" y="16428"/>
                  </a:lnTo>
                  <a:lnTo>
                    <a:pt x="12058" y="16732"/>
                  </a:lnTo>
                  <a:lnTo>
                    <a:pt x="11793" y="17036"/>
                  </a:lnTo>
                  <a:lnTo>
                    <a:pt x="11793" y="17239"/>
                  </a:lnTo>
                  <a:lnTo>
                    <a:pt x="11528" y="17543"/>
                  </a:lnTo>
                  <a:lnTo>
                    <a:pt x="11396" y="17746"/>
                  </a:lnTo>
                  <a:lnTo>
                    <a:pt x="11131" y="17949"/>
                  </a:lnTo>
                  <a:lnTo>
                    <a:pt x="11131" y="18253"/>
                  </a:lnTo>
                  <a:lnTo>
                    <a:pt x="10866" y="18456"/>
                  </a:lnTo>
                  <a:lnTo>
                    <a:pt x="10733" y="18659"/>
                  </a:lnTo>
                  <a:lnTo>
                    <a:pt x="10468" y="18760"/>
                  </a:lnTo>
                  <a:lnTo>
                    <a:pt x="10203" y="18963"/>
                  </a:lnTo>
                  <a:lnTo>
                    <a:pt x="10070" y="19165"/>
                  </a:lnTo>
                  <a:lnTo>
                    <a:pt x="9938" y="19369"/>
                  </a:lnTo>
                  <a:lnTo>
                    <a:pt x="9673" y="19470"/>
                  </a:lnTo>
                  <a:lnTo>
                    <a:pt x="9540" y="19673"/>
                  </a:lnTo>
                  <a:lnTo>
                    <a:pt x="9408" y="19774"/>
                  </a:lnTo>
                  <a:lnTo>
                    <a:pt x="9143" y="19875"/>
                  </a:lnTo>
                  <a:lnTo>
                    <a:pt x="8878" y="19977"/>
                  </a:lnTo>
                  <a:lnTo>
                    <a:pt x="8745" y="20078"/>
                  </a:lnTo>
                  <a:lnTo>
                    <a:pt x="8348" y="20180"/>
                  </a:lnTo>
                  <a:lnTo>
                    <a:pt x="8083" y="20180"/>
                  </a:lnTo>
                  <a:lnTo>
                    <a:pt x="7818" y="20180"/>
                  </a:lnTo>
                  <a:lnTo>
                    <a:pt x="7685" y="20281"/>
                  </a:lnTo>
                  <a:lnTo>
                    <a:pt x="7420" y="20281"/>
                  </a:lnTo>
                  <a:lnTo>
                    <a:pt x="7155" y="20281"/>
                  </a:lnTo>
                  <a:lnTo>
                    <a:pt x="6890" y="20281"/>
                  </a:lnTo>
                  <a:lnTo>
                    <a:pt x="6493" y="20078"/>
                  </a:lnTo>
                  <a:lnTo>
                    <a:pt x="6227" y="20078"/>
                  </a:lnTo>
                  <a:lnTo>
                    <a:pt x="6095" y="19875"/>
                  </a:lnTo>
                  <a:lnTo>
                    <a:pt x="5830" y="19774"/>
                  </a:lnTo>
                  <a:lnTo>
                    <a:pt x="5565" y="19673"/>
                  </a:lnTo>
                  <a:lnTo>
                    <a:pt x="5432" y="19470"/>
                  </a:lnTo>
                  <a:lnTo>
                    <a:pt x="5300" y="19267"/>
                  </a:lnTo>
                  <a:lnTo>
                    <a:pt x="5035" y="19064"/>
                  </a:lnTo>
                  <a:lnTo>
                    <a:pt x="4902" y="18760"/>
                  </a:lnTo>
                  <a:lnTo>
                    <a:pt x="4505" y="18557"/>
                  </a:lnTo>
                  <a:lnTo>
                    <a:pt x="4372" y="18253"/>
                  </a:lnTo>
                  <a:lnTo>
                    <a:pt x="4107" y="17949"/>
                  </a:lnTo>
                  <a:lnTo>
                    <a:pt x="3975" y="17644"/>
                  </a:lnTo>
                  <a:lnTo>
                    <a:pt x="3975" y="17442"/>
                  </a:lnTo>
                  <a:lnTo>
                    <a:pt x="3842" y="17036"/>
                  </a:lnTo>
                  <a:lnTo>
                    <a:pt x="3710" y="16833"/>
                  </a:lnTo>
                  <a:lnTo>
                    <a:pt x="3445" y="16428"/>
                  </a:lnTo>
                  <a:lnTo>
                    <a:pt x="3312" y="16022"/>
                  </a:lnTo>
                  <a:lnTo>
                    <a:pt x="3312" y="15718"/>
                  </a:lnTo>
                  <a:lnTo>
                    <a:pt x="3047" y="15515"/>
                  </a:lnTo>
                  <a:lnTo>
                    <a:pt x="3047" y="15109"/>
                  </a:lnTo>
                  <a:lnTo>
                    <a:pt x="2915" y="14703"/>
                  </a:lnTo>
                  <a:lnTo>
                    <a:pt x="2782" y="14399"/>
                  </a:lnTo>
                  <a:lnTo>
                    <a:pt x="2782" y="14095"/>
                  </a:lnTo>
                  <a:lnTo>
                    <a:pt x="2915" y="13791"/>
                  </a:lnTo>
                  <a:lnTo>
                    <a:pt x="2782" y="13487"/>
                  </a:lnTo>
                  <a:lnTo>
                    <a:pt x="2782" y="13182"/>
                  </a:lnTo>
                  <a:lnTo>
                    <a:pt x="2782" y="12878"/>
                  </a:lnTo>
                  <a:lnTo>
                    <a:pt x="2782" y="12270"/>
                  </a:lnTo>
                  <a:lnTo>
                    <a:pt x="2650" y="11966"/>
                  </a:lnTo>
                  <a:lnTo>
                    <a:pt x="2650" y="11560"/>
                  </a:lnTo>
                  <a:lnTo>
                    <a:pt x="2782" y="11053"/>
                  </a:lnTo>
                  <a:lnTo>
                    <a:pt x="2782" y="10647"/>
                  </a:lnTo>
                  <a:lnTo>
                    <a:pt x="2782" y="10242"/>
                  </a:lnTo>
                  <a:lnTo>
                    <a:pt x="2915" y="9937"/>
                  </a:lnTo>
                  <a:lnTo>
                    <a:pt x="3047" y="9532"/>
                  </a:lnTo>
                  <a:lnTo>
                    <a:pt x="3047" y="9126"/>
                  </a:lnTo>
                  <a:lnTo>
                    <a:pt x="3047" y="8720"/>
                  </a:lnTo>
                  <a:lnTo>
                    <a:pt x="3180" y="8416"/>
                  </a:lnTo>
                  <a:lnTo>
                    <a:pt x="3312" y="7909"/>
                  </a:lnTo>
                  <a:lnTo>
                    <a:pt x="3445" y="7706"/>
                  </a:lnTo>
                  <a:lnTo>
                    <a:pt x="3577" y="7301"/>
                  </a:lnTo>
                  <a:lnTo>
                    <a:pt x="3710" y="6996"/>
                  </a:lnTo>
                  <a:lnTo>
                    <a:pt x="3975" y="6591"/>
                  </a:lnTo>
                  <a:lnTo>
                    <a:pt x="4107" y="6185"/>
                  </a:lnTo>
                  <a:lnTo>
                    <a:pt x="4240" y="5881"/>
                  </a:lnTo>
                  <a:lnTo>
                    <a:pt x="4372" y="5577"/>
                  </a:lnTo>
                  <a:lnTo>
                    <a:pt x="4505" y="5374"/>
                  </a:lnTo>
                  <a:lnTo>
                    <a:pt x="4770" y="5070"/>
                  </a:lnTo>
                  <a:lnTo>
                    <a:pt x="5035" y="4765"/>
                  </a:lnTo>
                  <a:lnTo>
                    <a:pt x="5167" y="4563"/>
                  </a:lnTo>
                  <a:lnTo>
                    <a:pt x="5432" y="4258"/>
                  </a:lnTo>
                  <a:lnTo>
                    <a:pt x="5565" y="3954"/>
                  </a:lnTo>
                  <a:lnTo>
                    <a:pt x="5830" y="3752"/>
                  </a:lnTo>
                  <a:lnTo>
                    <a:pt x="5962" y="3650"/>
                  </a:lnTo>
                  <a:lnTo>
                    <a:pt x="6360" y="3447"/>
                  </a:lnTo>
                  <a:lnTo>
                    <a:pt x="6493" y="3244"/>
                  </a:lnTo>
                  <a:lnTo>
                    <a:pt x="6758" y="3143"/>
                  </a:lnTo>
                  <a:lnTo>
                    <a:pt x="7155" y="2940"/>
                  </a:lnTo>
                  <a:lnTo>
                    <a:pt x="7420" y="2839"/>
                  </a:lnTo>
                  <a:lnTo>
                    <a:pt x="7420" y="2839"/>
                  </a:lnTo>
                  <a:lnTo>
                    <a:pt x="7420" y="2839"/>
                  </a:lnTo>
                  <a:lnTo>
                    <a:pt x="7420" y="2839"/>
                  </a:lnTo>
                  <a:lnTo>
                    <a:pt x="7288" y="2839"/>
                  </a:lnTo>
                  <a:lnTo>
                    <a:pt x="7023" y="2839"/>
                  </a:lnTo>
                  <a:lnTo>
                    <a:pt x="6758" y="2940"/>
                  </a:lnTo>
                  <a:lnTo>
                    <a:pt x="6493" y="2940"/>
                  </a:lnTo>
                  <a:lnTo>
                    <a:pt x="6095" y="3042"/>
                  </a:lnTo>
                  <a:lnTo>
                    <a:pt x="5830" y="3042"/>
                  </a:lnTo>
                  <a:lnTo>
                    <a:pt x="5565" y="3244"/>
                  </a:lnTo>
                  <a:lnTo>
                    <a:pt x="5167" y="3244"/>
                  </a:lnTo>
                  <a:lnTo>
                    <a:pt x="4902" y="3346"/>
                  </a:lnTo>
                  <a:lnTo>
                    <a:pt x="4505" y="3346"/>
                  </a:lnTo>
                  <a:lnTo>
                    <a:pt x="4240" y="3549"/>
                  </a:lnTo>
                  <a:lnTo>
                    <a:pt x="3975" y="3447"/>
                  </a:lnTo>
                  <a:lnTo>
                    <a:pt x="3842" y="3549"/>
                  </a:lnTo>
                  <a:lnTo>
                    <a:pt x="3577" y="3650"/>
                  </a:lnTo>
                  <a:lnTo>
                    <a:pt x="3312" y="3853"/>
                  </a:lnTo>
                  <a:lnTo>
                    <a:pt x="3180" y="3954"/>
                  </a:lnTo>
                  <a:lnTo>
                    <a:pt x="3047" y="4157"/>
                  </a:lnTo>
                  <a:lnTo>
                    <a:pt x="2650" y="4461"/>
                  </a:lnTo>
                  <a:lnTo>
                    <a:pt x="2385" y="4664"/>
                  </a:lnTo>
                  <a:lnTo>
                    <a:pt x="2252" y="4968"/>
                  </a:lnTo>
                  <a:lnTo>
                    <a:pt x="1987" y="5171"/>
                  </a:lnTo>
                  <a:lnTo>
                    <a:pt x="1854" y="5475"/>
                  </a:lnTo>
                  <a:lnTo>
                    <a:pt x="1589" y="5780"/>
                  </a:lnTo>
                  <a:lnTo>
                    <a:pt x="1324" y="6185"/>
                  </a:lnTo>
                  <a:lnTo>
                    <a:pt x="1192" y="6591"/>
                  </a:lnTo>
                  <a:lnTo>
                    <a:pt x="1059" y="6996"/>
                  </a:lnTo>
                  <a:lnTo>
                    <a:pt x="927" y="7301"/>
                  </a:lnTo>
                  <a:lnTo>
                    <a:pt x="794" y="7808"/>
                  </a:lnTo>
                  <a:lnTo>
                    <a:pt x="662" y="8214"/>
                  </a:lnTo>
                  <a:lnTo>
                    <a:pt x="529" y="8619"/>
                  </a:lnTo>
                  <a:lnTo>
                    <a:pt x="397" y="9025"/>
                  </a:lnTo>
                  <a:lnTo>
                    <a:pt x="264" y="9532"/>
                  </a:lnTo>
                  <a:lnTo>
                    <a:pt x="132" y="10039"/>
                  </a:lnTo>
                  <a:lnTo>
                    <a:pt x="132" y="10343"/>
                  </a:lnTo>
                  <a:lnTo>
                    <a:pt x="0" y="10850"/>
                  </a:lnTo>
                  <a:lnTo>
                    <a:pt x="0" y="11256"/>
                  </a:lnTo>
                  <a:lnTo>
                    <a:pt x="0" y="11661"/>
                  </a:lnTo>
                  <a:lnTo>
                    <a:pt x="0" y="12168"/>
                  </a:lnTo>
                  <a:lnTo>
                    <a:pt x="0" y="12676"/>
                  </a:lnTo>
                  <a:lnTo>
                    <a:pt x="0" y="13182"/>
                  </a:lnTo>
                  <a:lnTo>
                    <a:pt x="264" y="13588"/>
                  </a:lnTo>
                  <a:lnTo>
                    <a:pt x="264" y="14095"/>
                  </a:lnTo>
                  <a:lnTo>
                    <a:pt x="397" y="14501"/>
                  </a:lnTo>
                  <a:lnTo>
                    <a:pt x="397" y="15008"/>
                  </a:lnTo>
                  <a:lnTo>
                    <a:pt x="529" y="15413"/>
                  </a:lnTo>
                  <a:lnTo>
                    <a:pt x="927" y="16326"/>
                  </a:lnTo>
                  <a:lnTo>
                    <a:pt x="1192" y="17138"/>
                  </a:lnTo>
                  <a:lnTo>
                    <a:pt x="1722" y="17949"/>
                  </a:lnTo>
                  <a:lnTo>
                    <a:pt x="2119" y="18659"/>
                  </a:lnTo>
                  <a:lnTo>
                    <a:pt x="2385" y="19165"/>
                  </a:lnTo>
                  <a:lnTo>
                    <a:pt x="2915" y="19673"/>
                  </a:lnTo>
                  <a:lnTo>
                    <a:pt x="3312" y="20180"/>
                  </a:lnTo>
                  <a:lnTo>
                    <a:pt x="3842" y="20585"/>
                  </a:lnTo>
                  <a:lnTo>
                    <a:pt x="4240" y="20890"/>
                  </a:lnTo>
                  <a:lnTo>
                    <a:pt x="4902" y="21194"/>
                  </a:lnTo>
                  <a:lnTo>
                    <a:pt x="5300" y="21295"/>
                  </a:lnTo>
                  <a:lnTo>
                    <a:pt x="5697" y="21498"/>
                  </a:lnTo>
                  <a:lnTo>
                    <a:pt x="6227" y="21498"/>
                  </a:lnTo>
                  <a:lnTo>
                    <a:pt x="6758" y="21600"/>
                  </a:lnTo>
                  <a:lnTo>
                    <a:pt x="7288" y="21600"/>
                  </a:lnTo>
                  <a:lnTo>
                    <a:pt x="7685" y="21396"/>
                  </a:lnTo>
                  <a:lnTo>
                    <a:pt x="8215" y="21295"/>
                  </a:lnTo>
                  <a:lnTo>
                    <a:pt x="8745" y="21092"/>
                  </a:lnTo>
                  <a:lnTo>
                    <a:pt x="9275" y="20991"/>
                  </a:lnTo>
                  <a:lnTo>
                    <a:pt x="9673" y="20585"/>
                  </a:lnTo>
                  <a:lnTo>
                    <a:pt x="9805" y="20484"/>
                  </a:lnTo>
                  <a:lnTo>
                    <a:pt x="10335" y="20078"/>
                  </a:lnTo>
                  <a:lnTo>
                    <a:pt x="10733" y="19673"/>
                  </a:lnTo>
                  <a:lnTo>
                    <a:pt x="11263" y="19267"/>
                  </a:lnTo>
                  <a:lnTo>
                    <a:pt x="11528" y="18963"/>
                  </a:lnTo>
                  <a:lnTo>
                    <a:pt x="11793" y="18456"/>
                  </a:lnTo>
                  <a:lnTo>
                    <a:pt x="12191" y="18050"/>
                  </a:lnTo>
                  <a:lnTo>
                    <a:pt x="12588" y="17543"/>
                  </a:lnTo>
                  <a:lnTo>
                    <a:pt x="12721" y="17138"/>
                  </a:lnTo>
                  <a:lnTo>
                    <a:pt x="12986" y="16630"/>
                  </a:lnTo>
                  <a:lnTo>
                    <a:pt x="13118" y="16123"/>
                  </a:lnTo>
                  <a:lnTo>
                    <a:pt x="13251" y="15616"/>
                  </a:lnTo>
                  <a:lnTo>
                    <a:pt x="13251" y="15413"/>
                  </a:lnTo>
                  <a:lnTo>
                    <a:pt x="13251" y="15211"/>
                  </a:lnTo>
                  <a:lnTo>
                    <a:pt x="13383" y="15008"/>
                  </a:lnTo>
                  <a:lnTo>
                    <a:pt x="13383" y="14805"/>
                  </a:lnTo>
                  <a:lnTo>
                    <a:pt x="13516" y="14602"/>
                  </a:lnTo>
                  <a:lnTo>
                    <a:pt x="13516" y="14298"/>
                  </a:lnTo>
                  <a:lnTo>
                    <a:pt x="13648" y="14095"/>
                  </a:lnTo>
                  <a:lnTo>
                    <a:pt x="13648" y="13892"/>
                  </a:lnTo>
                  <a:lnTo>
                    <a:pt x="13781" y="13689"/>
                  </a:lnTo>
                  <a:lnTo>
                    <a:pt x="13781" y="13487"/>
                  </a:lnTo>
                  <a:lnTo>
                    <a:pt x="13648" y="13284"/>
                  </a:lnTo>
                  <a:lnTo>
                    <a:pt x="13781" y="12980"/>
                  </a:lnTo>
                  <a:lnTo>
                    <a:pt x="13781" y="12777"/>
                  </a:lnTo>
                  <a:lnTo>
                    <a:pt x="13781" y="12472"/>
                  </a:lnTo>
                  <a:lnTo>
                    <a:pt x="13913" y="12270"/>
                  </a:lnTo>
                  <a:lnTo>
                    <a:pt x="13781" y="12168"/>
                  </a:lnTo>
                  <a:lnTo>
                    <a:pt x="13781" y="11864"/>
                  </a:lnTo>
                  <a:lnTo>
                    <a:pt x="13781" y="11661"/>
                  </a:lnTo>
                  <a:lnTo>
                    <a:pt x="13781" y="11357"/>
                  </a:lnTo>
                  <a:lnTo>
                    <a:pt x="13781" y="11154"/>
                  </a:lnTo>
                  <a:lnTo>
                    <a:pt x="13781" y="10850"/>
                  </a:lnTo>
                  <a:lnTo>
                    <a:pt x="13648" y="10546"/>
                  </a:lnTo>
                  <a:lnTo>
                    <a:pt x="13781" y="10242"/>
                  </a:lnTo>
                  <a:lnTo>
                    <a:pt x="13648" y="10140"/>
                  </a:lnTo>
                  <a:lnTo>
                    <a:pt x="13516" y="9937"/>
                  </a:lnTo>
                  <a:lnTo>
                    <a:pt x="13516" y="9735"/>
                  </a:lnTo>
                  <a:lnTo>
                    <a:pt x="13516" y="9430"/>
                  </a:lnTo>
                  <a:lnTo>
                    <a:pt x="13383" y="9126"/>
                  </a:lnTo>
                  <a:lnTo>
                    <a:pt x="13383" y="8923"/>
                  </a:lnTo>
                  <a:lnTo>
                    <a:pt x="13251" y="8518"/>
                  </a:lnTo>
                  <a:lnTo>
                    <a:pt x="13251" y="8416"/>
                  </a:lnTo>
                  <a:lnTo>
                    <a:pt x="13118" y="8112"/>
                  </a:lnTo>
                  <a:lnTo>
                    <a:pt x="13118" y="8011"/>
                  </a:lnTo>
                  <a:lnTo>
                    <a:pt x="13251" y="7808"/>
                  </a:lnTo>
                  <a:lnTo>
                    <a:pt x="13251" y="7605"/>
                  </a:lnTo>
                  <a:lnTo>
                    <a:pt x="13251" y="7301"/>
                  </a:lnTo>
                  <a:lnTo>
                    <a:pt x="13251" y="7098"/>
                  </a:lnTo>
                  <a:lnTo>
                    <a:pt x="13383" y="6794"/>
                  </a:lnTo>
                  <a:lnTo>
                    <a:pt x="13383" y="6692"/>
                  </a:lnTo>
                  <a:lnTo>
                    <a:pt x="13648" y="6388"/>
                  </a:lnTo>
                  <a:lnTo>
                    <a:pt x="13648" y="6084"/>
                  </a:lnTo>
                  <a:lnTo>
                    <a:pt x="13781" y="5881"/>
                  </a:lnTo>
                  <a:lnTo>
                    <a:pt x="13781" y="5678"/>
                  </a:lnTo>
                  <a:lnTo>
                    <a:pt x="13913" y="5475"/>
                  </a:lnTo>
                  <a:lnTo>
                    <a:pt x="14046" y="5171"/>
                  </a:lnTo>
                  <a:lnTo>
                    <a:pt x="14178" y="5070"/>
                  </a:lnTo>
                  <a:lnTo>
                    <a:pt x="14311" y="4968"/>
                  </a:lnTo>
                  <a:lnTo>
                    <a:pt x="14443" y="4765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未知"/>
          <p:cNvSpPr/>
          <p:nvPr/>
        </p:nvSpPr>
        <p:spPr>
          <a:xfrm>
            <a:off x="2130480" y="4749840"/>
            <a:ext cx="7013520" cy="2135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403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403"/>
                </a:lnTo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2DF5-C422-4305-9F89-4AD37B11160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77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5262480" y="4076640"/>
            <a:ext cx="1396440" cy="1748880"/>
            <a:chOff x="5262480" y="4076640"/>
            <a:chExt cx="1396440" cy="1748880"/>
          </a:xfrm>
        </p:grpSpPr>
        <p:sp>
          <p:nvSpPr>
            <p:cNvPr id="53" name="未知"/>
            <p:cNvSpPr/>
            <p:nvPr/>
          </p:nvSpPr>
          <p:spPr>
            <a:xfrm>
              <a:off x="6203520" y="4752720"/>
              <a:ext cx="455400" cy="809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199" y="6295"/>
                  </a:moveTo>
                  <a:lnTo>
                    <a:pt x="7199" y="6186"/>
                  </a:lnTo>
                  <a:lnTo>
                    <a:pt x="7010" y="5861"/>
                  </a:lnTo>
                  <a:lnTo>
                    <a:pt x="7199" y="5535"/>
                  </a:lnTo>
                  <a:lnTo>
                    <a:pt x="7389" y="5209"/>
                  </a:lnTo>
                  <a:lnTo>
                    <a:pt x="7389" y="4775"/>
                  </a:lnTo>
                  <a:lnTo>
                    <a:pt x="7768" y="4450"/>
                  </a:lnTo>
                  <a:lnTo>
                    <a:pt x="7957" y="4341"/>
                  </a:lnTo>
                  <a:lnTo>
                    <a:pt x="8336" y="4016"/>
                  </a:lnTo>
                  <a:lnTo>
                    <a:pt x="8715" y="3581"/>
                  </a:lnTo>
                  <a:lnTo>
                    <a:pt x="8905" y="3256"/>
                  </a:lnTo>
                  <a:lnTo>
                    <a:pt x="9283" y="3039"/>
                  </a:lnTo>
                  <a:lnTo>
                    <a:pt x="9473" y="2821"/>
                  </a:lnTo>
                  <a:lnTo>
                    <a:pt x="9852" y="2713"/>
                  </a:lnTo>
                  <a:lnTo>
                    <a:pt x="10041" y="2604"/>
                  </a:lnTo>
                  <a:lnTo>
                    <a:pt x="10231" y="2387"/>
                  </a:lnTo>
                  <a:lnTo>
                    <a:pt x="10420" y="2279"/>
                  </a:lnTo>
                  <a:lnTo>
                    <a:pt x="10420" y="2170"/>
                  </a:lnTo>
                  <a:lnTo>
                    <a:pt x="10610" y="2062"/>
                  </a:lnTo>
                  <a:lnTo>
                    <a:pt x="10800" y="1953"/>
                  </a:lnTo>
                  <a:lnTo>
                    <a:pt x="10989" y="1953"/>
                  </a:lnTo>
                  <a:lnTo>
                    <a:pt x="11368" y="1845"/>
                  </a:lnTo>
                  <a:lnTo>
                    <a:pt x="11557" y="1736"/>
                  </a:lnTo>
                  <a:lnTo>
                    <a:pt x="11747" y="1627"/>
                  </a:lnTo>
                  <a:lnTo>
                    <a:pt x="11936" y="1627"/>
                  </a:lnTo>
                  <a:lnTo>
                    <a:pt x="12126" y="1410"/>
                  </a:lnTo>
                  <a:lnTo>
                    <a:pt x="12315" y="1410"/>
                  </a:lnTo>
                  <a:lnTo>
                    <a:pt x="12694" y="1302"/>
                  </a:lnTo>
                  <a:lnTo>
                    <a:pt x="12883" y="1302"/>
                  </a:lnTo>
                  <a:lnTo>
                    <a:pt x="12883" y="1302"/>
                  </a:lnTo>
                  <a:lnTo>
                    <a:pt x="12883" y="1302"/>
                  </a:lnTo>
                  <a:lnTo>
                    <a:pt x="12883" y="1302"/>
                  </a:lnTo>
                  <a:lnTo>
                    <a:pt x="12883" y="1302"/>
                  </a:lnTo>
                  <a:lnTo>
                    <a:pt x="12315" y="1302"/>
                  </a:lnTo>
                  <a:lnTo>
                    <a:pt x="11747" y="1410"/>
                  </a:lnTo>
                  <a:lnTo>
                    <a:pt x="11178" y="1519"/>
                  </a:lnTo>
                  <a:lnTo>
                    <a:pt x="10800" y="1627"/>
                  </a:lnTo>
                  <a:lnTo>
                    <a:pt x="10610" y="1736"/>
                  </a:lnTo>
                  <a:lnTo>
                    <a:pt x="10041" y="1953"/>
                  </a:lnTo>
                  <a:lnTo>
                    <a:pt x="9662" y="2062"/>
                  </a:lnTo>
                  <a:lnTo>
                    <a:pt x="9283" y="2279"/>
                  </a:lnTo>
                  <a:lnTo>
                    <a:pt x="8905" y="2387"/>
                  </a:lnTo>
                  <a:lnTo>
                    <a:pt x="8526" y="2604"/>
                  </a:lnTo>
                  <a:lnTo>
                    <a:pt x="8147" y="2604"/>
                  </a:lnTo>
                  <a:lnTo>
                    <a:pt x="7578" y="2821"/>
                  </a:lnTo>
                  <a:lnTo>
                    <a:pt x="7199" y="2930"/>
                  </a:lnTo>
                  <a:lnTo>
                    <a:pt x="6631" y="3256"/>
                  </a:lnTo>
                  <a:lnTo>
                    <a:pt x="6252" y="3364"/>
                  </a:lnTo>
                  <a:lnTo>
                    <a:pt x="5494" y="3690"/>
                  </a:lnTo>
                  <a:lnTo>
                    <a:pt x="5305" y="3690"/>
                  </a:lnTo>
                  <a:lnTo>
                    <a:pt x="5115" y="3581"/>
                  </a:lnTo>
                  <a:lnTo>
                    <a:pt x="4926" y="3581"/>
                  </a:lnTo>
                  <a:lnTo>
                    <a:pt x="4547" y="3581"/>
                  </a:lnTo>
                  <a:lnTo>
                    <a:pt x="4547" y="3473"/>
                  </a:lnTo>
                  <a:lnTo>
                    <a:pt x="4168" y="3256"/>
                  </a:lnTo>
                  <a:lnTo>
                    <a:pt x="3789" y="3039"/>
                  </a:lnTo>
                  <a:lnTo>
                    <a:pt x="3789" y="2930"/>
                  </a:lnTo>
                  <a:lnTo>
                    <a:pt x="3410" y="2604"/>
                  </a:lnTo>
                  <a:lnTo>
                    <a:pt x="3220" y="2387"/>
                  </a:lnTo>
                  <a:lnTo>
                    <a:pt x="2842" y="2170"/>
                  </a:lnTo>
                  <a:lnTo>
                    <a:pt x="2463" y="1953"/>
                  </a:lnTo>
                  <a:lnTo>
                    <a:pt x="2273" y="1845"/>
                  </a:lnTo>
                  <a:lnTo>
                    <a:pt x="1894" y="1519"/>
                  </a:lnTo>
                  <a:lnTo>
                    <a:pt x="1515" y="1302"/>
                  </a:lnTo>
                  <a:lnTo>
                    <a:pt x="1515" y="1085"/>
                  </a:lnTo>
                  <a:lnTo>
                    <a:pt x="1326" y="868"/>
                  </a:lnTo>
                  <a:lnTo>
                    <a:pt x="1136" y="650"/>
                  </a:lnTo>
                  <a:lnTo>
                    <a:pt x="947" y="434"/>
                  </a:lnTo>
                  <a:lnTo>
                    <a:pt x="568" y="325"/>
                  </a:lnTo>
                  <a:lnTo>
                    <a:pt x="378" y="216"/>
                  </a:lnTo>
                  <a:lnTo>
                    <a:pt x="378" y="0"/>
                  </a:lnTo>
                  <a:lnTo>
                    <a:pt x="189" y="0"/>
                  </a:lnTo>
                  <a:lnTo>
                    <a:pt x="189" y="0"/>
                  </a:lnTo>
                  <a:lnTo>
                    <a:pt x="189" y="0"/>
                  </a:lnTo>
                  <a:lnTo>
                    <a:pt x="189" y="108"/>
                  </a:lnTo>
                  <a:lnTo>
                    <a:pt x="0" y="216"/>
                  </a:lnTo>
                  <a:lnTo>
                    <a:pt x="189" y="325"/>
                  </a:lnTo>
                  <a:lnTo>
                    <a:pt x="189" y="542"/>
                  </a:lnTo>
                  <a:lnTo>
                    <a:pt x="378" y="976"/>
                  </a:lnTo>
                  <a:lnTo>
                    <a:pt x="378" y="1302"/>
                  </a:lnTo>
                  <a:lnTo>
                    <a:pt x="757" y="1627"/>
                  </a:lnTo>
                  <a:lnTo>
                    <a:pt x="947" y="1845"/>
                  </a:lnTo>
                  <a:lnTo>
                    <a:pt x="1136" y="2062"/>
                  </a:lnTo>
                  <a:lnTo>
                    <a:pt x="1326" y="2279"/>
                  </a:lnTo>
                  <a:lnTo>
                    <a:pt x="1326" y="2496"/>
                  </a:lnTo>
                  <a:lnTo>
                    <a:pt x="1704" y="2713"/>
                  </a:lnTo>
                  <a:lnTo>
                    <a:pt x="1894" y="3039"/>
                  </a:lnTo>
                  <a:lnTo>
                    <a:pt x="2273" y="3256"/>
                  </a:lnTo>
                  <a:lnTo>
                    <a:pt x="2463" y="3473"/>
                  </a:lnTo>
                  <a:lnTo>
                    <a:pt x="2842" y="3798"/>
                  </a:lnTo>
                  <a:lnTo>
                    <a:pt x="3220" y="3907"/>
                  </a:lnTo>
                  <a:lnTo>
                    <a:pt x="3410" y="4232"/>
                  </a:lnTo>
                  <a:lnTo>
                    <a:pt x="3599" y="4341"/>
                  </a:lnTo>
                  <a:lnTo>
                    <a:pt x="3599" y="4558"/>
                  </a:lnTo>
                  <a:lnTo>
                    <a:pt x="3789" y="4775"/>
                  </a:lnTo>
                  <a:lnTo>
                    <a:pt x="3978" y="4992"/>
                  </a:lnTo>
                  <a:lnTo>
                    <a:pt x="3978" y="5209"/>
                  </a:lnTo>
                  <a:lnTo>
                    <a:pt x="3978" y="5535"/>
                  </a:lnTo>
                  <a:lnTo>
                    <a:pt x="3978" y="5861"/>
                  </a:lnTo>
                  <a:lnTo>
                    <a:pt x="3789" y="6295"/>
                  </a:lnTo>
                  <a:lnTo>
                    <a:pt x="3599" y="6729"/>
                  </a:lnTo>
                  <a:lnTo>
                    <a:pt x="3599" y="7163"/>
                  </a:lnTo>
                  <a:lnTo>
                    <a:pt x="3599" y="7597"/>
                  </a:lnTo>
                  <a:lnTo>
                    <a:pt x="3410" y="7923"/>
                  </a:lnTo>
                  <a:lnTo>
                    <a:pt x="3410" y="8466"/>
                  </a:lnTo>
                  <a:lnTo>
                    <a:pt x="3220" y="8900"/>
                  </a:lnTo>
                  <a:lnTo>
                    <a:pt x="3031" y="9443"/>
                  </a:lnTo>
                  <a:lnTo>
                    <a:pt x="3031" y="9768"/>
                  </a:lnTo>
                  <a:lnTo>
                    <a:pt x="2842" y="10311"/>
                  </a:lnTo>
                  <a:lnTo>
                    <a:pt x="2842" y="10854"/>
                  </a:lnTo>
                  <a:lnTo>
                    <a:pt x="2652" y="11288"/>
                  </a:lnTo>
                  <a:lnTo>
                    <a:pt x="2652" y="11722"/>
                  </a:lnTo>
                  <a:lnTo>
                    <a:pt x="2652" y="12156"/>
                  </a:lnTo>
                  <a:lnTo>
                    <a:pt x="2652" y="12807"/>
                  </a:lnTo>
                  <a:lnTo>
                    <a:pt x="2842" y="13241"/>
                  </a:lnTo>
                  <a:lnTo>
                    <a:pt x="2652" y="13784"/>
                  </a:lnTo>
                  <a:lnTo>
                    <a:pt x="2842" y="14218"/>
                  </a:lnTo>
                  <a:lnTo>
                    <a:pt x="2842" y="14761"/>
                  </a:lnTo>
                  <a:lnTo>
                    <a:pt x="2842" y="15087"/>
                  </a:lnTo>
                  <a:lnTo>
                    <a:pt x="3031" y="15630"/>
                  </a:lnTo>
                  <a:lnTo>
                    <a:pt x="3220" y="16172"/>
                  </a:lnTo>
                  <a:lnTo>
                    <a:pt x="3410" y="16715"/>
                  </a:lnTo>
                  <a:lnTo>
                    <a:pt x="3599" y="17149"/>
                  </a:lnTo>
                  <a:lnTo>
                    <a:pt x="3978" y="17583"/>
                  </a:lnTo>
                  <a:lnTo>
                    <a:pt x="4357" y="18018"/>
                  </a:lnTo>
                  <a:lnTo>
                    <a:pt x="4736" y="18452"/>
                  </a:lnTo>
                  <a:lnTo>
                    <a:pt x="5305" y="18994"/>
                  </a:lnTo>
                  <a:lnTo>
                    <a:pt x="5684" y="19320"/>
                  </a:lnTo>
                  <a:lnTo>
                    <a:pt x="6441" y="19646"/>
                  </a:lnTo>
                  <a:lnTo>
                    <a:pt x="7010" y="20080"/>
                  </a:lnTo>
                  <a:lnTo>
                    <a:pt x="7389" y="20297"/>
                  </a:lnTo>
                  <a:lnTo>
                    <a:pt x="8147" y="20623"/>
                  </a:lnTo>
                  <a:lnTo>
                    <a:pt x="8526" y="20948"/>
                  </a:lnTo>
                  <a:lnTo>
                    <a:pt x="9283" y="21057"/>
                  </a:lnTo>
                  <a:lnTo>
                    <a:pt x="9662" y="21274"/>
                  </a:lnTo>
                  <a:lnTo>
                    <a:pt x="10231" y="21491"/>
                  </a:lnTo>
                  <a:lnTo>
                    <a:pt x="10800" y="21491"/>
                  </a:lnTo>
                  <a:lnTo>
                    <a:pt x="11368" y="21491"/>
                  </a:lnTo>
                  <a:lnTo>
                    <a:pt x="12126" y="21600"/>
                  </a:lnTo>
                  <a:lnTo>
                    <a:pt x="12504" y="21491"/>
                  </a:lnTo>
                  <a:lnTo>
                    <a:pt x="12883" y="21491"/>
                  </a:lnTo>
                  <a:lnTo>
                    <a:pt x="13452" y="21382"/>
                  </a:lnTo>
                  <a:lnTo>
                    <a:pt x="14020" y="21274"/>
                  </a:lnTo>
                  <a:lnTo>
                    <a:pt x="14589" y="21057"/>
                  </a:lnTo>
                  <a:lnTo>
                    <a:pt x="15157" y="20948"/>
                  </a:lnTo>
                  <a:lnTo>
                    <a:pt x="15726" y="20839"/>
                  </a:lnTo>
                  <a:lnTo>
                    <a:pt x="16105" y="20623"/>
                  </a:lnTo>
                  <a:lnTo>
                    <a:pt x="16294" y="20405"/>
                  </a:lnTo>
                  <a:lnTo>
                    <a:pt x="16863" y="20188"/>
                  </a:lnTo>
                  <a:lnTo>
                    <a:pt x="17431" y="19754"/>
                  </a:lnTo>
                  <a:lnTo>
                    <a:pt x="17620" y="19537"/>
                  </a:lnTo>
                  <a:lnTo>
                    <a:pt x="18189" y="19211"/>
                  </a:lnTo>
                  <a:lnTo>
                    <a:pt x="18378" y="18886"/>
                  </a:lnTo>
                  <a:lnTo>
                    <a:pt x="18947" y="18560"/>
                  </a:lnTo>
                  <a:lnTo>
                    <a:pt x="19326" y="18126"/>
                  </a:lnTo>
                  <a:lnTo>
                    <a:pt x="19515" y="17692"/>
                  </a:lnTo>
                  <a:lnTo>
                    <a:pt x="19894" y="17257"/>
                  </a:lnTo>
                  <a:lnTo>
                    <a:pt x="20083" y="17041"/>
                  </a:lnTo>
                  <a:lnTo>
                    <a:pt x="20273" y="16606"/>
                  </a:lnTo>
                  <a:lnTo>
                    <a:pt x="20462" y="16064"/>
                  </a:lnTo>
                  <a:lnTo>
                    <a:pt x="20841" y="15630"/>
                  </a:lnTo>
                  <a:lnTo>
                    <a:pt x="20841" y="15412"/>
                  </a:lnTo>
                  <a:lnTo>
                    <a:pt x="20841" y="15195"/>
                  </a:lnTo>
                  <a:lnTo>
                    <a:pt x="20841" y="14978"/>
                  </a:lnTo>
                  <a:lnTo>
                    <a:pt x="21031" y="14653"/>
                  </a:lnTo>
                  <a:lnTo>
                    <a:pt x="21031" y="14436"/>
                  </a:lnTo>
                  <a:lnTo>
                    <a:pt x="21220" y="14218"/>
                  </a:lnTo>
                  <a:lnTo>
                    <a:pt x="21220" y="13893"/>
                  </a:lnTo>
                  <a:lnTo>
                    <a:pt x="21410" y="13676"/>
                  </a:lnTo>
                  <a:lnTo>
                    <a:pt x="21220" y="13459"/>
                  </a:lnTo>
                  <a:lnTo>
                    <a:pt x="21410" y="13241"/>
                  </a:lnTo>
                  <a:lnTo>
                    <a:pt x="21410" y="12916"/>
                  </a:lnTo>
                  <a:lnTo>
                    <a:pt x="21410" y="12590"/>
                  </a:lnTo>
                  <a:lnTo>
                    <a:pt x="21410" y="12373"/>
                  </a:lnTo>
                  <a:lnTo>
                    <a:pt x="21600" y="12048"/>
                  </a:lnTo>
                  <a:lnTo>
                    <a:pt x="21600" y="11722"/>
                  </a:lnTo>
                  <a:lnTo>
                    <a:pt x="21600" y="11613"/>
                  </a:lnTo>
                  <a:lnTo>
                    <a:pt x="21410" y="11288"/>
                  </a:lnTo>
                  <a:lnTo>
                    <a:pt x="21600" y="11071"/>
                  </a:lnTo>
                  <a:lnTo>
                    <a:pt x="21410" y="10854"/>
                  </a:lnTo>
                  <a:lnTo>
                    <a:pt x="21410" y="10528"/>
                  </a:lnTo>
                  <a:lnTo>
                    <a:pt x="21600" y="10202"/>
                  </a:lnTo>
                  <a:lnTo>
                    <a:pt x="21410" y="9985"/>
                  </a:lnTo>
                  <a:lnTo>
                    <a:pt x="21410" y="9768"/>
                  </a:lnTo>
                  <a:lnTo>
                    <a:pt x="21220" y="9334"/>
                  </a:lnTo>
                  <a:lnTo>
                    <a:pt x="21220" y="9009"/>
                  </a:lnTo>
                  <a:lnTo>
                    <a:pt x="21031" y="8791"/>
                  </a:lnTo>
                  <a:lnTo>
                    <a:pt x="21031" y="8466"/>
                  </a:lnTo>
                  <a:lnTo>
                    <a:pt x="21031" y="8140"/>
                  </a:lnTo>
                  <a:lnTo>
                    <a:pt x="20841" y="7923"/>
                  </a:lnTo>
                  <a:lnTo>
                    <a:pt x="20841" y="7706"/>
                  </a:lnTo>
                  <a:lnTo>
                    <a:pt x="20652" y="7272"/>
                  </a:lnTo>
                  <a:lnTo>
                    <a:pt x="20652" y="6946"/>
                  </a:lnTo>
                  <a:lnTo>
                    <a:pt x="20652" y="6946"/>
                  </a:lnTo>
                  <a:lnTo>
                    <a:pt x="20652" y="6946"/>
                  </a:lnTo>
                  <a:lnTo>
                    <a:pt x="20652" y="7055"/>
                  </a:lnTo>
                  <a:lnTo>
                    <a:pt x="20462" y="7163"/>
                  </a:lnTo>
                  <a:lnTo>
                    <a:pt x="20652" y="7380"/>
                  </a:lnTo>
                  <a:lnTo>
                    <a:pt x="20652" y="7597"/>
                  </a:lnTo>
                  <a:lnTo>
                    <a:pt x="20652" y="7814"/>
                  </a:lnTo>
                  <a:lnTo>
                    <a:pt x="20841" y="8140"/>
                  </a:lnTo>
                  <a:lnTo>
                    <a:pt x="20652" y="8466"/>
                  </a:lnTo>
                  <a:lnTo>
                    <a:pt x="20841" y="8683"/>
                  </a:lnTo>
                  <a:lnTo>
                    <a:pt x="20841" y="9009"/>
                  </a:lnTo>
                  <a:lnTo>
                    <a:pt x="20841" y="9334"/>
                  </a:lnTo>
                  <a:lnTo>
                    <a:pt x="21031" y="9660"/>
                  </a:lnTo>
                  <a:lnTo>
                    <a:pt x="21031" y="9877"/>
                  </a:lnTo>
                  <a:lnTo>
                    <a:pt x="21220" y="10094"/>
                  </a:lnTo>
                  <a:lnTo>
                    <a:pt x="21031" y="10311"/>
                  </a:lnTo>
                  <a:lnTo>
                    <a:pt x="21220" y="10962"/>
                  </a:lnTo>
                  <a:lnTo>
                    <a:pt x="21220" y="11396"/>
                  </a:lnTo>
                  <a:lnTo>
                    <a:pt x="21031" y="11939"/>
                  </a:lnTo>
                  <a:lnTo>
                    <a:pt x="21031" y="12482"/>
                  </a:lnTo>
                  <a:lnTo>
                    <a:pt x="20841" y="13133"/>
                  </a:lnTo>
                  <a:lnTo>
                    <a:pt x="20841" y="13676"/>
                  </a:lnTo>
                  <a:lnTo>
                    <a:pt x="20462" y="14218"/>
                  </a:lnTo>
                  <a:lnTo>
                    <a:pt x="20273" y="14761"/>
                  </a:lnTo>
                  <a:lnTo>
                    <a:pt x="19894" y="15304"/>
                  </a:lnTo>
                  <a:lnTo>
                    <a:pt x="19515" y="15955"/>
                  </a:lnTo>
                  <a:lnTo>
                    <a:pt x="19136" y="16498"/>
                  </a:lnTo>
                  <a:lnTo>
                    <a:pt x="18757" y="16932"/>
                  </a:lnTo>
                  <a:lnTo>
                    <a:pt x="18189" y="17366"/>
                  </a:lnTo>
                  <a:lnTo>
                    <a:pt x="17810" y="17800"/>
                  </a:lnTo>
                  <a:lnTo>
                    <a:pt x="17241" y="18343"/>
                  </a:lnTo>
                  <a:lnTo>
                    <a:pt x="16863" y="18669"/>
                  </a:lnTo>
                  <a:lnTo>
                    <a:pt x="16484" y="18994"/>
                  </a:lnTo>
                  <a:lnTo>
                    <a:pt x="15915" y="19320"/>
                  </a:lnTo>
                  <a:lnTo>
                    <a:pt x="15347" y="19646"/>
                  </a:lnTo>
                  <a:lnTo>
                    <a:pt x="14589" y="19754"/>
                  </a:lnTo>
                  <a:lnTo>
                    <a:pt x="14210" y="20080"/>
                  </a:lnTo>
                  <a:lnTo>
                    <a:pt x="13452" y="20188"/>
                  </a:lnTo>
                  <a:lnTo>
                    <a:pt x="12883" y="20188"/>
                  </a:lnTo>
                  <a:lnTo>
                    <a:pt x="12315" y="20188"/>
                  </a:lnTo>
                  <a:lnTo>
                    <a:pt x="11747" y="20080"/>
                  </a:lnTo>
                  <a:lnTo>
                    <a:pt x="10989" y="19971"/>
                  </a:lnTo>
                  <a:lnTo>
                    <a:pt x="10420" y="19863"/>
                  </a:lnTo>
                  <a:lnTo>
                    <a:pt x="9852" y="19537"/>
                  </a:lnTo>
                  <a:lnTo>
                    <a:pt x="9283" y="19211"/>
                  </a:lnTo>
                  <a:lnTo>
                    <a:pt x="8905" y="18669"/>
                  </a:lnTo>
                  <a:lnTo>
                    <a:pt x="8336" y="18234"/>
                  </a:lnTo>
                  <a:lnTo>
                    <a:pt x="7768" y="17692"/>
                  </a:lnTo>
                  <a:lnTo>
                    <a:pt x="7578" y="17583"/>
                  </a:lnTo>
                  <a:lnTo>
                    <a:pt x="7389" y="17475"/>
                  </a:lnTo>
                  <a:lnTo>
                    <a:pt x="7199" y="17149"/>
                  </a:lnTo>
                  <a:lnTo>
                    <a:pt x="7199" y="16932"/>
                  </a:lnTo>
                  <a:lnTo>
                    <a:pt x="6820" y="16715"/>
                  </a:lnTo>
                  <a:lnTo>
                    <a:pt x="7010" y="16606"/>
                  </a:lnTo>
                  <a:lnTo>
                    <a:pt x="6631" y="16389"/>
                  </a:lnTo>
                  <a:lnTo>
                    <a:pt x="6441" y="16064"/>
                  </a:lnTo>
                  <a:lnTo>
                    <a:pt x="6441" y="15847"/>
                  </a:lnTo>
                  <a:lnTo>
                    <a:pt x="6252" y="15630"/>
                  </a:lnTo>
                  <a:lnTo>
                    <a:pt x="6252" y="15412"/>
                  </a:lnTo>
                  <a:lnTo>
                    <a:pt x="6063" y="15195"/>
                  </a:lnTo>
                  <a:lnTo>
                    <a:pt x="6252" y="14978"/>
                  </a:lnTo>
                  <a:lnTo>
                    <a:pt x="6063" y="14761"/>
                  </a:lnTo>
                  <a:lnTo>
                    <a:pt x="5873" y="14436"/>
                  </a:lnTo>
                  <a:lnTo>
                    <a:pt x="6063" y="14218"/>
                  </a:lnTo>
                  <a:lnTo>
                    <a:pt x="6063" y="13893"/>
                  </a:lnTo>
                  <a:lnTo>
                    <a:pt x="5873" y="13676"/>
                  </a:lnTo>
                  <a:lnTo>
                    <a:pt x="5873" y="13567"/>
                  </a:lnTo>
                  <a:lnTo>
                    <a:pt x="5873" y="13350"/>
                  </a:lnTo>
                  <a:lnTo>
                    <a:pt x="5684" y="13025"/>
                  </a:lnTo>
                  <a:lnTo>
                    <a:pt x="5873" y="12807"/>
                  </a:lnTo>
                  <a:lnTo>
                    <a:pt x="5684" y="12590"/>
                  </a:lnTo>
                  <a:lnTo>
                    <a:pt x="5873" y="12373"/>
                  </a:lnTo>
                  <a:lnTo>
                    <a:pt x="5684" y="12156"/>
                  </a:lnTo>
                  <a:lnTo>
                    <a:pt x="5684" y="11939"/>
                  </a:lnTo>
                  <a:lnTo>
                    <a:pt x="5684" y="11722"/>
                  </a:lnTo>
                  <a:lnTo>
                    <a:pt x="5684" y="11722"/>
                  </a:lnTo>
                  <a:lnTo>
                    <a:pt x="5684" y="11505"/>
                  </a:lnTo>
                  <a:lnTo>
                    <a:pt x="5684" y="11179"/>
                  </a:lnTo>
                  <a:lnTo>
                    <a:pt x="5684" y="11071"/>
                  </a:lnTo>
                  <a:lnTo>
                    <a:pt x="5684" y="10962"/>
                  </a:lnTo>
                  <a:lnTo>
                    <a:pt x="5684" y="10962"/>
                  </a:lnTo>
                  <a:lnTo>
                    <a:pt x="5684" y="10637"/>
                  </a:lnTo>
                  <a:lnTo>
                    <a:pt x="5684" y="10419"/>
                  </a:lnTo>
                  <a:lnTo>
                    <a:pt x="5873" y="10202"/>
                  </a:lnTo>
                  <a:lnTo>
                    <a:pt x="5684" y="9877"/>
                  </a:lnTo>
                  <a:lnTo>
                    <a:pt x="5873" y="9660"/>
                  </a:lnTo>
                  <a:lnTo>
                    <a:pt x="5684" y="9443"/>
                  </a:lnTo>
                  <a:lnTo>
                    <a:pt x="5873" y="9117"/>
                  </a:lnTo>
                  <a:lnTo>
                    <a:pt x="6063" y="8791"/>
                  </a:lnTo>
                  <a:lnTo>
                    <a:pt x="5873" y="8574"/>
                  </a:lnTo>
                  <a:lnTo>
                    <a:pt x="6063" y="8248"/>
                  </a:lnTo>
                  <a:lnTo>
                    <a:pt x="6063" y="8032"/>
                  </a:lnTo>
                  <a:lnTo>
                    <a:pt x="6063" y="7923"/>
                  </a:lnTo>
                  <a:lnTo>
                    <a:pt x="6063" y="7814"/>
                  </a:lnTo>
                  <a:lnTo>
                    <a:pt x="6441" y="7706"/>
                  </a:lnTo>
                  <a:lnTo>
                    <a:pt x="6441" y="7706"/>
                  </a:lnTo>
                  <a:lnTo>
                    <a:pt x="6441" y="7706"/>
                  </a:lnTo>
                  <a:lnTo>
                    <a:pt x="6441" y="7597"/>
                  </a:lnTo>
                  <a:lnTo>
                    <a:pt x="6441" y="7597"/>
                  </a:lnTo>
                  <a:lnTo>
                    <a:pt x="6441" y="7489"/>
                  </a:lnTo>
                  <a:lnTo>
                    <a:pt x="6441" y="7489"/>
                  </a:lnTo>
                  <a:lnTo>
                    <a:pt x="6441" y="7489"/>
                  </a:lnTo>
                  <a:lnTo>
                    <a:pt x="6441" y="7380"/>
                  </a:lnTo>
                  <a:lnTo>
                    <a:pt x="6441" y="7380"/>
                  </a:lnTo>
                  <a:lnTo>
                    <a:pt x="6631" y="7597"/>
                  </a:lnTo>
                  <a:lnTo>
                    <a:pt x="7010" y="7706"/>
                  </a:lnTo>
                  <a:lnTo>
                    <a:pt x="7010" y="7923"/>
                  </a:lnTo>
                  <a:lnTo>
                    <a:pt x="7389" y="8248"/>
                  </a:lnTo>
                  <a:lnTo>
                    <a:pt x="7578" y="8357"/>
                  </a:lnTo>
                  <a:lnTo>
                    <a:pt x="7768" y="8683"/>
                  </a:lnTo>
                  <a:lnTo>
                    <a:pt x="7957" y="9009"/>
                  </a:lnTo>
                  <a:lnTo>
                    <a:pt x="7957" y="9225"/>
                  </a:lnTo>
                  <a:lnTo>
                    <a:pt x="8336" y="9443"/>
                  </a:lnTo>
                  <a:lnTo>
                    <a:pt x="8336" y="9660"/>
                  </a:lnTo>
                  <a:lnTo>
                    <a:pt x="8526" y="9877"/>
                  </a:lnTo>
                  <a:lnTo>
                    <a:pt x="8715" y="10094"/>
                  </a:lnTo>
                  <a:lnTo>
                    <a:pt x="8905" y="10094"/>
                  </a:lnTo>
                  <a:lnTo>
                    <a:pt x="9094" y="10202"/>
                  </a:lnTo>
                  <a:lnTo>
                    <a:pt x="9283" y="10094"/>
                  </a:lnTo>
                  <a:lnTo>
                    <a:pt x="9283" y="9985"/>
                  </a:lnTo>
                  <a:lnTo>
                    <a:pt x="9473" y="9877"/>
                  </a:lnTo>
                  <a:lnTo>
                    <a:pt x="9283" y="9551"/>
                  </a:lnTo>
                  <a:lnTo>
                    <a:pt x="9473" y="9334"/>
                  </a:lnTo>
                  <a:lnTo>
                    <a:pt x="9283" y="9117"/>
                  </a:lnTo>
                  <a:lnTo>
                    <a:pt x="9283" y="8900"/>
                  </a:lnTo>
                  <a:lnTo>
                    <a:pt x="9283" y="8683"/>
                  </a:lnTo>
                  <a:lnTo>
                    <a:pt x="9094" y="8466"/>
                  </a:lnTo>
                  <a:lnTo>
                    <a:pt x="8905" y="8248"/>
                  </a:lnTo>
                  <a:lnTo>
                    <a:pt x="8526" y="8032"/>
                  </a:lnTo>
                  <a:lnTo>
                    <a:pt x="8526" y="7814"/>
                  </a:lnTo>
                  <a:lnTo>
                    <a:pt x="8147" y="7489"/>
                  </a:lnTo>
                  <a:lnTo>
                    <a:pt x="7957" y="7272"/>
                  </a:lnTo>
                  <a:lnTo>
                    <a:pt x="7768" y="7055"/>
                  </a:lnTo>
                  <a:lnTo>
                    <a:pt x="7578" y="6838"/>
                  </a:lnTo>
                  <a:lnTo>
                    <a:pt x="7389" y="6512"/>
                  </a:lnTo>
                  <a:lnTo>
                    <a:pt x="7199" y="6295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5737320" y="4898160"/>
              <a:ext cx="439920" cy="59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065" y="9831"/>
                  </a:moveTo>
                  <a:lnTo>
                    <a:pt x="18261" y="9533"/>
                  </a:lnTo>
                  <a:lnTo>
                    <a:pt x="18261" y="9235"/>
                  </a:lnTo>
                  <a:lnTo>
                    <a:pt x="18261" y="8937"/>
                  </a:lnTo>
                  <a:lnTo>
                    <a:pt x="18458" y="8639"/>
                  </a:lnTo>
                  <a:lnTo>
                    <a:pt x="18654" y="8341"/>
                  </a:lnTo>
                  <a:lnTo>
                    <a:pt x="18850" y="8043"/>
                  </a:lnTo>
                  <a:lnTo>
                    <a:pt x="19046" y="7597"/>
                  </a:lnTo>
                  <a:lnTo>
                    <a:pt x="19243" y="7597"/>
                  </a:lnTo>
                  <a:lnTo>
                    <a:pt x="19439" y="7299"/>
                  </a:lnTo>
                  <a:lnTo>
                    <a:pt x="19636" y="6852"/>
                  </a:lnTo>
                  <a:lnTo>
                    <a:pt x="19832" y="6554"/>
                  </a:lnTo>
                  <a:lnTo>
                    <a:pt x="20028" y="6107"/>
                  </a:lnTo>
                  <a:lnTo>
                    <a:pt x="20421" y="5958"/>
                  </a:lnTo>
                  <a:lnTo>
                    <a:pt x="20421" y="5511"/>
                  </a:lnTo>
                  <a:lnTo>
                    <a:pt x="20618" y="5064"/>
                  </a:lnTo>
                  <a:lnTo>
                    <a:pt x="20814" y="4915"/>
                  </a:lnTo>
                  <a:lnTo>
                    <a:pt x="21010" y="4468"/>
                  </a:lnTo>
                  <a:lnTo>
                    <a:pt x="21010" y="4170"/>
                  </a:lnTo>
                  <a:lnTo>
                    <a:pt x="21207" y="3873"/>
                  </a:lnTo>
                  <a:lnTo>
                    <a:pt x="21403" y="3426"/>
                  </a:lnTo>
                  <a:lnTo>
                    <a:pt x="21403" y="3128"/>
                  </a:lnTo>
                  <a:lnTo>
                    <a:pt x="21403" y="2830"/>
                  </a:lnTo>
                  <a:lnTo>
                    <a:pt x="21600" y="2532"/>
                  </a:lnTo>
                  <a:lnTo>
                    <a:pt x="21403" y="2234"/>
                  </a:lnTo>
                  <a:lnTo>
                    <a:pt x="21403" y="1936"/>
                  </a:lnTo>
                  <a:lnTo>
                    <a:pt x="21403" y="1638"/>
                  </a:lnTo>
                  <a:lnTo>
                    <a:pt x="21207" y="1340"/>
                  </a:lnTo>
                  <a:lnTo>
                    <a:pt x="21207" y="1191"/>
                  </a:lnTo>
                  <a:lnTo>
                    <a:pt x="21010" y="744"/>
                  </a:lnTo>
                  <a:lnTo>
                    <a:pt x="20618" y="595"/>
                  </a:lnTo>
                  <a:lnTo>
                    <a:pt x="20814" y="297"/>
                  </a:lnTo>
                  <a:lnTo>
                    <a:pt x="20421" y="148"/>
                  </a:lnTo>
                  <a:lnTo>
                    <a:pt x="20028" y="0"/>
                  </a:lnTo>
                  <a:lnTo>
                    <a:pt x="19832" y="0"/>
                  </a:lnTo>
                  <a:lnTo>
                    <a:pt x="19636" y="0"/>
                  </a:lnTo>
                  <a:lnTo>
                    <a:pt x="19439" y="148"/>
                  </a:lnTo>
                  <a:lnTo>
                    <a:pt x="19243" y="148"/>
                  </a:lnTo>
                  <a:lnTo>
                    <a:pt x="18850" y="297"/>
                  </a:lnTo>
                  <a:lnTo>
                    <a:pt x="18654" y="595"/>
                  </a:lnTo>
                  <a:lnTo>
                    <a:pt x="18458" y="893"/>
                  </a:lnTo>
                  <a:lnTo>
                    <a:pt x="18065" y="1191"/>
                  </a:lnTo>
                  <a:lnTo>
                    <a:pt x="18065" y="1489"/>
                  </a:lnTo>
                  <a:lnTo>
                    <a:pt x="17672" y="1936"/>
                  </a:lnTo>
                  <a:lnTo>
                    <a:pt x="17279" y="2383"/>
                  </a:lnTo>
                  <a:lnTo>
                    <a:pt x="17279" y="2830"/>
                  </a:lnTo>
                  <a:lnTo>
                    <a:pt x="16887" y="3277"/>
                  </a:lnTo>
                  <a:lnTo>
                    <a:pt x="16690" y="3724"/>
                  </a:lnTo>
                  <a:lnTo>
                    <a:pt x="16494" y="4319"/>
                  </a:lnTo>
                  <a:lnTo>
                    <a:pt x="16297" y="4766"/>
                  </a:lnTo>
                  <a:lnTo>
                    <a:pt x="16101" y="5362"/>
                  </a:lnTo>
                  <a:lnTo>
                    <a:pt x="15905" y="5958"/>
                  </a:lnTo>
                  <a:lnTo>
                    <a:pt x="15708" y="6554"/>
                  </a:lnTo>
                  <a:lnTo>
                    <a:pt x="15708" y="7001"/>
                  </a:lnTo>
                  <a:lnTo>
                    <a:pt x="15316" y="7448"/>
                  </a:lnTo>
                  <a:lnTo>
                    <a:pt x="15119" y="8043"/>
                  </a:lnTo>
                  <a:lnTo>
                    <a:pt x="14923" y="8639"/>
                  </a:lnTo>
                  <a:lnTo>
                    <a:pt x="14727" y="9235"/>
                  </a:lnTo>
                  <a:lnTo>
                    <a:pt x="14727" y="9682"/>
                  </a:lnTo>
                  <a:lnTo>
                    <a:pt x="14334" y="10129"/>
                  </a:lnTo>
                  <a:lnTo>
                    <a:pt x="14138" y="10725"/>
                  </a:lnTo>
                  <a:lnTo>
                    <a:pt x="14138" y="11023"/>
                  </a:lnTo>
                  <a:lnTo>
                    <a:pt x="13941" y="11470"/>
                  </a:lnTo>
                  <a:lnTo>
                    <a:pt x="13941" y="11768"/>
                  </a:lnTo>
                  <a:lnTo>
                    <a:pt x="13745" y="12065"/>
                  </a:lnTo>
                  <a:lnTo>
                    <a:pt x="13745" y="12512"/>
                  </a:lnTo>
                  <a:lnTo>
                    <a:pt x="13352" y="13108"/>
                  </a:lnTo>
                  <a:lnTo>
                    <a:pt x="13156" y="13704"/>
                  </a:lnTo>
                  <a:lnTo>
                    <a:pt x="12959" y="14151"/>
                  </a:lnTo>
                  <a:lnTo>
                    <a:pt x="12763" y="14598"/>
                  </a:lnTo>
                  <a:lnTo>
                    <a:pt x="12567" y="15045"/>
                  </a:lnTo>
                  <a:lnTo>
                    <a:pt x="12174" y="15343"/>
                  </a:lnTo>
                  <a:lnTo>
                    <a:pt x="11977" y="15790"/>
                  </a:lnTo>
                  <a:lnTo>
                    <a:pt x="11781" y="16236"/>
                  </a:lnTo>
                  <a:lnTo>
                    <a:pt x="11585" y="16534"/>
                  </a:lnTo>
                  <a:lnTo>
                    <a:pt x="11192" y="16832"/>
                  </a:lnTo>
                  <a:lnTo>
                    <a:pt x="11192" y="17130"/>
                  </a:lnTo>
                  <a:lnTo>
                    <a:pt x="10800" y="17428"/>
                  </a:lnTo>
                  <a:lnTo>
                    <a:pt x="10603" y="17726"/>
                  </a:lnTo>
                  <a:lnTo>
                    <a:pt x="10407" y="18024"/>
                  </a:lnTo>
                  <a:lnTo>
                    <a:pt x="10014" y="18173"/>
                  </a:lnTo>
                  <a:lnTo>
                    <a:pt x="9818" y="18471"/>
                  </a:lnTo>
                  <a:lnTo>
                    <a:pt x="9425" y="18769"/>
                  </a:lnTo>
                  <a:lnTo>
                    <a:pt x="9032" y="18769"/>
                  </a:lnTo>
                  <a:lnTo>
                    <a:pt x="9032" y="19067"/>
                  </a:lnTo>
                  <a:lnTo>
                    <a:pt x="8639" y="19216"/>
                  </a:lnTo>
                  <a:lnTo>
                    <a:pt x="8246" y="19514"/>
                  </a:lnTo>
                  <a:lnTo>
                    <a:pt x="7854" y="19663"/>
                  </a:lnTo>
                  <a:lnTo>
                    <a:pt x="7461" y="19812"/>
                  </a:lnTo>
                  <a:lnTo>
                    <a:pt x="7265" y="19812"/>
                  </a:lnTo>
                  <a:lnTo>
                    <a:pt x="6676" y="20110"/>
                  </a:lnTo>
                  <a:lnTo>
                    <a:pt x="6283" y="20259"/>
                  </a:lnTo>
                  <a:lnTo>
                    <a:pt x="5694" y="20259"/>
                  </a:lnTo>
                  <a:lnTo>
                    <a:pt x="5497" y="20557"/>
                  </a:lnTo>
                  <a:lnTo>
                    <a:pt x="4908" y="20557"/>
                  </a:lnTo>
                  <a:lnTo>
                    <a:pt x="4516" y="20706"/>
                  </a:lnTo>
                  <a:lnTo>
                    <a:pt x="3927" y="20706"/>
                  </a:lnTo>
                  <a:lnTo>
                    <a:pt x="3730" y="20706"/>
                  </a:lnTo>
                  <a:lnTo>
                    <a:pt x="3338" y="20706"/>
                  </a:lnTo>
                  <a:lnTo>
                    <a:pt x="3141" y="20855"/>
                  </a:lnTo>
                  <a:lnTo>
                    <a:pt x="2748" y="21004"/>
                  </a:lnTo>
                  <a:lnTo>
                    <a:pt x="2159" y="21004"/>
                  </a:lnTo>
                  <a:lnTo>
                    <a:pt x="1963" y="21153"/>
                  </a:lnTo>
                  <a:lnTo>
                    <a:pt x="1570" y="21302"/>
                  </a:lnTo>
                  <a:lnTo>
                    <a:pt x="1177" y="21302"/>
                  </a:lnTo>
                  <a:lnTo>
                    <a:pt x="981" y="21302"/>
                  </a:lnTo>
                  <a:lnTo>
                    <a:pt x="588" y="21451"/>
                  </a:lnTo>
                  <a:lnTo>
                    <a:pt x="392" y="21451"/>
                  </a:lnTo>
                  <a:lnTo>
                    <a:pt x="196" y="21451"/>
                  </a:lnTo>
                  <a:lnTo>
                    <a:pt x="0" y="21600"/>
                  </a:lnTo>
                  <a:lnTo>
                    <a:pt x="0" y="21600"/>
                  </a:lnTo>
                  <a:lnTo>
                    <a:pt x="196" y="21451"/>
                  </a:lnTo>
                  <a:lnTo>
                    <a:pt x="392" y="21451"/>
                  </a:lnTo>
                  <a:lnTo>
                    <a:pt x="785" y="21451"/>
                  </a:lnTo>
                  <a:lnTo>
                    <a:pt x="1177" y="21302"/>
                  </a:lnTo>
                  <a:lnTo>
                    <a:pt x="1767" y="21302"/>
                  </a:lnTo>
                  <a:lnTo>
                    <a:pt x="1963" y="21153"/>
                  </a:lnTo>
                  <a:lnTo>
                    <a:pt x="2356" y="21153"/>
                  </a:lnTo>
                  <a:lnTo>
                    <a:pt x="2945" y="21004"/>
                  </a:lnTo>
                  <a:lnTo>
                    <a:pt x="3534" y="21004"/>
                  </a:lnTo>
                  <a:lnTo>
                    <a:pt x="3927" y="21004"/>
                  </a:lnTo>
                  <a:lnTo>
                    <a:pt x="4516" y="21004"/>
                  </a:lnTo>
                  <a:lnTo>
                    <a:pt x="4908" y="20855"/>
                  </a:lnTo>
                  <a:lnTo>
                    <a:pt x="5301" y="20855"/>
                  </a:lnTo>
                  <a:lnTo>
                    <a:pt x="5694" y="20855"/>
                  </a:lnTo>
                  <a:lnTo>
                    <a:pt x="6087" y="20855"/>
                  </a:lnTo>
                  <a:lnTo>
                    <a:pt x="6676" y="20855"/>
                  </a:lnTo>
                  <a:lnTo>
                    <a:pt x="7069" y="20855"/>
                  </a:lnTo>
                  <a:lnTo>
                    <a:pt x="7461" y="20706"/>
                  </a:lnTo>
                  <a:lnTo>
                    <a:pt x="8246" y="20706"/>
                  </a:lnTo>
                  <a:lnTo>
                    <a:pt x="8639" y="20557"/>
                  </a:lnTo>
                  <a:lnTo>
                    <a:pt x="8836" y="20408"/>
                  </a:lnTo>
                  <a:lnTo>
                    <a:pt x="9228" y="20408"/>
                  </a:lnTo>
                  <a:lnTo>
                    <a:pt x="9818" y="20110"/>
                  </a:lnTo>
                  <a:lnTo>
                    <a:pt x="10210" y="20110"/>
                  </a:lnTo>
                  <a:lnTo>
                    <a:pt x="10603" y="19812"/>
                  </a:lnTo>
                  <a:lnTo>
                    <a:pt x="10800" y="19663"/>
                  </a:lnTo>
                  <a:lnTo>
                    <a:pt x="11192" y="19514"/>
                  </a:lnTo>
                  <a:lnTo>
                    <a:pt x="11585" y="19216"/>
                  </a:lnTo>
                  <a:lnTo>
                    <a:pt x="11781" y="19067"/>
                  </a:lnTo>
                  <a:lnTo>
                    <a:pt x="12370" y="18918"/>
                  </a:lnTo>
                  <a:lnTo>
                    <a:pt x="12370" y="18620"/>
                  </a:lnTo>
                  <a:lnTo>
                    <a:pt x="12959" y="18173"/>
                  </a:lnTo>
                  <a:lnTo>
                    <a:pt x="13156" y="18024"/>
                  </a:lnTo>
                  <a:lnTo>
                    <a:pt x="13548" y="17577"/>
                  </a:lnTo>
                  <a:lnTo>
                    <a:pt x="13548" y="17279"/>
                  </a:lnTo>
                  <a:lnTo>
                    <a:pt x="13745" y="17130"/>
                  </a:lnTo>
                  <a:lnTo>
                    <a:pt x="13941" y="16832"/>
                  </a:lnTo>
                  <a:lnTo>
                    <a:pt x="14138" y="16832"/>
                  </a:lnTo>
                  <a:lnTo>
                    <a:pt x="14138" y="16534"/>
                  </a:lnTo>
                  <a:lnTo>
                    <a:pt x="14530" y="16236"/>
                  </a:lnTo>
                  <a:lnTo>
                    <a:pt x="14530" y="16088"/>
                  </a:lnTo>
                  <a:lnTo>
                    <a:pt x="14727" y="15790"/>
                  </a:lnTo>
                  <a:lnTo>
                    <a:pt x="14923" y="15492"/>
                  </a:lnTo>
                  <a:lnTo>
                    <a:pt x="15119" y="15194"/>
                  </a:lnTo>
                  <a:lnTo>
                    <a:pt x="15119" y="14896"/>
                  </a:lnTo>
                  <a:lnTo>
                    <a:pt x="15316" y="14598"/>
                  </a:lnTo>
                  <a:lnTo>
                    <a:pt x="15512" y="14598"/>
                  </a:lnTo>
                  <a:lnTo>
                    <a:pt x="15512" y="14300"/>
                  </a:lnTo>
                  <a:lnTo>
                    <a:pt x="15708" y="14002"/>
                  </a:lnTo>
                  <a:lnTo>
                    <a:pt x="15905" y="13555"/>
                  </a:lnTo>
                  <a:lnTo>
                    <a:pt x="16101" y="13257"/>
                  </a:lnTo>
                  <a:lnTo>
                    <a:pt x="16101" y="12959"/>
                  </a:lnTo>
                  <a:lnTo>
                    <a:pt x="16494" y="12661"/>
                  </a:lnTo>
                  <a:lnTo>
                    <a:pt x="16494" y="12363"/>
                  </a:lnTo>
                  <a:lnTo>
                    <a:pt x="16494" y="12065"/>
                  </a:lnTo>
                  <a:lnTo>
                    <a:pt x="16887" y="12065"/>
                  </a:lnTo>
                  <a:lnTo>
                    <a:pt x="16887" y="11768"/>
                  </a:lnTo>
                  <a:lnTo>
                    <a:pt x="16887" y="11470"/>
                  </a:lnTo>
                  <a:lnTo>
                    <a:pt x="17279" y="11172"/>
                  </a:lnTo>
                  <a:lnTo>
                    <a:pt x="17279" y="11023"/>
                  </a:lnTo>
                  <a:lnTo>
                    <a:pt x="17476" y="10725"/>
                  </a:lnTo>
                  <a:lnTo>
                    <a:pt x="17672" y="10576"/>
                  </a:lnTo>
                  <a:lnTo>
                    <a:pt x="17672" y="10278"/>
                  </a:lnTo>
                  <a:lnTo>
                    <a:pt x="17869" y="9980"/>
                  </a:lnTo>
                  <a:lnTo>
                    <a:pt x="17869" y="9831"/>
                  </a:lnTo>
                  <a:lnTo>
                    <a:pt x="18065" y="9831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5610600" y="4788720"/>
              <a:ext cx="418320" cy="56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811" y="156"/>
                  </a:moveTo>
                  <a:lnTo>
                    <a:pt x="14399" y="312"/>
                  </a:lnTo>
                  <a:lnTo>
                    <a:pt x="13988" y="312"/>
                  </a:lnTo>
                  <a:lnTo>
                    <a:pt x="13371" y="469"/>
                  </a:lnTo>
                  <a:lnTo>
                    <a:pt x="12959" y="469"/>
                  </a:lnTo>
                  <a:lnTo>
                    <a:pt x="12548" y="469"/>
                  </a:lnTo>
                  <a:lnTo>
                    <a:pt x="11931" y="312"/>
                  </a:lnTo>
                  <a:lnTo>
                    <a:pt x="11519" y="469"/>
                  </a:lnTo>
                  <a:lnTo>
                    <a:pt x="11108" y="469"/>
                  </a:lnTo>
                  <a:lnTo>
                    <a:pt x="10696" y="625"/>
                  </a:lnTo>
                  <a:lnTo>
                    <a:pt x="10285" y="625"/>
                  </a:lnTo>
                  <a:lnTo>
                    <a:pt x="9874" y="625"/>
                  </a:lnTo>
                  <a:lnTo>
                    <a:pt x="9462" y="782"/>
                  </a:lnTo>
                  <a:lnTo>
                    <a:pt x="9051" y="625"/>
                  </a:lnTo>
                  <a:lnTo>
                    <a:pt x="8434" y="782"/>
                  </a:lnTo>
                  <a:lnTo>
                    <a:pt x="7816" y="782"/>
                  </a:lnTo>
                  <a:lnTo>
                    <a:pt x="7405" y="939"/>
                  </a:lnTo>
                  <a:lnTo>
                    <a:pt x="7199" y="782"/>
                  </a:lnTo>
                  <a:lnTo>
                    <a:pt x="6582" y="939"/>
                  </a:lnTo>
                  <a:lnTo>
                    <a:pt x="6171" y="939"/>
                  </a:lnTo>
                  <a:lnTo>
                    <a:pt x="5554" y="939"/>
                  </a:lnTo>
                  <a:lnTo>
                    <a:pt x="5142" y="939"/>
                  </a:lnTo>
                  <a:lnTo>
                    <a:pt x="4731" y="1095"/>
                  </a:lnTo>
                  <a:lnTo>
                    <a:pt x="3908" y="1095"/>
                  </a:lnTo>
                  <a:lnTo>
                    <a:pt x="3702" y="1095"/>
                  </a:lnTo>
                  <a:lnTo>
                    <a:pt x="3085" y="1095"/>
                  </a:lnTo>
                  <a:lnTo>
                    <a:pt x="2673" y="1252"/>
                  </a:lnTo>
                  <a:lnTo>
                    <a:pt x="2262" y="1252"/>
                  </a:lnTo>
                  <a:lnTo>
                    <a:pt x="1645" y="1408"/>
                  </a:lnTo>
                  <a:lnTo>
                    <a:pt x="1233" y="1252"/>
                  </a:lnTo>
                  <a:lnTo>
                    <a:pt x="822" y="1408"/>
                  </a:lnTo>
                  <a:lnTo>
                    <a:pt x="616" y="1564"/>
                  </a:lnTo>
                  <a:lnTo>
                    <a:pt x="0" y="1564"/>
                  </a:lnTo>
                  <a:lnTo>
                    <a:pt x="0" y="1564"/>
                  </a:lnTo>
                  <a:lnTo>
                    <a:pt x="205" y="1564"/>
                  </a:lnTo>
                  <a:lnTo>
                    <a:pt x="411" y="1721"/>
                  </a:lnTo>
                  <a:lnTo>
                    <a:pt x="616" y="1721"/>
                  </a:lnTo>
                  <a:lnTo>
                    <a:pt x="1028" y="1721"/>
                  </a:lnTo>
                  <a:lnTo>
                    <a:pt x="1645" y="1721"/>
                  </a:lnTo>
                  <a:lnTo>
                    <a:pt x="2262" y="1721"/>
                  </a:lnTo>
                  <a:lnTo>
                    <a:pt x="2879" y="1878"/>
                  </a:lnTo>
                  <a:lnTo>
                    <a:pt x="3496" y="2034"/>
                  </a:lnTo>
                  <a:lnTo>
                    <a:pt x="3908" y="1878"/>
                  </a:lnTo>
                  <a:lnTo>
                    <a:pt x="4731" y="2034"/>
                  </a:lnTo>
                  <a:lnTo>
                    <a:pt x="5348" y="2034"/>
                  </a:lnTo>
                  <a:lnTo>
                    <a:pt x="5965" y="2034"/>
                  </a:lnTo>
                  <a:lnTo>
                    <a:pt x="6376" y="2191"/>
                  </a:lnTo>
                  <a:lnTo>
                    <a:pt x="7199" y="2034"/>
                  </a:lnTo>
                  <a:lnTo>
                    <a:pt x="7405" y="2034"/>
                  </a:lnTo>
                  <a:lnTo>
                    <a:pt x="7611" y="2034"/>
                  </a:lnTo>
                  <a:lnTo>
                    <a:pt x="7816" y="1878"/>
                  </a:lnTo>
                  <a:lnTo>
                    <a:pt x="8228" y="1721"/>
                  </a:lnTo>
                  <a:lnTo>
                    <a:pt x="8639" y="1721"/>
                  </a:lnTo>
                  <a:lnTo>
                    <a:pt x="9051" y="1721"/>
                  </a:lnTo>
                  <a:lnTo>
                    <a:pt x="9256" y="1721"/>
                  </a:lnTo>
                  <a:lnTo>
                    <a:pt x="9668" y="1564"/>
                  </a:lnTo>
                  <a:lnTo>
                    <a:pt x="10285" y="1564"/>
                  </a:lnTo>
                  <a:lnTo>
                    <a:pt x="10491" y="1408"/>
                  </a:lnTo>
                  <a:lnTo>
                    <a:pt x="10902" y="1408"/>
                  </a:lnTo>
                  <a:lnTo>
                    <a:pt x="11314" y="1408"/>
                  </a:lnTo>
                  <a:lnTo>
                    <a:pt x="11725" y="1252"/>
                  </a:lnTo>
                  <a:lnTo>
                    <a:pt x="12342" y="1408"/>
                  </a:lnTo>
                  <a:lnTo>
                    <a:pt x="12754" y="1252"/>
                  </a:lnTo>
                  <a:lnTo>
                    <a:pt x="13165" y="1252"/>
                  </a:lnTo>
                  <a:lnTo>
                    <a:pt x="13577" y="1252"/>
                  </a:lnTo>
                  <a:lnTo>
                    <a:pt x="13988" y="1252"/>
                  </a:lnTo>
                  <a:lnTo>
                    <a:pt x="14399" y="1252"/>
                  </a:lnTo>
                  <a:lnTo>
                    <a:pt x="14811" y="1252"/>
                  </a:lnTo>
                  <a:lnTo>
                    <a:pt x="15222" y="1408"/>
                  </a:lnTo>
                  <a:lnTo>
                    <a:pt x="15634" y="1408"/>
                  </a:lnTo>
                  <a:lnTo>
                    <a:pt x="16045" y="1564"/>
                  </a:lnTo>
                  <a:lnTo>
                    <a:pt x="16457" y="1564"/>
                  </a:lnTo>
                  <a:lnTo>
                    <a:pt x="16868" y="1564"/>
                  </a:lnTo>
                  <a:lnTo>
                    <a:pt x="17279" y="1878"/>
                  </a:lnTo>
                  <a:lnTo>
                    <a:pt x="17485" y="1878"/>
                  </a:lnTo>
                  <a:lnTo>
                    <a:pt x="17691" y="2034"/>
                  </a:lnTo>
                  <a:lnTo>
                    <a:pt x="17897" y="2347"/>
                  </a:lnTo>
                  <a:lnTo>
                    <a:pt x="18102" y="2504"/>
                  </a:lnTo>
                  <a:lnTo>
                    <a:pt x="18308" y="2660"/>
                  </a:lnTo>
                  <a:lnTo>
                    <a:pt x="18514" y="2817"/>
                  </a:lnTo>
                  <a:lnTo>
                    <a:pt x="18514" y="3130"/>
                  </a:lnTo>
                  <a:lnTo>
                    <a:pt x="18719" y="3443"/>
                  </a:lnTo>
                  <a:lnTo>
                    <a:pt x="18719" y="4069"/>
                  </a:lnTo>
                  <a:lnTo>
                    <a:pt x="18925" y="4382"/>
                  </a:lnTo>
                  <a:lnTo>
                    <a:pt x="18925" y="4695"/>
                  </a:lnTo>
                  <a:lnTo>
                    <a:pt x="18925" y="5165"/>
                  </a:lnTo>
                  <a:lnTo>
                    <a:pt x="18925" y="5634"/>
                  </a:lnTo>
                  <a:lnTo>
                    <a:pt x="18925" y="5947"/>
                  </a:lnTo>
                  <a:lnTo>
                    <a:pt x="18925" y="6417"/>
                  </a:lnTo>
                  <a:lnTo>
                    <a:pt x="18719" y="6886"/>
                  </a:lnTo>
                  <a:lnTo>
                    <a:pt x="18719" y="7199"/>
                  </a:lnTo>
                  <a:lnTo>
                    <a:pt x="18514" y="7669"/>
                  </a:lnTo>
                  <a:lnTo>
                    <a:pt x="18514" y="8138"/>
                  </a:lnTo>
                  <a:lnTo>
                    <a:pt x="18102" y="8608"/>
                  </a:lnTo>
                  <a:lnTo>
                    <a:pt x="17897" y="9078"/>
                  </a:lnTo>
                  <a:lnTo>
                    <a:pt x="17897" y="9391"/>
                  </a:lnTo>
                  <a:lnTo>
                    <a:pt x="17485" y="9704"/>
                  </a:lnTo>
                  <a:lnTo>
                    <a:pt x="17485" y="10017"/>
                  </a:lnTo>
                  <a:lnTo>
                    <a:pt x="17074" y="10486"/>
                  </a:lnTo>
                  <a:lnTo>
                    <a:pt x="16868" y="10800"/>
                  </a:lnTo>
                  <a:lnTo>
                    <a:pt x="16457" y="11112"/>
                  </a:lnTo>
                  <a:lnTo>
                    <a:pt x="16457" y="11582"/>
                  </a:lnTo>
                  <a:lnTo>
                    <a:pt x="16045" y="11895"/>
                  </a:lnTo>
                  <a:lnTo>
                    <a:pt x="15839" y="12364"/>
                  </a:lnTo>
                  <a:lnTo>
                    <a:pt x="15428" y="12678"/>
                  </a:lnTo>
                  <a:lnTo>
                    <a:pt x="15222" y="12991"/>
                  </a:lnTo>
                  <a:lnTo>
                    <a:pt x="14811" y="13304"/>
                  </a:lnTo>
                  <a:lnTo>
                    <a:pt x="14605" y="13773"/>
                  </a:lnTo>
                  <a:lnTo>
                    <a:pt x="14194" y="13930"/>
                  </a:lnTo>
                  <a:lnTo>
                    <a:pt x="13988" y="14243"/>
                  </a:lnTo>
                  <a:lnTo>
                    <a:pt x="13577" y="14556"/>
                  </a:lnTo>
                  <a:lnTo>
                    <a:pt x="13577" y="14869"/>
                  </a:lnTo>
                  <a:lnTo>
                    <a:pt x="13371" y="15026"/>
                  </a:lnTo>
                  <a:lnTo>
                    <a:pt x="13371" y="15026"/>
                  </a:lnTo>
                  <a:lnTo>
                    <a:pt x="13165" y="14869"/>
                  </a:lnTo>
                  <a:lnTo>
                    <a:pt x="12959" y="14556"/>
                  </a:lnTo>
                  <a:lnTo>
                    <a:pt x="12754" y="14243"/>
                  </a:lnTo>
                  <a:lnTo>
                    <a:pt x="12342" y="13930"/>
                  </a:lnTo>
                  <a:lnTo>
                    <a:pt x="12136" y="13304"/>
                  </a:lnTo>
                  <a:lnTo>
                    <a:pt x="11931" y="12678"/>
                  </a:lnTo>
                  <a:lnTo>
                    <a:pt x="11519" y="12208"/>
                  </a:lnTo>
                  <a:lnTo>
                    <a:pt x="11108" y="11582"/>
                  </a:lnTo>
                  <a:lnTo>
                    <a:pt x="11108" y="11269"/>
                  </a:lnTo>
                  <a:lnTo>
                    <a:pt x="10696" y="10956"/>
                  </a:lnTo>
                  <a:lnTo>
                    <a:pt x="10285" y="10643"/>
                  </a:lnTo>
                  <a:lnTo>
                    <a:pt x="10079" y="10643"/>
                  </a:lnTo>
                  <a:lnTo>
                    <a:pt x="9874" y="10643"/>
                  </a:lnTo>
                  <a:lnTo>
                    <a:pt x="9668" y="10800"/>
                  </a:lnTo>
                  <a:lnTo>
                    <a:pt x="9462" y="11112"/>
                  </a:lnTo>
                  <a:lnTo>
                    <a:pt x="9256" y="11739"/>
                  </a:lnTo>
                  <a:lnTo>
                    <a:pt x="9256" y="12364"/>
                  </a:lnTo>
                  <a:lnTo>
                    <a:pt x="9051" y="12834"/>
                  </a:lnTo>
                  <a:lnTo>
                    <a:pt x="9051" y="13460"/>
                  </a:lnTo>
                  <a:lnTo>
                    <a:pt x="9256" y="13773"/>
                  </a:lnTo>
                  <a:lnTo>
                    <a:pt x="9462" y="14243"/>
                  </a:lnTo>
                  <a:lnTo>
                    <a:pt x="9668" y="14712"/>
                  </a:lnTo>
                  <a:lnTo>
                    <a:pt x="9874" y="15182"/>
                  </a:lnTo>
                  <a:lnTo>
                    <a:pt x="10079" y="15495"/>
                  </a:lnTo>
                  <a:lnTo>
                    <a:pt x="10079" y="16121"/>
                  </a:lnTo>
                  <a:lnTo>
                    <a:pt x="10285" y="16434"/>
                  </a:lnTo>
                  <a:lnTo>
                    <a:pt x="10285" y="16747"/>
                  </a:lnTo>
                  <a:lnTo>
                    <a:pt x="10696" y="17217"/>
                  </a:lnTo>
                  <a:lnTo>
                    <a:pt x="10696" y="17686"/>
                  </a:lnTo>
                  <a:lnTo>
                    <a:pt x="10491" y="18313"/>
                  </a:lnTo>
                  <a:lnTo>
                    <a:pt x="10491" y="18782"/>
                  </a:lnTo>
                  <a:lnTo>
                    <a:pt x="10491" y="19095"/>
                  </a:lnTo>
                  <a:lnTo>
                    <a:pt x="10696" y="19408"/>
                  </a:lnTo>
                  <a:lnTo>
                    <a:pt x="10696" y="19721"/>
                  </a:lnTo>
                  <a:lnTo>
                    <a:pt x="11108" y="20034"/>
                  </a:lnTo>
                  <a:lnTo>
                    <a:pt x="11314" y="20347"/>
                  </a:lnTo>
                  <a:lnTo>
                    <a:pt x="11725" y="20660"/>
                  </a:lnTo>
                  <a:lnTo>
                    <a:pt x="11931" y="20817"/>
                  </a:lnTo>
                  <a:lnTo>
                    <a:pt x="12342" y="20973"/>
                  </a:lnTo>
                  <a:lnTo>
                    <a:pt x="12754" y="21130"/>
                  </a:lnTo>
                  <a:lnTo>
                    <a:pt x="12959" y="21286"/>
                  </a:lnTo>
                  <a:lnTo>
                    <a:pt x="13165" y="21286"/>
                  </a:lnTo>
                  <a:lnTo>
                    <a:pt x="13577" y="21600"/>
                  </a:lnTo>
                  <a:lnTo>
                    <a:pt x="13782" y="21443"/>
                  </a:lnTo>
                  <a:lnTo>
                    <a:pt x="13988" y="21443"/>
                  </a:lnTo>
                  <a:lnTo>
                    <a:pt x="14194" y="21600"/>
                  </a:lnTo>
                  <a:lnTo>
                    <a:pt x="14194" y="21443"/>
                  </a:lnTo>
                  <a:lnTo>
                    <a:pt x="14194" y="20973"/>
                  </a:lnTo>
                  <a:lnTo>
                    <a:pt x="14399" y="20504"/>
                  </a:lnTo>
                  <a:lnTo>
                    <a:pt x="14399" y="20191"/>
                  </a:lnTo>
                  <a:lnTo>
                    <a:pt x="14605" y="19878"/>
                  </a:lnTo>
                  <a:lnTo>
                    <a:pt x="14811" y="19408"/>
                  </a:lnTo>
                  <a:lnTo>
                    <a:pt x="15017" y="18782"/>
                  </a:lnTo>
                  <a:lnTo>
                    <a:pt x="15428" y="18313"/>
                  </a:lnTo>
                  <a:lnTo>
                    <a:pt x="15634" y="17686"/>
                  </a:lnTo>
                  <a:lnTo>
                    <a:pt x="16045" y="17373"/>
                  </a:lnTo>
                  <a:lnTo>
                    <a:pt x="16251" y="17060"/>
                  </a:lnTo>
                  <a:lnTo>
                    <a:pt x="16457" y="16434"/>
                  </a:lnTo>
                  <a:lnTo>
                    <a:pt x="16868" y="15965"/>
                  </a:lnTo>
                  <a:lnTo>
                    <a:pt x="17074" y="15651"/>
                  </a:lnTo>
                  <a:lnTo>
                    <a:pt x="17279" y="15339"/>
                  </a:lnTo>
                  <a:lnTo>
                    <a:pt x="17485" y="14869"/>
                  </a:lnTo>
                  <a:lnTo>
                    <a:pt x="17691" y="14712"/>
                  </a:lnTo>
                  <a:lnTo>
                    <a:pt x="17691" y="14399"/>
                  </a:lnTo>
                  <a:lnTo>
                    <a:pt x="17897" y="14243"/>
                  </a:lnTo>
                  <a:lnTo>
                    <a:pt x="18102" y="13930"/>
                  </a:lnTo>
                  <a:lnTo>
                    <a:pt x="18102" y="13617"/>
                  </a:lnTo>
                  <a:lnTo>
                    <a:pt x="18308" y="13304"/>
                  </a:lnTo>
                  <a:lnTo>
                    <a:pt x="18514" y="13147"/>
                  </a:lnTo>
                  <a:lnTo>
                    <a:pt x="18514" y="12834"/>
                  </a:lnTo>
                  <a:lnTo>
                    <a:pt x="18719" y="12521"/>
                  </a:lnTo>
                  <a:lnTo>
                    <a:pt x="18719" y="12364"/>
                  </a:lnTo>
                  <a:lnTo>
                    <a:pt x="18925" y="12208"/>
                  </a:lnTo>
                  <a:lnTo>
                    <a:pt x="19131" y="11895"/>
                  </a:lnTo>
                  <a:lnTo>
                    <a:pt x="19131" y="11582"/>
                  </a:lnTo>
                  <a:lnTo>
                    <a:pt x="19131" y="11269"/>
                  </a:lnTo>
                  <a:lnTo>
                    <a:pt x="19542" y="10956"/>
                  </a:lnTo>
                  <a:lnTo>
                    <a:pt x="19542" y="10643"/>
                  </a:lnTo>
                  <a:lnTo>
                    <a:pt x="19748" y="10330"/>
                  </a:lnTo>
                  <a:lnTo>
                    <a:pt x="19748" y="10017"/>
                  </a:lnTo>
                  <a:lnTo>
                    <a:pt x="19954" y="9860"/>
                  </a:lnTo>
                  <a:lnTo>
                    <a:pt x="20159" y="9704"/>
                  </a:lnTo>
                  <a:lnTo>
                    <a:pt x="20159" y="9547"/>
                  </a:lnTo>
                  <a:lnTo>
                    <a:pt x="20159" y="9234"/>
                  </a:lnTo>
                  <a:lnTo>
                    <a:pt x="20571" y="8921"/>
                  </a:lnTo>
                  <a:lnTo>
                    <a:pt x="20571" y="8608"/>
                  </a:lnTo>
                  <a:lnTo>
                    <a:pt x="20777" y="8295"/>
                  </a:lnTo>
                  <a:lnTo>
                    <a:pt x="20777" y="7982"/>
                  </a:lnTo>
                  <a:lnTo>
                    <a:pt x="20982" y="7669"/>
                  </a:lnTo>
                  <a:lnTo>
                    <a:pt x="20982" y="7356"/>
                  </a:lnTo>
                  <a:lnTo>
                    <a:pt x="20982" y="7199"/>
                  </a:lnTo>
                  <a:lnTo>
                    <a:pt x="21188" y="6886"/>
                  </a:lnTo>
                  <a:lnTo>
                    <a:pt x="21394" y="6573"/>
                  </a:lnTo>
                  <a:lnTo>
                    <a:pt x="21600" y="6260"/>
                  </a:lnTo>
                  <a:lnTo>
                    <a:pt x="21600" y="5947"/>
                  </a:lnTo>
                  <a:lnTo>
                    <a:pt x="21600" y="4851"/>
                  </a:lnTo>
                  <a:lnTo>
                    <a:pt x="21600" y="4226"/>
                  </a:lnTo>
                  <a:lnTo>
                    <a:pt x="21600" y="3286"/>
                  </a:lnTo>
                  <a:lnTo>
                    <a:pt x="21394" y="2504"/>
                  </a:lnTo>
                  <a:lnTo>
                    <a:pt x="20982" y="2034"/>
                  </a:lnTo>
                  <a:lnTo>
                    <a:pt x="20777" y="1564"/>
                  </a:lnTo>
                  <a:lnTo>
                    <a:pt x="20365" y="1252"/>
                  </a:lnTo>
                  <a:lnTo>
                    <a:pt x="19748" y="782"/>
                  </a:lnTo>
                  <a:lnTo>
                    <a:pt x="19131" y="469"/>
                  </a:lnTo>
                  <a:lnTo>
                    <a:pt x="18514" y="312"/>
                  </a:lnTo>
                  <a:lnTo>
                    <a:pt x="17691" y="156"/>
                  </a:lnTo>
                  <a:lnTo>
                    <a:pt x="17279" y="156"/>
                  </a:lnTo>
                  <a:lnTo>
                    <a:pt x="16457" y="0"/>
                  </a:lnTo>
                  <a:lnTo>
                    <a:pt x="15839" y="0"/>
                  </a:lnTo>
                  <a:lnTo>
                    <a:pt x="15222" y="0"/>
                  </a:lnTo>
                  <a:lnTo>
                    <a:pt x="14811" y="156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6084000" y="4609440"/>
              <a:ext cx="196920" cy="92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939"/>
                  </a:moveTo>
                  <a:lnTo>
                    <a:pt x="20718" y="0"/>
                  </a:lnTo>
                  <a:lnTo>
                    <a:pt x="20277" y="939"/>
                  </a:lnTo>
                  <a:lnTo>
                    <a:pt x="19395" y="939"/>
                  </a:lnTo>
                  <a:lnTo>
                    <a:pt x="18955" y="1878"/>
                  </a:lnTo>
                  <a:lnTo>
                    <a:pt x="18073" y="939"/>
                  </a:lnTo>
                  <a:lnTo>
                    <a:pt x="17191" y="1878"/>
                  </a:lnTo>
                  <a:lnTo>
                    <a:pt x="16750" y="939"/>
                  </a:lnTo>
                  <a:lnTo>
                    <a:pt x="15428" y="1878"/>
                  </a:lnTo>
                  <a:lnTo>
                    <a:pt x="14546" y="939"/>
                  </a:lnTo>
                  <a:lnTo>
                    <a:pt x="13224" y="1878"/>
                  </a:lnTo>
                  <a:lnTo>
                    <a:pt x="12342" y="1878"/>
                  </a:lnTo>
                  <a:lnTo>
                    <a:pt x="11020" y="1878"/>
                  </a:lnTo>
                  <a:lnTo>
                    <a:pt x="10138" y="939"/>
                  </a:lnTo>
                  <a:lnTo>
                    <a:pt x="9697" y="1878"/>
                  </a:lnTo>
                  <a:lnTo>
                    <a:pt x="8816" y="1878"/>
                  </a:lnTo>
                  <a:lnTo>
                    <a:pt x="7934" y="1878"/>
                  </a:lnTo>
                  <a:lnTo>
                    <a:pt x="7052" y="2817"/>
                  </a:lnTo>
                  <a:lnTo>
                    <a:pt x="6171" y="2817"/>
                  </a:lnTo>
                  <a:lnTo>
                    <a:pt x="5289" y="2817"/>
                  </a:lnTo>
                  <a:lnTo>
                    <a:pt x="4407" y="2817"/>
                  </a:lnTo>
                  <a:lnTo>
                    <a:pt x="3526" y="3756"/>
                  </a:lnTo>
                  <a:lnTo>
                    <a:pt x="2644" y="4695"/>
                  </a:lnTo>
                  <a:lnTo>
                    <a:pt x="2203" y="5634"/>
                  </a:lnTo>
                  <a:lnTo>
                    <a:pt x="1762" y="4695"/>
                  </a:lnTo>
                  <a:lnTo>
                    <a:pt x="1322" y="5634"/>
                  </a:lnTo>
                  <a:lnTo>
                    <a:pt x="1322" y="7513"/>
                  </a:lnTo>
                  <a:lnTo>
                    <a:pt x="440" y="8452"/>
                  </a:lnTo>
                  <a:lnTo>
                    <a:pt x="440" y="9391"/>
                  </a:lnTo>
                  <a:lnTo>
                    <a:pt x="440" y="10330"/>
                  </a:lnTo>
                  <a:lnTo>
                    <a:pt x="0" y="12208"/>
                  </a:lnTo>
                  <a:lnTo>
                    <a:pt x="0" y="13147"/>
                  </a:lnTo>
                  <a:lnTo>
                    <a:pt x="440" y="15026"/>
                  </a:lnTo>
                  <a:lnTo>
                    <a:pt x="881" y="17843"/>
                  </a:lnTo>
                  <a:lnTo>
                    <a:pt x="1762" y="20660"/>
                  </a:lnTo>
                  <a:lnTo>
                    <a:pt x="3085" y="20660"/>
                  </a:lnTo>
                  <a:lnTo>
                    <a:pt x="4407" y="21600"/>
                  </a:lnTo>
                  <a:lnTo>
                    <a:pt x="6612" y="20660"/>
                  </a:lnTo>
                  <a:lnTo>
                    <a:pt x="7934" y="19721"/>
                  </a:lnTo>
                  <a:lnTo>
                    <a:pt x="10138" y="17843"/>
                  </a:lnTo>
                  <a:lnTo>
                    <a:pt x="11461" y="14086"/>
                  </a:lnTo>
                  <a:lnTo>
                    <a:pt x="13665" y="11269"/>
                  </a:lnTo>
                  <a:lnTo>
                    <a:pt x="15869" y="9391"/>
                  </a:lnTo>
                  <a:lnTo>
                    <a:pt x="16750" y="8452"/>
                  </a:lnTo>
                  <a:lnTo>
                    <a:pt x="18514" y="4695"/>
                  </a:lnTo>
                  <a:lnTo>
                    <a:pt x="19836" y="3756"/>
                  </a:lnTo>
                  <a:lnTo>
                    <a:pt x="20718" y="939"/>
                  </a:lnTo>
                  <a:lnTo>
                    <a:pt x="21159" y="939"/>
                  </a:lnTo>
                  <a:lnTo>
                    <a:pt x="21600" y="939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6149160" y="4431600"/>
              <a:ext cx="191880" cy="113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649" y="8485"/>
                  </a:moveTo>
                  <a:lnTo>
                    <a:pt x="16200" y="8485"/>
                  </a:lnTo>
                  <a:lnTo>
                    <a:pt x="16200" y="7714"/>
                  </a:lnTo>
                  <a:lnTo>
                    <a:pt x="16200" y="7714"/>
                  </a:lnTo>
                  <a:lnTo>
                    <a:pt x="16200" y="6942"/>
                  </a:lnTo>
                  <a:lnTo>
                    <a:pt x="15299" y="7714"/>
                  </a:lnTo>
                  <a:lnTo>
                    <a:pt x="13949" y="7714"/>
                  </a:lnTo>
                  <a:lnTo>
                    <a:pt x="13049" y="7714"/>
                  </a:lnTo>
                  <a:lnTo>
                    <a:pt x="12150" y="6942"/>
                  </a:lnTo>
                  <a:lnTo>
                    <a:pt x="10800" y="6942"/>
                  </a:lnTo>
                  <a:lnTo>
                    <a:pt x="10349" y="6171"/>
                  </a:lnTo>
                  <a:lnTo>
                    <a:pt x="9450" y="6171"/>
                  </a:lnTo>
                  <a:lnTo>
                    <a:pt x="8549" y="5400"/>
                  </a:lnTo>
                  <a:lnTo>
                    <a:pt x="7199" y="5400"/>
                  </a:lnTo>
                  <a:lnTo>
                    <a:pt x="6299" y="3856"/>
                  </a:lnTo>
                  <a:lnTo>
                    <a:pt x="5400" y="3856"/>
                  </a:lnTo>
                  <a:lnTo>
                    <a:pt x="4050" y="2314"/>
                  </a:lnTo>
                  <a:lnTo>
                    <a:pt x="3149" y="2314"/>
                  </a:lnTo>
                  <a:lnTo>
                    <a:pt x="2249" y="771"/>
                  </a:lnTo>
                  <a:lnTo>
                    <a:pt x="1350" y="77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71"/>
                  </a:lnTo>
                  <a:lnTo>
                    <a:pt x="449" y="2314"/>
                  </a:lnTo>
                  <a:lnTo>
                    <a:pt x="449" y="3856"/>
                  </a:lnTo>
                  <a:lnTo>
                    <a:pt x="899" y="5400"/>
                  </a:lnTo>
                  <a:lnTo>
                    <a:pt x="1799" y="6942"/>
                  </a:lnTo>
                  <a:lnTo>
                    <a:pt x="1799" y="8485"/>
                  </a:lnTo>
                  <a:lnTo>
                    <a:pt x="2700" y="10800"/>
                  </a:lnTo>
                  <a:lnTo>
                    <a:pt x="3149" y="11571"/>
                  </a:lnTo>
                  <a:lnTo>
                    <a:pt x="4050" y="13114"/>
                  </a:lnTo>
                  <a:lnTo>
                    <a:pt x="4949" y="14656"/>
                  </a:lnTo>
                  <a:lnTo>
                    <a:pt x="5400" y="15428"/>
                  </a:lnTo>
                  <a:lnTo>
                    <a:pt x="6299" y="16971"/>
                  </a:lnTo>
                  <a:lnTo>
                    <a:pt x="7199" y="17742"/>
                  </a:lnTo>
                  <a:lnTo>
                    <a:pt x="7649" y="17742"/>
                  </a:lnTo>
                  <a:lnTo>
                    <a:pt x="8100" y="17742"/>
                  </a:lnTo>
                  <a:lnTo>
                    <a:pt x="8999" y="18514"/>
                  </a:lnTo>
                  <a:lnTo>
                    <a:pt x="9450" y="18514"/>
                  </a:lnTo>
                  <a:lnTo>
                    <a:pt x="10349" y="19285"/>
                  </a:lnTo>
                  <a:lnTo>
                    <a:pt x="10800" y="19285"/>
                  </a:lnTo>
                  <a:lnTo>
                    <a:pt x="11699" y="19285"/>
                  </a:lnTo>
                  <a:lnTo>
                    <a:pt x="11699" y="20828"/>
                  </a:lnTo>
                  <a:lnTo>
                    <a:pt x="12599" y="20828"/>
                  </a:lnTo>
                  <a:lnTo>
                    <a:pt x="13500" y="20828"/>
                  </a:lnTo>
                  <a:lnTo>
                    <a:pt x="13949" y="21600"/>
                  </a:lnTo>
                  <a:lnTo>
                    <a:pt x="14850" y="21600"/>
                  </a:lnTo>
                  <a:lnTo>
                    <a:pt x="15299" y="20828"/>
                  </a:lnTo>
                  <a:lnTo>
                    <a:pt x="16200" y="21600"/>
                  </a:lnTo>
                  <a:lnTo>
                    <a:pt x="16649" y="21600"/>
                  </a:lnTo>
                  <a:lnTo>
                    <a:pt x="17550" y="20828"/>
                  </a:lnTo>
                  <a:lnTo>
                    <a:pt x="18449" y="20828"/>
                  </a:lnTo>
                  <a:lnTo>
                    <a:pt x="19349" y="20056"/>
                  </a:lnTo>
                  <a:lnTo>
                    <a:pt x="20250" y="19285"/>
                  </a:lnTo>
                  <a:lnTo>
                    <a:pt x="20699" y="19285"/>
                  </a:lnTo>
                  <a:lnTo>
                    <a:pt x="21149" y="18514"/>
                  </a:lnTo>
                  <a:lnTo>
                    <a:pt x="21600" y="17742"/>
                  </a:lnTo>
                  <a:lnTo>
                    <a:pt x="21600" y="17742"/>
                  </a:lnTo>
                  <a:lnTo>
                    <a:pt x="21600" y="16971"/>
                  </a:lnTo>
                  <a:lnTo>
                    <a:pt x="21600" y="16200"/>
                  </a:lnTo>
                  <a:lnTo>
                    <a:pt x="21149" y="15428"/>
                  </a:lnTo>
                  <a:lnTo>
                    <a:pt x="20699" y="14656"/>
                  </a:lnTo>
                  <a:lnTo>
                    <a:pt x="20699" y="13114"/>
                  </a:lnTo>
                  <a:lnTo>
                    <a:pt x="19799" y="12342"/>
                  </a:lnTo>
                  <a:lnTo>
                    <a:pt x="18900" y="12342"/>
                  </a:lnTo>
                  <a:lnTo>
                    <a:pt x="17999" y="10800"/>
                  </a:lnTo>
                  <a:lnTo>
                    <a:pt x="17550" y="10028"/>
                  </a:lnTo>
                  <a:lnTo>
                    <a:pt x="16649" y="8485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5888880" y="4076640"/>
              <a:ext cx="207360" cy="301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184" y="13718"/>
                  </a:moveTo>
                  <a:lnTo>
                    <a:pt x="21184" y="12259"/>
                  </a:lnTo>
                  <a:lnTo>
                    <a:pt x="21184" y="10507"/>
                  </a:lnTo>
                  <a:lnTo>
                    <a:pt x="21600" y="8756"/>
                  </a:lnTo>
                  <a:lnTo>
                    <a:pt x="20769" y="7589"/>
                  </a:lnTo>
                  <a:lnTo>
                    <a:pt x="19938" y="6421"/>
                  </a:lnTo>
                  <a:lnTo>
                    <a:pt x="19107" y="4961"/>
                  </a:lnTo>
                  <a:lnTo>
                    <a:pt x="18276" y="3794"/>
                  </a:lnTo>
                  <a:lnTo>
                    <a:pt x="17861" y="2918"/>
                  </a:lnTo>
                  <a:lnTo>
                    <a:pt x="16200" y="2043"/>
                  </a:lnTo>
                  <a:lnTo>
                    <a:pt x="15369" y="1459"/>
                  </a:lnTo>
                  <a:lnTo>
                    <a:pt x="13707" y="1167"/>
                  </a:lnTo>
                  <a:lnTo>
                    <a:pt x="12461" y="583"/>
                  </a:lnTo>
                  <a:lnTo>
                    <a:pt x="11215" y="583"/>
                  </a:lnTo>
                  <a:lnTo>
                    <a:pt x="9553" y="291"/>
                  </a:lnTo>
                  <a:lnTo>
                    <a:pt x="8722" y="0"/>
                  </a:lnTo>
                  <a:lnTo>
                    <a:pt x="7476" y="291"/>
                  </a:lnTo>
                  <a:lnTo>
                    <a:pt x="7061" y="0"/>
                  </a:lnTo>
                  <a:lnTo>
                    <a:pt x="6645" y="291"/>
                  </a:lnTo>
                  <a:lnTo>
                    <a:pt x="6230" y="583"/>
                  </a:lnTo>
                  <a:lnTo>
                    <a:pt x="5815" y="875"/>
                  </a:lnTo>
                  <a:lnTo>
                    <a:pt x="4984" y="1167"/>
                  </a:lnTo>
                  <a:lnTo>
                    <a:pt x="4569" y="1459"/>
                  </a:lnTo>
                  <a:lnTo>
                    <a:pt x="4569" y="1751"/>
                  </a:lnTo>
                  <a:lnTo>
                    <a:pt x="4153" y="2043"/>
                  </a:lnTo>
                  <a:lnTo>
                    <a:pt x="3322" y="2626"/>
                  </a:lnTo>
                  <a:lnTo>
                    <a:pt x="2907" y="2626"/>
                  </a:lnTo>
                  <a:lnTo>
                    <a:pt x="2492" y="2918"/>
                  </a:lnTo>
                  <a:lnTo>
                    <a:pt x="2076" y="3210"/>
                  </a:lnTo>
                  <a:lnTo>
                    <a:pt x="1245" y="3502"/>
                  </a:lnTo>
                  <a:lnTo>
                    <a:pt x="830" y="3794"/>
                  </a:lnTo>
                  <a:lnTo>
                    <a:pt x="415" y="3794"/>
                  </a:lnTo>
                  <a:lnTo>
                    <a:pt x="0" y="3794"/>
                  </a:lnTo>
                  <a:lnTo>
                    <a:pt x="0" y="4086"/>
                  </a:lnTo>
                  <a:lnTo>
                    <a:pt x="0" y="4378"/>
                  </a:lnTo>
                  <a:lnTo>
                    <a:pt x="0" y="4378"/>
                  </a:lnTo>
                  <a:lnTo>
                    <a:pt x="415" y="4378"/>
                  </a:lnTo>
                  <a:lnTo>
                    <a:pt x="830" y="4378"/>
                  </a:lnTo>
                  <a:lnTo>
                    <a:pt x="1245" y="4669"/>
                  </a:lnTo>
                  <a:lnTo>
                    <a:pt x="1661" y="4961"/>
                  </a:lnTo>
                  <a:lnTo>
                    <a:pt x="2492" y="4961"/>
                  </a:lnTo>
                  <a:lnTo>
                    <a:pt x="3322" y="5253"/>
                  </a:lnTo>
                  <a:lnTo>
                    <a:pt x="3738" y="5545"/>
                  </a:lnTo>
                  <a:lnTo>
                    <a:pt x="4569" y="5837"/>
                  </a:lnTo>
                  <a:lnTo>
                    <a:pt x="5400" y="5837"/>
                  </a:lnTo>
                  <a:lnTo>
                    <a:pt x="6230" y="5837"/>
                  </a:lnTo>
                  <a:lnTo>
                    <a:pt x="7061" y="6129"/>
                  </a:lnTo>
                  <a:lnTo>
                    <a:pt x="7476" y="5837"/>
                  </a:lnTo>
                  <a:lnTo>
                    <a:pt x="8307" y="5837"/>
                  </a:lnTo>
                  <a:lnTo>
                    <a:pt x="8307" y="5545"/>
                  </a:lnTo>
                  <a:lnTo>
                    <a:pt x="8722" y="5837"/>
                  </a:lnTo>
                  <a:lnTo>
                    <a:pt x="9138" y="5837"/>
                  </a:lnTo>
                  <a:lnTo>
                    <a:pt x="9553" y="5837"/>
                  </a:lnTo>
                  <a:lnTo>
                    <a:pt x="9553" y="5837"/>
                  </a:lnTo>
                  <a:lnTo>
                    <a:pt x="9969" y="5837"/>
                  </a:lnTo>
                  <a:lnTo>
                    <a:pt x="10384" y="6129"/>
                  </a:lnTo>
                  <a:lnTo>
                    <a:pt x="10800" y="6129"/>
                  </a:lnTo>
                  <a:lnTo>
                    <a:pt x="11215" y="6129"/>
                  </a:lnTo>
                  <a:lnTo>
                    <a:pt x="12045" y="6129"/>
                  </a:lnTo>
                  <a:lnTo>
                    <a:pt x="12461" y="6713"/>
                  </a:lnTo>
                  <a:lnTo>
                    <a:pt x="12876" y="7005"/>
                  </a:lnTo>
                  <a:lnTo>
                    <a:pt x="12876" y="7297"/>
                  </a:lnTo>
                  <a:lnTo>
                    <a:pt x="13292" y="7589"/>
                  </a:lnTo>
                  <a:lnTo>
                    <a:pt x="14122" y="8172"/>
                  </a:lnTo>
                  <a:lnTo>
                    <a:pt x="14122" y="8756"/>
                  </a:lnTo>
                  <a:lnTo>
                    <a:pt x="14122" y="9048"/>
                  </a:lnTo>
                  <a:lnTo>
                    <a:pt x="14122" y="9048"/>
                  </a:lnTo>
                  <a:lnTo>
                    <a:pt x="14122" y="9340"/>
                  </a:lnTo>
                  <a:lnTo>
                    <a:pt x="14538" y="9632"/>
                  </a:lnTo>
                  <a:lnTo>
                    <a:pt x="14538" y="9924"/>
                  </a:lnTo>
                  <a:lnTo>
                    <a:pt x="14122" y="10215"/>
                  </a:lnTo>
                  <a:lnTo>
                    <a:pt x="14122" y="10800"/>
                  </a:lnTo>
                  <a:lnTo>
                    <a:pt x="14122" y="10800"/>
                  </a:lnTo>
                  <a:lnTo>
                    <a:pt x="14122" y="11091"/>
                  </a:lnTo>
                  <a:lnTo>
                    <a:pt x="14122" y="11383"/>
                  </a:lnTo>
                  <a:lnTo>
                    <a:pt x="14122" y="11383"/>
                  </a:lnTo>
                  <a:lnTo>
                    <a:pt x="14122" y="11675"/>
                  </a:lnTo>
                  <a:lnTo>
                    <a:pt x="14122" y="11967"/>
                  </a:lnTo>
                  <a:lnTo>
                    <a:pt x="14122" y="12259"/>
                  </a:lnTo>
                  <a:lnTo>
                    <a:pt x="14122" y="12551"/>
                  </a:lnTo>
                  <a:lnTo>
                    <a:pt x="14122" y="12551"/>
                  </a:lnTo>
                  <a:lnTo>
                    <a:pt x="14122" y="13134"/>
                  </a:lnTo>
                  <a:lnTo>
                    <a:pt x="14122" y="14010"/>
                  </a:lnTo>
                  <a:lnTo>
                    <a:pt x="14122" y="14594"/>
                  </a:lnTo>
                  <a:lnTo>
                    <a:pt x="13707" y="15178"/>
                  </a:lnTo>
                  <a:lnTo>
                    <a:pt x="13292" y="15761"/>
                  </a:lnTo>
                  <a:lnTo>
                    <a:pt x="12876" y="16345"/>
                  </a:lnTo>
                  <a:lnTo>
                    <a:pt x="12461" y="16053"/>
                  </a:lnTo>
                  <a:lnTo>
                    <a:pt x="11630" y="16637"/>
                  </a:lnTo>
                  <a:lnTo>
                    <a:pt x="11215" y="17221"/>
                  </a:lnTo>
                  <a:lnTo>
                    <a:pt x="10800" y="17513"/>
                  </a:lnTo>
                  <a:lnTo>
                    <a:pt x="10384" y="17513"/>
                  </a:lnTo>
                  <a:lnTo>
                    <a:pt x="9553" y="17805"/>
                  </a:lnTo>
                  <a:lnTo>
                    <a:pt x="9553" y="18097"/>
                  </a:lnTo>
                  <a:lnTo>
                    <a:pt x="8722" y="18389"/>
                  </a:lnTo>
                  <a:lnTo>
                    <a:pt x="8307" y="18389"/>
                  </a:lnTo>
                  <a:lnTo>
                    <a:pt x="8307" y="18680"/>
                  </a:lnTo>
                  <a:lnTo>
                    <a:pt x="7892" y="18680"/>
                  </a:lnTo>
                  <a:lnTo>
                    <a:pt x="7476" y="18680"/>
                  </a:lnTo>
                  <a:lnTo>
                    <a:pt x="7476" y="18680"/>
                  </a:lnTo>
                  <a:lnTo>
                    <a:pt x="7061" y="18389"/>
                  </a:lnTo>
                  <a:lnTo>
                    <a:pt x="6645" y="18097"/>
                  </a:lnTo>
                  <a:lnTo>
                    <a:pt x="6230" y="17805"/>
                  </a:lnTo>
                  <a:lnTo>
                    <a:pt x="6230" y="17513"/>
                  </a:lnTo>
                  <a:lnTo>
                    <a:pt x="6230" y="17221"/>
                  </a:lnTo>
                  <a:lnTo>
                    <a:pt x="5815" y="16929"/>
                  </a:lnTo>
                  <a:lnTo>
                    <a:pt x="5400" y="16637"/>
                  </a:lnTo>
                  <a:lnTo>
                    <a:pt x="4984" y="16345"/>
                  </a:lnTo>
                  <a:lnTo>
                    <a:pt x="4984" y="15761"/>
                  </a:lnTo>
                  <a:lnTo>
                    <a:pt x="4569" y="15469"/>
                  </a:lnTo>
                  <a:lnTo>
                    <a:pt x="4153" y="14886"/>
                  </a:lnTo>
                  <a:lnTo>
                    <a:pt x="3738" y="14886"/>
                  </a:lnTo>
                  <a:lnTo>
                    <a:pt x="3322" y="14886"/>
                  </a:lnTo>
                  <a:lnTo>
                    <a:pt x="3322" y="14886"/>
                  </a:lnTo>
                  <a:lnTo>
                    <a:pt x="3322" y="14886"/>
                  </a:lnTo>
                  <a:lnTo>
                    <a:pt x="3322" y="14886"/>
                  </a:lnTo>
                  <a:lnTo>
                    <a:pt x="3322" y="15469"/>
                  </a:lnTo>
                  <a:lnTo>
                    <a:pt x="3322" y="15761"/>
                  </a:lnTo>
                  <a:lnTo>
                    <a:pt x="2907" y="16053"/>
                  </a:lnTo>
                  <a:lnTo>
                    <a:pt x="2907" y="16345"/>
                  </a:lnTo>
                  <a:lnTo>
                    <a:pt x="2907" y="16345"/>
                  </a:lnTo>
                  <a:lnTo>
                    <a:pt x="3738" y="18097"/>
                  </a:lnTo>
                  <a:lnTo>
                    <a:pt x="4984" y="19556"/>
                  </a:lnTo>
                  <a:lnTo>
                    <a:pt x="5400" y="20140"/>
                  </a:lnTo>
                  <a:lnTo>
                    <a:pt x="7061" y="21015"/>
                  </a:lnTo>
                  <a:lnTo>
                    <a:pt x="8722" y="21600"/>
                  </a:lnTo>
                  <a:lnTo>
                    <a:pt x="9553" y="21307"/>
                  </a:lnTo>
                  <a:lnTo>
                    <a:pt x="11215" y="21307"/>
                  </a:lnTo>
                  <a:lnTo>
                    <a:pt x="12045" y="21307"/>
                  </a:lnTo>
                  <a:lnTo>
                    <a:pt x="13707" y="20432"/>
                  </a:lnTo>
                  <a:lnTo>
                    <a:pt x="14953" y="19848"/>
                  </a:lnTo>
                  <a:lnTo>
                    <a:pt x="16615" y="18972"/>
                  </a:lnTo>
                  <a:lnTo>
                    <a:pt x="17861" y="17805"/>
                  </a:lnTo>
                  <a:lnTo>
                    <a:pt x="18692" y="17221"/>
                  </a:lnTo>
                  <a:lnTo>
                    <a:pt x="19522" y="15761"/>
                  </a:lnTo>
                  <a:lnTo>
                    <a:pt x="20353" y="14594"/>
                  </a:lnTo>
                  <a:lnTo>
                    <a:pt x="21184" y="13718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5809320" y="4402800"/>
              <a:ext cx="362520" cy="227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428" y="13114"/>
                  </a:moveTo>
                  <a:lnTo>
                    <a:pt x="14953" y="13114"/>
                  </a:lnTo>
                  <a:lnTo>
                    <a:pt x="14241" y="12728"/>
                  </a:lnTo>
                  <a:lnTo>
                    <a:pt x="13292" y="13114"/>
                  </a:lnTo>
                  <a:lnTo>
                    <a:pt x="13054" y="13500"/>
                  </a:lnTo>
                  <a:lnTo>
                    <a:pt x="12342" y="13114"/>
                  </a:lnTo>
                  <a:lnTo>
                    <a:pt x="11867" y="13500"/>
                  </a:lnTo>
                  <a:lnTo>
                    <a:pt x="11155" y="13500"/>
                  </a:lnTo>
                  <a:lnTo>
                    <a:pt x="10918" y="13114"/>
                  </a:lnTo>
                  <a:lnTo>
                    <a:pt x="10206" y="13500"/>
                  </a:lnTo>
                  <a:lnTo>
                    <a:pt x="9731" y="13500"/>
                  </a:lnTo>
                  <a:lnTo>
                    <a:pt x="9256" y="13500"/>
                  </a:lnTo>
                  <a:lnTo>
                    <a:pt x="8544" y="13500"/>
                  </a:lnTo>
                  <a:lnTo>
                    <a:pt x="8070" y="13885"/>
                  </a:lnTo>
                  <a:lnTo>
                    <a:pt x="7120" y="13885"/>
                  </a:lnTo>
                  <a:lnTo>
                    <a:pt x="6645" y="13885"/>
                  </a:lnTo>
                  <a:lnTo>
                    <a:pt x="5933" y="13885"/>
                  </a:lnTo>
                  <a:lnTo>
                    <a:pt x="5696" y="13885"/>
                  </a:lnTo>
                  <a:lnTo>
                    <a:pt x="5221" y="13885"/>
                  </a:lnTo>
                  <a:lnTo>
                    <a:pt x="4984" y="13500"/>
                  </a:lnTo>
                  <a:lnTo>
                    <a:pt x="4984" y="13114"/>
                  </a:lnTo>
                  <a:lnTo>
                    <a:pt x="4509" y="12728"/>
                  </a:lnTo>
                  <a:lnTo>
                    <a:pt x="4034" y="12342"/>
                  </a:lnTo>
                  <a:lnTo>
                    <a:pt x="4034" y="11571"/>
                  </a:lnTo>
                  <a:lnTo>
                    <a:pt x="3560" y="11185"/>
                  </a:lnTo>
                  <a:lnTo>
                    <a:pt x="3322" y="10414"/>
                  </a:lnTo>
                  <a:lnTo>
                    <a:pt x="3322" y="9256"/>
                  </a:lnTo>
                  <a:lnTo>
                    <a:pt x="3085" y="8485"/>
                  </a:lnTo>
                  <a:lnTo>
                    <a:pt x="3322" y="7714"/>
                  </a:lnTo>
                  <a:lnTo>
                    <a:pt x="3322" y="7328"/>
                  </a:lnTo>
                  <a:lnTo>
                    <a:pt x="3322" y="6942"/>
                  </a:lnTo>
                  <a:lnTo>
                    <a:pt x="3560" y="6556"/>
                  </a:lnTo>
                  <a:lnTo>
                    <a:pt x="4034" y="5785"/>
                  </a:lnTo>
                  <a:lnTo>
                    <a:pt x="4272" y="5400"/>
                  </a:lnTo>
                  <a:lnTo>
                    <a:pt x="4272" y="5014"/>
                  </a:lnTo>
                  <a:lnTo>
                    <a:pt x="4509" y="4628"/>
                  </a:lnTo>
                  <a:lnTo>
                    <a:pt x="4747" y="4242"/>
                  </a:lnTo>
                  <a:lnTo>
                    <a:pt x="4747" y="3856"/>
                  </a:lnTo>
                  <a:lnTo>
                    <a:pt x="4984" y="3856"/>
                  </a:lnTo>
                  <a:lnTo>
                    <a:pt x="4984" y="3471"/>
                  </a:lnTo>
                  <a:lnTo>
                    <a:pt x="5221" y="2700"/>
                  </a:lnTo>
                  <a:lnTo>
                    <a:pt x="5221" y="2314"/>
                  </a:lnTo>
                  <a:lnTo>
                    <a:pt x="5221" y="1928"/>
                  </a:lnTo>
                  <a:lnTo>
                    <a:pt x="5221" y="1542"/>
                  </a:lnTo>
                  <a:lnTo>
                    <a:pt x="4984" y="1156"/>
                  </a:lnTo>
                  <a:lnTo>
                    <a:pt x="4984" y="1156"/>
                  </a:lnTo>
                  <a:lnTo>
                    <a:pt x="4984" y="385"/>
                  </a:lnTo>
                  <a:lnTo>
                    <a:pt x="4984" y="0"/>
                  </a:lnTo>
                  <a:lnTo>
                    <a:pt x="4747" y="0"/>
                  </a:lnTo>
                  <a:lnTo>
                    <a:pt x="4509" y="0"/>
                  </a:lnTo>
                  <a:lnTo>
                    <a:pt x="4034" y="0"/>
                  </a:lnTo>
                  <a:lnTo>
                    <a:pt x="3797" y="0"/>
                  </a:lnTo>
                  <a:lnTo>
                    <a:pt x="3322" y="385"/>
                  </a:lnTo>
                  <a:lnTo>
                    <a:pt x="3085" y="1542"/>
                  </a:lnTo>
                  <a:lnTo>
                    <a:pt x="2373" y="2314"/>
                  </a:lnTo>
                  <a:lnTo>
                    <a:pt x="1898" y="3471"/>
                  </a:lnTo>
                  <a:lnTo>
                    <a:pt x="1424" y="5014"/>
                  </a:lnTo>
                  <a:lnTo>
                    <a:pt x="949" y="6171"/>
                  </a:lnTo>
                  <a:lnTo>
                    <a:pt x="711" y="7328"/>
                  </a:lnTo>
                  <a:lnTo>
                    <a:pt x="474" y="8871"/>
                  </a:lnTo>
                  <a:lnTo>
                    <a:pt x="237" y="10414"/>
                  </a:lnTo>
                  <a:lnTo>
                    <a:pt x="0" y="11956"/>
                  </a:lnTo>
                  <a:lnTo>
                    <a:pt x="0" y="12728"/>
                  </a:lnTo>
                  <a:lnTo>
                    <a:pt x="237" y="13885"/>
                  </a:lnTo>
                  <a:lnTo>
                    <a:pt x="711" y="15428"/>
                  </a:lnTo>
                  <a:lnTo>
                    <a:pt x="949" y="16585"/>
                  </a:lnTo>
                  <a:lnTo>
                    <a:pt x="1186" y="17356"/>
                  </a:lnTo>
                  <a:lnTo>
                    <a:pt x="1661" y="18128"/>
                  </a:lnTo>
                  <a:lnTo>
                    <a:pt x="1898" y="18900"/>
                  </a:lnTo>
                  <a:lnTo>
                    <a:pt x="2373" y="19285"/>
                  </a:lnTo>
                  <a:lnTo>
                    <a:pt x="2848" y="20056"/>
                  </a:lnTo>
                  <a:lnTo>
                    <a:pt x="3322" y="20056"/>
                  </a:lnTo>
                  <a:lnTo>
                    <a:pt x="3560" y="20828"/>
                  </a:lnTo>
                  <a:lnTo>
                    <a:pt x="4034" y="20828"/>
                  </a:lnTo>
                  <a:lnTo>
                    <a:pt x="4272" y="20828"/>
                  </a:lnTo>
                  <a:lnTo>
                    <a:pt x="4747" y="21214"/>
                  </a:lnTo>
                  <a:lnTo>
                    <a:pt x="5221" y="21214"/>
                  </a:lnTo>
                  <a:lnTo>
                    <a:pt x="5696" y="21214"/>
                  </a:lnTo>
                  <a:lnTo>
                    <a:pt x="6171" y="21600"/>
                  </a:lnTo>
                  <a:lnTo>
                    <a:pt x="6645" y="21214"/>
                  </a:lnTo>
                  <a:lnTo>
                    <a:pt x="7120" y="21600"/>
                  </a:lnTo>
                  <a:lnTo>
                    <a:pt x="7595" y="21214"/>
                  </a:lnTo>
                  <a:lnTo>
                    <a:pt x="8070" y="21214"/>
                  </a:lnTo>
                  <a:lnTo>
                    <a:pt x="8544" y="21214"/>
                  </a:lnTo>
                  <a:lnTo>
                    <a:pt x="9019" y="20828"/>
                  </a:lnTo>
                  <a:lnTo>
                    <a:pt x="9494" y="21214"/>
                  </a:lnTo>
                  <a:lnTo>
                    <a:pt x="9969" y="20828"/>
                  </a:lnTo>
                  <a:lnTo>
                    <a:pt x="10443" y="20442"/>
                  </a:lnTo>
                  <a:lnTo>
                    <a:pt x="10918" y="20828"/>
                  </a:lnTo>
                  <a:lnTo>
                    <a:pt x="11155" y="20442"/>
                  </a:lnTo>
                  <a:lnTo>
                    <a:pt x="11630" y="20442"/>
                  </a:lnTo>
                  <a:lnTo>
                    <a:pt x="11867" y="20442"/>
                  </a:lnTo>
                  <a:lnTo>
                    <a:pt x="12105" y="20442"/>
                  </a:lnTo>
                  <a:lnTo>
                    <a:pt x="12580" y="20442"/>
                  </a:lnTo>
                  <a:lnTo>
                    <a:pt x="13054" y="20442"/>
                  </a:lnTo>
                  <a:lnTo>
                    <a:pt x="13292" y="20442"/>
                  </a:lnTo>
                  <a:lnTo>
                    <a:pt x="13766" y="20828"/>
                  </a:lnTo>
                  <a:lnTo>
                    <a:pt x="14241" y="21214"/>
                  </a:lnTo>
                  <a:lnTo>
                    <a:pt x="14478" y="20828"/>
                  </a:lnTo>
                  <a:lnTo>
                    <a:pt x="14953" y="21214"/>
                  </a:lnTo>
                  <a:lnTo>
                    <a:pt x="15428" y="21214"/>
                  </a:lnTo>
                  <a:lnTo>
                    <a:pt x="15903" y="21600"/>
                  </a:lnTo>
                  <a:lnTo>
                    <a:pt x="15903" y="21214"/>
                  </a:lnTo>
                  <a:lnTo>
                    <a:pt x="16615" y="20828"/>
                  </a:lnTo>
                  <a:lnTo>
                    <a:pt x="17089" y="20828"/>
                  </a:lnTo>
                  <a:lnTo>
                    <a:pt x="17564" y="20828"/>
                  </a:lnTo>
                  <a:lnTo>
                    <a:pt x="17802" y="20442"/>
                  </a:lnTo>
                  <a:lnTo>
                    <a:pt x="18276" y="20056"/>
                  </a:lnTo>
                  <a:lnTo>
                    <a:pt x="18751" y="20056"/>
                  </a:lnTo>
                  <a:lnTo>
                    <a:pt x="18988" y="19671"/>
                  </a:lnTo>
                  <a:lnTo>
                    <a:pt x="19463" y="19285"/>
                  </a:lnTo>
                  <a:lnTo>
                    <a:pt x="19938" y="19671"/>
                  </a:lnTo>
                  <a:lnTo>
                    <a:pt x="20175" y="19285"/>
                  </a:lnTo>
                  <a:lnTo>
                    <a:pt x="20175" y="18514"/>
                  </a:lnTo>
                  <a:lnTo>
                    <a:pt x="20650" y="18514"/>
                  </a:lnTo>
                  <a:lnTo>
                    <a:pt x="21125" y="17742"/>
                  </a:lnTo>
                  <a:lnTo>
                    <a:pt x="21125" y="16971"/>
                  </a:lnTo>
                  <a:lnTo>
                    <a:pt x="21125" y="16585"/>
                  </a:lnTo>
                  <a:lnTo>
                    <a:pt x="21600" y="15814"/>
                  </a:lnTo>
                  <a:lnTo>
                    <a:pt x="21362" y="15428"/>
                  </a:lnTo>
                  <a:lnTo>
                    <a:pt x="21362" y="14656"/>
                  </a:lnTo>
                  <a:lnTo>
                    <a:pt x="21362" y="14271"/>
                  </a:lnTo>
                  <a:lnTo>
                    <a:pt x="21125" y="13885"/>
                  </a:lnTo>
                  <a:lnTo>
                    <a:pt x="20887" y="13114"/>
                  </a:lnTo>
                  <a:lnTo>
                    <a:pt x="20887" y="13114"/>
                  </a:lnTo>
                  <a:lnTo>
                    <a:pt x="20413" y="12728"/>
                  </a:lnTo>
                  <a:lnTo>
                    <a:pt x="19938" y="12728"/>
                  </a:lnTo>
                  <a:lnTo>
                    <a:pt x="19463" y="12728"/>
                  </a:lnTo>
                  <a:lnTo>
                    <a:pt x="18988" y="12728"/>
                  </a:lnTo>
                  <a:lnTo>
                    <a:pt x="18751" y="12728"/>
                  </a:lnTo>
                  <a:lnTo>
                    <a:pt x="18514" y="12728"/>
                  </a:lnTo>
                  <a:lnTo>
                    <a:pt x="18276" y="12728"/>
                  </a:lnTo>
                  <a:lnTo>
                    <a:pt x="18039" y="12728"/>
                  </a:lnTo>
                  <a:lnTo>
                    <a:pt x="17802" y="12728"/>
                  </a:lnTo>
                  <a:lnTo>
                    <a:pt x="17564" y="12342"/>
                  </a:lnTo>
                  <a:lnTo>
                    <a:pt x="17327" y="12342"/>
                  </a:lnTo>
                  <a:lnTo>
                    <a:pt x="17089" y="12728"/>
                  </a:lnTo>
                  <a:lnTo>
                    <a:pt x="17089" y="12728"/>
                  </a:lnTo>
                  <a:lnTo>
                    <a:pt x="16852" y="12728"/>
                  </a:lnTo>
                  <a:lnTo>
                    <a:pt x="16615" y="12728"/>
                  </a:lnTo>
                  <a:lnTo>
                    <a:pt x="16377" y="12728"/>
                  </a:lnTo>
                  <a:lnTo>
                    <a:pt x="16140" y="12728"/>
                  </a:lnTo>
                  <a:lnTo>
                    <a:pt x="15903" y="12728"/>
                  </a:lnTo>
                  <a:lnTo>
                    <a:pt x="15665" y="12728"/>
                  </a:lnTo>
                  <a:lnTo>
                    <a:pt x="15428" y="13114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未知"/>
            <p:cNvSpPr/>
            <p:nvPr/>
          </p:nvSpPr>
          <p:spPr>
            <a:xfrm>
              <a:off x="5387040" y="4186080"/>
              <a:ext cx="489240" cy="19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726" y="14246"/>
                  </a:moveTo>
                  <a:lnTo>
                    <a:pt x="8077" y="13327"/>
                  </a:lnTo>
                  <a:lnTo>
                    <a:pt x="8253" y="12867"/>
                  </a:lnTo>
                  <a:lnTo>
                    <a:pt x="8780" y="11948"/>
                  </a:lnTo>
                  <a:lnTo>
                    <a:pt x="9131" y="11489"/>
                  </a:lnTo>
                  <a:lnTo>
                    <a:pt x="9482" y="11029"/>
                  </a:lnTo>
                  <a:lnTo>
                    <a:pt x="9658" y="11029"/>
                  </a:lnTo>
                  <a:lnTo>
                    <a:pt x="10185" y="10569"/>
                  </a:lnTo>
                  <a:lnTo>
                    <a:pt x="10536" y="10110"/>
                  </a:lnTo>
                  <a:lnTo>
                    <a:pt x="10711" y="9651"/>
                  </a:lnTo>
                  <a:lnTo>
                    <a:pt x="11063" y="9191"/>
                  </a:lnTo>
                  <a:lnTo>
                    <a:pt x="11414" y="8731"/>
                  </a:lnTo>
                  <a:lnTo>
                    <a:pt x="11590" y="8272"/>
                  </a:lnTo>
                  <a:lnTo>
                    <a:pt x="11941" y="7812"/>
                  </a:lnTo>
                  <a:lnTo>
                    <a:pt x="12292" y="7353"/>
                  </a:lnTo>
                  <a:lnTo>
                    <a:pt x="12643" y="7353"/>
                  </a:lnTo>
                  <a:lnTo>
                    <a:pt x="12995" y="6893"/>
                  </a:lnTo>
                  <a:lnTo>
                    <a:pt x="13170" y="6433"/>
                  </a:lnTo>
                  <a:lnTo>
                    <a:pt x="13521" y="6433"/>
                  </a:lnTo>
                  <a:lnTo>
                    <a:pt x="13873" y="5974"/>
                  </a:lnTo>
                  <a:lnTo>
                    <a:pt x="14048" y="5974"/>
                  </a:lnTo>
                  <a:lnTo>
                    <a:pt x="14399" y="5974"/>
                  </a:lnTo>
                  <a:lnTo>
                    <a:pt x="14751" y="5055"/>
                  </a:lnTo>
                  <a:lnTo>
                    <a:pt x="15102" y="4595"/>
                  </a:lnTo>
                  <a:lnTo>
                    <a:pt x="15453" y="4595"/>
                  </a:lnTo>
                  <a:lnTo>
                    <a:pt x="15980" y="4595"/>
                  </a:lnTo>
                  <a:lnTo>
                    <a:pt x="16331" y="4595"/>
                  </a:lnTo>
                  <a:lnTo>
                    <a:pt x="16858" y="4595"/>
                  </a:lnTo>
                  <a:lnTo>
                    <a:pt x="17385" y="4136"/>
                  </a:lnTo>
                  <a:lnTo>
                    <a:pt x="17560" y="4136"/>
                  </a:lnTo>
                  <a:lnTo>
                    <a:pt x="18263" y="4136"/>
                  </a:lnTo>
                  <a:lnTo>
                    <a:pt x="18965" y="4595"/>
                  </a:lnTo>
                  <a:lnTo>
                    <a:pt x="19316" y="5055"/>
                  </a:lnTo>
                  <a:lnTo>
                    <a:pt x="19843" y="5055"/>
                  </a:lnTo>
                  <a:lnTo>
                    <a:pt x="20370" y="5514"/>
                  </a:lnTo>
                  <a:lnTo>
                    <a:pt x="20721" y="5055"/>
                  </a:lnTo>
                  <a:lnTo>
                    <a:pt x="21072" y="5055"/>
                  </a:lnTo>
                  <a:lnTo>
                    <a:pt x="21248" y="4136"/>
                  </a:lnTo>
                  <a:lnTo>
                    <a:pt x="21424" y="3676"/>
                  </a:lnTo>
                  <a:lnTo>
                    <a:pt x="21600" y="2757"/>
                  </a:lnTo>
                  <a:lnTo>
                    <a:pt x="21424" y="2297"/>
                  </a:lnTo>
                  <a:lnTo>
                    <a:pt x="21248" y="1838"/>
                  </a:lnTo>
                  <a:lnTo>
                    <a:pt x="21072" y="918"/>
                  </a:lnTo>
                  <a:lnTo>
                    <a:pt x="20897" y="459"/>
                  </a:lnTo>
                  <a:lnTo>
                    <a:pt x="20721" y="459"/>
                  </a:lnTo>
                  <a:lnTo>
                    <a:pt x="20194" y="0"/>
                  </a:lnTo>
                  <a:lnTo>
                    <a:pt x="19668" y="0"/>
                  </a:lnTo>
                  <a:lnTo>
                    <a:pt x="18965" y="459"/>
                  </a:lnTo>
                  <a:lnTo>
                    <a:pt x="18263" y="459"/>
                  </a:lnTo>
                  <a:lnTo>
                    <a:pt x="17736" y="459"/>
                  </a:lnTo>
                  <a:lnTo>
                    <a:pt x="17560" y="918"/>
                  </a:lnTo>
                  <a:lnTo>
                    <a:pt x="17033" y="1838"/>
                  </a:lnTo>
                  <a:lnTo>
                    <a:pt x="16507" y="1838"/>
                  </a:lnTo>
                  <a:lnTo>
                    <a:pt x="15980" y="1838"/>
                  </a:lnTo>
                  <a:lnTo>
                    <a:pt x="15277" y="2297"/>
                  </a:lnTo>
                  <a:lnTo>
                    <a:pt x="14751" y="2757"/>
                  </a:lnTo>
                  <a:lnTo>
                    <a:pt x="14399" y="3216"/>
                  </a:lnTo>
                  <a:lnTo>
                    <a:pt x="13521" y="3676"/>
                  </a:lnTo>
                  <a:lnTo>
                    <a:pt x="12995" y="3676"/>
                  </a:lnTo>
                  <a:lnTo>
                    <a:pt x="12292" y="3676"/>
                  </a:lnTo>
                  <a:lnTo>
                    <a:pt x="11765" y="4136"/>
                  </a:lnTo>
                  <a:lnTo>
                    <a:pt x="11239" y="4595"/>
                  </a:lnTo>
                  <a:lnTo>
                    <a:pt x="10711" y="4136"/>
                  </a:lnTo>
                  <a:lnTo>
                    <a:pt x="9833" y="4595"/>
                  </a:lnTo>
                  <a:lnTo>
                    <a:pt x="9131" y="5055"/>
                  </a:lnTo>
                  <a:lnTo>
                    <a:pt x="8780" y="5514"/>
                  </a:lnTo>
                  <a:lnTo>
                    <a:pt x="8077" y="5974"/>
                  </a:lnTo>
                  <a:lnTo>
                    <a:pt x="7375" y="5974"/>
                  </a:lnTo>
                  <a:lnTo>
                    <a:pt x="6672" y="6433"/>
                  </a:lnTo>
                  <a:lnTo>
                    <a:pt x="6146" y="6893"/>
                  </a:lnTo>
                  <a:lnTo>
                    <a:pt x="5619" y="7353"/>
                  </a:lnTo>
                  <a:lnTo>
                    <a:pt x="4916" y="7812"/>
                  </a:lnTo>
                  <a:lnTo>
                    <a:pt x="4390" y="8272"/>
                  </a:lnTo>
                  <a:lnTo>
                    <a:pt x="3863" y="8272"/>
                  </a:lnTo>
                  <a:lnTo>
                    <a:pt x="3512" y="9191"/>
                  </a:lnTo>
                  <a:lnTo>
                    <a:pt x="2809" y="9191"/>
                  </a:lnTo>
                  <a:lnTo>
                    <a:pt x="2634" y="10110"/>
                  </a:lnTo>
                  <a:lnTo>
                    <a:pt x="2282" y="10569"/>
                  </a:lnTo>
                  <a:lnTo>
                    <a:pt x="1756" y="11029"/>
                  </a:lnTo>
                  <a:lnTo>
                    <a:pt x="1580" y="11948"/>
                  </a:lnTo>
                  <a:lnTo>
                    <a:pt x="1404" y="12408"/>
                  </a:lnTo>
                  <a:lnTo>
                    <a:pt x="878" y="13787"/>
                  </a:lnTo>
                  <a:lnTo>
                    <a:pt x="526" y="15165"/>
                  </a:lnTo>
                  <a:lnTo>
                    <a:pt x="351" y="16084"/>
                  </a:lnTo>
                  <a:lnTo>
                    <a:pt x="175" y="17004"/>
                  </a:lnTo>
                  <a:lnTo>
                    <a:pt x="175" y="18382"/>
                  </a:lnTo>
                  <a:lnTo>
                    <a:pt x="0" y="19302"/>
                  </a:lnTo>
                  <a:lnTo>
                    <a:pt x="0" y="19761"/>
                  </a:lnTo>
                  <a:lnTo>
                    <a:pt x="175" y="20220"/>
                  </a:lnTo>
                  <a:lnTo>
                    <a:pt x="351" y="21140"/>
                  </a:lnTo>
                  <a:lnTo>
                    <a:pt x="526" y="21140"/>
                  </a:lnTo>
                  <a:lnTo>
                    <a:pt x="878" y="21140"/>
                  </a:lnTo>
                  <a:lnTo>
                    <a:pt x="1229" y="21600"/>
                  </a:lnTo>
                  <a:lnTo>
                    <a:pt x="1580" y="21140"/>
                  </a:lnTo>
                  <a:lnTo>
                    <a:pt x="1756" y="20680"/>
                  </a:lnTo>
                  <a:lnTo>
                    <a:pt x="2107" y="20680"/>
                  </a:lnTo>
                  <a:lnTo>
                    <a:pt x="2458" y="19761"/>
                  </a:lnTo>
                  <a:lnTo>
                    <a:pt x="2985" y="19761"/>
                  </a:lnTo>
                  <a:lnTo>
                    <a:pt x="3336" y="18842"/>
                  </a:lnTo>
                  <a:lnTo>
                    <a:pt x="3687" y="18382"/>
                  </a:lnTo>
                  <a:lnTo>
                    <a:pt x="3863" y="18382"/>
                  </a:lnTo>
                  <a:lnTo>
                    <a:pt x="4214" y="17923"/>
                  </a:lnTo>
                  <a:lnTo>
                    <a:pt x="4741" y="17923"/>
                  </a:lnTo>
                  <a:lnTo>
                    <a:pt x="4916" y="17463"/>
                  </a:lnTo>
                  <a:lnTo>
                    <a:pt x="5092" y="17004"/>
                  </a:lnTo>
                  <a:lnTo>
                    <a:pt x="5268" y="16544"/>
                  </a:lnTo>
                  <a:lnTo>
                    <a:pt x="5619" y="17004"/>
                  </a:lnTo>
                  <a:lnTo>
                    <a:pt x="5794" y="16544"/>
                  </a:lnTo>
                  <a:lnTo>
                    <a:pt x="6146" y="16084"/>
                  </a:lnTo>
                  <a:lnTo>
                    <a:pt x="6497" y="16084"/>
                  </a:lnTo>
                  <a:lnTo>
                    <a:pt x="6848" y="15165"/>
                  </a:lnTo>
                  <a:lnTo>
                    <a:pt x="7199" y="14706"/>
                  </a:lnTo>
                  <a:lnTo>
                    <a:pt x="7726" y="14246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5262480" y="4959000"/>
              <a:ext cx="650520" cy="866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443" y="4765"/>
                  </a:moveTo>
                  <a:lnTo>
                    <a:pt x="14708" y="4664"/>
                  </a:lnTo>
                  <a:lnTo>
                    <a:pt x="14841" y="4461"/>
                  </a:lnTo>
                  <a:lnTo>
                    <a:pt x="14973" y="4258"/>
                  </a:lnTo>
                  <a:lnTo>
                    <a:pt x="15106" y="3954"/>
                  </a:lnTo>
                  <a:lnTo>
                    <a:pt x="15239" y="3650"/>
                  </a:lnTo>
                  <a:lnTo>
                    <a:pt x="15371" y="3447"/>
                  </a:lnTo>
                  <a:lnTo>
                    <a:pt x="15504" y="3143"/>
                  </a:lnTo>
                  <a:lnTo>
                    <a:pt x="15769" y="2737"/>
                  </a:lnTo>
                  <a:lnTo>
                    <a:pt x="15769" y="2433"/>
                  </a:lnTo>
                  <a:lnTo>
                    <a:pt x="16034" y="2027"/>
                  </a:lnTo>
                  <a:lnTo>
                    <a:pt x="16166" y="1926"/>
                  </a:lnTo>
                  <a:lnTo>
                    <a:pt x="16299" y="1622"/>
                  </a:lnTo>
                  <a:lnTo>
                    <a:pt x="16564" y="1419"/>
                  </a:lnTo>
                  <a:lnTo>
                    <a:pt x="16829" y="1115"/>
                  </a:lnTo>
                  <a:lnTo>
                    <a:pt x="17094" y="1115"/>
                  </a:lnTo>
                  <a:lnTo>
                    <a:pt x="17359" y="912"/>
                  </a:lnTo>
                  <a:lnTo>
                    <a:pt x="17624" y="811"/>
                  </a:lnTo>
                  <a:lnTo>
                    <a:pt x="18021" y="709"/>
                  </a:lnTo>
                  <a:lnTo>
                    <a:pt x="18551" y="608"/>
                  </a:lnTo>
                  <a:lnTo>
                    <a:pt x="19214" y="608"/>
                  </a:lnTo>
                  <a:lnTo>
                    <a:pt x="19612" y="608"/>
                  </a:lnTo>
                  <a:lnTo>
                    <a:pt x="20009" y="405"/>
                  </a:lnTo>
                  <a:lnTo>
                    <a:pt x="20407" y="304"/>
                  </a:lnTo>
                  <a:lnTo>
                    <a:pt x="20937" y="202"/>
                  </a:lnTo>
                  <a:lnTo>
                    <a:pt x="21202" y="101"/>
                  </a:lnTo>
                  <a:lnTo>
                    <a:pt x="21467" y="0"/>
                  </a:lnTo>
                  <a:lnTo>
                    <a:pt x="21600" y="101"/>
                  </a:lnTo>
                  <a:lnTo>
                    <a:pt x="21467" y="0"/>
                  </a:lnTo>
                  <a:lnTo>
                    <a:pt x="21334" y="0"/>
                  </a:lnTo>
                  <a:lnTo>
                    <a:pt x="21069" y="101"/>
                  </a:lnTo>
                  <a:lnTo>
                    <a:pt x="20539" y="202"/>
                  </a:lnTo>
                  <a:lnTo>
                    <a:pt x="19612" y="405"/>
                  </a:lnTo>
                  <a:lnTo>
                    <a:pt x="19346" y="405"/>
                  </a:lnTo>
                  <a:lnTo>
                    <a:pt x="18949" y="506"/>
                  </a:lnTo>
                  <a:lnTo>
                    <a:pt x="18419" y="608"/>
                  </a:lnTo>
                  <a:lnTo>
                    <a:pt x="18021" y="608"/>
                  </a:lnTo>
                  <a:lnTo>
                    <a:pt x="17624" y="709"/>
                  </a:lnTo>
                  <a:lnTo>
                    <a:pt x="17359" y="811"/>
                  </a:lnTo>
                  <a:lnTo>
                    <a:pt x="16961" y="1013"/>
                  </a:lnTo>
                  <a:lnTo>
                    <a:pt x="16696" y="1115"/>
                  </a:lnTo>
                  <a:lnTo>
                    <a:pt x="16299" y="1216"/>
                  </a:lnTo>
                  <a:lnTo>
                    <a:pt x="15901" y="1419"/>
                  </a:lnTo>
                  <a:lnTo>
                    <a:pt x="15636" y="1622"/>
                  </a:lnTo>
                  <a:lnTo>
                    <a:pt x="15371" y="1723"/>
                  </a:lnTo>
                  <a:lnTo>
                    <a:pt x="14973" y="1926"/>
                  </a:lnTo>
                  <a:lnTo>
                    <a:pt x="14841" y="2129"/>
                  </a:lnTo>
                  <a:lnTo>
                    <a:pt x="14576" y="2535"/>
                  </a:lnTo>
                  <a:lnTo>
                    <a:pt x="14311" y="2839"/>
                  </a:lnTo>
                  <a:lnTo>
                    <a:pt x="14311" y="2940"/>
                  </a:lnTo>
                  <a:lnTo>
                    <a:pt x="14178" y="3042"/>
                  </a:lnTo>
                  <a:lnTo>
                    <a:pt x="14046" y="3143"/>
                  </a:lnTo>
                  <a:lnTo>
                    <a:pt x="13913" y="3244"/>
                  </a:lnTo>
                  <a:lnTo>
                    <a:pt x="13781" y="3346"/>
                  </a:lnTo>
                  <a:lnTo>
                    <a:pt x="13648" y="3549"/>
                  </a:lnTo>
                  <a:lnTo>
                    <a:pt x="13383" y="3752"/>
                  </a:lnTo>
                  <a:lnTo>
                    <a:pt x="13251" y="3853"/>
                  </a:lnTo>
                  <a:lnTo>
                    <a:pt x="13118" y="4056"/>
                  </a:lnTo>
                  <a:lnTo>
                    <a:pt x="12986" y="4258"/>
                  </a:lnTo>
                  <a:lnTo>
                    <a:pt x="12721" y="4563"/>
                  </a:lnTo>
                  <a:lnTo>
                    <a:pt x="12588" y="4664"/>
                  </a:lnTo>
                  <a:lnTo>
                    <a:pt x="12588" y="4867"/>
                  </a:lnTo>
                  <a:lnTo>
                    <a:pt x="12323" y="5070"/>
                  </a:lnTo>
                  <a:lnTo>
                    <a:pt x="12191" y="5374"/>
                  </a:lnTo>
                  <a:lnTo>
                    <a:pt x="12058" y="5577"/>
                  </a:lnTo>
                  <a:lnTo>
                    <a:pt x="12058" y="5678"/>
                  </a:lnTo>
                  <a:lnTo>
                    <a:pt x="12058" y="5881"/>
                  </a:lnTo>
                  <a:lnTo>
                    <a:pt x="11926" y="5983"/>
                  </a:lnTo>
                  <a:lnTo>
                    <a:pt x="11793" y="6185"/>
                  </a:lnTo>
                  <a:lnTo>
                    <a:pt x="11661" y="6388"/>
                  </a:lnTo>
                  <a:lnTo>
                    <a:pt x="11528" y="6591"/>
                  </a:lnTo>
                  <a:lnTo>
                    <a:pt x="11396" y="6895"/>
                  </a:lnTo>
                  <a:lnTo>
                    <a:pt x="11396" y="7199"/>
                  </a:lnTo>
                  <a:lnTo>
                    <a:pt x="11131" y="7605"/>
                  </a:lnTo>
                  <a:lnTo>
                    <a:pt x="10998" y="7909"/>
                  </a:lnTo>
                  <a:lnTo>
                    <a:pt x="10998" y="8214"/>
                  </a:lnTo>
                  <a:lnTo>
                    <a:pt x="10866" y="8416"/>
                  </a:lnTo>
                  <a:lnTo>
                    <a:pt x="10866" y="8619"/>
                  </a:lnTo>
                  <a:lnTo>
                    <a:pt x="10600" y="8720"/>
                  </a:lnTo>
                  <a:lnTo>
                    <a:pt x="10600" y="8923"/>
                  </a:lnTo>
                  <a:lnTo>
                    <a:pt x="10600" y="9025"/>
                  </a:lnTo>
                  <a:lnTo>
                    <a:pt x="10468" y="9126"/>
                  </a:lnTo>
                  <a:lnTo>
                    <a:pt x="10335" y="9430"/>
                  </a:lnTo>
                  <a:lnTo>
                    <a:pt x="10203" y="9735"/>
                  </a:lnTo>
                  <a:lnTo>
                    <a:pt x="10203" y="9937"/>
                  </a:lnTo>
                  <a:lnTo>
                    <a:pt x="10203" y="10242"/>
                  </a:lnTo>
                  <a:lnTo>
                    <a:pt x="10070" y="10647"/>
                  </a:lnTo>
                  <a:lnTo>
                    <a:pt x="10070" y="10951"/>
                  </a:lnTo>
                  <a:lnTo>
                    <a:pt x="10070" y="11357"/>
                  </a:lnTo>
                  <a:lnTo>
                    <a:pt x="9938" y="11661"/>
                  </a:lnTo>
                  <a:lnTo>
                    <a:pt x="9938" y="11966"/>
                  </a:lnTo>
                  <a:lnTo>
                    <a:pt x="9938" y="12270"/>
                  </a:lnTo>
                  <a:lnTo>
                    <a:pt x="9938" y="12472"/>
                  </a:lnTo>
                  <a:lnTo>
                    <a:pt x="9938" y="12574"/>
                  </a:lnTo>
                  <a:lnTo>
                    <a:pt x="10070" y="12574"/>
                  </a:lnTo>
                  <a:lnTo>
                    <a:pt x="10203" y="12472"/>
                  </a:lnTo>
                  <a:lnTo>
                    <a:pt x="10468" y="12371"/>
                  </a:lnTo>
                  <a:lnTo>
                    <a:pt x="10600" y="12067"/>
                  </a:lnTo>
                  <a:lnTo>
                    <a:pt x="10733" y="11763"/>
                  </a:lnTo>
                  <a:lnTo>
                    <a:pt x="10733" y="11560"/>
                  </a:lnTo>
                  <a:lnTo>
                    <a:pt x="10866" y="11256"/>
                  </a:lnTo>
                  <a:lnTo>
                    <a:pt x="10998" y="10951"/>
                  </a:lnTo>
                  <a:lnTo>
                    <a:pt x="10998" y="10647"/>
                  </a:lnTo>
                  <a:lnTo>
                    <a:pt x="11131" y="10242"/>
                  </a:lnTo>
                  <a:lnTo>
                    <a:pt x="11263" y="10039"/>
                  </a:lnTo>
                  <a:lnTo>
                    <a:pt x="11396" y="9937"/>
                  </a:lnTo>
                  <a:lnTo>
                    <a:pt x="11528" y="9633"/>
                  </a:lnTo>
                  <a:lnTo>
                    <a:pt x="11793" y="9227"/>
                  </a:lnTo>
                  <a:lnTo>
                    <a:pt x="11793" y="8923"/>
                  </a:lnTo>
                  <a:lnTo>
                    <a:pt x="12191" y="8720"/>
                  </a:lnTo>
                  <a:lnTo>
                    <a:pt x="12323" y="8518"/>
                  </a:lnTo>
                  <a:lnTo>
                    <a:pt x="12721" y="8315"/>
                  </a:lnTo>
                  <a:lnTo>
                    <a:pt x="13118" y="8214"/>
                  </a:lnTo>
                  <a:lnTo>
                    <a:pt x="13118" y="8112"/>
                  </a:lnTo>
                  <a:lnTo>
                    <a:pt x="13251" y="8112"/>
                  </a:lnTo>
                  <a:lnTo>
                    <a:pt x="13383" y="8112"/>
                  </a:lnTo>
                  <a:lnTo>
                    <a:pt x="13516" y="8214"/>
                  </a:lnTo>
                  <a:lnTo>
                    <a:pt x="13648" y="8315"/>
                  </a:lnTo>
                  <a:lnTo>
                    <a:pt x="13781" y="8416"/>
                  </a:lnTo>
                  <a:lnTo>
                    <a:pt x="13781" y="8619"/>
                  </a:lnTo>
                  <a:lnTo>
                    <a:pt x="13781" y="8619"/>
                  </a:lnTo>
                  <a:lnTo>
                    <a:pt x="13913" y="8822"/>
                  </a:lnTo>
                  <a:lnTo>
                    <a:pt x="13781" y="9025"/>
                  </a:lnTo>
                  <a:lnTo>
                    <a:pt x="13913" y="9227"/>
                  </a:lnTo>
                  <a:lnTo>
                    <a:pt x="13781" y="9532"/>
                  </a:lnTo>
                  <a:lnTo>
                    <a:pt x="13913" y="9836"/>
                  </a:lnTo>
                  <a:lnTo>
                    <a:pt x="13781" y="10039"/>
                  </a:lnTo>
                  <a:lnTo>
                    <a:pt x="13913" y="10242"/>
                  </a:lnTo>
                  <a:lnTo>
                    <a:pt x="13781" y="10445"/>
                  </a:lnTo>
                  <a:lnTo>
                    <a:pt x="13781" y="10749"/>
                  </a:lnTo>
                  <a:lnTo>
                    <a:pt x="13781" y="10951"/>
                  </a:lnTo>
                  <a:lnTo>
                    <a:pt x="13781" y="11256"/>
                  </a:lnTo>
                  <a:lnTo>
                    <a:pt x="13648" y="11560"/>
                  </a:lnTo>
                  <a:lnTo>
                    <a:pt x="13516" y="11864"/>
                  </a:lnTo>
                  <a:lnTo>
                    <a:pt x="13516" y="11966"/>
                  </a:lnTo>
                  <a:lnTo>
                    <a:pt x="13648" y="12168"/>
                  </a:lnTo>
                  <a:lnTo>
                    <a:pt x="13516" y="12472"/>
                  </a:lnTo>
                  <a:lnTo>
                    <a:pt x="13516" y="12676"/>
                  </a:lnTo>
                  <a:lnTo>
                    <a:pt x="13383" y="12878"/>
                  </a:lnTo>
                  <a:lnTo>
                    <a:pt x="13383" y="12980"/>
                  </a:lnTo>
                  <a:lnTo>
                    <a:pt x="13383" y="13081"/>
                  </a:lnTo>
                  <a:lnTo>
                    <a:pt x="13383" y="13182"/>
                  </a:lnTo>
                  <a:lnTo>
                    <a:pt x="13251" y="13284"/>
                  </a:lnTo>
                  <a:lnTo>
                    <a:pt x="13251" y="13284"/>
                  </a:lnTo>
                  <a:lnTo>
                    <a:pt x="13251" y="13284"/>
                  </a:lnTo>
                  <a:lnTo>
                    <a:pt x="13118" y="13689"/>
                  </a:lnTo>
                  <a:lnTo>
                    <a:pt x="13118" y="13994"/>
                  </a:lnTo>
                  <a:lnTo>
                    <a:pt x="12986" y="14298"/>
                  </a:lnTo>
                  <a:lnTo>
                    <a:pt x="12853" y="14703"/>
                  </a:lnTo>
                  <a:lnTo>
                    <a:pt x="12853" y="15008"/>
                  </a:lnTo>
                  <a:lnTo>
                    <a:pt x="12721" y="15413"/>
                  </a:lnTo>
                  <a:lnTo>
                    <a:pt x="12588" y="15616"/>
                  </a:lnTo>
                  <a:lnTo>
                    <a:pt x="12456" y="15920"/>
                  </a:lnTo>
                  <a:lnTo>
                    <a:pt x="12323" y="16225"/>
                  </a:lnTo>
                  <a:lnTo>
                    <a:pt x="12191" y="16428"/>
                  </a:lnTo>
                  <a:lnTo>
                    <a:pt x="12058" y="16732"/>
                  </a:lnTo>
                  <a:lnTo>
                    <a:pt x="11793" y="17036"/>
                  </a:lnTo>
                  <a:lnTo>
                    <a:pt x="11793" y="17239"/>
                  </a:lnTo>
                  <a:lnTo>
                    <a:pt x="11528" y="17543"/>
                  </a:lnTo>
                  <a:lnTo>
                    <a:pt x="11396" y="17746"/>
                  </a:lnTo>
                  <a:lnTo>
                    <a:pt x="11131" y="17949"/>
                  </a:lnTo>
                  <a:lnTo>
                    <a:pt x="11131" y="18253"/>
                  </a:lnTo>
                  <a:lnTo>
                    <a:pt x="10866" y="18456"/>
                  </a:lnTo>
                  <a:lnTo>
                    <a:pt x="10733" y="18659"/>
                  </a:lnTo>
                  <a:lnTo>
                    <a:pt x="10468" y="18760"/>
                  </a:lnTo>
                  <a:lnTo>
                    <a:pt x="10203" y="18963"/>
                  </a:lnTo>
                  <a:lnTo>
                    <a:pt x="10070" y="19165"/>
                  </a:lnTo>
                  <a:lnTo>
                    <a:pt x="9938" y="19369"/>
                  </a:lnTo>
                  <a:lnTo>
                    <a:pt x="9673" y="19470"/>
                  </a:lnTo>
                  <a:lnTo>
                    <a:pt x="9540" y="19673"/>
                  </a:lnTo>
                  <a:lnTo>
                    <a:pt x="9408" y="19774"/>
                  </a:lnTo>
                  <a:lnTo>
                    <a:pt x="9143" y="19875"/>
                  </a:lnTo>
                  <a:lnTo>
                    <a:pt x="8878" y="19977"/>
                  </a:lnTo>
                  <a:lnTo>
                    <a:pt x="8745" y="20078"/>
                  </a:lnTo>
                  <a:lnTo>
                    <a:pt x="8348" y="20180"/>
                  </a:lnTo>
                  <a:lnTo>
                    <a:pt x="8083" y="20180"/>
                  </a:lnTo>
                  <a:lnTo>
                    <a:pt x="7818" y="20180"/>
                  </a:lnTo>
                  <a:lnTo>
                    <a:pt x="7685" y="20281"/>
                  </a:lnTo>
                  <a:lnTo>
                    <a:pt x="7420" y="20281"/>
                  </a:lnTo>
                  <a:lnTo>
                    <a:pt x="7155" y="20281"/>
                  </a:lnTo>
                  <a:lnTo>
                    <a:pt x="6890" y="20281"/>
                  </a:lnTo>
                  <a:lnTo>
                    <a:pt x="6493" y="20078"/>
                  </a:lnTo>
                  <a:lnTo>
                    <a:pt x="6227" y="20078"/>
                  </a:lnTo>
                  <a:lnTo>
                    <a:pt x="6095" y="19875"/>
                  </a:lnTo>
                  <a:lnTo>
                    <a:pt x="5830" y="19774"/>
                  </a:lnTo>
                  <a:lnTo>
                    <a:pt x="5565" y="19673"/>
                  </a:lnTo>
                  <a:lnTo>
                    <a:pt x="5432" y="19470"/>
                  </a:lnTo>
                  <a:lnTo>
                    <a:pt x="5300" y="19267"/>
                  </a:lnTo>
                  <a:lnTo>
                    <a:pt x="5035" y="19064"/>
                  </a:lnTo>
                  <a:lnTo>
                    <a:pt x="4902" y="18760"/>
                  </a:lnTo>
                  <a:lnTo>
                    <a:pt x="4505" y="18557"/>
                  </a:lnTo>
                  <a:lnTo>
                    <a:pt x="4372" y="18253"/>
                  </a:lnTo>
                  <a:lnTo>
                    <a:pt x="4107" y="17949"/>
                  </a:lnTo>
                  <a:lnTo>
                    <a:pt x="3975" y="17644"/>
                  </a:lnTo>
                  <a:lnTo>
                    <a:pt x="3975" y="17442"/>
                  </a:lnTo>
                  <a:lnTo>
                    <a:pt x="3842" y="17036"/>
                  </a:lnTo>
                  <a:lnTo>
                    <a:pt x="3710" y="16833"/>
                  </a:lnTo>
                  <a:lnTo>
                    <a:pt x="3445" y="16428"/>
                  </a:lnTo>
                  <a:lnTo>
                    <a:pt x="3312" y="16022"/>
                  </a:lnTo>
                  <a:lnTo>
                    <a:pt x="3312" y="15718"/>
                  </a:lnTo>
                  <a:lnTo>
                    <a:pt x="3047" y="15515"/>
                  </a:lnTo>
                  <a:lnTo>
                    <a:pt x="3047" y="15109"/>
                  </a:lnTo>
                  <a:lnTo>
                    <a:pt x="2915" y="14703"/>
                  </a:lnTo>
                  <a:lnTo>
                    <a:pt x="2782" y="14399"/>
                  </a:lnTo>
                  <a:lnTo>
                    <a:pt x="2782" y="14095"/>
                  </a:lnTo>
                  <a:lnTo>
                    <a:pt x="2915" y="13791"/>
                  </a:lnTo>
                  <a:lnTo>
                    <a:pt x="2782" y="13487"/>
                  </a:lnTo>
                  <a:lnTo>
                    <a:pt x="2782" y="13182"/>
                  </a:lnTo>
                  <a:lnTo>
                    <a:pt x="2782" y="12878"/>
                  </a:lnTo>
                  <a:lnTo>
                    <a:pt x="2782" y="12270"/>
                  </a:lnTo>
                  <a:lnTo>
                    <a:pt x="2650" y="11966"/>
                  </a:lnTo>
                  <a:lnTo>
                    <a:pt x="2650" y="11560"/>
                  </a:lnTo>
                  <a:lnTo>
                    <a:pt x="2782" y="11053"/>
                  </a:lnTo>
                  <a:lnTo>
                    <a:pt x="2782" y="10647"/>
                  </a:lnTo>
                  <a:lnTo>
                    <a:pt x="2782" y="10242"/>
                  </a:lnTo>
                  <a:lnTo>
                    <a:pt x="2915" y="9937"/>
                  </a:lnTo>
                  <a:lnTo>
                    <a:pt x="3047" y="9532"/>
                  </a:lnTo>
                  <a:lnTo>
                    <a:pt x="3047" y="9126"/>
                  </a:lnTo>
                  <a:lnTo>
                    <a:pt x="3047" y="8720"/>
                  </a:lnTo>
                  <a:lnTo>
                    <a:pt x="3180" y="8416"/>
                  </a:lnTo>
                  <a:lnTo>
                    <a:pt x="3312" y="7909"/>
                  </a:lnTo>
                  <a:lnTo>
                    <a:pt x="3445" y="7706"/>
                  </a:lnTo>
                  <a:lnTo>
                    <a:pt x="3577" y="7301"/>
                  </a:lnTo>
                  <a:lnTo>
                    <a:pt x="3710" y="6996"/>
                  </a:lnTo>
                  <a:lnTo>
                    <a:pt x="3975" y="6591"/>
                  </a:lnTo>
                  <a:lnTo>
                    <a:pt x="4107" y="6185"/>
                  </a:lnTo>
                  <a:lnTo>
                    <a:pt x="4240" y="5881"/>
                  </a:lnTo>
                  <a:lnTo>
                    <a:pt x="4372" y="5577"/>
                  </a:lnTo>
                  <a:lnTo>
                    <a:pt x="4505" y="5374"/>
                  </a:lnTo>
                  <a:lnTo>
                    <a:pt x="4770" y="5070"/>
                  </a:lnTo>
                  <a:lnTo>
                    <a:pt x="5035" y="4765"/>
                  </a:lnTo>
                  <a:lnTo>
                    <a:pt x="5167" y="4563"/>
                  </a:lnTo>
                  <a:lnTo>
                    <a:pt x="5432" y="4258"/>
                  </a:lnTo>
                  <a:lnTo>
                    <a:pt x="5565" y="3954"/>
                  </a:lnTo>
                  <a:lnTo>
                    <a:pt x="5830" y="3752"/>
                  </a:lnTo>
                  <a:lnTo>
                    <a:pt x="5962" y="3650"/>
                  </a:lnTo>
                  <a:lnTo>
                    <a:pt x="6360" y="3447"/>
                  </a:lnTo>
                  <a:lnTo>
                    <a:pt x="6493" y="3244"/>
                  </a:lnTo>
                  <a:lnTo>
                    <a:pt x="6758" y="3143"/>
                  </a:lnTo>
                  <a:lnTo>
                    <a:pt x="7155" y="2940"/>
                  </a:lnTo>
                  <a:lnTo>
                    <a:pt x="7420" y="2839"/>
                  </a:lnTo>
                  <a:lnTo>
                    <a:pt x="7420" y="2839"/>
                  </a:lnTo>
                  <a:lnTo>
                    <a:pt x="7420" y="2839"/>
                  </a:lnTo>
                  <a:lnTo>
                    <a:pt x="7420" y="2839"/>
                  </a:lnTo>
                  <a:lnTo>
                    <a:pt x="7288" y="2839"/>
                  </a:lnTo>
                  <a:lnTo>
                    <a:pt x="7023" y="2839"/>
                  </a:lnTo>
                  <a:lnTo>
                    <a:pt x="6758" y="2940"/>
                  </a:lnTo>
                  <a:lnTo>
                    <a:pt x="6493" y="2940"/>
                  </a:lnTo>
                  <a:lnTo>
                    <a:pt x="6095" y="3042"/>
                  </a:lnTo>
                  <a:lnTo>
                    <a:pt x="5830" y="3042"/>
                  </a:lnTo>
                  <a:lnTo>
                    <a:pt x="5565" y="3244"/>
                  </a:lnTo>
                  <a:lnTo>
                    <a:pt x="5167" y="3244"/>
                  </a:lnTo>
                  <a:lnTo>
                    <a:pt x="4902" y="3346"/>
                  </a:lnTo>
                  <a:lnTo>
                    <a:pt x="4505" y="3346"/>
                  </a:lnTo>
                  <a:lnTo>
                    <a:pt x="4240" y="3549"/>
                  </a:lnTo>
                  <a:lnTo>
                    <a:pt x="3975" y="3447"/>
                  </a:lnTo>
                  <a:lnTo>
                    <a:pt x="3842" y="3549"/>
                  </a:lnTo>
                  <a:lnTo>
                    <a:pt x="3577" y="3650"/>
                  </a:lnTo>
                  <a:lnTo>
                    <a:pt x="3312" y="3853"/>
                  </a:lnTo>
                  <a:lnTo>
                    <a:pt x="3180" y="3954"/>
                  </a:lnTo>
                  <a:lnTo>
                    <a:pt x="3047" y="4157"/>
                  </a:lnTo>
                  <a:lnTo>
                    <a:pt x="2650" y="4461"/>
                  </a:lnTo>
                  <a:lnTo>
                    <a:pt x="2385" y="4664"/>
                  </a:lnTo>
                  <a:lnTo>
                    <a:pt x="2252" y="4968"/>
                  </a:lnTo>
                  <a:lnTo>
                    <a:pt x="1987" y="5171"/>
                  </a:lnTo>
                  <a:lnTo>
                    <a:pt x="1854" y="5475"/>
                  </a:lnTo>
                  <a:lnTo>
                    <a:pt x="1589" y="5780"/>
                  </a:lnTo>
                  <a:lnTo>
                    <a:pt x="1324" y="6185"/>
                  </a:lnTo>
                  <a:lnTo>
                    <a:pt x="1192" y="6591"/>
                  </a:lnTo>
                  <a:lnTo>
                    <a:pt x="1059" y="6996"/>
                  </a:lnTo>
                  <a:lnTo>
                    <a:pt x="927" y="7301"/>
                  </a:lnTo>
                  <a:lnTo>
                    <a:pt x="794" y="7808"/>
                  </a:lnTo>
                  <a:lnTo>
                    <a:pt x="662" y="8214"/>
                  </a:lnTo>
                  <a:lnTo>
                    <a:pt x="529" y="8619"/>
                  </a:lnTo>
                  <a:lnTo>
                    <a:pt x="397" y="9025"/>
                  </a:lnTo>
                  <a:lnTo>
                    <a:pt x="264" y="9532"/>
                  </a:lnTo>
                  <a:lnTo>
                    <a:pt x="132" y="10039"/>
                  </a:lnTo>
                  <a:lnTo>
                    <a:pt x="132" y="10343"/>
                  </a:lnTo>
                  <a:lnTo>
                    <a:pt x="0" y="10850"/>
                  </a:lnTo>
                  <a:lnTo>
                    <a:pt x="0" y="11256"/>
                  </a:lnTo>
                  <a:lnTo>
                    <a:pt x="0" y="11661"/>
                  </a:lnTo>
                  <a:lnTo>
                    <a:pt x="0" y="12168"/>
                  </a:lnTo>
                  <a:lnTo>
                    <a:pt x="0" y="12676"/>
                  </a:lnTo>
                  <a:lnTo>
                    <a:pt x="0" y="13182"/>
                  </a:lnTo>
                  <a:lnTo>
                    <a:pt x="264" y="13588"/>
                  </a:lnTo>
                  <a:lnTo>
                    <a:pt x="264" y="14095"/>
                  </a:lnTo>
                  <a:lnTo>
                    <a:pt x="397" y="14501"/>
                  </a:lnTo>
                  <a:lnTo>
                    <a:pt x="397" y="15008"/>
                  </a:lnTo>
                  <a:lnTo>
                    <a:pt x="529" y="15413"/>
                  </a:lnTo>
                  <a:lnTo>
                    <a:pt x="927" y="16326"/>
                  </a:lnTo>
                  <a:lnTo>
                    <a:pt x="1192" y="17138"/>
                  </a:lnTo>
                  <a:lnTo>
                    <a:pt x="1722" y="17949"/>
                  </a:lnTo>
                  <a:lnTo>
                    <a:pt x="2119" y="18659"/>
                  </a:lnTo>
                  <a:lnTo>
                    <a:pt x="2385" y="19165"/>
                  </a:lnTo>
                  <a:lnTo>
                    <a:pt x="2915" y="19673"/>
                  </a:lnTo>
                  <a:lnTo>
                    <a:pt x="3312" y="20180"/>
                  </a:lnTo>
                  <a:lnTo>
                    <a:pt x="3842" y="20585"/>
                  </a:lnTo>
                  <a:lnTo>
                    <a:pt x="4240" y="20890"/>
                  </a:lnTo>
                  <a:lnTo>
                    <a:pt x="4902" y="21194"/>
                  </a:lnTo>
                  <a:lnTo>
                    <a:pt x="5300" y="21295"/>
                  </a:lnTo>
                  <a:lnTo>
                    <a:pt x="5697" y="21498"/>
                  </a:lnTo>
                  <a:lnTo>
                    <a:pt x="6227" y="21498"/>
                  </a:lnTo>
                  <a:lnTo>
                    <a:pt x="6758" y="21600"/>
                  </a:lnTo>
                  <a:lnTo>
                    <a:pt x="7288" y="21600"/>
                  </a:lnTo>
                  <a:lnTo>
                    <a:pt x="7685" y="21396"/>
                  </a:lnTo>
                  <a:lnTo>
                    <a:pt x="8215" y="21295"/>
                  </a:lnTo>
                  <a:lnTo>
                    <a:pt x="8745" y="21092"/>
                  </a:lnTo>
                  <a:lnTo>
                    <a:pt x="9275" y="20991"/>
                  </a:lnTo>
                  <a:lnTo>
                    <a:pt x="9673" y="20585"/>
                  </a:lnTo>
                  <a:lnTo>
                    <a:pt x="9805" y="20484"/>
                  </a:lnTo>
                  <a:lnTo>
                    <a:pt x="10335" y="20078"/>
                  </a:lnTo>
                  <a:lnTo>
                    <a:pt x="10733" y="19673"/>
                  </a:lnTo>
                  <a:lnTo>
                    <a:pt x="11263" y="19267"/>
                  </a:lnTo>
                  <a:lnTo>
                    <a:pt x="11528" y="18963"/>
                  </a:lnTo>
                  <a:lnTo>
                    <a:pt x="11793" y="18456"/>
                  </a:lnTo>
                  <a:lnTo>
                    <a:pt x="12191" y="18050"/>
                  </a:lnTo>
                  <a:lnTo>
                    <a:pt x="12588" y="17543"/>
                  </a:lnTo>
                  <a:lnTo>
                    <a:pt x="12721" y="17138"/>
                  </a:lnTo>
                  <a:lnTo>
                    <a:pt x="12986" y="16630"/>
                  </a:lnTo>
                  <a:lnTo>
                    <a:pt x="13118" y="16123"/>
                  </a:lnTo>
                  <a:lnTo>
                    <a:pt x="13251" y="15616"/>
                  </a:lnTo>
                  <a:lnTo>
                    <a:pt x="13251" y="15413"/>
                  </a:lnTo>
                  <a:lnTo>
                    <a:pt x="13251" y="15211"/>
                  </a:lnTo>
                  <a:lnTo>
                    <a:pt x="13383" y="15008"/>
                  </a:lnTo>
                  <a:lnTo>
                    <a:pt x="13383" y="14805"/>
                  </a:lnTo>
                  <a:lnTo>
                    <a:pt x="13516" y="14602"/>
                  </a:lnTo>
                  <a:lnTo>
                    <a:pt x="13516" y="14298"/>
                  </a:lnTo>
                  <a:lnTo>
                    <a:pt x="13648" y="14095"/>
                  </a:lnTo>
                  <a:lnTo>
                    <a:pt x="13648" y="13892"/>
                  </a:lnTo>
                  <a:lnTo>
                    <a:pt x="13781" y="13689"/>
                  </a:lnTo>
                  <a:lnTo>
                    <a:pt x="13781" y="13487"/>
                  </a:lnTo>
                  <a:lnTo>
                    <a:pt x="13648" y="13284"/>
                  </a:lnTo>
                  <a:lnTo>
                    <a:pt x="13781" y="12980"/>
                  </a:lnTo>
                  <a:lnTo>
                    <a:pt x="13781" y="12777"/>
                  </a:lnTo>
                  <a:lnTo>
                    <a:pt x="13781" y="12472"/>
                  </a:lnTo>
                  <a:lnTo>
                    <a:pt x="13913" y="12270"/>
                  </a:lnTo>
                  <a:lnTo>
                    <a:pt x="13781" y="12168"/>
                  </a:lnTo>
                  <a:lnTo>
                    <a:pt x="13781" y="11864"/>
                  </a:lnTo>
                  <a:lnTo>
                    <a:pt x="13781" y="11661"/>
                  </a:lnTo>
                  <a:lnTo>
                    <a:pt x="13781" y="11357"/>
                  </a:lnTo>
                  <a:lnTo>
                    <a:pt x="13781" y="11154"/>
                  </a:lnTo>
                  <a:lnTo>
                    <a:pt x="13781" y="10850"/>
                  </a:lnTo>
                  <a:lnTo>
                    <a:pt x="13648" y="10546"/>
                  </a:lnTo>
                  <a:lnTo>
                    <a:pt x="13781" y="10242"/>
                  </a:lnTo>
                  <a:lnTo>
                    <a:pt x="13648" y="10140"/>
                  </a:lnTo>
                  <a:lnTo>
                    <a:pt x="13516" y="9937"/>
                  </a:lnTo>
                  <a:lnTo>
                    <a:pt x="13516" y="9735"/>
                  </a:lnTo>
                  <a:lnTo>
                    <a:pt x="13516" y="9430"/>
                  </a:lnTo>
                  <a:lnTo>
                    <a:pt x="13383" y="9126"/>
                  </a:lnTo>
                  <a:lnTo>
                    <a:pt x="13383" y="8923"/>
                  </a:lnTo>
                  <a:lnTo>
                    <a:pt x="13251" y="8518"/>
                  </a:lnTo>
                  <a:lnTo>
                    <a:pt x="13251" y="8416"/>
                  </a:lnTo>
                  <a:lnTo>
                    <a:pt x="13118" y="8112"/>
                  </a:lnTo>
                  <a:lnTo>
                    <a:pt x="13118" y="8011"/>
                  </a:lnTo>
                  <a:lnTo>
                    <a:pt x="13251" y="7808"/>
                  </a:lnTo>
                  <a:lnTo>
                    <a:pt x="13251" y="7605"/>
                  </a:lnTo>
                  <a:lnTo>
                    <a:pt x="13251" y="7301"/>
                  </a:lnTo>
                  <a:lnTo>
                    <a:pt x="13251" y="7098"/>
                  </a:lnTo>
                  <a:lnTo>
                    <a:pt x="13383" y="6794"/>
                  </a:lnTo>
                  <a:lnTo>
                    <a:pt x="13383" y="6692"/>
                  </a:lnTo>
                  <a:lnTo>
                    <a:pt x="13648" y="6388"/>
                  </a:lnTo>
                  <a:lnTo>
                    <a:pt x="13648" y="6084"/>
                  </a:lnTo>
                  <a:lnTo>
                    <a:pt x="13781" y="5881"/>
                  </a:lnTo>
                  <a:lnTo>
                    <a:pt x="13781" y="5678"/>
                  </a:lnTo>
                  <a:lnTo>
                    <a:pt x="13913" y="5475"/>
                  </a:lnTo>
                  <a:lnTo>
                    <a:pt x="14046" y="5171"/>
                  </a:lnTo>
                  <a:lnTo>
                    <a:pt x="14178" y="5070"/>
                  </a:lnTo>
                  <a:lnTo>
                    <a:pt x="14311" y="4968"/>
                  </a:lnTo>
                  <a:lnTo>
                    <a:pt x="14443" y="4765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" name="未知"/>
          <p:cNvSpPr/>
          <p:nvPr/>
        </p:nvSpPr>
        <p:spPr>
          <a:xfrm>
            <a:off x="2130480" y="4749840"/>
            <a:ext cx="7013520" cy="2135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403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403"/>
                </a:lnTo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0195-04F0-4515-BC48-BEF8BEAFA77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BE3C-513F-4996-9177-114993A5FD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77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5262480" y="4076640"/>
            <a:ext cx="1396440" cy="1748880"/>
            <a:chOff x="5262480" y="4076640"/>
            <a:chExt cx="1396440" cy="1748880"/>
          </a:xfrm>
        </p:grpSpPr>
        <p:sp>
          <p:nvSpPr>
            <p:cNvPr id="105" name="未知"/>
            <p:cNvSpPr/>
            <p:nvPr/>
          </p:nvSpPr>
          <p:spPr>
            <a:xfrm>
              <a:off x="6203520" y="4752720"/>
              <a:ext cx="455400" cy="809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199" y="6295"/>
                  </a:moveTo>
                  <a:lnTo>
                    <a:pt x="7199" y="6186"/>
                  </a:lnTo>
                  <a:lnTo>
                    <a:pt x="7010" y="5861"/>
                  </a:lnTo>
                  <a:lnTo>
                    <a:pt x="7199" y="5535"/>
                  </a:lnTo>
                  <a:lnTo>
                    <a:pt x="7389" y="5209"/>
                  </a:lnTo>
                  <a:lnTo>
                    <a:pt x="7389" y="4775"/>
                  </a:lnTo>
                  <a:lnTo>
                    <a:pt x="7768" y="4450"/>
                  </a:lnTo>
                  <a:lnTo>
                    <a:pt x="7957" y="4341"/>
                  </a:lnTo>
                  <a:lnTo>
                    <a:pt x="8336" y="4016"/>
                  </a:lnTo>
                  <a:lnTo>
                    <a:pt x="8715" y="3581"/>
                  </a:lnTo>
                  <a:lnTo>
                    <a:pt x="8905" y="3256"/>
                  </a:lnTo>
                  <a:lnTo>
                    <a:pt x="9283" y="3039"/>
                  </a:lnTo>
                  <a:lnTo>
                    <a:pt x="9473" y="2821"/>
                  </a:lnTo>
                  <a:lnTo>
                    <a:pt x="9852" y="2713"/>
                  </a:lnTo>
                  <a:lnTo>
                    <a:pt x="10041" y="2604"/>
                  </a:lnTo>
                  <a:lnTo>
                    <a:pt x="10231" y="2387"/>
                  </a:lnTo>
                  <a:lnTo>
                    <a:pt x="10420" y="2279"/>
                  </a:lnTo>
                  <a:lnTo>
                    <a:pt x="10420" y="2170"/>
                  </a:lnTo>
                  <a:lnTo>
                    <a:pt x="10610" y="2062"/>
                  </a:lnTo>
                  <a:lnTo>
                    <a:pt x="10800" y="1953"/>
                  </a:lnTo>
                  <a:lnTo>
                    <a:pt x="10989" y="1953"/>
                  </a:lnTo>
                  <a:lnTo>
                    <a:pt x="11368" y="1845"/>
                  </a:lnTo>
                  <a:lnTo>
                    <a:pt x="11557" y="1736"/>
                  </a:lnTo>
                  <a:lnTo>
                    <a:pt x="11747" y="1627"/>
                  </a:lnTo>
                  <a:lnTo>
                    <a:pt x="11936" y="1627"/>
                  </a:lnTo>
                  <a:lnTo>
                    <a:pt x="12126" y="1410"/>
                  </a:lnTo>
                  <a:lnTo>
                    <a:pt x="12315" y="1410"/>
                  </a:lnTo>
                  <a:lnTo>
                    <a:pt x="12694" y="1302"/>
                  </a:lnTo>
                  <a:lnTo>
                    <a:pt x="12883" y="1302"/>
                  </a:lnTo>
                  <a:lnTo>
                    <a:pt x="12883" y="1302"/>
                  </a:lnTo>
                  <a:lnTo>
                    <a:pt x="12883" y="1302"/>
                  </a:lnTo>
                  <a:lnTo>
                    <a:pt x="12883" y="1302"/>
                  </a:lnTo>
                  <a:lnTo>
                    <a:pt x="12883" y="1302"/>
                  </a:lnTo>
                  <a:lnTo>
                    <a:pt x="12315" y="1302"/>
                  </a:lnTo>
                  <a:lnTo>
                    <a:pt x="11747" y="1410"/>
                  </a:lnTo>
                  <a:lnTo>
                    <a:pt x="11178" y="1519"/>
                  </a:lnTo>
                  <a:lnTo>
                    <a:pt x="10800" y="1627"/>
                  </a:lnTo>
                  <a:lnTo>
                    <a:pt x="10610" y="1736"/>
                  </a:lnTo>
                  <a:lnTo>
                    <a:pt x="10041" y="1953"/>
                  </a:lnTo>
                  <a:lnTo>
                    <a:pt x="9662" y="2062"/>
                  </a:lnTo>
                  <a:lnTo>
                    <a:pt x="9283" y="2279"/>
                  </a:lnTo>
                  <a:lnTo>
                    <a:pt x="8905" y="2387"/>
                  </a:lnTo>
                  <a:lnTo>
                    <a:pt x="8526" y="2604"/>
                  </a:lnTo>
                  <a:lnTo>
                    <a:pt x="8147" y="2604"/>
                  </a:lnTo>
                  <a:lnTo>
                    <a:pt x="7578" y="2821"/>
                  </a:lnTo>
                  <a:lnTo>
                    <a:pt x="7199" y="2930"/>
                  </a:lnTo>
                  <a:lnTo>
                    <a:pt x="6631" y="3256"/>
                  </a:lnTo>
                  <a:lnTo>
                    <a:pt x="6252" y="3364"/>
                  </a:lnTo>
                  <a:lnTo>
                    <a:pt x="5494" y="3690"/>
                  </a:lnTo>
                  <a:lnTo>
                    <a:pt x="5305" y="3690"/>
                  </a:lnTo>
                  <a:lnTo>
                    <a:pt x="5115" y="3581"/>
                  </a:lnTo>
                  <a:lnTo>
                    <a:pt x="4926" y="3581"/>
                  </a:lnTo>
                  <a:lnTo>
                    <a:pt x="4547" y="3581"/>
                  </a:lnTo>
                  <a:lnTo>
                    <a:pt x="4547" y="3473"/>
                  </a:lnTo>
                  <a:lnTo>
                    <a:pt x="4168" y="3256"/>
                  </a:lnTo>
                  <a:lnTo>
                    <a:pt x="3789" y="3039"/>
                  </a:lnTo>
                  <a:lnTo>
                    <a:pt x="3789" y="2930"/>
                  </a:lnTo>
                  <a:lnTo>
                    <a:pt x="3410" y="2604"/>
                  </a:lnTo>
                  <a:lnTo>
                    <a:pt x="3220" y="2387"/>
                  </a:lnTo>
                  <a:lnTo>
                    <a:pt x="2842" y="2170"/>
                  </a:lnTo>
                  <a:lnTo>
                    <a:pt x="2463" y="1953"/>
                  </a:lnTo>
                  <a:lnTo>
                    <a:pt x="2273" y="1845"/>
                  </a:lnTo>
                  <a:lnTo>
                    <a:pt x="1894" y="1519"/>
                  </a:lnTo>
                  <a:lnTo>
                    <a:pt x="1515" y="1302"/>
                  </a:lnTo>
                  <a:lnTo>
                    <a:pt x="1515" y="1085"/>
                  </a:lnTo>
                  <a:lnTo>
                    <a:pt x="1326" y="868"/>
                  </a:lnTo>
                  <a:lnTo>
                    <a:pt x="1136" y="650"/>
                  </a:lnTo>
                  <a:lnTo>
                    <a:pt x="947" y="434"/>
                  </a:lnTo>
                  <a:lnTo>
                    <a:pt x="568" y="325"/>
                  </a:lnTo>
                  <a:lnTo>
                    <a:pt x="378" y="216"/>
                  </a:lnTo>
                  <a:lnTo>
                    <a:pt x="378" y="0"/>
                  </a:lnTo>
                  <a:lnTo>
                    <a:pt x="189" y="0"/>
                  </a:lnTo>
                  <a:lnTo>
                    <a:pt x="189" y="0"/>
                  </a:lnTo>
                  <a:lnTo>
                    <a:pt x="189" y="0"/>
                  </a:lnTo>
                  <a:lnTo>
                    <a:pt x="189" y="108"/>
                  </a:lnTo>
                  <a:lnTo>
                    <a:pt x="0" y="216"/>
                  </a:lnTo>
                  <a:lnTo>
                    <a:pt x="189" y="325"/>
                  </a:lnTo>
                  <a:lnTo>
                    <a:pt x="189" y="542"/>
                  </a:lnTo>
                  <a:lnTo>
                    <a:pt x="378" y="976"/>
                  </a:lnTo>
                  <a:lnTo>
                    <a:pt x="378" y="1302"/>
                  </a:lnTo>
                  <a:lnTo>
                    <a:pt x="757" y="1627"/>
                  </a:lnTo>
                  <a:lnTo>
                    <a:pt x="947" y="1845"/>
                  </a:lnTo>
                  <a:lnTo>
                    <a:pt x="1136" y="2062"/>
                  </a:lnTo>
                  <a:lnTo>
                    <a:pt x="1326" y="2279"/>
                  </a:lnTo>
                  <a:lnTo>
                    <a:pt x="1326" y="2496"/>
                  </a:lnTo>
                  <a:lnTo>
                    <a:pt x="1704" y="2713"/>
                  </a:lnTo>
                  <a:lnTo>
                    <a:pt x="1894" y="3039"/>
                  </a:lnTo>
                  <a:lnTo>
                    <a:pt x="2273" y="3256"/>
                  </a:lnTo>
                  <a:lnTo>
                    <a:pt x="2463" y="3473"/>
                  </a:lnTo>
                  <a:lnTo>
                    <a:pt x="2842" y="3798"/>
                  </a:lnTo>
                  <a:lnTo>
                    <a:pt x="3220" y="3907"/>
                  </a:lnTo>
                  <a:lnTo>
                    <a:pt x="3410" y="4232"/>
                  </a:lnTo>
                  <a:lnTo>
                    <a:pt x="3599" y="4341"/>
                  </a:lnTo>
                  <a:lnTo>
                    <a:pt x="3599" y="4558"/>
                  </a:lnTo>
                  <a:lnTo>
                    <a:pt x="3789" y="4775"/>
                  </a:lnTo>
                  <a:lnTo>
                    <a:pt x="3978" y="4992"/>
                  </a:lnTo>
                  <a:lnTo>
                    <a:pt x="3978" y="5209"/>
                  </a:lnTo>
                  <a:lnTo>
                    <a:pt x="3978" y="5535"/>
                  </a:lnTo>
                  <a:lnTo>
                    <a:pt x="3978" y="5861"/>
                  </a:lnTo>
                  <a:lnTo>
                    <a:pt x="3789" y="6295"/>
                  </a:lnTo>
                  <a:lnTo>
                    <a:pt x="3599" y="6729"/>
                  </a:lnTo>
                  <a:lnTo>
                    <a:pt x="3599" y="7163"/>
                  </a:lnTo>
                  <a:lnTo>
                    <a:pt x="3599" y="7597"/>
                  </a:lnTo>
                  <a:lnTo>
                    <a:pt x="3410" y="7923"/>
                  </a:lnTo>
                  <a:lnTo>
                    <a:pt x="3410" y="8466"/>
                  </a:lnTo>
                  <a:lnTo>
                    <a:pt x="3220" y="8900"/>
                  </a:lnTo>
                  <a:lnTo>
                    <a:pt x="3031" y="9443"/>
                  </a:lnTo>
                  <a:lnTo>
                    <a:pt x="3031" y="9768"/>
                  </a:lnTo>
                  <a:lnTo>
                    <a:pt x="2842" y="10311"/>
                  </a:lnTo>
                  <a:lnTo>
                    <a:pt x="2842" y="10854"/>
                  </a:lnTo>
                  <a:lnTo>
                    <a:pt x="2652" y="11288"/>
                  </a:lnTo>
                  <a:lnTo>
                    <a:pt x="2652" y="11722"/>
                  </a:lnTo>
                  <a:lnTo>
                    <a:pt x="2652" y="12156"/>
                  </a:lnTo>
                  <a:lnTo>
                    <a:pt x="2652" y="12807"/>
                  </a:lnTo>
                  <a:lnTo>
                    <a:pt x="2842" y="13241"/>
                  </a:lnTo>
                  <a:lnTo>
                    <a:pt x="2652" y="13784"/>
                  </a:lnTo>
                  <a:lnTo>
                    <a:pt x="2842" y="14218"/>
                  </a:lnTo>
                  <a:lnTo>
                    <a:pt x="2842" y="14761"/>
                  </a:lnTo>
                  <a:lnTo>
                    <a:pt x="2842" y="15087"/>
                  </a:lnTo>
                  <a:lnTo>
                    <a:pt x="3031" y="15630"/>
                  </a:lnTo>
                  <a:lnTo>
                    <a:pt x="3220" y="16172"/>
                  </a:lnTo>
                  <a:lnTo>
                    <a:pt x="3410" y="16715"/>
                  </a:lnTo>
                  <a:lnTo>
                    <a:pt x="3599" y="17149"/>
                  </a:lnTo>
                  <a:lnTo>
                    <a:pt x="3978" y="17583"/>
                  </a:lnTo>
                  <a:lnTo>
                    <a:pt x="4357" y="18018"/>
                  </a:lnTo>
                  <a:lnTo>
                    <a:pt x="4736" y="18452"/>
                  </a:lnTo>
                  <a:lnTo>
                    <a:pt x="5305" y="18994"/>
                  </a:lnTo>
                  <a:lnTo>
                    <a:pt x="5684" y="19320"/>
                  </a:lnTo>
                  <a:lnTo>
                    <a:pt x="6441" y="19646"/>
                  </a:lnTo>
                  <a:lnTo>
                    <a:pt x="7010" y="20080"/>
                  </a:lnTo>
                  <a:lnTo>
                    <a:pt x="7389" y="20297"/>
                  </a:lnTo>
                  <a:lnTo>
                    <a:pt x="8147" y="20623"/>
                  </a:lnTo>
                  <a:lnTo>
                    <a:pt x="8526" y="20948"/>
                  </a:lnTo>
                  <a:lnTo>
                    <a:pt x="9283" y="21057"/>
                  </a:lnTo>
                  <a:lnTo>
                    <a:pt x="9662" y="21274"/>
                  </a:lnTo>
                  <a:lnTo>
                    <a:pt x="10231" y="21491"/>
                  </a:lnTo>
                  <a:lnTo>
                    <a:pt x="10800" y="21491"/>
                  </a:lnTo>
                  <a:lnTo>
                    <a:pt x="11368" y="21491"/>
                  </a:lnTo>
                  <a:lnTo>
                    <a:pt x="12126" y="21600"/>
                  </a:lnTo>
                  <a:lnTo>
                    <a:pt x="12504" y="21491"/>
                  </a:lnTo>
                  <a:lnTo>
                    <a:pt x="12883" y="21491"/>
                  </a:lnTo>
                  <a:lnTo>
                    <a:pt x="13452" y="21382"/>
                  </a:lnTo>
                  <a:lnTo>
                    <a:pt x="14020" y="21274"/>
                  </a:lnTo>
                  <a:lnTo>
                    <a:pt x="14589" y="21057"/>
                  </a:lnTo>
                  <a:lnTo>
                    <a:pt x="15157" y="20948"/>
                  </a:lnTo>
                  <a:lnTo>
                    <a:pt x="15726" y="20839"/>
                  </a:lnTo>
                  <a:lnTo>
                    <a:pt x="16105" y="20623"/>
                  </a:lnTo>
                  <a:lnTo>
                    <a:pt x="16294" y="20405"/>
                  </a:lnTo>
                  <a:lnTo>
                    <a:pt x="16863" y="20188"/>
                  </a:lnTo>
                  <a:lnTo>
                    <a:pt x="17431" y="19754"/>
                  </a:lnTo>
                  <a:lnTo>
                    <a:pt x="17620" y="19537"/>
                  </a:lnTo>
                  <a:lnTo>
                    <a:pt x="18189" y="19211"/>
                  </a:lnTo>
                  <a:lnTo>
                    <a:pt x="18378" y="18886"/>
                  </a:lnTo>
                  <a:lnTo>
                    <a:pt x="18947" y="18560"/>
                  </a:lnTo>
                  <a:lnTo>
                    <a:pt x="19326" y="18126"/>
                  </a:lnTo>
                  <a:lnTo>
                    <a:pt x="19515" y="17692"/>
                  </a:lnTo>
                  <a:lnTo>
                    <a:pt x="19894" y="17257"/>
                  </a:lnTo>
                  <a:lnTo>
                    <a:pt x="20083" y="17041"/>
                  </a:lnTo>
                  <a:lnTo>
                    <a:pt x="20273" y="16606"/>
                  </a:lnTo>
                  <a:lnTo>
                    <a:pt x="20462" y="16064"/>
                  </a:lnTo>
                  <a:lnTo>
                    <a:pt x="20841" y="15630"/>
                  </a:lnTo>
                  <a:lnTo>
                    <a:pt x="20841" y="15412"/>
                  </a:lnTo>
                  <a:lnTo>
                    <a:pt x="20841" y="15195"/>
                  </a:lnTo>
                  <a:lnTo>
                    <a:pt x="20841" y="14978"/>
                  </a:lnTo>
                  <a:lnTo>
                    <a:pt x="21031" y="14653"/>
                  </a:lnTo>
                  <a:lnTo>
                    <a:pt x="21031" y="14436"/>
                  </a:lnTo>
                  <a:lnTo>
                    <a:pt x="21220" y="14218"/>
                  </a:lnTo>
                  <a:lnTo>
                    <a:pt x="21220" y="13893"/>
                  </a:lnTo>
                  <a:lnTo>
                    <a:pt x="21410" y="13676"/>
                  </a:lnTo>
                  <a:lnTo>
                    <a:pt x="21220" y="13459"/>
                  </a:lnTo>
                  <a:lnTo>
                    <a:pt x="21410" y="13241"/>
                  </a:lnTo>
                  <a:lnTo>
                    <a:pt x="21410" y="12916"/>
                  </a:lnTo>
                  <a:lnTo>
                    <a:pt x="21410" y="12590"/>
                  </a:lnTo>
                  <a:lnTo>
                    <a:pt x="21410" y="12373"/>
                  </a:lnTo>
                  <a:lnTo>
                    <a:pt x="21600" y="12048"/>
                  </a:lnTo>
                  <a:lnTo>
                    <a:pt x="21600" y="11722"/>
                  </a:lnTo>
                  <a:lnTo>
                    <a:pt x="21600" y="11613"/>
                  </a:lnTo>
                  <a:lnTo>
                    <a:pt x="21410" y="11288"/>
                  </a:lnTo>
                  <a:lnTo>
                    <a:pt x="21600" y="11071"/>
                  </a:lnTo>
                  <a:lnTo>
                    <a:pt x="21410" y="10854"/>
                  </a:lnTo>
                  <a:lnTo>
                    <a:pt x="21410" y="10528"/>
                  </a:lnTo>
                  <a:lnTo>
                    <a:pt x="21600" y="10202"/>
                  </a:lnTo>
                  <a:lnTo>
                    <a:pt x="21410" y="9985"/>
                  </a:lnTo>
                  <a:lnTo>
                    <a:pt x="21410" y="9768"/>
                  </a:lnTo>
                  <a:lnTo>
                    <a:pt x="21220" y="9334"/>
                  </a:lnTo>
                  <a:lnTo>
                    <a:pt x="21220" y="9009"/>
                  </a:lnTo>
                  <a:lnTo>
                    <a:pt x="21031" y="8791"/>
                  </a:lnTo>
                  <a:lnTo>
                    <a:pt x="21031" y="8466"/>
                  </a:lnTo>
                  <a:lnTo>
                    <a:pt x="21031" y="8140"/>
                  </a:lnTo>
                  <a:lnTo>
                    <a:pt x="20841" y="7923"/>
                  </a:lnTo>
                  <a:lnTo>
                    <a:pt x="20841" y="7706"/>
                  </a:lnTo>
                  <a:lnTo>
                    <a:pt x="20652" y="7272"/>
                  </a:lnTo>
                  <a:lnTo>
                    <a:pt x="20652" y="6946"/>
                  </a:lnTo>
                  <a:lnTo>
                    <a:pt x="20652" y="6946"/>
                  </a:lnTo>
                  <a:lnTo>
                    <a:pt x="20652" y="6946"/>
                  </a:lnTo>
                  <a:lnTo>
                    <a:pt x="20652" y="7055"/>
                  </a:lnTo>
                  <a:lnTo>
                    <a:pt x="20462" y="7163"/>
                  </a:lnTo>
                  <a:lnTo>
                    <a:pt x="20652" y="7380"/>
                  </a:lnTo>
                  <a:lnTo>
                    <a:pt x="20652" y="7597"/>
                  </a:lnTo>
                  <a:lnTo>
                    <a:pt x="20652" y="7814"/>
                  </a:lnTo>
                  <a:lnTo>
                    <a:pt x="20841" y="8140"/>
                  </a:lnTo>
                  <a:lnTo>
                    <a:pt x="20652" y="8466"/>
                  </a:lnTo>
                  <a:lnTo>
                    <a:pt x="20841" y="8683"/>
                  </a:lnTo>
                  <a:lnTo>
                    <a:pt x="20841" y="9009"/>
                  </a:lnTo>
                  <a:lnTo>
                    <a:pt x="20841" y="9334"/>
                  </a:lnTo>
                  <a:lnTo>
                    <a:pt x="21031" y="9660"/>
                  </a:lnTo>
                  <a:lnTo>
                    <a:pt x="21031" y="9877"/>
                  </a:lnTo>
                  <a:lnTo>
                    <a:pt x="21220" y="10094"/>
                  </a:lnTo>
                  <a:lnTo>
                    <a:pt x="21031" y="10311"/>
                  </a:lnTo>
                  <a:lnTo>
                    <a:pt x="21220" y="10962"/>
                  </a:lnTo>
                  <a:lnTo>
                    <a:pt x="21220" y="11396"/>
                  </a:lnTo>
                  <a:lnTo>
                    <a:pt x="21031" y="11939"/>
                  </a:lnTo>
                  <a:lnTo>
                    <a:pt x="21031" y="12482"/>
                  </a:lnTo>
                  <a:lnTo>
                    <a:pt x="20841" y="13133"/>
                  </a:lnTo>
                  <a:lnTo>
                    <a:pt x="20841" y="13676"/>
                  </a:lnTo>
                  <a:lnTo>
                    <a:pt x="20462" y="14218"/>
                  </a:lnTo>
                  <a:lnTo>
                    <a:pt x="20273" y="14761"/>
                  </a:lnTo>
                  <a:lnTo>
                    <a:pt x="19894" y="15304"/>
                  </a:lnTo>
                  <a:lnTo>
                    <a:pt x="19515" y="15955"/>
                  </a:lnTo>
                  <a:lnTo>
                    <a:pt x="19136" y="16498"/>
                  </a:lnTo>
                  <a:lnTo>
                    <a:pt x="18757" y="16932"/>
                  </a:lnTo>
                  <a:lnTo>
                    <a:pt x="18189" y="17366"/>
                  </a:lnTo>
                  <a:lnTo>
                    <a:pt x="17810" y="17800"/>
                  </a:lnTo>
                  <a:lnTo>
                    <a:pt x="17241" y="18343"/>
                  </a:lnTo>
                  <a:lnTo>
                    <a:pt x="16863" y="18669"/>
                  </a:lnTo>
                  <a:lnTo>
                    <a:pt x="16484" y="18994"/>
                  </a:lnTo>
                  <a:lnTo>
                    <a:pt x="15915" y="19320"/>
                  </a:lnTo>
                  <a:lnTo>
                    <a:pt x="15347" y="19646"/>
                  </a:lnTo>
                  <a:lnTo>
                    <a:pt x="14589" y="19754"/>
                  </a:lnTo>
                  <a:lnTo>
                    <a:pt x="14210" y="20080"/>
                  </a:lnTo>
                  <a:lnTo>
                    <a:pt x="13452" y="20188"/>
                  </a:lnTo>
                  <a:lnTo>
                    <a:pt x="12883" y="20188"/>
                  </a:lnTo>
                  <a:lnTo>
                    <a:pt x="12315" y="20188"/>
                  </a:lnTo>
                  <a:lnTo>
                    <a:pt x="11747" y="20080"/>
                  </a:lnTo>
                  <a:lnTo>
                    <a:pt x="10989" y="19971"/>
                  </a:lnTo>
                  <a:lnTo>
                    <a:pt x="10420" y="19863"/>
                  </a:lnTo>
                  <a:lnTo>
                    <a:pt x="9852" y="19537"/>
                  </a:lnTo>
                  <a:lnTo>
                    <a:pt x="9283" y="19211"/>
                  </a:lnTo>
                  <a:lnTo>
                    <a:pt x="8905" y="18669"/>
                  </a:lnTo>
                  <a:lnTo>
                    <a:pt x="8336" y="18234"/>
                  </a:lnTo>
                  <a:lnTo>
                    <a:pt x="7768" y="17692"/>
                  </a:lnTo>
                  <a:lnTo>
                    <a:pt x="7578" y="17583"/>
                  </a:lnTo>
                  <a:lnTo>
                    <a:pt x="7389" y="17475"/>
                  </a:lnTo>
                  <a:lnTo>
                    <a:pt x="7199" y="17149"/>
                  </a:lnTo>
                  <a:lnTo>
                    <a:pt x="7199" y="16932"/>
                  </a:lnTo>
                  <a:lnTo>
                    <a:pt x="6820" y="16715"/>
                  </a:lnTo>
                  <a:lnTo>
                    <a:pt x="7010" y="16606"/>
                  </a:lnTo>
                  <a:lnTo>
                    <a:pt x="6631" y="16389"/>
                  </a:lnTo>
                  <a:lnTo>
                    <a:pt x="6441" y="16064"/>
                  </a:lnTo>
                  <a:lnTo>
                    <a:pt x="6441" y="15847"/>
                  </a:lnTo>
                  <a:lnTo>
                    <a:pt x="6252" y="15630"/>
                  </a:lnTo>
                  <a:lnTo>
                    <a:pt x="6252" y="15412"/>
                  </a:lnTo>
                  <a:lnTo>
                    <a:pt x="6063" y="15195"/>
                  </a:lnTo>
                  <a:lnTo>
                    <a:pt x="6252" y="14978"/>
                  </a:lnTo>
                  <a:lnTo>
                    <a:pt x="6063" y="14761"/>
                  </a:lnTo>
                  <a:lnTo>
                    <a:pt x="5873" y="14436"/>
                  </a:lnTo>
                  <a:lnTo>
                    <a:pt x="6063" y="14218"/>
                  </a:lnTo>
                  <a:lnTo>
                    <a:pt x="6063" y="13893"/>
                  </a:lnTo>
                  <a:lnTo>
                    <a:pt x="5873" y="13676"/>
                  </a:lnTo>
                  <a:lnTo>
                    <a:pt x="5873" y="13567"/>
                  </a:lnTo>
                  <a:lnTo>
                    <a:pt x="5873" y="13350"/>
                  </a:lnTo>
                  <a:lnTo>
                    <a:pt x="5684" y="13025"/>
                  </a:lnTo>
                  <a:lnTo>
                    <a:pt x="5873" y="12807"/>
                  </a:lnTo>
                  <a:lnTo>
                    <a:pt x="5684" y="12590"/>
                  </a:lnTo>
                  <a:lnTo>
                    <a:pt x="5873" y="12373"/>
                  </a:lnTo>
                  <a:lnTo>
                    <a:pt x="5684" y="12156"/>
                  </a:lnTo>
                  <a:lnTo>
                    <a:pt x="5684" y="11939"/>
                  </a:lnTo>
                  <a:lnTo>
                    <a:pt x="5684" y="11722"/>
                  </a:lnTo>
                  <a:lnTo>
                    <a:pt x="5684" y="11722"/>
                  </a:lnTo>
                  <a:lnTo>
                    <a:pt x="5684" y="11505"/>
                  </a:lnTo>
                  <a:lnTo>
                    <a:pt x="5684" y="11179"/>
                  </a:lnTo>
                  <a:lnTo>
                    <a:pt x="5684" y="11071"/>
                  </a:lnTo>
                  <a:lnTo>
                    <a:pt x="5684" y="10962"/>
                  </a:lnTo>
                  <a:lnTo>
                    <a:pt x="5684" y="10962"/>
                  </a:lnTo>
                  <a:lnTo>
                    <a:pt x="5684" y="10637"/>
                  </a:lnTo>
                  <a:lnTo>
                    <a:pt x="5684" y="10419"/>
                  </a:lnTo>
                  <a:lnTo>
                    <a:pt x="5873" y="10202"/>
                  </a:lnTo>
                  <a:lnTo>
                    <a:pt x="5684" y="9877"/>
                  </a:lnTo>
                  <a:lnTo>
                    <a:pt x="5873" y="9660"/>
                  </a:lnTo>
                  <a:lnTo>
                    <a:pt x="5684" y="9443"/>
                  </a:lnTo>
                  <a:lnTo>
                    <a:pt x="5873" y="9117"/>
                  </a:lnTo>
                  <a:lnTo>
                    <a:pt x="6063" y="8791"/>
                  </a:lnTo>
                  <a:lnTo>
                    <a:pt x="5873" y="8574"/>
                  </a:lnTo>
                  <a:lnTo>
                    <a:pt x="6063" y="8248"/>
                  </a:lnTo>
                  <a:lnTo>
                    <a:pt x="6063" y="8032"/>
                  </a:lnTo>
                  <a:lnTo>
                    <a:pt x="6063" y="7923"/>
                  </a:lnTo>
                  <a:lnTo>
                    <a:pt x="6063" y="7814"/>
                  </a:lnTo>
                  <a:lnTo>
                    <a:pt x="6441" y="7706"/>
                  </a:lnTo>
                  <a:lnTo>
                    <a:pt x="6441" y="7706"/>
                  </a:lnTo>
                  <a:lnTo>
                    <a:pt x="6441" y="7706"/>
                  </a:lnTo>
                  <a:lnTo>
                    <a:pt x="6441" y="7597"/>
                  </a:lnTo>
                  <a:lnTo>
                    <a:pt x="6441" y="7597"/>
                  </a:lnTo>
                  <a:lnTo>
                    <a:pt x="6441" y="7489"/>
                  </a:lnTo>
                  <a:lnTo>
                    <a:pt x="6441" y="7489"/>
                  </a:lnTo>
                  <a:lnTo>
                    <a:pt x="6441" y="7489"/>
                  </a:lnTo>
                  <a:lnTo>
                    <a:pt x="6441" y="7380"/>
                  </a:lnTo>
                  <a:lnTo>
                    <a:pt x="6441" y="7380"/>
                  </a:lnTo>
                  <a:lnTo>
                    <a:pt x="6631" y="7597"/>
                  </a:lnTo>
                  <a:lnTo>
                    <a:pt x="7010" y="7706"/>
                  </a:lnTo>
                  <a:lnTo>
                    <a:pt x="7010" y="7923"/>
                  </a:lnTo>
                  <a:lnTo>
                    <a:pt x="7389" y="8248"/>
                  </a:lnTo>
                  <a:lnTo>
                    <a:pt x="7578" y="8357"/>
                  </a:lnTo>
                  <a:lnTo>
                    <a:pt x="7768" y="8683"/>
                  </a:lnTo>
                  <a:lnTo>
                    <a:pt x="7957" y="9009"/>
                  </a:lnTo>
                  <a:lnTo>
                    <a:pt x="7957" y="9225"/>
                  </a:lnTo>
                  <a:lnTo>
                    <a:pt x="8336" y="9443"/>
                  </a:lnTo>
                  <a:lnTo>
                    <a:pt x="8336" y="9660"/>
                  </a:lnTo>
                  <a:lnTo>
                    <a:pt x="8526" y="9877"/>
                  </a:lnTo>
                  <a:lnTo>
                    <a:pt x="8715" y="10094"/>
                  </a:lnTo>
                  <a:lnTo>
                    <a:pt x="8905" y="10094"/>
                  </a:lnTo>
                  <a:lnTo>
                    <a:pt x="9094" y="10202"/>
                  </a:lnTo>
                  <a:lnTo>
                    <a:pt x="9283" y="10094"/>
                  </a:lnTo>
                  <a:lnTo>
                    <a:pt x="9283" y="9985"/>
                  </a:lnTo>
                  <a:lnTo>
                    <a:pt x="9473" y="9877"/>
                  </a:lnTo>
                  <a:lnTo>
                    <a:pt x="9283" y="9551"/>
                  </a:lnTo>
                  <a:lnTo>
                    <a:pt x="9473" y="9334"/>
                  </a:lnTo>
                  <a:lnTo>
                    <a:pt x="9283" y="9117"/>
                  </a:lnTo>
                  <a:lnTo>
                    <a:pt x="9283" y="8900"/>
                  </a:lnTo>
                  <a:lnTo>
                    <a:pt x="9283" y="8683"/>
                  </a:lnTo>
                  <a:lnTo>
                    <a:pt x="9094" y="8466"/>
                  </a:lnTo>
                  <a:lnTo>
                    <a:pt x="8905" y="8248"/>
                  </a:lnTo>
                  <a:lnTo>
                    <a:pt x="8526" y="8032"/>
                  </a:lnTo>
                  <a:lnTo>
                    <a:pt x="8526" y="7814"/>
                  </a:lnTo>
                  <a:lnTo>
                    <a:pt x="8147" y="7489"/>
                  </a:lnTo>
                  <a:lnTo>
                    <a:pt x="7957" y="7272"/>
                  </a:lnTo>
                  <a:lnTo>
                    <a:pt x="7768" y="7055"/>
                  </a:lnTo>
                  <a:lnTo>
                    <a:pt x="7578" y="6838"/>
                  </a:lnTo>
                  <a:lnTo>
                    <a:pt x="7389" y="6512"/>
                  </a:lnTo>
                  <a:lnTo>
                    <a:pt x="7199" y="6295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5737320" y="4898160"/>
              <a:ext cx="439920" cy="59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065" y="9831"/>
                  </a:moveTo>
                  <a:lnTo>
                    <a:pt x="18261" y="9533"/>
                  </a:lnTo>
                  <a:lnTo>
                    <a:pt x="18261" y="9235"/>
                  </a:lnTo>
                  <a:lnTo>
                    <a:pt x="18261" y="8937"/>
                  </a:lnTo>
                  <a:lnTo>
                    <a:pt x="18458" y="8639"/>
                  </a:lnTo>
                  <a:lnTo>
                    <a:pt x="18654" y="8341"/>
                  </a:lnTo>
                  <a:lnTo>
                    <a:pt x="18850" y="8043"/>
                  </a:lnTo>
                  <a:lnTo>
                    <a:pt x="19046" y="7597"/>
                  </a:lnTo>
                  <a:lnTo>
                    <a:pt x="19243" y="7597"/>
                  </a:lnTo>
                  <a:lnTo>
                    <a:pt x="19439" y="7299"/>
                  </a:lnTo>
                  <a:lnTo>
                    <a:pt x="19636" y="6852"/>
                  </a:lnTo>
                  <a:lnTo>
                    <a:pt x="19832" y="6554"/>
                  </a:lnTo>
                  <a:lnTo>
                    <a:pt x="20028" y="6107"/>
                  </a:lnTo>
                  <a:lnTo>
                    <a:pt x="20421" y="5958"/>
                  </a:lnTo>
                  <a:lnTo>
                    <a:pt x="20421" y="5511"/>
                  </a:lnTo>
                  <a:lnTo>
                    <a:pt x="20618" y="5064"/>
                  </a:lnTo>
                  <a:lnTo>
                    <a:pt x="20814" y="4915"/>
                  </a:lnTo>
                  <a:lnTo>
                    <a:pt x="21010" y="4468"/>
                  </a:lnTo>
                  <a:lnTo>
                    <a:pt x="21010" y="4170"/>
                  </a:lnTo>
                  <a:lnTo>
                    <a:pt x="21207" y="3873"/>
                  </a:lnTo>
                  <a:lnTo>
                    <a:pt x="21403" y="3426"/>
                  </a:lnTo>
                  <a:lnTo>
                    <a:pt x="21403" y="3128"/>
                  </a:lnTo>
                  <a:lnTo>
                    <a:pt x="21403" y="2830"/>
                  </a:lnTo>
                  <a:lnTo>
                    <a:pt x="21600" y="2532"/>
                  </a:lnTo>
                  <a:lnTo>
                    <a:pt x="21403" y="2234"/>
                  </a:lnTo>
                  <a:lnTo>
                    <a:pt x="21403" y="1936"/>
                  </a:lnTo>
                  <a:lnTo>
                    <a:pt x="21403" y="1638"/>
                  </a:lnTo>
                  <a:lnTo>
                    <a:pt x="21207" y="1340"/>
                  </a:lnTo>
                  <a:lnTo>
                    <a:pt x="21207" y="1191"/>
                  </a:lnTo>
                  <a:lnTo>
                    <a:pt x="21010" y="744"/>
                  </a:lnTo>
                  <a:lnTo>
                    <a:pt x="20618" y="595"/>
                  </a:lnTo>
                  <a:lnTo>
                    <a:pt x="20814" y="297"/>
                  </a:lnTo>
                  <a:lnTo>
                    <a:pt x="20421" y="148"/>
                  </a:lnTo>
                  <a:lnTo>
                    <a:pt x="20028" y="0"/>
                  </a:lnTo>
                  <a:lnTo>
                    <a:pt x="19832" y="0"/>
                  </a:lnTo>
                  <a:lnTo>
                    <a:pt x="19636" y="0"/>
                  </a:lnTo>
                  <a:lnTo>
                    <a:pt x="19439" y="148"/>
                  </a:lnTo>
                  <a:lnTo>
                    <a:pt x="19243" y="148"/>
                  </a:lnTo>
                  <a:lnTo>
                    <a:pt x="18850" y="297"/>
                  </a:lnTo>
                  <a:lnTo>
                    <a:pt x="18654" y="595"/>
                  </a:lnTo>
                  <a:lnTo>
                    <a:pt x="18458" y="893"/>
                  </a:lnTo>
                  <a:lnTo>
                    <a:pt x="18065" y="1191"/>
                  </a:lnTo>
                  <a:lnTo>
                    <a:pt x="18065" y="1489"/>
                  </a:lnTo>
                  <a:lnTo>
                    <a:pt x="17672" y="1936"/>
                  </a:lnTo>
                  <a:lnTo>
                    <a:pt x="17279" y="2383"/>
                  </a:lnTo>
                  <a:lnTo>
                    <a:pt x="17279" y="2830"/>
                  </a:lnTo>
                  <a:lnTo>
                    <a:pt x="16887" y="3277"/>
                  </a:lnTo>
                  <a:lnTo>
                    <a:pt x="16690" y="3724"/>
                  </a:lnTo>
                  <a:lnTo>
                    <a:pt x="16494" y="4319"/>
                  </a:lnTo>
                  <a:lnTo>
                    <a:pt x="16297" y="4766"/>
                  </a:lnTo>
                  <a:lnTo>
                    <a:pt x="16101" y="5362"/>
                  </a:lnTo>
                  <a:lnTo>
                    <a:pt x="15905" y="5958"/>
                  </a:lnTo>
                  <a:lnTo>
                    <a:pt x="15708" y="6554"/>
                  </a:lnTo>
                  <a:lnTo>
                    <a:pt x="15708" y="7001"/>
                  </a:lnTo>
                  <a:lnTo>
                    <a:pt x="15316" y="7448"/>
                  </a:lnTo>
                  <a:lnTo>
                    <a:pt x="15119" y="8043"/>
                  </a:lnTo>
                  <a:lnTo>
                    <a:pt x="14923" y="8639"/>
                  </a:lnTo>
                  <a:lnTo>
                    <a:pt x="14727" y="9235"/>
                  </a:lnTo>
                  <a:lnTo>
                    <a:pt x="14727" y="9682"/>
                  </a:lnTo>
                  <a:lnTo>
                    <a:pt x="14334" y="10129"/>
                  </a:lnTo>
                  <a:lnTo>
                    <a:pt x="14138" y="10725"/>
                  </a:lnTo>
                  <a:lnTo>
                    <a:pt x="14138" y="11023"/>
                  </a:lnTo>
                  <a:lnTo>
                    <a:pt x="13941" y="11470"/>
                  </a:lnTo>
                  <a:lnTo>
                    <a:pt x="13941" y="11768"/>
                  </a:lnTo>
                  <a:lnTo>
                    <a:pt x="13745" y="12065"/>
                  </a:lnTo>
                  <a:lnTo>
                    <a:pt x="13745" y="12512"/>
                  </a:lnTo>
                  <a:lnTo>
                    <a:pt x="13352" y="13108"/>
                  </a:lnTo>
                  <a:lnTo>
                    <a:pt x="13156" y="13704"/>
                  </a:lnTo>
                  <a:lnTo>
                    <a:pt x="12959" y="14151"/>
                  </a:lnTo>
                  <a:lnTo>
                    <a:pt x="12763" y="14598"/>
                  </a:lnTo>
                  <a:lnTo>
                    <a:pt x="12567" y="15045"/>
                  </a:lnTo>
                  <a:lnTo>
                    <a:pt x="12174" y="15343"/>
                  </a:lnTo>
                  <a:lnTo>
                    <a:pt x="11977" y="15790"/>
                  </a:lnTo>
                  <a:lnTo>
                    <a:pt x="11781" y="16236"/>
                  </a:lnTo>
                  <a:lnTo>
                    <a:pt x="11585" y="16534"/>
                  </a:lnTo>
                  <a:lnTo>
                    <a:pt x="11192" y="16832"/>
                  </a:lnTo>
                  <a:lnTo>
                    <a:pt x="11192" y="17130"/>
                  </a:lnTo>
                  <a:lnTo>
                    <a:pt x="10800" y="17428"/>
                  </a:lnTo>
                  <a:lnTo>
                    <a:pt x="10603" y="17726"/>
                  </a:lnTo>
                  <a:lnTo>
                    <a:pt x="10407" y="18024"/>
                  </a:lnTo>
                  <a:lnTo>
                    <a:pt x="10014" y="18173"/>
                  </a:lnTo>
                  <a:lnTo>
                    <a:pt x="9818" y="18471"/>
                  </a:lnTo>
                  <a:lnTo>
                    <a:pt x="9425" y="18769"/>
                  </a:lnTo>
                  <a:lnTo>
                    <a:pt x="9032" y="18769"/>
                  </a:lnTo>
                  <a:lnTo>
                    <a:pt x="9032" y="19067"/>
                  </a:lnTo>
                  <a:lnTo>
                    <a:pt x="8639" y="19216"/>
                  </a:lnTo>
                  <a:lnTo>
                    <a:pt x="8246" y="19514"/>
                  </a:lnTo>
                  <a:lnTo>
                    <a:pt x="7854" y="19663"/>
                  </a:lnTo>
                  <a:lnTo>
                    <a:pt x="7461" y="19812"/>
                  </a:lnTo>
                  <a:lnTo>
                    <a:pt x="7265" y="19812"/>
                  </a:lnTo>
                  <a:lnTo>
                    <a:pt x="6676" y="20110"/>
                  </a:lnTo>
                  <a:lnTo>
                    <a:pt x="6283" y="20259"/>
                  </a:lnTo>
                  <a:lnTo>
                    <a:pt x="5694" y="20259"/>
                  </a:lnTo>
                  <a:lnTo>
                    <a:pt x="5497" y="20557"/>
                  </a:lnTo>
                  <a:lnTo>
                    <a:pt x="4908" y="20557"/>
                  </a:lnTo>
                  <a:lnTo>
                    <a:pt x="4516" y="20706"/>
                  </a:lnTo>
                  <a:lnTo>
                    <a:pt x="3927" y="20706"/>
                  </a:lnTo>
                  <a:lnTo>
                    <a:pt x="3730" y="20706"/>
                  </a:lnTo>
                  <a:lnTo>
                    <a:pt x="3338" y="20706"/>
                  </a:lnTo>
                  <a:lnTo>
                    <a:pt x="3141" y="20855"/>
                  </a:lnTo>
                  <a:lnTo>
                    <a:pt x="2748" y="21004"/>
                  </a:lnTo>
                  <a:lnTo>
                    <a:pt x="2159" y="21004"/>
                  </a:lnTo>
                  <a:lnTo>
                    <a:pt x="1963" y="21153"/>
                  </a:lnTo>
                  <a:lnTo>
                    <a:pt x="1570" y="21302"/>
                  </a:lnTo>
                  <a:lnTo>
                    <a:pt x="1177" y="21302"/>
                  </a:lnTo>
                  <a:lnTo>
                    <a:pt x="981" y="21302"/>
                  </a:lnTo>
                  <a:lnTo>
                    <a:pt x="588" y="21451"/>
                  </a:lnTo>
                  <a:lnTo>
                    <a:pt x="392" y="21451"/>
                  </a:lnTo>
                  <a:lnTo>
                    <a:pt x="196" y="21451"/>
                  </a:lnTo>
                  <a:lnTo>
                    <a:pt x="0" y="21600"/>
                  </a:lnTo>
                  <a:lnTo>
                    <a:pt x="0" y="21600"/>
                  </a:lnTo>
                  <a:lnTo>
                    <a:pt x="196" y="21451"/>
                  </a:lnTo>
                  <a:lnTo>
                    <a:pt x="392" y="21451"/>
                  </a:lnTo>
                  <a:lnTo>
                    <a:pt x="785" y="21451"/>
                  </a:lnTo>
                  <a:lnTo>
                    <a:pt x="1177" y="21302"/>
                  </a:lnTo>
                  <a:lnTo>
                    <a:pt x="1767" y="21302"/>
                  </a:lnTo>
                  <a:lnTo>
                    <a:pt x="1963" y="21153"/>
                  </a:lnTo>
                  <a:lnTo>
                    <a:pt x="2356" y="21153"/>
                  </a:lnTo>
                  <a:lnTo>
                    <a:pt x="2945" y="21004"/>
                  </a:lnTo>
                  <a:lnTo>
                    <a:pt x="3534" y="21004"/>
                  </a:lnTo>
                  <a:lnTo>
                    <a:pt x="3927" y="21004"/>
                  </a:lnTo>
                  <a:lnTo>
                    <a:pt x="4516" y="21004"/>
                  </a:lnTo>
                  <a:lnTo>
                    <a:pt x="4908" y="20855"/>
                  </a:lnTo>
                  <a:lnTo>
                    <a:pt x="5301" y="20855"/>
                  </a:lnTo>
                  <a:lnTo>
                    <a:pt x="5694" y="20855"/>
                  </a:lnTo>
                  <a:lnTo>
                    <a:pt x="6087" y="20855"/>
                  </a:lnTo>
                  <a:lnTo>
                    <a:pt x="6676" y="20855"/>
                  </a:lnTo>
                  <a:lnTo>
                    <a:pt x="7069" y="20855"/>
                  </a:lnTo>
                  <a:lnTo>
                    <a:pt x="7461" y="20706"/>
                  </a:lnTo>
                  <a:lnTo>
                    <a:pt x="8246" y="20706"/>
                  </a:lnTo>
                  <a:lnTo>
                    <a:pt x="8639" y="20557"/>
                  </a:lnTo>
                  <a:lnTo>
                    <a:pt x="8836" y="20408"/>
                  </a:lnTo>
                  <a:lnTo>
                    <a:pt x="9228" y="20408"/>
                  </a:lnTo>
                  <a:lnTo>
                    <a:pt x="9818" y="20110"/>
                  </a:lnTo>
                  <a:lnTo>
                    <a:pt x="10210" y="20110"/>
                  </a:lnTo>
                  <a:lnTo>
                    <a:pt x="10603" y="19812"/>
                  </a:lnTo>
                  <a:lnTo>
                    <a:pt x="10800" y="19663"/>
                  </a:lnTo>
                  <a:lnTo>
                    <a:pt x="11192" y="19514"/>
                  </a:lnTo>
                  <a:lnTo>
                    <a:pt x="11585" y="19216"/>
                  </a:lnTo>
                  <a:lnTo>
                    <a:pt x="11781" y="19067"/>
                  </a:lnTo>
                  <a:lnTo>
                    <a:pt x="12370" y="18918"/>
                  </a:lnTo>
                  <a:lnTo>
                    <a:pt x="12370" y="18620"/>
                  </a:lnTo>
                  <a:lnTo>
                    <a:pt x="12959" y="18173"/>
                  </a:lnTo>
                  <a:lnTo>
                    <a:pt x="13156" y="18024"/>
                  </a:lnTo>
                  <a:lnTo>
                    <a:pt x="13548" y="17577"/>
                  </a:lnTo>
                  <a:lnTo>
                    <a:pt x="13548" y="17279"/>
                  </a:lnTo>
                  <a:lnTo>
                    <a:pt x="13745" y="17130"/>
                  </a:lnTo>
                  <a:lnTo>
                    <a:pt x="13941" y="16832"/>
                  </a:lnTo>
                  <a:lnTo>
                    <a:pt x="14138" y="16832"/>
                  </a:lnTo>
                  <a:lnTo>
                    <a:pt x="14138" y="16534"/>
                  </a:lnTo>
                  <a:lnTo>
                    <a:pt x="14530" y="16236"/>
                  </a:lnTo>
                  <a:lnTo>
                    <a:pt x="14530" y="16088"/>
                  </a:lnTo>
                  <a:lnTo>
                    <a:pt x="14727" y="15790"/>
                  </a:lnTo>
                  <a:lnTo>
                    <a:pt x="14923" y="15492"/>
                  </a:lnTo>
                  <a:lnTo>
                    <a:pt x="15119" y="15194"/>
                  </a:lnTo>
                  <a:lnTo>
                    <a:pt x="15119" y="14896"/>
                  </a:lnTo>
                  <a:lnTo>
                    <a:pt x="15316" y="14598"/>
                  </a:lnTo>
                  <a:lnTo>
                    <a:pt x="15512" y="14598"/>
                  </a:lnTo>
                  <a:lnTo>
                    <a:pt x="15512" y="14300"/>
                  </a:lnTo>
                  <a:lnTo>
                    <a:pt x="15708" y="14002"/>
                  </a:lnTo>
                  <a:lnTo>
                    <a:pt x="15905" y="13555"/>
                  </a:lnTo>
                  <a:lnTo>
                    <a:pt x="16101" y="13257"/>
                  </a:lnTo>
                  <a:lnTo>
                    <a:pt x="16101" y="12959"/>
                  </a:lnTo>
                  <a:lnTo>
                    <a:pt x="16494" y="12661"/>
                  </a:lnTo>
                  <a:lnTo>
                    <a:pt x="16494" y="12363"/>
                  </a:lnTo>
                  <a:lnTo>
                    <a:pt x="16494" y="12065"/>
                  </a:lnTo>
                  <a:lnTo>
                    <a:pt x="16887" y="12065"/>
                  </a:lnTo>
                  <a:lnTo>
                    <a:pt x="16887" y="11768"/>
                  </a:lnTo>
                  <a:lnTo>
                    <a:pt x="16887" y="11470"/>
                  </a:lnTo>
                  <a:lnTo>
                    <a:pt x="17279" y="11172"/>
                  </a:lnTo>
                  <a:lnTo>
                    <a:pt x="17279" y="11023"/>
                  </a:lnTo>
                  <a:lnTo>
                    <a:pt x="17476" y="10725"/>
                  </a:lnTo>
                  <a:lnTo>
                    <a:pt x="17672" y="10576"/>
                  </a:lnTo>
                  <a:lnTo>
                    <a:pt x="17672" y="10278"/>
                  </a:lnTo>
                  <a:lnTo>
                    <a:pt x="17869" y="9980"/>
                  </a:lnTo>
                  <a:lnTo>
                    <a:pt x="17869" y="9831"/>
                  </a:lnTo>
                  <a:lnTo>
                    <a:pt x="18065" y="9831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5610600" y="4788720"/>
              <a:ext cx="418320" cy="56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811" y="156"/>
                  </a:moveTo>
                  <a:lnTo>
                    <a:pt x="14399" y="312"/>
                  </a:lnTo>
                  <a:lnTo>
                    <a:pt x="13988" y="312"/>
                  </a:lnTo>
                  <a:lnTo>
                    <a:pt x="13371" y="469"/>
                  </a:lnTo>
                  <a:lnTo>
                    <a:pt x="12959" y="469"/>
                  </a:lnTo>
                  <a:lnTo>
                    <a:pt x="12548" y="469"/>
                  </a:lnTo>
                  <a:lnTo>
                    <a:pt x="11931" y="312"/>
                  </a:lnTo>
                  <a:lnTo>
                    <a:pt x="11519" y="469"/>
                  </a:lnTo>
                  <a:lnTo>
                    <a:pt x="11108" y="469"/>
                  </a:lnTo>
                  <a:lnTo>
                    <a:pt x="10696" y="625"/>
                  </a:lnTo>
                  <a:lnTo>
                    <a:pt x="10285" y="625"/>
                  </a:lnTo>
                  <a:lnTo>
                    <a:pt x="9874" y="625"/>
                  </a:lnTo>
                  <a:lnTo>
                    <a:pt x="9462" y="782"/>
                  </a:lnTo>
                  <a:lnTo>
                    <a:pt x="9051" y="625"/>
                  </a:lnTo>
                  <a:lnTo>
                    <a:pt x="8434" y="782"/>
                  </a:lnTo>
                  <a:lnTo>
                    <a:pt x="7816" y="782"/>
                  </a:lnTo>
                  <a:lnTo>
                    <a:pt x="7405" y="939"/>
                  </a:lnTo>
                  <a:lnTo>
                    <a:pt x="7199" y="782"/>
                  </a:lnTo>
                  <a:lnTo>
                    <a:pt x="6582" y="939"/>
                  </a:lnTo>
                  <a:lnTo>
                    <a:pt x="6171" y="939"/>
                  </a:lnTo>
                  <a:lnTo>
                    <a:pt x="5554" y="939"/>
                  </a:lnTo>
                  <a:lnTo>
                    <a:pt x="5142" y="939"/>
                  </a:lnTo>
                  <a:lnTo>
                    <a:pt x="4731" y="1095"/>
                  </a:lnTo>
                  <a:lnTo>
                    <a:pt x="3908" y="1095"/>
                  </a:lnTo>
                  <a:lnTo>
                    <a:pt x="3702" y="1095"/>
                  </a:lnTo>
                  <a:lnTo>
                    <a:pt x="3085" y="1095"/>
                  </a:lnTo>
                  <a:lnTo>
                    <a:pt x="2673" y="1252"/>
                  </a:lnTo>
                  <a:lnTo>
                    <a:pt x="2262" y="1252"/>
                  </a:lnTo>
                  <a:lnTo>
                    <a:pt x="1645" y="1408"/>
                  </a:lnTo>
                  <a:lnTo>
                    <a:pt x="1233" y="1252"/>
                  </a:lnTo>
                  <a:lnTo>
                    <a:pt x="822" y="1408"/>
                  </a:lnTo>
                  <a:lnTo>
                    <a:pt x="616" y="1564"/>
                  </a:lnTo>
                  <a:lnTo>
                    <a:pt x="0" y="1564"/>
                  </a:lnTo>
                  <a:lnTo>
                    <a:pt x="0" y="1564"/>
                  </a:lnTo>
                  <a:lnTo>
                    <a:pt x="205" y="1564"/>
                  </a:lnTo>
                  <a:lnTo>
                    <a:pt x="411" y="1721"/>
                  </a:lnTo>
                  <a:lnTo>
                    <a:pt x="616" y="1721"/>
                  </a:lnTo>
                  <a:lnTo>
                    <a:pt x="1028" y="1721"/>
                  </a:lnTo>
                  <a:lnTo>
                    <a:pt x="1645" y="1721"/>
                  </a:lnTo>
                  <a:lnTo>
                    <a:pt x="2262" y="1721"/>
                  </a:lnTo>
                  <a:lnTo>
                    <a:pt x="2879" y="1878"/>
                  </a:lnTo>
                  <a:lnTo>
                    <a:pt x="3496" y="2034"/>
                  </a:lnTo>
                  <a:lnTo>
                    <a:pt x="3908" y="1878"/>
                  </a:lnTo>
                  <a:lnTo>
                    <a:pt x="4731" y="2034"/>
                  </a:lnTo>
                  <a:lnTo>
                    <a:pt x="5348" y="2034"/>
                  </a:lnTo>
                  <a:lnTo>
                    <a:pt x="5965" y="2034"/>
                  </a:lnTo>
                  <a:lnTo>
                    <a:pt x="6376" y="2191"/>
                  </a:lnTo>
                  <a:lnTo>
                    <a:pt x="7199" y="2034"/>
                  </a:lnTo>
                  <a:lnTo>
                    <a:pt x="7405" y="2034"/>
                  </a:lnTo>
                  <a:lnTo>
                    <a:pt x="7611" y="2034"/>
                  </a:lnTo>
                  <a:lnTo>
                    <a:pt x="7816" y="1878"/>
                  </a:lnTo>
                  <a:lnTo>
                    <a:pt x="8228" y="1721"/>
                  </a:lnTo>
                  <a:lnTo>
                    <a:pt x="8639" y="1721"/>
                  </a:lnTo>
                  <a:lnTo>
                    <a:pt x="9051" y="1721"/>
                  </a:lnTo>
                  <a:lnTo>
                    <a:pt x="9256" y="1721"/>
                  </a:lnTo>
                  <a:lnTo>
                    <a:pt x="9668" y="1564"/>
                  </a:lnTo>
                  <a:lnTo>
                    <a:pt x="10285" y="1564"/>
                  </a:lnTo>
                  <a:lnTo>
                    <a:pt x="10491" y="1408"/>
                  </a:lnTo>
                  <a:lnTo>
                    <a:pt x="10902" y="1408"/>
                  </a:lnTo>
                  <a:lnTo>
                    <a:pt x="11314" y="1408"/>
                  </a:lnTo>
                  <a:lnTo>
                    <a:pt x="11725" y="1252"/>
                  </a:lnTo>
                  <a:lnTo>
                    <a:pt x="12342" y="1408"/>
                  </a:lnTo>
                  <a:lnTo>
                    <a:pt x="12754" y="1252"/>
                  </a:lnTo>
                  <a:lnTo>
                    <a:pt x="13165" y="1252"/>
                  </a:lnTo>
                  <a:lnTo>
                    <a:pt x="13577" y="1252"/>
                  </a:lnTo>
                  <a:lnTo>
                    <a:pt x="13988" y="1252"/>
                  </a:lnTo>
                  <a:lnTo>
                    <a:pt x="14399" y="1252"/>
                  </a:lnTo>
                  <a:lnTo>
                    <a:pt x="14811" y="1252"/>
                  </a:lnTo>
                  <a:lnTo>
                    <a:pt x="15222" y="1408"/>
                  </a:lnTo>
                  <a:lnTo>
                    <a:pt x="15634" y="1408"/>
                  </a:lnTo>
                  <a:lnTo>
                    <a:pt x="16045" y="1564"/>
                  </a:lnTo>
                  <a:lnTo>
                    <a:pt x="16457" y="1564"/>
                  </a:lnTo>
                  <a:lnTo>
                    <a:pt x="16868" y="1564"/>
                  </a:lnTo>
                  <a:lnTo>
                    <a:pt x="17279" y="1878"/>
                  </a:lnTo>
                  <a:lnTo>
                    <a:pt x="17485" y="1878"/>
                  </a:lnTo>
                  <a:lnTo>
                    <a:pt x="17691" y="2034"/>
                  </a:lnTo>
                  <a:lnTo>
                    <a:pt x="17897" y="2347"/>
                  </a:lnTo>
                  <a:lnTo>
                    <a:pt x="18102" y="2504"/>
                  </a:lnTo>
                  <a:lnTo>
                    <a:pt x="18308" y="2660"/>
                  </a:lnTo>
                  <a:lnTo>
                    <a:pt x="18514" y="2817"/>
                  </a:lnTo>
                  <a:lnTo>
                    <a:pt x="18514" y="3130"/>
                  </a:lnTo>
                  <a:lnTo>
                    <a:pt x="18719" y="3443"/>
                  </a:lnTo>
                  <a:lnTo>
                    <a:pt x="18719" y="4069"/>
                  </a:lnTo>
                  <a:lnTo>
                    <a:pt x="18925" y="4382"/>
                  </a:lnTo>
                  <a:lnTo>
                    <a:pt x="18925" y="4695"/>
                  </a:lnTo>
                  <a:lnTo>
                    <a:pt x="18925" y="5165"/>
                  </a:lnTo>
                  <a:lnTo>
                    <a:pt x="18925" y="5634"/>
                  </a:lnTo>
                  <a:lnTo>
                    <a:pt x="18925" y="5947"/>
                  </a:lnTo>
                  <a:lnTo>
                    <a:pt x="18925" y="6417"/>
                  </a:lnTo>
                  <a:lnTo>
                    <a:pt x="18719" y="6886"/>
                  </a:lnTo>
                  <a:lnTo>
                    <a:pt x="18719" y="7199"/>
                  </a:lnTo>
                  <a:lnTo>
                    <a:pt x="18514" y="7669"/>
                  </a:lnTo>
                  <a:lnTo>
                    <a:pt x="18514" y="8138"/>
                  </a:lnTo>
                  <a:lnTo>
                    <a:pt x="18102" y="8608"/>
                  </a:lnTo>
                  <a:lnTo>
                    <a:pt x="17897" y="9078"/>
                  </a:lnTo>
                  <a:lnTo>
                    <a:pt x="17897" y="9391"/>
                  </a:lnTo>
                  <a:lnTo>
                    <a:pt x="17485" y="9704"/>
                  </a:lnTo>
                  <a:lnTo>
                    <a:pt x="17485" y="10017"/>
                  </a:lnTo>
                  <a:lnTo>
                    <a:pt x="17074" y="10486"/>
                  </a:lnTo>
                  <a:lnTo>
                    <a:pt x="16868" y="10800"/>
                  </a:lnTo>
                  <a:lnTo>
                    <a:pt x="16457" y="11112"/>
                  </a:lnTo>
                  <a:lnTo>
                    <a:pt x="16457" y="11582"/>
                  </a:lnTo>
                  <a:lnTo>
                    <a:pt x="16045" y="11895"/>
                  </a:lnTo>
                  <a:lnTo>
                    <a:pt x="15839" y="12364"/>
                  </a:lnTo>
                  <a:lnTo>
                    <a:pt x="15428" y="12678"/>
                  </a:lnTo>
                  <a:lnTo>
                    <a:pt x="15222" y="12991"/>
                  </a:lnTo>
                  <a:lnTo>
                    <a:pt x="14811" y="13304"/>
                  </a:lnTo>
                  <a:lnTo>
                    <a:pt x="14605" y="13773"/>
                  </a:lnTo>
                  <a:lnTo>
                    <a:pt x="14194" y="13930"/>
                  </a:lnTo>
                  <a:lnTo>
                    <a:pt x="13988" y="14243"/>
                  </a:lnTo>
                  <a:lnTo>
                    <a:pt x="13577" y="14556"/>
                  </a:lnTo>
                  <a:lnTo>
                    <a:pt x="13577" y="14869"/>
                  </a:lnTo>
                  <a:lnTo>
                    <a:pt x="13371" y="15026"/>
                  </a:lnTo>
                  <a:lnTo>
                    <a:pt x="13371" y="15026"/>
                  </a:lnTo>
                  <a:lnTo>
                    <a:pt x="13165" y="14869"/>
                  </a:lnTo>
                  <a:lnTo>
                    <a:pt x="12959" y="14556"/>
                  </a:lnTo>
                  <a:lnTo>
                    <a:pt x="12754" y="14243"/>
                  </a:lnTo>
                  <a:lnTo>
                    <a:pt x="12342" y="13930"/>
                  </a:lnTo>
                  <a:lnTo>
                    <a:pt x="12136" y="13304"/>
                  </a:lnTo>
                  <a:lnTo>
                    <a:pt x="11931" y="12678"/>
                  </a:lnTo>
                  <a:lnTo>
                    <a:pt x="11519" y="12208"/>
                  </a:lnTo>
                  <a:lnTo>
                    <a:pt x="11108" y="11582"/>
                  </a:lnTo>
                  <a:lnTo>
                    <a:pt x="11108" y="11269"/>
                  </a:lnTo>
                  <a:lnTo>
                    <a:pt x="10696" y="10956"/>
                  </a:lnTo>
                  <a:lnTo>
                    <a:pt x="10285" y="10643"/>
                  </a:lnTo>
                  <a:lnTo>
                    <a:pt x="10079" y="10643"/>
                  </a:lnTo>
                  <a:lnTo>
                    <a:pt x="9874" y="10643"/>
                  </a:lnTo>
                  <a:lnTo>
                    <a:pt x="9668" y="10800"/>
                  </a:lnTo>
                  <a:lnTo>
                    <a:pt x="9462" y="11112"/>
                  </a:lnTo>
                  <a:lnTo>
                    <a:pt x="9256" y="11739"/>
                  </a:lnTo>
                  <a:lnTo>
                    <a:pt x="9256" y="12364"/>
                  </a:lnTo>
                  <a:lnTo>
                    <a:pt x="9051" y="12834"/>
                  </a:lnTo>
                  <a:lnTo>
                    <a:pt x="9051" y="13460"/>
                  </a:lnTo>
                  <a:lnTo>
                    <a:pt x="9256" y="13773"/>
                  </a:lnTo>
                  <a:lnTo>
                    <a:pt x="9462" y="14243"/>
                  </a:lnTo>
                  <a:lnTo>
                    <a:pt x="9668" y="14712"/>
                  </a:lnTo>
                  <a:lnTo>
                    <a:pt x="9874" y="15182"/>
                  </a:lnTo>
                  <a:lnTo>
                    <a:pt x="10079" y="15495"/>
                  </a:lnTo>
                  <a:lnTo>
                    <a:pt x="10079" y="16121"/>
                  </a:lnTo>
                  <a:lnTo>
                    <a:pt x="10285" y="16434"/>
                  </a:lnTo>
                  <a:lnTo>
                    <a:pt x="10285" y="16747"/>
                  </a:lnTo>
                  <a:lnTo>
                    <a:pt x="10696" y="17217"/>
                  </a:lnTo>
                  <a:lnTo>
                    <a:pt x="10696" y="17686"/>
                  </a:lnTo>
                  <a:lnTo>
                    <a:pt x="10491" y="18313"/>
                  </a:lnTo>
                  <a:lnTo>
                    <a:pt x="10491" y="18782"/>
                  </a:lnTo>
                  <a:lnTo>
                    <a:pt x="10491" y="19095"/>
                  </a:lnTo>
                  <a:lnTo>
                    <a:pt x="10696" y="19408"/>
                  </a:lnTo>
                  <a:lnTo>
                    <a:pt x="10696" y="19721"/>
                  </a:lnTo>
                  <a:lnTo>
                    <a:pt x="11108" y="20034"/>
                  </a:lnTo>
                  <a:lnTo>
                    <a:pt x="11314" y="20347"/>
                  </a:lnTo>
                  <a:lnTo>
                    <a:pt x="11725" y="20660"/>
                  </a:lnTo>
                  <a:lnTo>
                    <a:pt x="11931" y="20817"/>
                  </a:lnTo>
                  <a:lnTo>
                    <a:pt x="12342" y="20973"/>
                  </a:lnTo>
                  <a:lnTo>
                    <a:pt x="12754" y="21130"/>
                  </a:lnTo>
                  <a:lnTo>
                    <a:pt x="12959" y="21286"/>
                  </a:lnTo>
                  <a:lnTo>
                    <a:pt x="13165" y="21286"/>
                  </a:lnTo>
                  <a:lnTo>
                    <a:pt x="13577" y="21600"/>
                  </a:lnTo>
                  <a:lnTo>
                    <a:pt x="13782" y="21443"/>
                  </a:lnTo>
                  <a:lnTo>
                    <a:pt x="13988" y="21443"/>
                  </a:lnTo>
                  <a:lnTo>
                    <a:pt x="14194" y="21600"/>
                  </a:lnTo>
                  <a:lnTo>
                    <a:pt x="14194" y="21443"/>
                  </a:lnTo>
                  <a:lnTo>
                    <a:pt x="14194" y="20973"/>
                  </a:lnTo>
                  <a:lnTo>
                    <a:pt x="14399" y="20504"/>
                  </a:lnTo>
                  <a:lnTo>
                    <a:pt x="14399" y="20191"/>
                  </a:lnTo>
                  <a:lnTo>
                    <a:pt x="14605" y="19878"/>
                  </a:lnTo>
                  <a:lnTo>
                    <a:pt x="14811" y="19408"/>
                  </a:lnTo>
                  <a:lnTo>
                    <a:pt x="15017" y="18782"/>
                  </a:lnTo>
                  <a:lnTo>
                    <a:pt x="15428" y="18313"/>
                  </a:lnTo>
                  <a:lnTo>
                    <a:pt x="15634" y="17686"/>
                  </a:lnTo>
                  <a:lnTo>
                    <a:pt x="16045" y="17373"/>
                  </a:lnTo>
                  <a:lnTo>
                    <a:pt x="16251" y="17060"/>
                  </a:lnTo>
                  <a:lnTo>
                    <a:pt x="16457" y="16434"/>
                  </a:lnTo>
                  <a:lnTo>
                    <a:pt x="16868" y="15965"/>
                  </a:lnTo>
                  <a:lnTo>
                    <a:pt x="17074" y="15651"/>
                  </a:lnTo>
                  <a:lnTo>
                    <a:pt x="17279" y="15339"/>
                  </a:lnTo>
                  <a:lnTo>
                    <a:pt x="17485" y="14869"/>
                  </a:lnTo>
                  <a:lnTo>
                    <a:pt x="17691" y="14712"/>
                  </a:lnTo>
                  <a:lnTo>
                    <a:pt x="17691" y="14399"/>
                  </a:lnTo>
                  <a:lnTo>
                    <a:pt x="17897" y="14243"/>
                  </a:lnTo>
                  <a:lnTo>
                    <a:pt x="18102" y="13930"/>
                  </a:lnTo>
                  <a:lnTo>
                    <a:pt x="18102" y="13617"/>
                  </a:lnTo>
                  <a:lnTo>
                    <a:pt x="18308" y="13304"/>
                  </a:lnTo>
                  <a:lnTo>
                    <a:pt x="18514" y="13147"/>
                  </a:lnTo>
                  <a:lnTo>
                    <a:pt x="18514" y="12834"/>
                  </a:lnTo>
                  <a:lnTo>
                    <a:pt x="18719" y="12521"/>
                  </a:lnTo>
                  <a:lnTo>
                    <a:pt x="18719" y="12364"/>
                  </a:lnTo>
                  <a:lnTo>
                    <a:pt x="18925" y="12208"/>
                  </a:lnTo>
                  <a:lnTo>
                    <a:pt x="19131" y="11895"/>
                  </a:lnTo>
                  <a:lnTo>
                    <a:pt x="19131" y="11582"/>
                  </a:lnTo>
                  <a:lnTo>
                    <a:pt x="19131" y="11269"/>
                  </a:lnTo>
                  <a:lnTo>
                    <a:pt x="19542" y="10956"/>
                  </a:lnTo>
                  <a:lnTo>
                    <a:pt x="19542" y="10643"/>
                  </a:lnTo>
                  <a:lnTo>
                    <a:pt x="19748" y="10330"/>
                  </a:lnTo>
                  <a:lnTo>
                    <a:pt x="19748" y="10017"/>
                  </a:lnTo>
                  <a:lnTo>
                    <a:pt x="19954" y="9860"/>
                  </a:lnTo>
                  <a:lnTo>
                    <a:pt x="20159" y="9704"/>
                  </a:lnTo>
                  <a:lnTo>
                    <a:pt x="20159" y="9547"/>
                  </a:lnTo>
                  <a:lnTo>
                    <a:pt x="20159" y="9234"/>
                  </a:lnTo>
                  <a:lnTo>
                    <a:pt x="20571" y="8921"/>
                  </a:lnTo>
                  <a:lnTo>
                    <a:pt x="20571" y="8608"/>
                  </a:lnTo>
                  <a:lnTo>
                    <a:pt x="20777" y="8295"/>
                  </a:lnTo>
                  <a:lnTo>
                    <a:pt x="20777" y="7982"/>
                  </a:lnTo>
                  <a:lnTo>
                    <a:pt x="20982" y="7669"/>
                  </a:lnTo>
                  <a:lnTo>
                    <a:pt x="20982" y="7356"/>
                  </a:lnTo>
                  <a:lnTo>
                    <a:pt x="20982" y="7199"/>
                  </a:lnTo>
                  <a:lnTo>
                    <a:pt x="21188" y="6886"/>
                  </a:lnTo>
                  <a:lnTo>
                    <a:pt x="21394" y="6573"/>
                  </a:lnTo>
                  <a:lnTo>
                    <a:pt x="21600" y="6260"/>
                  </a:lnTo>
                  <a:lnTo>
                    <a:pt x="21600" y="5947"/>
                  </a:lnTo>
                  <a:lnTo>
                    <a:pt x="21600" y="4851"/>
                  </a:lnTo>
                  <a:lnTo>
                    <a:pt x="21600" y="4226"/>
                  </a:lnTo>
                  <a:lnTo>
                    <a:pt x="21600" y="3286"/>
                  </a:lnTo>
                  <a:lnTo>
                    <a:pt x="21394" y="2504"/>
                  </a:lnTo>
                  <a:lnTo>
                    <a:pt x="20982" y="2034"/>
                  </a:lnTo>
                  <a:lnTo>
                    <a:pt x="20777" y="1564"/>
                  </a:lnTo>
                  <a:lnTo>
                    <a:pt x="20365" y="1252"/>
                  </a:lnTo>
                  <a:lnTo>
                    <a:pt x="19748" y="782"/>
                  </a:lnTo>
                  <a:lnTo>
                    <a:pt x="19131" y="469"/>
                  </a:lnTo>
                  <a:lnTo>
                    <a:pt x="18514" y="312"/>
                  </a:lnTo>
                  <a:lnTo>
                    <a:pt x="17691" y="156"/>
                  </a:lnTo>
                  <a:lnTo>
                    <a:pt x="17279" y="156"/>
                  </a:lnTo>
                  <a:lnTo>
                    <a:pt x="16457" y="0"/>
                  </a:lnTo>
                  <a:lnTo>
                    <a:pt x="15839" y="0"/>
                  </a:lnTo>
                  <a:lnTo>
                    <a:pt x="15222" y="0"/>
                  </a:lnTo>
                  <a:lnTo>
                    <a:pt x="14811" y="156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未知"/>
            <p:cNvSpPr/>
            <p:nvPr/>
          </p:nvSpPr>
          <p:spPr>
            <a:xfrm>
              <a:off x="6084000" y="4609440"/>
              <a:ext cx="196920" cy="92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939"/>
                  </a:moveTo>
                  <a:lnTo>
                    <a:pt x="20718" y="0"/>
                  </a:lnTo>
                  <a:lnTo>
                    <a:pt x="20277" y="939"/>
                  </a:lnTo>
                  <a:lnTo>
                    <a:pt x="19395" y="939"/>
                  </a:lnTo>
                  <a:lnTo>
                    <a:pt x="18955" y="1878"/>
                  </a:lnTo>
                  <a:lnTo>
                    <a:pt x="18073" y="939"/>
                  </a:lnTo>
                  <a:lnTo>
                    <a:pt x="17191" y="1878"/>
                  </a:lnTo>
                  <a:lnTo>
                    <a:pt x="16750" y="939"/>
                  </a:lnTo>
                  <a:lnTo>
                    <a:pt x="15428" y="1878"/>
                  </a:lnTo>
                  <a:lnTo>
                    <a:pt x="14546" y="939"/>
                  </a:lnTo>
                  <a:lnTo>
                    <a:pt x="13224" y="1878"/>
                  </a:lnTo>
                  <a:lnTo>
                    <a:pt x="12342" y="1878"/>
                  </a:lnTo>
                  <a:lnTo>
                    <a:pt x="11020" y="1878"/>
                  </a:lnTo>
                  <a:lnTo>
                    <a:pt x="10138" y="939"/>
                  </a:lnTo>
                  <a:lnTo>
                    <a:pt x="9697" y="1878"/>
                  </a:lnTo>
                  <a:lnTo>
                    <a:pt x="8816" y="1878"/>
                  </a:lnTo>
                  <a:lnTo>
                    <a:pt x="7934" y="1878"/>
                  </a:lnTo>
                  <a:lnTo>
                    <a:pt x="7052" y="2817"/>
                  </a:lnTo>
                  <a:lnTo>
                    <a:pt x="6171" y="2817"/>
                  </a:lnTo>
                  <a:lnTo>
                    <a:pt x="5289" y="2817"/>
                  </a:lnTo>
                  <a:lnTo>
                    <a:pt x="4407" y="2817"/>
                  </a:lnTo>
                  <a:lnTo>
                    <a:pt x="3526" y="3756"/>
                  </a:lnTo>
                  <a:lnTo>
                    <a:pt x="2644" y="4695"/>
                  </a:lnTo>
                  <a:lnTo>
                    <a:pt x="2203" y="5634"/>
                  </a:lnTo>
                  <a:lnTo>
                    <a:pt x="1762" y="4695"/>
                  </a:lnTo>
                  <a:lnTo>
                    <a:pt x="1322" y="5634"/>
                  </a:lnTo>
                  <a:lnTo>
                    <a:pt x="1322" y="7513"/>
                  </a:lnTo>
                  <a:lnTo>
                    <a:pt x="440" y="8452"/>
                  </a:lnTo>
                  <a:lnTo>
                    <a:pt x="440" y="9391"/>
                  </a:lnTo>
                  <a:lnTo>
                    <a:pt x="440" y="10330"/>
                  </a:lnTo>
                  <a:lnTo>
                    <a:pt x="0" y="12208"/>
                  </a:lnTo>
                  <a:lnTo>
                    <a:pt x="0" y="13147"/>
                  </a:lnTo>
                  <a:lnTo>
                    <a:pt x="440" y="15026"/>
                  </a:lnTo>
                  <a:lnTo>
                    <a:pt x="881" y="17843"/>
                  </a:lnTo>
                  <a:lnTo>
                    <a:pt x="1762" y="20660"/>
                  </a:lnTo>
                  <a:lnTo>
                    <a:pt x="3085" y="20660"/>
                  </a:lnTo>
                  <a:lnTo>
                    <a:pt x="4407" y="21600"/>
                  </a:lnTo>
                  <a:lnTo>
                    <a:pt x="6612" y="20660"/>
                  </a:lnTo>
                  <a:lnTo>
                    <a:pt x="7934" y="19721"/>
                  </a:lnTo>
                  <a:lnTo>
                    <a:pt x="10138" y="17843"/>
                  </a:lnTo>
                  <a:lnTo>
                    <a:pt x="11461" y="14086"/>
                  </a:lnTo>
                  <a:lnTo>
                    <a:pt x="13665" y="11269"/>
                  </a:lnTo>
                  <a:lnTo>
                    <a:pt x="15869" y="9391"/>
                  </a:lnTo>
                  <a:lnTo>
                    <a:pt x="16750" y="8452"/>
                  </a:lnTo>
                  <a:lnTo>
                    <a:pt x="18514" y="4695"/>
                  </a:lnTo>
                  <a:lnTo>
                    <a:pt x="19836" y="3756"/>
                  </a:lnTo>
                  <a:lnTo>
                    <a:pt x="20718" y="939"/>
                  </a:lnTo>
                  <a:lnTo>
                    <a:pt x="21159" y="939"/>
                  </a:lnTo>
                  <a:lnTo>
                    <a:pt x="21600" y="939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未知"/>
            <p:cNvSpPr/>
            <p:nvPr/>
          </p:nvSpPr>
          <p:spPr>
            <a:xfrm>
              <a:off x="6149160" y="4431600"/>
              <a:ext cx="191880" cy="113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649" y="8485"/>
                  </a:moveTo>
                  <a:lnTo>
                    <a:pt x="16200" y="8485"/>
                  </a:lnTo>
                  <a:lnTo>
                    <a:pt x="16200" y="7714"/>
                  </a:lnTo>
                  <a:lnTo>
                    <a:pt x="16200" y="7714"/>
                  </a:lnTo>
                  <a:lnTo>
                    <a:pt x="16200" y="6942"/>
                  </a:lnTo>
                  <a:lnTo>
                    <a:pt x="15299" y="7714"/>
                  </a:lnTo>
                  <a:lnTo>
                    <a:pt x="13949" y="7714"/>
                  </a:lnTo>
                  <a:lnTo>
                    <a:pt x="13049" y="7714"/>
                  </a:lnTo>
                  <a:lnTo>
                    <a:pt x="12150" y="6942"/>
                  </a:lnTo>
                  <a:lnTo>
                    <a:pt x="10800" y="6942"/>
                  </a:lnTo>
                  <a:lnTo>
                    <a:pt x="10349" y="6171"/>
                  </a:lnTo>
                  <a:lnTo>
                    <a:pt x="9450" y="6171"/>
                  </a:lnTo>
                  <a:lnTo>
                    <a:pt x="8549" y="5400"/>
                  </a:lnTo>
                  <a:lnTo>
                    <a:pt x="7199" y="5400"/>
                  </a:lnTo>
                  <a:lnTo>
                    <a:pt x="6299" y="3856"/>
                  </a:lnTo>
                  <a:lnTo>
                    <a:pt x="5400" y="3856"/>
                  </a:lnTo>
                  <a:lnTo>
                    <a:pt x="4050" y="2314"/>
                  </a:lnTo>
                  <a:lnTo>
                    <a:pt x="3149" y="2314"/>
                  </a:lnTo>
                  <a:lnTo>
                    <a:pt x="2249" y="771"/>
                  </a:lnTo>
                  <a:lnTo>
                    <a:pt x="1350" y="77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71"/>
                  </a:lnTo>
                  <a:lnTo>
                    <a:pt x="449" y="2314"/>
                  </a:lnTo>
                  <a:lnTo>
                    <a:pt x="449" y="3856"/>
                  </a:lnTo>
                  <a:lnTo>
                    <a:pt x="899" y="5400"/>
                  </a:lnTo>
                  <a:lnTo>
                    <a:pt x="1799" y="6942"/>
                  </a:lnTo>
                  <a:lnTo>
                    <a:pt x="1799" y="8485"/>
                  </a:lnTo>
                  <a:lnTo>
                    <a:pt x="2700" y="10800"/>
                  </a:lnTo>
                  <a:lnTo>
                    <a:pt x="3149" y="11571"/>
                  </a:lnTo>
                  <a:lnTo>
                    <a:pt x="4050" y="13114"/>
                  </a:lnTo>
                  <a:lnTo>
                    <a:pt x="4949" y="14656"/>
                  </a:lnTo>
                  <a:lnTo>
                    <a:pt x="5400" y="15428"/>
                  </a:lnTo>
                  <a:lnTo>
                    <a:pt x="6299" y="16971"/>
                  </a:lnTo>
                  <a:lnTo>
                    <a:pt x="7199" y="17742"/>
                  </a:lnTo>
                  <a:lnTo>
                    <a:pt x="7649" y="17742"/>
                  </a:lnTo>
                  <a:lnTo>
                    <a:pt x="8100" y="17742"/>
                  </a:lnTo>
                  <a:lnTo>
                    <a:pt x="8999" y="18514"/>
                  </a:lnTo>
                  <a:lnTo>
                    <a:pt x="9450" y="18514"/>
                  </a:lnTo>
                  <a:lnTo>
                    <a:pt x="10349" y="19285"/>
                  </a:lnTo>
                  <a:lnTo>
                    <a:pt x="10800" y="19285"/>
                  </a:lnTo>
                  <a:lnTo>
                    <a:pt x="11699" y="19285"/>
                  </a:lnTo>
                  <a:lnTo>
                    <a:pt x="11699" y="20828"/>
                  </a:lnTo>
                  <a:lnTo>
                    <a:pt x="12599" y="20828"/>
                  </a:lnTo>
                  <a:lnTo>
                    <a:pt x="13500" y="20828"/>
                  </a:lnTo>
                  <a:lnTo>
                    <a:pt x="13949" y="21600"/>
                  </a:lnTo>
                  <a:lnTo>
                    <a:pt x="14850" y="21600"/>
                  </a:lnTo>
                  <a:lnTo>
                    <a:pt x="15299" y="20828"/>
                  </a:lnTo>
                  <a:lnTo>
                    <a:pt x="16200" y="21600"/>
                  </a:lnTo>
                  <a:lnTo>
                    <a:pt x="16649" y="21600"/>
                  </a:lnTo>
                  <a:lnTo>
                    <a:pt x="17550" y="20828"/>
                  </a:lnTo>
                  <a:lnTo>
                    <a:pt x="18449" y="20828"/>
                  </a:lnTo>
                  <a:lnTo>
                    <a:pt x="19349" y="20056"/>
                  </a:lnTo>
                  <a:lnTo>
                    <a:pt x="20250" y="19285"/>
                  </a:lnTo>
                  <a:lnTo>
                    <a:pt x="20699" y="19285"/>
                  </a:lnTo>
                  <a:lnTo>
                    <a:pt x="21149" y="18514"/>
                  </a:lnTo>
                  <a:lnTo>
                    <a:pt x="21600" y="17742"/>
                  </a:lnTo>
                  <a:lnTo>
                    <a:pt x="21600" y="17742"/>
                  </a:lnTo>
                  <a:lnTo>
                    <a:pt x="21600" y="16971"/>
                  </a:lnTo>
                  <a:lnTo>
                    <a:pt x="21600" y="16200"/>
                  </a:lnTo>
                  <a:lnTo>
                    <a:pt x="21149" y="15428"/>
                  </a:lnTo>
                  <a:lnTo>
                    <a:pt x="20699" y="14656"/>
                  </a:lnTo>
                  <a:lnTo>
                    <a:pt x="20699" y="13114"/>
                  </a:lnTo>
                  <a:lnTo>
                    <a:pt x="19799" y="12342"/>
                  </a:lnTo>
                  <a:lnTo>
                    <a:pt x="18900" y="12342"/>
                  </a:lnTo>
                  <a:lnTo>
                    <a:pt x="17999" y="10800"/>
                  </a:lnTo>
                  <a:lnTo>
                    <a:pt x="17550" y="10028"/>
                  </a:lnTo>
                  <a:lnTo>
                    <a:pt x="16649" y="8485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5888880" y="4076640"/>
              <a:ext cx="207360" cy="301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184" y="13718"/>
                  </a:moveTo>
                  <a:lnTo>
                    <a:pt x="21184" y="12259"/>
                  </a:lnTo>
                  <a:lnTo>
                    <a:pt x="21184" y="10507"/>
                  </a:lnTo>
                  <a:lnTo>
                    <a:pt x="21600" y="8756"/>
                  </a:lnTo>
                  <a:lnTo>
                    <a:pt x="20769" y="7589"/>
                  </a:lnTo>
                  <a:lnTo>
                    <a:pt x="19938" y="6421"/>
                  </a:lnTo>
                  <a:lnTo>
                    <a:pt x="19107" y="4961"/>
                  </a:lnTo>
                  <a:lnTo>
                    <a:pt x="18276" y="3794"/>
                  </a:lnTo>
                  <a:lnTo>
                    <a:pt x="17861" y="2918"/>
                  </a:lnTo>
                  <a:lnTo>
                    <a:pt x="16200" y="2043"/>
                  </a:lnTo>
                  <a:lnTo>
                    <a:pt x="15369" y="1459"/>
                  </a:lnTo>
                  <a:lnTo>
                    <a:pt x="13707" y="1167"/>
                  </a:lnTo>
                  <a:lnTo>
                    <a:pt x="12461" y="583"/>
                  </a:lnTo>
                  <a:lnTo>
                    <a:pt x="11215" y="583"/>
                  </a:lnTo>
                  <a:lnTo>
                    <a:pt x="9553" y="291"/>
                  </a:lnTo>
                  <a:lnTo>
                    <a:pt x="8722" y="0"/>
                  </a:lnTo>
                  <a:lnTo>
                    <a:pt x="7476" y="291"/>
                  </a:lnTo>
                  <a:lnTo>
                    <a:pt x="7061" y="0"/>
                  </a:lnTo>
                  <a:lnTo>
                    <a:pt x="6645" y="291"/>
                  </a:lnTo>
                  <a:lnTo>
                    <a:pt x="6230" y="583"/>
                  </a:lnTo>
                  <a:lnTo>
                    <a:pt x="5815" y="875"/>
                  </a:lnTo>
                  <a:lnTo>
                    <a:pt x="4984" y="1167"/>
                  </a:lnTo>
                  <a:lnTo>
                    <a:pt x="4569" y="1459"/>
                  </a:lnTo>
                  <a:lnTo>
                    <a:pt x="4569" y="1751"/>
                  </a:lnTo>
                  <a:lnTo>
                    <a:pt x="4153" y="2043"/>
                  </a:lnTo>
                  <a:lnTo>
                    <a:pt x="3322" y="2626"/>
                  </a:lnTo>
                  <a:lnTo>
                    <a:pt x="2907" y="2626"/>
                  </a:lnTo>
                  <a:lnTo>
                    <a:pt x="2492" y="2918"/>
                  </a:lnTo>
                  <a:lnTo>
                    <a:pt x="2076" y="3210"/>
                  </a:lnTo>
                  <a:lnTo>
                    <a:pt x="1245" y="3502"/>
                  </a:lnTo>
                  <a:lnTo>
                    <a:pt x="830" y="3794"/>
                  </a:lnTo>
                  <a:lnTo>
                    <a:pt x="415" y="3794"/>
                  </a:lnTo>
                  <a:lnTo>
                    <a:pt x="0" y="3794"/>
                  </a:lnTo>
                  <a:lnTo>
                    <a:pt x="0" y="4086"/>
                  </a:lnTo>
                  <a:lnTo>
                    <a:pt x="0" y="4378"/>
                  </a:lnTo>
                  <a:lnTo>
                    <a:pt x="0" y="4378"/>
                  </a:lnTo>
                  <a:lnTo>
                    <a:pt x="415" y="4378"/>
                  </a:lnTo>
                  <a:lnTo>
                    <a:pt x="830" y="4378"/>
                  </a:lnTo>
                  <a:lnTo>
                    <a:pt x="1245" y="4669"/>
                  </a:lnTo>
                  <a:lnTo>
                    <a:pt x="1661" y="4961"/>
                  </a:lnTo>
                  <a:lnTo>
                    <a:pt x="2492" y="4961"/>
                  </a:lnTo>
                  <a:lnTo>
                    <a:pt x="3322" y="5253"/>
                  </a:lnTo>
                  <a:lnTo>
                    <a:pt x="3738" y="5545"/>
                  </a:lnTo>
                  <a:lnTo>
                    <a:pt x="4569" y="5837"/>
                  </a:lnTo>
                  <a:lnTo>
                    <a:pt x="5400" y="5837"/>
                  </a:lnTo>
                  <a:lnTo>
                    <a:pt x="6230" y="5837"/>
                  </a:lnTo>
                  <a:lnTo>
                    <a:pt x="7061" y="6129"/>
                  </a:lnTo>
                  <a:lnTo>
                    <a:pt x="7476" y="5837"/>
                  </a:lnTo>
                  <a:lnTo>
                    <a:pt x="8307" y="5837"/>
                  </a:lnTo>
                  <a:lnTo>
                    <a:pt x="8307" y="5545"/>
                  </a:lnTo>
                  <a:lnTo>
                    <a:pt x="8722" y="5837"/>
                  </a:lnTo>
                  <a:lnTo>
                    <a:pt x="9138" y="5837"/>
                  </a:lnTo>
                  <a:lnTo>
                    <a:pt x="9553" y="5837"/>
                  </a:lnTo>
                  <a:lnTo>
                    <a:pt x="9553" y="5837"/>
                  </a:lnTo>
                  <a:lnTo>
                    <a:pt x="9969" y="5837"/>
                  </a:lnTo>
                  <a:lnTo>
                    <a:pt x="10384" y="6129"/>
                  </a:lnTo>
                  <a:lnTo>
                    <a:pt x="10800" y="6129"/>
                  </a:lnTo>
                  <a:lnTo>
                    <a:pt x="11215" y="6129"/>
                  </a:lnTo>
                  <a:lnTo>
                    <a:pt x="12045" y="6129"/>
                  </a:lnTo>
                  <a:lnTo>
                    <a:pt x="12461" y="6713"/>
                  </a:lnTo>
                  <a:lnTo>
                    <a:pt x="12876" y="7005"/>
                  </a:lnTo>
                  <a:lnTo>
                    <a:pt x="12876" y="7297"/>
                  </a:lnTo>
                  <a:lnTo>
                    <a:pt x="13292" y="7589"/>
                  </a:lnTo>
                  <a:lnTo>
                    <a:pt x="14122" y="8172"/>
                  </a:lnTo>
                  <a:lnTo>
                    <a:pt x="14122" y="8756"/>
                  </a:lnTo>
                  <a:lnTo>
                    <a:pt x="14122" y="9048"/>
                  </a:lnTo>
                  <a:lnTo>
                    <a:pt x="14122" y="9048"/>
                  </a:lnTo>
                  <a:lnTo>
                    <a:pt x="14122" y="9340"/>
                  </a:lnTo>
                  <a:lnTo>
                    <a:pt x="14538" y="9632"/>
                  </a:lnTo>
                  <a:lnTo>
                    <a:pt x="14538" y="9924"/>
                  </a:lnTo>
                  <a:lnTo>
                    <a:pt x="14122" y="10215"/>
                  </a:lnTo>
                  <a:lnTo>
                    <a:pt x="14122" y="10800"/>
                  </a:lnTo>
                  <a:lnTo>
                    <a:pt x="14122" y="10800"/>
                  </a:lnTo>
                  <a:lnTo>
                    <a:pt x="14122" y="11091"/>
                  </a:lnTo>
                  <a:lnTo>
                    <a:pt x="14122" y="11383"/>
                  </a:lnTo>
                  <a:lnTo>
                    <a:pt x="14122" y="11383"/>
                  </a:lnTo>
                  <a:lnTo>
                    <a:pt x="14122" y="11675"/>
                  </a:lnTo>
                  <a:lnTo>
                    <a:pt x="14122" y="11967"/>
                  </a:lnTo>
                  <a:lnTo>
                    <a:pt x="14122" y="12259"/>
                  </a:lnTo>
                  <a:lnTo>
                    <a:pt x="14122" y="12551"/>
                  </a:lnTo>
                  <a:lnTo>
                    <a:pt x="14122" y="12551"/>
                  </a:lnTo>
                  <a:lnTo>
                    <a:pt x="14122" y="13134"/>
                  </a:lnTo>
                  <a:lnTo>
                    <a:pt x="14122" y="14010"/>
                  </a:lnTo>
                  <a:lnTo>
                    <a:pt x="14122" y="14594"/>
                  </a:lnTo>
                  <a:lnTo>
                    <a:pt x="13707" y="15178"/>
                  </a:lnTo>
                  <a:lnTo>
                    <a:pt x="13292" y="15761"/>
                  </a:lnTo>
                  <a:lnTo>
                    <a:pt x="12876" y="16345"/>
                  </a:lnTo>
                  <a:lnTo>
                    <a:pt x="12461" y="16053"/>
                  </a:lnTo>
                  <a:lnTo>
                    <a:pt x="11630" y="16637"/>
                  </a:lnTo>
                  <a:lnTo>
                    <a:pt x="11215" y="17221"/>
                  </a:lnTo>
                  <a:lnTo>
                    <a:pt x="10800" y="17513"/>
                  </a:lnTo>
                  <a:lnTo>
                    <a:pt x="10384" y="17513"/>
                  </a:lnTo>
                  <a:lnTo>
                    <a:pt x="9553" y="17805"/>
                  </a:lnTo>
                  <a:lnTo>
                    <a:pt x="9553" y="18097"/>
                  </a:lnTo>
                  <a:lnTo>
                    <a:pt x="8722" y="18389"/>
                  </a:lnTo>
                  <a:lnTo>
                    <a:pt x="8307" y="18389"/>
                  </a:lnTo>
                  <a:lnTo>
                    <a:pt x="8307" y="18680"/>
                  </a:lnTo>
                  <a:lnTo>
                    <a:pt x="7892" y="18680"/>
                  </a:lnTo>
                  <a:lnTo>
                    <a:pt x="7476" y="18680"/>
                  </a:lnTo>
                  <a:lnTo>
                    <a:pt x="7476" y="18680"/>
                  </a:lnTo>
                  <a:lnTo>
                    <a:pt x="7061" y="18389"/>
                  </a:lnTo>
                  <a:lnTo>
                    <a:pt x="6645" y="18097"/>
                  </a:lnTo>
                  <a:lnTo>
                    <a:pt x="6230" y="17805"/>
                  </a:lnTo>
                  <a:lnTo>
                    <a:pt x="6230" y="17513"/>
                  </a:lnTo>
                  <a:lnTo>
                    <a:pt x="6230" y="17221"/>
                  </a:lnTo>
                  <a:lnTo>
                    <a:pt x="5815" y="16929"/>
                  </a:lnTo>
                  <a:lnTo>
                    <a:pt x="5400" y="16637"/>
                  </a:lnTo>
                  <a:lnTo>
                    <a:pt x="4984" y="16345"/>
                  </a:lnTo>
                  <a:lnTo>
                    <a:pt x="4984" y="15761"/>
                  </a:lnTo>
                  <a:lnTo>
                    <a:pt x="4569" y="15469"/>
                  </a:lnTo>
                  <a:lnTo>
                    <a:pt x="4153" y="14886"/>
                  </a:lnTo>
                  <a:lnTo>
                    <a:pt x="3738" y="14886"/>
                  </a:lnTo>
                  <a:lnTo>
                    <a:pt x="3322" y="14886"/>
                  </a:lnTo>
                  <a:lnTo>
                    <a:pt x="3322" y="14886"/>
                  </a:lnTo>
                  <a:lnTo>
                    <a:pt x="3322" y="14886"/>
                  </a:lnTo>
                  <a:lnTo>
                    <a:pt x="3322" y="14886"/>
                  </a:lnTo>
                  <a:lnTo>
                    <a:pt x="3322" y="15469"/>
                  </a:lnTo>
                  <a:lnTo>
                    <a:pt x="3322" y="15761"/>
                  </a:lnTo>
                  <a:lnTo>
                    <a:pt x="2907" y="16053"/>
                  </a:lnTo>
                  <a:lnTo>
                    <a:pt x="2907" y="16345"/>
                  </a:lnTo>
                  <a:lnTo>
                    <a:pt x="2907" y="16345"/>
                  </a:lnTo>
                  <a:lnTo>
                    <a:pt x="3738" y="18097"/>
                  </a:lnTo>
                  <a:lnTo>
                    <a:pt x="4984" y="19556"/>
                  </a:lnTo>
                  <a:lnTo>
                    <a:pt x="5400" y="20140"/>
                  </a:lnTo>
                  <a:lnTo>
                    <a:pt x="7061" y="21015"/>
                  </a:lnTo>
                  <a:lnTo>
                    <a:pt x="8722" y="21600"/>
                  </a:lnTo>
                  <a:lnTo>
                    <a:pt x="9553" y="21307"/>
                  </a:lnTo>
                  <a:lnTo>
                    <a:pt x="11215" y="21307"/>
                  </a:lnTo>
                  <a:lnTo>
                    <a:pt x="12045" y="21307"/>
                  </a:lnTo>
                  <a:lnTo>
                    <a:pt x="13707" y="20432"/>
                  </a:lnTo>
                  <a:lnTo>
                    <a:pt x="14953" y="19848"/>
                  </a:lnTo>
                  <a:lnTo>
                    <a:pt x="16615" y="18972"/>
                  </a:lnTo>
                  <a:lnTo>
                    <a:pt x="17861" y="17805"/>
                  </a:lnTo>
                  <a:lnTo>
                    <a:pt x="18692" y="17221"/>
                  </a:lnTo>
                  <a:lnTo>
                    <a:pt x="19522" y="15761"/>
                  </a:lnTo>
                  <a:lnTo>
                    <a:pt x="20353" y="14594"/>
                  </a:lnTo>
                  <a:lnTo>
                    <a:pt x="21184" y="13718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5809320" y="4402800"/>
              <a:ext cx="362520" cy="227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428" y="13114"/>
                  </a:moveTo>
                  <a:lnTo>
                    <a:pt x="14953" y="13114"/>
                  </a:lnTo>
                  <a:lnTo>
                    <a:pt x="14241" y="12728"/>
                  </a:lnTo>
                  <a:lnTo>
                    <a:pt x="13292" y="13114"/>
                  </a:lnTo>
                  <a:lnTo>
                    <a:pt x="13054" y="13500"/>
                  </a:lnTo>
                  <a:lnTo>
                    <a:pt x="12342" y="13114"/>
                  </a:lnTo>
                  <a:lnTo>
                    <a:pt x="11867" y="13500"/>
                  </a:lnTo>
                  <a:lnTo>
                    <a:pt x="11155" y="13500"/>
                  </a:lnTo>
                  <a:lnTo>
                    <a:pt x="10918" y="13114"/>
                  </a:lnTo>
                  <a:lnTo>
                    <a:pt x="10206" y="13500"/>
                  </a:lnTo>
                  <a:lnTo>
                    <a:pt x="9731" y="13500"/>
                  </a:lnTo>
                  <a:lnTo>
                    <a:pt x="9256" y="13500"/>
                  </a:lnTo>
                  <a:lnTo>
                    <a:pt x="8544" y="13500"/>
                  </a:lnTo>
                  <a:lnTo>
                    <a:pt x="8070" y="13885"/>
                  </a:lnTo>
                  <a:lnTo>
                    <a:pt x="7120" y="13885"/>
                  </a:lnTo>
                  <a:lnTo>
                    <a:pt x="6645" y="13885"/>
                  </a:lnTo>
                  <a:lnTo>
                    <a:pt x="5933" y="13885"/>
                  </a:lnTo>
                  <a:lnTo>
                    <a:pt x="5696" y="13885"/>
                  </a:lnTo>
                  <a:lnTo>
                    <a:pt x="5221" y="13885"/>
                  </a:lnTo>
                  <a:lnTo>
                    <a:pt x="4984" y="13500"/>
                  </a:lnTo>
                  <a:lnTo>
                    <a:pt x="4984" y="13114"/>
                  </a:lnTo>
                  <a:lnTo>
                    <a:pt x="4509" y="12728"/>
                  </a:lnTo>
                  <a:lnTo>
                    <a:pt x="4034" y="12342"/>
                  </a:lnTo>
                  <a:lnTo>
                    <a:pt x="4034" y="11571"/>
                  </a:lnTo>
                  <a:lnTo>
                    <a:pt x="3560" y="11185"/>
                  </a:lnTo>
                  <a:lnTo>
                    <a:pt x="3322" y="10414"/>
                  </a:lnTo>
                  <a:lnTo>
                    <a:pt x="3322" y="9256"/>
                  </a:lnTo>
                  <a:lnTo>
                    <a:pt x="3085" y="8485"/>
                  </a:lnTo>
                  <a:lnTo>
                    <a:pt x="3322" y="7714"/>
                  </a:lnTo>
                  <a:lnTo>
                    <a:pt x="3322" y="7328"/>
                  </a:lnTo>
                  <a:lnTo>
                    <a:pt x="3322" y="6942"/>
                  </a:lnTo>
                  <a:lnTo>
                    <a:pt x="3560" y="6556"/>
                  </a:lnTo>
                  <a:lnTo>
                    <a:pt x="4034" y="5785"/>
                  </a:lnTo>
                  <a:lnTo>
                    <a:pt x="4272" y="5400"/>
                  </a:lnTo>
                  <a:lnTo>
                    <a:pt x="4272" y="5014"/>
                  </a:lnTo>
                  <a:lnTo>
                    <a:pt x="4509" y="4628"/>
                  </a:lnTo>
                  <a:lnTo>
                    <a:pt x="4747" y="4242"/>
                  </a:lnTo>
                  <a:lnTo>
                    <a:pt x="4747" y="3856"/>
                  </a:lnTo>
                  <a:lnTo>
                    <a:pt x="4984" y="3856"/>
                  </a:lnTo>
                  <a:lnTo>
                    <a:pt x="4984" y="3471"/>
                  </a:lnTo>
                  <a:lnTo>
                    <a:pt x="5221" y="2700"/>
                  </a:lnTo>
                  <a:lnTo>
                    <a:pt x="5221" y="2314"/>
                  </a:lnTo>
                  <a:lnTo>
                    <a:pt x="5221" y="1928"/>
                  </a:lnTo>
                  <a:lnTo>
                    <a:pt x="5221" y="1542"/>
                  </a:lnTo>
                  <a:lnTo>
                    <a:pt x="4984" y="1156"/>
                  </a:lnTo>
                  <a:lnTo>
                    <a:pt x="4984" y="1156"/>
                  </a:lnTo>
                  <a:lnTo>
                    <a:pt x="4984" y="385"/>
                  </a:lnTo>
                  <a:lnTo>
                    <a:pt x="4984" y="0"/>
                  </a:lnTo>
                  <a:lnTo>
                    <a:pt x="4747" y="0"/>
                  </a:lnTo>
                  <a:lnTo>
                    <a:pt x="4509" y="0"/>
                  </a:lnTo>
                  <a:lnTo>
                    <a:pt x="4034" y="0"/>
                  </a:lnTo>
                  <a:lnTo>
                    <a:pt x="3797" y="0"/>
                  </a:lnTo>
                  <a:lnTo>
                    <a:pt x="3322" y="385"/>
                  </a:lnTo>
                  <a:lnTo>
                    <a:pt x="3085" y="1542"/>
                  </a:lnTo>
                  <a:lnTo>
                    <a:pt x="2373" y="2314"/>
                  </a:lnTo>
                  <a:lnTo>
                    <a:pt x="1898" y="3471"/>
                  </a:lnTo>
                  <a:lnTo>
                    <a:pt x="1424" y="5014"/>
                  </a:lnTo>
                  <a:lnTo>
                    <a:pt x="949" y="6171"/>
                  </a:lnTo>
                  <a:lnTo>
                    <a:pt x="711" y="7328"/>
                  </a:lnTo>
                  <a:lnTo>
                    <a:pt x="474" y="8871"/>
                  </a:lnTo>
                  <a:lnTo>
                    <a:pt x="237" y="10414"/>
                  </a:lnTo>
                  <a:lnTo>
                    <a:pt x="0" y="11956"/>
                  </a:lnTo>
                  <a:lnTo>
                    <a:pt x="0" y="12728"/>
                  </a:lnTo>
                  <a:lnTo>
                    <a:pt x="237" y="13885"/>
                  </a:lnTo>
                  <a:lnTo>
                    <a:pt x="711" y="15428"/>
                  </a:lnTo>
                  <a:lnTo>
                    <a:pt x="949" y="16585"/>
                  </a:lnTo>
                  <a:lnTo>
                    <a:pt x="1186" y="17356"/>
                  </a:lnTo>
                  <a:lnTo>
                    <a:pt x="1661" y="18128"/>
                  </a:lnTo>
                  <a:lnTo>
                    <a:pt x="1898" y="18900"/>
                  </a:lnTo>
                  <a:lnTo>
                    <a:pt x="2373" y="19285"/>
                  </a:lnTo>
                  <a:lnTo>
                    <a:pt x="2848" y="20056"/>
                  </a:lnTo>
                  <a:lnTo>
                    <a:pt x="3322" y="20056"/>
                  </a:lnTo>
                  <a:lnTo>
                    <a:pt x="3560" y="20828"/>
                  </a:lnTo>
                  <a:lnTo>
                    <a:pt x="4034" y="20828"/>
                  </a:lnTo>
                  <a:lnTo>
                    <a:pt x="4272" y="20828"/>
                  </a:lnTo>
                  <a:lnTo>
                    <a:pt x="4747" y="21214"/>
                  </a:lnTo>
                  <a:lnTo>
                    <a:pt x="5221" y="21214"/>
                  </a:lnTo>
                  <a:lnTo>
                    <a:pt x="5696" y="21214"/>
                  </a:lnTo>
                  <a:lnTo>
                    <a:pt x="6171" y="21600"/>
                  </a:lnTo>
                  <a:lnTo>
                    <a:pt x="6645" y="21214"/>
                  </a:lnTo>
                  <a:lnTo>
                    <a:pt x="7120" y="21600"/>
                  </a:lnTo>
                  <a:lnTo>
                    <a:pt x="7595" y="21214"/>
                  </a:lnTo>
                  <a:lnTo>
                    <a:pt x="8070" y="21214"/>
                  </a:lnTo>
                  <a:lnTo>
                    <a:pt x="8544" y="21214"/>
                  </a:lnTo>
                  <a:lnTo>
                    <a:pt x="9019" y="20828"/>
                  </a:lnTo>
                  <a:lnTo>
                    <a:pt x="9494" y="21214"/>
                  </a:lnTo>
                  <a:lnTo>
                    <a:pt x="9969" y="20828"/>
                  </a:lnTo>
                  <a:lnTo>
                    <a:pt x="10443" y="20442"/>
                  </a:lnTo>
                  <a:lnTo>
                    <a:pt x="10918" y="20828"/>
                  </a:lnTo>
                  <a:lnTo>
                    <a:pt x="11155" y="20442"/>
                  </a:lnTo>
                  <a:lnTo>
                    <a:pt x="11630" y="20442"/>
                  </a:lnTo>
                  <a:lnTo>
                    <a:pt x="11867" y="20442"/>
                  </a:lnTo>
                  <a:lnTo>
                    <a:pt x="12105" y="20442"/>
                  </a:lnTo>
                  <a:lnTo>
                    <a:pt x="12580" y="20442"/>
                  </a:lnTo>
                  <a:lnTo>
                    <a:pt x="13054" y="20442"/>
                  </a:lnTo>
                  <a:lnTo>
                    <a:pt x="13292" y="20442"/>
                  </a:lnTo>
                  <a:lnTo>
                    <a:pt x="13766" y="20828"/>
                  </a:lnTo>
                  <a:lnTo>
                    <a:pt x="14241" y="21214"/>
                  </a:lnTo>
                  <a:lnTo>
                    <a:pt x="14478" y="20828"/>
                  </a:lnTo>
                  <a:lnTo>
                    <a:pt x="14953" y="21214"/>
                  </a:lnTo>
                  <a:lnTo>
                    <a:pt x="15428" y="21214"/>
                  </a:lnTo>
                  <a:lnTo>
                    <a:pt x="15903" y="21600"/>
                  </a:lnTo>
                  <a:lnTo>
                    <a:pt x="15903" y="21214"/>
                  </a:lnTo>
                  <a:lnTo>
                    <a:pt x="16615" y="20828"/>
                  </a:lnTo>
                  <a:lnTo>
                    <a:pt x="17089" y="20828"/>
                  </a:lnTo>
                  <a:lnTo>
                    <a:pt x="17564" y="20828"/>
                  </a:lnTo>
                  <a:lnTo>
                    <a:pt x="17802" y="20442"/>
                  </a:lnTo>
                  <a:lnTo>
                    <a:pt x="18276" y="20056"/>
                  </a:lnTo>
                  <a:lnTo>
                    <a:pt x="18751" y="20056"/>
                  </a:lnTo>
                  <a:lnTo>
                    <a:pt x="18988" y="19671"/>
                  </a:lnTo>
                  <a:lnTo>
                    <a:pt x="19463" y="19285"/>
                  </a:lnTo>
                  <a:lnTo>
                    <a:pt x="19938" y="19671"/>
                  </a:lnTo>
                  <a:lnTo>
                    <a:pt x="20175" y="19285"/>
                  </a:lnTo>
                  <a:lnTo>
                    <a:pt x="20175" y="18514"/>
                  </a:lnTo>
                  <a:lnTo>
                    <a:pt x="20650" y="18514"/>
                  </a:lnTo>
                  <a:lnTo>
                    <a:pt x="21125" y="17742"/>
                  </a:lnTo>
                  <a:lnTo>
                    <a:pt x="21125" y="16971"/>
                  </a:lnTo>
                  <a:lnTo>
                    <a:pt x="21125" y="16585"/>
                  </a:lnTo>
                  <a:lnTo>
                    <a:pt x="21600" y="15814"/>
                  </a:lnTo>
                  <a:lnTo>
                    <a:pt x="21362" y="15428"/>
                  </a:lnTo>
                  <a:lnTo>
                    <a:pt x="21362" y="14656"/>
                  </a:lnTo>
                  <a:lnTo>
                    <a:pt x="21362" y="14271"/>
                  </a:lnTo>
                  <a:lnTo>
                    <a:pt x="21125" y="13885"/>
                  </a:lnTo>
                  <a:lnTo>
                    <a:pt x="20887" y="13114"/>
                  </a:lnTo>
                  <a:lnTo>
                    <a:pt x="20887" y="13114"/>
                  </a:lnTo>
                  <a:lnTo>
                    <a:pt x="20413" y="12728"/>
                  </a:lnTo>
                  <a:lnTo>
                    <a:pt x="19938" y="12728"/>
                  </a:lnTo>
                  <a:lnTo>
                    <a:pt x="19463" y="12728"/>
                  </a:lnTo>
                  <a:lnTo>
                    <a:pt x="18988" y="12728"/>
                  </a:lnTo>
                  <a:lnTo>
                    <a:pt x="18751" y="12728"/>
                  </a:lnTo>
                  <a:lnTo>
                    <a:pt x="18514" y="12728"/>
                  </a:lnTo>
                  <a:lnTo>
                    <a:pt x="18276" y="12728"/>
                  </a:lnTo>
                  <a:lnTo>
                    <a:pt x="18039" y="12728"/>
                  </a:lnTo>
                  <a:lnTo>
                    <a:pt x="17802" y="12728"/>
                  </a:lnTo>
                  <a:lnTo>
                    <a:pt x="17564" y="12342"/>
                  </a:lnTo>
                  <a:lnTo>
                    <a:pt x="17327" y="12342"/>
                  </a:lnTo>
                  <a:lnTo>
                    <a:pt x="17089" y="12728"/>
                  </a:lnTo>
                  <a:lnTo>
                    <a:pt x="17089" y="12728"/>
                  </a:lnTo>
                  <a:lnTo>
                    <a:pt x="16852" y="12728"/>
                  </a:lnTo>
                  <a:lnTo>
                    <a:pt x="16615" y="12728"/>
                  </a:lnTo>
                  <a:lnTo>
                    <a:pt x="16377" y="12728"/>
                  </a:lnTo>
                  <a:lnTo>
                    <a:pt x="16140" y="12728"/>
                  </a:lnTo>
                  <a:lnTo>
                    <a:pt x="15903" y="12728"/>
                  </a:lnTo>
                  <a:lnTo>
                    <a:pt x="15665" y="12728"/>
                  </a:lnTo>
                  <a:lnTo>
                    <a:pt x="15428" y="13114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5387040" y="4186080"/>
              <a:ext cx="489240" cy="19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726" y="14246"/>
                  </a:moveTo>
                  <a:lnTo>
                    <a:pt x="8077" y="13327"/>
                  </a:lnTo>
                  <a:lnTo>
                    <a:pt x="8253" y="12867"/>
                  </a:lnTo>
                  <a:lnTo>
                    <a:pt x="8780" y="11948"/>
                  </a:lnTo>
                  <a:lnTo>
                    <a:pt x="9131" y="11489"/>
                  </a:lnTo>
                  <a:lnTo>
                    <a:pt x="9482" y="11029"/>
                  </a:lnTo>
                  <a:lnTo>
                    <a:pt x="9658" y="11029"/>
                  </a:lnTo>
                  <a:lnTo>
                    <a:pt x="10185" y="10569"/>
                  </a:lnTo>
                  <a:lnTo>
                    <a:pt x="10536" y="10110"/>
                  </a:lnTo>
                  <a:lnTo>
                    <a:pt x="10711" y="9651"/>
                  </a:lnTo>
                  <a:lnTo>
                    <a:pt x="11063" y="9191"/>
                  </a:lnTo>
                  <a:lnTo>
                    <a:pt x="11414" y="8731"/>
                  </a:lnTo>
                  <a:lnTo>
                    <a:pt x="11590" y="8272"/>
                  </a:lnTo>
                  <a:lnTo>
                    <a:pt x="11941" y="7812"/>
                  </a:lnTo>
                  <a:lnTo>
                    <a:pt x="12292" y="7353"/>
                  </a:lnTo>
                  <a:lnTo>
                    <a:pt x="12643" y="7353"/>
                  </a:lnTo>
                  <a:lnTo>
                    <a:pt x="12995" y="6893"/>
                  </a:lnTo>
                  <a:lnTo>
                    <a:pt x="13170" y="6433"/>
                  </a:lnTo>
                  <a:lnTo>
                    <a:pt x="13521" y="6433"/>
                  </a:lnTo>
                  <a:lnTo>
                    <a:pt x="13873" y="5974"/>
                  </a:lnTo>
                  <a:lnTo>
                    <a:pt x="14048" y="5974"/>
                  </a:lnTo>
                  <a:lnTo>
                    <a:pt x="14399" y="5974"/>
                  </a:lnTo>
                  <a:lnTo>
                    <a:pt x="14751" y="5055"/>
                  </a:lnTo>
                  <a:lnTo>
                    <a:pt x="15102" y="4595"/>
                  </a:lnTo>
                  <a:lnTo>
                    <a:pt x="15453" y="4595"/>
                  </a:lnTo>
                  <a:lnTo>
                    <a:pt x="15980" y="4595"/>
                  </a:lnTo>
                  <a:lnTo>
                    <a:pt x="16331" y="4595"/>
                  </a:lnTo>
                  <a:lnTo>
                    <a:pt x="16858" y="4595"/>
                  </a:lnTo>
                  <a:lnTo>
                    <a:pt x="17385" y="4136"/>
                  </a:lnTo>
                  <a:lnTo>
                    <a:pt x="17560" y="4136"/>
                  </a:lnTo>
                  <a:lnTo>
                    <a:pt x="18263" y="4136"/>
                  </a:lnTo>
                  <a:lnTo>
                    <a:pt x="18965" y="4595"/>
                  </a:lnTo>
                  <a:lnTo>
                    <a:pt x="19316" y="5055"/>
                  </a:lnTo>
                  <a:lnTo>
                    <a:pt x="19843" y="5055"/>
                  </a:lnTo>
                  <a:lnTo>
                    <a:pt x="20370" y="5514"/>
                  </a:lnTo>
                  <a:lnTo>
                    <a:pt x="20721" y="5055"/>
                  </a:lnTo>
                  <a:lnTo>
                    <a:pt x="21072" y="5055"/>
                  </a:lnTo>
                  <a:lnTo>
                    <a:pt x="21248" y="4136"/>
                  </a:lnTo>
                  <a:lnTo>
                    <a:pt x="21424" y="3676"/>
                  </a:lnTo>
                  <a:lnTo>
                    <a:pt x="21600" y="2757"/>
                  </a:lnTo>
                  <a:lnTo>
                    <a:pt x="21424" y="2297"/>
                  </a:lnTo>
                  <a:lnTo>
                    <a:pt x="21248" y="1838"/>
                  </a:lnTo>
                  <a:lnTo>
                    <a:pt x="21072" y="918"/>
                  </a:lnTo>
                  <a:lnTo>
                    <a:pt x="20897" y="459"/>
                  </a:lnTo>
                  <a:lnTo>
                    <a:pt x="20721" y="459"/>
                  </a:lnTo>
                  <a:lnTo>
                    <a:pt x="20194" y="0"/>
                  </a:lnTo>
                  <a:lnTo>
                    <a:pt x="19668" y="0"/>
                  </a:lnTo>
                  <a:lnTo>
                    <a:pt x="18965" y="459"/>
                  </a:lnTo>
                  <a:lnTo>
                    <a:pt x="18263" y="459"/>
                  </a:lnTo>
                  <a:lnTo>
                    <a:pt x="17736" y="459"/>
                  </a:lnTo>
                  <a:lnTo>
                    <a:pt x="17560" y="918"/>
                  </a:lnTo>
                  <a:lnTo>
                    <a:pt x="17033" y="1838"/>
                  </a:lnTo>
                  <a:lnTo>
                    <a:pt x="16507" y="1838"/>
                  </a:lnTo>
                  <a:lnTo>
                    <a:pt x="15980" y="1838"/>
                  </a:lnTo>
                  <a:lnTo>
                    <a:pt x="15277" y="2297"/>
                  </a:lnTo>
                  <a:lnTo>
                    <a:pt x="14751" y="2757"/>
                  </a:lnTo>
                  <a:lnTo>
                    <a:pt x="14399" y="3216"/>
                  </a:lnTo>
                  <a:lnTo>
                    <a:pt x="13521" y="3676"/>
                  </a:lnTo>
                  <a:lnTo>
                    <a:pt x="12995" y="3676"/>
                  </a:lnTo>
                  <a:lnTo>
                    <a:pt x="12292" y="3676"/>
                  </a:lnTo>
                  <a:lnTo>
                    <a:pt x="11765" y="4136"/>
                  </a:lnTo>
                  <a:lnTo>
                    <a:pt x="11239" y="4595"/>
                  </a:lnTo>
                  <a:lnTo>
                    <a:pt x="10711" y="4136"/>
                  </a:lnTo>
                  <a:lnTo>
                    <a:pt x="9833" y="4595"/>
                  </a:lnTo>
                  <a:lnTo>
                    <a:pt x="9131" y="5055"/>
                  </a:lnTo>
                  <a:lnTo>
                    <a:pt x="8780" y="5514"/>
                  </a:lnTo>
                  <a:lnTo>
                    <a:pt x="8077" y="5974"/>
                  </a:lnTo>
                  <a:lnTo>
                    <a:pt x="7375" y="5974"/>
                  </a:lnTo>
                  <a:lnTo>
                    <a:pt x="6672" y="6433"/>
                  </a:lnTo>
                  <a:lnTo>
                    <a:pt x="6146" y="6893"/>
                  </a:lnTo>
                  <a:lnTo>
                    <a:pt x="5619" y="7353"/>
                  </a:lnTo>
                  <a:lnTo>
                    <a:pt x="4916" y="7812"/>
                  </a:lnTo>
                  <a:lnTo>
                    <a:pt x="4390" y="8272"/>
                  </a:lnTo>
                  <a:lnTo>
                    <a:pt x="3863" y="8272"/>
                  </a:lnTo>
                  <a:lnTo>
                    <a:pt x="3512" y="9191"/>
                  </a:lnTo>
                  <a:lnTo>
                    <a:pt x="2809" y="9191"/>
                  </a:lnTo>
                  <a:lnTo>
                    <a:pt x="2634" y="10110"/>
                  </a:lnTo>
                  <a:lnTo>
                    <a:pt x="2282" y="10569"/>
                  </a:lnTo>
                  <a:lnTo>
                    <a:pt x="1756" y="11029"/>
                  </a:lnTo>
                  <a:lnTo>
                    <a:pt x="1580" y="11948"/>
                  </a:lnTo>
                  <a:lnTo>
                    <a:pt x="1404" y="12408"/>
                  </a:lnTo>
                  <a:lnTo>
                    <a:pt x="878" y="13787"/>
                  </a:lnTo>
                  <a:lnTo>
                    <a:pt x="526" y="15165"/>
                  </a:lnTo>
                  <a:lnTo>
                    <a:pt x="351" y="16084"/>
                  </a:lnTo>
                  <a:lnTo>
                    <a:pt x="175" y="17004"/>
                  </a:lnTo>
                  <a:lnTo>
                    <a:pt x="175" y="18382"/>
                  </a:lnTo>
                  <a:lnTo>
                    <a:pt x="0" y="19302"/>
                  </a:lnTo>
                  <a:lnTo>
                    <a:pt x="0" y="19761"/>
                  </a:lnTo>
                  <a:lnTo>
                    <a:pt x="175" y="20220"/>
                  </a:lnTo>
                  <a:lnTo>
                    <a:pt x="351" y="21140"/>
                  </a:lnTo>
                  <a:lnTo>
                    <a:pt x="526" y="21140"/>
                  </a:lnTo>
                  <a:lnTo>
                    <a:pt x="878" y="21140"/>
                  </a:lnTo>
                  <a:lnTo>
                    <a:pt x="1229" y="21600"/>
                  </a:lnTo>
                  <a:lnTo>
                    <a:pt x="1580" y="21140"/>
                  </a:lnTo>
                  <a:lnTo>
                    <a:pt x="1756" y="20680"/>
                  </a:lnTo>
                  <a:lnTo>
                    <a:pt x="2107" y="20680"/>
                  </a:lnTo>
                  <a:lnTo>
                    <a:pt x="2458" y="19761"/>
                  </a:lnTo>
                  <a:lnTo>
                    <a:pt x="2985" y="19761"/>
                  </a:lnTo>
                  <a:lnTo>
                    <a:pt x="3336" y="18842"/>
                  </a:lnTo>
                  <a:lnTo>
                    <a:pt x="3687" y="18382"/>
                  </a:lnTo>
                  <a:lnTo>
                    <a:pt x="3863" y="18382"/>
                  </a:lnTo>
                  <a:lnTo>
                    <a:pt x="4214" y="17923"/>
                  </a:lnTo>
                  <a:lnTo>
                    <a:pt x="4741" y="17923"/>
                  </a:lnTo>
                  <a:lnTo>
                    <a:pt x="4916" y="17463"/>
                  </a:lnTo>
                  <a:lnTo>
                    <a:pt x="5092" y="17004"/>
                  </a:lnTo>
                  <a:lnTo>
                    <a:pt x="5268" y="16544"/>
                  </a:lnTo>
                  <a:lnTo>
                    <a:pt x="5619" y="17004"/>
                  </a:lnTo>
                  <a:lnTo>
                    <a:pt x="5794" y="16544"/>
                  </a:lnTo>
                  <a:lnTo>
                    <a:pt x="6146" y="16084"/>
                  </a:lnTo>
                  <a:lnTo>
                    <a:pt x="6497" y="16084"/>
                  </a:lnTo>
                  <a:lnTo>
                    <a:pt x="6848" y="15165"/>
                  </a:lnTo>
                  <a:lnTo>
                    <a:pt x="7199" y="14706"/>
                  </a:lnTo>
                  <a:lnTo>
                    <a:pt x="7726" y="14246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5262480" y="4959000"/>
              <a:ext cx="650520" cy="866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443" y="4765"/>
                  </a:moveTo>
                  <a:lnTo>
                    <a:pt x="14708" y="4664"/>
                  </a:lnTo>
                  <a:lnTo>
                    <a:pt x="14841" y="4461"/>
                  </a:lnTo>
                  <a:lnTo>
                    <a:pt x="14973" y="4258"/>
                  </a:lnTo>
                  <a:lnTo>
                    <a:pt x="15106" y="3954"/>
                  </a:lnTo>
                  <a:lnTo>
                    <a:pt x="15239" y="3650"/>
                  </a:lnTo>
                  <a:lnTo>
                    <a:pt x="15371" y="3447"/>
                  </a:lnTo>
                  <a:lnTo>
                    <a:pt x="15504" y="3143"/>
                  </a:lnTo>
                  <a:lnTo>
                    <a:pt x="15769" y="2737"/>
                  </a:lnTo>
                  <a:lnTo>
                    <a:pt x="15769" y="2433"/>
                  </a:lnTo>
                  <a:lnTo>
                    <a:pt x="16034" y="2027"/>
                  </a:lnTo>
                  <a:lnTo>
                    <a:pt x="16166" y="1926"/>
                  </a:lnTo>
                  <a:lnTo>
                    <a:pt x="16299" y="1622"/>
                  </a:lnTo>
                  <a:lnTo>
                    <a:pt x="16564" y="1419"/>
                  </a:lnTo>
                  <a:lnTo>
                    <a:pt x="16829" y="1115"/>
                  </a:lnTo>
                  <a:lnTo>
                    <a:pt x="17094" y="1115"/>
                  </a:lnTo>
                  <a:lnTo>
                    <a:pt x="17359" y="912"/>
                  </a:lnTo>
                  <a:lnTo>
                    <a:pt x="17624" y="811"/>
                  </a:lnTo>
                  <a:lnTo>
                    <a:pt x="18021" y="709"/>
                  </a:lnTo>
                  <a:lnTo>
                    <a:pt x="18551" y="608"/>
                  </a:lnTo>
                  <a:lnTo>
                    <a:pt x="19214" y="608"/>
                  </a:lnTo>
                  <a:lnTo>
                    <a:pt x="19612" y="608"/>
                  </a:lnTo>
                  <a:lnTo>
                    <a:pt x="20009" y="405"/>
                  </a:lnTo>
                  <a:lnTo>
                    <a:pt x="20407" y="304"/>
                  </a:lnTo>
                  <a:lnTo>
                    <a:pt x="20937" y="202"/>
                  </a:lnTo>
                  <a:lnTo>
                    <a:pt x="21202" y="101"/>
                  </a:lnTo>
                  <a:lnTo>
                    <a:pt x="21467" y="0"/>
                  </a:lnTo>
                  <a:lnTo>
                    <a:pt x="21600" y="101"/>
                  </a:lnTo>
                  <a:lnTo>
                    <a:pt x="21467" y="0"/>
                  </a:lnTo>
                  <a:lnTo>
                    <a:pt x="21334" y="0"/>
                  </a:lnTo>
                  <a:lnTo>
                    <a:pt x="21069" y="101"/>
                  </a:lnTo>
                  <a:lnTo>
                    <a:pt x="20539" y="202"/>
                  </a:lnTo>
                  <a:lnTo>
                    <a:pt x="19612" y="405"/>
                  </a:lnTo>
                  <a:lnTo>
                    <a:pt x="19346" y="405"/>
                  </a:lnTo>
                  <a:lnTo>
                    <a:pt x="18949" y="506"/>
                  </a:lnTo>
                  <a:lnTo>
                    <a:pt x="18419" y="608"/>
                  </a:lnTo>
                  <a:lnTo>
                    <a:pt x="18021" y="608"/>
                  </a:lnTo>
                  <a:lnTo>
                    <a:pt x="17624" y="709"/>
                  </a:lnTo>
                  <a:lnTo>
                    <a:pt x="17359" y="811"/>
                  </a:lnTo>
                  <a:lnTo>
                    <a:pt x="16961" y="1013"/>
                  </a:lnTo>
                  <a:lnTo>
                    <a:pt x="16696" y="1115"/>
                  </a:lnTo>
                  <a:lnTo>
                    <a:pt x="16299" y="1216"/>
                  </a:lnTo>
                  <a:lnTo>
                    <a:pt x="15901" y="1419"/>
                  </a:lnTo>
                  <a:lnTo>
                    <a:pt x="15636" y="1622"/>
                  </a:lnTo>
                  <a:lnTo>
                    <a:pt x="15371" y="1723"/>
                  </a:lnTo>
                  <a:lnTo>
                    <a:pt x="14973" y="1926"/>
                  </a:lnTo>
                  <a:lnTo>
                    <a:pt x="14841" y="2129"/>
                  </a:lnTo>
                  <a:lnTo>
                    <a:pt x="14576" y="2535"/>
                  </a:lnTo>
                  <a:lnTo>
                    <a:pt x="14311" y="2839"/>
                  </a:lnTo>
                  <a:lnTo>
                    <a:pt x="14311" y="2940"/>
                  </a:lnTo>
                  <a:lnTo>
                    <a:pt x="14178" y="3042"/>
                  </a:lnTo>
                  <a:lnTo>
                    <a:pt x="14046" y="3143"/>
                  </a:lnTo>
                  <a:lnTo>
                    <a:pt x="13913" y="3244"/>
                  </a:lnTo>
                  <a:lnTo>
                    <a:pt x="13781" y="3346"/>
                  </a:lnTo>
                  <a:lnTo>
                    <a:pt x="13648" y="3549"/>
                  </a:lnTo>
                  <a:lnTo>
                    <a:pt x="13383" y="3752"/>
                  </a:lnTo>
                  <a:lnTo>
                    <a:pt x="13251" y="3853"/>
                  </a:lnTo>
                  <a:lnTo>
                    <a:pt x="13118" y="4056"/>
                  </a:lnTo>
                  <a:lnTo>
                    <a:pt x="12986" y="4258"/>
                  </a:lnTo>
                  <a:lnTo>
                    <a:pt x="12721" y="4563"/>
                  </a:lnTo>
                  <a:lnTo>
                    <a:pt x="12588" y="4664"/>
                  </a:lnTo>
                  <a:lnTo>
                    <a:pt x="12588" y="4867"/>
                  </a:lnTo>
                  <a:lnTo>
                    <a:pt x="12323" y="5070"/>
                  </a:lnTo>
                  <a:lnTo>
                    <a:pt x="12191" y="5374"/>
                  </a:lnTo>
                  <a:lnTo>
                    <a:pt x="12058" y="5577"/>
                  </a:lnTo>
                  <a:lnTo>
                    <a:pt x="12058" y="5678"/>
                  </a:lnTo>
                  <a:lnTo>
                    <a:pt x="12058" y="5881"/>
                  </a:lnTo>
                  <a:lnTo>
                    <a:pt x="11926" y="5983"/>
                  </a:lnTo>
                  <a:lnTo>
                    <a:pt x="11793" y="6185"/>
                  </a:lnTo>
                  <a:lnTo>
                    <a:pt x="11661" y="6388"/>
                  </a:lnTo>
                  <a:lnTo>
                    <a:pt x="11528" y="6591"/>
                  </a:lnTo>
                  <a:lnTo>
                    <a:pt x="11396" y="6895"/>
                  </a:lnTo>
                  <a:lnTo>
                    <a:pt x="11396" y="7199"/>
                  </a:lnTo>
                  <a:lnTo>
                    <a:pt x="11131" y="7605"/>
                  </a:lnTo>
                  <a:lnTo>
                    <a:pt x="10998" y="7909"/>
                  </a:lnTo>
                  <a:lnTo>
                    <a:pt x="10998" y="8214"/>
                  </a:lnTo>
                  <a:lnTo>
                    <a:pt x="10866" y="8416"/>
                  </a:lnTo>
                  <a:lnTo>
                    <a:pt x="10866" y="8619"/>
                  </a:lnTo>
                  <a:lnTo>
                    <a:pt x="10600" y="8720"/>
                  </a:lnTo>
                  <a:lnTo>
                    <a:pt x="10600" y="8923"/>
                  </a:lnTo>
                  <a:lnTo>
                    <a:pt x="10600" y="9025"/>
                  </a:lnTo>
                  <a:lnTo>
                    <a:pt x="10468" y="9126"/>
                  </a:lnTo>
                  <a:lnTo>
                    <a:pt x="10335" y="9430"/>
                  </a:lnTo>
                  <a:lnTo>
                    <a:pt x="10203" y="9735"/>
                  </a:lnTo>
                  <a:lnTo>
                    <a:pt x="10203" y="9937"/>
                  </a:lnTo>
                  <a:lnTo>
                    <a:pt x="10203" y="10242"/>
                  </a:lnTo>
                  <a:lnTo>
                    <a:pt x="10070" y="10647"/>
                  </a:lnTo>
                  <a:lnTo>
                    <a:pt x="10070" y="10951"/>
                  </a:lnTo>
                  <a:lnTo>
                    <a:pt x="10070" y="11357"/>
                  </a:lnTo>
                  <a:lnTo>
                    <a:pt x="9938" y="11661"/>
                  </a:lnTo>
                  <a:lnTo>
                    <a:pt x="9938" y="11966"/>
                  </a:lnTo>
                  <a:lnTo>
                    <a:pt x="9938" y="12270"/>
                  </a:lnTo>
                  <a:lnTo>
                    <a:pt x="9938" y="12472"/>
                  </a:lnTo>
                  <a:lnTo>
                    <a:pt x="9938" y="12574"/>
                  </a:lnTo>
                  <a:lnTo>
                    <a:pt x="10070" y="12574"/>
                  </a:lnTo>
                  <a:lnTo>
                    <a:pt x="10203" y="12472"/>
                  </a:lnTo>
                  <a:lnTo>
                    <a:pt x="10468" y="12371"/>
                  </a:lnTo>
                  <a:lnTo>
                    <a:pt x="10600" y="12067"/>
                  </a:lnTo>
                  <a:lnTo>
                    <a:pt x="10733" y="11763"/>
                  </a:lnTo>
                  <a:lnTo>
                    <a:pt x="10733" y="11560"/>
                  </a:lnTo>
                  <a:lnTo>
                    <a:pt x="10866" y="11256"/>
                  </a:lnTo>
                  <a:lnTo>
                    <a:pt x="10998" y="10951"/>
                  </a:lnTo>
                  <a:lnTo>
                    <a:pt x="10998" y="10647"/>
                  </a:lnTo>
                  <a:lnTo>
                    <a:pt x="11131" y="10242"/>
                  </a:lnTo>
                  <a:lnTo>
                    <a:pt x="11263" y="10039"/>
                  </a:lnTo>
                  <a:lnTo>
                    <a:pt x="11396" y="9937"/>
                  </a:lnTo>
                  <a:lnTo>
                    <a:pt x="11528" y="9633"/>
                  </a:lnTo>
                  <a:lnTo>
                    <a:pt x="11793" y="9227"/>
                  </a:lnTo>
                  <a:lnTo>
                    <a:pt x="11793" y="8923"/>
                  </a:lnTo>
                  <a:lnTo>
                    <a:pt x="12191" y="8720"/>
                  </a:lnTo>
                  <a:lnTo>
                    <a:pt x="12323" y="8518"/>
                  </a:lnTo>
                  <a:lnTo>
                    <a:pt x="12721" y="8315"/>
                  </a:lnTo>
                  <a:lnTo>
                    <a:pt x="13118" y="8214"/>
                  </a:lnTo>
                  <a:lnTo>
                    <a:pt x="13118" y="8112"/>
                  </a:lnTo>
                  <a:lnTo>
                    <a:pt x="13251" y="8112"/>
                  </a:lnTo>
                  <a:lnTo>
                    <a:pt x="13383" y="8112"/>
                  </a:lnTo>
                  <a:lnTo>
                    <a:pt x="13516" y="8214"/>
                  </a:lnTo>
                  <a:lnTo>
                    <a:pt x="13648" y="8315"/>
                  </a:lnTo>
                  <a:lnTo>
                    <a:pt x="13781" y="8416"/>
                  </a:lnTo>
                  <a:lnTo>
                    <a:pt x="13781" y="8619"/>
                  </a:lnTo>
                  <a:lnTo>
                    <a:pt x="13781" y="8619"/>
                  </a:lnTo>
                  <a:lnTo>
                    <a:pt x="13913" y="8822"/>
                  </a:lnTo>
                  <a:lnTo>
                    <a:pt x="13781" y="9025"/>
                  </a:lnTo>
                  <a:lnTo>
                    <a:pt x="13913" y="9227"/>
                  </a:lnTo>
                  <a:lnTo>
                    <a:pt x="13781" y="9532"/>
                  </a:lnTo>
                  <a:lnTo>
                    <a:pt x="13913" y="9836"/>
                  </a:lnTo>
                  <a:lnTo>
                    <a:pt x="13781" y="10039"/>
                  </a:lnTo>
                  <a:lnTo>
                    <a:pt x="13913" y="10242"/>
                  </a:lnTo>
                  <a:lnTo>
                    <a:pt x="13781" y="10445"/>
                  </a:lnTo>
                  <a:lnTo>
                    <a:pt x="13781" y="10749"/>
                  </a:lnTo>
                  <a:lnTo>
                    <a:pt x="13781" y="10951"/>
                  </a:lnTo>
                  <a:lnTo>
                    <a:pt x="13781" y="11256"/>
                  </a:lnTo>
                  <a:lnTo>
                    <a:pt x="13648" y="11560"/>
                  </a:lnTo>
                  <a:lnTo>
                    <a:pt x="13516" y="11864"/>
                  </a:lnTo>
                  <a:lnTo>
                    <a:pt x="13516" y="11966"/>
                  </a:lnTo>
                  <a:lnTo>
                    <a:pt x="13648" y="12168"/>
                  </a:lnTo>
                  <a:lnTo>
                    <a:pt x="13516" y="12472"/>
                  </a:lnTo>
                  <a:lnTo>
                    <a:pt x="13516" y="12676"/>
                  </a:lnTo>
                  <a:lnTo>
                    <a:pt x="13383" y="12878"/>
                  </a:lnTo>
                  <a:lnTo>
                    <a:pt x="13383" y="12980"/>
                  </a:lnTo>
                  <a:lnTo>
                    <a:pt x="13383" y="13081"/>
                  </a:lnTo>
                  <a:lnTo>
                    <a:pt x="13383" y="13182"/>
                  </a:lnTo>
                  <a:lnTo>
                    <a:pt x="13251" y="13284"/>
                  </a:lnTo>
                  <a:lnTo>
                    <a:pt x="13251" y="13284"/>
                  </a:lnTo>
                  <a:lnTo>
                    <a:pt x="13251" y="13284"/>
                  </a:lnTo>
                  <a:lnTo>
                    <a:pt x="13118" y="13689"/>
                  </a:lnTo>
                  <a:lnTo>
                    <a:pt x="13118" y="13994"/>
                  </a:lnTo>
                  <a:lnTo>
                    <a:pt x="12986" y="14298"/>
                  </a:lnTo>
                  <a:lnTo>
                    <a:pt x="12853" y="14703"/>
                  </a:lnTo>
                  <a:lnTo>
                    <a:pt x="12853" y="15008"/>
                  </a:lnTo>
                  <a:lnTo>
                    <a:pt x="12721" y="15413"/>
                  </a:lnTo>
                  <a:lnTo>
                    <a:pt x="12588" y="15616"/>
                  </a:lnTo>
                  <a:lnTo>
                    <a:pt x="12456" y="15920"/>
                  </a:lnTo>
                  <a:lnTo>
                    <a:pt x="12323" y="16225"/>
                  </a:lnTo>
                  <a:lnTo>
                    <a:pt x="12191" y="16428"/>
                  </a:lnTo>
                  <a:lnTo>
                    <a:pt x="12058" y="16732"/>
                  </a:lnTo>
                  <a:lnTo>
                    <a:pt x="11793" y="17036"/>
                  </a:lnTo>
                  <a:lnTo>
                    <a:pt x="11793" y="17239"/>
                  </a:lnTo>
                  <a:lnTo>
                    <a:pt x="11528" y="17543"/>
                  </a:lnTo>
                  <a:lnTo>
                    <a:pt x="11396" y="17746"/>
                  </a:lnTo>
                  <a:lnTo>
                    <a:pt x="11131" y="17949"/>
                  </a:lnTo>
                  <a:lnTo>
                    <a:pt x="11131" y="18253"/>
                  </a:lnTo>
                  <a:lnTo>
                    <a:pt x="10866" y="18456"/>
                  </a:lnTo>
                  <a:lnTo>
                    <a:pt x="10733" y="18659"/>
                  </a:lnTo>
                  <a:lnTo>
                    <a:pt x="10468" y="18760"/>
                  </a:lnTo>
                  <a:lnTo>
                    <a:pt x="10203" y="18963"/>
                  </a:lnTo>
                  <a:lnTo>
                    <a:pt x="10070" y="19165"/>
                  </a:lnTo>
                  <a:lnTo>
                    <a:pt x="9938" y="19369"/>
                  </a:lnTo>
                  <a:lnTo>
                    <a:pt x="9673" y="19470"/>
                  </a:lnTo>
                  <a:lnTo>
                    <a:pt x="9540" y="19673"/>
                  </a:lnTo>
                  <a:lnTo>
                    <a:pt x="9408" y="19774"/>
                  </a:lnTo>
                  <a:lnTo>
                    <a:pt x="9143" y="19875"/>
                  </a:lnTo>
                  <a:lnTo>
                    <a:pt x="8878" y="19977"/>
                  </a:lnTo>
                  <a:lnTo>
                    <a:pt x="8745" y="20078"/>
                  </a:lnTo>
                  <a:lnTo>
                    <a:pt x="8348" y="20180"/>
                  </a:lnTo>
                  <a:lnTo>
                    <a:pt x="8083" y="20180"/>
                  </a:lnTo>
                  <a:lnTo>
                    <a:pt x="7818" y="20180"/>
                  </a:lnTo>
                  <a:lnTo>
                    <a:pt x="7685" y="20281"/>
                  </a:lnTo>
                  <a:lnTo>
                    <a:pt x="7420" y="20281"/>
                  </a:lnTo>
                  <a:lnTo>
                    <a:pt x="7155" y="20281"/>
                  </a:lnTo>
                  <a:lnTo>
                    <a:pt x="6890" y="20281"/>
                  </a:lnTo>
                  <a:lnTo>
                    <a:pt x="6493" y="20078"/>
                  </a:lnTo>
                  <a:lnTo>
                    <a:pt x="6227" y="20078"/>
                  </a:lnTo>
                  <a:lnTo>
                    <a:pt x="6095" y="19875"/>
                  </a:lnTo>
                  <a:lnTo>
                    <a:pt x="5830" y="19774"/>
                  </a:lnTo>
                  <a:lnTo>
                    <a:pt x="5565" y="19673"/>
                  </a:lnTo>
                  <a:lnTo>
                    <a:pt x="5432" y="19470"/>
                  </a:lnTo>
                  <a:lnTo>
                    <a:pt x="5300" y="19267"/>
                  </a:lnTo>
                  <a:lnTo>
                    <a:pt x="5035" y="19064"/>
                  </a:lnTo>
                  <a:lnTo>
                    <a:pt x="4902" y="18760"/>
                  </a:lnTo>
                  <a:lnTo>
                    <a:pt x="4505" y="18557"/>
                  </a:lnTo>
                  <a:lnTo>
                    <a:pt x="4372" y="18253"/>
                  </a:lnTo>
                  <a:lnTo>
                    <a:pt x="4107" y="17949"/>
                  </a:lnTo>
                  <a:lnTo>
                    <a:pt x="3975" y="17644"/>
                  </a:lnTo>
                  <a:lnTo>
                    <a:pt x="3975" y="17442"/>
                  </a:lnTo>
                  <a:lnTo>
                    <a:pt x="3842" y="17036"/>
                  </a:lnTo>
                  <a:lnTo>
                    <a:pt x="3710" y="16833"/>
                  </a:lnTo>
                  <a:lnTo>
                    <a:pt x="3445" y="16428"/>
                  </a:lnTo>
                  <a:lnTo>
                    <a:pt x="3312" y="16022"/>
                  </a:lnTo>
                  <a:lnTo>
                    <a:pt x="3312" y="15718"/>
                  </a:lnTo>
                  <a:lnTo>
                    <a:pt x="3047" y="15515"/>
                  </a:lnTo>
                  <a:lnTo>
                    <a:pt x="3047" y="15109"/>
                  </a:lnTo>
                  <a:lnTo>
                    <a:pt x="2915" y="14703"/>
                  </a:lnTo>
                  <a:lnTo>
                    <a:pt x="2782" y="14399"/>
                  </a:lnTo>
                  <a:lnTo>
                    <a:pt x="2782" y="14095"/>
                  </a:lnTo>
                  <a:lnTo>
                    <a:pt x="2915" y="13791"/>
                  </a:lnTo>
                  <a:lnTo>
                    <a:pt x="2782" y="13487"/>
                  </a:lnTo>
                  <a:lnTo>
                    <a:pt x="2782" y="13182"/>
                  </a:lnTo>
                  <a:lnTo>
                    <a:pt x="2782" y="12878"/>
                  </a:lnTo>
                  <a:lnTo>
                    <a:pt x="2782" y="12270"/>
                  </a:lnTo>
                  <a:lnTo>
                    <a:pt x="2650" y="11966"/>
                  </a:lnTo>
                  <a:lnTo>
                    <a:pt x="2650" y="11560"/>
                  </a:lnTo>
                  <a:lnTo>
                    <a:pt x="2782" y="11053"/>
                  </a:lnTo>
                  <a:lnTo>
                    <a:pt x="2782" y="10647"/>
                  </a:lnTo>
                  <a:lnTo>
                    <a:pt x="2782" y="10242"/>
                  </a:lnTo>
                  <a:lnTo>
                    <a:pt x="2915" y="9937"/>
                  </a:lnTo>
                  <a:lnTo>
                    <a:pt x="3047" y="9532"/>
                  </a:lnTo>
                  <a:lnTo>
                    <a:pt x="3047" y="9126"/>
                  </a:lnTo>
                  <a:lnTo>
                    <a:pt x="3047" y="8720"/>
                  </a:lnTo>
                  <a:lnTo>
                    <a:pt x="3180" y="8416"/>
                  </a:lnTo>
                  <a:lnTo>
                    <a:pt x="3312" y="7909"/>
                  </a:lnTo>
                  <a:lnTo>
                    <a:pt x="3445" y="7706"/>
                  </a:lnTo>
                  <a:lnTo>
                    <a:pt x="3577" y="7301"/>
                  </a:lnTo>
                  <a:lnTo>
                    <a:pt x="3710" y="6996"/>
                  </a:lnTo>
                  <a:lnTo>
                    <a:pt x="3975" y="6591"/>
                  </a:lnTo>
                  <a:lnTo>
                    <a:pt x="4107" y="6185"/>
                  </a:lnTo>
                  <a:lnTo>
                    <a:pt x="4240" y="5881"/>
                  </a:lnTo>
                  <a:lnTo>
                    <a:pt x="4372" y="5577"/>
                  </a:lnTo>
                  <a:lnTo>
                    <a:pt x="4505" y="5374"/>
                  </a:lnTo>
                  <a:lnTo>
                    <a:pt x="4770" y="5070"/>
                  </a:lnTo>
                  <a:lnTo>
                    <a:pt x="5035" y="4765"/>
                  </a:lnTo>
                  <a:lnTo>
                    <a:pt x="5167" y="4563"/>
                  </a:lnTo>
                  <a:lnTo>
                    <a:pt x="5432" y="4258"/>
                  </a:lnTo>
                  <a:lnTo>
                    <a:pt x="5565" y="3954"/>
                  </a:lnTo>
                  <a:lnTo>
                    <a:pt x="5830" y="3752"/>
                  </a:lnTo>
                  <a:lnTo>
                    <a:pt x="5962" y="3650"/>
                  </a:lnTo>
                  <a:lnTo>
                    <a:pt x="6360" y="3447"/>
                  </a:lnTo>
                  <a:lnTo>
                    <a:pt x="6493" y="3244"/>
                  </a:lnTo>
                  <a:lnTo>
                    <a:pt x="6758" y="3143"/>
                  </a:lnTo>
                  <a:lnTo>
                    <a:pt x="7155" y="2940"/>
                  </a:lnTo>
                  <a:lnTo>
                    <a:pt x="7420" y="2839"/>
                  </a:lnTo>
                  <a:lnTo>
                    <a:pt x="7420" y="2839"/>
                  </a:lnTo>
                  <a:lnTo>
                    <a:pt x="7420" y="2839"/>
                  </a:lnTo>
                  <a:lnTo>
                    <a:pt x="7420" y="2839"/>
                  </a:lnTo>
                  <a:lnTo>
                    <a:pt x="7288" y="2839"/>
                  </a:lnTo>
                  <a:lnTo>
                    <a:pt x="7023" y="2839"/>
                  </a:lnTo>
                  <a:lnTo>
                    <a:pt x="6758" y="2940"/>
                  </a:lnTo>
                  <a:lnTo>
                    <a:pt x="6493" y="2940"/>
                  </a:lnTo>
                  <a:lnTo>
                    <a:pt x="6095" y="3042"/>
                  </a:lnTo>
                  <a:lnTo>
                    <a:pt x="5830" y="3042"/>
                  </a:lnTo>
                  <a:lnTo>
                    <a:pt x="5565" y="3244"/>
                  </a:lnTo>
                  <a:lnTo>
                    <a:pt x="5167" y="3244"/>
                  </a:lnTo>
                  <a:lnTo>
                    <a:pt x="4902" y="3346"/>
                  </a:lnTo>
                  <a:lnTo>
                    <a:pt x="4505" y="3346"/>
                  </a:lnTo>
                  <a:lnTo>
                    <a:pt x="4240" y="3549"/>
                  </a:lnTo>
                  <a:lnTo>
                    <a:pt x="3975" y="3447"/>
                  </a:lnTo>
                  <a:lnTo>
                    <a:pt x="3842" y="3549"/>
                  </a:lnTo>
                  <a:lnTo>
                    <a:pt x="3577" y="3650"/>
                  </a:lnTo>
                  <a:lnTo>
                    <a:pt x="3312" y="3853"/>
                  </a:lnTo>
                  <a:lnTo>
                    <a:pt x="3180" y="3954"/>
                  </a:lnTo>
                  <a:lnTo>
                    <a:pt x="3047" y="4157"/>
                  </a:lnTo>
                  <a:lnTo>
                    <a:pt x="2650" y="4461"/>
                  </a:lnTo>
                  <a:lnTo>
                    <a:pt x="2385" y="4664"/>
                  </a:lnTo>
                  <a:lnTo>
                    <a:pt x="2252" y="4968"/>
                  </a:lnTo>
                  <a:lnTo>
                    <a:pt x="1987" y="5171"/>
                  </a:lnTo>
                  <a:lnTo>
                    <a:pt x="1854" y="5475"/>
                  </a:lnTo>
                  <a:lnTo>
                    <a:pt x="1589" y="5780"/>
                  </a:lnTo>
                  <a:lnTo>
                    <a:pt x="1324" y="6185"/>
                  </a:lnTo>
                  <a:lnTo>
                    <a:pt x="1192" y="6591"/>
                  </a:lnTo>
                  <a:lnTo>
                    <a:pt x="1059" y="6996"/>
                  </a:lnTo>
                  <a:lnTo>
                    <a:pt x="927" y="7301"/>
                  </a:lnTo>
                  <a:lnTo>
                    <a:pt x="794" y="7808"/>
                  </a:lnTo>
                  <a:lnTo>
                    <a:pt x="662" y="8214"/>
                  </a:lnTo>
                  <a:lnTo>
                    <a:pt x="529" y="8619"/>
                  </a:lnTo>
                  <a:lnTo>
                    <a:pt x="397" y="9025"/>
                  </a:lnTo>
                  <a:lnTo>
                    <a:pt x="264" y="9532"/>
                  </a:lnTo>
                  <a:lnTo>
                    <a:pt x="132" y="10039"/>
                  </a:lnTo>
                  <a:lnTo>
                    <a:pt x="132" y="10343"/>
                  </a:lnTo>
                  <a:lnTo>
                    <a:pt x="0" y="10850"/>
                  </a:lnTo>
                  <a:lnTo>
                    <a:pt x="0" y="11256"/>
                  </a:lnTo>
                  <a:lnTo>
                    <a:pt x="0" y="11661"/>
                  </a:lnTo>
                  <a:lnTo>
                    <a:pt x="0" y="12168"/>
                  </a:lnTo>
                  <a:lnTo>
                    <a:pt x="0" y="12676"/>
                  </a:lnTo>
                  <a:lnTo>
                    <a:pt x="0" y="13182"/>
                  </a:lnTo>
                  <a:lnTo>
                    <a:pt x="264" y="13588"/>
                  </a:lnTo>
                  <a:lnTo>
                    <a:pt x="264" y="14095"/>
                  </a:lnTo>
                  <a:lnTo>
                    <a:pt x="397" y="14501"/>
                  </a:lnTo>
                  <a:lnTo>
                    <a:pt x="397" y="15008"/>
                  </a:lnTo>
                  <a:lnTo>
                    <a:pt x="529" y="15413"/>
                  </a:lnTo>
                  <a:lnTo>
                    <a:pt x="927" y="16326"/>
                  </a:lnTo>
                  <a:lnTo>
                    <a:pt x="1192" y="17138"/>
                  </a:lnTo>
                  <a:lnTo>
                    <a:pt x="1722" y="17949"/>
                  </a:lnTo>
                  <a:lnTo>
                    <a:pt x="2119" y="18659"/>
                  </a:lnTo>
                  <a:lnTo>
                    <a:pt x="2385" y="19165"/>
                  </a:lnTo>
                  <a:lnTo>
                    <a:pt x="2915" y="19673"/>
                  </a:lnTo>
                  <a:lnTo>
                    <a:pt x="3312" y="20180"/>
                  </a:lnTo>
                  <a:lnTo>
                    <a:pt x="3842" y="20585"/>
                  </a:lnTo>
                  <a:lnTo>
                    <a:pt x="4240" y="20890"/>
                  </a:lnTo>
                  <a:lnTo>
                    <a:pt x="4902" y="21194"/>
                  </a:lnTo>
                  <a:lnTo>
                    <a:pt x="5300" y="21295"/>
                  </a:lnTo>
                  <a:lnTo>
                    <a:pt x="5697" y="21498"/>
                  </a:lnTo>
                  <a:lnTo>
                    <a:pt x="6227" y="21498"/>
                  </a:lnTo>
                  <a:lnTo>
                    <a:pt x="6758" y="21600"/>
                  </a:lnTo>
                  <a:lnTo>
                    <a:pt x="7288" y="21600"/>
                  </a:lnTo>
                  <a:lnTo>
                    <a:pt x="7685" y="21396"/>
                  </a:lnTo>
                  <a:lnTo>
                    <a:pt x="8215" y="21295"/>
                  </a:lnTo>
                  <a:lnTo>
                    <a:pt x="8745" y="21092"/>
                  </a:lnTo>
                  <a:lnTo>
                    <a:pt x="9275" y="20991"/>
                  </a:lnTo>
                  <a:lnTo>
                    <a:pt x="9673" y="20585"/>
                  </a:lnTo>
                  <a:lnTo>
                    <a:pt x="9805" y="20484"/>
                  </a:lnTo>
                  <a:lnTo>
                    <a:pt x="10335" y="20078"/>
                  </a:lnTo>
                  <a:lnTo>
                    <a:pt x="10733" y="19673"/>
                  </a:lnTo>
                  <a:lnTo>
                    <a:pt x="11263" y="19267"/>
                  </a:lnTo>
                  <a:lnTo>
                    <a:pt x="11528" y="18963"/>
                  </a:lnTo>
                  <a:lnTo>
                    <a:pt x="11793" y="18456"/>
                  </a:lnTo>
                  <a:lnTo>
                    <a:pt x="12191" y="18050"/>
                  </a:lnTo>
                  <a:lnTo>
                    <a:pt x="12588" y="17543"/>
                  </a:lnTo>
                  <a:lnTo>
                    <a:pt x="12721" y="17138"/>
                  </a:lnTo>
                  <a:lnTo>
                    <a:pt x="12986" y="16630"/>
                  </a:lnTo>
                  <a:lnTo>
                    <a:pt x="13118" y="16123"/>
                  </a:lnTo>
                  <a:lnTo>
                    <a:pt x="13251" y="15616"/>
                  </a:lnTo>
                  <a:lnTo>
                    <a:pt x="13251" y="15413"/>
                  </a:lnTo>
                  <a:lnTo>
                    <a:pt x="13251" y="15211"/>
                  </a:lnTo>
                  <a:lnTo>
                    <a:pt x="13383" y="15008"/>
                  </a:lnTo>
                  <a:lnTo>
                    <a:pt x="13383" y="14805"/>
                  </a:lnTo>
                  <a:lnTo>
                    <a:pt x="13516" y="14602"/>
                  </a:lnTo>
                  <a:lnTo>
                    <a:pt x="13516" y="14298"/>
                  </a:lnTo>
                  <a:lnTo>
                    <a:pt x="13648" y="14095"/>
                  </a:lnTo>
                  <a:lnTo>
                    <a:pt x="13648" y="13892"/>
                  </a:lnTo>
                  <a:lnTo>
                    <a:pt x="13781" y="13689"/>
                  </a:lnTo>
                  <a:lnTo>
                    <a:pt x="13781" y="13487"/>
                  </a:lnTo>
                  <a:lnTo>
                    <a:pt x="13648" y="13284"/>
                  </a:lnTo>
                  <a:lnTo>
                    <a:pt x="13781" y="12980"/>
                  </a:lnTo>
                  <a:lnTo>
                    <a:pt x="13781" y="12777"/>
                  </a:lnTo>
                  <a:lnTo>
                    <a:pt x="13781" y="12472"/>
                  </a:lnTo>
                  <a:lnTo>
                    <a:pt x="13913" y="12270"/>
                  </a:lnTo>
                  <a:lnTo>
                    <a:pt x="13781" y="12168"/>
                  </a:lnTo>
                  <a:lnTo>
                    <a:pt x="13781" y="11864"/>
                  </a:lnTo>
                  <a:lnTo>
                    <a:pt x="13781" y="11661"/>
                  </a:lnTo>
                  <a:lnTo>
                    <a:pt x="13781" y="11357"/>
                  </a:lnTo>
                  <a:lnTo>
                    <a:pt x="13781" y="11154"/>
                  </a:lnTo>
                  <a:lnTo>
                    <a:pt x="13781" y="10850"/>
                  </a:lnTo>
                  <a:lnTo>
                    <a:pt x="13648" y="10546"/>
                  </a:lnTo>
                  <a:lnTo>
                    <a:pt x="13781" y="10242"/>
                  </a:lnTo>
                  <a:lnTo>
                    <a:pt x="13648" y="10140"/>
                  </a:lnTo>
                  <a:lnTo>
                    <a:pt x="13516" y="9937"/>
                  </a:lnTo>
                  <a:lnTo>
                    <a:pt x="13516" y="9735"/>
                  </a:lnTo>
                  <a:lnTo>
                    <a:pt x="13516" y="9430"/>
                  </a:lnTo>
                  <a:lnTo>
                    <a:pt x="13383" y="9126"/>
                  </a:lnTo>
                  <a:lnTo>
                    <a:pt x="13383" y="8923"/>
                  </a:lnTo>
                  <a:lnTo>
                    <a:pt x="13251" y="8518"/>
                  </a:lnTo>
                  <a:lnTo>
                    <a:pt x="13251" y="8416"/>
                  </a:lnTo>
                  <a:lnTo>
                    <a:pt x="13118" y="8112"/>
                  </a:lnTo>
                  <a:lnTo>
                    <a:pt x="13118" y="8011"/>
                  </a:lnTo>
                  <a:lnTo>
                    <a:pt x="13251" y="7808"/>
                  </a:lnTo>
                  <a:lnTo>
                    <a:pt x="13251" y="7605"/>
                  </a:lnTo>
                  <a:lnTo>
                    <a:pt x="13251" y="7301"/>
                  </a:lnTo>
                  <a:lnTo>
                    <a:pt x="13251" y="7098"/>
                  </a:lnTo>
                  <a:lnTo>
                    <a:pt x="13383" y="6794"/>
                  </a:lnTo>
                  <a:lnTo>
                    <a:pt x="13383" y="6692"/>
                  </a:lnTo>
                  <a:lnTo>
                    <a:pt x="13648" y="6388"/>
                  </a:lnTo>
                  <a:lnTo>
                    <a:pt x="13648" y="6084"/>
                  </a:lnTo>
                  <a:lnTo>
                    <a:pt x="13781" y="5881"/>
                  </a:lnTo>
                  <a:lnTo>
                    <a:pt x="13781" y="5678"/>
                  </a:lnTo>
                  <a:lnTo>
                    <a:pt x="13913" y="5475"/>
                  </a:lnTo>
                  <a:lnTo>
                    <a:pt x="14046" y="5171"/>
                  </a:lnTo>
                  <a:lnTo>
                    <a:pt x="14178" y="5070"/>
                  </a:lnTo>
                  <a:lnTo>
                    <a:pt x="14311" y="4968"/>
                  </a:lnTo>
                  <a:lnTo>
                    <a:pt x="14443" y="4765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" name="未知"/>
          <p:cNvSpPr/>
          <p:nvPr/>
        </p:nvSpPr>
        <p:spPr>
          <a:xfrm>
            <a:off x="2130480" y="4749840"/>
            <a:ext cx="7013520" cy="2135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403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403"/>
                </a:lnTo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2F95-86F2-4AF4-A295-E63A6C0DB70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9E8F-4465-4616-BEE8-9FB6BC3A36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77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1692360" y="4411800"/>
            <a:ext cx="1866600" cy="2329920"/>
            <a:chOff x="1692360" y="4411800"/>
            <a:chExt cx="1866600" cy="2329920"/>
          </a:xfrm>
        </p:grpSpPr>
        <p:sp>
          <p:nvSpPr>
            <p:cNvPr id="157" name="未知"/>
            <p:cNvSpPr/>
            <p:nvPr/>
          </p:nvSpPr>
          <p:spPr>
            <a:xfrm>
              <a:off x="2787840" y="4997160"/>
              <a:ext cx="771120" cy="905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799" y="6830"/>
                  </a:moveTo>
                  <a:lnTo>
                    <a:pt x="7499" y="6645"/>
                  </a:lnTo>
                  <a:lnTo>
                    <a:pt x="7399" y="6276"/>
                  </a:lnTo>
                  <a:lnTo>
                    <a:pt x="7299" y="5999"/>
                  </a:lnTo>
                  <a:lnTo>
                    <a:pt x="7299" y="5630"/>
                  </a:lnTo>
                  <a:lnTo>
                    <a:pt x="7199" y="5168"/>
                  </a:lnTo>
                  <a:lnTo>
                    <a:pt x="7199" y="4799"/>
                  </a:lnTo>
                  <a:lnTo>
                    <a:pt x="7199" y="4430"/>
                  </a:lnTo>
                  <a:lnTo>
                    <a:pt x="7299" y="4061"/>
                  </a:lnTo>
                  <a:lnTo>
                    <a:pt x="7399" y="3599"/>
                  </a:lnTo>
                  <a:lnTo>
                    <a:pt x="7399" y="3230"/>
                  </a:lnTo>
                  <a:lnTo>
                    <a:pt x="7399" y="2861"/>
                  </a:lnTo>
                  <a:lnTo>
                    <a:pt x="7499" y="2584"/>
                  </a:lnTo>
                  <a:lnTo>
                    <a:pt x="7599" y="2215"/>
                  </a:lnTo>
                  <a:lnTo>
                    <a:pt x="7699" y="2030"/>
                  </a:lnTo>
                  <a:lnTo>
                    <a:pt x="7799" y="1846"/>
                  </a:lnTo>
                  <a:lnTo>
                    <a:pt x="7799" y="1661"/>
                  </a:lnTo>
                  <a:lnTo>
                    <a:pt x="7899" y="1569"/>
                  </a:lnTo>
                  <a:lnTo>
                    <a:pt x="7999" y="1476"/>
                  </a:lnTo>
                  <a:lnTo>
                    <a:pt x="7999" y="1199"/>
                  </a:lnTo>
                  <a:lnTo>
                    <a:pt x="8199" y="1107"/>
                  </a:lnTo>
                  <a:lnTo>
                    <a:pt x="8299" y="1015"/>
                  </a:lnTo>
                  <a:lnTo>
                    <a:pt x="8499" y="830"/>
                  </a:lnTo>
                  <a:lnTo>
                    <a:pt x="8399" y="738"/>
                  </a:lnTo>
                  <a:lnTo>
                    <a:pt x="8599" y="553"/>
                  </a:lnTo>
                  <a:lnTo>
                    <a:pt x="8599" y="369"/>
                  </a:lnTo>
                  <a:lnTo>
                    <a:pt x="8799" y="276"/>
                  </a:lnTo>
                  <a:lnTo>
                    <a:pt x="8899" y="92"/>
                  </a:lnTo>
                  <a:lnTo>
                    <a:pt x="8999" y="0"/>
                  </a:lnTo>
                  <a:lnTo>
                    <a:pt x="8999" y="0"/>
                  </a:lnTo>
                  <a:lnTo>
                    <a:pt x="8999" y="0"/>
                  </a:lnTo>
                  <a:lnTo>
                    <a:pt x="8999" y="0"/>
                  </a:lnTo>
                  <a:lnTo>
                    <a:pt x="8899" y="0"/>
                  </a:lnTo>
                  <a:lnTo>
                    <a:pt x="8599" y="276"/>
                  </a:lnTo>
                  <a:lnTo>
                    <a:pt x="8399" y="553"/>
                  </a:lnTo>
                  <a:lnTo>
                    <a:pt x="8100" y="738"/>
                  </a:lnTo>
                  <a:lnTo>
                    <a:pt x="7899" y="1015"/>
                  </a:lnTo>
                  <a:lnTo>
                    <a:pt x="7699" y="1107"/>
                  </a:lnTo>
                  <a:lnTo>
                    <a:pt x="7399" y="1384"/>
                  </a:lnTo>
                  <a:lnTo>
                    <a:pt x="7199" y="1661"/>
                  </a:lnTo>
                  <a:lnTo>
                    <a:pt x="7099" y="1938"/>
                  </a:lnTo>
                  <a:lnTo>
                    <a:pt x="6899" y="2215"/>
                  </a:lnTo>
                  <a:lnTo>
                    <a:pt x="6699" y="2492"/>
                  </a:lnTo>
                  <a:lnTo>
                    <a:pt x="6499" y="2769"/>
                  </a:lnTo>
                  <a:lnTo>
                    <a:pt x="6299" y="3046"/>
                  </a:lnTo>
                  <a:lnTo>
                    <a:pt x="6099" y="3322"/>
                  </a:lnTo>
                  <a:lnTo>
                    <a:pt x="5699" y="3784"/>
                  </a:lnTo>
                  <a:lnTo>
                    <a:pt x="5599" y="4061"/>
                  </a:lnTo>
                  <a:lnTo>
                    <a:pt x="5299" y="4430"/>
                  </a:lnTo>
                  <a:lnTo>
                    <a:pt x="5099" y="4522"/>
                  </a:lnTo>
                  <a:lnTo>
                    <a:pt x="4999" y="4615"/>
                  </a:lnTo>
                  <a:lnTo>
                    <a:pt x="4799" y="4615"/>
                  </a:lnTo>
                  <a:lnTo>
                    <a:pt x="4699" y="4522"/>
                  </a:lnTo>
                  <a:lnTo>
                    <a:pt x="4399" y="4522"/>
                  </a:lnTo>
                  <a:lnTo>
                    <a:pt x="4099" y="4338"/>
                  </a:lnTo>
                  <a:lnTo>
                    <a:pt x="3999" y="4338"/>
                  </a:lnTo>
                  <a:lnTo>
                    <a:pt x="3699" y="4061"/>
                  </a:lnTo>
                  <a:lnTo>
                    <a:pt x="3399" y="3968"/>
                  </a:lnTo>
                  <a:lnTo>
                    <a:pt x="3099" y="3784"/>
                  </a:lnTo>
                  <a:lnTo>
                    <a:pt x="2799" y="3692"/>
                  </a:lnTo>
                  <a:lnTo>
                    <a:pt x="2399" y="3599"/>
                  </a:lnTo>
                  <a:lnTo>
                    <a:pt x="2299" y="3322"/>
                  </a:lnTo>
                  <a:lnTo>
                    <a:pt x="1899" y="3230"/>
                  </a:lnTo>
                  <a:lnTo>
                    <a:pt x="1699" y="2953"/>
                  </a:lnTo>
                  <a:lnTo>
                    <a:pt x="1299" y="2861"/>
                  </a:lnTo>
                  <a:lnTo>
                    <a:pt x="1099" y="2584"/>
                  </a:lnTo>
                  <a:lnTo>
                    <a:pt x="799" y="2492"/>
                  </a:lnTo>
                  <a:lnTo>
                    <a:pt x="499" y="2399"/>
                  </a:lnTo>
                  <a:lnTo>
                    <a:pt x="399" y="2399"/>
                  </a:lnTo>
                  <a:lnTo>
                    <a:pt x="299" y="2215"/>
                  </a:lnTo>
                  <a:lnTo>
                    <a:pt x="199" y="2122"/>
                  </a:lnTo>
                  <a:lnTo>
                    <a:pt x="99" y="2122"/>
                  </a:lnTo>
                  <a:lnTo>
                    <a:pt x="0" y="2122"/>
                  </a:lnTo>
                  <a:lnTo>
                    <a:pt x="0" y="2122"/>
                  </a:lnTo>
                  <a:lnTo>
                    <a:pt x="0" y="2215"/>
                  </a:lnTo>
                  <a:lnTo>
                    <a:pt x="0" y="2399"/>
                  </a:lnTo>
                  <a:lnTo>
                    <a:pt x="199" y="2584"/>
                  </a:lnTo>
                  <a:lnTo>
                    <a:pt x="299" y="2676"/>
                  </a:lnTo>
                  <a:lnTo>
                    <a:pt x="499" y="3046"/>
                  </a:lnTo>
                  <a:lnTo>
                    <a:pt x="699" y="3322"/>
                  </a:lnTo>
                  <a:lnTo>
                    <a:pt x="1099" y="3692"/>
                  </a:lnTo>
                  <a:lnTo>
                    <a:pt x="1299" y="3876"/>
                  </a:lnTo>
                  <a:lnTo>
                    <a:pt x="1499" y="4061"/>
                  </a:lnTo>
                  <a:lnTo>
                    <a:pt x="1799" y="4153"/>
                  </a:lnTo>
                  <a:lnTo>
                    <a:pt x="2099" y="4430"/>
                  </a:lnTo>
                  <a:lnTo>
                    <a:pt x="2299" y="4522"/>
                  </a:lnTo>
                  <a:lnTo>
                    <a:pt x="2599" y="4799"/>
                  </a:lnTo>
                  <a:lnTo>
                    <a:pt x="2899" y="4892"/>
                  </a:lnTo>
                  <a:lnTo>
                    <a:pt x="3299" y="5076"/>
                  </a:lnTo>
                  <a:lnTo>
                    <a:pt x="3499" y="5261"/>
                  </a:lnTo>
                  <a:lnTo>
                    <a:pt x="3899" y="5353"/>
                  </a:lnTo>
                  <a:lnTo>
                    <a:pt x="4099" y="5630"/>
                  </a:lnTo>
                  <a:lnTo>
                    <a:pt x="4499" y="5722"/>
                  </a:lnTo>
                  <a:lnTo>
                    <a:pt x="4599" y="5999"/>
                  </a:lnTo>
                  <a:lnTo>
                    <a:pt x="4799" y="6092"/>
                  </a:lnTo>
                  <a:lnTo>
                    <a:pt x="4899" y="6276"/>
                  </a:lnTo>
                  <a:lnTo>
                    <a:pt x="4999" y="6461"/>
                  </a:lnTo>
                  <a:lnTo>
                    <a:pt x="5199" y="6830"/>
                  </a:lnTo>
                  <a:lnTo>
                    <a:pt x="5299" y="7292"/>
                  </a:lnTo>
                  <a:lnTo>
                    <a:pt x="5499" y="7661"/>
                  </a:lnTo>
                  <a:lnTo>
                    <a:pt x="5599" y="8123"/>
                  </a:lnTo>
                  <a:lnTo>
                    <a:pt x="5799" y="8584"/>
                  </a:lnTo>
                  <a:lnTo>
                    <a:pt x="5999" y="9138"/>
                  </a:lnTo>
                  <a:lnTo>
                    <a:pt x="6199" y="9507"/>
                  </a:lnTo>
                  <a:lnTo>
                    <a:pt x="6299" y="10061"/>
                  </a:lnTo>
                  <a:lnTo>
                    <a:pt x="6499" y="10615"/>
                  </a:lnTo>
                  <a:lnTo>
                    <a:pt x="6599" y="11076"/>
                  </a:lnTo>
                  <a:lnTo>
                    <a:pt x="6699" y="11538"/>
                  </a:lnTo>
                  <a:lnTo>
                    <a:pt x="6999" y="12091"/>
                  </a:lnTo>
                  <a:lnTo>
                    <a:pt x="7199" y="12553"/>
                  </a:lnTo>
                  <a:lnTo>
                    <a:pt x="7399" y="13107"/>
                  </a:lnTo>
                  <a:lnTo>
                    <a:pt x="7599" y="13661"/>
                  </a:lnTo>
                  <a:lnTo>
                    <a:pt x="7799" y="14122"/>
                  </a:lnTo>
                  <a:lnTo>
                    <a:pt x="8100" y="14676"/>
                  </a:lnTo>
                  <a:lnTo>
                    <a:pt x="8299" y="15138"/>
                  </a:lnTo>
                  <a:lnTo>
                    <a:pt x="8499" y="15692"/>
                  </a:lnTo>
                  <a:lnTo>
                    <a:pt x="8699" y="16246"/>
                  </a:lnTo>
                  <a:lnTo>
                    <a:pt x="8999" y="16615"/>
                  </a:lnTo>
                  <a:lnTo>
                    <a:pt x="9399" y="17168"/>
                  </a:lnTo>
                  <a:lnTo>
                    <a:pt x="9799" y="17630"/>
                  </a:lnTo>
                  <a:lnTo>
                    <a:pt x="10199" y="17999"/>
                  </a:lnTo>
                  <a:lnTo>
                    <a:pt x="10599" y="18461"/>
                  </a:lnTo>
                  <a:lnTo>
                    <a:pt x="10999" y="18923"/>
                  </a:lnTo>
                  <a:lnTo>
                    <a:pt x="11299" y="19292"/>
                  </a:lnTo>
                  <a:lnTo>
                    <a:pt x="11699" y="19661"/>
                  </a:lnTo>
                  <a:lnTo>
                    <a:pt x="12199" y="20030"/>
                  </a:lnTo>
                  <a:lnTo>
                    <a:pt x="12799" y="20399"/>
                  </a:lnTo>
                  <a:lnTo>
                    <a:pt x="13199" y="20584"/>
                  </a:lnTo>
                  <a:lnTo>
                    <a:pt x="13799" y="20953"/>
                  </a:lnTo>
                  <a:lnTo>
                    <a:pt x="14499" y="21138"/>
                  </a:lnTo>
                  <a:lnTo>
                    <a:pt x="14899" y="21322"/>
                  </a:lnTo>
                  <a:lnTo>
                    <a:pt x="15499" y="21507"/>
                  </a:lnTo>
                  <a:lnTo>
                    <a:pt x="15999" y="21600"/>
                  </a:lnTo>
                  <a:lnTo>
                    <a:pt x="16499" y="21507"/>
                  </a:lnTo>
                  <a:lnTo>
                    <a:pt x="16799" y="21600"/>
                  </a:lnTo>
                  <a:lnTo>
                    <a:pt x="17299" y="21600"/>
                  </a:lnTo>
                  <a:lnTo>
                    <a:pt x="17699" y="21507"/>
                  </a:lnTo>
                  <a:lnTo>
                    <a:pt x="18199" y="21322"/>
                  </a:lnTo>
                  <a:lnTo>
                    <a:pt x="18499" y="21230"/>
                  </a:lnTo>
                  <a:lnTo>
                    <a:pt x="18900" y="21045"/>
                  </a:lnTo>
                  <a:lnTo>
                    <a:pt x="19199" y="20953"/>
                  </a:lnTo>
                  <a:lnTo>
                    <a:pt x="19599" y="20769"/>
                  </a:lnTo>
                  <a:lnTo>
                    <a:pt x="19699" y="20399"/>
                  </a:lnTo>
                  <a:lnTo>
                    <a:pt x="20099" y="20215"/>
                  </a:lnTo>
                  <a:lnTo>
                    <a:pt x="20299" y="19845"/>
                  </a:lnTo>
                  <a:lnTo>
                    <a:pt x="20499" y="19569"/>
                  </a:lnTo>
                  <a:lnTo>
                    <a:pt x="20799" y="19199"/>
                  </a:lnTo>
                  <a:lnTo>
                    <a:pt x="20999" y="18830"/>
                  </a:lnTo>
                  <a:lnTo>
                    <a:pt x="20999" y="18461"/>
                  </a:lnTo>
                  <a:lnTo>
                    <a:pt x="21199" y="18092"/>
                  </a:lnTo>
                  <a:lnTo>
                    <a:pt x="21299" y="17630"/>
                  </a:lnTo>
                  <a:lnTo>
                    <a:pt x="21499" y="17261"/>
                  </a:lnTo>
                  <a:lnTo>
                    <a:pt x="21499" y="16799"/>
                  </a:lnTo>
                  <a:lnTo>
                    <a:pt x="21499" y="16338"/>
                  </a:lnTo>
                  <a:lnTo>
                    <a:pt x="21600" y="15784"/>
                  </a:lnTo>
                  <a:lnTo>
                    <a:pt x="21600" y="15322"/>
                  </a:lnTo>
                  <a:lnTo>
                    <a:pt x="21600" y="14861"/>
                  </a:lnTo>
                  <a:lnTo>
                    <a:pt x="21600" y="14307"/>
                  </a:lnTo>
                  <a:lnTo>
                    <a:pt x="21499" y="13846"/>
                  </a:lnTo>
                  <a:lnTo>
                    <a:pt x="21399" y="13292"/>
                  </a:lnTo>
                  <a:lnTo>
                    <a:pt x="21299" y="12738"/>
                  </a:lnTo>
                  <a:lnTo>
                    <a:pt x="21299" y="12553"/>
                  </a:lnTo>
                  <a:lnTo>
                    <a:pt x="21099" y="12369"/>
                  </a:lnTo>
                  <a:lnTo>
                    <a:pt x="21099" y="12091"/>
                  </a:lnTo>
                  <a:lnTo>
                    <a:pt x="20999" y="11815"/>
                  </a:lnTo>
                  <a:lnTo>
                    <a:pt x="20899" y="11538"/>
                  </a:lnTo>
                  <a:lnTo>
                    <a:pt x="20899" y="11169"/>
                  </a:lnTo>
                  <a:lnTo>
                    <a:pt x="20799" y="11076"/>
                  </a:lnTo>
                  <a:lnTo>
                    <a:pt x="20699" y="10800"/>
                  </a:lnTo>
                  <a:lnTo>
                    <a:pt x="20599" y="10430"/>
                  </a:lnTo>
                  <a:lnTo>
                    <a:pt x="20499" y="10153"/>
                  </a:lnTo>
                  <a:lnTo>
                    <a:pt x="20399" y="9969"/>
                  </a:lnTo>
                  <a:lnTo>
                    <a:pt x="20299" y="9692"/>
                  </a:lnTo>
                  <a:lnTo>
                    <a:pt x="20099" y="9322"/>
                  </a:lnTo>
                  <a:lnTo>
                    <a:pt x="20099" y="9045"/>
                  </a:lnTo>
                  <a:lnTo>
                    <a:pt x="19899" y="8676"/>
                  </a:lnTo>
                  <a:lnTo>
                    <a:pt x="19699" y="8492"/>
                  </a:lnTo>
                  <a:lnTo>
                    <a:pt x="19599" y="8215"/>
                  </a:lnTo>
                  <a:lnTo>
                    <a:pt x="19499" y="7938"/>
                  </a:lnTo>
                  <a:lnTo>
                    <a:pt x="19299" y="7569"/>
                  </a:lnTo>
                  <a:lnTo>
                    <a:pt x="19099" y="7384"/>
                  </a:lnTo>
                  <a:lnTo>
                    <a:pt x="18999" y="7015"/>
                  </a:lnTo>
                  <a:lnTo>
                    <a:pt x="18799" y="6738"/>
                  </a:lnTo>
                  <a:lnTo>
                    <a:pt x="18599" y="6461"/>
                  </a:lnTo>
                  <a:lnTo>
                    <a:pt x="18499" y="6184"/>
                  </a:lnTo>
                  <a:lnTo>
                    <a:pt x="18299" y="5815"/>
                  </a:lnTo>
                  <a:lnTo>
                    <a:pt x="17999" y="5538"/>
                  </a:lnTo>
                  <a:lnTo>
                    <a:pt x="17899" y="5353"/>
                  </a:lnTo>
                  <a:lnTo>
                    <a:pt x="17699" y="4984"/>
                  </a:lnTo>
                  <a:lnTo>
                    <a:pt x="17499" y="4707"/>
                  </a:lnTo>
                  <a:lnTo>
                    <a:pt x="17199" y="4430"/>
                  </a:lnTo>
                  <a:lnTo>
                    <a:pt x="17099" y="4153"/>
                  </a:lnTo>
                  <a:lnTo>
                    <a:pt x="16799" y="3968"/>
                  </a:lnTo>
                  <a:lnTo>
                    <a:pt x="16699" y="3876"/>
                  </a:lnTo>
                  <a:lnTo>
                    <a:pt x="16699" y="3876"/>
                  </a:lnTo>
                  <a:lnTo>
                    <a:pt x="16699" y="3968"/>
                  </a:lnTo>
                  <a:lnTo>
                    <a:pt x="16899" y="4153"/>
                  </a:lnTo>
                  <a:lnTo>
                    <a:pt x="16999" y="4153"/>
                  </a:lnTo>
                  <a:lnTo>
                    <a:pt x="17099" y="4430"/>
                  </a:lnTo>
                  <a:lnTo>
                    <a:pt x="17299" y="4707"/>
                  </a:lnTo>
                  <a:lnTo>
                    <a:pt x="17499" y="4984"/>
                  </a:lnTo>
                  <a:lnTo>
                    <a:pt x="17599" y="5261"/>
                  </a:lnTo>
                  <a:lnTo>
                    <a:pt x="17799" y="5538"/>
                  </a:lnTo>
                  <a:lnTo>
                    <a:pt x="17999" y="5907"/>
                  </a:lnTo>
                  <a:lnTo>
                    <a:pt x="18199" y="6184"/>
                  </a:lnTo>
                  <a:lnTo>
                    <a:pt x="18399" y="6553"/>
                  </a:lnTo>
                  <a:lnTo>
                    <a:pt x="18599" y="6830"/>
                  </a:lnTo>
                  <a:lnTo>
                    <a:pt x="18699" y="7015"/>
                  </a:lnTo>
                  <a:lnTo>
                    <a:pt x="18799" y="7199"/>
                  </a:lnTo>
                  <a:lnTo>
                    <a:pt x="19099" y="7753"/>
                  </a:lnTo>
                  <a:lnTo>
                    <a:pt x="19399" y="8307"/>
                  </a:lnTo>
                  <a:lnTo>
                    <a:pt x="19699" y="8953"/>
                  </a:lnTo>
                  <a:lnTo>
                    <a:pt x="19999" y="9599"/>
                  </a:lnTo>
                  <a:lnTo>
                    <a:pt x="20099" y="10153"/>
                  </a:lnTo>
                  <a:lnTo>
                    <a:pt x="20299" y="10892"/>
                  </a:lnTo>
                  <a:lnTo>
                    <a:pt x="20399" y="11445"/>
                  </a:lnTo>
                  <a:lnTo>
                    <a:pt x="20599" y="12091"/>
                  </a:lnTo>
                  <a:lnTo>
                    <a:pt x="20599" y="12738"/>
                  </a:lnTo>
                  <a:lnTo>
                    <a:pt x="20699" y="13384"/>
                  </a:lnTo>
                  <a:lnTo>
                    <a:pt x="20699" y="14122"/>
                  </a:lnTo>
                  <a:lnTo>
                    <a:pt x="20599" y="14584"/>
                  </a:lnTo>
                  <a:lnTo>
                    <a:pt x="20599" y="15230"/>
                  </a:lnTo>
                  <a:lnTo>
                    <a:pt x="20499" y="15876"/>
                  </a:lnTo>
                  <a:lnTo>
                    <a:pt x="20399" y="16430"/>
                  </a:lnTo>
                  <a:lnTo>
                    <a:pt x="20399" y="16984"/>
                  </a:lnTo>
                  <a:lnTo>
                    <a:pt x="20199" y="17538"/>
                  </a:lnTo>
                  <a:lnTo>
                    <a:pt x="19999" y="17907"/>
                  </a:lnTo>
                  <a:lnTo>
                    <a:pt x="19799" y="18369"/>
                  </a:lnTo>
                  <a:lnTo>
                    <a:pt x="19499" y="18830"/>
                  </a:lnTo>
                  <a:lnTo>
                    <a:pt x="19199" y="19107"/>
                  </a:lnTo>
                  <a:lnTo>
                    <a:pt x="18900" y="19384"/>
                  </a:lnTo>
                  <a:lnTo>
                    <a:pt x="18499" y="19569"/>
                  </a:lnTo>
                  <a:lnTo>
                    <a:pt x="17999" y="19753"/>
                  </a:lnTo>
                  <a:lnTo>
                    <a:pt x="17699" y="19753"/>
                  </a:lnTo>
                  <a:lnTo>
                    <a:pt x="17199" y="19845"/>
                  </a:lnTo>
                  <a:lnTo>
                    <a:pt x="16699" y="19845"/>
                  </a:lnTo>
                  <a:lnTo>
                    <a:pt x="16200" y="19845"/>
                  </a:lnTo>
                  <a:lnTo>
                    <a:pt x="15599" y="19569"/>
                  </a:lnTo>
                  <a:lnTo>
                    <a:pt x="14999" y="19292"/>
                  </a:lnTo>
                  <a:lnTo>
                    <a:pt x="14299" y="18830"/>
                  </a:lnTo>
                  <a:lnTo>
                    <a:pt x="13699" y="18553"/>
                  </a:lnTo>
                  <a:lnTo>
                    <a:pt x="13500" y="18369"/>
                  </a:lnTo>
                  <a:lnTo>
                    <a:pt x="13299" y="18184"/>
                  </a:lnTo>
                  <a:lnTo>
                    <a:pt x="13099" y="18092"/>
                  </a:lnTo>
                  <a:lnTo>
                    <a:pt x="12899" y="17815"/>
                  </a:lnTo>
                  <a:lnTo>
                    <a:pt x="12799" y="17630"/>
                  </a:lnTo>
                  <a:lnTo>
                    <a:pt x="12499" y="17538"/>
                  </a:lnTo>
                  <a:lnTo>
                    <a:pt x="12399" y="17353"/>
                  </a:lnTo>
                  <a:lnTo>
                    <a:pt x="12199" y="17076"/>
                  </a:lnTo>
                  <a:lnTo>
                    <a:pt x="12099" y="16984"/>
                  </a:lnTo>
                  <a:lnTo>
                    <a:pt x="11899" y="16707"/>
                  </a:lnTo>
                  <a:lnTo>
                    <a:pt x="11699" y="16430"/>
                  </a:lnTo>
                  <a:lnTo>
                    <a:pt x="11499" y="16246"/>
                  </a:lnTo>
                  <a:lnTo>
                    <a:pt x="11499" y="16061"/>
                  </a:lnTo>
                  <a:lnTo>
                    <a:pt x="11299" y="15784"/>
                  </a:lnTo>
                  <a:lnTo>
                    <a:pt x="11099" y="15507"/>
                  </a:lnTo>
                  <a:lnTo>
                    <a:pt x="10999" y="15322"/>
                  </a:lnTo>
                  <a:lnTo>
                    <a:pt x="10699" y="15046"/>
                  </a:lnTo>
                  <a:lnTo>
                    <a:pt x="10599" y="14768"/>
                  </a:lnTo>
                  <a:lnTo>
                    <a:pt x="10399" y="14676"/>
                  </a:lnTo>
                  <a:lnTo>
                    <a:pt x="10299" y="14399"/>
                  </a:lnTo>
                  <a:lnTo>
                    <a:pt x="10199" y="14122"/>
                  </a:lnTo>
                  <a:lnTo>
                    <a:pt x="10099" y="13938"/>
                  </a:lnTo>
                  <a:lnTo>
                    <a:pt x="9899" y="13753"/>
                  </a:lnTo>
                  <a:lnTo>
                    <a:pt x="9699" y="13476"/>
                  </a:lnTo>
                  <a:lnTo>
                    <a:pt x="9699" y="13292"/>
                  </a:lnTo>
                  <a:lnTo>
                    <a:pt x="9699" y="13107"/>
                  </a:lnTo>
                  <a:lnTo>
                    <a:pt x="9499" y="12830"/>
                  </a:lnTo>
                  <a:lnTo>
                    <a:pt x="9499" y="12646"/>
                  </a:lnTo>
                  <a:lnTo>
                    <a:pt x="9299" y="12461"/>
                  </a:lnTo>
                  <a:lnTo>
                    <a:pt x="9299" y="12276"/>
                  </a:lnTo>
                  <a:lnTo>
                    <a:pt x="9199" y="12091"/>
                  </a:lnTo>
                  <a:lnTo>
                    <a:pt x="9099" y="11907"/>
                  </a:lnTo>
                  <a:lnTo>
                    <a:pt x="8999" y="11815"/>
                  </a:lnTo>
                  <a:lnTo>
                    <a:pt x="8999" y="11630"/>
                  </a:lnTo>
                  <a:lnTo>
                    <a:pt x="8999" y="11445"/>
                  </a:lnTo>
                  <a:lnTo>
                    <a:pt x="8799" y="11169"/>
                  </a:lnTo>
                  <a:lnTo>
                    <a:pt x="8599" y="10984"/>
                  </a:lnTo>
                  <a:lnTo>
                    <a:pt x="8499" y="10615"/>
                  </a:lnTo>
                  <a:lnTo>
                    <a:pt x="8399" y="10430"/>
                  </a:lnTo>
                  <a:lnTo>
                    <a:pt x="8299" y="10061"/>
                  </a:lnTo>
                  <a:lnTo>
                    <a:pt x="8199" y="9784"/>
                  </a:lnTo>
                  <a:lnTo>
                    <a:pt x="8100" y="9415"/>
                  </a:lnTo>
                  <a:lnTo>
                    <a:pt x="7999" y="9138"/>
                  </a:lnTo>
                  <a:lnTo>
                    <a:pt x="7999" y="8953"/>
                  </a:lnTo>
                  <a:lnTo>
                    <a:pt x="7899" y="8676"/>
                  </a:lnTo>
                  <a:lnTo>
                    <a:pt x="7899" y="8584"/>
                  </a:lnTo>
                  <a:lnTo>
                    <a:pt x="7799" y="8492"/>
                  </a:lnTo>
                  <a:lnTo>
                    <a:pt x="7899" y="8307"/>
                  </a:lnTo>
                  <a:lnTo>
                    <a:pt x="7899" y="8215"/>
                  </a:lnTo>
                  <a:lnTo>
                    <a:pt x="7899" y="8215"/>
                  </a:lnTo>
                  <a:lnTo>
                    <a:pt x="7899" y="8123"/>
                  </a:lnTo>
                  <a:lnTo>
                    <a:pt x="7899" y="8123"/>
                  </a:lnTo>
                  <a:lnTo>
                    <a:pt x="7799" y="8123"/>
                  </a:lnTo>
                  <a:lnTo>
                    <a:pt x="7799" y="8123"/>
                  </a:lnTo>
                  <a:lnTo>
                    <a:pt x="7799" y="8123"/>
                  </a:lnTo>
                  <a:lnTo>
                    <a:pt x="7799" y="8123"/>
                  </a:lnTo>
                  <a:lnTo>
                    <a:pt x="7999" y="8123"/>
                  </a:lnTo>
                  <a:lnTo>
                    <a:pt x="8199" y="8307"/>
                  </a:lnTo>
                  <a:lnTo>
                    <a:pt x="8499" y="8492"/>
                  </a:lnTo>
                  <a:lnTo>
                    <a:pt x="8599" y="8769"/>
                  </a:lnTo>
                  <a:lnTo>
                    <a:pt x="8999" y="8861"/>
                  </a:lnTo>
                  <a:lnTo>
                    <a:pt x="9199" y="9138"/>
                  </a:lnTo>
                  <a:lnTo>
                    <a:pt x="9499" y="9322"/>
                  </a:lnTo>
                  <a:lnTo>
                    <a:pt x="9699" y="9599"/>
                  </a:lnTo>
                  <a:lnTo>
                    <a:pt x="9999" y="9784"/>
                  </a:lnTo>
                  <a:lnTo>
                    <a:pt x="10199" y="9969"/>
                  </a:lnTo>
                  <a:lnTo>
                    <a:pt x="10499" y="10061"/>
                  </a:lnTo>
                  <a:lnTo>
                    <a:pt x="10599" y="10153"/>
                  </a:lnTo>
                  <a:lnTo>
                    <a:pt x="10699" y="10153"/>
                  </a:lnTo>
                  <a:lnTo>
                    <a:pt x="10800" y="10245"/>
                  </a:lnTo>
                  <a:lnTo>
                    <a:pt x="10899" y="10153"/>
                  </a:lnTo>
                  <a:lnTo>
                    <a:pt x="10999" y="9969"/>
                  </a:lnTo>
                  <a:lnTo>
                    <a:pt x="10999" y="9692"/>
                  </a:lnTo>
                  <a:lnTo>
                    <a:pt x="10999" y="9507"/>
                  </a:lnTo>
                  <a:lnTo>
                    <a:pt x="10800" y="9322"/>
                  </a:lnTo>
                  <a:lnTo>
                    <a:pt x="10599" y="9045"/>
                  </a:lnTo>
                  <a:lnTo>
                    <a:pt x="10499" y="8861"/>
                  </a:lnTo>
                  <a:lnTo>
                    <a:pt x="10199" y="8676"/>
                  </a:lnTo>
                  <a:lnTo>
                    <a:pt x="10099" y="8492"/>
                  </a:lnTo>
                  <a:lnTo>
                    <a:pt x="9799" y="8399"/>
                  </a:lnTo>
                  <a:lnTo>
                    <a:pt x="9499" y="8123"/>
                  </a:lnTo>
                  <a:lnTo>
                    <a:pt x="9299" y="7938"/>
                  </a:lnTo>
                  <a:lnTo>
                    <a:pt x="8899" y="7753"/>
                  </a:lnTo>
                  <a:lnTo>
                    <a:pt x="8699" y="7569"/>
                  </a:lnTo>
                  <a:lnTo>
                    <a:pt x="8299" y="7384"/>
                  </a:lnTo>
                  <a:lnTo>
                    <a:pt x="8199" y="7384"/>
                  </a:lnTo>
                  <a:lnTo>
                    <a:pt x="7899" y="7107"/>
                  </a:lnTo>
                  <a:lnTo>
                    <a:pt x="7799" y="6830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2621160" y="5283720"/>
              <a:ext cx="255960" cy="90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99" y="7845"/>
                  </a:moveTo>
                  <a:lnTo>
                    <a:pt x="20399" y="7661"/>
                  </a:lnTo>
                  <a:lnTo>
                    <a:pt x="20699" y="7384"/>
                  </a:lnTo>
                  <a:lnTo>
                    <a:pt x="20399" y="7199"/>
                  </a:lnTo>
                  <a:lnTo>
                    <a:pt x="20699" y="6923"/>
                  </a:lnTo>
                  <a:lnTo>
                    <a:pt x="20699" y="6645"/>
                  </a:lnTo>
                  <a:lnTo>
                    <a:pt x="20699" y="6461"/>
                  </a:lnTo>
                  <a:lnTo>
                    <a:pt x="20699" y="6092"/>
                  </a:lnTo>
                  <a:lnTo>
                    <a:pt x="20699" y="5815"/>
                  </a:lnTo>
                  <a:lnTo>
                    <a:pt x="20999" y="5538"/>
                  </a:lnTo>
                  <a:lnTo>
                    <a:pt x="20999" y="5261"/>
                  </a:lnTo>
                  <a:lnTo>
                    <a:pt x="20699" y="4984"/>
                  </a:lnTo>
                  <a:lnTo>
                    <a:pt x="20999" y="4707"/>
                  </a:lnTo>
                  <a:lnTo>
                    <a:pt x="20999" y="4338"/>
                  </a:lnTo>
                  <a:lnTo>
                    <a:pt x="20699" y="4061"/>
                  </a:lnTo>
                  <a:lnTo>
                    <a:pt x="20999" y="3784"/>
                  </a:lnTo>
                  <a:lnTo>
                    <a:pt x="20999" y="3507"/>
                  </a:lnTo>
                  <a:lnTo>
                    <a:pt x="20699" y="3230"/>
                  </a:lnTo>
                  <a:lnTo>
                    <a:pt x="20399" y="2861"/>
                  </a:lnTo>
                  <a:lnTo>
                    <a:pt x="20399" y="2584"/>
                  </a:lnTo>
                  <a:lnTo>
                    <a:pt x="20399" y="2307"/>
                  </a:lnTo>
                  <a:lnTo>
                    <a:pt x="20099" y="2122"/>
                  </a:lnTo>
                  <a:lnTo>
                    <a:pt x="19799" y="1846"/>
                  </a:lnTo>
                  <a:lnTo>
                    <a:pt x="19799" y="1569"/>
                  </a:lnTo>
                  <a:lnTo>
                    <a:pt x="19199" y="1291"/>
                  </a:lnTo>
                  <a:lnTo>
                    <a:pt x="18599" y="1107"/>
                  </a:lnTo>
                  <a:lnTo>
                    <a:pt x="18299" y="830"/>
                  </a:lnTo>
                  <a:lnTo>
                    <a:pt x="17999" y="738"/>
                  </a:lnTo>
                  <a:lnTo>
                    <a:pt x="17099" y="645"/>
                  </a:lnTo>
                  <a:lnTo>
                    <a:pt x="16799" y="461"/>
                  </a:lnTo>
                  <a:lnTo>
                    <a:pt x="15899" y="276"/>
                  </a:lnTo>
                  <a:lnTo>
                    <a:pt x="15299" y="184"/>
                  </a:lnTo>
                  <a:lnTo>
                    <a:pt x="14399" y="0"/>
                  </a:lnTo>
                  <a:lnTo>
                    <a:pt x="14099" y="92"/>
                  </a:lnTo>
                  <a:lnTo>
                    <a:pt x="13799" y="92"/>
                  </a:lnTo>
                  <a:lnTo>
                    <a:pt x="13199" y="92"/>
                  </a:lnTo>
                  <a:lnTo>
                    <a:pt x="12899" y="184"/>
                  </a:lnTo>
                  <a:lnTo>
                    <a:pt x="12599" y="461"/>
                  </a:lnTo>
                  <a:lnTo>
                    <a:pt x="12299" y="645"/>
                  </a:lnTo>
                  <a:lnTo>
                    <a:pt x="11999" y="830"/>
                  </a:lnTo>
                  <a:lnTo>
                    <a:pt x="11699" y="1107"/>
                  </a:lnTo>
                  <a:lnTo>
                    <a:pt x="11399" y="1384"/>
                  </a:lnTo>
                  <a:lnTo>
                    <a:pt x="11399" y="1753"/>
                  </a:lnTo>
                  <a:lnTo>
                    <a:pt x="11399" y="2122"/>
                  </a:lnTo>
                  <a:lnTo>
                    <a:pt x="11699" y="2492"/>
                  </a:lnTo>
                  <a:lnTo>
                    <a:pt x="11699" y="2861"/>
                  </a:lnTo>
                  <a:lnTo>
                    <a:pt x="11699" y="3230"/>
                  </a:lnTo>
                  <a:lnTo>
                    <a:pt x="11999" y="3784"/>
                  </a:lnTo>
                  <a:lnTo>
                    <a:pt x="11999" y="4246"/>
                  </a:lnTo>
                  <a:lnTo>
                    <a:pt x="12299" y="4615"/>
                  </a:lnTo>
                  <a:lnTo>
                    <a:pt x="12599" y="5076"/>
                  </a:lnTo>
                  <a:lnTo>
                    <a:pt x="12899" y="5630"/>
                  </a:lnTo>
                  <a:lnTo>
                    <a:pt x="12899" y="5999"/>
                  </a:lnTo>
                  <a:lnTo>
                    <a:pt x="13199" y="6461"/>
                  </a:lnTo>
                  <a:lnTo>
                    <a:pt x="13199" y="7015"/>
                  </a:lnTo>
                  <a:lnTo>
                    <a:pt x="13500" y="7384"/>
                  </a:lnTo>
                  <a:lnTo>
                    <a:pt x="13799" y="7845"/>
                  </a:lnTo>
                  <a:lnTo>
                    <a:pt x="14099" y="8215"/>
                  </a:lnTo>
                  <a:lnTo>
                    <a:pt x="14399" y="8861"/>
                  </a:lnTo>
                  <a:lnTo>
                    <a:pt x="14399" y="9045"/>
                  </a:lnTo>
                  <a:lnTo>
                    <a:pt x="14699" y="9507"/>
                  </a:lnTo>
                  <a:lnTo>
                    <a:pt x="14999" y="9876"/>
                  </a:lnTo>
                  <a:lnTo>
                    <a:pt x="15299" y="10245"/>
                  </a:lnTo>
                  <a:lnTo>
                    <a:pt x="14999" y="10522"/>
                  </a:lnTo>
                  <a:lnTo>
                    <a:pt x="15299" y="10707"/>
                  </a:lnTo>
                  <a:lnTo>
                    <a:pt x="15599" y="11261"/>
                  </a:lnTo>
                  <a:lnTo>
                    <a:pt x="15599" y="11722"/>
                  </a:lnTo>
                  <a:lnTo>
                    <a:pt x="15899" y="12091"/>
                  </a:lnTo>
                  <a:lnTo>
                    <a:pt x="16200" y="12553"/>
                  </a:lnTo>
                  <a:lnTo>
                    <a:pt x="16200" y="12922"/>
                  </a:lnTo>
                  <a:lnTo>
                    <a:pt x="16200" y="13384"/>
                  </a:lnTo>
                  <a:lnTo>
                    <a:pt x="16499" y="13661"/>
                  </a:lnTo>
                  <a:lnTo>
                    <a:pt x="16499" y="14030"/>
                  </a:lnTo>
                  <a:lnTo>
                    <a:pt x="16499" y="14399"/>
                  </a:lnTo>
                  <a:lnTo>
                    <a:pt x="16200" y="14768"/>
                  </a:lnTo>
                  <a:lnTo>
                    <a:pt x="16200" y="15046"/>
                  </a:lnTo>
                  <a:lnTo>
                    <a:pt x="15899" y="15322"/>
                  </a:lnTo>
                  <a:lnTo>
                    <a:pt x="15599" y="15599"/>
                  </a:lnTo>
                  <a:lnTo>
                    <a:pt x="15599" y="15876"/>
                  </a:lnTo>
                  <a:lnTo>
                    <a:pt x="15299" y="16153"/>
                  </a:lnTo>
                  <a:lnTo>
                    <a:pt x="15299" y="16522"/>
                  </a:lnTo>
                  <a:lnTo>
                    <a:pt x="14699" y="16615"/>
                  </a:lnTo>
                  <a:lnTo>
                    <a:pt x="14399" y="16892"/>
                  </a:lnTo>
                  <a:lnTo>
                    <a:pt x="14099" y="17168"/>
                  </a:lnTo>
                  <a:lnTo>
                    <a:pt x="13799" y="17445"/>
                  </a:lnTo>
                  <a:lnTo>
                    <a:pt x="13500" y="17630"/>
                  </a:lnTo>
                  <a:lnTo>
                    <a:pt x="12899" y="17907"/>
                  </a:lnTo>
                  <a:lnTo>
                    <a:pt x="11999" y="18092"/>
                  </a:lnTo>
                  <a:lnTo>
                    <a:pt x="11699" y="18369"/>
                  </a:lnTo>
                  <a:lnTo>
                    <a:pt x="11399" y="18461"/>
                  </a:lnTo>
                  <a:lnTo>
                    <a:pt x="10800" y="18645"/>
                  </a:lnTo>
                  <a:lnTo>
                    <a:pt x="9899" y="18923"/>
                  </a:lnTo>
                  <a:lnTo>
                    <a:pt x="9299" y="19107"/>
                  </a:lnTo>
                  <a:lnTo>
                    <a:pt x="8699" y="19292"/>
                  </a:lnTo>
                  <a:lnTo>
                    <a:pt x="7799" y="19569"/>
                  </a:lnTo>
                  <a:lnTo>
                    <a:pt x="7499" y="19661"/>
                  </a:lnTo>
                  <a:lnTo>
                    <a:pt x="6599" y="19938"/>
                  </a:lnTo>
                  <a:lnTo>
                    <a:pt x="5999" y="20030"/>
                  </a:lnTo>
                  <a:lnTo>
                    <a:pt x="5699" y="20122"/>
                  </a:lnTo>
                  <a:lnTo>
                    <a:pt x="5099" y="20307"/>
                  </a:lnTo>
                  <a:lnTo>
                    <a:pt x="4199" y="20399"/>
                  </a:lnTo>
                  <a:lnTo>
                    <a:pt x="3599" y="20584"/>
                  </a:lnTo>
                  <a:lnTo>
                    <a:pt x="3299" y="20676"/>
                  </a:lnTo>
                  <a:lnTo>
                    <a:pt x="2700" y="20861"/>
                  </a:lnTo>
                  <a:lnTo>
                    <a:pt x="1799" y="21045"/>
                  </a:lnTo>
                  <a:lnTo>
                    <a:pt x="1499" y="21230"/>
                  </a:lnTo>
                  <a:lnTo>
                    <a:pt x="899" y="21322"/>
                  </a:lnTo>
                  <a:lnTo>
                    <a:pt x="599" y="21415"/>
                  </a:lnTo>
                  <a:lnTo>
                    <a:pt x="0" y="21507"/>
                  </a:lnTo>
                  <a:lnTo>
                    <a:pt x="0" y="21600"/>
                  </a:lnTo>
                  <a:lnTo>
                    <a:pt x="0" y="21600"/>
                  </a:lnTo>
                  <a:lnTo>
                    <a:pt x="0" y="21507"/>
                  </a:lnTo>
                  <a:lnTo>
                    <a:pt x="299" y="21415"/>
                  </a:lnTo>
                  <a:lnTo>
                    <a:pt x="1199" y="21230"/>
                  </a:lnTo>
                  <a:lnTo>
                    <a:pt x="1799" y="21045"/>
                  </a:lnTo>
                  <a:lnTo>
                    <a:pt x="2700" y="20861"/>
                  </a:lnTo>
                  <a:lnTo>
                    <a:pt x="3599" y="20676"/>
                  </a:lnTo>
                  <a:lnTo>
                    <a:pt x="4199" y="20492"/>
                  </a:lnTo>
                  <a:lnTo>
                    <a:pt x="5099" y="20492"/>
                  </a:lnTo>
                  <a:lnTo>
                    <a:pt x="5999" y="20307"/>
                  </a:lnTo>
                  <a:lnTo>
                    <a:pt x="6899" y="20215"/>
                  </a:lnTo>
                  <a:lnTo>
                    <a:pt x="7799" y="20030"/>
                  </a:lnTo>
                  <a:lnTo>
                    <a:pt x="8399" y="19845"/>
                  </a:lnTo>
                  <a:lnTo>
                    <a:pt x="9299" y="19753"/>
                  </a:lnTo>
                  <a:lnTo>
                    <a:pt x="9899" y="19569"/>
                  </a:lnTo>
                  <a:lnTo>
                    <a:pt x="10499" y="19476"/>
                  </a:lnTo>
                  <a:lnTo>
                    <a:pt x="11399" y="19199"/>
                  </a:lnTo>
                  <a:lnTo>
                    <a:pt x="12299" y="19015"/>
                  </a:lnTo>
                  <a:lnTo>
                    <a:pt x="12599" y="18923"/>
                  </a:lnTo>
                  <a:lnTo>
                    <a:pt x="13799" y="18738"/>
                  </a:lnTo>
                  <a:lnTo>
                    <a:pt x="14699" y="18553"/>
                  </a:lnTo>
                  <a:lnTo>
                    <a:pt x="14999" y="18369"/>
                  </a:lnTo>
                  <a:lnTo>
                    <a:pt x="15899" y="18184"/>
                  </a:lnTo>
                  <a:lnTo>
                    <a:pt x="16799" y="17999"/>
                  </a:lnTo>
                  <a:lnTo>
                    <a:pt x="16799" y="17907"/>
                  </a:lnTo>
                  <a:lnTo>
                    <a:pt x="17699" y="17630"/>
                  </a:lnTo>
                  <a:lnTo>
                    <a:pt x="17999" y="17353"/>
                  </a:lnTo>
                  <a:lnTo>
                    <a:pt x="18900" y="17076"/>
                  </a:lnTo>
                  <a:lnTo>
                    <a:pt x="19199" y="16892"/>
                  </a:lnTo>
                  <a:lnTo>
                    <a:pt x="19799" y="16615"/>
                  </a:lnTo>
                  <a:lnTo>
                    <a:pt x="20099" y="16246"/>
                  </a:lnTo>
                  <a:lnTo>
                    <a:pt x="20099" y="16061"/>
                  </a:lnTo>
                  <a:lnTo>
                    <a:pt x="20699" y="15784"/>
                  </a:lnTo>
                  <a:lnTo>
                    <a:pt x="20699" y="15415"/>
                  </a:lnTo>
                  <a:lnTo>
                    <a:pt x="20999" y="14953"/>
                  </a:lnTo>
                  <a:lnTo>
                    <a:pt x="20999" y="14768"/>
                  </a:lnTo>
                  <a:lnTo>
                    <a:pt x="20999" y="14676"/>
                  </a:lnTo>
                  <a:lnTo>
                    <a:pt x="20999" y="14492"/>
                  </a:lnTo>
                  <a:lnTo>
                    <a:pt x="20999" y="14215"/>
                  </a:lnTo>
                  <a:lnTo>
                    <a:pt x="21299" y="14030"/>
                  </a:lnTo>
                  <a:lnTo>
                    <a:pt x="21299" y="13753"/>
                  </a:lnTo>
                  <a:lnTo>
                    <a:pt x="21299" y="13569"/>
                  </a:lnTo>
                  <a:lnTo>
                    <a:pt x="21299" y="13292"/>
                  </a:lnTo>
                  <a:lnTo>
                    <a:pt x="21299" y="13107"/>
                  </a:lnTo>
                  <a:lnTo>
                    <a:pt x="21299" y="12922"/>
                  </a:lnTo>
                  <a:lnTo>
                    <a:pt x="21600" y="12553"/>
                  </a:lnTo>
                  <a:lnTo>
                    <a:pt x="21299" y="12369"/>
                  </a:lnTo>
                  <a:lnTo>
                    <a:pt x="21600" y="12091"/>
                  </a:lnTo>
                  <a:lnTo>
                    <a:pt x="21299" y="11815"/>
                  </a:lnTo>
                  <a:lnTo>
                    <a:pt x="20999" y="11538"/>
                  </a:lnTo>
                  <a:lnTo>
                    <a:pt x="21299" y="11445"/>
                  </a:lnTo>
                  <a:lnTo>
                    <a:pt x="21299" y="11169"/>
                  </a:lnTo>
                  <a:lnTo>
                    <a:pt x="21299" y="10892"/>
                  </a:lnTo>
                  <a:lnTo>
                    <a:pt x="20999" y="10707"/>
                  </a:lnTo>
                  <a:lnTo>
                    <a:pt x="21299" y="10522"/>
                  </a:lnTo>
                  <a:lnTo>
                    <a:pt x="20999" y="10245"/>
                  </a:lnTo>
                  <a:lnTo>
                    <a:pt x="21299" y="9969"/>
                  </a:lnTo>
                  <a:lnTo>
                    <a:pt x="20999" y="9876"/>
                  </a:lnTo>
                  <a:lnTo>
                    <a:pt x="20999" y="9599"/>
                  </a:lnTo>
                  <a:lnTo>
                    <a:pt x="20699" y="9322"/>
                  </a:lnTo>
                  <a:lnTo>
                    <a:pt x="20699" y="9138"/>
                  </a:lnTo>
                  <a:lnTo>
                    <a:pt x="20699" y="8861"/>
                  </a:lnTo>
                  <a:lnTo>
                    <a:pt x="20699" y="8676"/>
                  </a:lnTo>
                  <a:lnTo>
                    <a:pt x="20399" y="8492"/>
                  </a:lnTo>
                  <a:lnTo>
                    <a:pt x="20699" y="8307"/>
                  </a:lnTo>
                  <a:lnTo>
                    <a:pt x="20399" y="8030"/>
                  </a:lnTo>
                  <a:lnTo>
                    <a:pt x="20699" y="7845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2156760" y="5259960"/>
              <a:ext cx="553680" cy="696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845" y="1079"/>
                  </a:moveTo>
                  <a:lnTo>
                    <a:pt x="11705" y="1319"/>
                  </a:lnTo>
                  <a:lnTo>
                    <a:pt x="11287" y="1559"/>
                  </a:lnTo>
                  <a:lnTo>
                    <a:pt x="11008" y="1799"/>
                  </a:lnTo>
                  <a:lnTo>
                    <a:pt x="10590" y="1919"/>
                  </a:lnTo>
                  <a:lnTo>
                    <a:pt x="10172" y="2159"/>
                  </a:lnTo>
                  <a:lnTo>
                    <a:pt x="9754" y="2399"/>
                  </a:lnTo>
                  <a:lnTo>
                    <a:pt x="9615" y="2519"/>
                  </a:lnTo>
                  <a:lnTo>
                    <a:pt x="9197" y="2759"/>
                  </a:lnTo>
                  <a:lnTo>
                    <a:pt x="8779" y="2879"/>
                  </a:lnTo>
                  <a:lnTo>
                    <a:pt x="8361" y="3119"/>
                  </a:lnTo>
                  <a:lnTo>
                    <a:pt x="8082" y="3239"/>
                  </a:lnTo>
                  <a:lnTo>
                    <a:pt x="7524" y="3359"/>
                  </a:lnTo>
                  <a:lnTo>
                    <a:pt x="7246" y="3599"/>
                  </a:lnTo>
                  <a:lnTo>
                    <a:pt x="6828" y="3719"/>
                  </a:lnTo>
                  <a:lnTo>
                    <a:pt x="6410" y="3959"/>
                  </a:lnTo>
                  <a:lnTo>
                    <a:pt x="5991" y="4199"/>
                  </a:lnTo>
                  <a:lnTo>
                    <a:pt x="5574" y="4319"/>
                  </a:lnTo>
                  <a:lnTo>
                    <a:pt x="5295" y="4559"/>
                  </a:lnTo>
                  <a:lnTo>
                    <a:pt x="4877" y="4799"/>
                  </a:lnTo>
                  <a:lnTo>
                    <a:pt x="4459" y="4919"/>
                  </a:lnTo>
                  <a:lnTo>
                    <a:pt x="4041" y="5159"/>
                  </a:lnTo>
                  <a:lnTo>
                    <a:pt x="3762" y="5279"/>
                  </a:lnTo>
                  <a:lnTo>
                    <a:pt x="3344" y="5519"/>
                  </a:lnTo>
                  <a:lnTo>
                    <a:pt x="2926" y="5759"/>
                  </a:lnTo>
                  <a:lnTo>
                    <a:pt x="2508" y="5879"/>
                  </a:lnTo>
                  <a:lnTo>
                    <a:pt x="2229" y="6119"/>
                  </a:lnTo>
                  <a:lnTo>
                    <a:pt x="1811" y="6239"/>
                  </a:lnTo>
                  <a:lnTo>
                    <a:pt x="1393" y="6479"/>
                  </a:lnTo>
                  <a:lnTo>
                    <a:pt x="1114" y="6599"/>
                  </a:lnTo>
                  <a:lnTo>
                    <a:pt x="696" y="6839"/>
                  </a:lnTo>
                  <a:lnTo>
                    <a:pt x="417" y="7079"/>
                  </a:lnTo>
                  <a:lnTo>
                    <a:pt x="0" y="7319"/>
                  </a:lnTo>
                  <a:lnTo>
                    <a:pt x="0" y="7319"/>
                  </a:lnTo>
                  <a:lnTo>
                    <a:pt x="139" y="7319"/>
                  </a:lnTo>
                  <a:lnTo>
                    <a:pt x="417" y="7199"/>
                  </a:lnTo>
                  <a:lnTo>
                    <a:pt x="696" y="7199"/>
                  </a:lnTo>
                  <a:lnTo>
                    <a:pt x="1254" y="7079"/>
                  </a:lnTo>
                  <a:lnTo>
                    <a:pt x="1532" y="6959"/>
                  </a:lnTo>
                  <a:lnTo>
                    <a:pt x="2090" y="6839"/>
                  </a:lnTo>
                  <a:lnTo>
                    <a:pt x="2647" y="6719"/>
                  </a:lnTo>
                  <a:lnTo>
                    <a:pt x="3344" y="6479"/>
                  </a:lnTo>
                  <a:lnTo>
                    <a:pt x="3623" y="6479"/>
                  </a:lnTo>
                  <a:lnTo>
                    <a:pt x="4180" y="6239"/>
                  </a:lnTo>
                  <a:lnTo>
                    <a:pt x="4877" y="5999"/>
                  </a:lnTo>
                  <a:lnTo>
                    <a:pt x="5434" y="5879"/>
                  </a:lnTo>
                  <a:lnTo>
                    <a:pt x="5852" y="5759"/>
                  </a:lnTo>
                  <a:lnTo>
                    <a:pt x="5991" y="5639"/>
                  </a:lnTo>
                  <a:lnTo>
                    <a:pt x="6410" y="5279"/>
                  </a:lnTo>
                  <a:lnTo>
                    <a:pt x="6689" y="5279"/>
                  </a:lnTo>
                  <a:lnTo>
                    <a:pt x="6967" y="5039"/>
                  </a:lnTo>
                  <a:lnTo>
                    <a:pt x="7106" y="4919"/>
                  </a:lnTo>
                  <a:lnTo>
                    <a:pt x="7524" y="4559"/>
                  </a:lnTo>
                  <a:lnTo>
                    <a:pt x="7803" y="4559"/>
                  </a:lnTo>
                  <a:lnTo>
                    <a:pt x="7803" y="4319"/>
                  </a:lnTo>
                  <a:lnTo>
                    <a:pt x="8221" y="4079"/>
                  </a:lnTo>
                  <a:lnTo>
                    <a:pt x="8639" y="3959"/>
                  </a:lnTo>
                  <a:lnTo>
                    <a:pt x="9057" y="3719"/>
                  </a:lnTo>
                  <a:lnTo>
                    <a:pt x="9336" y="3599"/>
                  </a:lnTo>
                  <a:lnTo>
                    <a:pt x="9754" y="3359"/>
                  </a:lnTo>
                  <a:lnTo>
                    <a:pt x="10033" y="3239"/>
                  </a:lnTo>
                  <a:lnTo>
                    <a:pt x="10451" y="3119"/>
                  </a:lnTo>
                  <a:lnTo>
                    <a:pt x="10869" y="2879"/>
                  </a:lnTo>
                  <a:lnTo>
                    <a:pt x="11148" y="2759"/>
                  </a:lnTo>
                  <a:lnTo>
                    <a:pt x="11566" y="2639"/>
                  </a:lnTo>
                  <a:lnTo>
                    <a:pt x="11845" y="2519"/>
                  </a:lnTo>
                  <a:lnTo>
                    <a:pt x="12123" y="2399"/>
                  </a:lnTo>
                  <a:lnTo>
                    <a:pt x="12541" y="2279"/>
                  </a:lnTo>
                  <a:lnTo>
                    <a:pt x="12959" y="2279"/>
                  </a:lnTo>
                  <a:lnTo>
                    <a:pt x="13378" y="2159"/>
                  </a:lnTo>
                  <a:lnTo>
                    <a:pt x="13656" y="2159"/>
                  </a:lnTo>
                  <a:lnTo>
                    <a:pt x="14074" y="2039"/>
                  </a:lnTo>
                  <a:lnTo>
                    <a:pt x="14213" y="2039"/>
                  </a:lnTo>
                  <a:lnTo>
                    <a:pt x="14632" y="2039"/>
                  </a:lnTo>
                  <a:lnTo>
                    <a:pt x="14910" y="2039"/>
                  </a:lnTo>
                  <a:lnTo>
                    <a:pt x="15189" y="2039"/>
                  </a:lnTo>
                  <a:lnTo>
                    <a:pt x="15468" y="2159"/>
                  </a:lnTo>
                  <a:lnTo>
                    <a:pt x="15746" y="2279"/>
                  </a:lnTo>
                  <a:lnTo>
                    <a:pt x="16025" y="2399"/>
                  </a:lnTo>
                  <a:lnTo>
                    <a:pt x="16304" y="2519"/>
                  </a:lnTo>
                  <a:lnTo>
                    <a:pt x="16582" y="2639"/>
                  </a:lnTo>
                  <a:lnTo>
                    <a:pt x="16861" y="3119"/>
                  </a:lnTo>
                  <a:lnTo>
                    <a:pt x="17001" y="3479"/>
                  </a:lnTo>
                  <a:lnTo>
                    <a:pt x="17279" y="3839"/>
                  </a:lnTo>
                  <a:lnTo>
                    <a:pt x="17558" y="4079"/>
                  </a:lnTo>
                  <a:lnTo>
                    <a:pt x="17697" y="4559"/>
                  </a:lnTo>
                  <a:lnTo>
                    <a:pt x="17837" y="5039"/>
                  </a:lnTo>
                  <a:lnTo>
                    <a:pt x="18115" y="5400"/>
                  </a:lnTo>
                  <a:lnTo>
                    <a:pt x="18255" y="5759"/>
                  </a:lnTo>
                  <a:lnTo>
                    <a:pt x="18255" y="6119"/>
                  </a:lnTo>
                  <a:lnTo>
                    <a:pt x="18394" y="6599"/>
                  </a:lnTo>
                  <a:lnTo>
                    <a:pt x="18534" y="7079"/>
                  </a:lnTo>
                  <a:lnTo>
                    <a:pt x="18673" y="7439"/>
                  </a:lnTo>
                  <a:lnTo>
                    <a:pt x="18673" y="7919"/>
                  </a:lnTo>
                  <a:lnTo>
                    <a:pt x="18673" y="8399"/>
                  </a:lnTo>
                  <a:lnTo>
                    <a:pt x="18812" y="8879"/>
                  </a:lnTo>
                  <a:lnTo>
                    <a:pt x="18812" y="9359"/>
                  </a:lnTo>
                  <a:lnTo>
                    <a:pt x="18812" y="9719"/>
                  </a:lnTo>
                  <a:lnTo>
                    <a:pt x="18673" y="10199"/>
                  </a:lnTo>
                  <a:lnTo>
                    <a:pt x="18812" y="10679"/>
                  </a:lnTo>
                  <a:lnTo>
                    <a:pt x="18812" y="11159"/>
                  </a:lnTo>
                  <a:lnTo>
                    <a:pt x="18812" y="11639"/>
                  </a:lnTo>
                  <a:lnTo>
                    <a:pt x="18673" y="11999"/>
                  </a:lnTo>
                  <a:lnTo>
                    <a:pt x="18673" y="12239"/>
                  </a:lnTo>
                  <a:lnTo>
                    <a:pt x="18673" y="12719"/>
                  </a:lnTo>
                  <a:lnTo>
                    <a:pt x="18673" y="13079"/>
                  </a:lnTo>
                  <a:lnTo>
                    <a:pt x="18394" y="13559"/>
                  </a:lnTo>
                  <a:lnTo>
                    <a:pt x="18394" y="13919"/>
                  </a:lnTo>
                  <a:lnTo>
                    <a:pt x="18394" y="14279"/>
                  </a:lnTo>
                  <a:lnTo>
                    <a:pt x="18115" y="14639"/>
                  </a:lnTo>
                  <a:lnTo>
                    <a:pt x="18115" y="14999"/>
                  </a:lnTo>
                  <a:lnTo>
                    <a:pt x="18115" y="15479"/>
                  </a:lnTo>
                  <a:lnTo>
                    <a:pt x="17837" y="15719"/>
                  </a:lnTo>
                  <a:lnTo>
                    <a:pt x="17837" y="15719"/>
                  </a:lnTo>
                  <a:lnTo>
                    <a:pt x="17558" y="15599"/>
                  </a:lnTo>
                  <a:lnTo>
                    <a:pt x="17419" y="15359"/>
                  </a:lnTo>
                  <a:lnTo>
                    <a:pt x="17001" y="15119"/>
                  </a:lnTo>
                  <a:lnTo>
                    <a:pt x="16582" y="14759"/>
                  </a:lnTo>
                  <a:lnTo>
                    <a:pt x="16025" y="14279"/>
                  </a:lnTo>
                  <a:lnTo>
                    <a:pt x="15607" y="13919"/>
                  </a:lnTo>
                  <a:lnTo>
                    <a:pt x="15050" y="13559"/>
                  </a:lnTo>
                  <a:lnTo>
                    <a:pt x="14492" y="13079"/>
                  </a:lnTo>
                  <a:lnTo>
                    <a:pt x="14074" y="12839"/>
                  </a:lnTo>
                  <a:lnTo>
                    <a:pt x="13656" y="12599"/>
                  </a:lnTo>
                  <a:lnTo>
                    <a:pt x="13378" y="12479"/>
                  </a:lnTo>
                  <a:lnTo>
                    <a:pt x="13099" y="12359"/>
                  </a:lnTo>
                  <a:lnTo>
                    <a:pt x="12820" y="12599"/>
                  </a:lnTo>
                  <a:lnTo>
                    <a:pt x="12680" y="12719"/>
                  </a:lnTo>
                  <a:lnTo>
                    <a:pt x="12820" y="13199"/>
                  </a:lnTo>
                  <a:lnTo>
                    <a:pt x="12959" y="13919"/>
                  </a:lnTo>
                  <a:lnTo>
                    <a:pt x="13099" y="14519"/>
                  </a:lnTo>
                  <a:lnTo>
                    <a:pt x="13378" y="14879"/>
                  </a:lnTo>
                  <a:lnTo>
                    <a:pt x="13656" y="15359"/>
                  </a:lnTo>
                  <a:lnTo>
                    <a:pt x="14074" y="15839"/>
                  </a:lnTo>
                  <a:lnTo>
                    <a:pt x="14353" y="16200"/>
                  </a:lnTo>
                  <a:lnTo>
                    <a:pt x="14632" y="16439"/>
                  </a:lnTo>
                  <a:lnTo>
                    <a:pt x="15189" y="16799"/>
                  </a:lnTo>
                  <a:lnTo>
                    <a:pt x="15468" y="17279"/>
                  </a:lnTo>
                  <a:lnTo>
                    <a:pt x="15746" y="17519"/>
                  </a:lnTo>
                  <a:lnTo>
                    <a:pt x="16165" y="17999"/>
                  </a:lnTo>
                  <a:lnTo>
                    <a:pt x="16304" y="18239"/>
                  </a:lnTo>
                  <a:lnTo>
                    <a:pt x="16722" y="18599"/>
                  </a:lnTo>
                  <a:lnTo>
                    <a:pt x="17001" y="19079"/>
                  </a:lnTo>
                  <a:lnTo>
                    <a:pt x="17140" y="19559"/>
                  </a:lnTo>
                  <a:lnTo>
                    <a:pt x="17419" y="19919"/>
                  </a:lnTo>
                  <a:lnTo>
                    <a:pt x="17558" y="20279"/>
                  </a:lnTo>
                  <a:lnTo>
                    <a:pt x="17837" y="20639"/>
                  </a:lnTo>
                  <a:lnTo>
                    <a:pt x="18115" y="20879"/>
                  </a:lnTo>
                  <a:lnTo>
                    <a:pt x="18394" y="21119"/>
                  </a:lnTo>
                  <a:lnTo>
                    <a:pt x="18952" y="21239"/>
                  </a:lnTo>
                  <a:lnTo>
                    <a:pt x="19091" y="21479"/>
                  </a:lnTo>
                  <a:lnTo>
                    <a:pt x="19509" y="21479"/>
                  </a:lnTo>
                  <a:lnTo>
                    <a:pt x="19927" y="21479"/>
                  </a:lnTo>
                  <a:lnTo>
                    <a:pt x="20345" y="21479"/>
                  </a:lnTo>
                  <a:lnTo>
                    <a:pt x="20763" y="21600"/>
                  </a:lnTo>
                  <a:lnTo>
                    <a:pt x="21181" y="21479"/>
                  </a:lnTo>
                  <a:lnTo>
                    <a:pt x="21460" y="21600"/>
                  </a:lnTo>
                  <a:lnTo>
                    <a:pt x="21321" y="21479"/>
                  </a:lnTo>
                  <a:lnTo>
                    <a:pt x="21600" y="21359"/>
                  </a:lnTo>
                  <a:lnTo>
                    <a:pt x="21600" y="21359"/>
                  </a:lnTo>
                  <a:lnTo>
                    <a:pt x="21600" y="21239"/>
                  </a:lnTo>
                  <a:lnTo>
                    <a:pt x="21600" y="20879"/>
                  </a:lnTo>
                  <a:lnTo>
                    <a:pt x="21321" y="20639"/>
                  </a:lnTo>
                  <a:lnTo>
                    <a:pt x="21321" y="20159"/>
                  </a:lnTo>
                  <a:lnTo>
                    <a:pt x="21181" y="19679"/>
                  </a:lnTo>
                  <a:lnTo>
                    <a:pt x="21181" y="19079"/>
                  </a:lnTo>
                  <a:lnTo>
                    <a:pt x="21321" y="18599"/>
                  </a:lnTo>
                  <a:lnTo>
                    <a:pt x="21321" y="17999"/>
                  </a:lnTo>
                  <a:lnTo>
                    <a:pt x="21321" y="17519"/>
                  </a:lnTo>
                  <a:lnTo>
                    <a:pt x="21321" y="17039"/>
                  </a:lnTo>
                  <a:lnTo>
                    <a:pt x="21321" y="16439"/>
                  </a:lnTo>
                  <a:lnTo>
                    <a:pt x="21460" y="15959"/>
                  </a:lnTo>
                  <a:lnTo>
                    <a:pt x="21460" y="15359"/>
                  </a:lnTo>
                  <a:lnTo>
                    <a:pt x="21460" y="14999"/>
                  </a:lnTo>
                  <a:lnTo>
                    <a:pt x="21600" y="14519"/>
                  </a:lnTo>
                  <a:lnTo>
                    <a:pt x="21460" y="14159"/>
                  </a:lnTo>
                  <a:lnTo>
                    <a:pt x="21600" y="13919"/>
                  </a:lnTo>
                  <a:lnTo>
                    <a:pt x="21460" y="13559"/>
                  </a:lnTo>
                  <a:lnTo>
                    <a:pt x="21321" y="13319"/>
                  </a:lnTo>
                  <a:lnTo>
                    <a:pt x="21460" y="12959"/>
                  </a:lnTo>
                  <a:lnTo>
                    <a:pt x="21460" y="12839"/>
                  </a:lnTo>
                  <a:lnTo>
                    <a:pt x="21460" y="12479"/>
                  </a:lnTo>
                  <a:lnTo>
                    <a:pt x="21460" y="12239"/>
                  </a:lnTo>
                  <a:lnTo>
                    <a:pt x="21321" y="11999"/>
                  </a:lnTo>
                  <a:lnTo>
                    <a:pt x="21321" y="11759"/>
                  </a:lnTo>
                  <a:lnTo>
                    <a:pt x="21181" y="11399"/>
                  </a:lnTo>
                  <a:lnTo>
                    <a:pt x="21042" y="11159"/>
                  </a:lnTo>
                  <a:lnTo>
                    <a:pt x="21181" y="10919"/>
                  </a:lnTo>
                  <a:lnTo>
                    <a:pt x="21181" y="10679"/>
                  </a:lnTo>
                  <a:lnTo>
                    <a:pt x="21042" y="10319"/>
                  </a:lnTo>
                  <a:lnTo>
                    <a:pt x="21042" y="9959"/>
                  </a:lnTo>
                  <a:lnTo>
                    <a:pt x="21042" y="9719"/>
                  </a:lnTo>
                  <a:lnTo>
                    <a:pt x="20902" y="9359"/>
                  </a:lnTo>
                  <a:lnTo>
                    <a:pt x="21042" y="9119"/>
                  </a:lnTo>
                  <a:lnTo>
                    <a:pt x="20902" y="8879"/>
                  </a:lnTo>
                  <a:lnTo>
                    <a:pt x="20902" y="8519"/>
                  </a:lnTo>
                  <a:lnTo>
                    <a:pt x="20902" y="8279"/>
                  </a:lnTo>
                  <a:lnTo>
                    <a:pt x="20902" y="7919"/>
                  </a:lnTo>
                  <a:lnTo>
                    <a:pt x="20763" y="7559"/>
                  </a:lnTo>
                  <a:lnTo>
                    <a:pt x="20763" y="7319"/>
                  </a:lnTo>
                  <a:lnTo>
                    <a:pt x="20763" y="7079"/>
                  </a:lnTo>
                  <a:lnTo>
                    <a:pt x="20763" y="6719"/>
                  </a:lnTo>
                  <a:lnTo>
                    <a:pt x="20624" y="6359"/>
                  </a:lnTo>
                  <a:lnTo>
                    <a:pt x="20484" y="5999"/>
                  </a:lnTo>
                  <a:lnTo>
                    <a:pt x="20484" y="5759"/>
                  </a:lnTo>
                  <a:lnTo>
                    <a:pt x="20345" y="5400"/>
                  </a:lnTo>
                  <a:lnTo>
                    <a:pt x="20484" y="5159"/>
                  </a:lnTo>
                  <a:lnTo>
                    <a:pt x="20345" y="4799"/>
                  </a:lnTo>
                  <a:lnTo>
                    <a:pt x="20345" y="4439"/>
                  </a:lnTo>
                  <a:lnTo>
                    <a:pt x="19927" y="3479"/>
                  </a:lnTo>
                  <a:lnTo>
                    <a:pt x="19509" y="2639"/>
                  </a:lnTo>
                  <a:lnTo>
                    <a:pt x="19091" y="1919"/>
                  </a:lnTo>
                  <a:lnTo>
                    <a:pt x="18673" y="1319"/>
                  </a:lnTo>
                  <a:lnTo>
                    <a:pt x="18115" y="959"/>
                  </a:lnTo>
                  <a:lnTo>
                    <a:pt x="17419" y="599"/>
                  </a:lnTo>
                  <a:lnTo>
                    <a:pt x="16861" y="359"/>
                  </a:lnTo>
                  <a:lnTo>
                    <a:pt x="16304" y="119"/>
                  </a:lnTo>
                  <a:lnTo>
                    <a:pt x="15607" y="0"/>
                  </a:lnTo>
                  <a:lnTo>
                    <a:pt x="14910" y="0"/>
                  </a:lnTo>
                  <a:lnTo>
                    <a:pt x="14353" y="119"/>
                  </a:lnTo>
                  <a:lnTo>
                    <a:pt x="13656" y="239"/>
                  </a:lnTo>
                  <a:lnTo>
                    <a:pt x="13238" y="359"/>
                  </a:lnTo>
                  <a:lnTo>
                    <a:pt x="12680" y="599"/>
                  </a:lnTo>
                  <a:lnTo>
                    <a:pt x="12123" y="839"/>
                  </a:lnTo>
                  <a:lnTo>
                    <a:pt x="11845" y="1079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未知"/>
            <p:cNvSpPr/>
            <p:nvPr/>
          </p:nvSpPr>
          <p:spPr>
            <a:xfrm>
              <a:off x="2595600" y="4875840"/>
              <a:ext cx="196560" cy="198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814" y="423"/>
                  </a:lnTo>
                  <a:lnTo>
                    <a:pt x="20421" y="847"/>
                  </a:lnTo>
                  <a:lnTo>
                    <a:pt x="19636" y="1694"/>
                  </a:lnTo>
                  <a:lnTo>
                    <a:pt x="18458" y="1694"/>
                  </a:lnTo>
                  <a:lnTo>
                    <a:pt x="17672" y="2541"/>
                  </a:lnTo>
                  <a:lnTo>
                    <a:pt x="16887" y="2964"/>
                  </a:lnTo>
                  <a:lnTo>
                    <a:pt x="16494" y="2964"/>
                  </a:lnTo>
                  <a:lnTo>
                    <a:pt x="15316" y="3811"/>
                  </a:lnTo>
                  <a:lnTo>
                    <a:pt x="14138" y="4658"/>
                  </a:lnTo>
                  <a:lnTo>
                    <a:pt x="12959" y="4658"/>
                  </a:lnTo>
                  <a:lnTo>
                    <a:pt x="11781" y="5505"/>
                  </a:lnTo>
                  <a:lnTo>
                    <a:pt x="10996" y="6352"/>
                  </a:lnTo>
                  <a:lnTo>
                    <a:pt x="10210" y="6352"/>
                  </a:lnTo>
                  <a:lnTo>
                    <a:pt x="9032" y="7199"/>
                  </a:lnTo>
                  <a:lnTo>
                    <a:pt x="7854" y="7623"/>
                  </a:lnTo>
                  <a:lnTo>
                    <a:pt x="7069" y="8470"/>
                  </a:lnTo>
                  <a:lnTo>
                    <a:pt x="5890" y="8893"/>
                  </a:lnTo>
                  <a:lnTo>
                    <a:pt x="5105" y="9741"/>
                  </a:lnTo>
                  <a:lnTo>
                    <a:pt x="4319" y="10164"/>
                  </a:lnTo>
                  <a:lnTo>
                    <a:pt x="3534" y="11011"/>
                  </a:lnTo>
                  <a:lnTo>
                    <a:pt x="2748" y="11011"/>
                  </a:lnTo>
                  <a:lnTo>
                    <a:pt x="1963" y="11435"/>
                  </a:lnTo>
                  <a:lnTo>
                    <a:pt x="1177" y="12282"/>
                  </a:lnTo>
                  <a:lnTo>
                    <a:pt x="785" y="12705"/>
                  </a:lnTo>
                  <a:lnTo>
                    <a:pt x="392" y="13976"/>
                  </a:lnTo>
                  <a:lnTo>
                    <a:pt x="392" y="14823"/>
                  </a:lnTo>
                  <a:lnTo>
                    <a:pt x="0" y="15246"/>
                  </a:lnTo>
                  <a:lnTo>
                    <a:pt x="0" y="16093"/>
                  </a:lnTo>
                  <a:lnTo>
                    <a:pt x="392" y="16940"/>
                  </a:lnTo>
                  <a:lnTo>
                    <a:pt x="392" y="18211"/>
                  </a:lnTo>
                  <a:lnTo>
                    <a:pt x="392" y="18635"/>
                  </a:lnTo>
                  <a:lnTo>
                    <a:pt x="1570" y="19058"/>
                  </a:lnTo>
                  <a:lnTo>
                    <a:pt x="3141" y="21176"/>
                  </a:lnTo>
                  <a:lnTo>
                    <a:pt x="4712" y="21600"/>
                  </a:lnTo>
                  <a:lnTo>
                    <a:pt x="6283" y="21600"/>
                  </a:lnTo>
                  <a:lnTo>
                    <a:pt x="7854" y="20752"/>
                  </a:lnTo>
                  <a:lnTo>
                    <a:pt x="9425" y="19058"/>
                  </a:lnTo>
                  <a:lnTo>
                    <a:pt x="11388" y="17364"/>
                  </a:lnTo>
                  <a:lnTo>
                    <a:pt x="12959" y="15246"/>
                  </a:lnTo>
                  <a:lnTo>
                    <a:pt x="14530" y="13129"/>
                  </a:lnTo>
                  <a:lnTo>
                    <a:pt x="15708" y="11011"/>
                  </a:lnTo>
                  <a:lnTo>
                    <a:pt x="17279" y="8470"/>
                  </a:lnTo>
                  <a:lnTo>
                    <a:pt x="18458" y="6352"/>
                  </a:lnTo>
                  <a:lnTo>
                    <a:pt x="19243" y="4658"/>
                  </a:lnTo>
                  <a:lnTo>
                    <a:pt x="20814" y="2541"/>
                  </a:lnTo>
                  <a:lnTo>
                    <a:pt x="21207" y="1270"/>
                  </a:lnTo>
                  <a:lnTo>
                    <a:pt x="21207" y="423"/>
                  </a:lnTo>
                  <a:lnTo>
                    <a:pt x="21600" y="0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未知"/>
            <p:cNvSpPr/>
            <p:nvPr/>
          </p:nvSpPr>
          <p:spPr>
            <a:xfrm>
              <a:off x="2564280" y="4707000"/>
              <a:ext cx="253440" cy="11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515" y="2090"/>
                  </a:moveTo>
                  <a:lnTo>
                    <a:pt x="15211" y="1393"/>
                  </a:lnTo>
                  <a:lnTo>
                    <a:pt x="15211" y="696"/>
                  </a:lnTo>
                  <a:lnTo>
                    <a:pt x="14907" y="0"/>
                  </a:lnTo>
                  <a:lnTo>
                    <a:pt x="14602" y="696"/>
                  </a:lnTo>
                  <a:lnTo>
                    <a:pt x="14298" y="1393"/>
                  </a:lnTo>
                  <a:lnTo>
                    <a:pt x="13385" y="2787"/>
                  </a:lnTo>
                  <a:lnTo>
                    <a:pt x="12472" y="3483"/>
                  </a:lnTo>
                  <a:lnTo>
                    <a:pt x="11256" y="4180"/>
                  </a:lnTo>
                  <a:lnTo>
                    <a:pt x="10951" y="4877"/>
                  </a:lnTo>
                  <a:lnTo>
                    <a:pt x="10039" y="4877"/>
                  </a:lnTo>
                  <a:lnTo>
                    <a:pt x="9126" y="5574"/>
                  </a:lnTo>
                  <a:lnTo>
                    <a:pt x="7909" y="5574"/>
                  </a:lnTo>
                  <a:lnTo>
                    <a:pt x="6692" y="5574"/>
                  </a:lnTo>
                  <a:lnTo>
                    <a:pt x="6084" y="5574"/>
                  </a:lnTo>
                  <a:lnTo>
                    <a:pt x="4867" y="6270"/>
                  </a:lnTo>
                  <a:lnTo>
                    <a:pt x="3954" y="5574"/>
                  </a:lnTo>
                  <a:lnTo>
                    <a:pt x="2737" y="5574"/>
                  </a:lnTo>
                  <a:lnTo>
                    <a:pt x="1825" y="6270"/>
                  </a:lnTo>
                  <a:lnTo>
                    <a:pt x="912" y="5574"/>
                  </a:lnTo>
                  <a:lnTo>
                    <a:pt x="0" y="6270"/>
                  </a:lnTo>
                  <a:lnTo>
                    <a:pt x="0" y="6270"/>
                  </a:lnTo>
                  <a:lnTo>
                    <a:pt x="0" y="6270"/>
                  </a:lnTo>
                  <a:lnTo>
                    <a:pt x="304" y="7664"/>
                  </a:lnTo>
                  <a:lnTo>
                    <a:pt x="608" y="9057"/>
                  </a:lnTo>
                  <a:lnTo>
                    <a:pt x="1216" y="9754"/>
                  </a:lnTo>
                  <a:lnTo>
                    <a:pt x="1825" y="11148"/>
                  </a:lnTo>
                  <a:lnTo>
                    <a:pt x="2737" y="13238"/>
                  </a:lnTo>
                  <a:lnTo>
                    <a:pt x="3346" y="14632"/>
                  </a:lnTo>
                  <a:lnTo>
                    <a:pt x="4258" y="15328"/>
                  </a:lnTo>
                  <a:lnTo>
                    <a:pt x="5475" y="16722"/>
                  </a:lnTo>
                  <a:lnTo>
                    <a:pt x="6388" y="18115"/>
                  </a:lnTo>
                  <a:lnTo>
                    <a:pt x="7605" y="18812"/>
                  </a:lnTo>
                  <a:lnTo>
                    <a:pt x="7909" y="20206"/>
                  </a:lnTo>
                  <a:lnTo>
                    <a:pt x="8822" y="21600"/>
                  </a:lnTo>
                  <a:lnTo>
                    <a:pt x="9735" y="21600"/>
                  </a:lnTo>
                  <a:lnTo>
                    <a:pt x="10343" y="21600"/>
                  </a:lnTo>
                  <a:lnTo>
                    <a:pt x="10951" y="20902"/>
                  </a:lnTo>
                  <a:lnTo>
                    <a:pt x="11256" y="20902"/>
                  </a:lnTo>
                  <a:lnTo>
                    <a:pt x="11864" y="20206"/>
                  </a:lnTo>
                  <a:lnTo>
                    <a:pt x="12168" y="20206"/>
                  </a:lnTo>
                  <a:lnTo>
                    <a:pt x="12777" y="20206"/>
                  </a:lnTo>
                  <a:lnTo>
                    <a:pt x="13689" y="19509"/>
                  </a:lnTo>
                  <a:lnTo>
                    <a:pt x="14298" y="20206"/>
                  </a:lnTo>
                  <a:lnTo>
                    <a:pt x="14907" y="19509"/>
                  </a:lnTo>
                  <a:lnTo>
                    <a:pt x="15819" y="18812"/>
                  </a:lnTo>
                  <a:lnTo>
                    <a:pt x="16428" y="18812"/>
                  </a:lnTo>
                  <a:lnTo>
                    <a:pt x="17036" y="18812"/>
                  </a:lnTo>
                  <a:lnTo>
                    <a:pt x="17644" y="17419"/>
                  </a:lnTo>
                  <a:lnTo>
                    <a:pt x="18253" y="17419"/>
                  </a:lnTo>
                  <a:lnTo>
                    <a:pt x="18861" y="16025"/>
                  </a:lnTo>
                  <a:lnTo>
                    <a:pt x="19165" y="15328"/>
                  </a:lnTo>
                  <a:lnTo>
                    <a:pt x="19774" y="14632"/>
                  </a:lnTo>
                  <a:lnTo>
                    <a:pt x="20382" y="13238"/>
                  </a:lnTo>
                  <a:lnTo>
                    <a:pt x="20991" y="11845"/>
                  </a:lnTo>
                  <a:lnTo>
                    <a:pt x="21295" y="11148"/>
                  </a:lnTo>
                  <a:lnTo>
                    <a:pt x="21600" y="9754"/>
                  </a:lnTo>
                  <a:lnTo>
                    <a:pt x="21295" y="8361"/>
                  </a:lnTo>
                  <a:lnTo>
                    <a:pt x="21600" y="7664"/>
                  </a:lnTo>
                  <a:lnTo>
                    <a:pt x="21295" y="6967"/>
                  </a:lnTo>
                  <a:lnTo>
                    <a:pt x="21295" y="6270"/>
                  </a:lnTo>
                  <a:lnTo>
                    <a:pt x="21295" y="5574"/>
                  </a:lnTo>
                  <a:lnTo>
                    <a:pt x="20687" y="4877"/>
                  </a:lnTo>
                  <a:lnTo>
                    <a:pt x="20078" y="4180"/>
                  </a:lnTo>
                  <a:lnTo>
                    <a:pt x="19470" y="4180"/>
                  </a:lnTo>
                  <a:lnTo>
                    <a:pt x="18557" y="3483"/>
                  </a:lnTo>
                  <a:lnTo>
                    <a:pt x="17340" y="2787"/>
                  </a:lnTo>
                  <a:lnTo>
                    <a:pt x="16123" y="2787"/>
                  </a:lnTo>
                  <a:lnTo>
                    <a:pt x="15515" y="2090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2127960" y="4411800"/>
              <a:ext cx="29304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458"/>
                  </a:moveTo>
                  <a:lnTo>
                    <a:pt x="20809" y="8639"/>
                  </a:lnTo>
                  <a:lnTo>
                    <a:pt x="20282" y="7048"/>
                  </a:lnTo>
                  <a:lnTo>
                    <a:pt x="19229" y="5684"/>
                  </a:lnTo>
                  <a:lnTo>
                    <a:pt x="18438" y="4319"/>
                  </a:lnTo>
                  <a:lnTo>
                    <a:pt x="17121" y="3182"/>
                  </a:lnTo>
                  <a:lnTo>
                    <a:pt x="16068" y="2273"/>
                  </a:lnTo>
                  <a:lnTo>
                    <a:pt x="14751" y="1364"/>
                  </a:lnTo>
                  <a:lnTo>
                    <a:pt x="13697" y="1136"/>
                  </a:lnTo>
                  <a:lnTo>
                    <a:pt x="12117" y="454"/>
                  </a:lnTo>
                  <a:lnTo>
                    <a:pt x="11063" y="227"/>
                  </a:lnTo>
                  <a:lnTo>
                    <a:pt x="9482" y="0"/>
                  </a:lnTo>
                  <a:lnTo>
                    <a:pt x="8429" y="0"/>
                  </a:lnTo>
                  <a:lnTo>
                    <a:pt x="7111" y="227"/>
                  </a:lnTo>
                  <a:lnTo>
                    <a:pt x="6058" y="454"/>
                  </a:lnTo>
                  <a:lnTo>
                    <a:pt x="4741" y="681"/>
                  </a:lnTo>
                  <a:lnTo>
                    <a:pt x="4477" y="1136"/>
                  </a:lnTo>
                  <a:lnTo>
                    <a:pt x="3951" y="1364"/>
                  </a:lnTo>
                  <a:lnTo>
                    <a:pt x="3424" y="1818"/>
                  </a:lnTo>
                  <a:lnTo>
                    <a:pt x="3424" y="2273"/>
                  </a:lnTo>
                  <a:lnTo>
                    <a:pt x="2897" y="2500"/>
                  </a:lnTo>
                  <a:lnTo>
                    <a:pt x="2897" y="3182"/>
                  </a:lnTo>
                  <a:lnTo>
                    <a:pt x="2370" y="3410"/>
                  </a:lnTo>
                  <a:lnTo>
                    <a:pt x="2107" y="3637"/>
                  </a:lnTo>
                  <a:lnTo>
                    <a:pt x="1843" y="4092"/>
                  </a:lnTo>
                  <a:lnTo>
                    <a:pt x="1843" y="4774"/>
                  </a:lnTo>
                  <a:lnTo>
                    <a:pt x="1317" y="5229"/>
                  </a:lnTo>
                  <a:lnTo>
                    <a:pt x="1580" y="5456"/>
                  </a:lnTo>
                  <a:lnTo>
                    <a:pt x="1317" y="5911"/>
                  </a:lnTo>
                  <a:lnTo>
                    <a:pt x="790" y="6138"/>
                  </a:lnTo>
                  <a:lnTo>
                    <a:pt x="790" y="6820"/>
                  </a:lnTo>
                  <a:lnTo>
                    <a:pt x="526" y="6820"/>
                  </a:lnTo>
                  <a:lnTo>
                    <a:pt x="0" y="7048"/>
                  </a:lnTo>
                  <a:lnTo>
                    <a:pt x="0" y="7275"/>
                  </a:lnTo>
                  <a:lnTo>
                    <a:pt x="0" y="7503"/>
                  </a:lnTo>
                  <a:lnTo>
                    <a:pt x="263" y="7730"/>
                  </a:lnTo>
                  <a:lnTo>
                    <a:pt x="526" y="7730"/>
                  </a:lnTo>
                  <a:lnTo>
                    <a:pt x="1053" y="7503"/>
                  </a:lnTo>
                  <a:lnTo>
                    <a:pt x="1317" y="7503"/>
                  </a:lnTo>
                  <a:lnTo>
                    <a:pt x="2107" y="7730"/>
                  </a:lnTo>
                  <a:lnTo>
                    <a:pt x="2634" y="7503"/>
                  </a:lnTo>
                  <a:lnTo>
                    <a:pt x="3160" y="7730"/>
                  </a:lnTo>
                  <a:lnTo>
                    <a:pt x="3951" y="7503"/>
                  </a:lnTo>
                  <a:lnTo>
                    <a:pt x="4741" y="7503"/>
                  </a:lnTo>
                  <a:lnTo>
                    <a:pt x="5531" y="7275"/>
                  </a:lnTo>
                  <a:lnTo>
                    <a:pt x="6058" y="7048"/>
                  </a:lnTo>
                  <a:lnTo>
                    <a:pt x="6321" y="7048"/>
                  </a:lnTo>
                  <a:lnTo>
                    <a:pt x="6848" y="6820"/>
                  </a:lnTo>
                  <a:lnTo>
                    <a:pt x="7375" y="6593"/>
                  </a:lnTo>
                  <a:lnTo>
                    <a:pt x="7638" y="6366"/>
                  </a:lnTo>
                  <a:lnTo>
                    <a:pt x="7902" y="6366"/>
                  </a:lnTo>
                  <a:lnTo>
                    <a:pt x="8165" y="6366"/>
                  </a:lnTo>
                  <a:lnTo>
                    <a:pt x="8429" y="6138"/>
                  </a:lnTo>
                  <a:lnTo>
                    <a:pt x="8955" y="6138"/>
                  </a:lnTo>
                  <a:lnTo>
                    <a:pt x="9482" y="6138"/>
                  </a:lnTo>
                  <a:lnTo>
                    <a:pt x="9746" y="5911"/>
                  </a:lnTo>
                  <a:lnTo>
                    <a:pt x="10272" y="5911"/>
                  </a:lnTo>
                  <a:lnTo>
                    <a:pt x="10536" y="5911"/>
                  </a:lnTo>
                  <a:lnTo>
                    <a:pt x="11063" y="5684"/>
                  </a:lnTo>
                  <a:lnTo>
                    <a:pt x="11326" y="5911"/>
                  </a:lnTo>
                  <a:lnTo>
                    <a:pt x="11590" y="6138"/>
                  </a:lnTo>
                  <a:lnTo>
                    <a:pt x="12117" y="6138"/>
                  </a:lnTo>
                  <a:lnTo>
                    <a:pt x="12643" y="6593"/>
                  </a:lnTo>
                  <a:lnTo>
                    <a:pt x="13170" y="7048"/>
                  </a:lnTo>
                  <a:lnTo>
                    <a:pt x="13434" y="7275"/>
                  </a:lnTo>
                  <a:lnTo>
                    <a:pt x="13697" y="7503"/>
                  </a:lnTo>
                  <a:lnTo>
                    <a:pt x="13960" y="7730"/>
                  </a:lnTo>
                  <a:lnTo>
                    <a:pt x="13960" y="7957"/>
                  </a:lnTo>
                  <a:lnTo>
                    <a:pt x="14224" y="8412"/>
                  </a:lnTo>
                  <a:lnTo>
                    <a:pt x="14487" y="8639"/>
                  </a:lnTo>
                  <a:lnTo>
                    <a:pt x="14487" y="8867"/>
                  </a:lnTo>
                  <a:lnTo>
                    <a:pt x="14487" y="9094"/>
                  </a:lnTo>
                  <a:lnTo>
                    <a:pt x="14751" y="9321"/>
                  </a:lnTo>
                  <a:lnTo>
                    <a:pt x="15014" y="9776"/>
                  </a:lnTo>
                  <a:lnTo>
                    <a:pt x="15014" y="10004"/>
                  </a:lnTo>
                  <a:lnTo>
                    <a:pt x="15014" y="10231"/>
                  </a:lnTo>
                  <a:lnTo>
                    <a:pt x="15541" y="10686"/>
                  </a:lnTo>
                  <a:lnTo>
                    <a:pt x="15541" y="10913"/>
                  </a:lnTo>
                  <a:lnTo>
                    <a:pt x="15541" y="10913"/>
                  </a:lnTo>
                  <a:lnTo>
                    <a:pt x="15541" y="11140"/>
                  </a:lnTo>
                  <a:lnTo>
                    <a:pt x="15541" y="11368"/>
                  </a:lnTo>
                  <a:lnTo>
                    <a:pt x="16068" y="12050"/>
                  </a:lnTo>
                  <a:lnTo>
                    <a:pt x="16068" y="12504"/>
                  </a:lnTo>
                  <a:lnTo>
                    <a:pt x="16331" y="13187"/>
                  </a:lnTo>
                  <a:lnTo>
                    <a:pt x="16594" y="13869"/>
                  </a:lnTo>
                  <a:lnTo>
                    <a:pt x="16331" y="14323"/>
                  </a:lnTo>
                  <a:lnTo>
                    <a:pt x="16331" y="15006"/>
                  </a:lnTo>
                  <a:lnTo>
                    <a:pt x="16068" y="15460"/>
                  </a:lnTo>
                  <a:lnTo>
                    <a:pt x="16068" y="15915"/>
                  </a:lnTo>
                  <a:lnTo>
                    <a:pt x="15541" y="16370"/>
                  </a:lnTo>
                  <a:lnTo>
                    <a:pt x="15277" y="16825"/>
                  </a:lnTo>
                  <a:lnTo>
                    <a:pt x="15014" y="17279"/>
                  </a:lnTo>
                  <a:lnTo>
                    <a:pt x="14751" y="17734"/>
                  </a:lnTo>
                  <a:lnTo>
                    <a:pt x="14224" y="18189"/>
                  </a:lnTo>
                  <a:lnTo>
                    <a:pt x="14224" y="18416"/>
                  </a:lnTo>
                  <a:lnTo>
                    <a:pt x="13697" y="18643"/>
                  </a:lnTo>
                  <a:lnTo>
                    <a:pt x="13434" y="18871"/>
                  </a:lnTo>
                  <a:lnTo>
                    <a:pt x="13434" y="18871"/>
                  </a:lnTo>
                  <a:lnTo>
                    <a:pt x="13170" y="19098"/>
                  </a:lnTo>
                  <a:lnTo>
                    <a:pt x="12907" y="19098"/>
                  </a:lnTo>
                  <a:lnTo>
                    <a:pt x="12643" y="18871"/>
                  </a:lnTo>
                  <a:lnTo>
                    <a:pt x="12380" y="18871"/>
                  </a:lnTo>
                  <a:lnTo>
                    <a:pt x="12117" y="18871"/>
                  </a:lnTo>
                  <a:lnTo>
                    <a:pt x="11326" y="18416"/>
                  </a:lnTo>
                  <a:lnTo>
                    <a:pt x="11326" y="18189"/>
                  </a:lnTo>
                  <a:lnTo>
                    <a:pt x="11063" y="17961"/>
                  </a:lnTo>
                  <a:lnTo>
                    <a:pt x="10536" y="17734"/>
                  </a:lnTo>
                  <a:lnTo>
                    <a:pt x="10272" y="17507"/>
                  </a:lnTo>
                  <a:lnTo>
                    <a:pt x="9746" y="17279"/>
                  </a:lnTo>
                  <a:lnTo>
                    <a:pt x="9219" y="17279"/>
                  </a:lnTo>
                  <a:lnTo>
                    <a:pt x="8955" y="16825"/>
                  </a:lnTo>
                  <a:lnTo>
                    <a:pt x="8692" y="16597"/>
                  </a:lnTo>
                  <a:lnTo>
                    <a:pt x="8429" y="16370"/>
                  </a:lnTo>
                  <a:lnTo>
                    <a:pt x="8165" y="16597"/>
                  </a:lnTo>
                  <a:lnTo>
                    <a:pt x="8429" y="16825"/>
                  </a:lnTo>
                  <a:lnTo>
                    <a:pt x="8429" y="17052"/>
                  </a:lnTo>
                  <a:lnTo>
                    <a:pt x="8429" y="17279"/>
                  </a:lnTo>
                  <a:lnTo>
                    <a:pt x="8429" y="17507"/>
                  </a:lnTo>
                  <a:lnTo>
                    <a:pt x="8692" y="17734"/>
                  </a:lnTo>
                  <a:lnTo>
                    <a:pt x="8692" y="17961"/>
                  </a:lnTo>
                  <a:lnTo>
                    <a:pt x="8692" y="18189"/>
                  </a:lnTo>
                  <a:lnTo>
                    <a:pt x="10272" y="19780"/>
                  </a:lnTo>
                  <a:lnTo>
                    <a:pt x="11326" y="20690"/>
                  </a:lnTo>
                  <a:lnTo>
                    <a:pt x="12643" y="21145"/>
                  </a:lnTo>
                  <a:lnTo>
                    <a:pt x="14224" y="21600"/>
                  </a:lnTo>
                  <a:lnTo>
                    <a:pt x="15277" y="21600"/>
                  </a:lnTo>
                  <a:lnTo>
                    <a:pt x="16331" y="21145"/>
                  </a:lnTo>
                  <a:lnTo>
                    <a:pt x="17648" y="20462"/>
                  </a:lnTo>
                  <a:lnTo>
                    <a:pt x="18175" y="19780"/>
                  </a:lnTo>
                  <a:lnTo>
                    <a:pt x="19492" y="18871"/>
                  </a:lnTo>
                  <a:lnTo>
                    <a:pt x="20282" y="17734"/>
                  </a:lnTo>
                  <a:lnTo>
                    <a:pt x="20546" y="16597"/>
                  </a:lnTo>
                  <a:lnTo>
                    <a:pt x="21072" y="15233"/>
                  </a:lnTo>
                  <a:lnTo>
                    <a:pt x="21336" y="14096"/>
                  </a:lnTo>
                  <a:lnTo>
                    <a:pt x="21600" y="12504"/>
                  </a:lnTo>
                  <a:lnTo>
                    <a:pt x="21600" y="11140"/>
                  </a:lnTo>
                  <a:lnTo>
                    <a:pt x="21600" y="10458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2224080" y="4841640"/>
              <a:ext cx="435960" cy="266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049" y="5634"/>
                  </a:moveTo>
                  <a:lnTo>
                    <a:pt x="14517" y="6260"/>
                  </a:lnTo>
                  <a:lnTo>
                    <a:pt x="14340" y="6573"/>
                  </a:lnTo>
                  <a:lnTo>
                    <a:pt x="13632" y="7199"/>
                  </a:lnTo>
                  <a:lnTo>
                    <a:pt x="13101" y="7825"/>
                  </a:lnTo>
                  <a:lnTo>
                    <a:pt x="12570" y="8452"/>
                  </a:lnTo>
                  <a:lnTo>
                    <a:pt x="12039" y="8452"/>
                  </a:lnTo>
                  <a:lnTo>
                    <a:pt x="11684" y="9078"/>
                  </a:lnTo>
                  <a:lnTo>
                    <a:pt x="10976" y="9391"/>
                  </a:lnTo>
                  <a:lnTo>
                    <a:pt x="10622" y="9704"/>
                  </a:lnTo>
                  <a:lnTo>
                    <a:pt x="9914" y="10017"/>
                  </a:lnTo>
                  <a:lnTo>
                    <a:pt x="9560" y="10330"/>
                  </a:lnTo>
                  <a:lnTo>
                    <a:pt x="9206" y="10956"/>
                  </a:lnTo>
                  <a:lnTo>
                    <a:pt x="8498" y="11582"/>
                  </a:lnTo>
                  <a:lnTo>
                    <a:pt x="8144" y="11895"/>
                  </a:lnTo>
                  <a:lnTo>
                    <a:pt x="7435" y="12521"/>
                  </a:lnTo>
                  <a:lnTo>
                    <a:pt x="6904" y="13147"/>
                  </a:lnTo>
                  <a:lnTo>
                    <a:pt x="6550" y="13147"/>
                  </a:lnTo>
                  <a:lnTo>
                    <a:pt x="6373" y="13147"/>
                  </a:lnTo>
                  <a:lnTo>
                    <a:pt x="5842" y="13460"/>
                  </a:lnTo>
                  <a:lnTo>
                    <a:pt x="5488" y="13147"/>
                  </a:lnTo>
                  <a:lnTo>
                    <a:pt x="5134" y="12834"/>
                  </a:lnTo>
                  <a:lnTo>
                    <a:pt x="4603" y="12521"/>
                  </a:lnTo>
                  <a:lnTo>
                    <a:pt x="4072" y="12208"/>
                  </a:lnTo>
                  <a:lnTo>
                    <a:pt x="3717" y="11582"/>
                  </a:lnTo>
                  <a:lnTo>
                    <a:pt x="3363" y="11269"/>
                  </a:lnTo>
                  <a:lnTo>
                    <a:pt x="3186" y="10643"/>
                  </a:lnTo>
                  <a:lnTo>
                    <a:pt x="2832" y="9704"/>
                  </a:lnTo>
                  <a:lnTo>
                    <a:pt x="2832" y="8765"/>
                  </a:lnTo>
                  <a:lnTo>
                    <a:pt x="2655" y="8452"/>
                  </a:lnTo>
                  <a:lnTo>
                    <a:pt x="2655" y="7513"/>
                  </a:lnTo>
                  <a:lnTo>
                    <a:pt x="2832" y="7199"/>
                  </a:lnTo>
                  <a:lnTo>
                    <a:pt x="2832" y="6573"/>
                  </a:lnTo>
                  <a:lnTo>
                    <a:pt x="3009" y="6260"/>
                  </a:lnTo>
                  <a:lnTo>
                    <a:pt x="2832" y="5634"/>
                  </a:lnTo>
                  <a:lnTo>
                    <a:pt x="3009" y="5321"/>
                  </a:lnTo>
                  <a:lnTo>
                    <a:pt x="3186" y="4695"/>
                  </a:lnTo>
                  <a:lnTo>
                    <a:pt x="3186" y="4382"/>
                  </a:lnTo>
                  <a:lnTo>
                    <a:pt x="3009" y="3756"/>
                  </a:lnTo>
                  <a:lnTo>
                    <a:pt x="3186" y="3130"/>
                  </a:lnTo>
                  <a:lnTo>
                    <a:pt x="3186" y="2504"/>
                  </a:lnTo>
                  <a:lnTo>
                    <a:pt x="3009" y="1878"/>
                  </a:lnTo>
                  <a:lnTo>
                    <a:pt x="3009" y="1878"/>
                  </a:lnTo>
                  <a:lnTo>
                    <a:pt x="2832" y="1564"/>
                  </a:lnTo>
                  <a:lnTo>
                    <a:pt x="2832" y="1252"/>
                  </a:lnTo>
                  <a:lnTo>
                    <a:pt x="2478" y="939"/>
                  </a:lnTo>
                  <a:lnTo>
                    <a:pt x="2478" y="312"/>
                  </a:lnTo>
                  <a:lnTo>
                    <a:pt x="2301" y="0"/>
                  </a:lnTo>
                  <a:lnTo>
                    <a:pt x="1947" y="312"/>
                  </a:lnTo>
                  <a:lnTo>
                    <a:pt x="1947" y="312"/>
                  </a:lnTo>
                  <a:lnTo>
                    <a:pt x="1593" y="312"/>
                  </a:lnTo>
                  <a:lnTo>
                    <a:pt x="1239" y="939"/>
                  </a:lnTo>
                  <a:lnTo>
                    <a:pt x="1062" y="2191"/>
                  </a:lnTo>
                  <a:lnTo>
                    <a:pt x="707" y="2817"/>
                  </a:lnTo>
                  <a:lnTo>
                    <a:pt x="530" y="4382"/>
                  </a:lnTo>
                  <a:lnTo>
                    <a:pt x="353" y="5947"/>
                  </a:lnTo>
                  <a:lnTo>
                    <a:pt x="176" y="7199"/>
                  </a:lnTo>
                  <a:lnTo>
                    <a:pt x="0" y="8452"/>
                  </a:lnTo>
                  <a:lnTo>
                    <a:pt x="0" y="10330"/>
                  </a:lnTo>
                  <a:lnTo>
                    <a:pt x="353" y="11895"/>
                  </a:lnTo>
                  <a:lnTo>
                    <a:pt x="530" y="13460"/>
                  </a:lnTo>
                  <a:lnTo>
                    <a:pt x="707" y="15026"/>
                  </a:lnTo>
                  <a:lnTo>
                    <a:pt x="1062" y="16591"/>
                  </a:lnTo>
                  <a:lnTo>
                    <a:pt x="1593" y="17530"/>
                  </a:lnTo>
                  <a:lnTo>
                    <a:pt x="2124" y="18782"/>
                  </a:lnTo>
                  <a:lnTo>
                    <a:pt x="2832" y="19408"/>
                  </a:lnTo>
                  <a:lnTo>
                    <a:pt x="3363" y="19721"/>
                  </a:lnTo>
                  <a:lnTo>
                    <a:pt x="4072" y="20347"/>
                  </a:lnTo>
                  <a:lnTo>
                    <a:pt x="4426" y="20660"/>
                  </a:lnTo>
                  <a:lnTo>
                    <a:pt x="4780" y="21286"/>
                  </a:lnTo>
                  <a:lnTo>
                    <a:pt x="5311" y="21286"/>
                  </a:lnTo>
                  <a:lnTo>
                    <a:pt x="6019" y="21286"/>
                  </a:lnTo>
                  <a:lnTo>
                    <a:pt x="6373" y="21600"/>
                  </a:lnTo>
                  <a:lnTo>
                    <a:pt x="6904" y="21286"/>
                  </a:lnTo>
                  <a:lnTo>
                    <a:pt x="7435" y="21600"/>
                  </a:lnTo>
                  <a:lnTo>
                    <a:pt x="7789" y="21286"/>
                  </a:lnTo>
                  <a:lnTo>
                    <a:pt x="8144" y="20973"/>
                  </a:lnTo>
                  <a:lnTo>
                    <a:pt x="8498" y="20660"/>
                  </a:lnTo>
                  <a:lnTo>
                    <a:pt x="9029" y="20660"/>
                  </a:lnTo>
                  <a:lnTo>
                    <a:pt x="9560" y="20034"/>
                  </a:lnTo>
                  <a:lnTo>
                    <a:pt x="9914" y="19721"/>
                  </a:lnTo>
                  <a:lnTo>
                    <a:pt x="10268" y="19095"/>
                  </a:lnTo>
                  <a:lnTo>
                    <a:pt x="10622" y="19095"/>
                  </a:lnTo>
                  <a:lnTo>
                    <a:pt x="10976" y="18469"/>
                  </a:lnTo>
                  <a:lnTo>
                    <a:pt x="11330" y="18156"/>
                  </a:lnTo>
                  <a:lnTo>
                    <a:pt x="11684" y="17530"/>
                  </a:lnTo>
                  <a:lnTo>
                    <a:pt x="12216" y="17217"/>
                  </a:lnTo>
                  <a:lnTo>
                    <a:pt x="12393" y="16591"/>
                  </a:lnTo>
                  <a:lnTo>
                    <a:pt x="12747" y="16278"/>
                  </a:lnTo>
                  <a:lnTo>
                    <a:pt x="13278" y="15651"/>
                  </a:lnTo>
                  <a:lnTo>
                    <a:pt x="13632" y="15651"/>
                  </a:lnTo>
                  <a:lnTo>
                    <a:pt x="13809" y="15026"/>
                  </a:lnTo>
                  <a:lnTo>
                    <a:pt x="14340" y="14712"/>
                  </a:lnTo>
                  <a:lnTo>
                    <a:pt x="14694" y="14399"/>
                  </a:lnTo>
                  <a:lnTo>
                    <a:pt x="15049" y="14399"/>
                  </a:lnTo>
                  <a:lnTo>
                    <a:pt x="15403" y="14399"/>
                  </a:lnTo>
                  <a:lnTo>
                    <a:pt x="15757" y="14086"/>
                  </a:lnTo>
                  <a:lnTo>
                    <a:pt x="16111" y="14086"/>
                  </a:lnTo>
                  <a:lnTo>
                    <a:pt x="16465" y="13773"/>
                  </a:lnTo>
                  <a:lnTo>
                    <a:pt x="16819" y="13773"/>
                  </a:lnTo>
                  <a:lnTo>
                    <a:pt x="17350" y="13460"/>
                  </a:lnTo>
                  <a:lnTo>
                    <a:pt x="17704" y="13147"/>
                  </a:lnTo>
                  <a:lnTo>
                    <a:pt x="18058" y="12521"/>
                  </a:lnTo>
                  <a:lnTo>
                    <a:pt x="18235" y="12521"/>
                  </a:lnTo>
                  <a:lnTo>
                    <a:pt x="18589" y="12208"/>
                  </a:lnTo>
                  <a:lnTo>
                    <a:pt x="19121" y="11582"/>
                  </a:lnTo>
                  <a:lnTo>
                    <a:pt x="19298" y="11269"/>
                  </a:lnTo>
                  <a:lnTo>
                    <a:pt x="19652" y="10643"/>
                  </a:lnTo>
                  <a:lnTo>
                    <a:pt x="20006" y="10330"/>
                  </a:lnTo>
                  <a:lnTo>
                    <a:pt x="20360" y="10017"/>
                  </a:lnTo>
                  <a:lnTo>
                    <a:pt x="20537" y="9078"/>
                  </a:lnTo>
                  <a:lnTo>
                    <a:pt x="20891" y="8765"/>
                  </a:lnTo>
                  <a:lnTo>
                    <a:pt x="20891" y="8452"/>
                  </a:lnTo>
                  <a:lnTo>
                    <a:pt x="21068" y="7513"/>
                  </a:lnTo>
                  <a:lnTo>
                    <a:pt x="21422" y="6886"/>
                  </a:lnTo>
                  <a:lnTo>
                    <a:pt x="21422" y="6260"/>
                  </a:lnTo>
                  <a:lnTo>
                    <a:pt x="21600" y="5634"/>
                  </a:lnTo>
                  <a:lnTo>
                    <a:pt x="21422" y="5008"/>
                  </a:lnTo>
                  <a:lnTo>
                    <a:pt x="21600" y="4382"/>
                  </a:lnTo>
                  <a:lnTo>
                    <a:pt x="21422" y="3756"/>
                  </a:lnTo>
                  <a:lnTo>
                    <a:pt x="21245" y="3130"/>
                  </a:lnTo>
                  <a:lnTo>
                    <a:pt x="21068" y="2504"/>
                  </a:lnTo>
                  <a:lnTo>
                    <a:pt x="20714" y="2504"/>
                  </a:lnTo>
                  <a:lnTo>
                    <a:pt x="20360" y="2191"/>
                  </a:lnTo>
                  <a:lnTo>
                    <a:pt x="20006" y="1564"/>
                  </a:lnTo>
                  <a:lnTo>
                    <a:pt x="19829" y="1878"/>
                  </a:lnTo>
                  <a:lnTo>
                    <a:pt x="19298" y="1564"/>
                  </a:lnTo>
                  <a:lnTo>
                    <a:pt x="18944" y="1878"/>
                  </a:lnTo>
                  <a:lnTo>
                    <a:pt x="18412" y="1878"/>
                  </a:lnTo>
                  <a:lnTo>
                    <a:pt x="18058" y="2504"/>
                  </a:lnTo>
                  <a:lnTo>
                    <a:pt x="17881" y="2504"/>
                  </a:lnTo>
                  <a:lnTo>
                    <a:pt x="17704" y="2504"/>
                  </a:lnTo>
                  <a:lnTo>
                    <a:pt x="17704" y="2817"/>
                  </a:lnTo>
                  <a:lnTo>
                    <a:pt x="17350" y="3130"/>
                  </a:lnTo>
                  <a:lnTo>
                    <a:pt x="17173" y="3130"/>
                  </a:lnTo>
                  <a:lnTo>
                    <a:pt x="16996" y="3443"/>
                  </a:lnTo>
                  <a:lnTo>
                    <a:pt x="16819" y="3756"/>
                  </a:lnTo>
                  <a:lnTo>
                    <a:pt x="16642" y="3756"/>
                  </a:lnTo>
                  <a:lnTo>
                    <a:pt x="16288" y="4382"/>
                  </a:lnTo>
                  <a:lnTo>
                    <a:pt x="16111" y="4382"/>
                  </a:lnTo>
                  <a:lnTo>
                    <a:pt x="16111" y="4695"/>
                  </a:lnTo>
                  <a:lnTo>
                    <a:pt x="15757" y="5008"/>
                  </a:lnTo>
                  <a:lnTo>
                    <a:pt x="15580" y="5321"/>
                  </a:lnTo>
                  <a:lnTo>
                    <a:pt x="15403" y="5321"/>
                  </a:lnTo>
                  <a:lnTo>
                    <a:pt x="15049" y="5634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1692360" y="4613040"/>
              <a:ext cx="475200" cy="460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795" y="14157"/>
                  </a:moveTo>
                  <a:lnTo>
                    <a:pt x="8282" y="13613"/>
                  </a:lnTo>
                  <a:lnTo>
                    <a:pt x="8607" y="13068"/>
                  </a:lnTo>
                  <a:lnTo>
                    <a:pt x="8769" y="12705"/>
                  </a:lnTo>
                  <a:lnTo>
                    <a:pt x="9094" y="11979"/>
                  </a:lnTo>
                  <a:lnTo>
                    <a:pt x="9256" y="11616"/>
                  </a:lnTo>
                  <a:lnTo>
                    <a:pt x="9744" y="11072"/>
                  </a:lnTo>
                  <a:lnTo>
                    <a:pt x="9906" y="10709"/>
                  </a:lnTo>
                  <a:lnTo>
                    <a:pt x="10393" y="10346"/>
                  </a:lnTo>
                  <a:lnTo>
                    <a:pt x="10718" y="10164"/>
                  </a:lnTo>
                  <a:lnTo>
                    <a:pt x="10881" y="9620"/>
                  </a:lnTo>
                  <a:lnTo>
                    <a:pt x="11043" y="9438"/>
                  </a:lnTo>
                  <a:lnTo>
                    <a:pt x="11368" y="9075"/>
                  </a:lnTo>
                  <a:lnTo>
                    <a:pt x="11693" y="8712"/>
                  </a:lnTo>
                  <a:lnTo>
                    <a:pt x="12017" y="8349"/>
                  </a:lnTo>
                  <a:lnTo>
                    <a:pt x="12342" y="7986"/>
                  </a:lnTo>
                  <a:lnTo>
                    <a:pt x="12504" y="7623"/>
                  </a:lnTo>
                  <a:lnTo>
                    <a:pt x="12829" y="7441"/>
                  </a:lnTo>
                  <a:lnTo>
                    <a:pt x="13154" y="7078"/>
                  </a:lnTo>
                  <a:lnTo>
                    <a:pt x="13317" y="6715"/>
                  </a:lnTo>
                  <a:lnTo>
                    <a:pt x="13642" y="6352"/>
                  </a:lnTo>
                  <a:lnTo>
                    <a:pt x="13966" y="6171"/>
                  </a:lnTo>
                  <a:lnTo>
                    <a:pt x="14291" y="5808"/>
                  </a:lnTo>
                  <a:lnTo>
                    <a:pt x="14778" y="5445"/>
                  </a:lnTo>
                  <a:lnTo>
                    <a:pt x="15103" y="5082"/>
                  </a:lnTo>
                  <a:lnTo>
                    <a:pt x="15428" y="4719"/>
                  </a:lnTo>
                  <a:lnTo>
                    <a:pt x="15915" y="4356"/>
                  </a:lnTo>
                  <a:lnTo>
                    <a:pt x="16565" y="3992"/>
                  </a:lnTo>
                  <a:lnTo>
                    <a:pt x="16890" y="3992"/>
                  </a:lnTo>
                  <a:lnTo>
                    <a:pt x="17539" y="3630"/>
                  </a:lnTo>
                  <a:lnTo>
                    <a:pt x="18026" y="3267"/>
                  </a:lnTo>
                  <a:lnTo>
                    <a:pt x="18839" y="3085"/>
                  </a:lnTo>
                  <a:lnTo>
                    <a:pt x="19488" y="2904"/>
                  </a:lnTo>
                  <a:lnTo>
                    <a:pt x="20300" y="2722"/>
                  </a:lnTo>
                  <a:lnTo>
                    <a:pt x="20625" y="2722"/>
                  </a:lnTo>
                  <a:lnTo>
                    <a:pt x="20950" y="2177"/>
                  </a:lnTo>
                  <a:lnTo>
                    <a:pt x="21275" y="1996"/>
                  </a:lnTo>
                  <a:lnTo>
                    <a:pt x="21437" y="1633"/>
                  </a:lnTo>
                  <a:lnTo>
                    <a:pt x="21600" y="1451"/>
                  </a:lnTo>
                  <a:lnTo>
                    <a:pt x="21600" y="1088"/>
                  </a:lnTo>
                  <a:lnTo>
                    <a:pt x="21275" y="725"/>
                  </a:lnTo>
                  <a:lnTo>
                    <a:pt x="21112" y="362"/>
                  </a:lnTo>
                  <a:lnTo>
                    <a:pt x="20787" y="181"/>
                  </a:lnTo>
                  <a:lnTo>
                    <a:pt x="20138" y="0"/>
                  </a:lnTo>
                  <a:lnTo>
                    <a:pt x="19650" y="181"/>
                  </a:lnTo>
                  <a:lnTo>
                    <a:pt x="19488" y="181"/>
                  </a:lnTo>
                  <a:lnTo>
                    <a:pt x="18839" y="362"/>
                  </a:lnTo>
                  <a:lnTo>
                    <a:pt x="18026" y="907"/>
                  </a:lnTo>
                  <a:lnTo>
                    <a:pt x="17377" y="1633"/>
                  </a:lnTo>
                  <a:lnTo>
                    <a:pt x="17052" y="1996"/>
                  </a:lnTo>
                  <a:lnTo>
                    <a:pt x="16727" y="2359"/>
                  </a:lnTo>
                  <a:lnTo>
                    <a:pt x="16078" y="2722"/>
                  </a:lnTo>
                  <a:lnTo>
                    <a:pt x="15590" y="3085"/>
                  </a:lnTo>
                  <a:lnTo>
                    <a:pt x="14941" y="3630"/>
                  </a:lnTo>
                  <a:lnTo>
                    <a:pt x="14453" y="3992"/>
                  </a:lnTo>
                  <a:lnTo>
                    <a:pt x="13966" y="4537"/>
                  </a:lnTo>
                  <a:lnTo>
                    <a:pt x="13154" y="5082"/>
                  </a:lnTo>
                  <a:lnTo>
                    <a:pt x="12667" y="5626"/>
                  </a:lnTo>
                  <a:lnTo>
                    <a:pt x="12017" y="5808"/>
                  </a:lnTo>
                  <a:lnTo>
                    <a:pt x="11368" y="6352"/>
                  </a:lnTo>
                  <a:lnTo>
                    <a:pt x="10718" y="6897"/>
                  </a:lnTo>
                  <a:lnTo>
                    <a:pt x="10068" y="7260"/>
                  </a:lnTo>
                  <a:lnTo>
                    <a:pt x="9419" y="7805"/>
                  </a:lnTo>
                  <a:lnTo>
                    <a:pt x="8607" y="8349"/>
                  </a:lnTo>
                  <a:lnTo>
                    <a:pt x="7957" y="8893"/>
                  </a:lnTo>
                  <a:lnTo>
                    <a:pt x="7307" y="9438"/>
                  </a:lnTo>
                  <a:lnTo>
                    <a:pt x="6658" y="9982"/>
                  </a:lnTo>
                  <a:lnTo>
                    <a:pt x="5846" y="10527"/>
                  </a:lnTo>
                  <a:lnTo>
                    <a:pt x="5359" y="10890"/>
                  </a:lnTo>
                  <a:lnTo>
                    <a:pt x="4709" y="11253"/>
                  </a:lnTo>
                  <a:lnTo>
                    <a:pt x="4222" y="11616"/>
                  </a:lnTo>
                  <a:lnTo>
                    <a:pt x="3572" y="12342"/>
                  </a:lnTo>
                  <a:lnTo>
                    <a:pt x="2923" y="12887"/>
                  </a:lnTo>
                  <a:lnTo>
                    <a:pt x="2598" y="13250"/>
                  </a:lnTo>
                  <a:lnTo>
                    <a:pt x="2111" y="13794"/>
                  </a:lnTo>
                  <a:lnTo>
                    <a:pt x="1786" y="14520"/>
                  </a:lnTo>
                  <a:lnTo>
                    <a:pt x="1299" y="14883"/>
                  </a:lnTo>
                  <a:lnTo>
                    <a:pt x="974" y="15428"/>
                  </a:lnTo>
                  <a:lnTo>
                    <a:pt x="811" y="15791"/>
                  </a:lnTo>
                  <a:lnTo>
                    <a:pt x="649" y="16154"/>
                  </a:lnTo>
                  <a:lnTo>
                    <a:pt x="324" y="16880"/>
                  </a:lnTo>
                  <a:lnTo>
                    <a:pt x="162" y="17787"/>
                  </a:lnTo>
                  <a:lnTo>
                    <a:pt x="0" y="18514"/>
                  </a:lnTo>
                  <a:lnTo>
                    <a:pt x="0" y="19240"/>
                  </a:lnTo>
                  <a:lnTo>
                    <a:pt x="162" y="19966"/>
                  </a:lnTo>
                  <a:lnTo>
                    <a:pt x="162" y="20329"/>
                  </a:lnTo>
                  <a:lnTo>
                    <a:pt x="324" y="20692"/>
                  </a:lnTo>
                  <a:lnTo>
                    <a:pt x="324" y="21055"/>
                  </a:lnTo>
                  <a:lnTo>
                    <a:pt x="649" y="21418"/>
                  </a:lnTo>
                  <a:lnTo>
                    <a:pt x="974" y="21600"/>
                  </a:lnTo>
                  <a:lnTo>
                    <a:pt x="1299" y="21418"/>
                  </a:lnTo>
                  <a:lnTo>
                    <a:pt x="1623" y="21418"/>
                  </a:lnTo>
                  <a:lnTo>
                    <a:pt x="1948" y="21236"/>
                  </a:lnTo>
                  <a:lnTo>
                    <a:pt x="2111" y="21055"/>
                  </a:lnTo>
                  <a:lnTo>
                    <a:pt x="2598" y="20692"/>
                  </a:lnTo>
                  <a:lnTo>
                    <a:pt x="2923" y="20329"/>
                  </a:lnTo>
                  <a:lnTo>
                    <a:pt x="3248" y="19784"/>
                  </a:lnTo>
                  <a:lnTo>
                    <a:pt x="3572" y="19240"/>
                  </a:lnTo>
                  <a:lnTo>
                    <a:pt x="4059" y="18695"/>
                  </a:lnTo>
                  <a:lnTo>
                    <a:pt x="4222" y="18514"/>
                  </a:lnTo>
                  <a:lnTo>
                    <a:pt x="4384" y="18151"/>
                  </a:lnTo>
                  <a:lnTo>
                    <a:pt x="4871" y="17787"/>
                  </a:lnTo>
                  <a:lnTo>
                    <a:pt x="5196" y="17606"/>
                  </a:lnTo>
                  <a:lnTo>
                    <a:pt x="5359" y="17243"/>
                  </a:lnTo>
                  <a:lnTo>
                    <a:pt x="5684" y="17061"/>
                  </a:lnTo>
                  <a:lnTo>
                    <a:pt x="6008" y="16880"/>
                  </a:lnTo>
                  <a:lnTo>
                    <a:pt x="6333" y="16517"/>
                  </a:lnTo>
                  <a:lnTo>
                    <a:pt x="6333" y="16336"/>
                  </a:lnTo>
                  <a:lnTo>
                    <a:pt x="6658" y="15972"/>
                  </a:lnTo>
                  <a:lnTo>
                    <a:pt x="6983" y="15610"/>
                  </a:lnTo>
                  <a:lnTo>
                    <a:pt x="7145" y="15246"/>
                  </a:lnTo>
                  <a:lnTo>
                    <a:pt x="7632" y="14520"/>
                  </a:lnTo>
                  <a:lnTo>
                    <a:pt x="7795" y="14157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2013120" y="5483520"/>
              <a:ext cx="590400" cy="1258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792" y="5781"/>
                  </a:moveTo>
                  <a:lnTo>
                    <a:pt x="15054" y="5582"/>
                  </a:lnTo>
                  <a:lnTo>
                    <a:pt x="15054" y="5383"/>
                  </a:lnTo>
                  <a:lnTo>
                    <a:pt x="15054" y="5117"/>
                  </a:lnTo>
                  <a:lnTo>
                    <a:pt x="15185" y="4918"/>
                  </a:lnTo>
                  <a:lnTo>
                    <a:pt x="15054" y="4652"/>
                  </a:lnTo>
                  <a:lnTo>
                    <a:pt x="15054" y="4386"/>
                  </a:lnTo>
                  <a:lnTo>
                    <a:pt x="14923" y="4053"/>
                  </a:lnTo>
                  <a:lnTo>
                    <a:pt x="14923" y="3788"/>
                  </a:lnTo>
                  <a:lnTo>
                    <a:pt x="14923" y="3522"/>
                  </a:lnTo>
                  <a:lnTo>
                    <a:pt x="14792" y="3190"/>
                  </a:lnTo>
                  <a:lnTo>
                    <a:pt x="14923" y="2924"/>
                  </a:lnTo>
                  <a:lnTo>
                    <a:pt x="15054" y="2658"/>
                  </a:lnTo>
                  <a:lnTo>
                    <a:pt x="14923" y="2459"/>
                  </a:lnTo>
                  <a:lnTo>
                    <a:pt x="15054" y="2193"/>
                  </a:lnTo>
                  <a:lnTo>
                    <a:pt x="15316" y="2060"/>
                  </a:lnTo>
                  <a:lnTo>
                    <a:pt x="15578" y="1860"/>
                  </a:lnTo>
                  <a:lnTo>
                    <a:pt x="15970" y="1727"/>
                  </a:lnTo>
                  <a:lnTo>
                    <a:pt x="16494" y="1594"/>
                  </a:lnTo>
                  <a:lnTo>
                    <a:pt x="17018" y="1328"/>
                  </a:lnTo>
                  <a:lnTo>
                    <a:pt x="17410" y="1129"/>
                  </a:lnTo>
                  <a:lnTo>
                    <a:pt x="18065" y="863"/>
                  </a:lnTo>
                  <a:lnTo>
                    <a:pt x="18588" y="664"/>
                  </a:lnTo>
                  <a:lnTo>
                    <a:pt x="18850" y="465"/>
                  </a:lnTo>
                  <a:lnTo>
                    <a:pt x="19374" y="265"/>
                  </a:lnTo>
                  <a:lnTo>
                    <a:pt x="19767" y="132"/>
                  </a:lnTo>
                  <a:lnTo>
                    <a:pt x="19897" y="66"/>
                  </a:lnTo>
                  <a:lnTo>
                    <a:pt x="20159" y="0"/>
                  </a:lnTo>
                  <a:lnTo>
                    <a:pt x="20028" y="66"/>
                  </a:lnTo>
                  <a:lnTo>
                    <a:pt x="19897" y="66"/>
                  </a:lnTo>
                  <a:lnTo>
                    <a:pt x="19505" y="199"/>
                  </a:lnTo>
                  <a:lnTo>
                    <a:pt x="18850" y="398"/>
                  </a:lnTo>
                  <a:lnTo>
                    <a:pt x="18196" y="731"/>
                  </a:lnTo>
                  <a:lnTo>
                    <a:pt x="17803" y="930"/>
                  </a:lnTo>
                  <a:lnTo>
                    <a:pt x="17148" y="1129"/>
                  </a:lnTo>
                  <a:lnTo>
                    <a:pt x="16756" y="1262"/>
                  </a:lnTo>
                  <a:lnTo>
                    <a:pt x="16494" y="1462"/>
                  </a:lnTo>
                  <a:lnTo>
                    <a:pt x="16101" y="1594"/>
                  </a:lnTo>
                  <a:lnTo>
                    <a:pt x="15578" y="1794"/>
                  </a:lnTo>
                  <a:lnTo>
                    <a:pt x="15316" y="1993"/>
                  </a:lnTo>
                  <a:lnTo>
                    <a:pt x="14792" y="2259"/>
                  </a:lnTo>
                  <a:lnTo>
                    <a:pt x="14661" y="2392"/>
                  </a:lnTo>
                  <a:lnTo>
                    <a:pt x="14268" y="2658"/>
                  </a:lnTo>
                  <a:lnTo>
                    <a:pt x="14007" y="2857"/>
                  </a:lnTo>
                  <a:lnTo>
                    <a:pt x="13876" y="2990"/>
                  </a:lnTo>
                  <a:lnTo>
                    <a:pt x="13483" y="3322"/>
                  </a:lnTo>
                  <a:lnTo>
                    <a:pt x="13352" y="3588"/>
                  </a:lnTo>
                  <a:lnTo>
                    <a:pt x="13352" y="3854"/>
                  </a:lnTo>
                  <a:lnTo>
                    <a:pt x="13352" y="4186"/>
                  </a:lnTo>
                  <a:lnTo>
                    <a:pt x="13221" y="4253"/>
                  </a:lnTo>
                  <a:lnTo>
                    <a:pt x="13221" y="4386"/>
                  </a:lnTo>
                  <a:lnTo>
                    <a:pt x="13221" y="4519"/>
                  </a:lnTo>
                  <a:lnTo>
                    <a:pt x="13221" y="4652"/>
                  </a:lnTo>
                  <a:lnTo>
                    <a:pt x="12959" y="4784"/>
                  </a:lnTo>
                  <a:lnTo>
                    <a:pt x="12959" y="5050"/>
                  </a:lnTo>
                  <a:lnTo>
                    <a:pt x="12828" y="5183"/>
                  </a:lnTo>
                  <a:lnTo>
                    <a:pt x="12828" y="5383"/>
                  </a:lnTo>
                  <a:lnTo>
                    <a:pt x="12698" y="5516"/>
                  </a:lnTo>
                  <a:lnTo>
                    <a:pt x="12698" y="5715"/>
                  </a:lnTo>
                  <a:lnTo>
                    <a:pt x="12698" y="5981"/>
                  </a:lnTo>
                  <a:lnTo>
                    <a:pt x="12567" y="6180"/>
                  </a:lnTo>
                  <a:lnTo>
                    <a:pt x="12567" y="6446"/>
                  </a:lnTo>
                  <a:lnTo>
                    <a:pt x="12567" y="6645"/>
                  </a:lnTo>
                  <a:lnTo>
                    <a:pt x="12436" y="6845"/>
                  </a:lnTo>
                  <a:lnTo>
                    <a:pt x="12567" y="7111"/>
                  </a:lnTo>
                  <a:lnTo>
                    <a:pt x="12567" y="7177"/>
                  </a:lnTo>
                  <a:lnTo>
                    <a:pt x="12567" y="7310"/>
                  </a:lnTo>
                  <a:lnTo>
                    <a:pt x="12567" y="7443"/>
                  </a:lnTo>
                  <a:lnTo>
                    <a:pt x="12698" y="7642"/>
                  </a:lnTo>
                  <a:lnTo>
                    <a:pt x="12698" y="7842"/>
                  </a:lnTo>
                  <a:lnTo>
                    <a:pt x="12828" y="8108"/>
                  </a:lnTo>
                  <a:lnTo>
                    <a:pt x="12828" y="8373"/>
                  </a:lnTo>
                  <a:lnTo>
                    <a:pt x="12828" y="8639"/>
                  </a:lnTo>
                  <a:lnTo>
                    <a:pt x="12959" y="8839"/>
                  </a:lnTo>
                  <a:lnTo>
                    <a:pt x="12828" y="9104"/>
                  </a:lnTo>
                  <a:lnTo>
                    <a:pt x="12959" y="9370"/>
                  </a:lnTo>
                  <a:lnTo>
                    <a:pt x="12959" y="9636"/>
                  </a:lnTo>
                  <a:lnTo>
                    <a:pt x="13090" y="9902"/>
                  </a:lnTo>
                  <a:lnTo>
                    <a:pt x="12959" y="9969"/>
                  </a:lnTo>
                  <a:lnTo>
                    <a:pt x="13090" y="10168"/>
                  </a:lnTo>
                  <a:lnTo>
                    <a:pt x="12959" y="10234"/>
                  </a:lnTo>
                  <a:lnTo>
                    <a:pt x="12959" y="10367"/>
                  </a:lnTo>
                  <a:lnTo>
                    <a:pt x="13090" y="10567"/>
                  </a:lnTo>
                  <a:lnTo>
                    <a:pt x="13221" y="10832"/>
                  </a:lnTo>
                  <a:lnTo>
                    <a:pt x="13352" y="11098"/>
                  </a:lnTo>
                  <a:lnTo>
                    <a:pt x="13483" y="11364"/>
                  </a:lnTo>
                  <a:lnTo>
                    <a:pt x="13745" y="11630"/>
                  </a:lnTo>
                  <a:lnTo>
                    <a:pt x="13876" y="11962"/>
                  </a:lnTo>
                  <a:lnTo>
                    <a:pt x="14138" y="12228"/>
                  </a:lnTo>
                  <a:lnTo>
                    <a:pt x="14399" y="12560"/>
                  </a:lnTo>
                  <a:lnTo>
                    <a:pt x="14530" y="12760"/>
                  </a:lnTo>
                  <a:lnTo>
                    <a:pt x="14792" y="13026"/>
                  </a:lnTo>
                  <a:lnTo>
                    <a:pt x="14923" y="13159"/>
                  </a:lnTo>
                  <a:lnTo>
                    <a:pt x="15054" y="13225"/>
                  </a:lnTo>
                  <a:lnTo>
                    <a:pt x="15185" y="13225"/>
                  </a:lnTo>
                  <a:lnTo>
                    <a:pt x="15316" y="13092"/>
                  </a:lnTo>
                  <a:lnTo>
                    <a:pt x="15316" y="12959"/>
                  </a:lnTo>
                  <a:lnTo>
                    <a:pt x="15316" y="12694"/>
                  </a:lnTo>
                  <a:lnTo>
                    <a:pt x="15447" y="12494"/>
                  </a:lnTo>
                  <a:lnTo>
                    <a:pt x="15316" y="12228"/>
                  </a:lnTo>
                  <a:lnTo>
                    <a:pt x="15185" y="11896"/>
                  </a:lnTo>
                  <a:lnTo>
                    <a:pt x="15054" y="11697"/>
                  </a:lnTo>
                  <a:lnTo>
                    <a:pt x="14923" y="11431"/>
                  </a:lnTo>
                  <a:lnTo>
                    <a:pt x="14792" y="11231"/>
                  </a:lnTo>
                  <a:lnTo>
                    <a:pt x="14661" y="10966"/>
                  </a:lnTo>
                  <a:lnTo>
                    <a:pt x="14792" y="10633"/>
                  </a:lnTo>
                  <a:lnTo>
                    <a:pt x="14661" y="10434"/>
                  </a:lnTo>
                  <a:lnTo>
                    <a:pt x="14661" y="10101"/>
                  </a:lnTo>
                  <a:lnTo>
                    <a:pt x="14661" y="9836"/>
                  </a:lnTo>
                  <a:lnTo>
                    <a:pt x="14792" y="9636"/>
                  </a:lnTo>
                  <a:lnTo>
                    <a:pt x="15054" y="9370"/>
                  </a:lnTo>
                  <a:lnTo>
                    <a:pt x="15316" y="9104"/>
                  </a:lnTo>
                  <a:lnTo>
                    <a:pt x="15447" y="8839"/>
                  </a:lnTo>
                  <a:lnTo>
                    <a:pt x="15708" y="8706"/>
                  </a:lnTo>
                  <a:lnTo>
                    <a:pt x="15839" y="8706"/>
                  </a:lnTo>
                  <a:lnTo>
                    <a:pt x="15970" y="8706"/>
                  </a:lnTo>
                  <a:lnTo>
                    <a:pt x="16232" y="8772"/>
                  </a:lnTo>
                  <a:lnTo>
                    <a:pt x="16363" y="8772"/>
                  </a:lnTo>
                  <a:lnTo>
                    <a:pt x="16494" y="8839"/>
                  </a:lnTo>
                  <a:lnTo>
                    <a:pt x="16756" y="8972"/>
                  </a:lnTo>
                  <a:lnTo>
                    <a:pt x="16887" y="9104"/>
                  </a:lnTo>
                  <a:lnTo>
                    <a:pt x="17148" y="9238"/>
                  </a:lnTo>
                  <a:lnTo>
                    <a:pt x="17279" y="9437"/>
                  </a:lnTo>
                  <a:lnTo>
                    <a:pt x="17279" y="9503"/>
                  </a:lnTo>
                  <a:lnTo>
                    <a:pt x="17541" y="9769"/>
                  </a:lnTo>
                  <a:lnTo>
                    <a:pt x="17803" y="9902"/>
                  </a:lnTo>
                  <a:lnTo>
                    <a:pt x="17803" y="10101"/>
                  </a:lnTo>
                  <a:lnTo>
                    <a:pt x="18065" y="10367"/>
                  </a:lnTo>
                  <a:lnTo>
                    <a:pt x="18196" y="10567"/>
                  </a:lnTo>
                  <a:lnTo>
                    <a:pt x="18327" y="10766"/>
                  </a:lnTo>
                  <a:lnTo>
                    <a:pt x="18458" y="11032"/>
                  </a:lnTo>
                  <a:lnTo>
                    <a:pt x="18588" y="11298"/>
                  </a:lnTo>
                  <a:lnTo>
                    <a:pt x="18719" y="11364"/>
                  </a:lnTo>
                  <a:lnTo>
                    <a:pt x="18719" y="11563"/>
                  </a:lnTo>
                  <a:lnTo>
                    <a:pt x="18850" y="11763"/>
                  </a:lnTo>
                  <a:lnTo>
                    <a:pt x="18981" y="11962"/>
                  </a:lnTo>
                  <a:lnTo>
                    <a:pt x="18981" y="12162"/>
                  </a:lnTo>
                  <a:lnTo>
                    <a:pt x="19112" y="12361"/>
                  </a:lnTo>
                  <a:lnTo>
                    <a:pt x="19243" y="12560"/>
                  </a:lnTo>
                  <a:lnTo>
                    <a:pt x="19374" y="12627"/>
                  </a:lnTo>
                  <a:lnTo>
                    <a:pt x="19374" y="12760"/>
                  </a:lnTo>
                  <a:lnTo>
                    <a:pt x="19374" y="12826"/>
                  </a:lnTo>
                  <a:lnTo>
                    <a:pt x="19505" y="12959"/>
                  </a:lnTo>
                  <a:lnTo>
                    <a:pt x="19505" y="12959"/>
                  </a:lnTo>
                  <a:lnTo>
                    <a:pt x="19505" y="13026"/>
                  </a:lnTo>
                  <a:lnTo>
                    <a:pt x="19636" y="13358"/>
                  </a:lnTo>
                  <a:lnTo>
                    <a:pt x="19767" y="13690"/>
                  </a:lnTo>
                  <a:lnTo>
                    <a:pt x="19897" y="13823"/>
                  </a:lnTo>
                  <a:lnTo>
                    <a:pt x="20028" y="14156"/>
                  </a:lnTo>
                  <a:lnTo>
                    <a:pt x="20028" y="14488"/>
                  </a:lnTo>
                  <a:lnTo>
                    <a:pt x="20159" y="14754"/>
                  </a:lnTo>
                  <a:lnTo>
                    <a:pt x="20159" y="15020"/>
                  </a:lnTo>
                  <a:lnTo>
                    <a:pt x="20290" y="15286"/>
                  </a:lnTo>
                  <a:lnTo>
                    <a:pt x="20421" y="15551"/>
                  </a:lnTo>
                  <a:lnTo>
                    <a:pt x="20421" y="15817"/>
                  </a:lnTo>
                  <a:lnTo>
                    <a:pt x="20552" y="16017"/>
                  </a:lnTo>
                  <a:lnTo>
                    <a:pt x="20421" y="16283"/>
                  </a:lnTo>
                  <a:lnTo>
                    <a:pt x="20421" y="16548"/>
                  </a:lnTo>
                  <a:lnTo>
                    <a:pt x="20421" y="16880"/>
                  </a:lnTo>
                  <a:lnTo>
                    <a:pt x="20421" y="17080"/>
                  </a:lnTo>
                  <a:lnTo>
                    <a:pt x="20290" y="17279"/>
                  </a:lnTo>
                  <a:lnTo>
                    <a:pt x="20290" y="17479"/>
                  </a:lnTo>
                  <a:lnTo>
                    <a:pt x="20290" y="17678"/>
                  </a:lnTo>
                  <a:lnTo>
                    <a:pt x="20159" y="17944"/>
                  </a:lnTo>
                  <a:lnTo>
                    <a:pt x="20028" y="18210"/>
                  </a:lnTo>
                  <a:lnTo>
                    <a:pt x="19897" y="18343"/>
                  </a:lnTo>
                  <a:lnTo>
                    <a:pt x="19767" y="18476"/>
                  </a:lnTo>
                  <a:lnTo>
                    <a:pt x="19636" y="18675"/>
                  </a:lnTo>
                  <a:lnTo>
                    <a:pt x="19505" y="18941"/>
                  </a:lnTo>
                  <a:lnTo>
                    <a:pt x="19374" y="19074"/>
                  </a:lnTo>
                  <a:lnTo>
                    <a:pt x="19112" y="19207"/>
                  </a:lnTo>
                  <a:lnTo>
                    <a:pt x="18981" y="19406"/>
                  </a:lnTo>
                  <a:lnTo>
                    <a:pt x="18719" y="19539"/>
                  </a:lnTo>
                  <a:lnTo>
                    <a:pt x="18588" y="19605"/>
                  </a:lnTo>
                  <a:lnTo>
                    <a:pt x="18196" y="19805"/>
                  </a:lnTo>
                  <a:lnTo>
                    <a:pt x="17803" y="20004"/>
                  </a:lnTo>
                  <a:lnTo>
                    <a:pt x="17803" y="20071"/>
                  </a:lnTo>
                  <a:lnTo>
                    <a:pt x="17410" y="20137"/>
                  </a:lnTo>
                  <a:lnTo>
                    <a:pt x="17018" y="20270"/>
                  </a:lnTo>
                  <a:lnTo>
                    <a:pt x="16625" y="20337"/>
                  </a:lnTo>
                  <a:lnTo>
                    <a:pt x="16363" y="20337"/>
                  </a:lnTo>
                  <a:lnTo>
                    <a:pt x="15970" y="20403"/>
                  </a:lnTo>
                  <a:lnTo>
                    <a:pt x="15708" y="20337"/>
                  </a:lnTo>
                  <a:lnTo>
                    <a:pt x="15316" y="20337"/>
                  </a:lnTo>
                  <a:lnTo>
                    <a:pt x="14923" y="20204"/>
                  </a:lnTo>
                  <a:lnTo>
                    <a:pt x="14399" y="20137"/>
                  </a:lnTo>
                  <a:lnTo>
                    <a:pt x="14007" y="20071"/>
                  </a:lnTo>
                  <a:lnTo>
                    <a:pt x="13745" y="20004"/>
                  </a:lnTo>
                  <a:lnTo>
                    <a:pt x="13352" y="19871"/>
                  </a:lnTo>
                  <a:lnTo>
                    <a:pt x="12959" y="19672"/>
                  </a:lnTo>
                  <a:lnTo>
                    <a:pt x="12436" y="19539"/>
                  </a:lnTo>
                  <a:lnTo>
                    <a:pt x="12174" y="19406"/>
                  </a:lnTo>
                  <a:lnTo>
                    <a:pt x="11781" y="19207"/>
                  </a:lnTo>
                  <a:lnTo>
                    <a:pt x="11388" y="19074"/>
                  </a:lnTo>
                  <a:lnTo>
                    <a:pt x="10996" y="18808"/>
                  </a:lnTo>
                  <a:lnTo>
                    <a:pt x="10603" y="18608"/>
                  </a:lnTo>
                  <a:lnTo>
                    <a:pt x="10210" y="18343"/>
                  </a:lnTo>
                  <a:lnTo>
                    <a:pt x="9686" y="18143"/>
                  </a:lnTo>
                  <a:lnTo>
                    <a:pt x="9425" y="18010"/>
                  </a:lnTo>
                  <a:lnTo>
                    <a:pt x="9032" y="17745"/>
                  </a:lnTo>
                  <a:lnTo>
                    <a:pt x="8639" y="17479"/>
                  </a:lnTo>
                  <a:lnTo>
                    <a:pt x="8246" y="17213"/>
                  </a:lnTo>
                  <a:lnTo>
                    <a:pt x="7854" y="17014"/>
                  </a:lnTo>
                  <a:lnTo>
                    <a:pt x="7723" y="16748"/>
                  </a:lnTo>
                  <a:lnTo>
                    <a:pt x="7330" y="16482"/>
                  </a:lnTo>
                  <a:lnTo>
                    <a:pt x="7069" y="16216"/>
                  </a:lnTo>
                  <a:lnTo>
                    <a:pt x="6676" y="15950"/>
                  </a:lnTo>
                  <a:lnTo>
                    <a:pt x="6414" y="15751"/>
                  </a:lnTo>
                  <a:lnTo>
                    <a:pt x="6152" y="15485"/>
                  </a:lnTo>
                  <a:lnTo>
                    <a:pt x="5890" y="15153"/>
                  </a:lnTo>
                  <a:lnTo>
                    <a:pt x="5629" y="14820"/>
                  </a:lnTo>
                  <a:lnTo>
                    <a:pt x="5367" y="14421"/>
                  </a:lnTo>
                  <a:lnTo>
                    <a:pt x="5105" y="14089"/>
                  </a:lnTo>
                  <a:lnTo>
                    <a:pt x="4843" y="13757"/>
                  </a:lnTo>
                  <a:lnTo>
                    <a:pt x="4581" y="13425"/>
                  </a:lnTo>
                  <a:lnTo>
                    <a:pt x="4189" y="13026"/>
                  </a:lnTo>
                  <a:lnTo>
                    <a:pt x="4057" y="12694"/>
                  </a:lnTo>
                  <a:lnTo>
                    <a:pt x="3927" y="12361"/>
                  </a:lnTo>
                  <a:lnTo>
                    <a:pt x="3665" y="12029"/>
                  </a:lnTo>
                  <a:lnTo>
                    <a:pt x="3534" y="11763"/>
                  </a:lnTo>
                  <a:lnTo>
                    <a:pt x="3534" y="11364"/>
                  </a:lnTo>
                  <a:lnTo>
                    <a:pt x="3403" y="11098"/>
                  </a:lnTo>
                  <a:lnTo>
                    <a:pt x="3272" y="10832"/>
                  </a:lnTo>
                  <a:lnTo>
                    <a:pt x="3272" y="10500"/>
                  </a:lnTo>
                  <a:lnTo>
                    <a:pt x="3141" y="10101"/>
                  </a:lnTo>
                  <a:lnTo>
                    <a:pt x="3141" y="9836"/>
                  </a:lnTo>
                  <a:lnTo>
                    <a:pt x="3141" y="9570"/>
                  </a:lnTo>
                  <a:lnTo>
                    <a:pt x="3141" y="9238"/>
                  </a:lnTo>
                  <a:lnTo>
                    <a:pt x="3141" y="8972"/>
                  </a:lnTo>
                  <a:lnTo>
                    <a:pt x="3141" y="8639"/>
                  </a:lnTo>
                  <a:lnTo>
                    <a:pt x="3272" y="8373"/>
                  </a:lnTo>
                  <a:lnTo>
                    <a:pt x="3403" y="8108"/>
                  </a:lnTo>
                  <a:lnTo>
                    <a:pt x="3403" y="7842"/>
                  </a:lnTo>
                  <a:lnTo>
                    <a:pt x="3534" y="7576"/>
                  </a:lnTo>
                  <a:lnTo>
                    <a:pt x="3665" y="7377"/>
                  </a:lnTo>
                  <a:lnTo>
                    <a:pt x="3796" y="7177"/>
                  </a:lnTo>
                  <a:lnTo>
                    <a:pt x="3927" y="6978"/>
                  </a:lnTo>
                  <a:lnTo>
                    <a:pt x="4189" y="6712"/>
                  </a:lnTo>
                  <a:lnTo>
                    <a:pt x="4319" y="6513"/>
                  </a:lnTo>
                  <a:lnTo>
                    <a:pt x="4581" y="6313"/>
                  </a:lnTo>
                  <a:lnTo>
                    <a:pt x="4843" y="6247"/>
                  </a:lnTo>
                  <a:lnTo>
                    <a:pt x="4974" y="6180"/>
                  </a:lnTo>
                  <a:lnTo>
                    <a:pt x="4974" y="6180"/>
                  </a:lnTo>
                  <a:lnTo>
                    <a:pt x="4843" y="6180"/>
                  </a:lnTo>
                  <a:lnTo>
                    <a:pt x="4712" y="6247"/>
                  </a:lnTo>
                  <a:lnTo>
                    <a:pt x="4319" y="6313"/>
                  </a:lnTo>
                  <a:lnTo>
                    <a:pt x="4057" y="6380"/>
                  </a:lnTo>
                  <a:lnTo>
                    <a:pt x="3796" y="6513"/>
                  </a:lnTo>
                  <a:lnTo>
                    <a:pt x="3534" y="6645"/>
                  </a:lnTo>
                  <a:lnTo>
                    <a:pt x="3141" y="6779"/>
                  </a:lnTo>
                  <a:lnTo>
                    <a:pt x="2748" y="6978"/>
                  </a:lnTo>
                  <a:lnTo>
                    <a:pt x="2356" y="7111"/>
                  </a:lnTo>
                  <a:lnTo>
                    <a:pt x="2094" y="7310"/>
                  </a:lnTo>
                  <a:lnTo>
                    <a:pt x="1701" y="7377"/>
                  </a:lnTo>
                  <a:lnTo>
                    <a:pt x="1570" y="7576"/>
                  </a:lnTo>
                  <a:lnTo>
                    <a:pt x="1308" y="7642"/>
                  </a:lnTo>
                  <a:lnTo>
                    <a:pt x="1047" y="7775"/>
                  </a:lnTo>
                  <a:lnTo>
                    <a:pt x="785" y="7842"/>
                  </a:lnTo>
                  <a:lnTo>
                    <a:pt x="654" y="8041"/>
                  </a:lnTo>
                  <a:lnTo>
                    <a:pt x="523" y="8307"/>
                  </a:lnTo>
                  <a:lnTo>
                    <a:pt x="261" y="8507"/>
                  </a:lnTo>
                  <a:lnTo>
                    <a:pt x="130" y="8706"/>
                  </a:lnTo>
                  <a:lnTo>
                    <a:pt x="0" y="9038"/>
                  </a:lnTo>
                  <a:lnTo>
                    <a:pt x="130" y="9238"/>
                  </a:lnTo>
                  <a:lnTo>
                    <a:pt x="0" y="9570"/>
                  </a:lnTo>
                  <a:lnTo>
                    <a:pt x="0" y="9902"/>
                  </a:lnTo>
                  <a:lnTo>
                    <a:pt x="0" y="10168"/>
                  </a:lnTo>
                  <a:lnTo>
                    <a:pt x="0" y="10500"/>
                  </a:lnTo>
                  <a:lnTo>
                    <a:pt x="0" y="10832"/>
                  </a:lnTo>
                  <a:lnTo>
                    <a:pt x="0" y="11231"/>
                  </a:lnTo>
                  <a:lnTo>
                    <a:pt x="130" y="11497"/>
                  </a:lnTo>
                  <a:lnTo>
                    <a:pt x="261" y="11896"/>
                  </a:lnTo>
                  <a:lnTo>
                    <a:pt x="392" y="12295"/>
                  </a:lnTo>
                  <a:lnTo>
                    <a:pt x="654" y="12627"/>
                  </a:lnTo>
                  <a:lnTo>
                    <a:pt x="785" y="13026"/>
                  </a:lnTo>
                  <a:lnTo>
                    <a:pt x="916" y="13425"/>
                  </a:lnTo>
                  <a:lnTo>
                    <a:pt x="1047" y="13757"/>
                  </a:lnTo>
                  <a:lnTo>
                    <a:pt x="1439" y="14222"/>
                  </a:lnTo>
                  <a:lnTo>
                    <a:pt x="1701" y="14555"/>
                  </a:lnTo>
                  <a:lnTo>
                    <a:pt x="1963" y="14953"/>
                  </a:lnTo>
                  <a:lnTo>
                    <a:pt x="2225" y="15352"/>
                  </a:lnTo>
                  <a:lnTo>
                    <a:pt x="2617" y="15751"/>
                  </a:lnTo>
                  <a:lnTo>
                    <a:pt x="3010" y="16083"/>
                  </a:lnTo>
                  <a:lnTo>
                    <a:pt x="3272" y="16548"/>
                  </a:lnTo>
                  <a:lnTo>
                    <a:pt x="3665" y="16814"/>
                  </a:lnTo>
                  <a:lnTo>
                    <a:pt x="4057" y="17213"/>
                  </a:lnTo>
                  <a:lnTo>
                    <a:pt x="4581" y="17545"/>
                  </a:lnTo>
                  <a:lnTo>
                    <a:pt x="4974" y="17877"/>
                  </a:lnTo>
                  <a:lnTo>
                    <a:pt x="5497" y="18143"/>
                  </a:lnTo>
                  <a:lnTo>
                    <a:pt x="6414" y="18808"/>
                  </a:lnTo>
                  <a:lnTo>
                    <a:pt x="7592" y="19406"/>
                  </a:lnTo>
                  <a:lnTo>
                    <a:pt x="8639" y="19938"/>
                  </a:lnTo>
                  <a:lnTo>
                    <a:pt x="9556" y="20337"/>
                  </a:lnTo>
                  <a:lnTo>
                    <a:pt x="10472" y="20669"/>
                  </a:lnTo>
                  <a:lnTo>
                    <a:pt x="11388" y="20935"/>
                  </a:lnTo>
                  <a:lnTo>
                    <a:pt x="12174" y="21201"/>
                  </a:lnTo>
                  <a:lnTo>
                    <a:pt x="12959" y="21400"/>
                  </a:lnTo>
                  <a:lnTo>
                    <a:pt x="13876" y="21533"/>
                  </a:lnTo>
                  <a:lnTo>
                    <a:pt x="14530" y="21533"/>
                  </a:lnTo>
                  <a:lnTo>
                    <a:pt x="15316" y="21600"/>
                  </a:lnTo>
                  <a:lnTo>
                    <a:pt x="15970" y="21600"/>
                  </a:lnTo>
                  <a:lnTo>
                    <a:pt x="16625" y="21466"/>
                  </a:lnTo>
                  <a:lnTo>
                    <a:pt x="17279" y="21400"/>
                  </a:lnTo>
                  <a:lnTo>
                    <a:pt x="17803" y="21201"/>
                  </a:lnTo>
                  <a:lnTo>
                    <a:pt x="18327" y="21001"/>
                  </a:lnTo>
                  <a:lnTo>
                    <a:pt x="18850" y="20735"/>
                  </a:lnTo>
                  <a:lnTo>
                    <a:pt x="19243" y="20536"/>
                  </a:lnTo>
                  <a:lnTo>
                    <a:pt x="19897" y="20270"/>
                  </a:lnTo>
                  <a:lnTo>
                    <a:pt x="20159" y="19871"/>
                  </a:lnTo>
                  <a:lnTo>
                    <a:pt x="20290" y="19539"/>
                  </a:lnTo>
                  <a:lnTo>
                    <a:pt x="20683" y="19207"/>
                  </a:lnTo>
                  <a:lnTo>
                    <a:pt x="20945" y="18742"/>
                  </a:lnTo>
                  <a:lnTo>
                    <a:pt x="21207" y="18343"/>
                  </a:lnTo>
                  <a:lnTo>
                    <a:pt x="21468" y="17944"/>
                  </a:lnTo>
                  <a:lnTo>
                    <a:pt x="21337" y="17479"/>
                  </a:lnTo>
                  <a:lnTo>
                    <a:pt x="21468" y="17080"/>
                  </a:lnTo>
                  <a:lnTo>
                    <a:pt x="21600" y="16681"/>
                  </a:lnTo>
                  <a:lnTo>
                    <a:pt x="21468" y="16149"/>
                  </a:lnTo>
                  <a:lnTo>
                    <a:pt x="21468" y="15751"/>
                  </a:lnTo>
                  <a:lnTo>
                    <a:pt x="21337" y="15219"/>
                  </a:lnTo>
                  <a:lnTo>
                    <a:pt x="21207" y="14820"/>
                  </a:lnTo>
                  <a:lnTo>
                    <a:pt x="21076" y="14687"/>
                  </a:lnTo>
                  <a:lnTo>
                    <a:pt x="21076" y="14488"/>
                  </a:lnTo>
                  <a:lnTo>
                    <a:pt x="20945" y="14289"/>
                  </a:lnTo>
                  <a:lnTo>
                    <a:pt x="20945" y="14089"/>
                  </a:lnTo>
                  <a:lnTo>
                    <a:pt x="20683" y="13890"/>
                  </a:lnTo>
                  <a:lnTo>
                    <a:pt x="20552" y="13690"/>
                  </a:lnTo>
                  <a:lnTo>
                    <a:pt x="20552" y="13558"/>
                  </a:lnTo>
                  <a:lnTo>
                    <a:pt x="20421" y="13358"/>
                  </a:lnTo>
                  <a:lnTo>
                    <a:pt x="20290" y="13225"/>
                  </a:lnTo>
                  <a:lnTo>
                    <a:pt x="20159" y="12959"/>
                  </a:lnTo>
                  <a:lnTo>
                    <a:pt x="19897" y="12760"/>
                  </a:lnTo>
                  <a:lnTo>
                    <a:pt x="19897" y="12560"/>
                  </a:lnTo>
                  <a:lnTo>
                    <a:pt x="19636" y="12428"/>
                  </a:lnTo>
                  <a:lnTo>
                    <a:pt x="19505" y="12162"/>
                  </a:lnTo>
                  <a:lnTo>
                    <a:pt x="19374" y="12029"/>
                  </a:lnTo>
                  <a:lnTo>
                    <a:pt x="19112" y="11829"/>
                  </a:lnTo>
                  <a:lnTo>
                    <a:pt x="19112" y="11630"/>
                  </a:lnTo>
                  <a:lnTo>
                    <a:pt x="18850" y="11431"/>
                  </a:lnTo>
                  <a:lnTo>
                    <a:pt x="18588" y="11364"/>
                  </a:lnTo>
                  <a:lnTo>
                    <a:pt x="18588" y="11165"/>
                  </a:lnTo>
                  <a:lnTo>
                    <a:pt x="18327" y="10899"/>
                  </a:lnTo>
                  <a:lnTo>
                    <a:pt x="18065" y="10700"/>
                  </a:lnTo>
                  <a:lnTo>
                    <a:pt x="17934" y="10500"/>
                  </a:lnTo>
                  <a:lnTo>
                    <a:pt x="17672" y="10367"/>
                  </a:lnTo>
                  <a:lnTo>
                    <a:pt x="17541" y="10168"/>
                  </a:lnTo>
                  <a:lnTo>
                    <a:pt x="17279" y="9902"/>
                  </a:lnTo>
                  <a:lnTo>
                    <a:pt x="17018" y="9769"/>
                  </a:lnTo>
                  <a:lnTo>
                    <a:pt x="16625" y="9503"/>
                  </a:lnTo>
                  <a:lnTo>
                    <a:pt x="16494" y="9370"/>
                  </a:lnTo>
                  <a:lnTo>
                    <a:pt x="16101" y="9238"/>
                  </a:lnTo>
                  <a:lnTo>
                    <a:pt x="15970" y="8972"/>
                  </a:lnTo>
                  <a:lnTo>
                    <a:pt x="15708" y="8772"/>
                  </a:lnTo>
                  <a:lnTo>
                    <a:pt x="15578" y="8706"/>
                  </a:lnTo>
                  <a:lnTo>
                    <a:pt x="15316" y="8507"/>
                  </a:lnTo>
                  <a:lnTo>
                    <a:pt x="15316" y="8373"/>
                  </a:lnTo>
                  <a:lnTo>
                    <a:pt x="15185" y="8174"/>
                  </a:lnTo>
                  <a:lnTo>
                    <a:pt x="15054" y="7975"/>
                  </a:lnTo>
                  <a:lnTo>
                    <a:pt x="14923" y="7709"/>
                  </a:lnTo>
                  <a:lnTo>
                    <a:pt x="14923" y="7510"/>
                  </a:lnTo>
                  <a:lnTo>
                    <a:pt x="14792" y="7310"/>
                  </a:lnTo>
                  <a:lnTo>
                    <a:pt x="14661" y="7044"/>
                  </a:lnTo>
                  <a:lnTo>
                    <a:pt x="14661" y="6845"/>
                  </a:lnTo>
                  <a:lnTo>
                    <a:pt x="14661" y="6579"/>
                  </a:lnTo>
                  <a:lnTo>
                    <a:pt x="14661" y="6380"/>
                  </a:lnTo>
                  <a:lnTo>
                    <a:pt x="14792" y="6247"/>
                  </a:lnTo>
                  <a:lnTo>
                    <a:pt x="14661" y="6047"/>
                  </a:lnTo>
                  <a:lnTo>
                    <a:pt x="14792" y="5914"/>
                  </a:lnTo>
                  <a:lnTo>
                    <a:pt x="14792" y="5781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未知"/>
          <p:cNvSpPr/>
          <p:nvPr/>
        </p:nvSpPr>
        <p:spPr>
          <a:xfrm>
            <a:off x="2282760" y="2293920"/>
            <a:ext cx="6897600" cy="459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511"/>
                </a:moveTo>
                <a:lnTo>
                  <a:pt x="18119" y="0"/>
                </a:lnTo>
                <a:lnTo>
                  <a:pt x="21552" y="70"/>
                </a:lnTo>
                <a:lnTo>
                  <a:pt x="21600" y="21600"/>
                </a:lnTo>
                <a:lnTo>
                  <a:pt x="0" y="21511"/>
                </a:lnTo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9D44-5163-4CC6-B05E-FB52586178B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77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5262480" y="4076640"/>
            <a:ext cx="1396440" cy="1748880"/>
            <a:chOff x="5262480" y="4076640"/>
            <a:chExt cx="1396440" cy="1748880"/>
          </a:xfrm>
        </p:grpSpPr>
        <p:sp>
          <p:nvSpPr>
            <p:cNvPr id="209" name="未知"/>
            <p:cNvSpPr/>
            <p:nvPr/>
          </p:nvSpPr>
          <p:spPr>
            <a:xfrm>
              <a:off x="6203520" y="4752720"/>
              <a:ext cx="455400" cy="809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199" y="6295"/>
                  </a:moveTo>
                  <a:lnTo>
                    <a:pt x="7199" y="6186"/>
                  </a:lnTo>
                  <a:lnTo>
                    <a:pt x="7010" y="5861"/>
                  </a:lnTo>
                  <a:lnTo>
                    <a:pt x="7199" y="5535"/>
                  </a:lnTo>
                  <a:lnTo>
                    <a:pt x="7389" y="5209"/>
                  </a:lnTo>
                  <a:lnTo>
                    <a:pt x="7389" y="4775"/>
                  </a:lnTo>
                  <a:lnTo>
                    <a:pt x="7768" y="4450"/>
                  </a:lnTo>
                  <a:lnTo>
                    <a:pt x="7957" y="4341"/>
                  </a:lnTo>
                  <a:lnTo>
                    <a:pt x="8336" y="4016"/>
                  </a:lnTo>
                  <a:lnTo>
                    <a:pt x="8715" y="3581"/>
                  </a:lnTo>
                  <a:lnTo>
                    <a:pt x="8905" y="3256"/>
                  </a:lnTo>
                  <a:lnTo>
                    <a:pt x="9283" y="3039"/>
                  </a:lnTo>
                  <a:lnTo>
                    <a:pt x="9473" y="2821"/>
                  </a:lnTo>
                  <a:lnTo>
                    <a:pt x="9852" y="2713"/>
                  </a:lnTo>
                  <a:lnTo>
                    <a:pt x="10041" y="2604"/>
                  </a:lnTo>
                  <a:lnTo>
                    <a:pt x="10231" y="2387"/>
                  </a:lnTo>
                  <a:lnTo>
                    <a:pt x="10420" y="2279"/>
                  </a:lnTo>
                  <a:lnTo>
                    <a:pt x="10420" y="2170"/>
                  </a:lnTo>
                  <a:lnTo>
                    <a:pt x="10610" y="2062"/>
                  </a:lnTo>
                  <a:lnTo>
                    <a:pt x="10800" y="1953"/>
                  </a:lnTo>
                  <a:lnTo>
                    <a:pt x="10989" y="1953"/>
                  </a:lnTo>
                  <a:lnTo>
                    <a:pt x="11368" y="1845"/>
                  </a:lnTo>
                  <a:lnTo>
                    <a:pt x="11557" y="1736"/>
                  </a:lnTo>
                  <a:lnTo>
                    <a:pt x="11747" y="1627"/>
                  </a:lnTo>
                  <a:lnTo>
                    <a:pt x="11936" y="1627"/>
                  </a:lnTo>
                  <a:lnTo>
                    <a:pt x="12126" y="1410"/>
                  </a:lnTo>
                  <a:lnTo>
                    <a:pt x="12315" y="1410"/>
                  </a:lnTo>
                  <a:lnTo>
                    <a:pt x="12694" y="1302"/>
                  </a:lnTo>
                  <a:lnTo>
                    <a:pt x="12883" y="1302"/>
                  </a:lnTo>
                  <a:lnTo>
                    <a:pt x="12883" y="1302"/>
                  </a:lnTo>
                  <a:lnTo>
                    <a:pt x="12883" y="1302"/>
                  </a:lnTo>
                  <a:lnTo>
                    <a:pt x="12883" y="1302"/>
                  </a:lnTo>
                  <a:lnTo>
                    <a:pt x="12883" y="1302"/>
                  </a:lnTo>
                  <a:lnTo>
                    <a:pt x="12315" y="1302"/>
                  </a:lnTo>
                  <a:lnTo>
                    <a:pt x="11747" y="1410"/>
                  </a:lnTo>
                  <a:lnTo>
                    <a:pt x="11178" y="1519"/>
                  </a:lnTo>
                  <a:lnTo>
                    <a:pt x="10800" y="1627"/>
                  </a:lnTo>
                  <a:lnTo>
                    <a:pt x="10610" y="1736"/>
                  </a:lnTo>
                  <a:lnTo>
                    <a:pt x="10041" y="1953"/>
                  </a:lnTo>
                  <a:lnTo>
                    <a:pt x="9662" y="2062"/>
                  </a:lnTo>
                  <a:lnTo>
                    <a:pt x="9283" y="2279"/>
                  </a:lnTo>
                  <a:lnTo>
                    <a:pt x="8905" y="2387"/>
                  </a:lnTo>
                  <a:lnTo>
                    <a:pt x="8526" y="2604"/>
                  </a:lnTo>
                  <a:lnTo>
                    <a:pt x="8147" y="2604"/>
                  </a:lnTo>
                  <a:lnTo>
                    <a:pt x="7578" y="2821"/>
                  </a:lnTo>
                  <a:lnTo>
                    <a:pt x="7199" y="2930"/>
                  </a:lnTo>
                  <a:lnTo>
                    <a:pt x="6631" y="3256"/>
                  </a:lnTo>
                  <a:lnTo>
                    <a:pt x="6252" y="3364"/>
                  </a:lnTo>
                  <a:lnTo>
                    <a:pt x="5494" y="3690"/>
                  </a:lnTo>
                  <a:lnTo>
                    <a:pt x="5305" y="3690"/>
                  </a:lnTo>
                  <a:lnTo>
                    <a:pt x="5115" y="3581"/>
                  </a:lnTo>
                  <a:lnTo>
                    <a:pt x="4926" y="3581"/>
                  </a:lnTo>
                  <a:lnTo>
                    <a:pt x="4547" y="3581"/>
                  </a:lnTo>
                  <a:lnTo>
                    <a:pt x="4547" y="3473"/>
                  </a:lnTo>
                  <a:lnTo>
                    <a:pt x="4168" y="3256"/>
                  </a:lnTo>
                  <a:lnTo>
                    <a:pt x="3789" y="3039"/>
                  </a:lnTo>
                  <a:lnTo>
                    <a:pt x="3789" y="2930"/>
                  </a:lnTo>
                  <a:lnTo>
                    <a:pt x="3410" y="2604"/>
                  </a:lnTo>
                  <a:lnTo>
                    <a:pt x="3220" y="2387"/>
                  </a:lnTo>
                  <a:lnTo>
                    <a:pt x="2842" y="2170"/>
                  </a:lnTo>
                  <a:lnTo>
                    <a:pt x="2463" y="1953"/>
                  </a:lnTo>
                  <a:lnTo>
                    <a:pt x="2273" y="1845"/>
                  </a:lnTo>
                  <a:lnTo>
                    <a:pt x="1894" y="1519"/>
                  </a:lnTo>
                  <a:lnTo>
                    <a:pt x="1515" y="1302"/>
                  </a:lnTo>
                  <a:lnTo>
                    <a:pt x="1515" y="1085"/>
                  </a:lnTo>
                  <a:lnTo>
                    <a:pt x="1326" y="868"/>
                  </a:lnTo>
                  <a:lnTo>
                    <a:pt x="1136" y="650"/>
                  </a:lnTo>
                  <a:lnTo>
                    <a:pt x="947" y="434"/>
                  </a:lnTo>
                  <a:lnTo>
                    <a:pt x="568" y="325"/>
                  </a:lnTo>
                  <a:lnTo>
                    <a:pt x="378" y="216"/>
                  </a:lnTo>
                  <a:lnTo>
                    <a:pt x="378" y="0"/>
                  </a:lnTo>
                  <a:lnTo>
                    <a:pt x="189" y="0"/>
                  </a:lnTo>
                  <a:lnTo>
                    <a:pt x="189" y="0"/>
                  </a:lnTo>
                  <a:lnTo>
                    <a:pt x="189" y="0"/>
                  </a:lnTo>
                  <a:lnTo>
                    <a:pt x="189" y="108"/>
                  </a:lnTo>
                  <a:lnTo>
                    <a:pt x="0" y="216"/>
                  </a:lnTo>
                  <a:lnTo>
                    <a:pt x="189" y="325"/>
                  </a:lnTo>
                  <a:lnTo>
                    <a:pt x="189" y="542"/>
                  </a:lnTo>
                  <a:lnTo>
                    <a:pt x="378" y="976"/>
                  </a:lnTo>
                  <a:lnTo>
                    <a:pt x="378" y="1302"/>
                  </a:lnTo>
                  <a:lnTo>
                    <a:pt x="757" y="1627"/>
                  </a:lnTo>
                  <a:lnTo>
                    <a:pt x="947" y="1845"/>
                  </a:lnTo>
                  <a:lnTo>
                    <a:pt x="1136" y="2062"/>
                  </a:lnTo>
                  <a:lnTo>
                    <a:pt x="1326" y="2279"/>
                  </a:lnTo>
                  <a:lnTo>
                    <a:pt x="1326" y="2496"/>
                  </a:lnTo>
                  <a:lnTo>
                    <a:pt x="1704" y="2713"/>
                  </a:lnTo>
                  <a:lnTo>
                    <a:pt x="1894" y="3039"/>
                  </a:lnTo>
                  <a:lnTo>
                    <a:pt x="2273" y="3256"/>
                  </a:lnTo>
                  <a:lnTo>
                    <a:pt x="2463" y="3473"/>
                  </a:lnTo>
                  <a:lnTo>
                    <a:pt x="2842" y="3798"/>
                  </a:lnTo>
                  <a:lnTo>
                    <a:pt x="3220" y="3907"/>
                  </a:lnTo>
                  <a:lnTo>
                    <a:pt x="3410" y="4232"/>
                  </a:lnTo>
                  <a:lnTo>
                    <a:pt x="3599" y="4341"/>
                  </a:lnTo>
                  <a:lnTo>
                    <a:pt x="3599" y="4558"/>
                  </a:lnTo>
                  <a:lnTo>
                    <a:pt x="3789" y="4775"/>
                  </a:lnTo>
                  <a:lnTo>
                    <a:pt x="3978" y="4992"/>
                  </a:lnTo>
                  <a:lnTo>
                    <a:pt x="3978" y="5209"/>
                  </a:lnTo>
                  <a:lnTo>
                    <a:pt x="3978" y="5535"/>
                  </a:lnTo>
                  <a:lnTo>
                    <a:pt x="3978" y="5861"/>
                  </a:lnTo>
                  <a:lnTo>
                    <a:pt x="3789" y="6295"/>
                  </a:lnTo>
                  <a:lnTo>
                    <a:pt x="3599" y="6729"/>
                  </a:lnTo>
                  <a:lnTo>
                    <a:pt x="3599" y="7163"/>
                  </a:lnTo>
                  <a:lnTo>
                    <a:pt x="3599" y="7597"/>
                  </a:lnTo>
                  <a:lnTo>
                    <a:pt x="3410" y="7923"/>
                  </a:lnTo>
                  <a:lnTo>
                    <a:pt x="3410" y="8466"/>
                  </a:lnTo>
                  <a:lnTo>
                    <a:pt x="3220" y="8900"/>
                  </a:lnTo>
                  <a:lnTo>
                    <a:pt x="3031" y="9443"/>
                  </a:lnTo>
                  <a:lnTo>
                    <a:pt x="3031" y="9768"/>
                  </a:lnTo>
                  <a:lnTo>
                    <a:pt x="2842" y="10311"/>
                  </a:lnTo>
                  <a:lnTo>
                    <a:pt x="2842" y="10854"/>
                  </a:lnTo>
                  <a:lnTo>
                    <a:pt x="2652" y="11288"/>
                  </a:lnTo>
                  <a:lnTo>
                    <a:pt x="2652" y="11722"/>
                  </a:lnTo>
                  <a:lnTo>
                    <a:pt x="2652" y="12156"/>
                  </a:lnTo>
                  <a:lnTo>
                    <a:pt x="2652" y="12807"/>
                  </a:lnTo>
                  <a:lnTo>
                    <a:pt x="2842" y="13241"/>
                  </a:lnTo>
                  <a:lnTo>
                    <a:pt x="2652" y="13784"/>
                  </a:lnTo>
                  <a:lnTo>
                    <a:pt x="2842" y="14218"/>
                  </a:lnTo>
                  <a:lnTo>
                    <a:pt x="2842" y="14761"/>
                  </a:lnTo>
                  <a:lnTo>
                    <a:pt x="2842" y="15087"/>
                  </a:lnTo>
                  <a:lnTo>
                    <a:pt x="3031" y="15630"/>
                  </a:lnTo>
                  <a:lnTo>
                    <a:pt x="3220" y="16172"/>
                  </a:lnTo>
                  <a:lnTo>
                    <a:pt x="3410" y="16715"/>
                  </a:lnTo>
                  <a:lnTo>
                    <a:pt x="3599" y="17149"/>
                  </a:lnTo>
                  <a:lnTo>
                    <a:pt x="3978" y="17583"/>
                  </a:lnTo>
                  <a:lnTo>
                    <a:pt x="4357" y="18018"/>
                  </a:lnTo>
                  <a:lnTo>
                    <a:pt x="4736" y="18452"/>
                  </a:lnTo>
                  <a:lnTo>
                    <a:pt x="5305" y="18994"/>
                  </a:lnTo>
                  <a:lnTo>
                    <a:pt x="5684" y="19320"/>
                  </a:lnTo>
                  <a:lnTo>
                    <a:pt x="6441" y="19646"/>
                  </a:lnTo>
                  <a:lnTo>
                    <a:pt x="7010" y="20080"/>
                  </a:lnTo>
                  <a:lnTo>
                    <a:pt x="7389" y="20297"/>
                  </a:lnTo>
                  <a:lnTo>
                    <a:pt x="8147" y="20623"/>
                  </a:lnTo>
                  <a:lnTo>
                    <a:pt x="8526" y="20948"/>
                  </a:lnTo>
                  <a:lnTo>
                    <a:pt x="9283" y="21057"/>
                  </a:lnTo>
                  <a:lnTo>
                    <a:pt x="9662" y="21274"/>
                  </a:lnTo>
                  <a:lnTo>
                    <a:pt x="10231" y="21491"/>
                  </a:lnTo>
                  <a:lnTo>
                    <a:pt x="10800" y="21491"/>
                  </a:lnTo>
                  <a:lnTo>
                    <a:pt x="11368" y="21491"/>
                  </a:lnTo>
                  <a:lnTo>
                    <a:pt x="12126" y="21600"/>
                  </a:lnTo>
                  <a:lnTo>
                    <a:pt x="12504" y="21491"/>
                  </a:lnTo>
                  <a:lnTo>
                    <a:pt x="12883" y="21491"/>
                  </a:lnTo>
                  <a:lnTo>
                    <a:pt x="13452" y="21382"/>
                  </a:lnTo>
                  <a:lnTo>
                    <a:pt x="14020" y="21274"/>
                  </a:lnTo>
                  <a:lnTo>
                    <a:pt x="14589" y="21057"/>
                  </a:lnTo>
                  <a:lnTo>
                    <a:pt x="15157" y="20948"/>
                  </a:lnTo>
                  <a:lnTo>
                    <a:pt x="15726" y="20839"/>
                  </a:lnTo>
                  <a:lnTo>
                    <a:pt x="16105" y="20623"/>
                  </a:lnTo>
                  <a:lnTo>
                    <a:pt x="16294" y="20405"/>
                  </a:lnTo>
                  <a:lnTo>
                    <a:pt x="16863" y="20188"/>
                  </a:lnTo>
                  <a:lnTo>
                    <a:pt x="17431" y="19754"/>
                  </a:lnTo>
                  <a:lnTo>
                    <a:pt x="17620" y="19537"/>
                  </a:lnTo>
                  <a:lnTo>
                    <a:pt x="18189" y="19211"/>
                  </a:lnTo>
                  <a:lnTo>
                    <a:pt x="18378" y="18886"/>
                  </a:lnTo>
                  <a:lnTo>
                    <a:pt x="18947" y="18560"/>
                  </a:lnTo>
                  <a:lnTo>
                    <a:pt x="19326" y="18126"/>
                  </a:lnTo>
                  <a:lnTo>
                    <a:pt x="19515" y="17692"/>
                  </a:lnTo>
                  <a:lnTo>
                    <a:pt x="19894" y="17257"/>
                  </a:lnTo>
                  <a:lnTo>
                    <a:pt x="20083" y="17041"/>
                  </a:lnTo>
                  <a:lnTo>
                    <a:pt x="20273" y="16606"/>
                  </a:lnTo>
                  <a:lnTo>
                    <a:pt x="20462" y="16064"/>
                  </a:lnTo>
                  <a:lnTo>
                    <a:pt x="20841" y="15630"/>
                  </a:lnTo>
                  <a:lnTo>
                    <a:pt x="20841" y="15412"/>
                  </a:lnTo>
                  <a:lnTo>
                    <a:pt x="20841" y="15195"/>
                  </a:lnTo>
                  <a:lnTo>
                    <a:pt x="20841" y="14978"/>
                  </a:lnTo>
                  <a:lnTo>
                    <a:pt x="21031" y="14653"/>
                  </a:lnTo>
                  <a:lnTo>
                    <a:pt x="21031" y="14436"/>
                  </a:lnTo>
                  <a:lnTo>
                    <a:pt x="21220" y="14218"/>
                  </a:lnTo>
                  <a:lnTo>
                    <a:pt x="21220" y="13893"/>
                  </a:lnTo>
                  <a:lnTo>
                    <a:pt x="21410" y="13676"/>
                  </a:lnTo>
                  <a:lnTo>
                    <a:pt x="21220" y="13459"/>
                  </a:lnTo>
                  <a:lnTo>
                    <a:pt x="21410" y="13241"/>
                  </a:lnTo>
                  <a:lnTo>
                    <a:pt x="21410" y="12916"/>
                  </a:lnTo>
                  <a:lnTo>
                    <a:pt x="21410" y="12590"/>
                  </a:lnTo>
                  <a:lnTo>
                    <a:pt x="21410" y="12373"/>
                  </a:lnTo>
                  <a:lnTo>
                    <a:pt x="21600" y="12048"/>
                  </a:lnTo>
                  <a:lnTo>
                    <a:pt x="21600" y="11722"/>
                  </a:lnTo>
                  <a:lnTo>
                    <a:pt x="21600" y="11613"/>
                  </a:lnTo>
                  <a:lnTo>
                    <a:pt x="21410" y="11288"/>
                  </a:lnTo>
                  <a:lnTo>
                    <a:pt x="21600" y="11071"/>
                  </a:lnTo>
                  <a:lnTo>
                    <a:pt x="21410" y="10854"/>
                  </a:lnTo>
                  <a:lnTo>
                    <a:pt x="21410" y="10528"/>
                  </a:lnTo>
                  <a:lnTo>
                    <a:pt x="21600" y="10202"/>
                  </a:lnTo>
                  <a:lnTo>
                    <a:pt x="21410" y="9985"/>
                  </a:lnTo>
                  <a:lnTo>
                    <a:pt x="21410" y="9768"/>
                  </a:lnTo>
                  <a:lnTo>
                    <a:pt x="21220" y="9334"/>
                  </a:lnTo>
                  <a:lnTo>
                    <a:pt x="21220" y="9009"/>
                  </a:lnTo>
                  <a:lnTo>
                    <a:pt x="21031" y="8791"/>
                  </a:lnTo>
                  <a:lnTo>
                    <a:pt x="21031" y="8466"/>
                  </a:lnTo>
                  <a:lnTo>
                    <a:pt x="21031" y="8140"/>
                  </a:lnTo>
                  <a:lnTo>
                    <a:pt x="20841" y="7923"/>
                  </a:lnTo>
                  <a:lnTo>
                    <a:pt x="20841" y="7706"/>
                  </a:lnTo>
                  <a:lnTo>
                    <a:pt x="20652" y="7272"/>
                  </a:lnTo>
                  <a:lnTo>
                    <a:pt x="20652" y="6946"/>
                  </a:lnTo>
                  <a:lnTo>
                    <a:pt x="20652" y="6946"/>
                  </a:lnTo>
                  <a:lnTo>
                    <a:pt x="20652" y="6946"/>
                  </a:lnTo>
                  <a:lnTo>
                    <a:pt x="20652" y="7055"/>
                  </a:lnTo>
                  <a:lnTo>
                    <a:pt x="20462" y="7163"/>
                  </a:lnTo>
                  <a:lnTo>
                    <a:pt x="20652" y="7380"/>
                  </a:lnTo>
                  <a:lnTo>
                    <a:pt x="20652" y="7597"/>
                  </a:lnTo>
                  <a:lnTo>
                    <a:pt x="20652" y="7814"/>
                  </a:lnTo>
                  <a:lnTo>
                    <a:pt x="20841" y="8140"/>
                  </a:lnTo>
                  <a:lnTo>
                    <a:pt x="20652" y="8466"/>
                  </a:lnTo>
                  <a:lnTo>
                    <a:pt x="20841" y="8683"/>
                  </a:lnTo>
                  <a:lnTo>
                    <a:pt x="20841" y="9009"/>
                  </a:lnTo>
                  <a:lnTo>
                    <a:pt x="20841" y="9334"/>
                  </a:lnTo>
                  <a:lnTo>
                    <a:pt x="21031" y="9660"/>
                  </a:lnTo>
                  <a:lnTo>
                    <a:pt x="21031" y="9877"/>
                  </a:lnTo>
                  <a:lnTo>
                    <a:pt x="21220" y="10094"/>
                  </a:lnTo>
                  <a:lnTo>
                    <a:pt x="21031" y="10311"/>
                  </a:lnTo>
                  <a:lnTo>
                    <a:pt x="21220" y="10962"/>
                  </a:lnTo>
                  <a:lnTo>
                    <a:pt x="21220" y="11396"/>
                  </a:lnTo>
                  <a:lnTo>
                    <a:pt x="21031" y="11939"/>
                  </a:lnTo>
                  <a:lnTo>
                    <a:pt x="21031" y="12482"/>
                  </a:lnTo>
                  <a:lnTo>
                    <a:pt x="20841" y="13133"/>
                  </a:lnTo>
                  <a:lnTo>
                    <a:pt x="20841" y="13676"/>
                  </a:lnTo>
                  <a:lnTo>
                    <a:pt x="20462" y="14218"/>
                  </a:lnTo>
                  <a:lnTo>
                    <a:pt x="20273" y="14761"/>
                  </a:lnTo>
                  <a:lnTo>
                    <a:pt x="19894" y="15304"/>
                  </a:lnTo>
                  <a:lnTo>
                    <a:pt x="19515" y="15955"/>
                  </a:lnTo>
                  <a:lnTo>
                    <a:pt x="19136" y="16498"/>
                  </a:lnTo>
                  <a:lnTo>
                    <a:pt x="18757" y="16932"/>
                  </a:lnTo>
                  <a:lnTo>
                    <a:pt x="18189" y="17366"/>
                  </a:lnTo>
                  <a:lnTo>
                    <a:pt x="17810" y="17800"/>
                  </a:lnTo>
                  <a:lnTo>
                    <a:pt x="17241" y="18343"/>
                  </a:lnTo>
                  <a:lnTo>
                    <a:pt x="16863" y="18669"/>
                  </a:lnTo>
                  <a:lnTo>
                    <a:pt x="16484" y="18994"/>
                  </a:lnTo>
                  <a:lnTo>
                    <a:pt x="15915" y="19320"/>
                  </a:lnTo>
                  <a:lnTo>
                    <a:pt x="15347" y="19646"/>
                  </a:lnTo>
                  <a:lnTo>
                    <a:pt x="14589" y="19754"/>
                  </a:lnTo>
                  <a:lnTo>
                    <a:pt x="14210" y="20080"/>
                  </a:lnTo>
                  <a:lnTo>
                    <a:pt x="13452" y="20188"/>
                  </a:lnTo>
                  <a:lnTo>
                    <a:pt x="12883" y="20188"/>
                  </a:lnTo>
                  <a:lnTo>
                    <a:pt x="12315" y="20188"/>
                  </a:lnTo>
                  <a:lnTo>
                    <a:pt x="11747" y="20080"/>
                  </a:lnTo>
                  <a:lnTo>
                    <a:pt x="10989" y="19971"/>
                  </a:lnTo>
                  <a:lnTo>
                    <a:pt x="10420" y="19863"/>
                  </a:lnTo>
                  <a:lnTo>
                    <a:pt x="9852" y="19537"/>
                  </a:lnTo>
                  <a:lnTo>
                    <a:pt x="9283" y="19211"/>
                  </a:lnTo>
                  <a:lnTo>
                    <a:pt x="8905" y="18669"/>
                  </a:lnTo>
                  <a:lnTo>
                    <a:pt x="8336" y="18234"/>
                  </a:lnTo>
                  <a:lnTo>
                    <a:pt x="7768" y="17692"/>
                  </a:lnTo>
                  <a:lnTo>
                    <a:pt x="7578" y="17583"/>
                  </a:lnTo>
                  <a:lnTo>
                    <a:pt x="7389" y="17475"/>
                  </a:lnTo>
                  <a:lnTo>
                    <a:pt x="7199" y="17149"/>
                  </a:lnTo>
                  <a:lnTo>
                    <a:pt x="7199" y="16932"/>
                  </a:lnTo>
                  <a:lnTo>
                    <a:pt x="6820" y="16715"/>
                  </a:lnTo>
                  <a:lnTo>
                    <a:pt x="7010" y="16606"/>
                  </a:lnTo>
                  <a:lnTo>
                    <a:pt x="6631" y="16389"/>
                  </a:lnTo>
                  <a:lnTo>
                    <a:pt x="6441" y="16064"/>
                  </a:lnTo>
                  <a:lnTo>
                    <a:pt x="6441" y="15847"/>
                  </a:lnTo>
                  <a:lnTo>
                    <a:pt x="6252" y="15630"/>
                  </a:lnTo>
                  <a:lnTo>
                    <a:pt x="6252" y="15412"/>
                  </a:lnTo>
                  <a:lnTo>
                    <a:pt x="6063" y="15195"/>
                  </a:lnTo>
                  <a:lnTo>
                    <a:pt x="6252" y="14978"/>
                  </a:lnTo>
                  <a:lnTo>
                    <a:pt x="6063" y="14761"/>
                  </a:lnTo>
                  <a:lnTo>
                    <a:pt x="5873" y="14436"/>
                  </a:lnTo>
                  <a:lnTo>
                    <a:pt x="6063" y="14218"/>
                  </a:lnTo>
                  <a:lnTo>
                    <a:pt x="6063" y="13893"/>
                  </a:lnTo>
                  <a:lnTo>
                    <a:pt x="5873" y="13676"/>
                  </a:lnTo>
                  <a:lnTo>
                    <a:pt x="5873" y="13567"/>
                  </a:lnTo>
                  <a:lnTo>
                    <a:pt x="5873" y="13350"/>
                  </a:lnTo>
                  <a:lnTo>
                    <a:pt x="5684" y="13025"/>
                  </a:lnTo>
                  <a:lnTo>
                    <a:pt x="5873" y="12807"/>
                  </a:lnTo>
                  <a:lnTo>
                    <a:pt x="5684" y="12590"/>
                  </a:lnTo>
                  <a:lnTo>
                    <a:pt x="5873" y="12373"/>
                  </a:lnTo>
                  <a:lnTo>
                    <a:pt x="5684" y="12156"/>
                  </a:lnTo>
                  <a:lnTo>
                    <a:pt x="5684" y="11939"/>
                  </a:lnTo>
                  <a:lnTo>
                    <a:pt x="5684" y="11722"/>
                  </a:lnTo>
                  <a:lnTo>
                    <a:pt x="5684" y="11722"/>
                  </a:lnTo>
                  <a:lnTo>
                    <a:pt x="5684" y="11505"/>
                  </a:lnTo>
                  <a:lnTo>
                    <a:pt x="5684" y="11179"/>
                  </a:lnTo>
                  <a:lnTo>
                    <a:pt x="5684" y="11071"/>
                  </a:lnTo>
                  <a:lnTo>
                    <a:pt x="5684" y="10962"/>
                  </a:lnTo>
                  <a:lnTo>
                    <a:pt x="5684" y="10962"/>
                  </a:lnTo>
                  <a:lnTo>
                    <a:pt x="5684" y="10637"/>
                  </a:lnTo>
                  <a:lnTo>
                    <a:pt x="5684" y="10419"/>
                  </a:lnTo>
                  <a:lnTo>
                    <a:pt x="5873" y="10202"/>
                  </a:lnTo>
                  <a:lnTo>
                    <a:pt x="5684" y="9877"/>
                  </a:lnTo>
                  <a:lnTo>
                    <a:pt x="5873" y="9660"/>
                  </a:lnTo>
                  <a:lnTo>
                    <a:pt x="5684" y="9443"/>
                  </a:lnTo>
                  <a:lnTo>
                    <a:pt x="5873" y="9117"/>
                  </a:lnTo>
                  <a:lnTo>
                    <a:pt x="6063" y="8791"/>
                  </a:lnTo>
                  <a:lnTo>
                    <a:pt x="5873" y="8574"/>
                  </a:lnTo>
                  <a:lnTo>
                    <a:pt x="6063" y="8248"/>
                  </a:lnTo>
                  <a:lnTo>
                    <a:pt x="6063" y="8032"/>
                  </a:lnTo>
                  <a:lnTo>
                    <a:pt x="6063" y="7923"/>
                  </a:lnTo>
                  <a:lnTo>
                    <a:pt x="6063" y="7814"/>
                  </a:lnTo>
                  <a:lnTo>
                    <a:pt x="6441" y="7706"/>
                  </a:lnTo>
                  <a:lnTo>
                    <a:pt x="6441" y="7706"/>
                  </a:lnTo>
                  <a:lnTo>
                    <a:pt x="6441" y="7706"/>
                  </a:lnTo>
                  <a:lnTo>
                    <a:pt x="6441" y="7597"/>
                  </a:lnTo>
                  <a:lnTo>
                    <a:pt x="6441" y="7597"/>
                  </a:lnTo>
                  <a:lnTo>
                    <a:pt x="6441" y="7489"/>
                  </a:lnTo>
                  <a:lnTo>
                    <a:pt x="6441" y="7489"/>
                  </a:lnTo>
                  <a:lnTo>
                    <a:pt x="6441" y="7489"/>
                  </a:lnTo>
                  <a:lnTo>
                    <a:pt x="6441" y="7380"/>
                  </a:lnTo>
                  <a:lnTo>
                    <a:pt x="6441" y="7380"/>
                  </a:lnTo>
                  <a:lnTo>
                    <a:pt x="6631" y="7597"/>
                  </a:lnTo>
                  <a:lnTo>
                    <a:pt x="7010" y="7706"/>
                  </a:lnTo>
                  <a:lnTo>
                    <a:pt x="7010" y="7923"/>
                  </a:lnTo>
                  <a:lnTo>
                    <a:pt x="7389" y="8248"/>
                  </a:lnTo>
                  <a:lnTo>
                    <a:pt x="7578" y="8357"/>
                  </a:lnTo>
                  <a:lnTo>
                    <a:pt x="7768" y="8683"/>
                  </a:lnTo>
                  <a:lnTo>
                    <a:pt x="7957" y="9009"/>
                  </a:lnTo>
                  <a:lnTo>
                    <a:pt x="7957" y="9225"/>
                  </a:lnTo>
                  <a:lnTo>
                    <a:pt x="8336" y="9443"/>
                  </a:lnTo>
                  <a:lnTo>
                    <a:pt x="8336" y="9660"/>
                  </a:lnTo>
                  <a:lnTo>
                    <a:pt x="8526" y="9877"/>
                  </a:lnTo>
                  <a:lnTo>
                    <a:pt x="8715" y="10094"/>
                  </a:lnTo>
                  <a:lnTo>
                    <a:pt x="8905" y="10094"/>
                  </a:lnTo>
                  <a:lnTo>
                    <a:pt x="9094" y="10202"/>
                  </a:lnTo>
                  <a:lnTo>
                    <a:pt x="9283" y="10094"/>
                  </a:lnTo>
                  <a:lnTo>
                    <a:pt x="9283" y="9985"/>
                  </a:lnTo>
                  <a:lnTo>
                    <a:pt x="9473" y="9877"/>
                  </a:lnTo>
                  <a:lnTo>
                    <a:pt x="9283" y="9551"/>
                  </a:lnTo>
                  <a:lnTo>
                    <a:pt x="9473" y="9334"/>
                  </a:lnTo>
                  <a:lnTo>
                    <a:pt x="9283" y="9117"/>
                  </a:lnTo>
                  <a:lnTo>
                    <a:pt x="9283" y="8900"/>
                  </a:lnTo>
                  <a:lnTo>
                    <a:pt x="9283" y="8683"/>
                  </a:lnTo>
                  <a:lnTo>
                    <a:pt x="9094" y="8466"/>
                  </a:lnTo>
                  <a:lnTo>
                    <a:pt x="8905" y="8248"/>
                  </a:lnTo>
                  <a:lnTo>
                    <a:pt x="8526" y="8032"/>
                  </a:lnTo>
                  <a:lnTo>
                    <a:pt x="8526" y="7814"/>
                  </a:lnTo>
                  <a:lnTo>
                    <a:pt x="8147" y="7489"/>
                  </a:lnTo>
                  <a:lnTo>
                    <a:pt x="7957" y="7272"/>
                  </a:lnTo>
                  <a:lnTo>
                    <a:pt x="7768" y="7055"/>
                  </a:lnTo>
                  <a:lnTo>
                    <a:pt x="7578" y="6838"/>
                  </a:lnTo>
                  <a:lnTo>
                    <a:pt x="7389" y="6512"/>
                  </a:lnTo>
                  <a:lnTo>
                    <a:pt x="7199" y="6295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5737320" y="4898160"/>
              <a:ext cx="439920" cy="59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065" y="9831"/>
                  </a:moveTo>
                  <a:lnTo>
                    <a:pt x="18261" y="9533"/>
                  </a:lnTo>
                  <a:lnTo>
                    <a:pt x="18261" y="9235"/>
                  </a:lnTo>
                  <a:lnTo>
                    <a:pt x="18261" y="8937"/>
                  </a:lnTo>
                  <a:lnTo>
                    <a:pt x="18458" y="8639"/>
                  </a:lnTo>
                  <a:lnTo>
                    <a:pt x="18654" y="8341"/>
                  </a:lnTo>
                  <a:lnTo>
                    <a:pt x="18850" y="8043"/>
                  </a:lnTo>
                  <a:lnTo>
                    <a:pt x="19046" y="7597"/>
                  </a:lnTo>
                  <a:lnTo>
                    <a:pt x="19243" y="7597"/>
                  </a:lnTo>
                  <a:lnTo>
                    <a:pt x="19439" y="7299"/>
                  </a:lnTo>
                  <a:lnTo>
                    <a:pt x="19636" y="6852"/>
                  </a:lnTo>
                  <a:lnTo>
                    <a:pt x="19832" y="6554"/>
                  </a:lnTo>
                  <a:lnTo>
                    <a:pt x="20028" y="6107"/>
                  </a:lnTo>
                  <a:lnTo>
                    <a:pt x="20421" y="5958"/>
                  </a:lnTo>
                  <a:lnTo>
                    <a:pt x="20421" y="5511"/>
                  </a:lnTo>
                  <a:lnTo>
                    <a:pt x="20618" y="5064"/>
                  </a:lnTo>
                  <a:lnTo>
                    <a:pt x="20814" y="4915"/>
                  </a:lnTo>
                  <a:lnTo>
                    <a:pt x="21010" y="4468"/>
                  </a:lnTo>
                  <a:lnTo>
                    <a:pt x="21010" y="4170"/>
                  </a:lnTo>
                  <a:lnTo>
                    <a:pt x="21207" y="3873"/>
                  </a:lnTo>
                  <a:lnTo>
                    <a:pt x="21403" y="3426"/>
                  </a:lnTo>
                  <a:lnTo>
                    <a:pt x="21403" y="3128"/>
                  </a:lnTo>
                  <a:lnTo>
                    <a:pt x="21403" y="2830"/>
                  </a:lnTo>
                  <a:lnTo>
                    <a:pt x="21600" y="2532"/>
                  </a:lnTo>
                  <a:lnTo>
                    <a:pt x="21403" y="2234"/>
                  </a:lnTo>
                  <a:lnTo>
                    <a:pt x="21403" y="1936"/>
                  </a:lnTo>
                  <a:lnTo>
                    <a:pt x="21403" y="1638"/>
                  </a:lnTo>
                  <a:lnTo>
                    <a:pt x="21207" y="1340"/>
                  </a:lnTo>
                  <a:lnTo>
                    <a:pt x="21207" y="1191"/>
                  </a:lnTo>
                  <a:lnTo>
                    <a:pt x="21010" y="744"/>
                  </a:lnTo>
                  <a:lnTo>
                    <a:pt x="20618" y="595"/>
                  </a:lnTo>
                  <a:lnTo>
                    <a:pt x="20814" y="297"/>
                  </a:lnTo>
                  <a:lnTo>
                    <a:pt x="20421" y="148"/>
                  </a:lnTo>
                  <a:lnTo>
                    <a:pt x="20028" y="0"/>
                  </a:lnTo>
                  <a:lnTo>
                    <a:pt x="19832" y="0"/>
                  </a:lnTo>
                  <a:lnTo>
                    <a:pt x="19636" y="0"/>
                  </a:lnTo>
                  <a:lnTo>
                    <a:pt x="19439" y="148"/>
                  </a:lnTo>
                  <a:lnTo>
                    <a:pt x="19243" y="148"/>
                  </a:lnTo>
                  <a:lnTo>
                    <a:pt x="18850" y="297"/>
                  </a:lnTo>
                  <a:lnTo>
                    <a:pt x="18654" y="595"/>
                  </a:lnTo>
                  <a:lnTo>
                    <a:pt x="18458" y="893"/>
                  </a:lnTo>
                  <a:lnTo>
                    <a:pt x="18065" y="1191"/>
                  </a:lnTo>
                  <a:lnTo>
                    <a:pt x="18065" y="1489"/>
                  </a:lnTo>
                  <a:lnTo>
                    <a:pt x="17672" y="1936"/>
                  </a:lnTo>
                  <a:lnTo>
                    <a:pt x="17279" y="2383"/>
                  </a:lnTo>
                  <a:lnTo>
                    <a:pt x="17279" y="2830"/>
                  </a:lnTo>
                  <a:lnTo>
                    <a:pt x="16887" y="3277"/>
                  </a:lnTo>
                  <a:lnTo>
                    <a:pt x="16690" y="3724"/>
                  </a:lnTo>
                  <a:lnTo>
                    <a:pt x="16494" y="4319"/>
                  </a:lnTo>
                  <a:lnTo>
                    <a:pt x="16297" y="4766"/>
                  </a:lnTo>
                  <a:lnTo>
                    <a:pt x="16101" y="5362"/>
                  </a:lnTo>
                  <a:lnTo>
                    <a:pt x="15905" y="5958"/>
                  </a:lnTo>
                  <a:lnTo>
                    <a:pt x="15708" y="6554"/>
                  </a:lnTo>
                  <a:lnTo>
                    <a:pt x="15708" y="7001"/>
                  </a:lnTo>
                  <a:lnTo>
                    <a:pt x="15316" y="7448"/>
                  </a:lnTo>
                  <a:lnTo>
                    <a:pt x="15119" y="8043"/>
                  </a:lnTo>
                  <a:lnTo>
                    <a:pt x="14923" y="8639"/>
                  </a:lnTo>
                  <a:lnTo>
                    <a:pt x="14727" y="9235"/>
                  </a:lnTo>
                  <a:lnTo>
                    <a:pt x="14727" y="9682"/>
                  </a:lnTo>
                  <a:lnTo>
                    <a:pt x="14334" y="10129"/>
                  </a:lnTo>
                  <a:lnTo>
                    <a:pt x="14138" y="10725"/>
                  </a:lnTo>
                  <a:lnTo>
                    <a:pt x="14138" y="11023"/>
                  </a:lnTo>
                  <a:lnTo>
                    <a:pt x="13941" y="11470"/>
                  </a:lnTo>
                  <a:lnTo>
                    <a:pt x="13941" y="11768"/>
                  </a:lnTo>
                  <a:lnTo>
                    <a:pt x="13745" y="12065"/>
                  </a:lnTo>
                  <a:lnTo>
                    <a:pt x="13745" y="12512"/>
                  </a:lnTo>
                  <a:lnTo>
                    <a:pt x="13352" y="13108"/>
                  </a:lnTo>
                  <a:lnTo>
                    <a:pt x="13156" y="13704"/>
                  </a:lnTo>
                  <a:lnTo>
                    <a:pt x="12959" y="14151"/>
                  </a:lnTo>
                  <a:lnTo>
                    <a:pt x="12763" y="14598"/>
                  </a:lnTo>
                  <a:lnTo>
                    <a:pt x="12567" y="15045"/>
                  </a:lnTo>
                  <a:lnTo>
                    <a:pt x="12174" y="15343"/>
                  </a:lnTo>
                  <a:lnTo>
                    <a:pt x="11977" y="15790"/>
                  </a:lnTo>
                  <a:lnTo>
                    <a:pt x="11781" y="16236"/>
                  </a:lnTo>
                  <a:lnTo>
                    <a:pt x="11585" y="16534"/>
                  </a:lnTo>
                  <a:lnTo>
                    <a:pt x="11192" y="16832"/>
                  </a:lnTo>
                  <a:lnTo>
                    <a:pt x="11192" y="17130"/>
                  </a:lnTo>
                  <a:lnTo>
                    <a:pt x="10800" y="17428"/>
                  </a:lnTo>
                  <a:lnTo>
                    <a:pt x="10603" y="17726"/>
                  </a:lnTo>
                  <a:lnTo>
                    <a:pt x="10407" y="18024"/>
                  </a:lnTo>
                  <a:lnTo>
                    <a:pt x="10014" y="18173"/>
                  </a:lnTo>
                  <a:lnTo>
                    <a:pt x="9818" y="18471"/>
                  </a:lnTo>
                  <a:lnTo>
                    <a:pt x="9425" y="18769"/>
                  </a:lnTo>
                  <a:lnTo>
                    <a:pt x="9032" y="18769"/>
                  </a:lnTo>
                  <a:lnTo>
                    <a:pt x="9032" y="19067"/>
                  </a:lnTo>
                  <a:lnTo>
                    <a:pt x="8639" y="19216"/>
                  </a:lnTo>
                  <a:lnTo>
                    <a:pt x="8246" y="19514"/>
                  </a:lnTo>
                  <a:lnTo>
                    <a:pt x="7854" y="19663"/>
                  </a:lnTo>
                  <a:lnTo>
                    <a:pt x="7461" y="19812"/>
                  </a:lnTo>
                  <a:lnTo>
                    <a:pt x="7265" y="19812"/>
                  </a:lnTo>
                  <a:lnTo>
                    <a:pt x="6676" y="20110"/>
                  </a:lnTo>
                  <a:lnTo>
                    <a:pt x="6283" y="20259"/>
                  </a:lnTo>
                  <a:lnTo>
                    <a:pt x="5694" y="20259"/>
                  </a:lnTo>
                  <a:lnTo>
                    <a:pt x="5497" y="20557"/>
                  </a:lnTo>
                  <a:lnTo>
                    <a:pt x="4908" y="20557"/>
                  </a:lnTo>
                  <a:lnTo>
                    <a:pt x="4516" y="20706"/>
                  </a:lnTo>
                  <a:lnTo>
                    <a:pt x="3927" y="20706"/>
                  </a:lnTo>
                  <a:lnTo>
                    <a:pt x="3730" y="20706"/>
                  </a:lnTo>
                  <a:lnTo>
                    <a:pt x="3338" y="20706"/>
                  </a:lnTo>
                  <a:lnTo>
                    <a:pt x="3141" y="20855"/>
                  </a:lnTo>
                  <a:lnTo>
                    <a:pt x="2748" y="21004"/>
                  </a:lnTo>
                  <a:lnTo>
                    <a:pt x="2159" y="21004"/>
                  </a:lnTo>
                  <a:lnTo>
                    <a:pt x="1963" y="21153"/>
                  </a:lnTo>
                  <a:lnTo>
                    <a:pt x="1570" y="21302"/>
                  </a:lnTo>
                  <a:lnTo>
                    <a:pt x="1177" y="21302"/>
                  </a:lnTo>
                  <a:lnTo>
                    <a:pt x="981" y="21302"/>
                  </a:lnTo>
                  <a:lnTo>
                    <a:pt x="588" y="21451"/>
                  </a:lnTo>
                  <a:lnTo>
                    <a:pt x="392" y="21451"/>
                  </a:lnTo>
                  <a:lnTo>
                    <a:pt x="196" y="21451"/>
                  </a:lnTo>
                  <a:lnTo>
                    <a:pt x="0" y="21600"/>
                  </a:lnTo>
                  <a:lnTo>
                    <a:pt x="0" y="21600"/>
                  </a:lnTo>
                  <a:lnTo>
                    <a:pt x="196" y="21451"/>
                  </a:lnTo>
                  <a:lnTo>
                    <a:pt x="392" y="21451"/>
                  </a:lnTo>
                  <a:lnTo>
                    <a:pt x="785" y="21451"/>
                  </a:lnTo>
                  <a:lnTo>
                    <a:pt x="1177" y="21302"/>
                  </a:lnTo>
                  <a:lnTo>
                    <a:pt x="1767" y="21302"/>
                  </a:lnTo>
                  <a:lnTo>
                    <a:pt x="1963" y="21153"/>
                  </a:lnTo>
                  <a:lnTo>
                    <a:pt x="2356" y="21153"/>
                  </a:lnTo>
                  <a:lnTo>
                    <a:pt x="2945" y="21004"/>
                  </a:lnTo>
                  <a:lnTo>
                    <a:pt x="3534" y="21004"/>
                  </a:lnTo>
                  <a:lnTo>
                    <a:pt x="3927" y="21004"/>
                  </a:lnTo>
                  <a:lnTo>
                    <a:pt x="4516" y="21004"/>
                  </a:lnTo>
                  <a:lnTo>
                    <a:pt x="4908" y="20855"/>
                  </a:lnTo>
                  <a:lnTo>
                    <a:pt x="5301" y="20855"/>
                  </a:lnTo>
                  <a:lnTo>
                    <a:pt x="5694" y="20855"/>
                  </a:lnTo>
                  <a:lnTo>
                    <a:pt x="6087" y="20855"/>
                  </a:lnTo>
                  <a:lnTo>
                    <a:pt x="6676" y="20855"/>
                  </a:lnTo>
                  <a:lnTo>
                    <a:pt x="7069" y="20855"/>
                  </a:lnTo>
                  <a:lnTo>
                    <a:pt x="7461" y="20706"/>
                  </a:lnTo>
                  <a:lnTo>
                    <a:pt x="8246" y="20706"/>
                  </a:lnTo>
                  <a:lnTo>
                    <a:pt x="8639" y="20557"/>
                  </a:lnTo>
                  <a:lnTo>
                    <a:pt x="8836" y="20408"/>
                  </a:lnTo>
                  <a:lnTo>
                    <a:pt x="9228" y="20408"/>
                  </a:lnTo>
                  <a:lnTo>
                    <a:pt x="9818" y="20110"/>
                  </a:lnTo>
                  <a:lnTo>
                    <a:pt x="10210" y="20110"/>
                  </a:lnTo>
                  <a:lnTo>
                    <a:pt x="10603" y="19812"/>
                  </a:lnTo>
                  <a:lnTo>
                    <a:pt x="10800" y="19663"/>
                  </a:lnTo>
                  <a:lnTo>
                    <a:pt x="11192" y="19514"/>
                  </a:lnTo>
                  <a:lnTo>
                    <a:pt x="11585" y="19216"/>
                  </a:lnTo>
                  <a:lnTo>
                    <a:pt x="11781" y="19067"/>
                  </a:lnTo>
                  <a:lnTo>
                    <a:pt x="12370" y="18918"/>
                  </a:lnTo>
                  <a:lnTo>
                    <a:pt x="12370" y="18620"/>
                  </a:lnTo>
                  <a:lnTo>
                    <a:pt x="12959" y="18173"/>
                  </a:lnTo>
                  <a:lnTo>
                    <a:pt x="13156" y="18024"/>
                  </a:lnTo>
                  <a:lnTo>
                    <a:pt x="13548" y="17577"/>
                  </a:lnTo>
                  <a:lnTo>
                    <a:pt x="13548" y="17279"/>
                  </a:lnTo>
                  <a:lnTo>
                    <a:pt x="13745" y="17130"/>
                  </a:lnTo>
                  <a:lnTo>
                    <a:pt x="13941" y="16832"/>
                  </a:lnTo>
                  <a:lnTo>
                    <a:pt x="14138" y="16832"/>
                  </a:lnTo>
                  <a:lnTo>
                    <a:pt x="14138" y="16534"/>
                  </a:lnTo>
                  <a:lnTo>
                    <a:pt x="14530" y="16236"/>
                  </a:lnTo>
                  <a:lnTo>
                    <a:pt x="14530" y="16088"/>
                  </a:lnTo>
                  <a:lnTo>
                    <a:pt x="14727" y="15790"/>
                  </a:lnTo>
                  <a:lnTo>
                    <a:pt x="14923" y="15492"/>
                  </a:lnTo>
                  <a:lnTo>
                    <a:pt x="15119" y="15194"/>
                  </a:lnTo>
                  <a:lnTo>
                    <a:pt x="15119" y="14896"/>
                  </a:lnTo>
                  <a:lnTo>
                    <a:pt x="15316" y="14598"/>
                  </a:lnTo>
                  <a:lnTo>
                    <a:pt x="15512" y="14598"/>
                  </a:lnTo>
                  <a:lnTo>
                    <a:pt x="15512" y="14300"/>
                  </a:lnTo>
                  <a:lnTo>
                    <a:pt x="15708" y="14002"/>
                  </a:lnTo>
                  <a:lnTo>
                    <a:pt x="15905" y="13555"/>
                  </a:lnTo>
                  <a:lnTo>
                    <a:pt x="16101" y="13257"/>
                  </a:lnTo>
                  <a:lnTo>
                    <a:pt x="16101" y="12959"/>
                  </a:lnTo>
                  <a:lnTo>
                    <a:pt x="16494" y="12661"/>
                  </a:lnTo>
                  <a:lnTo>
                    <a:pt x="16494" y="12363"/>
                  </a:lnTo>
                  <a:lnTo>
                    <a:pt x="16494" y="12065"/>
                  </a:lnTo>
                  <a:lnTo>
                    <a:pt x="16887" y="12065"/>
                  </a:lnTo>
                  <a:lnTo>
                    <a:pt x="16887" y="11768"/>
                  </a:lnTo>
                  <a:lnTo>
                    <a:pt x="16887" y="11470"/>
                  </a:lnTo>
                  <a:lnTo>
                    <a:pt x="17279" y="11172"/>
                  </a:lnTo>
                  <a:lnTo>
                    <a:pt x="17279" y="11023"/>
                  </a:lnTo>
                  <a:lnTo>
                    <a:pt x="17476" y="10725"/>
                  </a:lnTo>
                  <a:lnTo>
                    <a:pt x="17672" y="10576"/>
                  </a:lnTo>
                  <a:lnTo>
                    <a:pt x="17672" y="10278"/>
                  </a:lnTo>
                  <a:lnTo>
                    <a:pt x="17869" y="9980"/>
                  </a:lnTo>
                  <a:lnTo>
                    <a:pt x="17869" y="9831"/>
                  </a:lnTo>
                  <a:lnTo>
                    <a:pt x="18065" y="9831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5610600" y="4788720"/>
              <a:ext cx="418320" cy="56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811" y="156"/>
                  </a:moveTo>
                  <a:lnTo>
                    <a:pt x="14399" y="312"/>
                  </a:lnTo>
                  <a:lnTo>
                    <a:pt x="13988" y="312"/>
                  </a:lnTo>
                  <a:lnTo>
                    <a:pt x="13371" y="469"/>
                  </a:lnTo>
                  <a:lnTo>
                    <a:pt x="12959" y="469"/>
                  </a:lnTo>
                  <a:lnTo>
                    <a:pt x="12548" y="469"/>
                  </a:lnTo>
                  <a:lnTo>
                    <a:pt x="11931" y="312"/>
                  </a:lnTo>
                  <a:lnTo>
                    <a:pt x="11519" y="469"/>
                  </a:lnTo>
                  <a:lnTo>
                    <a:pt x="11108" y="469"/>
                  </a:lnTo>
                  <a:lnTo>
                    <a:pt x="10696" y="625"/>
                  </a:lnTo>
                  <a:lnTo>
                    <a:pt x="10285" y="625"/>
                  </a:lnTo>
                  <a:lnTo>
                    <a:pt x="9874" y="625"/>
                  </a:lnTo>
                  <a:lnTo>
                    <a:pt x="9462" y="782"/>
                  </a:lnTo>
                  <a:lnTo>
                    <a:pt x="9051" y="625"/>
                  </a:lnTo>
                  <a:lnTo>
                    <a:pt x="8434" y="782"/>
                  </a:lnTo>
                  <a:lnTo>
                    <a:pt x="7816" y="782"/>
                  </a:lnTo>
                  <a:lnTo>
                    <a:pt x="7405" y="939"/>
                  </a:lnTo>
                  <a:lnTo>
                    <a:pt x="7199" y="782"/>
                  </a:lnTo>
                  <a:lnTo>
                    <a:pt x="6582" y="939"/>
                  </a:lnTo>
                  <a:lnTo>
                    <a:pt x="6171" y="939"/>
                  </a:lnTo>
                  <a:lnTo>
                    <a:pt x="5554" y="939"/>
                  </a:lnTo>
                  <a:lnTo>
                    <a:pt x="5142" y="939"/>
                  </a:lnTo>
                  <a:lnTo>
                    <a:pt x="4731" y="1095"/>
                  </a:lnTo>
                  <a:lnTo>
                    <a:pt x="3908" y="1095"/>
                  </a:lnTo>
                  <a:lnTo>
                    <a:pt x="3702" y="1095"/>
                  </a:lnTo>
                  <a:lnTo>
                    <a:pt x="3085" y="1095"/>
                  </a:lnTo>
                  <a:lnTo>
                    <a:pt x="2673" y="1252"/>
                  </a:lnTo>
                  <a:lnTo>
                    <a:pt x="2262" y="1252"/>
                  </a:lnTo>
                  <a:lnTo>
                    <a:pt x="1645" y="1408"/>
                  </a:lnTo>
                  <a:lnTo>
                    <a:pt x="1233" y="1252"/>
                  </a:lnTo>
                  <a:lnTo>
                    <a:pt x="822" y="1408"/>
                  </a:lnTo>
                  <a:lnTo>
                    <a:pt x="616" y="1564"/>
                  </a:lnTo>
                  <a:lnTo>
                    <a:pt x="0" y="1564"/>
                  </a:lnTo>
                  <a:lnTo>
                    <a:pt x="0" y="1564"/>
                  </a:lnTo>
                  <a:lnTo>
                    <a:pt x="205" y="1564"/>
                  </a:lnTo>
                  <a:lnTo>
                    <a:pt x="411" y="1721"/>
                  </a:lnTo>
                  <a:lnTo>
                    <a:pt x="616" y="1721"/>
                  </a:lnTo>
                  <a:lnTo>
                    <a:pt x="1028" y="1721"/>
                  </a:lnTo>
                  <a:lnTo>
                    <a:pt x="1645" y="1721"/>
                  </a:lnTo>
                  <a:lnTo>
                    <a:pt x="2262" y="1721"/>
                  </a:lnTo>
                  <a:lnTo>
                    <a:pt x="2879" y="1878"/>
                  </a:lnTo>
                  <a:lnTo>
                    <a:pt x="3496" y="2034"/>
                  </a:lnTo>
                  <a:lnTo>
                    <a:pt x="3908" y="1878"/>
                  </a:lnTo>
                  <a:lnTo>
                    <a:pt x="4731" y="2034"/>
                  </a:lnTo>
                  <a:lnTo>
                    <a:pt x="5348" y="2034"/>
                  </a:lnTo>
                  <a:lnTo>
                    <a:pt x="5965" y="2034"/>
                  </a:lnTo>
                  <a:lnTo>
                    <a:pt x="6376" y="2191"/>
                  </a:lnTo>
                  <a:lnTo>
                    <a:pt x="7199" y="2034"/>
                  </a:lnTo>
                  <a:lnTo>
                    <a:pt x="7405" y="2034"/>
                  </a:lnTo>
                  <a:lnTo>
                    <a:pt x="7611" y="2034"/>
                  </a:lnTo>
                  <a:lnTo>
                    <a:pt x="7816" y="1878"/>
                  </a:lnTo>
                  <a:lnTo>
                    <a:pt x="8228" y="1721"/>
                  </a:lnTo>
                  <a:lnTo>
                    <a:pt x="8639" y="1721"/>
                  </a:lnTo>
                  <a:lnTo>
                    <a:pt x="9051" y="1721"/>
                  </a:lnTo>
                  <a:lnTo>
                    <a:pt x="9256" y="1721"/>
                  </a:lnTo>
                  <a:lnTo>
                    <a:pt x="9668" y="1564"/>
                  </a:lnTo>
                  <a:lnTo>
                    <a:pt x="10285" y="1564"/>
                  </a:lnTo>
                  <a:lnTo>
                    <a:pt x="10491" y="1408"/>
                  </a:lnTo>
                  <a:lnTo>
                    <a:pt x="10902" y="1408"/>
                  </a:lnTo>
                  <a:lnTo>
                    <a:pt x="11314" y="1408"/>
                  </a:lnTo>
                  <a:lnTo>
                    <a:pt x="11725" y="1252"/>
                  </a:lnTo>
                  <a:lnTo>
                    <a:pt x="12342" y="1408"/>
                  </a:lnTo>
                  <a:lnTo>
                    <a:pt x="12754" y="1252"/>
                  </a:lnTo>
                  <a:lnTo>
                    <a:pt x="13165" y="1252"/>
                  </a:lnTo>
                  <a:lnTo>
                    <a:pt x="13577" y="1252"/>
                  </a:lnTo>
                  <a:lnTo>
                    <a:pt x="13988" y="1252"/>
                  </a:lnTo>
                  <a:lnTo>
                    <a:pt x="14399" y="1252"/>
                  </a:lnTo>
                  <a:lnTo>
                    <a:pt x="14811" y="1252"/>
                  </a:lnTo>
                  <a:lnTo>
                    <a:pt x="15222" y="1408"/>
                  </a:lnTo>
                  <a:lnTo>
                    <a:pt x="15634" y="1408"/>
                  </a:lnTo>
                  <a:lnTo>
                    <a:pt x="16045" y="1564"/>
                  </a:lnTo>
                  <a:lnTo>
                    <a:pt x="16457" y="1564"/>
                  </a:lnTo>
                  <a:lnTo>
                    <a:pt x="16868" y="1564"/>
                  </a:lnTo>
                  <a:lnTo>
                    <a:pt x="17279" y="1878"/>
                  </a:lnTo>
                  <a:lnTo>
                    <a:pt x="17485" y="1878"/>
                  </a:lnTo>
                  <a:lnTo>
                    <a:pt x="17691" y="2034"/>
                  </a:lnTo>
                  <a:lnTo>
                    <a:pt x="17897" y="2347"/>
                  </a:lnTo>
                  <a:lnTo>
                    <a:pt x="18102" y="2504"/>
                  </a:lnTo>
                  <a:lnTo>
                    <a:pt x="18308" y="2660"/>
                  </a:lnTo>
                  <a:lnTo>
                    <a:pt x="18514" y="2817"/>
                  </a:lnTo>
                  <a:lnTo>
                    <a:pt x="18514" y="3130"/>
                  </a:lnTo>
                  <a:lnTo>
                    <a:pt x="18719" y="3443"/>
                  </a:lnTo>
                  <a:lnTo>
                    <a:pt x="18719" y="4069"/>
                  </a:lnTo>
                  <a:lnTo>
                    <a:pt x="18925" y="4382"/>
                  </a:lnTo>
                  <a:lnTo>
                    <a:pt x="18925" y="4695"/>
                  </a:lnTo>
                  <a:lnTo>
                    <a:pt x="18925" y="5165"/>
                  </a:lnTo>
                  <a:lnTo>
                    <a:pt x="18925" y="5634"/>
                  </a:lnTo>
                  <a:lnTo>
                    <a:pt x="18925" y="5947"/>
                  </a:lnTo>
                  <a:lnTo>
                    <a:pt x="18925" y="6417"/>
                  </a:lnTo>
                  <a:lnTo>
                    <a:pt x="18719" y="6886"/>
                  </a:lnTo>
                  <a:lnTo>
                    <a:pt x="18719" y="7199"/>
                  </a:lnTo>
                  <a:lnTo>
                    <a:pt x="18514" y="7669"/>
                  </a:lnTo>
                  <a:lnTo>
                    <a:pt x="18514" y="8138"/>
                  </a:lnTo>
                  <a:lnTo>
                    <a:pt x="18102" y="8608"/>
                  </a:lnTo>
                  <a:lnTo>
                    <a:pt x="17897" y="9078"/>
                  </a:lnTo>
                  <a:lnTo>
                    <a:pt x="17897" y="9391"/>
                  </a:lnTo>
                  <a:lnTo>
                    <a:pt x="17485" y="9704"/>
                  </a:lnTo>
                  <a:lnTo>
                    <a:pt x="17485" y="10017"/>
                  </a:lnTo>
                  <a:lnTo>
                    <a:pt x="17074" y="10486"/>
                  </a:lnTo>
                  <a:lnTo>
                    <a:pt x="16868" y="10800"/>
                  </a:lnTo>
                  <a:lnTo>
                    <a:pt x="16457" y="11112"/>
                  </a:lnTo>
                  <a:lnTo>
                    <a:pt x="16457" y="11582"/>
                  </a:lnTo>
                  <a:lnTo>
                    <a:pt x="16045" y="11895"/>
                  </a:lnTo>
                  <a:lnTo>
                    <a:pt x="15839" y="12364"/>
                  </a:lnTo>
                  <a:lnTo>
                    <a:pt x="15428" y="12678"/>
                  </a:lnTo>
                  <a:lnTo>
                    <a:pt x="15222" y="12991"/>
                  </a:lnTo>
                  <a:lnTo>
                    <a:pt x="14811" y="13304"/>
                  </a:lnTo>
                  <a:lnTo>
                    <a:pt x="14605" y="13773"/>
                  </a:lnTo>
                  <a:lnTo>
                    <a:pt x="14194" y="13930"/>
                  </a:lnTo>
                  <a:lnTo>
                    <a:pt x="13988" y="14243"/>
                  </a:lnTo>
                  <a:lnTo>
                    <a:pt x="13577" y="14556"/>
                  </a:lnTo>
                  <a:lnTo>
                    <a:pt x="13577" y="14869"/>
                  </a:lnTo>
                  <a:lnTo>
                    <a:pt x="13371" y="15026"/>
                  </a:lnTo>
                  <a:lnTo>
                    <a:pt x="13371" y="15026"/>
                  </a:lnTo>
                  <a:lnTo>
                    <a:pt x="13165" y="14869"/>
                  </a:lnTo>
                  <a:lnTo>
                    <a:pt x="12959" y="14556"/>
                  </a:lnTo>
                  <a:lnTo>
                    <a:pt x="12754" y="14243"/>
                  </a:lnTo>
                  <a:lnTo>
                    <a:pt x="12342" y="13930"/>
                  </a:lnTo>
                  <a:lnTo>
                    <a:pt x="12136" y="13304"/>
                  </a:lnTo>
                  <a:lnTo>
                    <a:pt x="11931" y="12678"/>
                  </a:lnTo>
                  <a:lnTo>
                    <a:pt x="11519" y="12208"/>
                  </a:lnTo>
                  <a:lnTo>
                    <a:pt x="11108" y="11582"/>
                  </a:lnTo>
                  <a:lnTo>
                    <a:pt x="11108" y="11269"/>
                  </a:lnTo>
                  <a:lnTo>
                    <a:pt x="10696" y="10956"/>
                  </a:lnTo>
                  <a:lnTo>
                    <a:pt x="10285" y="10643"/>
                  </a:lnTo>
                  <a:lnTo>
                    <a:pt x="10079" y="10643"/>
                  </a:lnTo>
                  <a:lnTo>
                    <a:pt x="9874" y="10643"/>
                  </a:lnTo>
                  <a:lnTo>
                    <a:pt x="9668" y="10800"/>
                  </a:lnTo>
                  <a:lnTo>
                    <a:pt x="9462" y="11112"/>
                  </a:lnTo>
                  <a:lnTo>
                    <a:pt x="9256" y="11739"/>
                  </a:lnTo>
                  <a:lnTo>
                    <a:pt x="9256" y="12364"/>
                  </a:lnTo>
                  <a:lnTo>
                    <a:pt x="9051" y="12834"/>
                  </a:lnTo>
                  <a:lnTo>
                    <a:pt x="9051" y="13460"/>
                  </a:lnTo>
                  <a:lnTo>
                    <a:pt x="9256" y="13773"/>
                  </a:lnTo>
                  <a:lnTo>
                    <a:pt x="9462" y="14243"/>
                  </a:lnTo>
                  <a:lnTo>
                    <a:pt x="9668" y="14712"/>
                  </a:lnTo>
                  <a:lnTo>
                    <a:pt x="9874" y="15182"/>
                  </a:lnTo>
                  <a:lnTo>
                    <a:pt x="10079" y="15495"/>
                  </a:lnTo>
                  <a:lnTo>
                    <a:pt x="10079" y="16121"/>
                  </a:lnTo>
                  <a:lnTo>
                    <a:pt x="10285" y="16434"/>
                  </a:lnTo>
                  <a:lnTo>
                    <a:pt x="10285" y="16747"/>
                  </a:lnTo>
                  <a:lnTo>
                    <a:pt x="10696" y="17217"/>
                  </a:lnTo>
                  <a:lnTo>
                    <a:pt x="10696" y="17686"/>
                  </a:lnTo>
                  <a:lnTo>
                    <a:pt x="10491" y="18313"/>
                  </a:lnTo>
                  <a:lnTo>
                    <a:pt x="10491" y="18782"/>
                  </a:lnTo>
                  <a:lnTo>
                    <a:pt x="10491" y="19095"/>
                  </a:lnTo>
                  <a:lnTo>
                    <a:pt x="10696" y="19408"/>
                  </a:lnTo>
                  <a:lnTo>
                    <a:pt x="10696" y="19721"/>
                  </a:lnTo>
                  <a:lnTo>
                    <a:pt x="11108" y="20034"/>
                  </a:lnTo>
                  <a:lnTo>
                    <a:pt x="11314" y="20347"/>
                  </a:lnTo>
                  <a:lnTo>
                    <a:pt x="11725" y="20660"/>
                  </a:lnTo>
                  <a:lnTo>
                    <a:pt x="11931" y="20817"/>
                  </a:lnTo>
                  <a:lnTo>
                    <a:pt x="12342" y="20973"/>
                  </a:lnTo>
                  <a:lnTo>
                    <a:pt x="12754" y="21130"/>
                  </a:lnTo>
                  <a:lnTo>
                    <a:pt x="12959" y="21286"/>
                  </a:lnTo>
                  <a:lnTo>
                    <a:pt x="13165" y="21286"/>
                  </a:lnTo>
                  <a:lnTo>
                    <a:pt x="13577" y="21600"/>
                  </a:lnTo>
                  <a:lnTo>
                    <a:pt x="13782" y="21443"/>
                  </a:lnTo>
                  <a:lnTo>
                    <a:pt x="13988" y="21443"/>
                  </a:lnTo>
                  <a:lnTo>
                    <a:pt x="14194" y="21600"/>
                  </a:lnTo>
                  <a:lnTo>
                    <a:pt x="14194" y="21443"/>
                  </a:lnTo>
                  <a:lnTo>
                    <a:pt x="14194" y="20973"/>
                  </a:lnTo>
                  <a:lnTo>
                    <a:pt x="14399" y="20504"/>
                  </a:lnTo>
                  <a:lnTo>
                    <a:pt x="14399" y="20191"/>
                  </a:lnTo>
                  <a:lnTo>
                    <a:pt x="14605" y="19878"/>
                  </a:lnTo>
                  <a:lnTo>
                    <a:pt x="14811" y="19408"/>
                  </a:lnTo>
                  <a:lnTo>
                    <a:pt x="15017" y="18782"/>
                  </a:lnTo>
                  <a:lnTo>
                    <a:pt x="15428" y="18313"/>
                  </a:lnTo>
                  <a:lnTo>
                    <a:pt x="15634" y="17686"/>
                  </a:lnTo>
                  <a:lnTo>
                    <a:pt x="16045" y="17373"/>
                  </a:lnTo>
                  <a:lnTo>
                    <a:pt x="16251" y="17060"/>
                  </a:lnTo>
                  <a:lnTo>
                    <a:pt x="16457" y="16434"/>
                  </a:lnTo>
                  <a:lnTo>
                    <a:pt x="16868" y="15965"/>
                  </a:lnTo>
                  <a:lnTo>
                    <a:pt x="17074" y="15651"/>
                  </a:lnTo>
                  <a:lnTo>
                    <a:pt x="17279" y="15339"/>
                  </a:lnTo>
                  <a:lnTo>
                    <a:pt x="17485" y="14869"/>
                  </a:lnTo>
                  <a:lnTo>
                    <a:pt x="17691" y="14712"/>
                  </a:lnTo>
                  <a:lnTo>
                    <a:pt x="17691" y="14399"/>
                  </a:lnTo>
                  <a:lnTo>
                    <a:pt x="17897" y="14243"/>
                  </a:lnTo>
                  <a:lnTo>
                    <a:pt x="18102" y="13930"/>
                  </a:lnTo>
                  <a:lnTo>
                    <a:pt x="18102" y="13617"/>
                  </a:lnTo>
                  <a:lnTo>
                    <a:pt x="18308" y="13304"/>
                  </a:lnTo>
                  <a:lnTo>
                    <a:pt x="18514" y="13147"/>
                  </a:lnTo>
                  <a:lnTo>
                    <a:pt x="18514" y="12834"/>
                  </a:lnTo>
                  <a:lnTo>
                    <a:pt x="18719" y="12521"/>
                  </a:lnTo>
                  <a:lnTo>
                    <a:pt x="18719" y="12364"/>
                  </a:lnTo>
                  <a:lnTo>
                    <a:pt x="18925" y="12208"/>
                  </a:lnTo>
                  <a:lnTo>
                    <a:pt x="19131" y="11895"/>
                  </a:lnTo>
                  <a:lnTo>
                    <a:pt x="19131" y="11582"/>
                  </a:lnTo>
                  <a:lnTo>
                    <a:pt x="19131" y="11269"/>
                  </a:lnTo>
                  <a:lnTo>
                    <a:pt x="19542" y="10956"/>
                  </a:lnTo>
                  <a:lnTo>
                    <a:pt x="19542" y="10643"/>
                  </a:lnTo>
                  <a:lnTo>
                    <a:pt x="19748" y="10330"/>
                  </a:lnTo>
                  <a:lnTo>
                    <a:pt x="19748" y="10017"/>
                  </a:lnTo>
                  <a:lnTo>
                    <a:pt x="19954" y="9860"/>
                  </a:lnTo>
                  <a:lnTo>
                    <a:pt x="20159" y="9704"/>
                  </a:lnTo>
                  <a:lnTo>
                    <a:pt x="20159" y="9547"/>
                  </a:lnTo>
                  <a:lnTo>
                    <a:pt x="20159" y="9234"/>
                  </a:lnTo>
                  <a:lnTo>
                    <a:pt x="20571" y="8921"/>
                  </a:lnTo>
                  <a:lnTo>
                    <a:pt x="20571" y="8608"/>
                  </a:lnTo>
                  <a:lnTo>
                    <a:pt x="20777" y="8295"/>
                  </a:lnTo>
                  <a:lnTo>
                    <a:pt x="20777" y="7982"/>
                  </a:lnTo>
                  <a:lnTo>
                    <a:pt x="20982" y="7669"/>
                  </a:lnTo>
                  <a:lnTo>
                    <a:pt x="20982" y="7356"/>
                  </a:lnTo>
                  <a:lnTo>
                    <a:pt x="20982" y="7199"/>
                  </a:lnTo>
                  <a:lnTo>
                    <a:pt x="21188" y="6886"/>
                  </a:lnTo>
                  <a:lnTo>
                    <a:pt x="21394" y="6573"/>
                  </a:lnTo>
                  <a:lnTo>
                    <a:pt x="21600" y="6260"/>
                  </a:lnTo>
                  <a:lnTo>
                    <a:pt x="21600" y="5947"/>
                  </a:lnTo>
                  <a:lnTo>
                    <a:pt x="21600" y="4851"/>
                  </a:lnTo>
                  <a:lnTo>
                    <a:pt x="21600" y="4226"/>
                  </a:lnTo>
                  <a:lnTo>
                    <a:pt x="21600" y="3286"/>
                  </a:lnTo>
                  <a:lnTo>
                    <a:pt x="21394" y="2504"/>
                  </a:lnTo>
                  <a:lnTo>
                    <a:pt x="20982" y="2034"/>
                  </a:lnTo>
                  <a:lnTo>
                    <a:pt x="20777" y="1564"/>
                  </a:lnTo>
                  <a:lnTo>
                    <a:pt x="20365" y="1252"/>
                  </a:lnTo>
                  <a:lnTo>
                    <a:pt x="19748" y="782"/>
                  </a:lnTo>
                  <a:lnTo>
                    <a:pt x="19131" y="469"/>
                  </a:lnTo>
                  <a:lnTo>
                    <a:pt x="18514" y="312"/>
                  </a:lnTo>
                  <a:lnTo>
                    <a:pt x="17691" y="156"/>
                  </a:lnTo>
                  <a:lnTo>
                    <a:pt x="17279" y="156"/>
                  </a:lnTo>
                  <a:lnTo>
                    <a:pt x="16457" y="0"/>
                  </a:lnTo>
                  <a:lnTo>
                    <a:pt x="15839" y="0"/>
                  </a:lnTo>
                  <a:lnTo>
                    <a:pt x="15222" y="0"/>
                  </a:lnTo>
                  <a:lnTo>
                    <a:pt x="14811" y="156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6084000" y="4609440"/>
              <a:ext cx="196920" cy="92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939"/>
                  </a:moveTo>
                  <a:lnTo>
                    <a:pt x="20718" y="0"/>
                  </a:lnTo>
                  <a:lnTo>
                    <a:pt x="20277" y="939"/>
                  </a:lnTo>
                  <a:lnTo>
                    <a:pt x="19395" y="939"/>
                  </a:lnTo>
                  <a:lnTo>
                    <a:pt x="18955" y="1878"/>
                  </a:lnTo>
                  <a:lnTo>
                    <a:pt x="18073" y="939"/>
                  </a:lnTo>
                  <a:lnTo>
                    <a:pt x="17191" y="1878"/>
                  </a:lnTo>
                  <a:lnTo>
                    <a:pt x="16750" y="939"/>
                  </a:lnTo>
                  <a:lnTo>
                    <a:pt x="15428" y="1878"/>
                  </a:lnTo>
                  <a:lnTo>
                    <a:pt x="14546" y="939"/>
                  </a:lnTo>
                  <a:lnTo>
                    <a:pt x="13224" y="1878"/>
                  </a:lnTo>
                  <a:lnTo>
                    <a:pt x="12342" y="1878"/>
                  </a:lnTo>
                  <a:lnTo>
                    <a:pt x="11020" y="1878"/>
                  </a:lnTo>
                  <a:lnTo>
                    <a:pt x="10138" y="939"/>
                  </a:lnTo>
                  <a:lnTo>
                    <a:pt x="9697" y="1878"/>
                  </a:lnTo>
                  <a:lnTo>
                    <a:pt x="8816" y="1878"/>
                  </a:lnTo>
                  <a:lnTo>
                    <a:pt x="7934" y="1878"/>
                  </a:lnTo>
                  <a:lnTo>
                    <a:pt x="7052" y="2817"/>
                  </a:lnTo>
                  <a:lnTo>
                    <a:pt x="6171" y="2817"/>
                  </a:lnTo>
                  <a:lnTo>
                    <a:pt x="5289" y="2817"/>
                  </a:lnTo>
                  <a:lnTo>
                    <a:pt x="4407" y="2817"/>
                  </a:lnTo>
                  <a:lnTo>
                    <a:pt x="3526" y="3756"/>
                  </a:lnTo>
                  <a:lnTo>
                    <a:pt x="2644" y="4695"/>
                  </a:lnTo>
                  <a:lnTo>
                    <a:pt x="2203" y="5634"/>
                  </a:lnTo>
                  <a:lnTo>
                    <a:pt x="1762" y="4695"/>
                  </a:lnTo>
                  <a:lnTo>
                    <a:pt x="1322" y="5634"/>
                  </a:lnTo>
                  <a:lnTo>
                    <a:pt x="1322" y="7513"/>
                  </a:lnTo>
                  <a:lnTo>
                    <a:pt x="440" y="8452"/>
                  </a:lnTo>
                  <a:lnTo>
                    <a:pt x="440" y="9391"/>
                  </a:lnTo>
                  <a:lnTo>
                    <a:pt x="440" y="10330"/>
                  </a:lnTo>
                  <a:lnTo>
                    <a:pt x="0" y="12208"/>
                  </a:lnTo>
                  <a:lnTo>
                    <a:pt x="0" y="13147"/>
                  </a:lnTo>
                  <a:lnTo>
                    <a:pt x="440" y="15026"/>
                  </a:lnTo>
                  <a:lnTo>
                    <a:pt x="881" y="17843"/>
                  </a:lnTo>
                  <a:lnTo>
                    <a:pt x="1762" y="20660"/>
                  </a:lnTo>
                  <a:lnTo>
                    <a:pt x="3085" y="20660"/>
                  </a:lnTo>
                  <a:lnTo>
                    <a:pt x="4407" y="21600"/>
                  </a:lnTo>
                  <a:lnTo>
                    <a:pt x="6612" y="20660"/>
                  </a:lnTo>
                  <a:lnTo>
                    <a:pt x="7934" y="19721"/>
                  </a:lnTo>
                  <a:lnTo>
                    <a:pt x="10138" y="17843"/>
                  </a:lnTo>
                  <a:lnTo>
                    <a:pt x="11461" y="14086"/>
                  </a:lnTo>
                  <a:lnTo>
                    <a:pt x="13665" y="11269"/>
                  </a:lnTo>
                  <a:lnTo>
                    <a:pt x="15869" y="9391"/>
                  </a:lnTo>
                  <a:lnTo>
                    <a:pt x="16750" y="8452"/>
                  </a:lnTo>
                  <a:lnTo>
                    <a:pt x="18514" y="4695"/>
                  </a:lnTo>
                  <a:lnTo>
                    <a:pt x="19836" y="3756"/>
                  </a:lnTo>
                  <a:lnTo>
                    <a:pt x="20718" y="939"/>
                  </a:lnTo>
                  <a:lnTo>
                    <a:pt x="21159" y="939"/>
                  </a:lnTo>
                  <a:lnTo>
                    <a:pt x="21600" y="939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6149160" y="4431600"/>
              <a:ext cx="191880" cy="113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649" y="8485"/>
                  </a:moveTo>
                  <a:lnTo>
                    <a:pt x="16200" y="8485"/>
                  </a:lnTo>
                  <a:lnTo>
                    <a:pt x="16200" y="7714"/>
                  </a:lnTo>
                  <a:lnTo>
                    <a:pt x="16200" y="7714"/>
                  </a:lnTo>
                  <a:lnTo>
                    <a:pt x="16200" y="6942"/>
                  </a:lnTo>
                  <a:lnTo>
                    <a:pt x="15299" y="7714"/>
                  </a:lnTo>
                  <a:lnTo>
                    <a:pt x="13949" y="7714"/>
                  </a:lnTo>
                  <a:lnTo>
                    <a:pt x="13049" y="7714"/>
                  </a:lnTo>
                  <a:lnTo>
                    <a:pt x="12150" y="6942"/>
                  </a:lnTo>
                  <a:lnTo>
                    <a:pt x="10800" y="6942"/>
                  </a:lnTo>
                  <a:lnTo>
                    <a:pt x="10349" y="6171"/>
                  </a:lnTo>
                  <a:lnTo>
                    <a:pt x="9450" y="6171"/>
                  </a:lnTo>
                  <a:lnTo>
                    <a:pt x="8549" y="5400"/>
                  </a:lnTo>
                  <a:lnTo>
                    <a:pt x="7199" y="5400"/>
                  </a:lnTo>
                  <a:lnTo>
                    <a:pt x="6299" y="3856"/>
                  </a:lnTo>
                  <a:lnTo>
                    <a:pt x="5400" y="3856"/>
                  </a:lnTo>
                  <a:lnTo>
                    <a:pt x="4050" y="2314"/>
                  </a:lnTo>
                  <a:lnTo>
                    <a:pt x="3149" y="2314"/>
                  </a:lnTo>
                  <a:lnTo>
                    <a:pt x="2249" y="771"/>
                  </a:lnTo>
                  <a:lnTo>
                    <a:pt x="1350" y="77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71"/>
                  </a:lnTo>
                  <a:lnTo>
                    <a:pt x="449" y="2314"/>
                  </a:lnTo>
                  <a:lnTo>
                    <a:pt x="449" y="3856"/>
                  </a:lnTo>
                  <a:lnTo>
                    <a:pt x="899" y="5400"/>
                  </a:lnTo>
                  <a:lnTo>
                    <a:pt x="1799" y="6942"/>
                  </a:lnTo>
                  <a:lnTo>
                    <a:pt x="1799" y="8485"/>
                  </a:lnTo>
                  <a:lnTo>
                    <a:pt x="2700" y="10800"/>
                  </a:lnTo>
                  <a:lnTo>
                    <a:pt x="3149" y="11571"/>
                  </a:lnTo>
                  <a:lnTo>
                    <a:pt x="4050" y="13114"/>
                  </a:lnTo>
                  <a:lnTo>
                    <a:pt x="4949" y="14656"/>
                  </a:lnTo>
                  <a:lnTo>
                    <a:pt x="5400" y="15428"/>
                  </a:lnTo>
                  <a:lnTo>
                    <a:pt x="6299" y="16971"/>
                  </a:lnTo>
                  <a:lnTo>
                    <a:pt x="7199" y="17742"/>
                  </a:lnTo>
                  <a:lnTo>
                    <a:pt x="7649" y="17742"/>
                  </a:lnTo>
                  <a:lnTo>
                    <a:pt x="8100" y="17742"/>
                  </a:lnTo>
                  <a:lnTo>
                    <a:pt x="8999" y="18514"/>
                  </a:lnTo>
                  <a:lnTo>
                    <a:pt x="9450" y="18514"/>
                  </a:lnTo>
                  <a:lnTo>
                    <a:pt x="10349" y="19285"/>
                  </a:lnTo>
                  <a:lnTo>
                    <a:pt x="10800" y="19285"/>
                  </a:lnTo>
                  <a:lnTo>
                    <a:pt x="11699" y="19285"/>
                  </a:lnTo>
                  <a:lnTo>
                    <a:pt x="11699" y="20828"/>
                  </a:lnTo>
                  <a:lnTo>
                    <a:pt x="12599" y="20828"/>
                  </a:lnTo>
                  <a:lnTo>
                    <a:pt x="13500" y="20828"/>
                  </a:lnTo>
                  <a:lnTo>
                    <a:pt x="13949" y="21600"/>
                  </a:lnTo>
                  <a:lnTo>
                    <a:pt x="14850" y="21600"/>
                  </a:lnTo>
                  <a:lnTo>
                    <a:pt x="15299" y="20828"/>
                  </a:lnTo>
                  <a:lnTo>
                    <a:pt x="16200" y="21600"/>
                  </a:lnTo>
                  <a:lnTo>
                    <a:pt x="16649" y="21600"/>
                  </a:lnTo>
                  <a:lnTo>
                    <a:pt x="17550" y="20828"/>
                  </a:lnTo>
                  <a:lnTo>
                    <a:pt x="18449" y="20828"/>
                  </a:lnTo>
                  <a:lnTo>
                    <a:pt x="19349" y="20056"/>
                  </a:lnTo>
                  <a:lnTo>
                    <a:pt x="20250" y="19285"/>
                  </a:lnTo>
                  <a:lnTo>
                    <a:pt x="20699" y="19285"/>
                  </a:lnTo>
                  <a:lnTo>
                    <a:pt x="21149" y="18514"/>
                  </a:lnTo>
                  <a:lnTo>
                    <a:pt x="21600" y="17742"/>
                  </a:lnTo>
                  <a:lnTo>
                    <a:pt x="21600" y="17742"/>
                  </a:lnTo>
                  <a:lnTo>
                    <a:pt x="21600" y="16971"/>
                  </a:lnTo>
                  <a:lnTo>
                    <a:pt x="21600" y="16200"/>
                  </a:lnTo>
                  <a:lnTo>
                    <a:pt x="21149" y="15428"/>
                  </a:lnTo>
                  <a:lnTo>
                    <a:pt x="20699" y="14656"/>
                  </a:lnTo>
                  <a:lnTo>
                    <a:pt x="20699" y="13114"/>
                  </a:lnTo>
                  <a:lnTo>
                    <a:pt x="19799" y="12342"/>
                  </a:lnTo>
                  <a:lnTo>
                    <a:pt x="18900" y="12342"/>
                  </a:lnTo>
                  <a:lnTo>
                    <a:pt x="17999" y="10800"/>
                  </a:lnTo>
                  <a:lnTo>
                    <a:pt x="17550" y="10028"/>
                  </a:lnTo>
                  <a:lnTo>
                    <a:pt x="16649" y="8485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5888880" y="4076640"/>
              <a:ext cx="207360" cy="301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184" y="13718"/>
                  </a:moveTo>
                  <a:lnTo>
                    <a:pt x="21184" y="12259"/>
                  </a:lnTo>
                  <a:lnTo>
                    <a:pt x="21184" y="10507"/>
                  </a:lnTo>
                  <a:lnTo>
                    <a:pt x="21600" y="8756"/>
                  </a:lnTo>
                  <a:lnTo>
                    <a:pt x="20769" y="7589"/>
                  </a:lnTo>
                  <a:lnTo>
                    <a:pt x="19938" y="6421"/>
                  </a:lnTo>
                  <a:lnTo>
                    <a:pt x="19107" y="4961"/>
                  </a:lnTo>
                  <a:lnTo>
                    <a:pt x="18276" y="3794"/>
                  </a:lnTo>
                  <a:lnTo>
                    <a:pt x="17861" y="2918"/>
                  </a:lnTo>
                  <a:lnTo>
                    <a:pt x="16200" y="2043"/>
                  </a:lnTo>
                  <a:lnTo>
                    <a:pt x="15369" y="1459"/>
                  </a:lnTo>
                  <a:lnTo>
                    <a:pt x="13707" y="1167"/>
                  </a:lnTo>
                  <a:lnTo>
                    <a:pt x="12461" y="583"/>
                  </a:lnTo>
                  <a:lnTo>
                    <a:pt x="11215" y="583"/>
                  </a:lnTo>
                  <a:lnTo>
                    <a:pt x="9553" y="291"/>
                  </a:lnTo>
                  <a:lnTo>
                    <a:pt x="8722" y="0"/>
                  </a:lnTo>
                  <a:lnTo>
                    <a:pt x="7476" y="291"/>
                  </a:lnTo>
                  <a:lnTo>
                    <a:pt x="7061" y="0"/>
                  </a:lnTo>
                  <a:lnTo>
                    <a:pt x="6645" y="291"/>
                  </a:lnTo>
                  <a:lnTo>
                    <a:pt x="6230" y="583"/>
                  </a:lnTo>
                  <a:lnTo>
                    <a:pt x="5815" y="875"/>
                  </a:lnTo>
                  <a:lnTo>
                    <a:pt x="4984" y="1167"/>
                  </a:lnTo>
                  <a:lnTo>
                    <a:pt x="4569" y="1459"/>
                  </a:lnTo>
                  <a:lnTo>
                    <a:pt x="4569" y="1751"/>
                  </a:lnTo>
                  <a:lnTo>
                    <a:pt x="4153" y="2043"/>
                  </a:lnTo>
                  <a:lnTo>
                    <a:pt x="3322" y="2626"/>
                  </a:lnTo>
                  <a:lnTo>
                    <a:pt x="2907" y="2626"/>
                  </a:lnTo>
                  <a:lnTo>
                    <a:pt x="2492" y="2918"/>
                  </a:lnTo>
                  <a:lnTo>
                    <a:pt x="2076" y="3210"/>
                  </a:lnTo>
                  <a:lnTo>
                    <a:pt x="1245" y="3502"/>
                  </a:lnTo>
                  <a:lnTo>
                    <a:pt x="830" y="3794"/>
                  </a:lnTo>
                  <a:lnTo>
                    <a:pt x="415" y="3794"/>
                  </a:lnTo>
                  <a:lnTo>
                    <a:pt x="0" y="3794"/>
                  </a:lnTo>
                  <a:lnTo>
                    <a:pt x="0" y="4086"/>
                  </a:lnTo>
                  <a:lnTo>
                    <a:pt x="0" y="4378"/>
                  </a:lnTo>
                  <a:lnTo>
                    <a:pt x="0" y="4378"/>
                  </a:lnTo>
                  <a:lnTo>
                    <a:pt x="415" y="4378"/>
                  </a:lnTo>
                  <a:lnTo>
                    <a:pt x="830" y="4378"/>
                  </a:lnTo>
                  <a:lnTo>
                    <a:pt x="1245" y="4669"/>
                  </a:lnTo>
                  <a:lnTo>
                    <a:pt x="1661" y="4961"/>
                  </a:lnTo>
                  <a:lnTo>
                    <a:pt x="2492" y="4961"/>
                  </a:lnTo>
                  <a:lnTo>
                    <a:pt x="3322" y="5253"/>
                  </a:lnTo>
                  <a:lnTo>
                    <a:pt x="3738" y="5545"/>
                  </a:lnTo>
                  <a:lnTo>
                    <a:pt x="4569" y="5837"/>
                  </a:lnTo>
                  <a:lnTo>
                    <a:pt x="5400" y="5837"/>
                  </a:lnTo>
                  <a:lnTo>
                    <a:pt x="6230" y="5837"/>
                  </a:lnTo>
                  <a:lnTo>
                    <a:pt x="7061" y="6129"/>
                  </a:lnTo>
                  <a:lnTo>
                    <a:pt x="7476" y="5837"/>
                  </a:lnTo>
                  <a:lnTo>
                    <a:pt x="8307" y="5837"/>
                  </a:lnTo>
                  <a:lnTo>
                    <a:pt x="8307" y="5545"/>
                  </a:lnTo>
                  <a:lnTo>
                    <a:pt x="8722" y="5837"/>
                  </a:lnTo>
                  <a:lnTo>
                    <a:pt x="9138" y="5837"/>
                  </a:lnTo>
                  <a:lnTo>
                    <a:pt x="9553" y="5837"/>
                  </a:lnTo>
                  <a:lnTo>
                    <a:pt x="9553" y="5837"/>
                  </a:lnTo>
                  <a:lnTo>
                    <a:pt x="9969" y="5837"/>
                  </a:lnTo>
                  <a:lnTo>
                    <a:pt x="10384" y="6129"/>
                  </a:lnTo>
                  <a:lnTo>
                    <a:pt x="10800" y="6129"/>
                  </a:lnTo>
                  <a:lnTo>
                    <a:pt x="11215" y="6129"/>
                  </a:lnTo>
                  <a:lnTo>
                    <a:pt x="12045" y="6129"/>
                  </a:lnTo>
                  <a:lnTo>
                    <a:pt x="12461" y="6713"/>
                  </a:lnTo>
                  <a:lnTo>
                    <a:pt x="12876" y="7005"/>
                  </a:lnTo>
                  <a:lnTo>
                    <a:pt x="12876" y="7297"/>
                  </a:lnTo>
                  <a:lnTo>
                    <a:pt x="13292" y="7589"/>
                  </a:lnTo>
                  <a:lnTo>
                    <a:pt x="14122" y="8172"/>
                  </a:lnTo>
                  <a:lnTo>
                    <a:pt x="14122" y="8756"/>
                  </a:lnTo>
                  <a:lnTo>
                    <a:pt x="14122" y="9048"/>
                  </a:lnTo>
                  <a:lnTo>
                    <a:pt x="14122" y="9048"/>
                  </a:lnTo>
                  <a:lnTo>
                    <a:pt x="14122" y="9340"/>
                  </a:lnTo>
                  <a:lnTo>
                    <a:pt x="14538" y="9632"/>
                  </a:lnTo>
                  <a:lnTo>
                    <a:pt x="14538" y="9924"/>
                  </a:lnTo>
                  <a:lnTo>
                    <a:pt x="14122" y="10215"/>
                  </a:lnTo>
                  <a:lnTo>
                    <a:pt x="14122" y="10800"/>
                  </a:lnTo>
                  <a:lnTo>
                    <a:pt x="14122" y="10800"/>
                  </a:lnTo>
                  <a:lnTo>
                    <a:pt x="14122" y="11091"/>
                  </a:lnTo>
                  <a:lnTo>
                    <a:pt x="14122" y="11383"/>
                  </a:lnTo>
                  <a:lnTo>
                    <a:pt x="14122" y="11383"/>
                  </a:lnTo>
                  <a:lnTo>
                    <a:pt x="14122" y="11675"/>
                  </a:lnTo>
                  <a:lnTo>
                    <a:pt x="14122" y="11967"/>
                  </a:lnTo>
                  <a:lnTo>
                    <a:pt x="14122" y="12259"/>
                  </a:lnTo>
                  <a:lnTo>
                    <a:pt x="14122" y="12551"/>
                  </a:lnTo>
                  <a:lnTo>
                    <a:pt x="14122" y="12551"/>
                  </a:lnTo>
                  <a:lnTo>
                    <a:pt x="14122" y="13134"/>
                  </a:lnTo>
                  <a:lnTo>
                    <a:pt x="14122" y="14010"/>
                  </a:lnTo>
                  <a:lnTo>
                    <a:pt x="14122" y="14594"/>
                  </a:lnTo>
                  <a:lnTo>
                    <a:pt x="13707" y="15178"/>
                  </a:lnTo>
                  <a:lnTo>
                    <a:pt x="13292" y="15761"/>
                  </a:lnTo>
                  <a:lnTo>
                    <a:pt x="12876" y="16345"/>
                  </a:lnTo>
                  <a:lnTo>
                    <a:pt x="12461" y="16053"/>
                  </a:lnTo>
                  <a:lnTo>
                    <a:pt x="11630" y="16637"/>
                  </a:lnTo>
                  <a:lnTo>
                    <a:pt x="11215" y="17221"/>
                  </a:lnTo>
                  <a:lnTo>
                    <a:pt x="10800" y="17513"/>
                  </a:lnTo>
                  <a:lnTo>
                    <a:pt x="10384" y="17513"/>
                  </a:lnTo>
                  <a:lnTo>
                    <a:pt x="9553" y="17805"/>
                  </a:lnTo>
                  <a:lnTo>
                    <a:pt x="9553" y="18097"/>
                  </a:lnTo>
                  <a:lnTo>
                    <a:pt x="8722" y="18389"/>
                  </a:lnTo>
                  <a:lnTo>
                    <a:pt x="8307" y="18389"/>
                  </a:lnTo>
                  <a:lnTo>
                    <a:pt x="8307" y="18680"/>
                  </a:lnTo>
                  <a:lnTo>
                    <a:pt x="7892" y="18680"/>
                  </a:lnTo>
                  <a:lnTo>
                    <a:pt x="7476" y="18680"/>
                  </a:lnTo>
                  <a:lnTo>
                    <a:pt x="7476" y="18680"/>
                  </a:lnTo>
                  <a:lnTo>
                    <a:pt x="7061" y="18389"/>
                  </a:lnTo>
                  <a:lnTo>
                    <a:pt x="6645" y="18097"/>
                  </a:lnTo>
                  <a:lnTo>
                    <a:pt x="6230" y="17805"/>
                  </a:lnTo>
                  <a:lnTo>
                    <a:pt x="6230" y="17513"/>
                  </a:lnTo>
                  <a:lnTo>
                    <a:pt x="6230" y="17221"/>
                  </a:lnTo>
                  <a:lnTo>
                    <a:pt x="5815" y="16929"/>
                  </a:lnTo>
                  <a:lnTo>
                    <a:pt x="5400" y="16637"/>
                  </a:lnTo>
                  <a:lnTo>
                    <a:pt x="4984" y="16345"/>
                  </a:lnTo>
                  <a:lnTo>
                    <a:pt x="4984" y="15761"/>
                  </a:lnTo>
                  <a:lnTo>
                    <a:pt x="4569" y="15469"/>
                  </a:lnTo>
                  <a:lnTo>
                    <a:pt x="4153" y="14886"/>
                  </a:lnTo>
                  <a:lnTo>
                    <a:pt x="3738" y="14886"/>
                  </a:lnTo>
                  <a:lnTo>
                    <a:pt x="3322" y="14886"/>
                  </a:lnTo>
                  <a:lnTo>
                    <a:pt x="3322" y="14886"/>
                  </a:lnTo>
                  <a:lnTo>
                    <a:pt x="3322" y="14886"/>
                  </a:lnTo>
                  <a:lnTo>
                    <a:pt x="3322" y="14886"/>
                  </a:lnTo>
                  <a:lnTo>
                    <a:pt x="3322" y="15469"/>
                  </a:lnTo>
                  <a:lnTo>
                    <a:pt x="3322" y="15761"/>
                  </a:lnTo>
                  <a:lnTo>
                    <a:pt x="2907" y="16053"/>
                  </a:lnTo>
                  <a:lnTo>
                    <a:pt x="2907" y="16345"/>
                  </a:lnTo>
                  <a:lnTo>
                    <a:pt x="2907" y="16345"/>
                  </a:lnTo>
                  <a:lnTo>
                    <a:pt x="3738" y="18097"/>
                  </a:lnTo>
                  <a:lnTo>
                    <a:pt x="4984" y="19556"/>
                  </a:lnTo>
                  <a:lnTo>
                    <a:pt x="5400" y="20140"/>
                  </a:lnTo>
                  <a:lnTo>
                    <a:pt x="7061" y="21015"/>
                  </a:lnTo>
                  <a:lnTo>
                    <a:pt x="8722" y="21600"/>
                  </a:lnTo>
                  <a:lnTo>
                    <a:pt x="9553" y="21307"/>
                  </a:lnTo>
                  <a:lnTo>
                    <a:pt x="11215" y="21307"/>
                  </a:lnTo>
                  <a:lnTo>
                    <a:pt x="12045" y="21307"/>
                  </a:lnTo>
                  <a:lnTo>
                    <a:pt x="13707" y="20432"/>
                  </a:lnTo>
                  <a:lnTo>
                    <a:pt x="14953" y="19848"/>
                  </a:lnTo>
                  <a:lnTo>
                    <a:pt x="16615" y="18972"/>
                  </a:lnTo>
                  <a:lnTo>
                    <a:pt x="17861" y="17805"/>
                  </a:lnTo>
                  <a:lnTo>
                    <a:pt x="18692" y="17221"/>
                  </a:lnTo>
                  <a:lnTo>
                    <a:pt x="19522" y="15761"/>
                  </a:lnTo>
                  <a:lnTo>
                    <a:pt x="20353" y="14594"/>
                  </a:lnTo>
                  <a:lnTo>
                    <a:pt x="21184" y="13718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5809320" y="4402800"/>
              <a:ext cx="362520" cy="227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428" y="13114"/>
                  </a:moveTo>
                  <a:lnTo>
                    <a:pt x="14953" y="13114"/>
                  </a:lnTo>
                  <a:lnTo>
                    <a:pt x="14241" y="12728"/>
                  </a:lnTo>
                  <a:lnTo>
                    <a:pt x="13292" y="13114"/>
                  </a:lnTo>
                  <a:lnTo>
                    <a:pt x="13054" y="13500"/>
                  </a:lnTo>
                  <a:lnTo>
                    <a:pt x="12342" y="13114"/>
                  </a:lnTo>
                  <a:lnTo>
                    <a:pt x="11867" y="13500"/>
                  </a:lnTo>
                  <a:lnTo>
                    <a:pt x="11155" y="13500"/>
                  </a:lnTo>
                  <a:lnTo>
                    <a:pt x="10918" y="13114"/>
                  </a:lnTo>
                  <a:lnTo>
                    <a:pt x="10206" y="13500"/>
                  </a:lnTo>
                  <a:lnTo>
                    <a:pt x="9731" y="13500"/>
                  </a:lnTo>
                  <a:lnTo>
                    <a:pt x="9256" y="13500"/>
                  </a:lnTo>
                  <a:lnTo>
                    <a:pt x="8544" y="13500"/>
                  </a:lnTo>
                  <a:lnTo>
                    <a:pt x="8070" y="13885"/>
                  </a:lnTo>
                  <a:lnTo>
                    <a:pt x="7120" y="13885"/>
                  </a:lnTo>
                  <a:lnTo>
                    <a:pt x="6645" y="13885"/>
                  </a:lnTo>
                  <a:lnTo>
                    <a:pt x="5933" y="13885"/>
                  </a:lnTo>
                  <a:lnTo>
                    <a:pt x="5696" y="13885"/>
                  </a:lnTo>
                  <a:lnTo>
                    <a:pt x="5221" y="13885"/>
                  </a:lnTo>
                  <a:lnTo>
                    <a:pt x="4984" y="13500"/>
                  </a:lnTo>
                  <a:lnTo>
                    <a:pt x="4984" y="13114"/>
                  </a:lnTo>
                  <a:lnTo>
                    <a:pt x="4509" y="12728"/>
                  </a:lnTo>
                  <a:lnTo>
                    <a:pt x="4034" y="12342"/>
                  </a:lnTo>
                  <a:lnTo>
                    <a:pt x="4034" y="11571"/>
                  </a:lnTo>
                  <a:lnTo>
                    <a:pt x="3560" y="11185"/>
                  </a:lnTo>
                  <a:lnTo>
                    <a:pt x="3322" y="10414"/>
                  </a:lnTo>
                  <a:lnTo>
                    <a:pt x="3322" y="9256"/>
                  </a:lnTo>
                  <a:lnTo>
                    <a:pt x="3085" y="8485"/>
                  </a:lnTo>
                  <a:lnTo>
                    <a:pt x="3322" y="7714"/>
                  </a:lnTo>
                  <a:lnTo>
                    <a:pt x="3322" y="7328"/>
                  </a:lnTo>
                  <a:lnTo>
                    <a:pt x="3322" y="6942"/>
                  </a:lnTo>
                  <a:lnTo>
                    <a:pt x="3560" y="6556"/>
                  </a:lnTo>
                  <a:lnTo>
                    <a:pt x="4034" y="5785"/>
                  </a:lnTo>
                  <a:lnTo>
                    <a:pt x="4272" y="5400"/>
                  </a:lnTo>
                  <a:lnTo>
                    <a:pt x="4272" y="5014"/>
                  </a:lnTo>
                  <a:lnTo>
                    <a:pt x="4509" y="4628"/>
                  </a:lnTo>
                  <a:lnTo>
                    <a:pt x="4747" y="4242"/>
                  </a:lnTo>
                  <a:lnTo>
                    <a:pt x="4747" y="3856"/>
                  </a:lnTo>
                  <a:lnTo>
                    <a:pt x="4984" y="3856"/>
                  </a:lnTo>
                  <a:lnTo>
                    <a:pt x="4984" y="3471"/>
                  </a:lnTo>
                  <a:lnTo>
                    <a:pt x="5221" y="2700"/>
                  </a:lnTo>
                  <a:lnTo>
                    <a:pt x="5221" y="2314"/>
                  </a:lnTo>
                  <a:lnTo>
                    <a:pt x="5221" y="1928"/>
                  </a:lnTo>
                  <a:lnTo>
                    <a:pt x="5221" y="1542"/>
                  </a:lnTo>
                  <a:lnTo>
                    <a:pt x="4984" y="1156"/>
                  </a:lnTo>
                  <a:lnTo>
                    <a:pt x="4984" y="1156"/>
                  </a:lnTo>
                  <a:lnTo>
                    <a:pt x="4984" y="385"/>
                  </a:lnTo>
                  <a:lnTo>
                    <a:pt x="4984" y="0"/>
                  </a:lnTo>
                  <a:lnTo>
                    <a:pt x="4747" y="0"/>
                  </a:lnTo>
                  <a:lnTo>
                    <a:pt x="4509" y="0"/>
                  </a:lnTo>
                  <a:lnTo>
                    <a:pt x="4034" y="0"/>
                  </a:lnTo>
                  <a:lnTo>
                    <a:pt x="3797" y="0"/>
                  </a:lnTo>
                  <a:lnTo>
                    <a:pt x="3322" y="385"/>
                  </a:lnTo>
                  <a:lnTo>
                    <a:pt x="3085" y="1542"/>
                  </a:lnTo>
                  <a:lnTo>
                    <a:pt x="2373" y="2314"/>
                  </a:lnTo>
                  <a:lnTo>
                    <a:pt x="1898" y="3471"/>
                  </a:lnTo>
                  <a:lnTo>
                    <a:pt x="1424" y="5014"/>
                  </a:lnTo>
                  <a:lnTo>
                    <a:pt x="949" y="6171"/>
                  </a:lnTo>
                  <a:lnTo>
                    <a:pt x="711" y="7328"/>
                  </a:lnTo>
                  <a:lnTo>
                    <a:pt x="474" y="8871"/>
                  </a:lnTo>
                  <a:lnTo>
                    <a:pt x="237" y="10414"/>
                  </a:lnTo>
                  <a:lnTo>
                    <a:pt x="0" y="11956"/>
                  </a:lnTo>
                  <a:lnTo>
                    <a:pt x="0" y="12728"/>
                  </a:lnTo>
                  <a:lnTo>
                    <a:pt x="237" y="13885"/>
                  </a:lnTo>
                  <a:lnTo>
                    <a:pt x="711" y="15428"/>
                  </a:lnTo>
                  <a:lnTo>
                    <a:pt x="949" y="16585"/>
                  </a:lnTo>
                  <a:lnTo>
                    <a:pt x="1186" y="17356"/>
                  </a:lnTo>
                  <a:lnTo>
                    <a:pt x="1661" y="18128"/>
                  </a:lnTo>
                  <a:lnTo>
                    <a:pt x="1898" y="18900"/>
                  </a:lnTo>
                  <a:lnTo>
                    <a:pt x="2373" y="19285"/>
                  </a:lnTo>
                  <a:lnTo>
                    <a:pt x="2848" y="20056"/>
                  </a:lnTo>
                  <a:lnTo>
                    <a:pt x="3322" y="20056"/>
                  </a:lnTo>
                  <a:lnTo>
                    <a:pt x="3560" y="20828"/>
                  </a:lnTo>
                  <a:lnTo>
                    <a:pt x="4034" y="20828"/>
                  </a:lnTo>
                  <a:lnTo>
                    <a:pt x="4272" y="20828"/>
                  </a:lnTo>
                  <a:lnTo>
                    <a:pt x="4747" y="21214"/>
                  </a:lnTo>
                  <a:lnTo>
                    <a:pt x="5221" y="21214"/>
                  </a:lnTo>
                  <a:lnTo>
                    <a:pt x="5696" y="21214"/>
                  </a:lnTo>
                  <a:lnTo>
                    <a:pt x="6171" y="21600"/>
                  </a:lnTo>
                  <a:lnTo>
                    <a:pt x="6645" y="21214"/>
                  </a:lnTo>
                  <a:lnTo>
                    <a:pt x="7120" y="21600"/>
                  </a:lnTo>
                  <a:lnTo>
                    <a:pt x="7595" y="21214"/>
                  </a:lnTo>
                  <a:lnTo>
                    <a:pt x="8070" y="21214"/>
                  </a:lnTo>
                  <a:lnTo>
                    <a:pt x="8544" y="21214"/>
                  </a:lnTo>
                  <a:lnTo>
                    <a:pt x="9019" y="20828"/>
                  </a:lnTo>
                  <a:lnTo>
                    <a:pt x="9494" y="21214"/>
                  </a:lnTo>
                  <a:lnTo>
                    <a:pt x="9969" y="20828"/>
                  </a:lnTo>
                  <a:lnTo>
                    <a:pt x="10443" y="20442"/>
                  </a:lnTo>
                  <a:lnTo>
                    <a:pt x="10918" y="20828"/>
                  </a:lnTo>
                  <a:lnTo>
                    <a:pt x="11155" y="20442"/>
                  </a:lnTo>
                  <a:lnTo>
                    <a:pt x="11630" y="20442"/>
                  </a:lnTo>
                  <a:lnTo>
                    <a:pt x="11867" y="20442"/>
                  </a:lnTo>
                  <a:lnTo>
                    <a:pt x="12105" y="20442"/>
                  </a:lnTo>
                  <a:lnTo>
                    <a:pt x="12580" y="20442"/>
                  </a:lnTo>
                  <a:lnTo>
                    <a:pt x="13054" y="20442"/>
                  </a:lnTo>
                  <a:lnTo>
                    <a:pt x="13292" y="20442"/>
                  </a:lnTo>
                  <a:lnTo>
                    <a:pt x="13766" y="20828"/>
                  </a:lnTo>
                  <a:lnTo>
                    <a:pt x="14241" y="21214"/>
                  </a:lnTo>
                  <a:lnTo>
                    <a:pt x="14478" y="20828"/>
                  </a:lnTo>
                  <a:lnTo>
                    <a:pt x="14953" y="21214"/>
                  </a:lnTo>
                  <a:lnTo>
                    <a:pt x="15428" y="21214"/>
                  </a:lnTo>
                  <a:lnTo>
                    <a:pt x="15903" y="21600"/>
                  </a:lnTo>
                  <a:lnTo>
                    <a:pt x="15903" y="21214"/>
                  </a:lnTo>
                  <a:lnTo>
                    <a:pt x="16615" y="20828"/>
                  </a:lnTo>
                  <a:lnTo>
                    <a:pt x="17089" y="20828"/>
                  </a:lnTo>
                  <a:lnTo>
                    <a:pt x="17564" y="20828"/>
                  </a:lnTo>
                  <a:lnTo>
                    <a:pt x="17802" y="20442"/>
                  </a:lnTo>
                  <a:lnTo>
                    <a:pt x="18276" y="20056"/>
                  </a:lnTo>
                  <a:lnTo>
                    <a:pt x="18751" y="20056"/>
                  </a:lnTo>
                  <a:lnTo>
                    <a:pt x="18988" y="19671"/>
                  </a:lnTo>
                  <a:lnTo>
                    <a:pt x="19463" y="19285"/>
                  </a:lnTo>
                  <a:lnTo>
                    <a:pt x="19938" y="19671"/>
                  </a:lnTo>
                  <a:lnTo>
                    <a:pt x="20175" y="19285"/>
                  </a:lnTo>
                  <a:lnTo>
                    <a:pt x="20175" y="18514"/>
                  </a:lnTo>
                  <a:lnTo>
                    <a:pt x="20650" y="18514"/>
                  </a:lnTo>
                  <a:lnTo>
                    <a:pt x="21125" y="17742"/>
                  </a:lnTo>
                  <a:lnTo>
                    <a:pt x="21125" y="16971"/>
                  </a:lnTo>
                  <a:lnTo>
                    <a:pt x="21125" y="16585"/>
                  </a:lnTo>
                  <a:lnTo>
                    <a:pt x="21600" y="15814"/>
                  </a:lnTo>
                  <a:lnTo>
                    <a:pt x="21362" y="15428"/>
                  </a:lnTo>
                  <a:lnTo>
                    <a:pt x="21362" y="14656"/>
                  </a:lnTo>
                  <a:lnTo>
                    <a:pt x="21362" y="14271"/>
                  </a:lnTo>
                  <a:lnTo>
                    <a:pt x="21125" y="13885"/>
                  </a:lnTo>
                  <a:lnTo>
                    <a:pt x="20887" y="13114"/>
                  </a:lnTo>
                  <a:lnTo>
                    <a:pt x="20887" y="13114"/>
                  </a:lnTo>
                  <a:lnTo>
                    <a:pt x="20413" y="12728"/>
                  </a:lnTo>
                  <a:lnTo>
                    <a:pt x="19938" y="12728"/>
                  </a:lnTo>
                  <a:lnTo>
                    <a:pt x="19463" y="12728"/>
                  </a:lnTo>
                  <a:lnTo>
                    <a:pt x="18988" y="12728"/>
                  </a:lnTo>
                  <a:lnTo>
                    <a:pt x="18751" y="12728"/>
                  </a:lnTo>
                  <a:lnTo>
                    <a:pt x="18514" y="12728"/>
                  </a:lnTo>
                  <a:lnTo>
                    <a:pt x="18276" y="12728"/>
                  </a:lnTo>
                  <a:lnTo>
                    <a:pt x="18039" y="12728"/>
                  </a:lnTo>
                  <a:lnTo>
                    <a:pt x="17802" y="12728"/>
                  </a:lnTo>
                  <a:lnTo>
                    <a:pt x="17564" y="12342"/>
                  </a:lnTo>
                  <a:lnTo>
                    <a:pt x="17327" y="12342"/>
                  </a:lnTo>
                  <a:lnTo>
                    <a:pt x="17089" y="12728"/>
                  </a:lnTo>
                  <a:lnTo>
                    <a:pt x="17089" y="12728"/>
                  </a:lnTo>
                  <a:lnTo>
                    <a:pt x="16852" y="12728"/>
                  </a:lnTo>
                  <a:lnTo>
                    <a:pt x="16615" y="12728"/>
                  </a:lnTo>
                  <a:lnTo>
                    <a:pt x="16377" y="12728"/>
                  </a:lnTo>
                  <a:lnTo>
                    <a:pt x="16140" y="12728"/>
                  </a:lnTo>
                  <a:lnTo>
                    <a:pt x="15903" y="12728"/>
                  </a:lnTo>
                  <a:lnTo>
                    <a:pt x="15665" y="12728"/>
                  </a:lnTo>
                  <a:lnTo>
                    <a:pt x="15428" y="13114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未知"/>
            <p:cNvSpPr/>
            <p:nvPr/>
          </p:nvSpPr>
          <p:spPr>
            <a:xfrm>
              <a:off x="5387040" y="4186080"/>
              <a:ext cx="489240" cy="19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726" y="14246"/>
                  </a:moveTo>
                  <a:lnTo>
                    <a:pt x="8077" y="13327"/>
                  </a:lnTo>
                  <a:lnTo>
                    <a:pt x="8253" y="12867"/>
                  </a:lnTo>
                  <a:lnTo>
                    <a:pt x="8780" y="11948"/>
                  </a:lnTo>
                  <a:lnTo>
                    <a:pt x="9131" y="11489"/>
                  </a:lnTo>
                  <a:lnTo>
                    <a:pt x="9482" y="11029"/>
                  </a:lnTo>
                  <a:lnTo>
                    <a:pt x="9658" y="11029"/>
                  </a:lnTo>
                  <a:lnTo>
                    <a:pt x="10185" y="10569"/>
                  </a:lnTo>
                  <a:lnTo>
                    <a:pt x="10536" y="10110"/>
                  </a:lnTo>
                  <a:lnTo>
                    <a:pt x="10711" y="9651"/>
                  </a:lnTo>
                  <a:lnTo>
                    <a:pt x="11063" y="9191"/>
                  </a:lnTo>
                  <a:lnTo>
                    <a:pt x="11414" y="8731"/>
                  </a:lnTo>
                  <a:lnTo>
                    <a:pt x="11590" y="8272"/>
                  </a:lnTo>
                  <a:lnTo>
                    <a:pt x="11941" y="7812"/>
                  </a:lnTo>
                  <a:lnTo>
                    <a:pt x="12292" y="7353"/>
                  </a:lnTo>
                  <a:lnTo>
                    <a:pt x="12643" y="7353"/>
                  </a:lnTo>
                  <a:lnTo>
                    <a:pt x="12995" y="6893"/>
                  </a:lnTo>
                  <a:lnTo>
                    <a:pt x="13170" y="6433"/>
                  </a:lnTo>
                  <a:lnTo>
                    <a:pt x="13521" y="6433"/>
                  </a:lnTo>
                  <a:lnTo>
                    <a:pt x="13873" y="5974"/>
                  </a:lnTo>
                  <a:lnTo>
                    <a:pt x="14048" y="5974"/>
                  </a:lnTo>
                  <a:lnTo>
                    <a:pt x="14399" y="5974"/>
                  </a:lnTo>
                  <a:lnTo>
                    <a:pt x="14751" y="5055"/>
                  </a:lnTo>
                  <a:lnTo>
                    <a:pt x="15102" y="4595"/>
                  </a:lnTo>
                  <a:lnTo>
                    <a:pt x="15453" y="4595"/>
                  </a:lnTo>
                  <a:lnTo>
                    <a:pt x="15980" y="4595"/>
                  </a:lnTo>
                  <a:lnTo>
                    <a:pt x="16331" y="4595"/>
                  </a:lnTo>
                  <a:lnTo>
                    <a:pt x="16858" y="4595"/>
                  </a:lnTo>
                  <a:lnTo>
                    <a:pt x="17385" y="4136"/>
                  </a:lnTo>
                  <a:lnTo>
                    <a:pt x="17560" y="4136"/>
                  </a:lnTo>
                  <a:lnTo>
                    <a:pt x="18263" y="4136"/>
                  </a:lnTo>
                  <a:lnTo>
                    <a:pt x="18965" y="4595"/>
                  </a:lnTo>
                  <a:lnTo>
                    <a:pt x="19316" y="5055"/>
                  </a:lnTo>
                  <a:lnTo>
                    <a:pt x="19843" y="5055"/>
                  </a:lnTo>
                  <a:lnTo>
                    <a:pt x="20370" y="5514"/>
                  </a:lnTo>
                  <a:lnTo>
                    <a:pt x="20721" y="5055"/>
                  </a:lnTo>
                  <a:lnTo>
                    <a:pt x="21072" y="5055"/>
                  </a:lnTo>
                  <a:lnTo>
                    <a:pt x="21248" y="4136"/>
                  </a:lnTo>
                  <a:lnTo>
                    <a:pt x="21424" y="3676"/>
                  </a:lnTo>
                  <a:lnTo>
                    <a:pt x="21600" y="2757"/>
                  </a:lnTo>
                  <a:lnTo>
                    <a:pt x="21424" y="2297"/>
                  </a:lnTo>
                  <a:lnTo>
                    <a:pt x="21248" y="1838"/>
                  </a:lnTo>
                  <a:lnTo>
                    <a:pt x="21072" y="918"/>
                  </a:lnTo>
                  <a:lnTo>
                    <a:pt x="20897" y="459"/>
                  </a:lnTo>
                  <a:lnTo>
                    <a:pt x="20721" y="459"/>
                  </a:lnTo>
                  <a:lnTo>
                    <a:pt x="20194" y="0"/>
                  </a:lnTo>
                  <a:lnTo>
                    <a:pt x="19668" y="0"/>
                  </a:lnTo>
                  <a:lnTo>
                    <a:pt x="18965" y="459"/>
                  </a:lnTo>
                  <a:lnTo>
                    <a:pt x="18263" y="459"/>
                  </a:lnTo>
                  <a:lnTo>
                    <a:pt x="17736" y="459"/>
                  </a:lnTo>
                  <a:lnTo>
                    <a:pt x="17560" y="918"/>
                  </a:lnTo>
                  <a:lnTo>
                    <a:pt x="17033" y="1838"/>
                  </a:lnTo>
                  <a:lnTo>
                    <a:pt x="16507" y="1838"/>
                  </a:lnTo>
                  <a:lnTo>
                    <a:pt x="15980" y="1838"/>
                  </a:lnTo>
                  <a:lnTo>
                    <a:pt x="15277" y="2297"/>
                  </a:lnTo>
                  <a:lnTo>
                    <a:pt x="14751" y="2757"/>
                  </a:lnTo>
                  <a:lnTo>
                    <a:pt x="14399" y="3216"/>
                  </a:lnTo>
                  <a:lnTo>
                    <a:pt x="13521" y="3676"/>
                  </a:lnTo>
                  <a:lnTo>
                    <a:pt x="12995" y="3676"/>
                  </a:lnTo>
                  <a:lnTo>
                    <a:pt x="12292" y="3676"/>
                  </a:lnTo>
                  <a:lnTo>
                    <a:pt x="11765" y="4136"/>
                  </a:lnTo>
                  <a:lnTo>
                    <a:pt x="11239" y="4595"/>
                  </a:lnTo>
                  <a:lnTo>
                    <a:pt x="10711" y="4136"/>
                  </a:lnTo>
                  <a:lnTo>
                    <a:pt x="9833" y="4595"/>
                  </a:lnTo>
                  <a:lnTo>
                    <a:pt x="9131" y="5055"/>
                  </a:lnTo>
                  <a:lnTo>
                    <a:pt x="8780" y="5514"/>
                  </a:lnTo>
                  <a:lnTo>
                    <a:pt x="8077" y="5974"/>
                  </a:lnTo>
                  <a:lnTo>
                    <a:pt x="7375" y="5974"/>
                  </a:lnTo>
                  <a:lnTo>
                    <a:pt x="6672" y="6433"/>
                  </a:lnTo>
                  <a:lnTo>
                    <a:pt x="6146" y="6893"/>
                  </a:lnTo>
                  <a:lnTo>
                    <a:pt x="5619" y="7353"/>
                  </a:lnTo>
                  <a:lnTo>
                    <a:pt x="4916" y="7812"/>
                  </a:lnTo>
                  <a:lnTo>
                    <a:pt x="4390" y="8272"/>
                  </a:lnTo>
                  <a:lnTo>
                    <a:pt x="3863" y="8272"/>
                  </a:lnTo>
                  <a:lnTo>
                    <a:pt x="3512" y="9191"/>
                  </a:lnTo>
                  <a:lnTo>
                    <a:pt x="2809" y="9191"/>
                  </a:lnTo>
                  <a:lnTo>
                    <a:pt x="2634" y="10110"/>
                  </a:lnTo>
                  <a:lnTo>
                    <a:pt x="2282" y="10569"/>
                  </a:lnTo>
                  <a:lnTo>
                    <a:pt x="1756" y="11029"/>
                  </a:lnTo>
                  <a:lnTo>
                    <a:pt x="1580" y="11948"/>
                  </a:lnTo>
                  <a:lnTo>
                    <a:pt x="1404" y="12408"/>
                  </a:lnTo>
                  <a:lnTo>
                    <a:pt x="878" y="13787"/>
                  </a:lnTo>
                  <a:lnTo>
                    <a:pt x="526" y="15165"/>
                  </a:lnTo>
                  <a:lnTo>
                    <a:pt x="351" y="16084"/>
                  </a:lnTo>
                  <a:lnTo>
                    <a:pt x="175" y="17004"/>
                  </a:lnTo>
                  <a:lnTo>
                    <a:pt x="175" y="18382"/>
                  </a:lnTo>
                  <a:lnTo>
                    <a:pt x="0" y="19302"/>
                  </a:lnTo>
                  <a:lnTo>
                    <a:pt x="0" y="19761"/>
                  </a:lnTo>
                  <a:lnTo>
                    <a:pt x="175" y="20220"/>
                  </a:lnTo>
                  <a:lnTo>
                    <a:pt x="351" y="21140"/>
                  </a:lnTo>
                  <a:lnTo>
                    <a:pt x="526" y="21140"/>
                  </a:lnTo>
                  <a:lnTo>
                    <a:pt x="878" y="21140"/>
                  </a:lnTo>
                  <a:lnTo>
                    <a:pt x="1229" y="21600"/>
                  </a:lnTo>
                  <a:lnTo>
                    <a:pt x="1580" y="21140"/>
                  </a:lnTo>
                  <a:lnTo>
                    <a:pt x="1756" y="20680"/>
                  </a:lnTo>
                  <a:lnTo>
                    <a:pt x="2107" y="20680"/>
                  </a:lnTo>
                  <a:lnTo>
                    <a:pt x="2458" y="19761"/>
                  </a:lnTo>
                  <a:lnTo>
                    <a:pt x="2985" y="19761"/>
                  </a:lnTo>
                  <a:lnTo>
                    <a:pt x="3336" y="18842"/>
                  </a:lnTo>
                  <a:lnTo>
                    <a:pt x="3687" y="18382"/>
                  </a:lnTo>
                  <a:lnTo>
                    <a:pt x="3863" y="18382"/>
                  </a:lnTo>
                  <a:lnTo>
                    <a:pt x="4214" y="17923"/>
                  </a:lnTo>
                  <a:lnTo>
                    <a:pt x="4741" y="17923"/>
                  </a:lnTo>
                  <a:lnTo>
                    <a:pt x="4916" y="17463"/>
                  </a:lnTo>
                  <a:lnTo>
                    <a:pt x="5092" y="17004"/>
                  </a:lnTo>
                  <a:lnTo>
                    <a:pt x="5268" y="16544"/>
                  </a:lnTo>
                  <a:lnTo>
                    <a:pt x="5619" y="17004"/>
                  </a:lnTo>
                  <a:lnTo>
                    <a:pt x="5794" y="16544"/>
                  </a:lnTo>
                  <a:lnTo>
                    <a:pt x="6146" y="16084"/>
                  </a:lnTo>
                  <a:lnTo>
                    <a:pt x="6497" y="16084"/>
                  </a:lnTo>
                  <a:lnTo>
                    <a:pt x="6848" y="15165"/>
                  </a:lnTo>
                  <a:lnTo>
                    <a:pt x="7199" y="14706"/>
                  </a:lnTo>
                  <a:lnTo>
                    <a:pt x="7726" y="14246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5262480" y="4959000"/>
              <a:ext cx="650520" cy="866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443" y="4765"/>
                  </a:moveTo>
                  <a:lnTo>
                    <a:pt x="14708" y="4664"/>
                  </a:lnTo>
                  <a:lnTo>
                    <a:pt x="14841" y="4461"/>
                  </a:lnTo>
                  <a:lnTo>
                    <a:pt x="14973" y="4258"/>
                  </a:lnTo>
                  <a:lnTo>
                    <a:pt x="15106" y="3954"/>
                  </a:lnTo>
                  <a:lnTo>
                    <a:pt x="15239" y="3650"/>
                  </a:lnTo>
                  <a:lnTo>
                    <a:pt x="15371" y="3447"/>
                  </a:lnTo>
                  <a:lnTo>
                    <a:pt x="15504" y="3143"/>
                  </a:lnTo>
                  <a:lnTo>
                    <a:pt x="15769" y="2737"/>
                  </a:lnTo>
                  <a:lnTo>
                    <a:pt x="15769" y="2433"/>
                  </a:lnTo>
                  <a:lnTo>
                    <a:pt x="16034" y="2027"/>
                  </a:lnTo>
                  <a:lnTo>
                    <a:pt x="16166" y="1926"/>
                  </a:lnTo>
                  <a:lnTo>
                    <a:pt x="16299" y="1622"/>
                  </a:lnTo>
                  <a:lnTo>
                    <a:pt x="16564" y="1419"/>
                  </a:lnTo>
                  <a:lnTo>
                    <a:pt x="16829" y="1115"/>
                  </a:lnTo>
                  <a:lnTo>
                    <a:pt x="17094" y="1115"/>
                  </a:lnTo>
                  <a:lnTo>
                    <a:pt x="17359" y="912"/>
                  </a:lnTo>
                  <a:lnTo>
                    <a:pt x="17624" y="811"/>
                  </a:lnTo>
                  <a:lnTo>
                    <a:pt x="18021" y="709"/>
                  </a:lnTo>
                  <a:lnTo>
                    <a:pt x="18551" y="608"/>
                  </a:lnTo>
                  <a:lnTo>
                    <a:pt x="19214" y="608"/>
                  </a:lnTo>
                  <a:lnTo>
                    <a:pt x="19612" y="608"/>
                  </a:lnTo>
                  <a:lnTo>
                    <a:pt x="20009" y="405"/>
                  </a:lnTo>
                  <a:lnTo>
                    <a:pt x="20407" y="304"/>
                  </a:lnTo>
                  <a:lnTo>
                    <a:pt x="20937" y="202"/>
                  </a:lnTo>
                  <a:lnTo>
                    <a:pt x="21202" y="101"/>
                  </a:lnTo>
                  <a:lnTo>
                    <a:pt x="21467" y="0"/>
                  </a:lnTo>
                  <a:lnTo>
                    <a:pt x="21600" y="101"/>
                  </a:lnTo>
                  <a:lnTo>
                    <a:pt x="21467" y="0"/>
                  </a:lnTo>
                  <a:lnTo>
                    <a:pt x="21334" y="0"/>
                  </a:lnTo>
                  <a:lnTo>
                    <a:pt x="21069" y="101"/>
                  </a:lnTo>
                  <a:lnTo>
                    <a:pt x="20539" y="202"/>
                  </a:lnTo>
                  <a:lnTo>
                    <a:pt x="19612" y="405"/>
                  </a:lnTo>
                  <a:lnTo>
                    <a:pt x="19346" y="405"/>
                  </a:lnTo>
                  <a:lnTo>
                    <a:pt x="18949" y="506"/>
                  </a:lnTo>
                  <a:lnTo>
                    <a:pt x="18419" y="608"/>
                  </a:lnTo>
                  <a:lnTo>
                    <a:pt x="18021" y="608"/>
                  </a:lnTo>
                  <a:lnTo>
                    <a:pt x="17624" y="709"/>
                  </a:lnTo>
                  <a:lnTo>
                    <a:pt x="17359" y="811"/>
                  </a:lnTo>
                  <a:lnTo>
                    <a:pt x="16961" y="1013"/>
                  </a:lnTo>
                  <a:lnTo>
                    <a:pt x="16696" y="1115"/>
                  </a:lnTo>
                  <a:lnTo>
                    <a:pt x="16299" y="1216"/>
                  </a:lnTo>
                  <a:lnTo>
                    <a:pt x="15901" y="1419"/>
                  </a:lnTo>
                  <a:lnTo>
                    <a:pt x="15636" y="1622"/>
                  </a:lnTo>
                  <a:lnTo>
                    <a:pt x="15371" y="1723"/>
                  </a:lnTo>
                  <a:lnTo>
                    <a:pt x="14973" y="1926"/>
                  </a:lnTo>
                  <a:lnTo>
                    <a:pt x="14841" y="2129"/>
                  </a:lnTo>
                  <a:lnTo>
                    <a:pt x="14576" y="2535"/>
                  </a:lnTo>
                  <a:lnTo>
                    <a:pt x="14311" y="2839"/>
                  </a:lnTo>
                  <a:lnTo>
                    <a:pt x="14311" y="2940"/>
                  </a:lnTo>
                  <a:lnTo>
                    <a:pt x="14178" y="3042"/>
                  </a:lnTo>
                  <a:lnTo>
                    <a:pt x="14046" y="3143"/>
                  </a:lnTo>
                  <a:lnTo>
                    <a:pt x="13913" y="3244"/>
                  </a:lnTo>
                  <a:lnTo>
                    <a:pt x="13781" y="3346"/>
                  </a:lnTo>
                  <a:lnTo>
                    <a:pt x="13648" y="3549"/>
                  </a:lnTo>
                  <a:lnTo>
                    <a:pt x="13383" y="3752"/>
                  </a:lnTo>
                  <a:lnTo>
                    <a:pt x="13251" y="3853"/>
                  </a:lnTo>
                  <a:lnTo>
                    <a:pt x="13118" y="4056"/>
                  </a:lnTo>
                  <a:lnTo>
                    <a:pt x="12986" y="4258"/>
                  </a:lnTo>
                  <a:lnTo>
                    <a:pt x="12721" y="4563"/>
                  </a:lnTo>
                  <a:lnTo>
                    <a:pt x="12588" y="4664"/>
                  </a:lnTo>
                  <a:lnTo>
                    <a:pt x="12588" y="4867"/>
                  </a:lnTo>
                  <a:lnTo>
                    <a:pt x="12323" y="5070"/>
                  </a:lnTo>
                  <a:lnTo>
                    <a:pt x="12191" y="5374"/>
                  </a:lnTo>
                  <a:lnTo>
                    <a:pt x="12058" y="5577"/>
                  </a:lnTo>
                  <a:lnTo>
                    <a:pt x="12058" y="5678"/>
                  </a:lnTo>
                  <a:lnTo>
                    <a:pt x="12058" y="5881"/>
                  </a:lnTo>
                  <a:lnTo>
                    <a:pt x="11926" y="5983"/>
                  </a:lnTo>
                  <a:lnTo>
                    <a:pt x="11793" y="6185"/>
                  </a:lnTo>
                  <a:lnTo>
                    <a:pt x="11661" y="6388"/>
                  </a:lnTo>
                  <a:lnTo>
                    <a:pt x="11528" y="6591"/>
                  </a:lnTo>
                  <a:lnTo>
                    <a:pt x="11396" y="6895"/>
                  </a:lnTo>
                  <a:lnTo>
                    <a:pt x="11396" y="7199"/>
                  </a:lnTo>
                  <a:lnTo>
                    <a:pt x="11131" y="7605"/>
                  </a:lnTo>
                  <a:lnTo>
                    <a:pt x="10998" y="7909"/>
                  </a:lnTo>
                  <a:lnTo>
                    <a:pt x="10998" y="8214"/>
                  </a:lnTo>
                  <a:lnTo>
                    <a:pt x="10866" y="8416"/>
                  </a:lnTo>
                  <a:lnTo>
                    <a:pt x="10866" y="8619"/>
                  </a:lnTo>
                  <a:lnTo>
                    <a:pt x="10600" y="8720"/>
                  </a:lnTo>
                  <a:lnTo>
                    <a:pt x="10600" y="8923"/>
                  </a:lnTo>
                  <a:lnTo>
                    <a:pt x="10600" y="9025"/>
                  </a:lnTo>
                  <a:lnTo>
                    <a:pt x="10468" y="9126"/>
                  </a:lnTo>
                  <a:lnTo>
                    <a:pt x="10335" y="9430"/>
                  </a:lnTo>
                  <a:lnTo>
                    <a:pt x="10203" y="9735"/>
                  </a:lnTo>
                  <a:lnTo>
                    <a:pt x="10203" y="9937"/>
                  </a:lnTo>
                  <a:lnTo>
                    <a:pt x="10203" y="10242"/>
                  </a:lnTo>
                  <a:lnTo>
                    <a:pt x="10070" y="10647"/>
                  </a:lnTo>
                  <a:lnTo>
                    <a:pt x="10070" y="10951"/>
                  </a:lnTo>
                  <a:lnTo>
                    <a:pt x="10070" y="11357"/>
                  </a:lnTo>
                  <a:lnTo>
                    <a:pt x="9938" y="11661"/>
                  </a:lnTo>
                  <a:lnTo>
                    <a:pt x="9938" y="11966"/>
                  </a:lnTo>
                  <a:lnTo>
                    <a:pt x="9938" y="12270"/>
                  </a:lnTo>
                  <a:lnTo>
                    <a:pt x="9938" y="12472"/>
                  </a:lnTo>
                  <a:lnTo>
                    <a:pt x="9938" y="12574"/>
                  </a:lnTo>
                  <a:lnTo>
                    <a:pt x="10070" y="12574"/>
                  </a:lnTo>
                  <a:lnTo>
                    <a:pt x="10203" y="12472"/>
                  </a:lnTo>
                  <a:lnTo>
                    <a:pt x="10468" y="12371"/>
                  </a:lnTo>
                  <a:lnTo>
                    <a:pt x="10600" y="12067"/>
                  </a:lnTo>
                  <a:lnTo>
                    <a:pt x="10733" y="11763"/>
                  </a:lnTo>
                  <a:lnTo>
                    <a:pt x="10733" y="11560"/>
                  </a:lnTo>
                  <a:lnTo>
                    <a:pt x="10866" y="11256"/>
                  </a:lnTo>
                  <a:lnTo>
                    <a:pt x="10998" y="10951"/>
                  </a:lnTo>
                  <a:lnTo>
                    <a:pt x="10998" y="10647"/>
                  </a:lnTo>
                  <a:lnTo>
                    <a:pt x="11131" y="10242"/>
                  </a:lnTo>
                  <a:lnTo>
                    <a:pt x="11263" y="10039"/>
                  </a:lnTo>
                  <a:lnTo>
                    <a:pt x="11396" y="9937"/>
                  </a:lnTo>
                  <a:lnTo>
                    <a:pt x="11528" y="9633"/>
                  </a:lnTo>
                  <a:lnTo>
                    <a:pt x="11793" y="9227"/>
                  </a:lnTo>
                  <a:lnTo>
                    <a:pt x="11793" y="8923"/>
                  </a:lnTo>
                  <a:lnTo>
                    <a:pt x="12191" y="8720"/>
                  </a:lnTo>
                  <a:lnTo>
                    <a:pt x="12323" y="8518"/>
                  </a:lnTo>
                  <a:lnTo>
                    <a:pt x="12721" y="8315"/>
                  </a:lnTo>
                  <a:lnTo>
                    <a:pt x="13118" y="8214"/>
                  </a:lnTo>
                  <a:lnTo>
                    <a:pt x="13118" y="8112"/>
                  </a:lnTo>
                  <a:lnTo>
                    <a:pt x="13251" y="8112"/>
                  </a:lnTo>
                  <a:lnTo>
                    <a:pt x="13383" y="8112"/>
                  </a:lnTo>
                  <a:lnTo>
                    <a:pt x="13516" y="8214"/>
                  </a:lnTo>
                  <a:lnTo>
                    <a:pt x="13648" y="8315"/>
                  </a:lnTo>
                  <a:lnTo>
                    <a:pt x="13781" y="8416"/>
                  </a:lnTo>
                  <a:lnTo>
                    <a:pt x="13781" y="8619"/>
                  </a:lnTo>
                  <a:lnTo>
                    <a:pt x="13781" y="8619"/>
                  </a:lnTo>
                  <a:lnTo>
                    <a:pt x="13913" y="8822"/>
                  </a:lnTo>
                  <a:lnTo>
                    <a:pt x="13781" y="9025"/>
                  </a:lnTo>
                  <a:lnTo>
                    <a:pt x="13913" y="9227"/>
                  </a:lnTo>
                  <a:lnTo>
                    <a:pt x="13781" y="9532"/>
                  </a:lnTo>
                  <a:lnTo>
                    <a:pt x="13913" y="9836"/>
                  </a:lnTo>
                  <a:lnTo>
                    <a:pt x="13781" y="10039"/>
                  </a:lnTo>
                  <a:lnTo>
                    <a:pt x="13913" y="10242"/>
                  </a:lnTo>
                  <a:lnTo>
                    <a:pt x="13781" y="10445"/>
                  </a:lnTo>
                  <a:lnTo>
                    <a:pt x="13781" y="10749"/>
                  </a:lnTo>
                  <a:lnTo>
                    <a:pt x="13781" y="10951"/>
                  </a:lnTo>
                  <a:lnTo>
                    <a:pt x="13781" y="11256"/>
                  </a:lnTo>
                  <a:lnTo>
                    <a:pt x="13648" y="11560"/>
                  </a:lnTo>
                  <a:lnTo>
                    <a:pt x="13516" y="11864"/>
                  </a:lnTo>
                  <a:lnTo>
                    <a:pt x="13516" y="11966"/>
                  </a:lnTo>
                  <a:lnTo>
                    <a:pt x="13648" y="12168"/>
                  </a:lnTo>
                  <a:lnTo>
                    <a:pt x="13516" y="12472"/>
                  </a:lnTo>
                  <a:lnTo>
                    <a:pt x="13516" y="12676"/>
                  </a:lnTo>
                  <a:lnTo>
                    <a:pt x="13383" y="12878"/>
                  </a:lnTo>
                  <a:lnTo>
                    <a:pt x="13383" y="12980"/>
                  </a:lnTo>
                  <a:lnTo>
                    <a:pt x="13383" y="13081"/>
                  </a:lnTo>
                  <a:lnTo>
                    <a:pt x="13383" y="13182"/>
                  </a:lnTo>
                  <a:lnTo>
                    <a:pt x="13251" y="13284"/>
                  </a:lnTo>
                  <a:lnTo>
                    <a:pt x="13251" y="13284"/>
                  </a:lnTo>
                  <a:lnTo>
                    <a:pt x="13251" y="13284"/>
                  </a:lnTo>
                  <a:lnTo>
                    <a:pt x="13118" y="13689"/>
                  </a:lnTo>
                  <a:lnTo>
                    <a:pt x="13118" y="13994"/>
                  </a:lnTo>
                  <a:lnTo>
                    <a:pt x="12986" y="14298"/>
                  </a:lnTo>
                  <a:lnTo>
                    <a:pt x="12853" y="14703"/>
                  </a:lnTo>
                  <a:lnTo>
                    <a:pt x="12853" y="15008"/>
                  </a:lnTo>
                  <a:lnTo>
                    <a:pt x="12721" y="15413"/>
                  </a:lnTo>
                  <a:lnTo>
                    <a:pt x="12588" y="15616"/>
                  </a:lnTo>
                  <a:lnTo>
                    <a:pt x="12456" y="15920"/>
                  </a:lnTo>
                  <a:lnTo>
                    <a:pt x="12323" y="16225"/>
                  </a:lnTo>
                  <a:lnTo>
                    <a:pt x="12191" y="16428"/>
                  </a:lnTo>
                  <a:lnTo>
                    <a:pt x="12058" y="16732"/>
                  </a:lnTo>
                  <a:lnTo>
                    <a:pt x="11793" y="17036"/>
                  </a:lnTo>
                  <a:lnTo>
                    <a:pt x="11793" y="17239"/>
                  </a:lnTo>
                  <a:lnTo>
                    <a:pt x="11528" y="17543"/>
                  </a:lnTo>
                  <a:lnTo>
                    <a:pt x="11396" y="17746"/>
                  </a:lnTo>
                  <a:lnTo>
                    <a:pt x="11131" y="17949"/>
                  </a:lnTo>
                  <a:lnTo>
                    <a:pt x="11131" y="18253"/>
                  </a:lnTo>
                  <a:lnTo>
                    <a:pt x="10866" y="18456"/>
                  </a:lnTo>
                  <a:lnTo>
                    <a:pt x="10733" y="18659"/>
                  </a:lnTo>
                  <a:lnTo>
                    <a:pt x="10468" y="18760"/>
                  </a:lnTo>
                  <a:lnTo>
                    <a:pt x="10203" y="18963"/>
                  </a:lnTo>
                  <a:lnTo>
                    <a:pt x="10070" y="19165"/>
                  </a:lnTo>
                  <a:lnTo>
                    <a:pt x="9938" y="19369"/>
                  </a:lnTo>
                  <a:lnTo>
                    <a:pt x="9673" y="19470"/>
                  </a:lnTo>
                  <a:lnTo>
                    <a:pt x="9540" y="19673"/>
                  </a:lnTo>
                  <a:lnTo>
                    <a:pt x="9408" y="19774"/>
                  </a:lnTo>
                  <a:lnTo>
                    <a:pt x="9143" y="19875"/>
                  </a:lnTo>
                  <a:lnTo>
                    <a:pt x="8878" y="19977"/>
                  </a:lnTo>
                  <a:lnTo>
                    <a:pt x="8745" y="20078"/>
                  </a:lnTo>
                  <a:lnTo>
                    <a:pt x="8348" y="20180"/>
                  </a:lnTo>
                  <a:lnTo>
                    <a:pt x="8083" y="20180"/>
                  </a:lnTo>
                  <a:lnTo>
                    <a:pt x="7818" y="20180"/>
                  </a:lnTo>
                  <a:lnTo>
                    <a:pt x="7685" y="20281"/>
                  </a:lnTo>
                  <a:lnTo>
                    <a:pt x="7420" y="20281"/>
                  </a:lnTo>
                  <a:lnTo>
                    <a:pt x="7155" y="20281"/>
                  </a:lnTo>
                  <a:lnTo>
                    <a:pt x="6890" y="20281"/>
                  </a:lnTo>
                  <a:lnTo>
                    <a:pt x="6493" y="20078"/>
                  </a:lnTo>
                  <a:lnTo>
                    <a:pt x="6227" y="20078"/>
                  </a:lnTo>
                  <a:lnTo>
                    <a:pt x="6095" y="19875"/>
                  </a:lnTo>
                  <a:lnTo>
                    <a:pt x="5830" y="19774"/>
                  </a:lnTo>
                  <a:lnTo>
                    <a:pt x="5565" y="19673"/>
                  </a:lnTo>
                  <a:lnTo>
                    <a:pt x="5432" y="19470"/>
                  </a:lnTo>
                  <a:lnTo>
                    <a:pt x="5300" y="19267"/>
                  </a:lnTo>
                  <a:lnTo>
                    <a:pt x="5035" y="19064"/>
                  </a:lnTo>
                  <a:lnTo>
                    <a:pt x="4902" y="18760"/>
                  </a:lnTo>
                  <a:lnTo>
                    <a:pt x="4505" y="18557"/>
                  </a:lnTo>
                  <a:lnTo>
                    <a:pt x="4372" y="18253"/>
                  </a:lnTo>
                  <a:lnTo>
                    <a:pt x="4107" y="17949"/>
                  </a:lnTo>
                  <a:lnTo>
                    <a:pt x="3975" y="17644"/>
                  </a:lnTo>
                  <a:lnTo>
                    <a:pt x="3975" y="17442"/>
                  </a:lnTo>
                  <a:lnTo>
                    <a:pt x="3842" y="17036"/>
                  </a:lnTo>
                  <a:lnTo>
                    <a:pt x="3710" y="16833"/>
                  </a:lnTo>
                  <a:lnTo>
                    <a:pt x="3445" y="16428"/>
                  </a:lnTo>
                  <a:lnTo>
                    <a:pt x="3312" y="16022"/>
                  </a:lnTo>
                  <a:lnTo>
                    <a:pt x="3312" y="15718"/>
                  </a:lnTo>
                  <a:lnTo>
                    <a:pt x="3047" y="15515"/>
                  </a:lnTo>
                  <a:lnTo>
                    <a:pt x="3047" y="15109"/>
                  </a:lnTo>
                  <a:lnTo>
                    <a:pt x="2915" y="14703"/>
                  </a:lnTo>
                  <a:lnTo>
                    <a:pt x="2782" y="14399"/>
                  </a:lnTo>
                  <a:lnTo>
                    <a:pt x="2782" y="14095"/>
                  </a:lnTo>
                  <a:lnTo>
                    <a:pt x="2915" y="13791"/>
                  </a:lnTo>
                  <a:lnTo>
                    <a:pt x="2782" y="13487"/>
                  </a:lnTo>
                  <a:lnTo>
                    <a:pt x="2782" y="13182"/>
                  </a:lnTo>
                  <a:lnTo>
                    <a:pt x="2782" y="12878"/>
                  </a:lnTo>
                  <a:lnTo>
                    <a:pt x="2782" y="12270"/>
                  </a:lnTo>
                  <a:lnTo>
                    <a:pt x="2650" y="11966"/>
                  </a:lnTo>
                  <a:lnTo>
                    <a:pt x="2650" y="11560"/>
                  </a:lnTo>
                  <a:lnTo>
                    <a:pt x="2782" y="11053"/>
                  </a:lnTo>
                  <a:lnTo>
                    <a:pt x="2782" y="10647"/>
                  </a:lnTo>
                  <a:lnTo>
                    <a:pt x="2782" y="10242"/>
                  </a:lnTo>
                  <a:lnTo>
                    <a:pt x="2915" y="9937"/>
                  </a:lnTo>
                  <a:lnTo>
                    <a:pt x="3047" y="9532"/>
                  </a:lnTo>
                  <a:lnTo>
                    <a:pt x="3047" y="9126"/>
                  </a:lnTo>
                  <a:lnTo>
                    <a:pt x="3047" y="8720"/>
                  </a:lnTo>
                  <a:lnTo>
                    <a:pt x="3180" y="8416"/>
                  </a:lnTo>
                  <a:lnTo>
                    <a:pt x="3312" y="7909"/>
                  </a:lnTo>
                  <a:lnTo>
                    <a:pt x="3445" y="7706"/>
                  </a:lnTo>
                  <a:lnTo>
                    <a:pt x="3577" y="7301"/>
                  </a:lnTo>
                  <a:lnTo>
                    <a:pt x="3710" y="6996"/>
                  </a:lnTo>
                  <a:lnTo>
                    <a:pt x="3975" y="6591"/>
                  </a:lnTo>
                  <a:lnTo>
                    <a:pt x="4107" y="6185"/>
                  </a:lnTo>
                  <a:lnTo>
                    <a:pt x="4240" y="5881"/>
                  </a:lnTo>
                  <a:lnTo>
                    <a:pt x="4372" y="5577"/>
                  </a:lnTo>
                  <a:lnTo>
                    <a:pt x="4505" y="5374"/>
                  </a:lnTo>
                  <a:lnTo>
                    <a:pt x="4770" y="5070"/>
                  </a:lnTo>
                  <a:lnTo>
                    <a:pt x="5035" y="4765"/>
                  </a:lnTo>
                  <a:lnTo>
                    <a:pt x="5167" y="4563"/>
                  </a:lnTo>
                  <a:lnTo>
                    <a:pt x="5432" y="4258"/>
                  </a:lnTo>
                  <a:lnTo>
                    <a:pt x="5565" y="3954"/>
                  </a:lnTo>
                  <a:lnTo>
                    <a:pt x="5830" y="3752"/>
                  </a:lnTo>
                  <a:lnTo>
                    <a:pt x="5962" y="3650"/>
                  </a:lnTo>
                  <a:lnTo>
                    <a:pt x="6360" y="3447"/>
                  </a:lnTo>
                  <a:lnTo>
                    <a:pt x="6493" y="3244"/>
                  </a:lnTo>
                  <a:lnTo>
                    <a:pt x="6758" y="3143"/>
                  </a:lnTo>
                  <a:lnTo>
                    <a:pt x="7155" y="2940"/>
                  </a:lnTo>
                  <a:lnTo>
                    <a:pt x="7420" y="2839"/>
                  </a:lnTo>
                  <a:lnTo>
                    <a:pt x="7420" y="2839"/>
                  </a:lnTo>
                  <a:lnTo>
                    <a:pt x="7420" y="2839"/>
                  </a:lnTo>
                  <a:lnTo>
                    <a:pt x="7420" y="2839"/>
                  </a:lnTo>
                  <a:lnTo>
                    <a:pt x="7288" y="2839"/>
                  </a:lnTo>
                  <a:lnTo>
                    <a:pt x="7023" y="2839"/>
                  </a:lnTo>
                  <a:lnTo>
                    <a:pt x="6758" y="2940"/>
                  </a:lnTo>
                  <a:lnTo>
                    <a:pt x="6493" y="2940"/>
                  </a:lnTo>
                  <a:lnTo>
                    <a:pt x="6095" y="3042"/>
                  </a:lnTo>
                  <a:lnTo>
                    <a:pt x="5830" y="3042"/>
                  </a:lnTo>
                  <a:lnTo>
                    <a:pt x="5565" y="3244"/>
                  </a:lnTo>
                  <a:lnTo>
                    <a:pt x="5167" y="3244"/>
                  </a:lnTo>
                  <a:lnTo>
                    <a:pt x="4902" y="3346"/>
                  </a:lnTo>
                  <a:lnTo>
                    <a:pt x="4505" y="3346"/>
                  </a:lnTo>
                  <a:lnTo>
                    <a:pt x="4240" y="3549"/>
                  </a:lnTo>
                  <a:lnTo>
                    <a:pt x="3975" y="3447"/>
                  </a:lnTo>
                  <a:lnTo>
                    <a:pt x="3842" y="3549"/>
                  </a:lnTo>
                  <a:lnTo>
                    <a:pt x="3577" y="3650"/>
                  </a:lnTo>
                  <a:lnTo>
                    <a:pt x="3312" y="3853"/>
                  </a:lnTo>
                  <a:lnTo>
                    <a:pt x="3180" y="3954"/>
                  </a:lnTo>
                  <a:lnTo>
                    <a:pt x="3047" y="4157"/>
                  </a:lnTo>
                  <a:lnTo>
                    <a:pt x="2650" y="4461"/>
                  </a:lnTo>
                  <a:lnTo>
                    <a:pt x="2385" y="4664"/>
                  </a:lnTo>
                  <a:lnTo>
                    <a:pt x="2252" y="4968"/>
                  </a:lnTo>
                  <a:lnTo>
                    <a:pt x="1987" y="5171"/>
                  </a:lnTo>
                  <a:lnTo>
                    <a:pt x="1854" y="5475"/>
                  </a:lnTo>
                  <a:lnTo>
                    <a:pt x="1589" y="5780"/>
                  </a:lnTo>
                  <a:lnTo>
                    <a:pt x="1324" y="6185"/>
                  </a:lnTo>
                  <a:lnTo>
                    <a:pt x="1192" y="6591"/>
                  </a:lnTo>
                  <a:lnTo>
                    <a:pt x="1059" y="6996"/>
                  </a:lnTo>
                  <a:lnTo>
                    <a:pt x="927" y="7301"/>
                  </a:lnTo>
                  <a:lnTo>
                    <a:pt x="794" y="7808"/>
                  </a:lnTo>
                  <a:lnTo>
                    <a:pt x="662" y="8214"/>
                  </a:lnTo>
                  <a:lnTo>
                    <a:pt x="529" y="8619"/>
                  </a:lnTo>
                  <a:lnTo>
                    <a:pt x="397" y="9025"/>
                  </a:lnTo>
                  <a:lnTo>
                    <a:pt x="264" y="9532"/>
                  </a:lnTo>
                  <a:lnTo>
                    <a:pt x="132" y="10039"/>
                  </a:lnTo>
                  <a:lnTo>
                    <a:pt x="132" y="10343"/>
                  </a:lnTo>
                  <a:lnTo>
                    <a:pt x="0" y="10850"/>
                  </a:lnTo>
                  <a:lnTo>
                    <a:pt x="0" y="11256"/>
                  </a:lnTo>
                  <a:lnTo>
                    <a:pt x="0" y="11661"/>
                  </a:lnTo>
                  <a:lnTo>
                    <a:pt x="0" y="12168"/>
                  </a:lnTo>
                  <a:lnTo>
                    <a:pt x="0" y="12676"/>
                  </a:lnTo>
                  <a:lnTo>
                    <a:pt x="0" y="13182"/>
                  </a:lnTo>
                  <a:lnTo>
                    <a:pt x="264" y="13588"/>
                  </a:lnTo>
                  <a:lnTo>
                    <a:pt x="264" y="14095"/>
                  </a:lnTo>
                  <a:lnTo>
                    <a:pt x="397" y="14501"/>
                  </a:lnTo>
                  <a:lnTo>
                    <a:pt x="397" y="15008"/>
                  </a:lnTo>
                  <a:lnTo>
                    <a:pt x="529" y="15413"/>
                  </a:lnTo>
                  <a:lnTo>
                    <a:pt x="927" y="16326"/>
                  </a:lnTo>
                  <a:lnTo>
                    <a:pt x="1192" y="17138"/>
                  </a:lnTo>
                  <a:lnTo>
                    <a:pt x="1722" y="17949"/>
                  </a:lnTo>
                  <a:lnTo>
                    <a:pt x="2119" y="18659"/>
                  </a:lnTo>
                  <a:lnTo>
                    <a:pt x="2385" y="19165"/>
                  </a:lnTo>
                  <a:lnTo>
                    <a:pt x="2915" y="19673"/>
                  </a:lnTo>
                  <a:lnTo>
                    <a:pt x="3312" y="20180"/>
                  </a:lnTo>
                  <a:lnTo>
                    <a:pt x="3842" y="20585"/>
                  </a:lnTo>
                  <a:lnTo>
                    <a:pt x="4240" y="20890"/>
                  </a:lnTo>
                  <a:lnTo>
                    <a:pt x="4902" y="21194"/>
                  </a:lnTo>
                  <a:lnTo>
                    <a:pt x="5300" y="21295"/>
                  </a:lnTo>
                  <a:lnTo>
                    <a:pt x="5697" y="21498"/>
                  </a:lnTo>
                  <a:lnTo>
                    <a:pt x="6227" y="21498"/>
                  </a:lnTo>
                  <a:lnTo>
                    <a:pt x="6758" y="21600"/>
                  </a:lnTo>
                  <a:lnTo>
                    <a:pt x="7288" y="21600"/>
                  </a:lnTo>
                  <a:lnTo>
                    <a:pt x="7685" y="21396"/>
                  </a:lnTo>
                  <a:lnTo>
                    <a:pt x="8215" y="21295"/>
                  </a:lnTo>
                  <a:lnTo>
                    <a:pt x="8745" y="21092"/>
                  </a:lnTo>
                  <a:lnTo>
                    <a:pt x="9275" y="20991"/>
                  </a:lnTo>
                  <a:lnTo>
                    <a:pt x="9673" y="20585"/>
                  </a:lnTo>
                  <a:lnTo>
                    <a:pt x="9805" y="20484"/>
                  </a:lnTo>
                  <a:lnTo>
                    <a:pt x="10335" y="20078"/>
                  </a:lnTo>
                  <a:lnTo>
                    <a:pt x="10733" y="19673"/>
                  </a:lnTo>
                  <a:lnTo>
                    <a:pt x="11263" y="19267"/>
                  </a:lnTo>
                  <a:lnTo>
                    <a:pt x="11528" y="18963"/>
                  </a:lnTo>
                  <a:lnTo>
                    <a:pt x="11793" y="18456"/>
                  </a:lnTo>
                  <a:lnTo>
                    <a:pt x="12191" y="18050"/>
                  </a:lnTo>
                  <a:lnTo>
                    <a:pt x="12588" y="17543"/>
                  </a:lnTo>
                  <a:lnTo>
                    <a:pt x="12721" y="17138"/>
                  </a:lnTo>
                  <a:lnTo>
                    <a:pt x="12986" y="16630"/>
                  </a:lnTo>
                  <a:lnTo>
                    <a:pt x="13118" y="16123"/>
                  </a:lnTo>
                  <a:lnTo>
                    <a:pt x="13251" y="15616"/>
                  </a:lnTo>
                  <a:lnTo>
                    <a:pt x="13251" y="15413"/>
                  </a:lnTo>
                  <a:lnTo>
                    <a:pt x="13251" y="15211"/>
                  </a:lnTo>
                  <a:lnTo>
                    <a:pt x="13383" y="15008"/>
                  </a:lnTo>
                  <a:lnTo>
                    <a:pt x="13383" y="14805"/>
                  </a:lnTo>
                  <a:lnTo>
                    <a:pt x="13516" y="14602"/>
                  </a:lnTo>
                  <a:lnTo>
                    <a:pt x="13516" y="14298"/>
                  </a:lnTo>
                  <a:lnTo>
                    <a:pt x="13648" y="14095"/>
                  </a:lnTo>
                  <a:lnTo>
                    <a:pt x="13648" y="13892"/>
                  </a:lnTo>
                  <a:lnTo>
                    <a:pt x="13781" y="13689"/>
                  </a:lnTo>
                  <a:lnTo>
                    <a:pt x="13781" y="13487"/>
                  </a:lnTo>
                  <a:lnTo>
                    <a:pt x="13648" y="13284"/>
                  </a:lnTo>
                  <a:lnTo>
                    <a:pt x="13781" y="12980"/>
                  </a:lnTo>
                  <a:lnTo>
                    <a:pt x="13781" y="12777"/>
                  </a:lnTo>
                  <a:lnTo>
                    <a:pt x="13781" y="12472"/>
                  </a:lnTo>
                  <a:lnTo>
                    <a:pt x="13913" y="12270"/>
                  </a:lnTo>
                  <a:lnTo>
                    <a:pt x="13781" y="12168"/>
                  </a:lnTo>
                  <a:lnTo>
                    <a:pt x="13781" y="11864"/>
                  </a:lnTo>
                  <a:lnTo>
                    <a:pt x="13781" y="11661"/>
                  </a:lnTo>
                  <a:lnTo>
                    <a:pt x="13781" y="11357"/>
                  </a:lnTo>
                  <a:lnTo>
                    <a:pt x="13781" y="11154"/>
                  </a:lnTo>
                  <a:lnTo>
                    <a:pt x="13781" y="10850"/>
                  </a:lnTo>
                  <a:lnTo>
                    <a:pt x="13648" y="10546"/>
                  </a:lnTo>
                  <a:lnTo>
                    <a:pt x="13781" y="10242"/>
                  </a:lnTo>
                  <a:lnTo>
                    <a:pt x="13648" y="10140"/>
                  </a:lnTo>
                  <a:lnTo>
                    <a:pt x="13516" y="9937"/>
                  </a:lnTo>
                  <a:lnTo>
                    <a:pt x="13516" y="9735"/>
                  </a:lnTo>
                  <a:lnTo>
                    <a:pt x="13516" y="9430"/>
                  </a:lnTo>
                  <a:lnTo>
                    <a:pt x="13383" y="9126"/>
                  </a:lnTo>
                  <a:lnTo>
                    <a:pt x="13383" y="8923"/>
                  </a:lnTo>
                  <a:lnTo>
                    <a:pt x="13251" y="8518"/>
                  </a:lnTo>
                  <a:lnTo>
                    <a:pt x="13251" y="8416"/>
                  </a:lnTo>
                  <a:lnTo>
                    <a:pt x="13118" y="8112"/>
                  </a:lnTo>
                  <a:lnTo>
                    <a:pt x="13118" y="8011"/>
                  </a:lnTo>
                  <a:lnTo>
                    <a:pt x="13251" y="7808"/>
                  </a:lnTo>
                  <a:lnTo>
                    <a:pt x="13251" y="7605"/>
                  </a:lnTo>
                  <a:lnTo>
                    <a:pt x="13251" y="7301"/>
                  </a:lnTo>
                  <a:lnTo>
                    <a:pt x="13251" y="7098"/>
                  </a:lnTo>
                  <a:lnTo>
                    <a:pt x="13383" y="6794"/>
                  </a:lnTo>
                  <a:lnTo>
                    <a:pt x="13383" y="6692"/>
                  </a:lnTo>
                  <a:lnTo>
                    <a:pt x="13648" y="6388"/>
                  </a:lnTo>
                  <a:lnTo>
                    <a:pt x="13648" y="6084"/>
                  </a:lnTo>
                  <a:lnTo>
                    <a:pt x="13781" y="5881"/>
                  </a:lnTo>
                  <a:lnTo>
                    <a:pt x="13781" y="5678"/>
                  </a:lnTo>
                  <a:lnTo>
                    <a:pt x="13913" y="5475"/>
                  </a:lnTo>
                  <a:lnTo>
                    <a:pt x="14046" y="5171"/>
                  </a:lnTo>
                  <a:lnTo>
                    <a:pt x="14178" y="5070"/>
                  </a:lnTo>
                  <a:lnTo>
                    <a:pt x="14311" y="4968"/>
                  </a:lnTo>
                  <a:lnTo>
                    <a:pt x="14443" y="4765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未知"/>
          <p:cNvSpPr/>
          <p:nvPr/>
        </p:nvSpPr>
        <p:spPr>
          <a:xfrm>
            <a:off x="2130480" y="4749840"/>
            <a:ext cx="7013520" cy="2135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403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403"/>
                </a:lnTo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C293-C862-442C-8AB1-09EB42B194C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6F2C-F1C1-494D-B909-B1E48ACC50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77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1692360" y="4411800"/>
            <a:ext cx="1866600" cy="2329920"/>
            <a:chOff x="1692360" y="4411800"/>
            <a:chExt cx="1866600" cy="2329920"/>
          </a:xfrm>
        </p:grpSpPr>
        <p:sp>
          <p:nvSpPr>
            <p:cNvPr id="261" name="未知"/>
            <p:cNvSpPr/>
            <p:nvPr/>
          </p:nvSpPr>
          <p:spPr>
            <a:xfrm>
              <a:off x="2787840" y="4997160"/>
              <a:ext cx="771120" cy="905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799" y="6830"/>
                  </a:moveTo>
                  <a:lnTo>
                    <a:pt x="7499" y="6645"/>
                  </a:lnTo>
                  <a:lnTo>
                    <a:pt x="7399" y="6276"/>
                  </a:lnTo>
                  <a:lnTo>
                    <a:pt x="7299" y="5999"/>
                  </a:lnTo>
                  <a:lnTo>
                    <a:pt x="7299" y="5630"/>
                  </a:lnTo>
                  <a:lnTo>
                    <a:pt x="7199" y="5168"/>
                  </a:lnTo>
                  <a:lnTo>
                    <a:pt x="7199" y="4799"/>
                  </a:lnTo>
                  <a:lnTo>
                    <a:pt x="7199" y="4430"/>
                  </a:lnTo>
                  <a:lnTo>
                    <a:pt x="7299" y="4061"/>
                  </a:lnTo>
                  <a:lnTo>
                    <a:pt x="7399" y="3599"/>
                  </a:lnTo>
                  <a:lnTo>
                    <a:pt x="7399" y="3230"/>
                  </a:lnTo>
                  <a:lnTo>
                    <a:pt x="7399" y="2861"/>
                  </a:lnTo>
                  <a:lnTo>
                    <a:pt x="7499" y="2584"/>
                  </a:lnTo>
                  <a:lnTo>
                    <a:pt x="7599" y="2215"/>
                  </a:lnTo>
                  <a:lnTo>
                    <a:pt x="7699" y="2030"/>
                  </a:lnTo>
                  <a:lnTo>
                    <a:pt x="7799" y="1846"/>
                  </a:lnTo>
                  <a:lnTo>
                    <a:pt x="7799" y="1661"/>
                  </a:lnTo>
                  <a:lnTo>
                    <a:pt x="7899" y="1569"/>
                  </a:lnTo>
                  <a:lnTo>
                    <a:pt x="7999" y="1476"/>
                  </a:lnTo>
                  <a:lnTo>
                    <a:pt x="7999" y="1199"/>
                  </a:lnTo>
                  <a:lnTo>
                    <a:pt x="8199" y="1107"/>
                  </a:lnTo>
                  <a:lnTo>
                    <a:pt x="8299" y="1015"/>
                  </a:lnTo>
                  <a:lnTo>
                    <a:pt x="8499" y="830"/>
                  </a:lnTo>
                  <a:lnTo>
                    <a:pt x="8399" y="738"/>
                  </a:lnTo>
                  <a:lnTo>
                    <a:pt x="8599" y="553"/>
                  </a:lnTo>
                  <a:lnTo>
                    <a:pt x="8599" y="369"/>
                  </a:lnTo>
                  <a:lnTo>
                    <a:pt x="8799" y="276"/>
                  </a:lnTo>
                  <a:lnTo>
                    <a:pt x="8899" y="92"/>
                  </a:lnTo>
                  <a:lnTo>
                    <a:pt x="8999" y="0"/>
                  </a:lnTo>
                  <a:lnTo>
                    <a:pt x="8999" y="0"/>
                  </a:lnTo>
                  <a:lnTo>
                    <a:pt x="8999" y="0"/>
                  </a:lnTo>
                  <a:lnTo>
                    <a:pt x="8999" y="0"/>
                  </a:lnTo>
                  <a:lnTo>
                    <a:pt x="8899" y="0"/>
                  </a:lnTo>
                  <a:lnTo>
                    <a:pt x="8599" y="276"/>
                  </a:lnTo>
                  <a:lnTo>
                    <a:pt x="8399" y="553"/>
                  </a:lnTo>
                  <a:lnTo>
                    <a:pt x="8100" y="738"/>
                  </a:lnTo>
                  <a:lnTo>
                    <a:pt x="7899" y="1015"/>
                  </a:lnTo>
                  <a:lnTo>
                    <a:pt x="7699" y="1107"/>
                  </a:lnTo>
                  <a:lnTo>
                    <a:pt x="7399" y="1384"/>
                  </a:lnTo>
                  <a:lnTo>
                    <a:pt x="7199" y="1661"/>
                  </a:lnTo>
                  <a:lnTo>
                    <a:pt x="7099" y="1938"/>
                  </a:lnTo>
                  <a:lnTo>
                    <a:pt x="6899" y="2215"/>
                  </a:lnTo>
                  <a:lnTo>
                    <a:pt x="6699" y="2492"/>
                  </a:lnTo>
                  <a:lnTo>
                    <a:pt x="6499" y="2769"/>
                  </a:lnTo>
                  <a:lnTo>
                    <a:pt x="6299" y="3046"/>
                  </a:lnTo>
                  <a:lnTo>
                    <a:pt x="6099" y="3322"/>
                  </a:lnTo>
                  <a:lnTo>
                    <a:pt x="5699" y="3784"/>
                  </a:lnTo>
                  <a:lnTo>
                    <a:pt x="5599" y="4061"/>
                  </a:lnTo>
                  <a:lnTo>
                    <a:pt x="5299" y="4430"/>
                  </a:lnTo>
                  <a:lnTo>
                    <a:pt x="5099" y="4522"/>
                  </a:lnTo>
                  <a:lnTo>
                    <a:pt x="4999" y="4615"/>
                  </a:lnTo>
                  <a:lnTo>
                    <a:pt x="4799" y="4615"/>
                  </a:lnTo>
                  <a:lnTo>
                    <a:pt x="4699" y="4522"/>
                  </a:lnTo>
                  <a:lnTo>
                    <a:pt x="4399" y="4522"/>
                  </a:lnTo>
                  <a:lnTo>
                    <a:pt x="4099" y="4338"/>
                  </a:lnTo>
                  <a:lnTo>
                    <a:pt x="3999" y="4338"/>
                  </a:lnTo>
                  <a:lnTo>
                    <a:pt x="3699" y="4061"/>
                  </a:lnTo>
                  <a:lnTo>
                    <a:pt x="3399" y="3968"/>
                  </a:lnTo>
                  <a:lnTo>
                    <a:pt x="3099" y="3784"/>
                  </a:lnTo>
                  <a:lnTo>
                    <a:pt x="2799" y="3692"/>
                  </a:lnTo>
                  <a:lnTo>
                    <a:pt x="2399" y="3599"/>
                  </a:lnTo>
                  <a:lnTo>
                    <a:pt x="2299" y="3322"/>
                  </a:lnTo>
                  <a:lnTo>
                    <a:pt x="1899" y="3230"/>
                  </a:lnTo>
                  <a:lnTo>
                    <a:pt x="1699" y="2953"/>
                  </a:lnTo>
                  <a:lnTo>
                    <a:pt x="1299" y="2861"/>
                  </a:lnTo>
                  <a:lnTo>
                    <a:pt x="1099" y="2584"/>
                  </a:lnTo>
                  <a:lnTo>
                    <a:pt x="799" y="2492"/>
                  </a:lnTo>
                  <a:lnTo>
                    <a:pt x="499" y="2399"/>
                  </a:lnTo>
                  <a:lnTo>
                    <a:pt x="399" y="2399"/>
                  </a:lnTo>
                  <a:lnTo>
                    <a:pt x="299" y="2215"/>
                  </a:lnTo>
                  <a:lnTo>
                    <a:pt x="199" y="2122"/>
                  </a:lnTo>
                  <a:lnTo>
                    <a:pt x="99" y="2122"/>
                  </a:lnTo>
                  <a:lnTo>
                    <a:pt x="0" y="2122"/>
                  </a:lnTo>
                  <a:lnTo>
                    <a:pt x="0" y="2122"/>
                  </a:lnTo>
                  <a:lnTo>
                    <a:pt x="0" y="2215"/>
                  </a:lnTo>
                  <a:lnTo>
                    <a:pt x="0" y="2399"/>
                  </a:lnTo>
                  <a:lnTo>
                    <a:pt x="199" y="2584"/>
                  </a:lnTo>
                  <a:lnTo>
                    <a:pt x="299" y="2676"/>
                  </a:lnTo>
                  <a:lnTo>
                    <a:pt x="499" y="3046"/>
                  </a:lnTo>
                  <a:lnTo>
                    <a:pt x="699" y="3322"/>
                  </a:lnTo>
                  <a:lnTo>
                    <a:pt x="1099" y="3692"/>
                  </a:lnTo>
                  <a:lnTo>
                    <a:pt x="1299" y="3876"/>
                  </a:lnTo>
                  <a:lnTo>
                    <a:pt x="1499" y="4061"/>
                  </a:lnTo>
                  <a:lnTo>
                    <a:pt x="1799" y="4153"/>
                  </a:lnTo>
                  <a:lnTo>
                    <a:pt x="2099" y="4430"/>
                  </a:lnTo>
                  <a:lnTo>
                    <a:pt x="2299" y="4522"/>
                  </a:lnTo>
                  <a:lnTo>
                    <a:pt x="2599" y="4799"/>
                  </a:lnTo>
                  <a:lnTo>
                    <a:pt x="2899" y="4892"/>
                  </a:lnTo>
                  <a:lnTo>
                    <a:pt x="3299" y="5076"/>
                  </a:lnTo>
                  <a:lnTo>
                    <a:pt x="3499" y="5261"/>
                  </a:lnTo>
                  <a:lnTo>
                    <a:pt x="3899" y="5353"/>
                  </a:lnTo>
                  <a:lnTo>
                    <a:pt x="4099" y="5630"/>
                  </a:lnTo>
                  <a:lnTo>
                    <a:pt x="4499" y="5722"/>
                  </a:lnTo>
                  <a:lnTo>
                    <a:pt x="4599" y="5999"/>
                  </a:lnTo>
                  <a:lnTo>
                    <a:pt x="4799" y="6092"/>
                  </a:lnTo>
                  <a:lnTo>
                    <a:pt x="4899" y="6276"/>
                  </a:lnTo>
                  <a:lnTo>
                    <a:pt x="4999" y="6461"/>
                  </a:lnTo>
                  <a:lnTo>
                    <a:pt x="5199" y="6830"/>
                  </a:lnTo>
                  <a:lnTo>
                    <a:pt x="5299" y="7292"/>
                  </a:lnTo>
                  <a:lnTo>
                    <a:pt x="5499" y="7661"/>
                  </a:lnTo>
                  <a:lnTo>
                    <a:pt x="5599" y="8123"/>
                  </a:lnTo>
                  <a:lnTo>
                    <a:pt x="5799" y="8584"/>
                  </a:lnTo>
                  <a:lnTo>
                    <a:pt x="5999" y="9138"/>
                  </a:lnTo>
                  <a:lnTo>
                    <a:pt x="6199" y="9507"/>
                  </a:lnTo>
                  <a:lnTo>
                    <a:pt x="6299" y="10061"/>
                  </a:lnTo>
                  <a:lnTo>
                    <a:pt x="6499" y="10615"/>
                  </a:lnTo>
                  <a:lnTo>
                    <a:pt x="6599" y="11076"/>
                  </a:lnTo>
                  <a:lnTo>
                    <a:pt x="6699" y="11538"/>
                  </a:lnTo>
                  <a:lnTo>
                    <a:pt x="6999" y="12091"/>
                  </a:lnTo>
                  <a:lnTo>
                    <a:pt x="7199" y="12553"/>
                  </a:lnTo>
                  <a:lnTo>
                    <a:pt x="7399" y="13107"/>
                  </a:lnTo>
                  <a:lnTo>
                    <a:pt x="7599" y="13661"/>
                  </a:lnTo>
                  <a:lnTo>
                    <a:pt x="7799" y="14122"/>
                  </a:lnTo>
                  <a:lnTo>
                    <a:pt x="8100" y="14676"/>
                  </a:lnTo>
                  <a:lnTo>
                    <a:pt x="8299" y="15138"/>
                  </a:lnTo>
                  <a:lnTo>
                    <a:pt x="8499" y="15692"/>
                  </a:lnTo>
                  <a:lnTo>
                    <a:pt x="8699" y="16246"/>
                  </a:lnTo>
                  <a:lnTo>
                    <a:pt x="8999" y="16615"/>
                  </a:lnTo>
                  <a:lnTo>
                    <a:pt x="9399" y="17168"/>
                  </a:lnTo>
                  <a:lnTo>
                    <a:pt x="9799" y="17630"/>
                  </a:lnTo>
                  <a:lnTo>
                    <a:pt x="10199" y="17999"/>
                  </a:lnTo>
                  <a:lnTo>
                    <a:pt x="10599" y="18461"/>
                  </a:lnTo>
                  <a:lnTo>
                    <a:pt x="10999" y="18923"/>
                  </a:lnTo>
                  <a:lnTo>
                    <a:pt x="11299" y="19292"/>
                  </a:lnTo>
                  <a:lnTo>
                    <a:pt x="11699" y="19661"/>
                  </a:lnTo>
                  <a:lnTo>
                    <a:pt x="12199" y="20030"/>
                  </a:lnTo>
                  <a:lnTo>
                    <a:pt x="12799" y="20399"/>
                  </a:lnTo>
                  <a:lnTo>
                    <a:pt x="13199" y="20584"/>
                  </a:lnTo>
                  <a:lnTo>
                    <a:pt x="13799" y="20953"/>
                  </a:lnTo>
                  <a:lnTo>
                    <a:pt x="14499" y="21138"/>
                  </a:lnTo>
                  <a:lnTo>
                    <a:pt x="14899" y="21322"/>
                  </a:lnTo>
                  <a:lnTo>
                    <a:pt x="15499" y="21507"/>
                  </a:lnTo>
                  <a:lnTo>
                    <a:pt x="15999" y="21600"/>
                  </a:lnTo>
                  <a:lnTo>
                    <a:pt x="16499" y="21507"/>
                  </a:lnTo>
                  <a:lnTo>
                    <a:pt x="16799" y="21600"/>
                  </a:lnTo>
                  <a:lnTo>
                    <a:pt x="17299" y="21600"/>
                  </a:lnTo>
                  <a:lnTo>
                    <a:pt x="17699" y="21507"/>
                  </a:lnTo>
                  <a:lnTo>
                    <a:pt x="18199" y="21322"/>
                  </a:lnTo>
                  <a:lnTo>
                    <a:pt x="18499" y="21230"/>
                  </a:lnTo>
                  <a:lnTo>
                    <a:pt x="18900" y="21045"/>
                  </a:lnTo>
                  <a:lnTo>
                    <a:pt x="19199" y="20953"/>
                  </a:lnTo>
                  <a:lnTo>
                    <a:pt x="19599" y="20769"/>
                  </a:lnTo>
                  <a:lnTo>
                    <a:pt x="19699" y="20399"/>
                  </a:lnTo>
                  <a:lnTo>
                    <a:pt x="20099" y="20215"/>
                  </a:lnTo>
                  <a:lnTo>
                    <a:pt x="20299" y="19845"/>
                  </a:lnTo>
                  <a:lnTo>
                    <a:pt x="20499" y="19569"/>
                  </a:lnTo>
                  <a:lnTo>
                    <a:pt x="20799" y="19199"/>
                  </a:lnTo>
                  <a:lnTo>
                    <a:pt x="20999" y="18830"/>
                  </a:lnTo>
                  <a:lnTo>
                    <a:pt x="20999" y="18461"/>
                  </a:lnTo>
                  <a:lnTo>
                    <a:pt x="21199" y="18092"/>
                  </a:lnTo>
                  <a:lnTo>
                    <a:pt x="21299" y="17630"/>
                  </a:lnTo>
                  <a:lnTo>
                    <a:pt x="21499" y="17261"/>
                  </a:lnTo>
                  <a:lnTo>
                    <a:pt x="21499" y="16799"/>
                  </a:lnTo>
                  <a:lnTo>
                    <a:pt x="21499" y="16338"/>
                  </a:lnTo>
                  <a:lnTo>
                    <a:pt x="21600" y="15784"/>
                  </a:lnTo>
                  <a:lnTo>
                    <a:pt x="21600" y="15322"/>
                  </a:lnTo>
                  <a:lnTo>
                    <a:pt x="21600" y="14861"/>
                  </a:lnTo>
                  <a:lnTo>
                    <a:pt x="21600" y="14307"/>
                  </a:lnTo>
                  <a:lnTo>
                    <a:pt x="21499" y="13846"/>
                  </a:lnTo>
                  <a:lnTo>
                    <a:pt x="21399" y="13292"/>
                  </a:lnTo>
                  <a:lnTo>
                    <a:pt x="21299" y="12738"/>
                  </a:lnTo>
                  <a:lnTo>
                    <a:pt x="21299" y="12553"/>
                  </a:lnTo>
                  <a:lnTo>
                    <a:pt x="21099" y="12369"/>
                  </a:lnTo>
                  <a:lnTo>
                    <a:pt x="21099" y="12091"/>
                  </a:lnTo>
                  <a:lnTo>
                    <a:pt x="20999" y="11815"/>
                  </a:lnTo>
                  <a:lnTo>
                    <a:pt x="20899" y="11538"/>
                  </a:lnTo>
                  <a:lnTo>
                    <a:pt x="20899" y="11169"/>
                  </a:lnTo>
                  <a:lnTo>
                    <a:pt x="20799" y="11076"/>
                  </a:lnTo>
                  <a:lnTo>
                    <a:pt x="20699" y="10800"/>
                  </a:lnTo>
                  <a:lnTo>
                    <a:pt x="20599" y="10430"/>
                  </a:lnTo>
                  <a:lnTo>
                    <a:pt x="20499" y="10153"/>
                  </a:lnTo>
                  <a:lnTo>
                    <a:pt x="20399" y="9969"/>
                  </a:lnTo>
                  <a:lnTo>
                    <a:pt x="20299" y="9692"/>
                  </a:lnTo>
                  <a:lnTo>
                    <a:pt x="20099" y="9322"/>
                  </a:lnTo>
                  <a:lnTo>
                    <a:pt x="20099" y="9045"/>
                  </a:lnTo>
                  <a:lnTo>
                    <a:pt x="19899" y="8676"/>
                  </a:lnTo>
                  <a:lnTo>
                    <a:pt x="19699" y="8492"/>
                  </a:lnTo>
                  <a:lnTo>
                    <a:pt x="19599" y="8215"/>
                  </a:lnTo>
                  <a:lnTo>
                    <a:pt x="19499" y="7938"/>
                  </a:lnTo>
                  <a:lnTo>
                    <a:pt x="19299" y="7569"/>
                  </a:lnTo>
                  <a:lnTo>
                    <a:pt x="19099" y="7384"/>
                  </a:lnTo>
                  <a:lnTo>
                    <a:pt x="18999" y="7015"/>
                  </a:lnTo>
                  <a:lnTo>
                    <a:pt x="18799" y="6738"/>
                  </a:lnTo>
                  <a:lnTo>
                    <a:pt x="18599" y="6461"/>
                  </a:lnTo>
                  <a:lnTo>
                    <a:pt x="18499" y="6184"/>
                  </a:lnTo>
                  <a:lnTo>
                    <a:pt x="18299" y="5815"/>
                  </a:lnTo>
                  <a:lnTo>
                    <a:pt x="17999" y="5538"/>
                  </a:lnTo>
                  <a:lnTo>
                    <a:pt x="17899" y="5353"/>
                  </a:lnTo>
                  <a:lnTo>
                    <a:pt x="17699" y="4984"/>
                  </a:lnTo>
                  <a:lnTo>
                    <a:pt x="17499" y="4707"/>
                  </a:lnTo>
                  <a:lnTo>
                    <a:pt x="17199" y="4430"/>
                  </a:lnTo>
                  <a:lnTo>
                    <a:pt x="17099" y="4153"/>
                  </a:lnTo>
                  <a:lnTo>
                    <a:pt x="16799" y="3968"/>
                  </a:lnTo>
                  <a:lnTo>
                    <a:pt x="16699" y="3876"/>
                  </a:lnTo>
                  <a:lnTo>
                    <a:pt x="16699" y="3876"/>
                  </a:lnTo>
                  <a:lnTo>
                    <a:pt x="16699" y="3968"/>
                  </a:lnTo>
                  <a:lnTo>
                    <a:pt x="16899" y="4153"/>
                  </a:lnTo>
                  <a:lnTo>
                    <a:pt x="16999" y="4153"/>
                  </a:lnTo>
                  <a:lnTo>
                    <a:pt x="17099" y="4430"/>
                  </a:lnTo>
                  <a:lnTo>
                    <a:pt x="17299" y="4707"/>
                  </a:lnTo>
                  <a:lnTo>
                    <a:pt x="17499" y="4984"/>
                  </a:lnTo>
                  <a:lnTo>
                    <a:pt x="17599" y="5261"/>
                  </a:lnTo>
                  <a:lnTo>
                    <a:pt x="17799" y="5538"/>
                  </a:lnTo>
                  <a:lnTo>
                    <a:pt x="17999" y="5907"/>
                  </a:lnTo>
                  <a:lnTo>
                    <a:pt x="18199" y="6184"/>
                  </a:lnTo>
                  <a:lnTo>
                    <a:pt x="18399" y="6553"/>
                  </a:lnTo>
                  <a:lnTo>
                    <a:pt x="18599" y="6830"/>
                  </a:lnTo>
                  <a:lnTo>
                    <a:pt x="18699" y="7015"/>
                  </a:lnTo>
                  <a:lnTo>
                    <a:pt x="18799" y="7199"/>
                  </a:lnTo>
                  <a:lnTo>
                    <a:pt x="19099" y="7753"/>
                  </a:lnTo>
                  <a:lnTo>
                    <a:pt x="19399" y="8307"/>
                  </a:lnTo>
                  <a:lnTo>
                    <a:pt x="19699" y="8953"/>
                  </a:lnTo>
                  <a:lnTo>
                    <a:pt x="19999" y="9599"/>
                  </a:lnTo>
                  <a:lnTo>
                    <a:pt x="20099" y="10153"/>
                  </a:lnTo>
                  <a:lnTo>
                    <a:pt x="20299" y="10892"/>
                  </a:lnTo>
                  <a:lnTo>
                    <a:pt x="20399" y="11445"/>
                  </a:lnTo>
                  <a:lnTo>
                    <a:pt x="20599" y="12091"/>
                  </a:lnTo>
                  <a:lnTo>
                    <a:pt x="20599" y="12738"/>
                  </a:lnTo>
                  <a:lnTo>
                    <a:pt x="20699" y="13384"/>
                  </a:lnTo>
                  <a:lnTo>
                    <a:pt x="20699" y="14122"/>
                  </a:lnTo>
                  <a:lnTo>
                    <a:pt x="20599" y="14584"/>
                  </a:lnTo>
                  <a:lnTo>
                    <a:pt x="20599" y="15230"/>
                  </a:lnTo>
                  <a:lnTo>
                    <a:pt x="20499" y="15876"/>
                  </a:lnTo>
                  <a:lnTo>
                    <a:pt x="20399" y="16430"/>
                  </a:lnTo>
                  <a:lnTo>
                    <a:pt x="20399" y="16984"/>
                  </a:lnTo>
                  <a:lnTo>
                    <a:pt x="20199" y="17538"/>
                  </a:lnTo>
                  <a:lnTo>
                    <a:pt x="19999" y="17907"/>
                  </a:lnTo>
                  <a:lnTo>
                    <a:pt x="19799" y="18369"/>
                  </a:lnTo>
                  <a:lnTo>
                    <a:pt x="19499" y="18830"/>
                  </a:lnTo>
                  <a:lnTo>
                    <a:pt x="19199" y="19107"/>
                  </a:lnTo>
                  <a:lnTo>
                    <a:pt x="18900" y="19384"/>
                  </a:lnTo>
                  <a:lnTo>
                    <a:pt x="18499" y="19569"/>
                  </a:lnTo>
                  <a:lnTo>
                    <a:pt x="17999" y="19753"/>
                  </a:lnTo>
                  <a:lnTo>
                    <a:pt x="17699" y="19753"/>
                  </a:lnTo>
                  <a:lnTo>
                    <a:pt x="17199" y="19845"/>
                  </a:lnTo>
                  <a:lnTo>
                    <a:pt x="16699" y="19845"/>
                  </a:lnTo>
                  <a:lnTo>
                    <a:pt x="16200" y="19845"/>
                  </a:lnTo>
                  <a:lnTo>
                    <a:pt x="15599" y="19569"/>
                  </a:lnTo>
                  <a:lnTo>
                    <a:pt x="14999" y="19292"/>
                  </a:lnTo>
                  <a:lnTo>
                    <a:pt x="14299" y="18830"/>
                  </a:lnTo>
                  <a:lnTo>
                    <a:pt x="13699" y="18553"/>
                  </a:lnTo>
                  <a:lnTo>
                    <a:pt x="13500" y="18369"/>
                  </a:lnTo>
                  <a:lnTo>
                    <a:pt x="13299" y="18184"/>
                  </a:lnTo>
                  <a:lnTo>
                    <a:pt x="13099" y="18092"/>
                  </a:lnTo>
                  <a:lnTo>
                    <a:pt x="12899" y="17815"/>
                  </a:lnTo>
                  <a:lnTo>
                    <a:pt x="12799" y="17630"/>
                  </a:lnTo>
                  <a:lnTo>
                    <a:pt x="12499" y="17538"/>
                  </a:lnTo>
                  <a:lnTo>
                    <a:pt x="12399" y="17353"/>
                  </a:lnTo>
                  <a:lnTo>
                    <a:pt x="12199" y="17076"/>
                  </a:lnTo>
                  <a:lnTo>
                    <a:pt x="12099" y="16984"/>
                  </a:lnTo>
                  <a:lnTo>
                    <a:pt x="11899" y="16707"/>
                  </a:lnTo>
                  <a:lnTo>
                    <a:pt x="11699" y="16430"/>
                  </a:lnTo>
                  <a:lnTo>
                    <a:pt x="11499" y="16246"/>
                  </a:lnTo>
                  <a:lnTo>
                    <a:pt x="11499" y="16061"/>
                  </a:lnTo>
                  <a:lnTo>
                    <a:pt x="11299" y="15784"/>
                  </a:lnTo>
                  <a:lnTo>
                    <a:pt x="11099" y="15507"/>
                  </a:lnTo>
                  <a:lnTo>
                    <a:pt x="10999" y="15322"/>
                  </a:lnTo>
                  <a:lnTo>
                    <a:pt x="10699" y="15046"/>
                  </a:lnTo>
                  <a:lnTo>
                    <a:pt x="10599" y="14768"/>
                  </a:lnTo>
                  <a:lnTo>
                    <a:pt x="10399" y="14676"/>
                  </a:lnTo>
                  <a:lnTo>
                    <a:pt x="10299" y="14399"/>
                  </a:lnTo>
                  <a:lnTo>
                    <a:pt x="10199" y="14122"/>
                  </a:lnTo>
                  <a:lnTo>
                    <a:pt x="10099" y="13938"/>
                  </a:lnTo>
                  <a:lnTo>
                    <a:pt x="9899" y="13753"/>
                  </a:lnTo>
                  <a:lnTo>
                    <a:pt x="9699" y="13476"/>
                  </a:lnTo>
                  <a:lnTo>
                    <a:pt x="9699" y="13292"/>
                  </a:lnTo>
                  <a:lnTo>
                    <a:pt x="9699" y="13107"/>
                  </a:lnTo>
                  <a:lnTo>
                    <a:pt x="9499" y="12830"/>
                  </a:lnTo>
                  <a:lnTo>
                    <a:pt x="9499" y="12646"/>
                  </a:lnTo>
                  <a:lnTo>
                    <a:pt x="9299" y="12461"/>
                  </a:lnTo>
                  <a:lnTo>
                    <a:pt x="9299" y="12276"/>
                  </a:lnTo>
                  <a:lnTo>
                    <a:pt x="9199" y="12091"/>
                  </a:lnTo>
                  <a:lnTo>
                    <a:pt x="9099" y="11907"/>
                  </a:lnTo>
                  <a:lnTo>
                    <a:pt x="8999" y="11815"/>
                  </a:lnTo>
                  <a:lnTo>
                    <a:pt x="8999" y="11630"/>
                  </a:lnTo>
                  <a:lnTo>
                    <a:pt x="8999" y="11445"/>
                  </a:lnTo>
                  <a:lnTo>
                    <a:pt x="8799" y="11169"/>
                  </a:lnTo>
                  <a:lnTo>
                    <a:pt x="8599" y="10984"/>
                  </a:lnTo>
                  <a:lnTo>
                    <a:pt x="8499" y="10615"/>
                  </a:lnTo>
                  <a:lnTo>
                    <a:pt x="8399" y="10430"/>
                  </a:lnTo>
                  <a:lnTo>
                    <a:pt x="8299" y="10061"/>
                  </a:lnTo>
                  <a:lnTo>
                    <a:pt x="8199" y="9784"/>
                  </a:lnTo>
                  <a:lnTo>
                    <a:pt x="8100" y="9415"/>
                  </a:lnTo>
                  <a:lnTo>
                    <a:pt x="7999" y="9138"/>
                  </a:lnTo>
                  <a:lnTo>
                    <a:pt x="7999" y="8953"/>
                  </a:lnTo>
                  <a:lnTo>
                    <a:pt x="7899" y="8676"/>
                  </a:lnTo>
                  <a:lnTo>
                    <a:pt x="7899" y="8584"/>
                  </a:lnTo>
                  <a:lnTo>
                    <a:pt x="7799" y="8492"/>
                  </a:lnTo>
                  <a:lnTo>
                    <a:pt x="7899" y="8307"/>
                  </a:lnTo>
                  <a:lnTo>
                    <a:pt x="7899" y="8215"/>
                  </a:lnTo>
                  <a:lnTo>
                    <a:pt x="7899" y="8215"/>
                  </a:lnTo>
                  <a:lnTo>
                    <a:pt x="7899" y="8123"/>
                  </a:lnTo>
                  <a:lnTo>
                    <a:pt x="7899" y="8123"/>
                  </a:lnTo>
                  <a:lnTo>
                    <a:pt x="7799" y="8123"/>
                  </a:lnTo>
                  <a:lnTo>
                    <a:pt x="7799" y="8123"/>
                  </a:lnTo>
                  <a:lnTo>
                    <a:pt x="7799" y="8123"/>
                  </a:lnTo>
                  <a:lnTo>
                    <a:pt x="7799" y="8123"/>
                  </a:lnTo>
                  <a:lnTo>
                    <a:pt x="7999" y="8123"/>
                  </a:lnTo>
                  <a:lnTo>
                    <a:pt x="8199" y="8307"/>
                  </a:lnTo>
                  <a:lnTo>
                    <a:pt x="8499" y="8492"/>
                  </a:lnTo>
                  <a:lnTo>
                    <a:pt x="8599" y="8769"/>
                  </a:lnTo>
                  <a:lnTo>
                    <a:pt x="8999" y="8861"/>
                  </a:lnTo>
                  <a:lnTo>
                    <a:pt x="9199" y="9138"/>
                  </a:lnTo>
                  <a:lnTo>
                    <a:pt x="9499" y="9322"/>
                  </a:lnTo>
                  <a:lnTo>
                    <a:pt x="9699" y="9599"/>
                  </a:lnTo>
                  <a:lnTo>
                    <a:pt x="9999" y="9784"/>
                  </a:lnTo>
                  <a:lnTo>
                    <a:pt x="10199" y="9969"/>
                  </a:lnTo>
                  <a:lnTo>
                    <a:pt x="10499" y="10061"/>
                  </a:lnTo>
                  <a:lnTo>
                    <a:pt x="10599" y="10153"/>
                  </a:lnTo>
                  <a:lnTo>
                    <a:pt x="10699" y="10153"/>
                  </a:lnTo>
                  <a:lnTo>
                    <a:pt x="10800" y="10245"/>
                  </a:lnTo>
                  <a:lnTo>
                    <a:pt x="10899" y="10153"/>
                  </a:lnTo>
                  <a:lnTo>
                    <a:pt x="10999" y="9969"/>
                  </a:lnTo>
                  <a:lnTo>
                    <a:pt x="10999" y="9692"/>
                  </a:lnTo>
                  <a:lnTo>
                    <a:pt x="10999" y="9507"/>
                  </a:lnTo>
                  <a:lnTo>
                    <a:pt x="10800" y="9322"/>
                  </a:lnTo>
                  <a:lnTo>
                    <a:pt x="10599" y="9045"/>
                  </a:lnTo>
                  <a:lnTo>
                    <a:pt x="10499" y="8861"/>
                  </a:lnTo>
                  <a:lnTo>
                    <a:pt x="10199" y="8676"/>
                  </a:lnTo>
                  <a:lnTo>
                    <a:pt x="10099" y="8492"/>
                  </a:lnTo>
                  <a:lnTo>
                    <a:pt x="9799" y="8399"/>
                  </a:lnTo>
                  <a:lnTo>
                    <a:pt x="9499" y="8123"/>
                  </a:lnTo>
                  <a:lnTo>
                    <a:pt x="9299" y="7938"/>
                  </a:lnTo>
                  <a:lnTo>
                    <a:pt x="8899" y="7753"/>
                  </a:lnTo>
                  <a:lnTo>
                    <a:pt x="8699" y="7569"/>
                  </a:lnTo>
                  <a:lnTo>
                    <a:pt x="8299" y="7384"/>
                  </a:lnTo>
                  <a:lnTo>
                    <a:pt x="8199" y="7384"/>
                  </a:lnTo>
                  <a:lnTo>
                    <a:pt x="7899" y="7107"/>
                  </a:lnTo>
                  <a:lnTo>
                    <a:pt x="7799" y="6830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未知"/>
            <p:cNvSpPr/>
            <p:nvPr/>
          </p:nvSpPr>
          <p:spPr>
            <a:xfrm>
              <a:off x="2621160" y="5283720"/>
              <a:ext cx="255960" cy="90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99" y="7845"/>
                  </a:moveTo>
                  <a:lnTo>
                    <a:pt x="20399" y="7661"/>
                  </a:lnTo>
                  <a:lnTo>
                    <a:pt x="20699" y="7384"/>
                  </a:lnTo>
                  <a:lnTo>
                    <a:pt x="20399" y="7199"/>
                  </a:lnTo>
                  <a:lnTo>
                    <a:pt x="20699" y="6923"/>
                  </a:lnTo>
                  <a:lnTo>
                    <a:pt x="20699" y="6645"/>
                  </a:lnTo>
                  <a:lnTo>
                    <a:pt x="20699" y="6461"/>
                  </a:lnTo>
                  <a:lnTo>
                    <a:pt x="20699" y="6092"/>
                  </a:lnTo>
                  <a:lnTo>
                    <a:pt x="20699" y="5815"/>
                  </a:lnTo>
                  <a:lnTo>
                    <a:pt x="20999" y="5538"/>
                  </a:lnTo>
                  <a:lnTo>
                    <a:pt x="20999" y="5261"/>
                  </a:lnTo>
                  <a:lnTo>
                    <a:pt x="20699" y="4984"/>
                  </a:lnTo>
                  <a:lnTo>
                    <a:pt x="20999" y="4707"/>
                  </a:lnTo>
                  <a:lnTo>
                    <a:pt x="20999" y="4338"/>
                  </a:lnTo>
                  <a:lnTo>
                    <a:pt x="20699" y="4061"/>
                  </a:lnTo>
                  <a:lnTo>
                    <a:pt x="20999" y="3784"/>
                  </a:lnTo>
                  <a:lnTo>
                    <a:pt x="20999" y="3507"/>
                  </a:lnTo>
                  <a:lnTo>
                    <a:pt x="20699" y="3230"/>
                  </a:lnTo>
                  <a:lnTo>
                    <a:pt x="20399" y="2861"/>
                  </a:lnTo>
                  <a:lnTo>
                    <a:pt x="20399" y="2584"/>
                  </a:lnTo>
                  <a:lnTo>
                    <a:pt x="20399" y="2307"/>
                  </a:lnTo>
                  <a:lnTo>
                    <a:pt x="20099" y="2122"/>
                  </a:lnTo>
                  <a:lnTo>
                    <a:pt x="19799" y="1846"/>
                  </a:lnTo>
                  <a:lnTo>
                    <a:pt x="19799" y="1569"/>
                  </a:lnTo>
                  <a:lnTo>
                    <a:pt x="19199" y="1291"/>
                  </a:lnTo>
                  <a:lnTo>
                    <a:pt x="18599" y="1107"/>
                  </a:lnTo>
                  <a:lnTo>
                    <a:pt x="18299" y="830"/>
                  </a:lnTo>
                  <a:lnTo>
                    <a:pt x="17999" y="738"/>
                  </a:lnTo>
                  <a:lnTo>
                    <a:pt x="17099" y="645"/>
                  </a:lnTo>
                  <a:lnTo>
                    <a:pt x="16799" y="461"/>
                  </a:lnTo>
                  <a:lnTo>
                    <a:pt x="15899" y="276"/>
                  </a:lnTo>
                  <a:lnTo>
                    <a:pt x="15299" y="184"/>
                  </a:lnTo>
                  <a:lnTo>
                    <a:pt x="14399" y="0"/>
                  </a:lnTo>
                  <a:lnTo>
                    <a:pt x="14099" y="92"/>
                  </a:lnTo>
                  <a:lnTo>
                    <a:pt x="13799" y="92"/>
                  </a:lnTo>
                  <a:lnTo>
                    <a:pt x="13199" y="92"/>
                  </a:lnTo>
                  <a:lnTo>
                    <a:pt x="12899" y="184"/>
                  </a:lnTo>
                  <a:lnTo>
                    <a:pt x="12599" y="461"/>
                  </a:lnTo>
                  <a:lnTo>
                    <a:pt x="12299" y="645"/>
                  </a:lnTo>
                  <a:lnTo>
                    <a:pt x="11999" y="830"/>
                  </a:lnTo>
                  <a:lnTo>
                    <a:pt x="11699" y="1107"/>
                  </a:lnTo>
                  <a:lnTo>
                    <a:pt x="11399" y="1384"/>
                  </a:lnTo>
                  <a:lnTo>
                    <a:pt x="11399" y="1753"/>
                  </a:lnTo>
                  <a:lnTo>
                    <a:pt x="11399" y="2122"/>
                  </a:lnTo>
                  <a:lnTo>
                    <a:pt x="11699" y="2492"/>
                  </a:lnTo>
                  <a:lnTo>
                    <a:pt x="11699" y="2861"/>
                  </a:lnTo>
                  <a:lnTo>
                    <a:pt x="11699" y="3230"/>
                  </a:lnTo>
                  <a:lnTo>
                    <a:pt x="11999" y="3784"/>
                  </a:lnTo>
                  <a:lnTo>
                    <a:pt x="11999" y="4246"/>
                  </a:lnTo>
                  <a:lnTo>
                    <a:pt x="12299" y="4615"/>
                  </a:lnTo>
                  <a:lnTo>
                    <a:pt x="12599" y="5076"/>
                  </a:lnTo>
                  <a:lnTo>
                    <a:pt x="12899" y="5630"/>
                  </a:lnTo>
                  <a:lnTo>
                    <a:pt x="12899" y="5999"/>
                  </a:lnTo>
                  <a:lnTo>
                    <a:pt x="13199" y="6461"/>
                  </a:lnTo>
                  <a:lnTo>
                    <a:pt x="13199" y="7015"/>
                  </a:lnTo>
                  <a:lnTo>
                    <a:pt x="13500" y="7384"/>
                  </a:lnTo>
                  <a:lnTo>
                    <a:pt x="13799" y="7845"/>
                  </a:lnTo>
                  <a:lnTo>
                    <a:pt x="14099" y="8215"/>
                  </a:lnTo>
                  <a:lnTo>
                    <a:pt x="14399" y="8861"/>
                  </a:lnTo>
                  <a:lnTo>
                    <a:pt x="14399" y="9045"/>
                  </a:lnTo>
                  <a:lnTo>
                    <a:pt x="14699" y="9507"/>
                  </a:lnTo>
                  <a:lnTo>
                    <a:pt x="14999" y="9876"/>
                  </a:lnTo>
                  <a:lnTo>
                    <a:pt x="15299" y="10245"/>
                  </a:lnTo>
                  <a:lnTo>
                    <a:pt x="14999" y="10522"/>
                  </a:lnTo>
                  <a:lnTo>
                    <a:pt x="15299" y="10707"/>
                  </a:lnTo>
                  <a:lnTo>
                    <a:pt x="15599" y="11261"/>
                  </a:lnTo>
                  <a:lnTo>
                    <a:pt x="15599" y="11722"/>
                  </a:lnTo>
                  <a:lnTo>
                    <a:pt x="15899" y="12091"/>
                  </a:lnTo>
                  <a:lnTo>
                    <a:pt x="16200" y="12553"/>
                  </a:lnTo>
                  <a:lnTo>
                    <a:pt x="16200" y="12922"/>
                  </a:lnTo>
                  <a:lnTo>
                    <a:pt x="16200" y="13384"/>
                  </a:lnTo>
                  <a:lnTo>
                    <a:pt x="16499" y="13661"/>
                  </a:lnTo>
                  <a:lnTo>
                    <a:pt x="16499" y="14030"/>
                  </a:lnTo>
                  <a:lnTo>
                    <a:pt x="16499" y="14399"/>
                  </a:lnTo>
                  <a:lnTo>
                    <a:pt x="16200" y="14768"/>
                  </a:lnTo>
                  <a:lnTo>
                    <a:pt x="16200" y="15046"/>
                  </a:lnTo>
                  <a:lnTo>
                    <a:pt x="15899" y="15322"/>
                  </a:lnTo>
                  <a:lnTo>
                    <a:pt x="15599" y="15599"/>
                  </a:lnTo>
                  <a:lnTo>
                    <a:pt x="15599" y="15876"/>
                  </a:lnTo>
                  <a:lnTo>
                    <a:pt x="15299" y="16153"/>
                  </a:lnTo>
                  <a:lnTo>
                    <a:pt x="15299" y="16522"/>
                  </a:lnTo>
                  <a:lnTo>
                    <a:pt x="14699" y="16615"/>
                  </a:lnTo>
                  <a:lnTo>
                    <a:pt x="14399" y="16892"/>
                  </a:lnTo>
                  <a:lnTo>
                    <a:pt x="14099" y="17168"/>
                  </a:lnTo>
                  <a:lnTo>
                    <a:pt x="13799" y="17445"/>
                  </a:lnTo>
                  <a:lnTo>
                    <a:pt x="13500" y="17630"/>
                  </a:lnTo>
                  <a:lnTo>
                    <a:pt x="12899" y="17907"/>
                  </a:lnTo>
                  <a:lnTo>
                    <a:pt x="11999" y="18092"/>
                  </a:lnTo>
                  <a:lnTo>
                    <a:pt x="11699" y="18369"/>
                  </a:lnTo>
                  <a:lnTo>
                    <a:pt x="11399" y="18461"/>
                  </a:lnTo>
                  <a:lnTo>
                    <a:pt x="10800" y="18645"/>
                  </a:lnTo>
                  <a:lnTo>
                    <a:pt x="9899" y="18923"/>
                  </a:lnTo>
                  <a:lnTo>
                    <a:pt x="9299" y="19107"/>
                  </a:lnTo>
                  <a:lnTo>
                    <a:pt x="8699" y="19292"/>
                  </a:lnTo>
                  <a:lnTo>
                    <a:pt x="7799" y="19569"/>
                  </a:lnTo>
                  <a:lnTo>
                    <a:pt x="7499" y="19661"/>
                  </a:lnTo>
                  <a:lnTo>
                    <a:pt x="6599" y="19938"/>
                  </a:lnTo>
                  <a:lnTo>
                    <a:pt x="5999" y="20030"/>
                  </a:lnTo>
                  <a:lnTo>
                    <a:pt x="5699" y="20122"/>
                  </a:lnTo>
                  <a:lnTo>
                    <a:pt x="5099" y="20307"/>
                  </a:lnTo>
                  <a:lnTo>
                    <a:pt x="4199" y="20399"/>
                  </a:lnTo>
                  <a:lnTo>
                    <a:pt x="3599" y="20584"/>
                  </a:lnTo>
                  <a:lnTo>
                    <a:pt x="3299" y="20676"/>
                  </a:lnTo>
                  <a:lnTo>
                    <a:pt x="2700" y="20861"/>
                  </a:lnTo>
                  <a:lnTo>
                    <a:pt x="1799" y="21045"/>
                  </a:lnTo>
                  <a:lnTo>
                    <a:pt x="1499" y="21230"/>
                  </a:lnTo>
                  <a:lnTo>
                    <a:pt x="899" y="21322"/>
                  </a:lnTo>
                  <a:lnTo>
                    <a:pt x="599" y="21415"/>
                  </a:lnTo>
                  <a:lnTo>
                    <a:pt x="0" y="21507"/>
                  </a:lnTo>
                  <a:lnTo>
                    <a:pt x="0" y="21600"/>
                  </a:lnTo>
                  <a:lnTo>
                    <a:pt x="0" y="21600"/>
                  </a:lnTo>
                  <a:lnTo>
                    <a:pt x="0" y="21507"/>
                  </a:lnTo>
                  <a:lnTo>
                    <a:pt x="299" y="21415"/>
                  </a:lnTo>
                  <a:lnTo>
                    <a:pt x="1199" y="21230"/>
                  </a:lnTo>
                  <a:lnTo>
                    <a:pt x="1799" y="21045"/>
                  </a:lnTo>
                  <a:lnTo>
                    <a:pt x="2700" y="20861"/>
                  </a:lnTo>
                  <a:lnTo>
                    <a:pt x="3599" y="20676"/>
                  </a:lnTo>
                  <a:lnTo>
                    <a:pt x="4199" y="20492"/>
                  </a:lnTo>
                  <a:lnTo>
                    <a:pt x="5099" y="20492"/>
                  </a:lnTo>
                  <a:lnTo>
                    <a:pt x="5999" y="20307"/>
                  </a:lnTo>
                  <a:lnTo>
                    <a:pt x="6899" y="20215"/>
                  </a:lnTo>
                  <a:lnTo>
                    <a:pt x="7799" y="20030"/>
                  </a:lnTo>
                  <a:lnTo>
                    <a:pt x="8399" y="19845"/>
                  </a:lnTo>
                  <a:lnTo>
                    <a:pt x="9299" y="19753"/>
                  </a:lnTo>
                  <a:lnTo>
                    <a:pt x="9899" y="19569"/>
                  </a:lnTo>
                  <a:lnTo>
                    <a:pt x="10499" y="19476"/>
                  </a:lnTo>
                  <a:lnTo>
                    <a:pt x="11399" y="19199"/>
                  </a:lnTo>
                  <a:lnTo>
                    <a:pt x="12299" y="19015"/>
                  </a:lnTo>
                  <a:lnTo>
                    <a:pt x="12599" y="18923"/>
                  </a:lnTo>
                  <a:lnTo>
                    <a:pt x="13799" y="18738"/>
                  </a:lnTo>
                  <a:lnTo>
                    <a:pt x="14699" y="18553"/>
                  </a:lnTo>
                  <a:lnTo>
                    <a:pt x="14999" y="18369"/>
                  </a:lnTo>
                  <a:lnTo>
                    <a:pt x="15899" y="18184"/>
                  </a:lnTo>
                  <a:lnTo>
                    <a:pt x="16799" y="17999"/>
                  </a:lnTo>
                  <a:lnTo>
                    <a:pt x="16799" y="17907"/>
                  </a:lnTo>
                  <a:lnTo>
                    <a:pt x="17699" y="17630"/>
                  </a:lnTo>
                  <a:lnTo>
                    <a:pt x="17999" y="17353"/>
                  </a:lnTo>
                  <a:lnTo>
                    <a:pt x="18900" y="17076"/>
                  </a:lnTo>
                  <a:lnTo>
                    <a:pt x="19199" y="16892"/>
                  </a:lnTo>
                  <a:lnTo>
                    <a:pt x="19799" y="16615"/>
                  </a:lnTo>
                  <a:lnTo>
                    <a:pt x="20099" y="16246"/>
                  </a:lnTo>
                  <a:lnTo>
                    <a:pt x="20099" y="16061"/>
                  </a:lnTo>
                  <a:lnTo>
                    <a:pt x="20699" y="15784"/>
                  </a:lnTo>
                  <a:lnTo>
                    <a:pt x="20699" y="15415"/>
                  </a:lnTo>
                  <a:lnTo>
                    <a:pt x="20999" y="14953"/>
                  </a:lnTo>
                  <a:lnTo>
                    <a:pt x="20999" y="14768"/>
                  </a:lnTo>
                  <a:lnTo>
                    <a:pt x="20999" y="14676"/>
                  </a:lnTo>
                  <a:lnTo>
                    <a:pt x="20999" y="14492"/>
                  </a:lnTo>
                  <a:lnTo>
                    <a:pt x="20999" y="14215"/>
                  </a:lnTo>
                  <a:lnTo>
                    <a:pt x="21299" y="14030"/>
                  </a:lnTo>
                  <a:lnTo>
                    <a:pt x="21299" y="13753"/>
                  </a:lnTo>
                  <a:lnTo>
                    <a:pt x="21299" y="13569"/>
                  </a:lnTo>
                  <a:lnTo>
                    <a:pt x="21299" y="13292"/>
                  </a:lnTo>
                  <a:lnTo>
                    <a:pt x="21299" y="13107"/>
                  </a:lnTo>
                  <a:lnTo>
                    <a:pt x="21299" y="12922"/>
                  </a:lnTo>
                  <a:lnTo>
                    <a:pt x="21600" y="12553"/>
                  </a:lnTo>
                  <a:lnTo>
                    <a:pt x="21299" y="12369"/>
                  </a:lnTo>
                  <a:lnTo>
                    <a:pt x="21600" y="12091"/>
                  </a:lnTo>
                  <a:lnTo>
                    <a:pt x="21299" y="11815"/>
                  </a:lnTo>
                  <a:lnTo>
                    <a:pt x="20999" y="11538"/>
                  </a:lnTo>
                  <a:lnTo>
                    <a:pt x="21299" y="11445"/>
                  </a:lnTo>
                  <a:lnTo>
                    <a:pt x="21299" y="11169"/>
                  </a:lnTo>
                  <a:lnTo>
                    <a:pt x="21299" y="10892"/>
                  </a:lnTo>
                  <a:lnTo>
                    <a:pt x="20999" y="10707"/>
                  </a:lnTo>
                  <a:lnTo>
                    <a:pt x="21299" y="10522"/>
                  </a:lnTo>
                  <a:lnTo>
                    <a:pt x="20999" y="10245"/>
                  </a:lnTo>
                  <a:lnTo>
                    <a:pt x="21299" y="9969"/>
                  </a:lnTo>
                  <a:lnTo>
                    <a:pt x="20999" y="9876"/>
                  </a:lnTo>
                  <a:lnTo>
                    <a:pt x="20999" y="9599"/>
                  </a:lnTo>
                  <a:lnTo>
                    <a:pt x="20699" y="9322"/>
                  </a:lnTo>
                  <a:lnTo>
                    <a:pt x="20699" y="9138"/>
                  </a:lnTo>
                  <a:lnTo>
                    <a:pt x="20699" y="8861"/>
                  </a:lnTo>
                  <a:lnTo>
                    <a:pt x="20699" y="8676"/>
                  </a:lnTo>
                  <a:lnTo>
                    <a:pt x="20399" y="8492"/>
                  </a:lnTo>
                  <a:lnTo>
                    <a:pt x="20699" y="8307"/>
                  </a:lnTo>
                  <a:lnTo>
                    <a:pt x="20399" y="8030"/>
                  </a:lnTo>
                  <a:lnTo>
                    <a:pt x="20699" y="7845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未知"/>
            <p:cNvSpPr/>
            <p:nvPr/>
          </p:nvSpPr>
          <p:spPr>
            <a:xfrm>
              <a:off x="2156760" y="5259960"/>
              <a:ext cx="553680" cy="696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845" y="1079"/>
                  </a:moveTo>
                  <a:lnTo>
                    <a:pt x="11705" y="1319"/>
                  </a:lnTo>
                  <a:lnTo>
                    <a:pt x="11287" y="1559"/>
                  </a:lnTo>
                  <a:lnTo>
                    <a:pt x="11008" y="1799"/>
                  </a:lnTo>
                  <a:lnTo>
                    <a:pt x="10590" y="1919"/>
                  </a:lnTo>
                  <a:lnTo>
                    <a:pt x="10172" y="2159"/>
                  </a:lnTo>
                  <a:lnTo>
                    <a:pt x="9754" y="2399"/>
                  </a:lnTo>
                  <a:lnTo>
                    <a:pt x="9615" y="2519"/>
                  </a:lnTo>
                  <a:lnTo>
                    <a:pt x="9197" y="2759"/>
                  </a:lnTo>
                  <a:lnTo>
                    <a:pt x="8779" y="2879"/>
                  </a:lnTo>
                  <a:lnTo>
                    <a:pt x="8361" y="3119"/>
                  </a:lnTo>
                  <a:lnTo>
                    <a:pt x="8082" y="3239"/>
                  </a:lnTo>
                  <a:lnTo>
                    <a:pt x="7524" y="3359"/>
                  </a:lnTo>
                  <a:lnTo>
                    <a:pt x="7246" y="3599"/>
                  </a:lnTo>
                  <a:lnTo>
                    <a:pt x="6828" y="3719"/>
                  </a:lnTo>
                  <a:lnTo>
                    <a:pt x="6410" y="3959"/>
                  </a:lnTo>
                  <a:lnTo>
                    <a:pt x="5991" y="4199"/>
                  </a:lnTo>
                  <a:lnTo>
                    <a:pt x="5574" y="4319"/>
                  </a:lnTo>
                  <a:lnTo>
                    <a:pt x="5295" y="4559"/>
                  </a:lnTo>
                  <a:lnTo>
                    <a:pt x="4877" y="4799"/>
                  </a:lnTo>
                  <a:lnTo>
                    <a:pt x="4459" y="4919"/>
                  </a:lnTo>
                  <a:lnTo>
                    <a:pt x="4041" y="5159"/>
                  </a:lnTo>
                  <a:lnTo>
                    <a:pt x="3762" y="5279"/>
                  </a:lnTo>
                  <a:lnTo>
                    <a:pt x="3344" y="5519"/>
                  </a:lnTo>
                  <a:lnTo>
                    <a:pt x="2926" y="5759"/>
                  </a:lnTo>
                  <a:lnTo>
                    <a:pt x="2508" y="5879"/>
                  </a:lnTo>
                  <a:lnTo>
                    <a:pt x="2229" y="6119"/>
                  </a:lnTo>
                  <a:lnTo>
                    <a:pt x="1811" y="6239"/>
                  </a:lnTo>
                  <a:lnTo>
                    <a:pt x="1393" y="6479"/>
                  </a:lnTo>
                  <a:lnTo>
                    <a:pt x="1114" y="6599"/>
                  </a:lnTo>
                  <a:lnTo>
                    <a:pt x="696" y="6839"/>
                  </a:lnTo>
                  <a:lnTo>
                    <a:pt x="417" y="7079"/>
                  </a:lnTo>
                  <a:lnTo>
                    <a:pt x="0" y="7319"/>
                  </a:lnTo>
                  <a:lnTo>
                    <a:pt x="0" y="7319"/>
                  </a:lnTo>
                  <a:lnTo>
                    <a:pt x="139" y="7319"/>
                  </a:lnTo>
                  <a:lnTo>
                    <a:pt x="417" y="7199"/>
                  </a:lnTo>
                  <a:lnTo>
                    <a:pt x="696" y="7199"/>
                  </a:lnTo>
                  <a:lnTo>
                    <a:pt x="1254" y="7079"/>
                  </a:lnTo>
                  <a:lnTo>
                    <a:pt x="1532" y="6959"/>
                  </a:lnTo>
                  <a:lnTo>
                    <a:pt x="2090" y="6839"/>
                  </a:lnTo>
                  <a:lnTo>
                    <a:pt x="2647" y="6719"/>
                  </a:lnTo>
                  <a:lnTo>
                    <a:pt x="3344" y="6479"/>
                  </a:lnTo>
                  <a:lnTo>
                    <a:pt x="3623" y="6479"/>
                  </a:lnTo>
                  <a:lnTo>
                    <a:pt x="4180" y="6239"/>
                  </a:lnTo>
                  <a:lnTo>
                    <a:pt x="4877" y="5999"/>
                  </a:lnTo>
                  <a:lnTo>
                    <a:pt x="5434" y="5879"/>
                  </a:lnTo>
                  <a:lnTo>
                    <a:pt x="5852" y="5759"/>
                  </a:lnTo>
                  <a:lnTo>
                    <a:pt x="5991" y="5639"/>
                  </a:lnTo>
                  <a:lnTo>
                    <a:pt x="6410" y="5279"/>
                  </a:lnTo>
                  <a:lnTo>
                    <a:pt x="6689" y="5279"/>
                  </a:lnTo>
                  <a:lnTo>
                    <a:pt x="6967" y="5039"/>
                  </a:lnTo>
                  <a:lnTo>
                    <a:pt x="7106" y="4919"/>
                  </a:lnTo>
                  <a:lnTo>
                    <a:pt x="7524" y="4559"/>
                  </a:lnTo>
                  <a:lnTo>
                    <a:pt x="7803" y="4559"/>
                  </a:lnTo>
                  <a:lnTo>
                    <a:pt x="7803" y="4319"/>
                  </a:lnTo>
                  <a:lnTo>
                    <a:pt x="8221" y="4079"/>
                  </a:lnTo>
                  <a:lnTo>
                    <a:pt x="8639" y="3959"/>
                  </a:lnTo>
                  <a:lnTo>
                    <a:pt x="9057" y="3719"/>
                  </a:lnTo>
                  <a:lnTo>
                    <a:pt x="9336" y="3599"/>
                  </a:lnTo>
                  <a:lnTo>
                    <a:pt x="9754" y="3359"/>
                  </a:lnTo>
                  <a:lnTo>
                    <a:pt x="10033" y="3239"/>
                  </a:lnTo>
                  <a:lnTo>
                    <a:pt x="10451" y="3119"/>
                  </a:lnTo>
                  <a:lnTo>
                    <a:pt x="10869" y="2879"/>
                  </a:lnTo>
                  <a:lnTo>
                    <a:pt x="11148" y="2759"/>
                  </a:lnTo>
                  <a:lnTo>
                    <a:pt x="11566" y="2639"/>
                  </a:lnTo>
                  <a:lnTo>
                    <a:pt x="11845" y="2519"/>
                  </a:lnTo>
                  <a:lnTo>
                    <a:pt x="12123" y="2399"/>
                  </a:lnTo>
                  <a:lnTo>
                    <a:pt x="12541" y="2279"/>
                  </a:lnTo>
                  <a:lnTo>
                    <a:pt x="12959" y="2279"/>
                  </a:lnTo>
                  <a:lnTo>
                    <a:pt x="13378" y="2159"/>
                  </a:lnTo>
                  <a:lnTo>
                    <a:pt x="13656" y="2159"/>
                  </a:lnTo>
                  <a:lnTo>
                    <a:pt x="14074" y="2039"/>
                  </a:lnTo>
                  <a:lnTo>
                    <a:pt x="14213" y="2039"/>
                  </a:lnTo>
                  <a:lnTo>
                    <a:pt x="14632" y="2039"/>
                  </a:lnTo>
                  <a:lnTo>
                    <a:pt x="14910" y="2039"/>
                  </a:lnTo>
                  <a:lnTo>
                    <a:pt x="15189" y="2039"/>
                  </a:lnTo>
                  <a:lnTo>
                    <a:pt x="15468" y="2159"/>
                  </a:lnTo>
                  <a:lnTo>
                    <a:pt x="15746" y="2279"/>
                  </a:lnTo>
                  <a:lnTo>
                    <a:pt x="16025" y="2399"/>
                  </a:lnTo>
                  <a:lnTo>
                    <a:pt x="16304" y="2519"/>
                  </a:lnTo>
                  <a:lnTo>
                    <a:pt x="16582" y="2639"/>
                  </a:lnTo>
                  <a:lnTo>
                    <a:pt x="16861" y="3119"/>
                  </a:lnTo>
                  <a:lnTo>
                    <a:pt x="17001" y="3479"/>
                  </a:lnTo>
                  <a:lnTo>
                    <a:pt x="17279" y="3839"/>
                  </a:lnTo>
                  <a:lnTo>
                    <a:pt x="17558" y="4079"/>
                  </a:lnTo>
                  <a:lnTo>
                    <a:pt x="17697" y="4559"/>
                  </a:lnTo>
                  <a:lnTo>
                    <a:pt x="17837" y="5039"/>
                  </a:lnTo>
                  <a:lnTo>
                    <a:pt x="18115" y="5400"/>
                  </a:lnTo>
                  <a:lnTo>
                    <a:pt x="18255" y="5759"/>
                  </a:lnTo>
                  <a:lnTo>
                    <a:pt x="18255" y="6119"/>
                  </a:lnTo>
                  <a:lnTo>
                    <a:pt x="18394" y="6599"/>
                  </a:lnTo>
                  <a:lnTo>
                    <a:pt x="18534" y="7079"/>
                  </a:lnTo>
                  <a:lnTo>
                    <a:pt x="18673" y="7439"/>
                  </a:lnTo>
                  <a:lnTo>
                    <a:pt x="18673" y="7919"/>
                  </a:lnTo>
                  <a:lnTo>
                    <a:pt x="18673" y="8399"/>
                  </a:lnTo>
                  <a:lnTo>
                    <a:pt x="18812" y="8879"/>
                  </a:lnTo>
                  <a:lnTo>
                    <a:pt x="18812" y="9359"/>
                  </a:lnTo>
                  <a:lnTo>
                    <a:pt x="18812" y="9719"/>
                  </a:lnTo>
                  <a:lnTo>
                    <a:pt x="18673" y="10199"/>
                  </a:lnTo>
                  <a:lnTo>
                    <a:pt x="18812" y="10679"/>
                  </a:lnTo>
                  <a:lnTo>
                    <a:pt x="18812" y="11159"/>
                  </a:lnTo>
                  <a:lnTo>
                    <a:pt x="18812" y="11639"/>
                  </a:lnTo>
                  <a:lnTo>
                    <a:pt x="18673" y="11999"/>
                  </a:lnTo>
                  <a:lnTo>
                    <a:pt x="18673" y="12239"/>
                  </a:lnTo>
                  <a:lnTo>
                    <a:pt x="18673" y="12719"/>
                  </a:lnTo>
                  <a:lnTo>
                    <a:pt x="18673" y="13079"/>
                  </a:lnTo>
                  <a:lnTo>
                    <a:pt x="18394" y="13559"/>
                  </a:lnTo>
                  <a:lnTo>
                    <a:pt x="18394" y="13919"/>
                  </a:lnTo>
                  <a:lnTo>
                    <a:pt x="18394" y="14279"/>
                  </a:lnTo>
                  <a:lnTo>
                    <a:pt x="18115" y="14639"/>
                  </a:lnTo>
                  <a:lnTo>
                    <a:pt x="18115" y="14999"/>
                  </a:lnTo>
                  <a:lnTo>
                    <a:pt x="18115" y="15479"/>
                  </a:lnTo>
                  <a:lnTo>
                    <a:pt x="17837" y="15719"/>
                  </a:lnTo>
                  <a:lnTo>
                    <a:pt x="17837" y="15719"/>
                  </a:lnTo>
                  <a:lnTo>
                    <a:pt x="17558" y="15599"/>
                  </a:lnTo>
                  <a:lnTo>
                    <a:pt x="17419" y="15359"/>
                  </a:lnTo>
                  <a:lnTo>
                    <a:pt x="17001" y="15119"/>
                  </a:lnTo>
                  <a:lnTo>
                    <a:pt x="16582" y="14759"/>
                  </a:lnTo>
                  <a:lnTo>
                    <a:pt x="16025" y="14279"/>
                  </a:lnTo>
                  <a:lnTo>
                    <a:pt x="15607" y="13919"/>
                  </a:lnTo>
                  <a:lnTo>
                    <a:pt x="15050" y="13559"/>
                  </a:lnTo>
                  <a:lnTo>
                    <a:pt x="14492" y="13079"/>
                  </a:lnTo>
                  <a:lnTo>
                    <a:pt x="14074" y="12839"/>
                  </a:lnTo>
                  <a:lnTo>
                    <a:pt x="13656" y="12599"/>
                  </a:lnTo>
                  <a:lnTo>
                    <a:pt x="13378" y="12479"/>
                  </a:lnTo>
                  <a:lnTo>
                    <a:pt x="13099" y="12359"/>
                  </a:lnTo>
                  <a:lnTo>
                    <a:pt x="12820" y="12599"/>
                  </a:lnTo>
                  <a:lnTo>
                    <a:pt x="12680" y="12719"/>
                  </a:lnTo>
                  <a:lnTo>
                    <a:pt x="12820" y="13199"/>
                  </a:lnTo>
                  <a:lnTo>
                    <a:pt x="12959" y="13919"/>
                  </a:lnTo>
                  <a:lnTo>
                    <a:pt x="13099" y="14519"/>
                  </a:lnTo>
                  <a:lnTo>
                    <a:pt x="13378" y="14879"/>
                  </a:lnTo>
                  <a:lnTo>
                    <a:pt x="13656" y="15359"/>
                  </a:lnTo>
                  <a:lnTo>
                    <a:pt x="14074" y="15839"/>
                  </a:lnTo>
                  <a:lnTo>
                    <a:pt x="14353" y="16200"/>
                  </a:lnTo>
                  <a:lnTo>
                    <a:pt x="14632" y="16439"/>
                  </a:lnTo>
                  <a:lnTo>
                    <a:pt x="15189" y="16799"/>
                  </a:lnTo>
                  <a:lnTo>
                    <a:pt x="15468" y="17279"/>
                  </a:lnTo>
                  <a:lnTo>
                    <a:pt x="15746" y="17519"/>
                  </a:lnTo>
                  <a:lnTo>
                    <a:pt x="16165" y="17999"/>
                  </a:lnTo>
                  <a:lnTo>
                    <a:pt x="16304" y="18239"/>
                  </a:lnTo>
                  <a:lnTo>
                    <a:pt x="16722" y="18599"/>
                  </a:lnTo>
                  <a:lnTo>
                    <a:pt x="17001" y="19079"/>
                  </a:lnTo>
                  <a:lnTo>
                    <a:pt x="17140" y="19559"/>
                  </a:lnTo>
                  <a:lnTo>
                    <a:pt x="17419" y="19919"/>
                  </a:lnTo>
                  <a:lnTo>
                    <a:pt x="17558" y="20279"/>
                  </a:lnTo>
                  <a:lnTo>
                    <a:pt x="17837" y="20639"/>
                  </a:lnTo>
                  <a:lnTo>
                    <a:pt x="18115" y="20879"/>
                  </a:lnTo>
                  <a:lnTo>
                    <a:pt x="18394" y="21119"/>
                  </a:lnTo>
                  <a:lnTo>
                    <a:pt x="18952" y="21239"/>
                  </a:lnTo>
                  <a:lnTo>
                    <a:pt x="19091" y="21479"/>
                  </a:lnTo>
                  <a:lnTo>
                    <a:pt x="19509" y="21479"/>
                  </a:lnTo>
                  <a:lnTo>
                    <a:pt x="19927" y="21479"/>
                  </a:lnTo>
                  <a:lnTo>
                    <a:pt x="20345" y="21479"/>
                  </a:lnTo>
                  <a:lnTo>
                    <a:pt x="20763" y="21600"/>
                  </a:lnTo>
                  <a:lnTo>
                    <a:pt x="21181" y="21479"/>
                  </a:lnTo>
                  <a:lnTo>
                    <a:pt x="21460" y="21600"/>
                  </a:lnTo>
                  <a:lnTo>
                    <a:pt x="21321" y="21479"/>
                  </a:lnTo>
                  <a:lnTo>
                    <a:pt x="21600" y="21359"/>
                  </a:lnTo>
                  <a:lnTo>
                    <a:pt x="21600" y="21359"/>
                  </a:lnTo>
                  <a:lnTo>
                    <a:pt x="21600" y="21239"/>
                  </a:lnTo>
                  <a:lnTo>
                    <a:pt x="21600" y="20879"/>
                  </a:lnTo>
                  <a:lnTo>
                    <a:pt x="21321" y="20639"/>
                  </a:lnTo>
                  <a:lnTo>
                    <a:pt x="21321" y="20159"/>
                  </a:lnTo>
                  <a:lnTo>
                    <a:pt x="21181" y="19679"/>
                  </a:lnTo>
                  <a:lnTo>
                    <a:pt x="21181" y="19079"/>
                  </a:lnTo>
                  <a:lnTo>
                    <a:pt x="21321" y="18599"/>
                  </a:lnTo>
                  <a:lnTo>
                    <a:pt x="21321" y="17999"/>
                  </a:lnTo>
                  <a:lnTo>
                    <a:pt x="21321" y="17519"/>
                  </a:lnTo>
                  <a:lnTo>
                    <a:pt x="21321" y="17039"/>
                  </a:lnTo>
                  <a:lnTo>
                    <a:pt x="21321" y="16439"/>
                  </a:lnTo>
                  <a:lnTo>
                    <a:pt x="21460" y="15959"/>
                  </a:lnTo>
                  <a:lnTo>
                    <a:pt x="21460" y="15359"/>
                  </a:lnTo>
                  <a:lnTo>
                    <a:pt x="21460" y="14999"/>
                  </a:lnTo>
                  <a:lnTo>
                    <a:pt x="21600" y="14519"/>
                  </a:lnTo>
                  <a:lnTo>
                    <a:pt x="21460" y="14159"/>
                  </a:lnTo>
                  <a:lnTo>
                    <a:pt x="21600" y="13919"/>
                  </a:lnTo>
                  <a:lnTo>
                    <a:pt x="21460" y="13559"/>
                  </a:lnTo>
                  <a:lnTo>
                    <a:pt x="21321" y="13319"/>
                  </a:lnTo>
                  <a:lnTo>
                    <a:pt x="21460" y="12959"/>
                  </a:lnTo>
                  <a:lnTo>
                    <a:pt x="21460" y="12839"/>
                  </a:lnTo>
                  <a:lnTo>
                    <a:pt x="21460" y="12479"/>
                  </a:lnTo>
                  <a:lnTo>
                    <a:pt x="21460" y="12239"/>
                  </a:lnTo>
                  <a:lnTo>
                    <a:pt x="21321" y="11999"/>
                  </a:lnTo>
                  <a:lnTo>
                    <a:pt x="21321" y="11759"/>
                  </a:lnTo>
                  <a:lnTo>
                    <a:pt x="21181" y="11399"/>
                  </a:lnTo>
                  <a:lnTo>
                    <a:pt x="21042" y="11159"/>
                  </a:lnTo>
                  <a:lnTo>
                    <a:pt x="21181" y="10919"/>
                  </a:lnTo>
                  <a:lnTo>
                    <a:pt x="21181" y="10679"/>
                  </a:lnTo>
                  <a:lnTo>
                    <a:pt x="21042" y="10319"/>
                  </a:lnTo>
                  <a:lnTo>
                    <a:pt x="21042" y="9959"/>
                  </a:lnTo>
                  <a:lnTo>
                    <a:pt x="21042" y="9719"/>
                  </a:lnTo>
                  <a:lnTo>
                    <a:pt x="20902" y="9359"/>
                  </a:lnTo>
                  <a:lnTo>
                    <a:pt x="21042" y="9119"/>
                  </a:lnTo>
                  <a:lnTo>
                    <a:pt x="20902" y="8879"/>
                  </a:lnTo>
                  <a:lnTo>
                    <a:pt x="20902" y="8519"/>
                  </a:lnTo>
                  <a:lnTo>
                    <a:pt x="20902" y="8279"/>
                  </a:lnTo>
                  <a:lnTo>
                    <a:pt x="20902" y="7919"/>
                  </a:lnTo>
                  <a:lnTo>
                    <a:pt x="20763" y="7559"/>
                  </a:lnTo>
                  <a:lnTo>
                    <a:pt x="20763" y="7319"/>
                  </a:lnTo>
                  <a:lnTo>
                    <a:pt x="20763" y="7079"/>
                  </a:lnTo>
                  <a:lnTo>
                    <a:pt x="20763" y="6719"/>
                  </a:lnTo>
                  <a:lnTo>
                    <a:pt x="20624" y="6359"/>
                  </a:lnTo>
                  <a:lnTo>
                    <a:pt x="20484" y="5999"/>
                  </a:lnTo>
                  <a:lnTo>
                    <a:pt x="20484" y="5759"/>
                  </a:lnTo>
                  <a:lnTo>
                    <a:pt x="20345" y="5400"/>
                  </a:lnTo>
                  <a:lnTo>
                    <a:pt x="20484" y="5159"/>
                  </a:lnTo>
                  <a:lnTo>
                    <a:pt x="20345" y="4799"/>
                  </a:lnTo>
                  <a:lnTo>
                    <a:pt x="20345" y="4439"/>
                  </a:lnTo>
                  <a:lnTo>
                    <a:pt x="19927" y="3479"/>
                  </a:lnTo>
                  <a:lnTo>
                    <a:pt x="19509" y="2639"/>
                  </a:lnTo>
                  <a:lnTo>
                    <a:pt x="19091" y="1919"/>
                  </a:lnTo>
                  <a:lnTo>
                    <a:pt x="18673" y="1319"/>
                  </a:lnTo>
                  <a:lnTo>
                    <a:pt x="18115" y="959"/>
                  </a:lnTo>
                  <a:lnTo>
                    <a:pt x="17419" y="599"/>
                  </a:lnTo>
                  <a:lnTo>
                    <a:pt x="16861" y="359"/>
                  </a:lnTo>
                  <a:lnTo>
                    <a:pt x="16304" y="119"/>
                  </a:lnTo>
                  <a:lnTo>
                    <a:pt x="15607" y="0"/>
                  </a:lnTo>
                  <a:lnTo>
                    <a:pt x="14910" y="0"/>
                  </a:lnTo>
                  <a:lnTo>
                    <a:pt x="14353" y="119"/>
                  </a:lnTo>
                  <a:lnTo>
                    <a:pt x="13656" y="239"/>
                  </a:lnTo>
                  <a:lnTo>
                    <a:pt x="13238" y="359"/>
                  </a:lnTo>
                  <a:lnTo>
                    <a:pt x="12680" y="599"/>
                  </a:lnTo>
                  <a:lnTo>
                    <a:pt x="12123" y="839"/>
                  </a:lnTo>
                  <a:lnTo>
                    <a:pt x="11845" y="1079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未知"/>
            <p:cNvSpPr/>
            <p:nvPr/>
          </p:nvSpPr>
          <p:spPr>
            <a:xfrm>
              <a:off x="2595600" y="4875840"/>
              <a:ext cx="196560" cy="198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814" y="423"/>
                  </a:lnTo>
                  <a:lnTo>
                    <a:pt x="20421" y="847"/>
                  </a:lnTo>
                  <a:lnTo>
                    <a:pt x="19636" y="1694"/>
                  </a:lnTo>
                  <a:lnTo>
                    <a:pt x="18458" y="1694"/>
                  </a:lnTo>
                  <a:lnTo>
                    <a:pt x="17672" y="2541"/>
                  </a:lnTo>
                  <a:lnTo>
                    <a:pt x="16887" y="2964"/>
                  </a:lnTo>
                  <a:lnTo>
                    <a:pt x="16494" y="2964"/>
                  </a:lnTo>
                  <a:lnTo>
                    <a:pt x="15316" y="3811"/>
                  </a:lnTo>
                  <a:lnTo>
                    <a:pt x="14138" y="4658"/>
                  </a:lnTo>
                  <a:lnTo>
                    <a:pt x="12959" y="4658"/>
                  </a:lnTo>
                  <a:lnTo>
                    <a:pt x="11781" y="5505"/>
                  </a:lnTo>
                  <a:lnTo>
                    <a:pt x="10996" y="6352"/>
                  </a:lnTo>
                  <a:lnTo>
                    <a:pt x="10210" y="6352"/>
                  </a:lnTo>
                  <a:lnTo>
                    <a:pt x="9032" y="7199"/>
                  </a:lnTo>
                  <a:lnTo>
                    <a:pt x="7854" y="7623"/>
                  </a:lnTo>
                  <a:lnTo>
                    <a:pt x="7069" y="8470"/>
                  </a:lnTo>
                  <a:lnTo>
                    <a:pt x="5890" y="8893"/>
                  </a:lnTo>
                  <a:lnTo>
                    <a:pt x="5105" y="9741"/>
                  </a:lnTo>
                  <a:lnTo>
                    <a:pt x="4319" y="10164"/>
                  </a:lnTo>
                  <a:lnTo>
                    <a:pt x="3534" y="11011"/>
                  </a:lnTo>
                  <a:lnTo>
                    <a:pt x="2748" y="11011"/>
                  </a:lnTo>
                  <a:lnTo>
                    <a:pt x="1963" y="11435"/>
                  </a:lnTo>
                  <a:lnTo>
                    <a:pt x="1177" y="12282"/>
                  </a:lnTo>
                  <a:lnTo>
                    <a:pt x="785" y="12705"/>
                  </a:lnTo>
                  <a:lnTo>
                    <a:pt x="392" y="13976"/>
                  </a:lnTo>
                  <a:lnTo>
                    <a:pt x="392" y="14823"/>
                  </a:lnTo>
                  <a:lnTo>
                    <a:pt x="0" y="15246"/>
                  </a:lnTo>
                  <a:lnTo>
                    <a:pt x="0" y="16093"/>
                  </a:lnTo>
                  <a:lnTo>
                    <a:pt x="392" y="16940"/>
                  </a:lnTo>
                  <a:lnTo>
                    <a:pt x="392" y="18211"/>
                  </a:lnTo>
                  <a:lnTo>
                    <a:pt x="392" y="18635"/>
                  </a:lnTo>
                  <a:lnTo>
                    <a:pt x="1570" y="19058"/>
                  </a:lnTo>
                  <a:lnTo>
                    <a:pt x="3141" y="21176"/>
                  </a:lnTo>
                  <a:lnTo>
                    <a:pt x="4712" y="21600"/>
                  </a:lnTo>
                  <a:lnTo>
                    <a:pt x="6283" y="21600"/>
                  </a:lnTo>
                  <a:lnTo>
                    <a:pt x="7854" y="20752"/>
                  </a:lnTo>
                  <a:lnTo>
                    <a:pt x="9425" y="19058"/>
                  </a:lnTo>
                  <a:lnTo>
                    <a:pt x="11388" y="17364"/>
                  </a:lnTo>
                  <a:lnTo>
                    <a:pt x="12959" y="15246"/>
                  </a:lnTo>
                  <a:lnTo>
                    <a:pt x="14530" y="13129"/>
                  </a:lnTo>
                  <a:lnTo>
                    <a:pt x="15708" y="11011"/>
                  </a:lnTo>
                  <a:lnTo>
                    <a:pt x="17279" y="8470"/>
                  </a:lnTo>
                  <a:lnTo>
                    <a:pt x="18458" y="6352"/>
                  </a:lnTo>
                  <a:lnTo>
                    <a:pt x="19243" y="4658"/>
                  </a:lnTo>
                  <a:lnTo>
                    <a:pt x="20814" y="2541"/>
                  </a:lnTo>
                  <a:lnTo>
                    <a:pt x="21207" y="1270"/>
                  </a:lnTo>
                  <a:lnTo>
                    <a:pt x="21207" y="423"/>
                  </a:lnTo>
                  <a:lnTo>
                    <a:pt x="21600" y="0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>
              <a:off x="2564280" y="4707000"/>
              <a:ext cx="253440" cy="11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515" y="2090"/>
                  </a:moveTo>
                  <a:lnTo>
                    <a:pt x="15211" y="1393"/>
                  </a:lnTo>
                  <a:lnTo>
                    <a:pt x="15211" y="696"/>
                  </a:lnTo>
                  <a:lnTo>
                    <a:pt x="14907" y="0"/>
                  </a:lnTo>
                  <a:lnTo>
                    <a:pt x="14602" y="696"/>
                  </a:lnTo>
                  <a:lnTo>
                    <a:pt x="14298" y="1393"/>
                  </a:lnTo>
                  <a:lnTo>
                    <a:pt x="13385" y="2787"/>
                  </a:lnTo>
                  <a:lnTo>
                    <a:pt x="12472" y="3483"/>
                  </a:lnTo>
                  <a:lnTo>
                    <a:pt x="11256" y="4180"/>
                  </a:lnTo>
                  <a:lnTo>
                    <a:pt x="10951" y="4877"/>
                  </a:lnTo>
                  <a:lnTo>
                    <a:pt x="10039" y="4877"/>
                  </a:lnTo>
                  <a:lnTo>
                    <a:pt x="9126" y="5574"/>
                  </a:lnTo>
                  <a:lnTo>
                    <a:pt x="7909" y="5574"/>
                  </a:lnTo>
                  <a:lnTo>
                    <a:pt x="6692" y="5574"/>
                  </a:lnTo>
                  <a:lnTo>
                    <a:pt x="6084" y="5574"/>
                  </a:lnTo>
                  <a:lnTo>
                    <a:pt x="4867" y="6270"/>
                  </a:lnTo>
                  <a:lnTo>
                    <a:pt x="3954" y="5574"/>
                  </a:lnTo>
                  <a:lnTo>
                    <a:pt x="2737" y="5574"/>
                  </a:lnTo>
                  <a:lnTo>
                    <a:pt x="1825" y="6270"/>
                  </a:lnTo>
                  <a:lnTo>
                    <a:pt x="912" y="5574"/>
                  </a:lnTo>
                  <a:lnTo>
                    <a:pt x="0" y="6270"/>
                  </a:lnTo>
                  <a:lnTo>
                    <a:pt x="0" y="6270"/>
                  </a:lnTo>
                  <a:lnTo>
                    <a:pt x="0" y="6270"/>
                  </a:lnTo>
                  <a:lnTo>
                    <a:pt x="304" y="7664"/>
                  </a:lnTo>
                  <a:lnTo>
                    <a:pt x="608" y="9057"/>
                  </a:lnTo>
                  <a:lnTo>
                    <a:pt x="1216" y="9754"/>
                  </a:lnTo>
                  <a:lnTo>
                    <a:pt x="1825" y="11148"/>
                  </a:lnTo>
                  <a:lnTo>
                    <a:pt x="2737" y="13238"/>
                  </a:lnTo>
                  <a:lnTo>
                    <a:pt x="3346" y="14632"/>
                  </a:lnTo>
                  <a:lnTo>
                    <a:pt x="4258" y="15328"/>
                  </a:lnTo>
                  <a:lnTo>
                    <a:pt x="5475" y="16722"/>
                  </a:lnTo>
                  <a:lnTo>
                    <a:pt x="6388" y="18115"/>
                  </a:lnTo>
                  <a:lnTo>
                    <a:pt x="7605" y="18812"/>
                  </a:lnTo>
                  <a:lnTo>
                    <a:pt x="7909" y="20206"/>
                  </a:lnTo>
                  <a:lnTo>
                    <a:pt x="8822" y="21600"/>
                  </a:lnTo>
                  <a:lnTo>
                    <a:pt x="9735" y="21600"/>
                  </a:lnTo>
                  <a:lnTo>
                    <a:pt x="10343" y="21600"/>
                  </a:lnTo>
                  <a:lnTo>
                    <a:pt x="10951" y="20902"/>
                  </a:lnTo>
                  <a:lnTo>
                    <a:pt x="11256" y="20902"/>
                  </a:lnTo>
                  <a:lnTo>
                    <a:pt x="11864" y="20206"/>
                  </a:lnTo>
                  <a:lnTo>
                    <a:pt x="12168" y="20206"/>
                  </a:lnTo>
                  <a:lnTo>
                    <a:pt x="12777" y="20206"/>
                  </a:lnTo>
                  <a:lnTo>
                    <a:pt x="13689" y="19509"/>
                  </a:lnTo>
                  <a:lnTo>
                    <a:pt x="14298" y="20206"/>
                  </a:lnTo>
                  <a:lnTo>
                    <a:pt x="14907" y="19509"/>
                  </a:lnTo>
                  <a:lnTo>
                    <a:pt x="15819" y="18812"/>
                  </a:lnTo>
                  <a:lnTo>
                    <a:pt x="16428" y="18812"/>
                  </a:lnTo>
                  <a:lnTo>
                    <a:pt x="17036" y="18812"/>
                  </a:lnTo>
                  <a:lnTo>
                    <a:pt x="17644" y="17419"/>
                  </a:lnTo>
                  <a:lnTo>
                    <a:pt x="18253" y="17419"/>
                  </a:lnTo>
                  <a:lnTo>
                    <a:pt x="18861" y="16025"/>
                  </a:lnTo>
                  <a:lnTo>
                    <a:pt x="19165" y="15328"/>
                  </a:lnTo>
                  <a:lnTo>
                    <a:pt x="19774" y="14632"/>
                  </a:lnTo>
                  <a:lnTo>
                    <a:pt x="20382" y="13238"/>
                  </a:lnTo>
                  <a:lnTo>
                    <a:pt x="20991" y="11845"/>
                  </a:lnTo>
                  <a:lnTo>
                    <a:pt x="21295" y="11148"/>
                  </a:lnTo>
                  <a:lnTo>
                    <a:pt x="21600" y="9754"/>
                  </a:lnTo>
                  <a:lnTo>
                    <a:pt x="21295" y="8361"/>
                  </a:lnTo>
                  <a:lnTo>
                    <a:pt x="21600" y="7664"/>
                  </a:lnTo>
                  <a:lnTo>
                    <a:pt x="21295" y="6967"/>
                  </a:lnTo>
                  <a:lnTo>
                    <a:pt x="21295" y="6270"/>
                  </a:lnTo>
                  <a:lnTo>
                    <a:pt x="21295" y="5574"/>
                  </a:lnTo>
                  <a:lnTo>
                    <a:pt x="20687" y="4877"/>
                  </a:lnTo>
                  <a:lnTo>
                    <a:pt x="20078" y="4180"/>
                  </a:lnTo>
                  <a:lnTo>
                    <a:pt x="19470" y="4180"/>
                  </a:lnTo>
                  <a:lnTo>
                    <a:pt x="18557" y="3483"/>
                  </a:lnTo>
                  <a:lnTo>
                    <a:pt x="17340" y="2787"/>
                  </a:lnTo>
                  <a:lnTo>
                    <a:pt x="16123" y="2787"/>
                  </a:lnTo>
                  <a:lnTo>
                    <a:pt x="15515" y="2090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>
              <a:off x="2127960" y="4411800"/>
              <a:ext cx="29304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458"/>
                  </a:moveTo>
                  <a:lnTo>
                    <a:pt x="20809" y="8639"/>
                  </a:lnTo>
                  <a:lnTo>
                    <a:pt x="20282" y="7048"/>
                  </a:lnTo>
                  <a:lnTo>
                    <a:pt x="19229" y="5684"/>
                  </a:lnTo>
                  <a:lnTo>
                    <a:pt x="18438" y="4319"/>
                  </a:lnTo>
                  <a:lnTo>
                    <a:pt x="17121" y="3182"/>
                  </a:lnTo>
                  <a:lnTo>
                    <a:pt x="16068" y="2273"/>
                  </a:lnTo>
                  <a:lnTo>
                    <a:pt x="14751" y="1364"/>
                  </a:lnTo>
                  <a:lnTo>
                    <a:pt x="13697" y="1136"/>
                  </a:lnTo>
                  <a:lnTo>
                    <a:pt x="12117" y="454"/>
                  </a:lnTo>
                  <a:lnTo>
                    <a:pt x="11063" y="227"/>
                  </a:lnTo>
                  <a:lnTo>
                    <a:pt x="9482" y="0"/>
                  </a:lnTo>
                  <a:lnTo>
                    <a:pt x="8429" y="0"/>
                  </a:lnTo>
                  <a:lnTo>
                    <a:pt x="7111" y="227"/>
                  </a:lnTo>
                  <a:lnTo>
                    <a:pt x="6058" y="454"/>
                  </a:lnTo>
                  <a:lnTo>
                    <a:pt x="4741" y="681"/>
                  </a:lnTo>
                  <a:lnTo>
                    <a:pt x="4477" y="1136"/>
                  </a:lnTo>
                  <a:lnTo>
                    <a:pt x="3951" y="1364"/>
                  </a:lnTo>
                  <a:lnTo>
                    <a:pt x="3424" y="1818"/>
                  </a:lnTo>
                  <a:lnTo>
                    <a:pt x="3424" y="2273"/>
                  </a:lnTo>
                  <a:lnTo>
                    <a:pt x="2897" y="2500"/>
                  </a:lnTo>
                  <a:lnTo>
                    <a:pt x="2897" y="3182"/>
                  </a:lnTo>
                  <a:lnTo>
                    <a:pt x="2370" y="3410"/>
                  </a:lnTo>
                  <a:lnTo>
                    <a:pt x="2107" y="3637"/>
                  </a:lnTo>
                  <a:lnTo>
                    <a:pt x="1843" y="4092"/>
                  </a:lnTo>
                  <a:lnTo>
                    <a:pt x="1843" y="4774"/>
                  </a:lnTo>
                  <a:lnTo>
                    <a:pt x="1317" y="5229"/>
                  </a:lnTo>
                  <a:lnTo>
                    <a:pt x="1580" y="5456"/>
                  </a:lnTo>
                  <a:lnTo>
                    <a:pt x="1317" y="5911"/>
                  </a:lnTo>
                  <a:lnTo>
                    <a:pt x="790" y="6138"/>
                  </a:lnTo>
                  <a:lnTo>
                    <a:pt x="790" y="6820"/>
                  </a:lnTo>
                  <a:lnTo>
                    <a:pt x="526" y="6820"/>
                  </a:lnTo>
                  <a:lnTo>
                    <a:pt x="0" y="7048"/>
                  </a:lnTo>
                  <a:lnTo>
                    <a:pt x="0" y="7275"/>
                  </a:lnTo>
                  <a:lnTo>
                    <a:pt x="0" y="7503"/>
                  </a:lnTo>
                  <a:lnTo>
                    <a:pt x="263" y="7730"/>
                  </a:lnTo>
                  <a:lnTo>
                    <a:pt x="526" y="7730"/>
                  </a:lnTo>
                  <a:lnTo>
                    <a:pt x="1053" y="7503"/>
                  </a:lnTo>
                  <a:lnTo>
                    <a:pt x="1317" y="7503"/>
                  </a:lnTo>
                  <a:lnTo>
                    <a:pt x="2107" y="7730"/>
                  </a:lnTo>
                  <a:lnTo>
                    <a:pt x="2634" y="7503"/>
                  </a:lnTo>
                  <a:lnTo>
                    <a:pt x="3160" y="7730"/>
                  </a:lnTo>
                  <a:lnTo>
                    <a:pt x="3951" y="7503"/>
                  </a:lnTo>
                  <a:lnTo>
                    <a:pt x="4741" y="7503"/>
                  </a:lnTo>
                  <a:lnTo>
                    <a:pt x="5531" y="7275"/>
                  </a:lnTo>
                  <a:lnTo>
                    <a:pt x="6058" y="7048"/>
                  </a:lnTo>
                  <a:lnTo>
                    <a:pt x="6321" y="7048"/>
                  </a:lnTo>
                  <a:lnTo>
                    <a:pt x="6848" y="6820"/>
                  </a:lnTo>
                  <a:lnTo>
                    <a:pt x="7375" y="6593"/>
                  </a:lnTo>
                  <a:lnTo>
                    <a:pt x="7638" y="6366"/>
                  </a:lnTo>
                  <a:lnTo>
                    <a:pt x="7902" y="6366"/>
                  </a:lnTo>
                  <a:lnTo>
                    <a:pt x="8165" y="6366"/>
                  </a:lnTo>
                  <a:lnTo>
                    <a:pt x="8429" y="6138"/>
                  </a:lnTo>
                  <a:lnTo>
                    <a:pt x="8955" y="6138"/>
                  </a:lnTo>
                  <a:lnTo>
                    <a:pt x="9482" y="6138"/>
                  </a:lnTo>
                  <a:lnTo>
                    <a:pt x="9746" y="5911"/>
                  </a:lnTo>
                  <a:lnTo>
                    <a:pt x="10272" y="5911"/>
                  </a:lnTo>
                  <a:lnTo>
                    <a:pt x="10536" y="5911"/>
                  </a:lnTo>
                  <a:lnTo>
                    <a:pt x="11063" y="5684"/>
                  </a:lnTo>
                  <a:lnTo>
                    <a:pt x="11326" y="5911"/>
                  </a:lnTo>
                  <a:lnTo>
                    <a:pt x="11590" y="6138"/>
                  </a:lnTo>
                  <a:lnTo>
                    <a:pt x="12117" y="6138"/>
                  </a:lnTo>
                  <a:lnTo>
                    <a:pt x="12643" y="6593"/>
                  </a:lnTo>
                  <a:lnTo>
                    <a:pt x="13170" y="7048"/>
                  </a:lnTo>
                  <a:lnTo>
                    <a:pt x="13434" y="7275"/>
                  </a:lnTo>
                  <a:lnTo>
                    <a:pt x="13697" y="7503"/>
                  </a:lnTo>
                  <a:lnTo>
                    <a:pt x="13960" y="7730"/>
                  </a:lnTo>
                  <a:lnTo>
                    <a:pt x="13960" y="7957"/>
                  </a:lnTo>
                  <a:lnTo>
                    <a:pt x="14224" y="8412"/>
                  </a:lnTo>
                  <a:lnTo>
                    <a:pt x="14487" y="8639"/>
                  </a:lnTo>
                  <a:lnTo>
                    <a:pt x="14487" y="8867"/>
                  </a:lnTo>
                  <a:lnTo>
                    <a:pt x="14487" y="9094"/>
                  </a:lnTo>
                  <a:lnTo>
                    <a:pt x="14751" y="9321"/>
                  </a:lnTo>
                  <a:lnTo>
                    <a:pt x="15014" y="9776"/>
                  </a:lnTo>
                  <a:lnTo>
                    <a:pt x="15014" y="10004"/>
                  </a:lnTo>
                  <a:lnTo>
                    <a:pt x="15014" y="10231"/>
                  </a:lnTo>
                  <a:lnTo>
                    <a:pt x="15541" y="10686"/>
                  </a:lnTo>
                  <a:lnTo>
                    <a:pt x="15541" y="10913"/>
                  </a:lnTo>
                  <a:lnTo>
                    <a:pt x="15541" y="10913"/>
                  </a:lnTo>
                  <a:lnTo>
                    <a:pt x="15541" y="11140"/>
                  </a:lnTo>
                  <a:lnTo>
                    <a:pt x="15541" y="11368"/>
                  </a:lnTo>
                  <a:lnTo>
                    <a:pt x="16068" y="12050"/>
                  </a:lnTo>
                  <a:lnTo>
                    <a:pt x="16068" y="12504"/>
                  </a:lnTo>
                  <a:lnTo>
                    <a:pt x="16331" y="13187"/>
                  </a:lnTo>
                  <a:lnTo>
                    <a:pt x="16594" y="13869"/>
                  </a:lnTo>
                  <a:lnTo>
                    <a:pt x="16331" y="14323"/>
                  </a:lnTo>
                  <a:lnTo>
                    <a:pt x="16331" y="15006"/>
                  </a:lnTo>
                  <a:lnTo>
                    <a:pt x="16068" y="15460"/>
                  </a:lnTo>
                  <a:lnTo>
                    <a:pt x="16068" y="15915"/>
                  </a:lnTo>
                  <a:lnTo>
                    <a:pt x="15541" y="16370"/>
                  </a:lnTo>
                  <a:lnTo>
                    <a:pt x="15277" y="16825"/>
                  </a:lnTo>
                  <a:lnTo>
                    <a:pt x="15014" y="17279"/>
                  </a:lnTo>
                  <a:lnTo>
                    <a:pt x="14751" y="17734"/>
                  </a:lnTo>
                  <a:lnTo>
                    <a:pt x="14224" y="18189"/>
                  </a:lnTo>
                  <a:lnTo>
                    <a:pt x="14224" y="18416"/>
                  </a:lnTo>
                  <a:lnTo>
                    <a:pt x="13697" y="18643"/>
                  </a:lnTo>
                  <a:lnTo>
                    <a:pt x="13434" y="18871"/>
                  </a:lnTo>
                  <a:lnTo>
                    <a:pt x="13434" y="18871"/>
                  </a:lnTo>
                  <a:lnTo>
                    <a:pt x="13170" y="19098"/>
                  </a:lnTo>
                  <a:lnTo>
                    <a:pt x="12907" y="19098"/>
                  </a:lnTo>
                  <a:lnTo>
                    <a:pt x="12643" y="18871"/>
                  </a:lnTo>
                  <a:lnTo>
                    <a:pt x="12380" y="18871"/>
                  </a:lnTo>
                  <a:lnTo>
                    <a:pt x="12117" y="18871"/>
                  </a:lnTo>
                  <a:lnTo>
                    <a:pt x="11326" y="18416"/>
                  </a:lnTo>
                  <a:lnTo>
                    <a:pt x="11326" y="18189"/>
                  </a:lnTo>
                  <a:lnTo>
                    <a:pt x="11063" y="17961"/>
                  </a:lnTo>
                  <a:lnTo>
                    <a:pt x="10536" y="17734"/>
                  </a:lnTo>
                  <a:lnTo>
                    <a:pt x="10272" y="17507"/>
                  </a:lnTo>
                  <a:lnTo>
                    <a:pt x="9746" y="17279"/>
                  </a:lnTo>
                  <a:lnTo>
                    <a:pt x="9219" y="17279"/>
                  </a:lnTo>
                  <a:lnTo>
                    <a:pt x="8955" y="16825"/>
                  </a:lnTo>
                  <a:lnTo>
                    <a:pt x="8692" y="16597"/>
                  </a:lnTo>
                  <a:lnTo>
                    <a:pt x="8429" y="16370"/>
                  </a:lnTo>
                  <a:lnTo>
                    <a:pt x="8165" y="16597"/>
                  </a:lnTo>
                  <a:lnTo>
                    <a:pt x="8429" y="16825"/>
                  </a:lnTo>
                  <a:lnTo>
                    <a:pt x="8429" y="17052"/>
                  </a:lnTo>
                  <a:lnTo>
                    <a:pt x="8429" y="17279"/>
                  </a:lnTo>
                  <a:lnTo>
                    <a:pt x="8429" y="17507"/>
                  </a:lnTo>
                  <a:lnTo>
                    <a:pt x="8692" y="17734"/>
                  </a:lnTo>
                  <a:lnTo>
                    <a:pt x="8692" y="17961"/>
                  </a:lnTo>
                  <a:lnTo>
                    <a:pt x="8692" y="18189"/>
                  </a:lnTo>
                  <a:lnTo>
                    <a:pt x="10272" y="19780"/>
                  </a:lnTo>
                  <a:lnTo>
                    <a:pt x="11326" y="20690"/>
                  </a:lnTo>
                  <a:lnTo>
                    <a:pt x="12643" y="21145"/>
                  </a:lnTo>
                  <a:lnTo>
                    <a:pt x="14224" y="21600"/>
                  </a:lnTo>
                  <a:lnTo>
                    <a:pt x="15277" y="21600"/>
                  </a:lnTo>
                  <a:lnTo>
                    <a:pt x="16331" y="21145"/>
                  </a:lnTo>
                  <a:lnTo>
                    <a:pt x="17648" y="20462"/>
                  </a:lnTo>
                  <a:lnTo>
                    <a:pt x="18175" y="19780"/>
                  </a:lnTo>
                  <a:lnTo>
                    <a:pt x="19492" y="18871"/>
                  </a:lnTo>
                  <a:lnTo>
                    <a:pt x="20282" y="17734"/>
                  </a:lnTo>
                  <a:lnTo>
                    <a:pt x="20546" y="16597"/>
                  </a:lnTo>
                  <a:lnTo>
                    <a:pt x="21072" y="15233"/>
                  </a:lnTo>
                  <a:lnTo>
                    <a:pt x="21336" y="14096"/>
                  </a:lnTo>
                  <a:lnTo>
                    <a:pt x="21600" y="12504"/>
                  </a:lnTo>
                  <a:lnTo>
                    <a:pt x="21600" y="11140"/>
                  </a:lnTo>
                  <a:lnTo>
                    <a:pt x="21600" y="10458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未知"/>
            <p:cNvSpPr/>
            <p:nvPr/>
          </p:nvSpPr>
          <p:spPr>
            <a:xfrm>
              <a:off x="2224080" y="4841640"/>
              <a:ext cx="435960" cy="266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049" y="5634"/>
                  </a:moveTo>
                  <a:lnTo>
                    <a:pt x="14517" y="6260"/>
                  </a:lnTo>
                  <a:lnTo>
                    <a:pt x="14340" y="6573"/>
                  </a:lnTo>
                  <a:lnTo>
                    <a:pt x="13632" y="7199"/>
                  </a:lnTo>
                  <a:lnTo>
                    <a:pt x="13101" y="7825"/>
                  </a:lnTo>
                  <a:lnTo>
                    <a:pt x="12570" y="8452"/>
                  </a:lnTo>
                  <a:lnTo>
                    <a:pt x="12039" y="8452"/>
                  </a:lnTo>
                  <a:lnTo>
                    <a:pt x="11684" y="9078"/>
                  </a:lnTo>
                  <a:lnTo>
                    <a:pt x="10976" y="9391"/>
                  </a:lnTo>
                  <a:lnTo>
                    <a:pt x="10622" y="9704"/>
                  </a:lnTo>
                  <a:lnTo>
                    <a:pt x="9914" y="10017"/>
                  </a:lnTo>
                  <a:lnTo>
                    <a:pt x="9560" y="10330"/>
                  </a:lnTo>
                  <a:lnTo>
                    <a:pt x="9206" y="10956"/>
                  </a:lnTo>
                  <a:lnTo>
                    <a:pt x="8498" y="11582"/>
                  </a:lnTo>
                  <a:lnTo>
                    <a:pt x="8144" y="11895"/>
                  </a:lnTo>
                  <a:lnTo>
                    <a:pt x="7435" y="12521"/>
                  </a:lnTo>
                  <a:lnTo>
                    <a:pt x="6904" y="13147"/>
                  </a:lnTo>
                  <a:lnTo>
                    <a:pt x="6550" y="13147"/>
                  </a:lnTo>
                  <a:lnTo>
                    <a:pt x="6373" y="13147"/>
                  </a:lnTo>
                  <a:lnTo>
                    <a:pt x="5842" y="13460"/>
                  </a:lnTo>
                  <a:lnTo>
                    <a:pt x="5488" y="13147"/>
                  </a:lnTo>
                  <a:lnTo>
                    <a:pt x="5134" y="12834"/>
                  </a:lnTo>
                  <a:lnTo>
                    <a:pt x="4603" y="12521"/>
                  </a:lnTo>
                  <a:lnTo>
                    <a:pt x="4072" y="12208"/>
                  </a:lnTo>
                  <a:lnTo>
                    <a:pt x="3717" y="11582"/>
                  </a:lnTo>
                  <a:lnTo>
                    <a:pt x="3363" y="11269"/>
                  </a:lnTo>
                  <a:lnTo>
                    <a:pt x="3186" y="10643"/>
                  </a:lnTo>
                  <a:lnTo>
                    <a:pt x="2832" y="9704"/>
                  </a:lnTo>
                  <a:lnTo>
                    <a:pt x="2832" y="8765"/>
                  </a:lnTo>
                  <a:lnTo>
                    <a:pt x="2655" y="8452"/>
                  </a:lnTo>
                  <a:lnTo>
                    <a:pt x="2655" y="7513"/>
                  </a:lnTo>
                  <a:lnTo>
                    <a:pt x="2832" y="7199"/>
                  </a:lnTo>
                  <a:lnTo>
                    <a:pt x="2832" y="6573"/>
                  </a:lnTo>
                  <a:lnTo>
                    <a:pt x="3009" y="6260"/>
                  </a:lnTo>
                  <a:lnTo>
                    <a:pt x="2832" y="5634"/>
                  </a:lnTo>
                  <a:lnTo>
                    <a:pt x="3009" y="5321"/>
                  </a:lnTo>
                  <a:lnTo>
                    <a:pt x="3186" y="4695"/>
                  </a:lnTo>
                  <a:lnTo>
                    <a:pt x="3186" y="4382"/>
                  </a:lnTo>
                  <a:lnTo>
                    <a:pt x="3009" y="3756"/>
                  </a:lnTo>
                  <a:lnTo>
                    <a:pt x="3186" y="3130"/>
                  </a:lnTo>
                  <a:lnTo>
                    <a:pt x="3186" y="2504"/>
                  </a:lnTo>
                  <a:lnTo>
                    <a:pt x="3009" y="1878"/>
                  </a:lnTo>
                  <a:lnTo>
                    <a:pt x="3009" y="1878"/>
                  </a:lnTo>
                  <a:lnTo>
                    <a:pt x="2832" y="1564"/>
                  </a:lnTo>
                  <a:lnTo>
                    <a:pt x="2832" y="1252"/>
                  </a:lnTo>
                  <a:lnTo>
                    <a:pt x="2478" y="939"/>
                  </a:lnTo>
                  <a:lnTo>
                    <a:pt x="2478" y="312"/>
                  </a:lnTo>
                  <a:lnTo>
                    <a:pt x="2301" y="0"/>
                  </a:lnTo>
                  <a:lnTo>
                    <a:pt x="1947" y="312"/>
                  </a:lnTo>
                  <a:lnTo>
                    <a:pt x="1947" y="312"/>
                  </a:lnTo>
                  <a:lnTo>
                    <a:pt x="1593" y="312"/>
                  </a:lnTo>
                  <a:lnTo>
                    <a:pt x="1239" y="939"/>
                  </a:lnTo>
                  <a:lnTo>
                    <a:pt x="1062" y="2191"/>
                  </a:lnTo>
                  <a:lnTo>
                    <a:pt x="707" y="2817"/>
                  </a:lnTo>
                  <a:lnTo>
                    <a:pt x="530" y="4382"/>
                  </a:lnTo>
                  <a:lnTo>
                    <a:pt x="353" y="5947"/>
                  </a:lnTo>
                  <a:lnTo>
                    <a:pt x="176" y="7199"/>
                  </a:lnTo>
                  <a:lnTo>
                    <a:pt x="0" y="8452"/>
                  </a:lnTo>
                  <a:lnTo>
                    <a:pt x="0" y="10330"/>
                  </a:lnTo>
                  <a:lnTo>
                    <a:pt x="353" y="11895"/>
                  </a:lnTo>
                  <a:lnTo>
                    <a:pt x="530" y="13460"/>
                  </a:lnTo>
                  <a:lnTo>
                    <a:pt x="707" y="15026"/>
                  </a:lnTo>
                  <a:lnTo>
                    <a:pt x="1062" y="16591"/>
                  </a:lnTo>
                  <a:lnTo>
                    <a:pt x="1593" y="17530"/>
                  </a:lnTo>
                  <a:lnTo>
                    <a:pt x="2124" y="18782"/>
                  </a:lnTo>
                  <a:lnTo>
                    <a:pt x="2832" y="19408"/>
                  </a:lnTo>
                  <a:lnTo>
                    <a:pt x="3363" y="19721"/>
                  </a:lnTo>
                  <a:lnTo>
                    <a:pt x="4072" y="20347"/>
                  </a:lnTo>
                  <a:lnTo>
                    <a:pt x="4426" y="20660"/>
                  </a:lnTo>
                  <a:lnTo>
                    <a:pt x="4780" y="21286"/>
                  </a:lnTo>
                  <a:lnTo>
                    <a:pt x="5311" y="21286"/>
                  </a:lnTo>
                  <a:lnTo>
                    <a:pt x="6019" y="21286"/>
                  </a:lnTo>
                  <a:lnTo>
                    <a:pt x="6373" y="21600"/>
                  </a:lnTo>
                  <a:lnTo>
                    <a:pt x="6904" y="21286"/>
                  </a:lnTo>
                  <a:lnTo>
                    <a:pt x="7435" y="21600"/>
                  </a:lnTo>
                  <a:lnTo>
                    <a:pt x="7789" y="21286"/>
                  </a:lnTo>
                  <a:lnTo>
                    <a:pt x="8144" y="20973"/>
                  </a:lnTo>
                  <a:lnTo>
                    <a:pt x="8498" y="20660"/>
                  </a:lnTo>
                  <a:lnTo>
                    <a:pt x="9029" y="20660"/>
                  </a:lnTo>
                  <a:lnTo>
                    <a:pt x="9560" y="20034"/>
                  </a:lnTo>
                  <a:lnTo>
                    <a:pt x="9914" y="19721"/>
                  </a:lnTo>
                  <a:lnTo>
                    <a:pt x="10268" y="19095"/>
                  </a:lnTo>
                  <a:lnTo>
                    <a:pt x="10622" y="19095"/>
                  </a:lnTo>
                  <a:lnTo>
                    <a:pt x="10976" y="18469"/>
                  </a:lnTo>
                  <a:lnTo>
                    <a:pt x="11330" y="18156"/>
                  </a:lnTo>
                  <a:lnTo>
                    <a:pt x="11684" y="17530"/>
                  </a:lnTo>
                  <a:lnTo>
                    <a:pt x="12216" y="17217"/>
                  </a:lnTo>
                  <a:lnTo>
                    <a:pt x="12393" y="16591"/>
                  </a:lnTo>
                  <a:lnTo>
                    <a:pt x="12747" y="16278"/>
                  </a:lnTo>
                  <a:lnTo>
                    <a:pt x="13278" y="15651"/>
                  </a:lnTo>
                  <a:lnTo>
                    <a:pt x="13632" y="15651"/>
                  </a:lnTo>
                  <a:lnTo>
                    <a:pt x="13809" y="15026"/>
                  </a:lnTo>
                  <a:lnTo>
                    <a:pt x="14340" y="14712"/>
                  </a:lnTo>
                  <a:lnTo>
                    <a:pt x="14694" y="14399"/>
                  </a:lnTo>
                  <a:lnTo>
                    <a:pt x="15049" y="14399"/>
                  </a:lnTo>
                  <a:lnTo>
                    <a:pt x="15403" y="14399"/>
                  </a:lnTo>
                  <a:lnTo>
                    <a:pt x="15757" y="14086"/>
                  </a:lnTo>
                  <a:lnTo>
                    <a:pt x="16111" y="14086"/>
                  </a:lnTo>
                  <a:lnTo>
                    <a:pt x="16465" y="13773"/>
                  </a:lnTo>
                  <a:lnTo>
                    <a:pt x="16819" y="13773"/>
                  </a:lnTo>
                  <a:lnTo>
                    <a:pt x="17350" y="13460"/>
                  </a:lnTo>
                  <a:lnTo>
                    <a:pt x="17704" y="13147"/>
                  </a:lnTo>
                  <a:lnTo>
                    <a:pt x="18058" y="12521"/>
                  </a:lnTo>
                  <a:lnTo>
                    <a:pt x="18235" y="12521"/>
                  </a:lnTo>
                  <a:lnTo>
                    <a:pt x="18589" y="12208"/>
                  </a:lnTo>
                  <a:lnTo>
                    <a:pt x="19121" y="11582"/>
                  </a:lnTo>
                  <a:lnTo>
                    <a:pt x="19298" y="11269"/>
                  </a:lnTo>
                  <a:lnTo>
                    <a:pt x="19652" y="10643"/>
                  </a:lnTo>
                  <a:lnTo>
                    <a:pt x="20006" y="10330"/>
                  </a:lnTo>
                  <a:lnTo>
                    <a:pt x="20360" y="10017"/>
                  </a:lnTo>
                  <a:lnTo>
                    <a:pt x="20537" y="9078"/>
                  </a:lnTo>
                  <a:lnTo>
                    <a:pt x="20891" y="8765"/>
                  </a:lnTo>
                  <a:lnTo>
                    <a:pt x="20891" y="8452"/>
                  </a:lnTo>
                  <a:lnTo>
                    <a:pt x="21068" y="7513"/>
                  </a:lnTo>
                  <a:lnTo>
                    <a:pt x="21422" y="6886"/>
                  </a:lnTo>
                  <a:lnTo>
                    <a:pt x="21422" y="6260"/>
                  </a:lnTo>
                  <a:lnTo>
                    <a:pt x="21600" y="5634"/>
                  </a:lnTo>
                  <a:lnTo>
                    <a:pt x="21422" y="5008"/>
                  </a:lnTo>
                  <a:lnTo>
                    <a:pt x="21600" y="4382"/>
                  </a:lnTo>
                  <a:lnTo>
                    <a:pt x="21422" y="3756"/>
                  </a:lnTo>
                  <a:lnTo>
                    <a:pt x="21245" y="3130"/>
                  </a:lnTo>
                  <a:lnTo>
                    <a:pt x="21068" y="2504"/>
                  </a:lnTo>
                  <a:lnTo>
                    <a:pt x="20714" y="2504"/>
                  </a:lnTo>
                  <a:lnTo>
                    <a:pt x="20360" y="2191"/>
                  </a:lnTo>
                  <a:lnTo>
                    <a:pt x="20006" y="1564"/>
                  </a:lnTo>
                  <a:lnTo>
                    <a:pt x="19829" y="1878"/>
                  </a:lnTo>
                  <a:lnTo>
                    <a:pt x="19298" y="1564"/>
                  </a:lnTo>
                  <a:lnTo>
                    <a:pt x="18944" y="1878"/>
                  </a:lnTo>
                  <a:lnTo>
                    <a:pt x="18412" y="1878"/>
                  </a:lnTo>
                  <a:lnTo>
                    <a:pt x="18058" y="2504"/>
                  </a:lnTo>
                  <a:lnTo>
                    <a:pt x="17881" y="2504"/>
                  </a:lnTo>
                  <a:lnTo>
                    <a:pt x="17704" y="2504"/>
                  </a:lnTo>
                  <a:lnTo>
                    <a:pt x="17704" y="2817"/>
                  </a:lnTo>
                  <a:lnTo>
                    <a:pt x="17350" y="3130"/>
                  </a:lnTo>
                  <a:lnTo>
                    <a:pt x="17173" y="3130"/>
                  </a:lnTo>
                  <a:lnTo>
                    <a:pt x="16996" y="3443"/>
                  </a:lnTo>
                  <a:lnTo>
                    <a:pt x="16819" y="3756"/>
                  </a:lnTo>
                  <a:lnTo>
                    <a:pt x="16642" y="3756"/>
                  </a:lnTo>
                  <a:lnTo>
                    <a:pt x="16288" y="4382"/>
                  </a:lnTo>
                  <a:lnTo>
                    <a:pt x="16111" y="4382"/>
                  </a:lnTo>
                  <a:lnTo>
                    <a:pt x="16111" y="4695"/>
                  </a:lnTo>
                  <a:lnTo>
                    <a:pt x="15757" y="5008"/>
                  </a:lnTo>
                  <a:lnTo>
                    <a:pt x="15580" y="5321"/>
                  </a:lnTo>
                  <a:lnTo>
                    <a:pt x="15403" y="5321"/>
                  </a:lnTo>
                  <a:lnTo>
                    <a:pt x="15049" y="5634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>
              <a:off x="1692360" y="4613040"/>
              <a:ext cx="475200" cy="460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795" y="14157"/>
                  </a:moveTo>
                  <a:lnTo>
                    <a:pt x="8282" y="13613"/>
                  </a:lnTo>
                  <a:lnTo>
                    <a:pt x="8607" y="13068"/>
                  </a:lnTo>
                  <a:lnTo>
                    <a:pt x="8769" y="12705"/>
                  </a:lnTo>
                  <a:lnTo>
                    <a:pt x="9094" y="11979"/>
                  </a:lnTo>
                  <a:lnTo>
                    <a:pt x="9256" y="11616"/>
                  </a:lnTo>
                  <a:lnTo>
                    <a:pt x="9744" y="11072"/>
                  </a:lnTo>
                  <a:lnTo>
                    <a:pt x="9906" y="10709"/>
                  </a:lnTo>
                  <a:lnTo>
                    <a:pt x="10393" y="10346"/>
                  </a:lnTo>
                  <a:lnTo>
                    <a:pt x="10718" y="10164"/>
                  </a:lnTo>
                  <a:lnTo>
                    <a:pt x="10881" y="9620"/>
                  </a:lnTo>
                  <a:lnTo>
                    <a:pt x="11043" y="9438"/>
                  </a:lnTo>
                  <a:lnTo>
                    <a:pt x="11368" y="9075"/>
                  </a:lnTo>
                  <a:lnTo>
                    <a:pt x="11693" y="8712"/>
                  </a:lnTo>
                  <a:lnTo>
                    <a:pt x="12017" y="8349"/>
                  </a:lnTo>
                  <a:lnTo>
                    <a:pt x="12342" y="7986"/>
                  </a:lnTo>
                  <a:lnTo>
                    <a:pt x="12504" y="7623"/>
                  </a:lnTo>
                  <a:lnTo>
                    <a:pt x="12829" y="7441"/>
                  </a:lnTo>
                  <a:lnTo>
                    <a:pt x="13154" y="7078"/>
                  </a:lnTo>
                  <a:lnTo>
                    <a:pt x="13317" y="6715"/>
                  </a:lnTo>
                  <a:lnTo>
                    <a:pt x="13642" y="6352"/>
                  </a:lnTo>
                  <a:lnTo>
                    <a:pt x="13966" y="6171"/>
                  </a:lnTo>
                  <a:lnTo>
                    <a:pt x="14291" y="5808"/>
                  </a:lnTo>
                  <a:lnTo>
                    <a:pt x="14778" y="5445"/>
                  </a:lnTo>
                  <a:lnTo>
                    <a:pt x="15103" y="5082"/>
                  </a:lnTo>
                  <a:lnTo>
                    <a:pt x="15428" y="4719"/>
                  </a:lnTo>
                  <a:lnTo>
                    <a:pt x="15915" y="4356"/>
                  </a:lnTo>
                  <a:lnTo>
                    <a:pt x="16565" y="3992"/>
                  </a:lnTo>
                  <a:lnTo>
                    <a:pt x="16890" y="3992"/>
                  </a:lnTo>
                  <a:lnTo>
                    <a:pt x="17539" y="3630"/>
                  </a:lnTo>
                  <a:lnTo>
                    <a:pt x="18026" y="3267"/>
                  </a:lnTo>
                  <a:lnTo>
                    <a:pt x="18839" y="3085"/>
                  </a:lnTo>
                  <a:lnTo>
                    <a:pt x="19488" y="2904"/>
                  </a:lnTo>
                  <a:lnTo>
                    <a:pt x="20300" y="2722"/>
                  </a:lnTo>
                  <a:lnTo>
                    <a:pt x="20625" y="2722"/>
                  </a:lnTo>
                  <a:lnTo>
                    <a:pt x="20950" y="2177"/>
                  </a:lnTo>
                  <a:lnTo>
                    <a:pt x="21275" y="1996"/>
                  </a:lnTo>
                  <a:lnTo>
                    <a:pt x="21437" y="1633"/>
                  </a:lnTo>
                  <a:lnTo>
                    <a:pt x="21600" y="1451"/>
                  </a:lnTo>
                  <a:lnTo>
                    <a:pt x="21600" y="1088"/>
                  </a:lnTo>
                  <a:lnTo>
                    <a:pt x="21275" y="725"/>
                  </a:lnTo>
                  <a:lnTo>
                    <a:pt x="21112" y="362"/>
                  </a:lnTo>
                  <a:lnTo>
                    <a:pt x="20787" y="181"/>
                  </a:lnTo>
                  <a:lnTo>
                    <a:pt x="20138" y="0"/>
                  </a:lnTo>
                  <a:lnTo>
                    <a:pt x="19650" y="181"/>
                  </a:lnTo>
                  <a:lnTo>
                    <a:pt x="19488" y="181"/>
                  </a:lnTo>
                  <a:lnTo>
                    <a:pt x="18839" y="362"/>
                  </a:lnTo>
                  <a:lnTo>
                    <a:pt x="18026" y="907"/>
                  </a:lnTo>
                  <a:lnTo>
                    <a:pt x="17377" y="1633"/>
                  </a:lnTo>
                  <a:lnTo>
                    <a:pt x="17052" y="1996"/>
                  </a:lnTo>
                  <a:lnTo>
                    <a:pt x="16727" y="2359"/>
                  </a:lnTo>
                  <a:lnTo>
                    <a:pt x="16078" y="2722"/>
                  </a:lnTo>
                  <a:lnTo>
                    <a:pt x="15590" y="3085"/>
                  </a:lnTo>
                  <a:lnTo>
                    <a:pt x="14941" y="3630"/>
                  </a:lnTo>
                  <a:lnTo>
                    <a:pt x="14453" y="3992"/>
                  </a:lnTo>
                  <a:lnTo>
                    <a:pt x="13966" y="4537"/>
                  </a:lnTo>
                  <a:lnTo>
                    <a:pt x="13154" y="5082"/>
                  </a:lnTo>
                  <a:lnTo>
                    <a:pt x="12667" y="5626"/>
                  </a:lnTo>
                  <a:lnTo>
                    <a:pt x="12017" y="5808"/>
                  </a:lnTo>
                  <a:lnTo>
                    <a:pt x="11368" y="6352"/>
                  </a:lnTo>
                  <a:lnTo>
                    <a:pt x="10718" y="6897"/>
                  </a:lnTo>
                  <a:lnTo>
                    <a:pt x="10068" y="7260"/>
                  </a:lnTo>
                  <a:lnTo>
                    <a:pt x="9419" y="7805"/>
                  </a:lnTo>
                  <a:lnTo>
                    <a:pt x="8607" y="8349"/>
                  </a:lnTo>
                  <a:lnTo>
                    <a:pt x="7957" y="8893"/>
                  </a:lnTo>
                  <a:lnTo>
                    <a:pt x="7307" y="9438"/>
                  </a:lnTo>
                  <a:lnTo>
                    <a:pt x="6658" y="9982"/>
                  </a:lnTo>
                  <a:lnTo>
                    <a:pt x="5846" y="10527"/>
                  </a:lnTo>
                  <a:lnTo>
                    <a:pt x="5359" y="10890"/>
                  </a:lnTo>
                  <a:lnTo>
                    <a:pt x="4709" y="11253"/>
                  </a:lnTo>
                  <a:lnTo>
                    <a:pt x="4222" y="11616"/>
                  </a:lnTo>
                  <a:lnTo>
                    <a:pt x="3572" y="12342"/>
                  </a:lnTo>
                  <a:lnTo>
                    <a:pt x="2923" y="12887"/>
                  </a:lnTo>
                  <a:lnTo>
                    <a:pt x="2598" y="13250"/>
                  </a:lnTo>
                  <a:lnTo>
                    <a:pt x="2111" y="13794"/>
                  </a:lnTo>
                  <a:lnTo>
                    <a:pt x="1786" y="14520"/>
                  </a:lnTo>
                  <a:lnTo>
                    <a:pt x="1299" y="14883"/>
                  </a:lnTo>
                  <a:lnTo>
                    <a:pt x="974" y="15428"/>
                  </a:lnTo>
                  <a:lnTo>
                    <a:pt x="811" y="15791"/>
                  </a:lnTo>
                  <a:lnTo>
                    <a:pt x="649" y="16154"/>
                  </a:lnTo>
                  <a:lnTo>
                    <a:pt x="324" y="16880"/>
                  </a:lnTo>
                  <a:lnTo>
                    <a:pt x="162" y="17787"/>
                  </a:lnTo>
                  <a:lnTo>
                    <a:pt x="0" y="18514"/>
                  </a:lnTo>
                  <a:lnTo>
                    <a:pt x="0" y="19240"/>
                  </a:lnTo>
                  <a:lnTo>
                    <a:pt x="162" y="19966"/>
                  </a:lnTo>
                  <a:lnTo>
                    <a:pt x="162" y="20329"/>
                  </a:lnTo>
                  <a:lnTo>
                    <a:pt x="324" y="20692"/>
                  </a:lnTo>
                  <a:lnTo>
                    <a:pt x="324" y="21055"/>
                  </a:lnTo>
                  <a:lnTo>
                    <a:pt x="649" y="21418"/>
                  </a:lnTo>
                  <a:lnTo>
                    <a:pt x="974" y="21600"/>
                  </a:lnTo>
                  <a:lnTo>
                    <a:pt x="1299" y="21418"/>
                  </a:lnTo>
                  <a:lnTo>
                    <a:pt x="1623" y="21418"/>
                  </a:lnTo>
                  <a:lnTo>
                    <a:pt x="1948" y="21236"/>
                  </a:lnTo>
                  <a:lnTo>
                    <a:pt x="2111" y="21055"/>
                  </a:lnTo>
                  <a:lnTo>
                    <a:pt x="2598" y="20692"/>
                  </a:lnTo>
                  <a:lnTo>
                    <a:pt x="2923" y="20329"/>
                  </a:lnTo>
                  <a:lnTo>
                    <a:pt x="3248" y="19784"/>
                  </a:lnTo>
                  <a:lnTo>
                    <a:pt x="3572" y="19240"/>
                  </a:lnTo>
                  <a:lnTo>
                    <a:pt x="4059" y="18695"/>
                  </a:lnTo>
                  <a:lnTo>
                    <a:pt x="4222" y="18514"/>
                  </a:lnTo>
                  <a:lnTo>
                    <a:pt x="4384" y="18151"/>
                  </a:lnTo>
                  <a:lnTo>
                    <a:pt x="4871" y="17787"/>
                  </a:lnTo>
                  <a:lnTo>
                    <a:pt x="5196" y="17606"/>
                  </a:lnTo>
                  <a:lnTo>
                    <a:pt x="5359" y="17243"/>
                  </a:lnTo>
                  <a:lnTo>
                    <a:pt x="5684" y="17061"/>
                  </a:lnTo>
                  <a:lnTo>
                    <a:pt x="6008" y="16880"/>
                  </a:lnTo>
                  <a:lnTo>
                    <a:pt x="6333" y="16517"/>
                  </a:lnTo>
                  <a:lnTo>
                    <a:pt x="6333" y="16336"/>
                  </a:lnTo>
                  <a:lnTo>
                    <a:pt x="6658" y="15972"/>
                  </a:lnTo>
                  <a:lnTo>
                    <a:pt x="6983" y="15610"/>
                  </a:lnTo>
                  <a:lnTo>
                    <a:pt x="7145" y="15246"/>
                  </a:lnTo>
                  <a:lnTo>
                    <a:pt x="7632" y="14520"/>
                  </a:lnTo>
                  <a:lnTo>
                    <a:pt x="7795" y="14157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>
              <a:off x="2013120" y="5483520"/>
              <a:ext cx="590400" cy="1258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792" y="5781"/>
                  </a:moveTo>
                  <a:lnTo>
                    <a:pt x="15054" y="5582"/>
                  </a:lnTo>
                  <a:lnTo>
                    <a:pt x="15054" y="5383"/>
                  </a:lnTo>
                  <a:lnTo>
                    <a:pt x="15054" y="5117"/>
                  </a:lnTo>
                  <a:lnTo>
                    <a:pt x="15185" y="4918"/>
                  </a:lnTo>
                  <a:lnTo>
                    <a:pt x="15054" y="4652"/>
                  </a:lnTo>
                  <a:lnTo>
                    <a:pt x="15054" y="4386"/>
                  </a:lnTo>
                  <a:lnTo>
                    <a:pt x="14923" y="4053"/>
                  </a:lnTo>
                  <a:lnTo>
                    <a:pt x="14923" y="3788"/>
                  </a:lnTo>
                  <a:lnTo>
                    <a:pt x="14923" y="3522"/>
                  </a:lnTo>
                  <a:lnTo>
                    <a:pt x="14792" y="3190"/>
                  </a:lnTo>
                  <a:lnTo>
                    <a:pt x="14923" y="2924"/>
                  </a:lnTo>
                  <a:lnTo>
                    <a:pt x="15054" y="2658"/>
                  </a:lnTo>
                  <a:lnTo>
                    <a:pt x="14923" y="2459"/>
                  </a:lnTo>
                  <a:lnTo>
                    <a:pt x="15054" y="2193"/>
                  </a:lnTo>
                  <a:lnTo>
                    <a:pt x="15316" y="2060"/>
                  </a:lnTo>
                  <a:lnTo>
                    <a:pt x="15578" y="1860"/>
                  </a:lnTo>
                  <a:lnTo>
                    <a:pt x="15970" y="1727"/>
                  </a:lnTo>
                  <a:lnTo>
                    <a:pt x="16494" y="1594"/>
                  </a:lnTo>
                  <a:lnTo>
                    <a:pt x="17018" y="1328"/>
                  </a:lnTo>
                  <a:lnTo>
                    <a:pt x="17410" y="1129"/>
                  </a:lnTo>
                  <a:lnTo>
                    <a:pt x="18065" y="863"/>
                  </a:lnTo>
                  <a:lnTo>
                    <a:pt x="18588" y="664"/>
                  </a:lnTo>
                  <a:lnTo>
                    <a:pt x="18850" y="465"/>
                  </a:lnTo>
                  <a:lnTo>
                    <a:pt x="19374" y="265"/>
                  </a:lnTo>
                  <a:lnTo>
                    <a:pt x="19767" y="132"/>
                  </a:lnTo>
                  <a:lnTo>
                    <a:pt x="19897" y="66"/>
                  </a:lnTo>
                  <a:lnTo>
                    <a:pt x="20159" y="0"/>
                  </a:lnTo>
                  <a:lnTo>
                    <a:pt x="20028" y="66"/>
                  </a:lnTo>
                  <a:lnTo>
                    <a:pt x="19897" y="66"/>
                  </a:lnTo>
                  <a:lnTo>
                    <a:pt x="19505" y="199"/>
                  </a:lnTo>
                  <a:lnTo>
                    <a:pt x="18850" y="398"/>
                  </a:lnTo>
                  <a:lnTo>
                    <a:pt x="18196" y="731"/>
                  </a:lnTo>
                  <a:lnTo>
                    <a:pt x="17803" y="930"/>
                  </a:lnTo>
                  <a:lnTo>
                    <a:pt x="17148" y="1129"/>
                  </a:lnTo>
                  <a:lnTo>
                    <a:pt x="16756" y="1262"/>
                  </a:lnTo>
                  <a:lnTo>
                    <a:pt x="16494" y="1462"/>
                  </a:lnTo>
                  <a:lnTo>
                    <a:pt x="16101" y="1594"/>
                  </a:lnTo>
                  <a:lnTo>
                    <a:pt x="15578" y="1794"/>
                  </a:lnTo>
                  <a:lnTo>
                    <a:pt x="15316" y="1993"/>
                  </a:lnTo>
                  <a:lnTo>
                    <a:pt x="14792" y="2259"/>
                  </a:lnTo>
                  <a:lnTo>
                    <a:pt x="14661" y="2392"/>
                  </a:lnTo>
                  <a:lnTo>
                    <a:pt x="14268" y="2658"/>
                  </a:lnTo>
                  <a:lnTo>
                    <a:pt x="14007" y="2857"/>
                  </a:lnTo>
                  <a:lnTo>
                    <a:pt x="13876" y="2990"/>
                  </a:lnTo>
                  <a:lnTo>
                    <a:pt x="13483" y="3322"/>
                  </a:lnTo>
                  <a:lnTo>
                    <a:pt x="13352" y="3588"/>
                  </a:lnTo>
                  <a:lnTo>
                    <a:pt x="13352" y="3854"/>
                  </a:lnTo>
                  <a:lnTo>
                    <a:pt x="13352" y="4186"/>
                  </a:lnTo>
                  <a:lnTo>
                    <a:pt x="13221" y="4253"/>
                  </a:lnTo>
                  <a:lnTo>
                    <a:pt x="13221" y="4386"/>
                  </a:lnTo>
                  <a:lnTo>
                    <a:pt x="13221" y="4519"/>
                  </a:lnTo>
                  <a:lnTo>
                    <a:pt x="13221" y="4652"/>
                  </a:lnTo>
                  <a:lnTo>
                    <a:pt x="12959" y="4784"/>
                  </a:lnTo>
                  <a:lnTo>
                    <a:pt x="12959" y="5050"/>
                  </a:lnTo>
                  <a:lnTo>
                    <a:pt x="12828" y="5183"/>
                  </a:lnTo>
                  <a:lnTo>
                    <a:pt x="12828" y="5383"/>
                  </a:lnTo>
                  <a:lnTo>
                    <a:pt x="12698" y="5516"/>
                  </a:lnTo>
                  <a:lnTo>
                    <a:pt x="12698" y="5715"/>
                  </a:lnTo>
                  <a:lnTo>
                    <a:pt x="12698" y="5981"/>
                  </a:lnTo>
                  <a:lnTo>
                    <a:pt x="12567" y="6180"/>
                  </a:lnTo>
                  <a:lnTo>
                    <a:pt x="12567" y="6446"/>
                  </a:lnTo>
                  <a:lnTo>
                    <a:pt x="12567" y="6645"/>
                  </a:lnTo>
                  <a:lnTo>
                    <a:pt x="12436" y="6845"/>
                  </a:lnTo>
                  <a:lnTo>
                    <a:pt x="12567" y="7111"/>
                  </a:lnTo>
                  <a:lnTo>
                    <a:pt x="12567" y="7177"/>
                  </a:lnTo>
                  <a:lnTo>
                    <a:pt x="12567" y="7310"/>
                  </a:lnTo>
                  <a:lnTo>
                    <a:pt x="12567" y="7443"/>
                  </a:lnTo>
                  <a:lnTo>
                    <a:pt x="12698" y="7642"/>
                  </a:lnTo>
                  <a:lnTo>
                    <a:pt x="12698" y="7842"/>
                  </a:lnTo>
                  <a:lnTo>
                    <a:pt x="12828" y="8108"/>
                  </a:lnTo>
                  <a:lnTo>
                    <a:pt x="12828" y="8373"/>
                  </a:lnTo>
                  <a:lnTo>
                    <a:pt x="12828" y="8639"/>
                  </a:lnTo>
                  <a:lnTo>
                    <a:pt x="12959" y="8839"/>
                  </a:lnTo>
                  <a:lnTo>
                    <a:pt x="12828" y="9104"/>
                  </a:lnTo>
                  <a:lnTo>
                    <a:pt x="12959" y="9370"/>
                  </a:lnTo>
                  <a:lnTo>
                    <a:pt x="12959" y="9636"/>
                  </a:lnTo>
                  <a:lnTo>
                    <a:pt x="13090" y="9902"/>
                  </a:lnTo>
                  <a:lnTo>
                    <a:pt x="12959" y="9969"/>
                  </a:lnTo>
                  <a:lnTo>
                    <a:pt x="13090" y="10168"/>
                  </a:lnTo>
                  <a:lnTo>
                    <a:pt x="12959" y="10234"/>
                  </a:lnTo>
                  <a:lnTo>
                    <a:pt x="12959" y="10367"/>
                  </a:lnTo>
                  <a:lnTo>
                    <a:pt x="13090" y="10567"/>
                  </a:lnTo>
                  <a:lnTo>
                    <a:pt x="13221" y="10832"/>
                  </a:lnTo>
                  <a:lnTo>
                    <a:pt x="13352" y="11098"/>
                  </a:lnTo>
                  <a:lnTo>
                    <a:pt x="13483" y="11364"/>
                  </a:lnTo>
                  <a:lnTo>
                    <a:pt x="13745" y="11630"/>
                  </a:lnTo>
                  <a:lnTo>
                    <a:pt x="13876" y="11962"/>
                  </a:lnTo>
                  <a:lnTo>
                    <a:pt x="14138" y="12228"/>
                  </a:lnTo>
                  <a:lnTo>
                    <a:pt x="14399" y="12560"/>
                  </a:lnTo>
                  <a:lnTo>
                    <a:pt x="14530" y="12760"/>
                  </a:lnTo>
                  <a:lnTo>
                    <a:pt x="14792" y="13026"/>
                  </a:lnTo>
                  <a:lnTo>
                    <a:pt x="14923" y="13159"/>
                  </a:lnTo>
                  <a:lnTo>
                    <a:pt x="15054" y="13225"/>
                  </a:lnTo>
                  <a:lnTo>
                    <a:pt x="15185" y="13225"/>
                  </a:lnTo>
                  <a:lnTo>
                    <a:pt x="15316" y="13092"/>
                  </a:lnTo>
                  <a:lnTo>
                    <a:pt x="15316" y="12959"/>
                  </a:lnTo>
                  <a:lnTo>
                    <a:pt x="15316" y="12694"/>
                  </a:lnTo>
                  <a:lnTo>
                    <a:pt x="15447" y="12494"/>
                  </a:lnTo>
                  <a:lnTo>
                    <a:pt x="15316" y="12228"/>
                  </a:lnTo>
                  <a:lnTo>
                    <a:pt x="15185" y="11896"/>
                  </a:lnTo>
                  <a:lnTo>
                    <a:pt x="15054" y="11697"/>
                  </a:lnTo>
                  <a:lnTo>
                    <a:pt x="14923" y="11431"/>
                  </a:lnTo>
                  <a:lnTo>
                    <a:pt x="14792" y="11231"/>
                  </a:lnTo>
                  <a:lnTo>
                    <a:pt x="14661" y="10966"/>
                  </a:lnTo>
                  <a:lnTo>
                    <a:pt x="14792" y="10633"/>
                  </a:lnTo>
                  <a:lnTo>
                    <a:pt x="14661" y="10434"/>
                  </a:lnTo>
                  <a:lnTo>
                    <a:pt x="14661" y="10101"/>
                  </a:lnTo>
                  <a:lnTo>
                    <a:pt x="14661" y="9836"/>
                  </a:lnTo>
                  <a:lnTo>
                    <a:pt x="14792" y="9636"/>
                  </a:lnTo>
                  <a:lnTo>
                    <a:pt x="15054" y="9370"/>
                  </a:lnTo>
                  <a:lnTo>
                    <a:pt x="15316" y="9104"/>
                  </a:lnTo>
                  <a:lnTo>
                    <a:pt x="15447" y="8839"/>
                  </a:lnTo>
                  <a:lnTo>
                    <a:pt x="15708" y="8706"/>
                  </a:lnTo>
                  <a:lnTo>
                    <a:pt x="15839" y="8706"/>
                  </a:lnTo>
                  <a:lnTo>
                    <a:pt x="15970" y="8706"/>
                  </a:lnTo>
                  <a:lnTo>
                    <a:pt x="16232" y="8772"/>
                  </a:lnTo>
                  <a:lnTo>
                    <a:pt x="16363" y="8772"/>
                  </a:lnTo>
                  <a:lnTo>
                    <a:pt x="16494" y="8839"/>
                  </a:lnTo>
                  <a:lnTo>
                    <a:pt x="16756" y="8972"/>
                  </a:lnTo>
                  <a:lnTo>
                    <a:pt x="16887" y="9104"/>
                  </a:lnTo>
                  <a:lnTo>
                    <a:pt x="17148" y="9238"/>
                  </a:lnTo>
                  <a:lnTo>
                    <a:pt x="17279" y="9437"/>
                  </a:lnTo>
                  <a:lnTo>
                    <a:pt x="17279" y="9503"/>
                  </a:lnTo>
                  <a:lnTo>
                    <a:pt x="17541" y="9769"/>
                  </a:lnTo>
                  <a:lnTo>
                    <a:pt x="17803" y="9902"/>
                  </a:lnTo>
                  <a:lnTo>
                    <a:pt x="17803" y="10101"/>
                  </a:lnTo>
                  <a:lnTo>
                    <a:pt x="18065" y="10367"/>
                  </a:lnTo>
                  <a:lnTo>
                    <a:pt x="18196" y="10567"/>
                  </a:lnTo>
                  <a:lnTo>
                    <a:pt x="18327" y="10766"/>
                  </a:lnTo>
                  <a:lnTo>
                    <a:pt x="18458" y="11032"/>
                  </a:lnTo>
                  <a:lnTo>
                    <a:pt x="18588" y="11298"/>
                  </a:lnTo>
                  <a:lnTo>
                    <a:pt x="18719" y="11364"/>
                  </a:lnTo>
                  <a:lnTo>
                    <a:pt x="18719" y="11563"/>
                  </a:lnTo>
                  <a:lnTo>
                    <a:pt x="18850" y="11763"/>
                  </a:lnTo>
                  <a:lnTo>
                    <a:pt x="18981" y="11962"/>
                  </a:lnTo>
                  <a:lnTo>
                    <a:pt x="18981" y="12162"/>
                  </a:lnTo>
                  <a:lnTo>
                    <a:pt x="19112" y="12361"/>
                  </a:lnTo>
                  <a:lnTo>
                    <a:pt x="19243" y="12560"/>
                  </a:lnTo>
                  <a:lnTo>
                    <a:pt x="19374" y="12627"/>
                  </a:lnTo>
                  <a:lnTo>
                    <a:pt x="19374" y="12760"/>
                  </a:lnTo>
                  <a:lnTo>
                    <a:pt x="19374" y="12826"/>
                  </a:lnTo>
                  <a:lnTo>
                    <a:pt x="19505" y="12959"/>
                  </a:lnTo>
                  <a:lnTo>
                    <a:pt x="19505" y="12959"/>
                  </a:lnTo>
                  <a:lnTo>
                    <a:pt x="19505" y="13026"/>
                  </a:lnTo>
                  <a:lnTo>
                    <a:pt x="19636" y="13358"/>
                  </a:lnTo>
                  <a:lnTo>
                    <a:pt x="19767" y="13690"/>
                  </a:lnTo>
                  <a:lnTo>
                    <a:pt x="19897" y="13823"/>
                  </a:lnTo>
                  <a:lnTo>
                    <a:pt x="20028" y="14156"/>
                  </a:lnTo>
                  <a:lnTo>
                    <a:pt x="20028" y="14488"/>
                  </a:lnTo>
                  <a:lnTo>
                    <a:pt x="20159" y="14754"/>
                  </a:lnTo>
                  <a:lnTo>
                    <a:pt x="20159" y="15020"/>
                  </a:lnTo>
                  <a:lnTo>
                    <a:pt x="20290" y="15286"/>
                  </a:lnTo>
                  <a:lnTo>
                    <a:pt x="20421" y="15551"/>
                  </a:lnTo>
                  <a:lnTo>
                    <a:pt x="20421" y="15817"/>
                  </a:lnTo>
                  <a:lnTo>
                    <a:pt x="20552" y="16017"/>
                  </a:lnTo>
                  <a:lnTo>
                    <a:pt x="20421" y="16283"/>
                  </a:lnTo>
                  <a:lnTo>
                    <a:pt x="20421" y="16548"/>
                  </a:lnTo>
                  <a:lnTo>
                    <a:pt x="20421" y="16880"/>
                  </a:lnTo>
                  <a:lnTo>
                    <a:pt x="20421" y="17080"/>
                  </a:lnTo>
                  <a:lnTo>
                    <a:pt x="20290" y="17279"/>
                  </a:lnTo>
                  <a:lnTo>
                    <a:pt x="20290" y="17479"/>
                  </a:lnTo>
                  <a:lnTo>
                    <a:pt x="20290" y="17678"/>
                  </a:lnTo>
                  <a:lnTo>
                    <a:pt x="20159" y="17944"/>
                  </a:lnTo>
                  <a:lnTo>
                    <a:pt x="20028" y="18210"/>
                  </a:lnTo>
                  <a:lnTo>
                    <a:pt x="19897" y="18343"/>
                  </a:lnTo>
                  <a:lnTo>
                    <a:pt x="19767" y="18476"/>
                  </a:lnTo>
                  <a:lnTo>
                    <a:pt x="19636" y="18675"/>
                  </a:lnTo>
                  <a:lnTo>
                    <a:pt x="19505" y="18941"/>
                  </a:lnTo>
                  <a:lnTo>
                    <a:pt x="19374" y="19074"/>
                  </a:lnTo>
                  <a:lnTo>
                    <a:pt x="19112" y="19207"/>
                  </a:lnTo>
                  <a:lnTo>
                    <a:pt x="18981" y="19406"/>
                  </a:lnTo>
                  <a:lnTo>
                    <a:pt x="18719" y="19539"/>
                  </a:lnTo>
                  <a:lnTo>
                    <a:pt x="18588" y="19605"/>
                  </a:lnTo>
                  <a:lnTo>
                    <a:pt x="18196" y="19805"/>
                  </a:lnTo>
                  <a:lnTo>
                    <a:pt x="17803" y="20004"/>
                  </a:lnTo>
                  <a:lnTo>
                    <a:pt x="17803" y="20071"/>
                  </a:lnTo>
                  <a:lnTo>
                    <a:pt x="17410" y="20137"/>
                  </a:lnTo>
                  <a:lnTo>
                    <a:pt x="17018" y="20270"/>
                  </a:lnTo>
                  <a:lnTo>
                    <a:pt x="16625" y="20337"/>
                  </a:lnTo>
                  <a:lnTo>
                    <a:pt x="16363" y="20337"/>
                  </a:lnTo>
                  <a:lnTo>
                    <a:pt x="15970" y="20403"/>
                  </a:lnTo>
                  <a:lnTo>
                    <a:pt x="15708" y="20337"/>
                  </a:lnTo>
                  <a:lnTo>
                    <a:pt x="15316" y="20337"/>
                  </a:lnTo>
                  <a:lnTo>
                    <a:pt x="14923" y="20204"/>
                  </a:lnTo>
                  <a:lnTo>
                    <a:pt x="14399" y="20137"/>
                  </a:lnTo>
                  <a:lnTo>
                    <a:pt x="14007" y="20071"/>
                  </a:lnTo>
                  <a:lnTo>
                    <a:pt x="13745" y="20004"/>
                  </a:lnTo>
                  <a:lnTo>
                    <a:pt x="13352" y="19871"/>
                  </a:lnTo>
                  <a:lnTo>
                    <a:pt x="12959" y="19672"/>
                  </a:lnTo>
                  <a:lnTo>
                    <a:pt x="12436" y="19539"/>
                  </a:lnTo>
                  <a:lnTo>
                    <a:pt x="12174" y="19406"/>
                  </a:lnTo>
                  <a:lnTo>
                    <a:pt x="11781" y="19207"/>
                  </a:lnTo>
                  <a:lnTo>
                    <a:pt x="11388" y="19074"/>
                  </a:lnTo>
                  <a:lnTo>
                    <a:pt x="10996" y="18808"/>
                  </a:lnTo>
                  <a:lnTo>
                    <a:pt x="10603" y="18608"/>
                  </a:lnTo>
                  <a:lnTo>
                    <a:pt x="10210" y="18343"/>
                  </a:lnTo>
                  <a:lnTo>
                    <a:pt x="9686" y="18143"/>
                  </a:lnTo>
                  <a:lnTo>
                    <a:pt x="9425" y="18010"/>
                  </a:lnTo>
                  <a:lnTo>
                    <a:pt x="9032" y="17745"/>
                  </a:lnTo>
                  <a:lnTo>
                    <a:pt x="8639" y="17479"/>
                  </a:lnTo>
                  <a:lnTo>
                    <a:pt x="8246" y="17213"/>
                  </a:lnTo>
                  <a:lnTo>
                    <a:pt x="7854" y="17014"/>
                  </a:lnTo>
                  <a:lnTo>
                    <a:pt x="7723" y="16748"/>
                  </a:lnTo>
                  <a:lnTo>
                    <a:pt x="7330" y="16482"/>
                  </a:lnTo>
                  <a:lnTo>
                    <a:pt x="7069" y="16216"/>
                  </a:lnTo>
                  <a:lnTo>
                    <a:pt x="6676" y="15950"/>
                  </a:lnTo>
                  <a:lnTo>
                    <a:pt x="6414" y="15751"/>
                  </a:lnTo>
                  <a:lnTo>
                    <a:pt x="6152" y="15485"/>
                  </a:lnTo>
                  <a:lnTo>
                    <a:pt x="5890" y="15153"/>
                  </a:lnTo>
                  <a:lnTo>
                    <a:pt x="5629" y="14820"/>
                  </a:lnTo>
                  <a:lnTo>
                    <a:pt x="5367" y="14421"/>
                  </a:lnTo>
                  <a:lnTo>
                    <a:pt x="5105" y="14089"/>
                  </a:lnTo>
                  <a:lnTo>
                    <a:pt x="4843" y="13757"/>
                  </a:lnTo>
                  <a:lnTo>
                    <a:pt x="4581" y="13425"/>
                  </a:lnTo>
                  <a:lnTo>
                    <a:pt x="4189" y="13026"/>
                  </a:lnTo>
                  <a:lnTo>
                    <a:pt x="4057" y="12694"/>
                  </a:lnTo>
                  <a:lnTo>
                    <a:pt x="3927" y="12361"/>
                  </a:lnTo>
                  <a:lnTo>
                    <a:pt x="3665" y="12029"/>
                  </a:lnTo>
                  <a:lnTo>
                    <a:pt x="3534" y="11763"/>
                  </a:lnTo>
                  <a:lnTo>
                    <a:pt x="3534" y="11364"/>
                  </a:lnTo>
                  <a:lnTo>
                    <a:pt x="3403" y="11098"/>
                  </a:lnTo>
                  <a:lnTo>
                    <a:pt x="3272" y="10832"/>
                  </a:lnTo>
                  <a:lnTo>
                    <a:pt x="3272" y="10500"/>
                  </a:lnTo>
                  <a:lnTo>
                    <a:pt x="3141" y="10101"/>
                  </a:lnTo>
                  <a:lnTo>
                    <a:pt x="3141" y="9836"/>
                  </a:lnTo>
                  <a:lnTo>
                    <a:pt x="3141" y="9570"/>
                  </a:lnTo>
                  <a:lnTo>
                    <a:pt x="3141" y="9238"/>
                  </a:lnTo>
                  <a:lnTo>
                    <a:pt x="3141" y="8972"/>
                  </a:lnTo>
                  <a:lnTo>
                    <a:pt x="3141" y="8639"/>
                  </a:lnTo>
                  <a:lnTo>
                    <a:pt x="3272" y="8373"/>
                  </a:lnTo>
                  <a:lnTo>
                    <a:pt x="3403" y="8108"/>
                  </a:lnTo>
                  <a:lnTo>
                    <a:pt x="3403" y="7842"/>
                  </a:lnTo>
                  <a:lnTo>
                    <a:pt x="3534" y="7576"/>
                  </a:lnTo>
                  <a:lnTo>
                    <a:pt x="3665" y="7377"/>
                  </a:lnTo>
                  <a:lnTo>
                    <a:pt x="3796" y="7177"/>
                  </a:lnTo>
                  <a:lnTo>
                    <a:pt x="3927" y="6978"/>
                  </a:lnTo>
                  <a:lnTo>
                    <a:pt x="4189" y="6712"/>
                  </a:lnTo>
                  <a:lnTo>
                    <a:pt x="4319" y="6513"/>
                  </a:lnTo>
                  <a:lnTo>
                    <a:pt x="4581" y="6313"/>
                  </a:lnTo>
                  <a:lnTo>
                    <a:pt x="4843" y="6247"/>
                  </a:lnTo>
                  <a:lnTo>
                    <a:pt x="4974" y="6180"/>
                  </a:lnTo>
                  <a:lnTo>
                    <a:pt x="4974" y="6180"/>
                  </a:lnTo>
                  <a:lnTo>
                    <a:pt x="4843" y="6180"/>
                  </a:lnTo>
                  <a:lnTo>
                    <a:pt x="4712" y="6247"/>
                  </a:lnTo>
                  <a:lnTo>
                    <a:pt x="4319" y="6313"/>
                  </a:lnTo>
                  <a:lnTo>
                    <a:pt x="4057" y="6380"/>
                  </a:lnTo>
                  <a:lnTo>
                    <a:pt x="3796" y="6513"/>
                  </a:lnTo>
                  <a:lnTo>
                    <a:pt x="3534" y="6645"/>
                  </a:lnTo>
                  <a:lnTo>
                    <a:pt x="3141" y="6779"/>
                  </a:lnTo>
                  <a:lnTo>
                    <a:pt x="2748" y="6978"/>
                  </a:lnTo>
                  <a:lnTo>
                    <a:pt x="2356" y="7111"/>
                  </a:lnTo>
                  <a:lnTo>
                    <a:pt x="2094" y="7310"/>
                  </a:lnTo>
                  <a:lnTo>
                    <a:pt x="1701" y="7377"/>
                  </a:lnTo>
                  <a:lnTo>
                    <a:pt x="1570" y="7576"/>
                  </a:lnTo>
                  <a:lnTo>
                    <a:pt x="1308" y="7642"/>
                  </a:lnTo>
                  <a:lnTo>
                    <a:pt x="1047" y="7775"/>
                  </a:lnTo>
                  <a:lnTo>
                    <a:pt x="785" y="7842"/>
                  </a:lnTo>
                  <a:lnTo>
                    <a:pt x="654" y="8041"/>
                  </a:lnTo>
                  <a:lnTo>
                    <a:pt x="523" y="8307"/>
                  </a:lnTo>
                  <a:lnTo>
                    <a:pt x="261" y="8507"/>
                  </a:lnTo>
                  <a:lnTo>
                    <a:pt x="130" y="8706"/>
                  </a:lnTo>
                  <a:lnTo>
                    <a:pt x="0" y="9038"/>
                  </a:lnTo>
                  <a:lnTo>
                    <a:pt x="130" y="9238"/>
                  </a:lnTo>
                  <a:lnTo>
                    <a:pt x="0" y="9570"/>
                  </a:lnTo>
                  <a:lnTo>
                    <a:pt x="0" y="9902"/>
                  </a:lnTo>
                  <a:lnTo>
                    <a:pt x="0" y="10168"/>
                  </a:lnTo>
                  <a:lnTo>
                    <a:pt x="0" y="10500"/>
                  </a:lnTo>
                  <a:lnTo>
                    <a:pt x="0" y="10832"/>
                  </a:lnTo>
                  <a:lnTo>
                    <a:pt x="0" y="11231"/>
                  </a:lnTo>
                  <a:lnTo>
                    <a:pt x="130" y="11497"/>
                  </a:lnTo>
                  <a:lnTo>
                    <a:pt x="261" y="11896"/>
                  </a:lnTo>
                  <a:lnTo>
                    <a:pt x="392" y="12295"/>
                  </a:lnTo>
                  <a:lnTo>
                    <a:pt x="654" y="12627"/>
                  </a:lnTo>
                  <a:lnTo>
                    <a:pt x="785" y="13026"/>
                  </a:lnTo>
                  <a:lnTo>
                    <a:pt x="916" y="13425"/>
                  </a:lnTo>
                  <a:lnTo>
                    <a:pt x="1047" y="13757"/>
                  </a:lnTo>
                  <a:lnTo>
                    <a:pt x="1439" y="14222"/>
                  </a:lnTo>
                  <a:lnTo>
                    <a:pt x="1701" y="14555"/>
                  </a:lnTo>
                  <a:lnTo>
                    <a:pt x="1963" y="14953"/>
                  </a:lnTo>
                  <a:lnTo>
                    <a:pt x="2225" y="15352"/>
                  </a:lnTo>
                  <a:lnTo>
                    <a:pt x="2617" y="15751"/>
                  </a:lnTo>
                  <a:lnTo>
                    <a:pt x="3010" y="16083"/>
                  </a:lnTo>
                  <a:lnTo>
                    <a:pt x="3272" y="16548"/>
                  </a:lnTo>
                  <a:lnTo>
                    <a:pt x="3665" y="16814"/>
                  </a:lnTo>
                  <a:lnTo>
                    <a:pt x="4057" y="17213"/>
                  </a:lnTo>
                  <a:lnTo>
                    <a:pt x="4581" y="17545"/>
                  </a:lnTo>
                  <a:lnTo>
                    <a:pt x="4974" y="17877"/>
                  </a:lnTo>
                  <a:lnTo>
                    <a:pt x="5497" y="18143"/>
                  </a:lnTo>
                  <a:lnTo>
                    <a:pt x="6414" y="18808"/>
                  </a:lnTo>
                  <a:lnTo>
                    <a:pt x="7592" y="19406"/>
                  </a:lnTo>
                  <a:lnTo>
                    <a:pt x="8639" y="19938"/>
                  </a:lnTo>
                  <a:lnTo>
                    <a:pt x="9556" y="20337"/>
                  </a:lnTo>
                  <a:lnTo>
                    <a:pt x="10472" y="20669"/>
                  </a:lnTo>
                  <a:lnTo>
                    <a:pt x="11388" y="20935"/>
                  </a:lnTo>
                  <a:lnTo>
                    <a:pt x="12174" y="21201"/>
                  </a:lnTo>
                  <a:lnTo>
                    <a:pt x="12959" y="21400"/>
                  </a:lnTo>
                  <a:lnTo>
                    <a:pt x="13876" y="21533"/>
                  </a:lnTo>
                  <a:lnTo>
                    <a:pt x="14530" y="21533"/>
                  </a:lnTo>
                  <a:lnTo>
                    <a:pt x="15316" y="21600"/>
                  </a:lnTo>
                  <a:lnTo>
                    <a:pt x="15970" y="21600"/>
                  </a:lnTo>
                  <a:lnTo>
                    <a:pt x="16625" y="21466"/>
                  </a:lnTo>
                  <a:lnTo>
                    <a:pt x="17279" y="21400"/>
                  </a:lnTo>
                  <a:lnTo>
                    <a:pt x="17803" y="21201"/>
                  </a:lnTo>
                  <a:lnTo>
                    <a:pt x="18327" y="21001"/>
                  </a:lnTo>
                  <a:lnTo>
                    <a:pt x="18850" y="20735"/>
                  </a:lnTo>
                  <a:lnTo>
                    <a:pt x="19243" y="20536"/>
                  </a:lnTo>
                  <a:lnTo>
                    <a:pt x="19897" y="20270"/>
                  </a:lnTo>
                  <a:lnTo>
                    <a:pt x="20159" y="19871"/>
                  </a:lnTo>
                  <a:lnTo>
                    <a:pt x="20290" y="19539"/>
                  </a:lnTo>
                  <a:lnTo>
                    <a:pt x="20683" y="19207"/>
                  </a:lnTo>
                  <a:lnTo>
                    <a:pt x="20945" y="18742"/>
                  </a:lnTo>
                  <a:lnTo>
                    <a:pt x="21207" y="18343"/>
                  </a:lnTo>
                  <a:lnTo>
                    <a:pt x="21468" y="17944"/>
                  </a:lnTo>
                  <a:lnTo>
                    <a:pt x="21337" y="17479"/>
                  </a:lnTo>
                  <a:lnTo>
                    <a:pt x="21468" y="17080"/>
                  </a:lnTo>
                  <a:lnTo>
                    <a:pt x="21600" y="16681"/>
                  </a:lnTo>
                  <a:lnTo>
                    <a:pt x="21468" y="16149"/>
                  </a:lnTo>
                  <a:lnTo>
                    <a:pt x="21468" y="15751"/>
                  </a:lnTo>
                  <a:lnTo>
                    <a:pt x="21337" y="15219"/>
                  </a:lnTo>
                  <a:lnTo>
                    <a:pt x="21207" y="14820"/>
                  </a:lnTo>
                  <a:lnTo>
                    <a:pt x="21076" y="14687"/>
                  </a:lnTo>
                  <a:lnTo>
                    <a:pt x="21076" y="14488"/>
                  </a:lnTo>
                  <a:lnTo>
                    <a:pt x="20945" y="14289"/>
                  </a:lnTo>
                  <a:lnTo>
                    <a:pt x="20945" y="14089"/>
                  </a:lnTo>
                  <a:lnTo>
                    <a:pt x="20683" y="13890"/>
                  </a:lnTo>
                  <a:lnTo>
                    <a:pt x="20552" y="13690"/>
                  </a:lnTo>
                  <a:lnTo>
                    <a:pt x="20552" y="13558"/>
                  </a:lnTo>
                  <a:lnTo>
                    <a:pt x="20421" y="13358"/>
                  </a:lnTo>
                  <a:lnTo>
                    <a:pt x="20290" y="13225"/>
                  </a:lnTo>
                  <a:lnTo>
                    <a:pt x="20159" y="12959"/>
                  </a:lnTo>
                  <a:lnTo>
                    <a:pt x="19897" y="12760"/>
                  </a:lnTo>
                  <a:lnTo>
                    <a:pt x="19897" y="12560"/>
                  </a:lnTo>
                  <a:lnTo>
                    <a:pt x="19636" y="12428"/>
                  </a:lnTo>
                  <a:lnTo>
                    <a:pt x="19505" y="12162"/>
                  </a:lnTo>
                  <a:lnTo>
                    <a:pt x="19374" y="12029"/>
                  </a:lnTo>
                  <a:lnTo>
                    <a:pt x="19112" y="11829"/>
                  </a:lnTo>
                  <a:lnTo>
                    <a:pt x="19112" y="11630"/>
                  </a:lnTo>
                  <a:lnTo>
                    <a:pt x="18850" y="11431"/>
                  </a:lnTo>
                  <a:lnTo>
                    <a:pt x="18588" y="11364"/>
                  </a:lnTo>
                  <a:lnTo>
                    <a:pt x="18588" y="11165"/>
                  </a:lnTo>
                  <a:lnTo>
                    <a:pt x="18327" y="10899"/>
                  </a:lnTo>
                  <a:lnTo>
                    <a:pt x="18065" y="10700"/>
                  </a:lnTo>
                  <a:lnTo>
                    <a:pt x="17934" y="10500"/>
                  </a:lnTo>
                  <a:lnTo>
                    <a:pt x="17672" y="10367"/>
                  </a:lnTo>
                  <a:lnTo>
                    <a:pt x="17541" y="10168"/>
                  </a:lnTo>
                  <a:lnTo>
                    <a:pt x="17279" y="9902"/>
                  </a:lnTo>
                  <a:lnTo>
                    <a:pt x="17018" y="9769"/>
                  </a:lnTo>
                  <a:lnTo>
                    <a:pt x="16625" y="9503"/>
                  </a:lnTo>
                  <a:lnTo>
                    <a:pt x="16494" y="9370"/>
                  </a:lnTo>
                  <a:lnTo>
                    <a:pt x="16101" y="9238"/>
                  </a:lnTo>
                  <a:lnTo>
                    <a:pt x="15970" y="8972"/>
                  </a:lnTo>
                  <a:lnTo>
                    <a:pt x="15708" y="8772"/>
                  </a:lnTo>
                  <a:lnTo>
                    <a:pt x="15578" y="8706"/>
                  </a:lnTo>
                  <a:lnTo>
                    <a:pt x="15316" y="8507"/>
                  </a:lnTo>
                  <a:lnTo>
                    <a:pt x="15316" y="8373"/>
                  </a:lnTo>
                  <a:lnTo>
                    <a:pt x="15185" y="8174"/>
                  </a:lnTo>
                  <a:lnTo>
                    <a:pt x="15054" y="7975"/>
                  </a:lnTo>
                  <a:lnTo>
                    <a:pt x="14923" y="7709"/>
                  </a:lnTo>
                  <a:lnTo>
                    <a:pt x="14923" y="7510"/>
                  </a:lnTo>
                  <a:lnTo>
                    <a:pt x="14792" y="7310"/>
                  </a:lnTo>
                  <a:lnTo>
                    <a:pt x="14661" y="7044"/>
                  </a:lnTo>
                  <a:lnTo>
                    <a:pt x="14661" y="6845"/>
                  </a:lnTo>
                  <a:lnTo>
                    <a:pt x="14661" y="6579"/>
                  </a:lnTo>
                  <a:lnTo>
                    <a:pt x="14661" y="6380"/>
                  </a:lnTo>
                  <a:lnTo>
                    <a:pt x="14792" y="6247"/>
                  </a:lnTo>
                  <a:lnTo>
                    <a:pt x="14661" y="6047"/>
                  </a:lnTo>
                  <a:lnTo>
                    <a:pt x="14792" y="5914"/>
                  </a:lnTo>
                  <a:lnTo>
                    <a:pt x="14792" y="5781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未知"/>
          <p:cNvSpPr/>
          <p:nvPr/>
        </p:nvSpPr>
        <p:spPr>
          <a:xfrm>
            <a:off x="2282760" y="2293920"/>
            <a:ext cx="6897600" cy="459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511"/>
                </a:moveTo>
                <a:lnTo>
                  <a:pt x="18119" y="0"/>
                </a:lnTo>
                <a:lnTo>
                  <a:pt x="21552" y="70"/>
                </a:lnTo>
                <a:lnTo>
                  <a:pt x="21600" y="21600"/>
                </a:lnTo>
                <a:lnTo>
                  <a:pt x="0" y="21511"/>
                </a:lnTo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CB14-7F8D-4939-80ED-2016BEB1820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906C-2BC6-4CE7-B215-967C8815DC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77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2"/>
          <p:cNvGrpSpPr/>
          <p:nvPr/>
        </p:nvGrpSpPr>
        <p:grpSpPr>
          <a:xfrm>
            <a:off x="1692360" y="4411800"/>
            <a:ext cx="1866600" cy="2329920"/>
            <a:chOff x="1692360" y="4411800"/>
            <a:chExt cx="1866600" cy="2329920"/>
          </a:xfrm>
        </p:grpSpPr>
        <p:sp>
          <p:nvSpPr>
            <p:cNvPr id="313" name="未知"/>
            <p:cNvSpPr/>
            <p:nvPr/>
          </p:nvSpPr>
          <p:spPr>
            <a:xfrm>
              <a:off x="2787840" y="4997160"/>
              <a:ext cx="771120" cy="905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799" y="6830"/>
                  </a:moveTo>
                  <a:lnTo>
                    <a:pt x="7499" y="6645"/>
                  </a:lnTo>
                  <a:lnTo>
                    <a:pt x="7399" y="6276"/>
                  </a:lnTo>
                  <a:lnTo>
                    <a:pt x="7299" y="5999"/>
                  </a:lnTo>
                  <a:lnTo>
                    <a:pt x="7299" y="5630"/>
                  </a:lnTo>
                  <a:lnTo>
                    <a:pt x="7199" y="5168"/>
                  </a:lnTo>
                  <a:lnTo>
                    <a:pt x="7199" y="4799"/>
                  </a:lnTo>
                  <a:lnTo>
                    <a:pt x="7199" y="4430"/>
                  </a:lnTo>
                  <a:lnTo>
                    <a:pt x="7299" y="4061"/>
                  </a:lnTo>
                  <a:lnTo>
                    <a:pt x="7399" y="3599"/>
                  </a:lnTo>
                  <a:lnTo>
                    <a:pt x="7399" y="3230"/>
                  </a:lnTo>
                  <a:lnTo>
                    <a:pt x="7399" y="2861"/>
                  </a:lnTo>
                  <a:lnTo>
                    <a:pt x="7499" y="2584"/>
                  </a:lnTo>
                  <a:lnTo>
                    <a:pt x="7599" y="2215"/>
                  </a:lnTo>
                  <a:lnTo>
                    <a:pt x="7699" y="2030"/>
                  </a:lnTo>
                  <a:lnTo>
                    <a:pt x="7799" y="1846"/>
                  </a:lnTo>
                  <a:lnTo>
                    <a:pt x="7799" y="1661"/>
                  </a:lnTo>
                  <a:lnTo>
                    <a:pt x="7899" y="1569"/>
                  </a:lnTo>
                  <a:lnTo>
                    <a:pt x="7999" y="1476"/>
                  </a:lnTo>
                  <a:lnTo>
                    <a:pt x="7999" y="1199"/>
                  </a:lnTo>
                  <a:lnTo>
                    <a:pt x="8199" y="1107"/>
                  </a:lnTo>
                  <a:lnTo>
                    <a:pt x="8299" y="1015"/>
                  </a:lnTo>
                  <a:lnTo>
                    <a:pt x="8499" y="830"/>
                  </a:lnTo>
                  <a:lnTo>
                    <a:pt x="8399" y="738"/>
                  </a:lnTo>
                  <a:lnTo>
                    <a:pt x="8599" y="553"/>
                  </a:lnTo>
                  <a:lnTo>
                    <a:pt x="8599" y="369"/>
                  </a:lnTo>
                  <a:lnTo>
                    <a:pt x="8799" y="276"/>
                  </a:lnTo>
                  <a:lnTo>
                    <a:pt x="8899" y="92"/>
                  </a:lnTo>
                  <a:lnTo>
                    <a:pt x="8999" y="0"/>
                  </a:lnTo>
                  <a:lnTo>
                    <a:pt x="8999" y="0"/>
                  </a:lnTo>
                  <a:lnTo>
                    <a:pt x="8999" y="0"/>
                  </a:lnTo>
                  <a:lnTo>
                    <a:pt x="8999" y="0"/>
                  </a:lnTo>
                  <a:lnTo>
                    <a:pt x="8899" y="0"/>
                  </a:lnTo>
                  <a:lnTo>
                    <a:pt x="8599" y="276"/>
                  </a:lnTo>
                  <a:lnTo>
                    <a:pt x="8399" y="553"/>
                  </a:lnTo>
                  <a:lnTo>
                    <a:pt x="8100" y="738"/>
                  </a:lnTo>
                  <a:lnTo>
                    <a:pt x="7899" y="1015"/>
                  </a:lnTo>
                  <a:lnTo>
                    <a:pt x="7699" y="1107"/>
                  </a:lnTo>
                  <a:lnTo>
                    <a:pt x="7399" y="1384"/>
                  </a:lnTo>
                  <a:lnTo>
                    <a:pt x="7199" y="1661"/>
                  </a:lnTo>
                  <a:lnTo>
                    <a:pt x="7099" y="1938"/>
                  </a:lnTo>
                  <a:lnTo>
                    <a:pt x="6899" y="2215"/>
                  </a:lnTo>
                  <a:lnTo>
                    <a:pt x="6699" y="2492"/>
                  </a:lnTo>
                  <a:lnTo>
                    <a:pt x="6499" y="2769"/>
                  </a:lnTo>
                  <a:lnTo>
                    <a:pt x="6299" y="3046"/>
                  </a:lnTo>
                  <a:lnTo>
                    <a:pt x="6099" y="3322"/>
                  </a:lnTo>
                  <a:lnTo>
                    <a:pt x="5699" y="3784"/>
                  </a:lnTo>
                  <a:lnTo>
                    <a:pt x="5599" y="4061"/>
                  </a:lnTo>
                  <a:lnTo>
                    <a:pt x="5299" y="4430"/>
                  </a:lnTo>
                  <a:lnTo>
                    <a:pt x="5099" y="4522"/>
                  </a:lnTo>
                  <a:lnTo>
                    <a:pt x="4999" y="4615"/>
                  </a:lnTo>
                  <a:lnTo>
                    <a:pt x="4799" y="4615"/>
                  </a:lnTo>
                  <a:lnTo>
                    <a:pt x="4699" y="4522"/>
                  </a:lnTo>
                  <a:lnTo>
                    <a:pt x="4399" y="4522"/>
                  </a:lnTo>
                  <a:lnTo>
                    <a:pt x="4099" y="4338"/>
                  </a:lnTo>
                  <a:lnTo>
                    <a:pt x="3999" y="4338"/>
                  </a:lnTo>
                  <a:lnTo>
                    <a:pt x="3699" y="4061"/>
                  </a:lnTo>
                  <a:lnTo>
                    <a:pt x="3399" y="3968"/>
                  </a:lnTo>
                  <a:lnTo>
                    <a:pt x="3099" y="3784"/>
                  </a:lnTo>
                  <a:lnTo>
                    <a:pt x="2799" y="3692"/>
                  </a:lnTo>
                  <a:lnTo>
                    <a:pt x="2399" y="3599"/>
                  </a:lnTo>
                  <a:lnTo>
                    <a:pt x="2299" y="3322"/>
                  </a:lnTo>
                  <a:lnTo>
                    <a:pt x="1899" y="3230"/>
                  </a:lnTo>
                  <a:lnTo>
                    <a:pt x="1699" y="2953"/>
                  </a:lnTo>
                  <a:lnTo>
                    <a:pt x="1299" y="2861"/>
                  </a:lnTo>
                  <a:lnTo>
                    <a:pt x="1099" y="2584"/>
                  </a:lnTo>
                  <a:lnTo>
                    <a:pt x="799" y="2492"/>
                  </a:lnTo>
                  <a:lnTo>
                    <a:pt x="499" y="2399"/>
                  </a:lnTo>
                  <a:lnTo>
                    <a:pt x="399" y="2399"/>
                  </a:lnTo>
                  <a:lnTo>
                    <a:pt x="299" y="2215"/>
                  </a:lnTo>
                  <a:lnTo>
                    <a:pt x="199" y="2122"/>
                  </a:lnTo>
                  <a:lnTo>
                    <a:pt x="99" y="2122"/>
                  </a:lnTo>
                  <a:lnTo>
                    <a:pt x="0" y="2122"/>
                  </a:lnTo>
                  <a:lnTo>
                    <a:pt x="0" y="2122"/>
                  </a:lnTo>
                  <a:lnTo>
                    <a:pt x="0" y="2215"/>
                  </a:lnTo>
                  <a:lnTo>
                    <a:pt x="0" y="2399"/>
                  </a:lnTo>
                  <a:lnTo>
                    <a:pt x="199" y="2584"/>
                  </a:lnTo>
                  <a:lnTo>
                    <a:pt x="299" y="2676"/>
                  </a:lnTo>
                  <a:lnTo>
                    <a:pt x="499" y="3046"/>
                  </a:lnTo>
                  <a:lnTo>
                    <a:pt x="699" y="3322"/>
                  </a:lnTo>
                  <a:lnTo>
                    <a:pt x="1099" y="3692"/>
                  </a:lnTo>
                  <a:lnTo>
                    <a:pt x="1299" y="3876"/>
                  </a:lnTo>
                  <a:lnTo>
                    <a:pt x="1499" y="4061"/>
                  </a:lnTo>
                  <a:lnTo>
                    <a:pt x="1799" y="4153"/>
                  </a:lnTo>
                  <a:lnTo>
                    <a:pt x="2099" y="4430"/>
                  </a:lnTo>
                  <a:lnTo>
                    <a:pt x="2299" y="4522"/>
                  </a:lnTo>
                  <a:lnTo>
                    <a:pt x="2599" y="4799"/>
                  </a:lnTo>
                  <a:lnTo>
                    <a:pt x="2899" y="4892"/>
                  </a:lnTo>
                  <a:lnTo>
                    <a:pt x="3299" y="5076"/>
                  </a:lnTo>
                  <a:lnTo>
                    <a:pt x="3499" y="5261"/>
                  </a:lnTo>
                  <a:lnTo>
                    <a:pt x="3899" y="5353"/>
                  </a:lnTo>
                  <a:lnTo>
                    <a:pt x="4099" y="5630"/>
                  </a:lnTo>
                  <a:lnTo>
                    <a:pt x="4499" y="5722"/>
                  </a:lnTo>
                  <a:lnTo>
                    <a:pt x="4599" y="5999"/>
                  </a:lnTo>
                  <a:lnTo>
                    <a:pt x="4799" y="6092"/>
                  </a:lnTo>
                  <a:lnTo>
                    <a:pt x="4899" y="6276"/>
                  </a:lnTo>
                  <a:lnTo>
                    <a:pt x="4999" y="6461"/>
                  </a:lnTo>
                  <a:lnTo>
                    <a:pt x="5199" y="6830"/>
                  </a:lnTo>
                  <a:lnTo>
                    <a:pt x="5299" y="7292"/>
                  </a:lnTo>
                  <a:lnTo>
                    <a:pt x="5499" y="7661"/>
                  </a:lnTo>
                  <a:lnTo>
                    <a:pt x="5599" y="8123"/>
                  </a:lnTo>
                  <a:lnTo>
                    <a:pt x="5799" y="8584"/>
                  </a:lnTo>
                  <a:lnTo>
                    <a:pt x="5999" y="9138"/>
                  </a:lnTo>
                  <a:lnTo>
                    <a:pt x="6199" y="9507"/>
                  </a:lnTo>
                  <a:lnTo>
                    <a:pt x="6299" y="10061"/>
                  </a:lnTo>
                  <a:lnTo>
                    <a:pt x="6499" y="10615"/>
                  </a:lnTo>
                  <a:lnTo>
                    <a:pt x="6599" y="11076"/>
                  </a:lnTo>
                  <a:lnTo>
                    <a:pt x="6699" y="11538"/>
                  </a:lnTo>
                  <a:lnTo>
                    <a:pt x="6999" y="12091"/>
                  </a:lnTo>
                  <a:lnTo>
                    <a:pt x="7199" y="12553"/>
                  </a:lnTo>
                  <a:lnTo>
                    <a:pt x="7399" y="13107"/>
                  </a:lnTo>
                  <a:lnTo>
                    <a:pt x="7599" y="13661"/>
                  </a:lnTo>
                  <a:lnTo>
                    <a:pt x="7799" y="14122"/>
                  </a:lnTo>
                  <a:lnTo>
                    <a:pt x="8100" y="14676"/>
                  </a:lnTo>
                  <a:lnTo>
                    <a:pt x="8299" y="15138"/>
                  </a:lnTo>
                  <a:lnTo>
                    <a:pt x="8499" y="15692"/>
                  </a:lnTo>
                  <a:lnTo>
                    <a:pt x="8699" y="16246"/>
                  </a:lnTo>
                  <a:lnTo>
                    <a:pt x="8999" y="16615"/>
                  </a:lnTo>
                  <a:lnTo>
                    <a:pt x="9399" y="17168"/>
                  </a:lnTo>
                  <a:lnTo>
                    <a:pt x="9799" y="17630"/>
                  </a:lnTo>
                  <a:lnTo>
                    <a:pt x="10199" y="17999"/>
                  </a:lnTo>
                  <a:lnTo>
                    <a:pt x="10599" y="18461"/>
                  </a:lnTo>
                  <a:lnTo>
                    <a:pt x="10999" y="18923"/>
                  </a:lnTo>
                  <a:lnTo>
                    <a:pt x="11299" y="19292"/>
                  </a:lnTo>
                  <a:lnTo>
                    <a:pt x="11699" y="19661"/>
                  </a:lnTo>
                  <a:lnTo>
                    <a:pt x="12199" y="20030"/>
                  </a:lnTo>
                  <a:lnTo>
                    <a:pt x="12799" y="20399"/>
                  </a:lnTo>
                  <a:lnTo>
                    <a:pt x="13199" y="20584"/>
                  </a:lnTo>
                  <a:lnTo>
                    <a:pt x="13799" y="20953"/>
                  </a:lnTo>
                  <a:lnTo>
                    <a:pt x="14499" y="21138"/>
                  </a:lnTo>
                  <a:lnTo>
                    <a:pt x="14899" y="21322"/>
                  </a:lnTo>
                  <a:lnTo>
                    <a:pt x="15499" y="21507"/>
                  </a:lnTo>
                  <a:lnTo>
                    <a:pt x="15999" y="21600"/>
                  </a:lnTo>
                  <a:lnTo>
                    <a:pt x="16499" y="21507"/>
                  </a:lnTo>
                  <a:lnTo>
                    <a:pt x="16799" y="21600"/>
                  </a:lnTo>
                  <a:lnTo>
                    <a:pt x="17299" y="21600"/>
                  </a:lnTo>
                  <a:lnTo>
                    <a:pt x="17699" y="21507"/>
                  </a:lnTo>
                  <a:lnTo>
                    <a:pt x="18199" y="21322"/>
                  </a:lnTo>
                  <a:lnTo>
                    <a:pt x="18499" y="21230"/>
                  </a:lnTo>
                  <a:lnTo>
                    <a:pt x="18900" y="21045"/>
                  </a:lnTo>
                  <a:lnTo>
                    <a:pt x="19199" y="20953"/>
                  </a:lnTo>
                  <a:lnTo>
                    <a:pt x="19599" y="20769"/>
                  </a:lnTo>
                  <a:lnTo>
                    <a:pt x="19699" y="20399"/>
                  </a:lnTo>
                  <a:lnTo>
                    <a:pt x="20099" y="20215"/>
                  </a:lnTo>
                  <a:lnTo>
                    <a:pt x="20299" y="19845"/>
                  </a:lnTo>
                  <a:lnTo>
                    <a:pt x="20499" y="19569"/>
                  </a:lnTo>
                  <a:lnTo>
                    <a:pt x="20799" y="19199"/>
                  </a:lnTo>
                  <a:lnTo>
                    <a:pt x="20999" y="18830"/>
                  </a:lnTo>
                  <a:lnTo>
                    <a:pt x="20999" y="18461"/>
                  </a:lnTo>
                  <a:lnTo>
                    <a:pt x="21199" y="18092"/>
                  </a:lnTo>
                  <a:lnTo>
                    <a:pt x="21299" y="17630"/>
                  </a:lnTo>
                  <a:lnTo>
                    <a:pt x="21499" y="17261"/>
                  </a:lnTo>
                  <a:lnTo>
                    <a:pt x="21499" y="16799"/>
                  </a:lnTo>
                  <a:lnTo>
                    <a:pt x="21499" y="16338"/>
                  </a:lnTo>
                  <a:lnTo>
                    <a:pt x="21600" y="15784"/>
                  </a:lnTo>
                  <a:lnTo>
                    <a:pt x="21600" y="15322"/>
                  </a:lnTo>
                  <a:lnTo>
                    <a:pt x="21600" y="14861"/>
                  </a:lnTo>
                  <a:lnTo>
                    <a:pt x="21600" y="14307"/>
                  </a:lnTo>
                  <a:lnTo>
                    <a:pt x="21499" y="13846"/>
                  </a:lnTo>
                  <a:lnTo>
                    <a:pt x="21399" y="13292"/>
                  </a:lnTo>
                  <a:lnTo>
                    <a:pt x="21299" y="12738"/>
                  </a:lnTo>
                  <a:lnTo>
                    <a:pt x="21299" y="12553"/>
                  </a:lnTo>
                  <a:lnTo>
                    <a:pt x="21099" y="12369"/>
                  </a:lnTo>
                  <a:lnTo>
                    <a:pt x="21099" y="12091"/>
                  </a:lnTo>
                  <a:lnTo>
                    <a:pt x="20999" y="11815"/>
                  </a:lnTo>
                  <a:lnTo>
                    <a:pt x="20899" y="11538"/>
                  </a:lnTo>
                  <a:lnTo>
                    <a:pt x="20899" y="11169"/>
                  </a:lnTo>
                  <a:lnTo>
                    <a:pt x="20799" y="11076"/>
                  </a:lnTo>
                  <a:lnTo>
                    <a:pt x="20699" y="10800"/>
                  </a:lnTo>
                  <a:lnTo>
                    <a:pt x="20599" y="10430"/>
                  </a:lnTo>
                  <a:lnTo>
                    <a:pt x="20499" y="10153"/>
                  </a:lnTo>
                  <a:lnTo>
                    <a:pt x="20399" y="9969"/>
                  </a:lnTo>
                  <a:lnTo>
                    <a:pt x="20299" y="9692"/>
                  </a:lnTo>
                  <a:lnTo>
                    <a:pt x="20099" y="9322"/>
                  </a:lnTo>
                  <a:lnTo>
                    <a:pt x="20099" y="9045"/>
                  </a:lnTo>
                  <a:lnTo>
                    <a:pt x="19899" y="8676"/>
                  </a:lnTo>
                  <a:lnTo>
                    <a:pt x="19699" y="8492"/>
                  </a:lnTo>
                  <a:lnTo>
                    <a:pt x="19599" y="8215"/>
                  </a:lnTo>
                  <a:lnTo>
                    <a:pt x="19499" y="7938"/>
                  </a:lnTo>
                  <a:lnTo>
                    <a:pt x="19299" y="7569"/>
                  </a:lnTo>
                  <a:lnTo>
                    <a:pt x="19099" y="7384"/>
                  </a:lnTo>
                  <a:lnTo>
                    <a:pt x="18999" y="7015"/>
                  </a:lnTo>
                  <a:lnTo>
                    <a:pt x="18799" y="6738"/>
                  </a:lnTo>
                  <a:lnTo>
                    <a:pt x="18599" y="6461"/>
                  </a:lnTo>
                  <a:lnTo>
                    <a:pt x="18499" y="6184"/>
                  </a:lnTo>
                  <a:lnTo>
                    <a:pt x="18299" y="5815"/>
                  </a:lnTo>
                  <a:lnTo>
                    <a:pt x="17999" y="5538"/>
                  </a:lnTo>
                  <a:lnTo>
                    <a:pt x="17899" y="5353"/>
                  </a:lnTo>
                  <a:lnTo>
                    <a:pt x="17699" y="4984"/>
                  </a:lnTo>
                  <a:lnTo>
                    <a:pt x="17499" y="4707"/>
                  </a:lnTo>
                  <a:lnTo>
                    <a:pt x="17199" y="4430"/>
                  </a:lnTo>
                  <a:lnTo>
                    <a:pt x="17099" y="4153"/>
                  </a:lnTo>
                  <a:lnTo>
                    <a:pt x="16799" y="3968"/>
                  </a:lnTo>
                  <a:lnTo>
                    <a:pt x="16699" y="3876"/>
                  </a:lnTo>
                  <a:lnTo>
                    <a:pt x="16699" y="3876"/>
                  </a:lnTo>
                  <a:lnTo>
                    <a:pt x="16699" y="3968"/>
                  </a:lnTo>
                  <a:lnTo>
                    <a:pt x="16899" y="4153"/>
                  </a:lnTo>
                  <a:lnTo>
                    <a:pt x="16999" y="4153"/>
                  </a:lnTo>
                  <a:lnTo>
                    <a:pt x="17099" y="4430"/>
                  </a:lnTo>
                  <a:lnTo>
                    <a:pt x="17299" y="4707"/>
                  </a:lnTo>
                  <a:lnTo>
                    <a:pt x="17499" y="4984"/>
                  </a:lnTo>
                  <a:lnTo>
                    <a:pt x="17599" y="5261"/>
                  </a:lnTo>
                  <a:lnTo>
                    <a:pt x="17799" y="5538"/>
                  </a:lnTo>
                  <a:lnTo>
                    <a:pt x="17999" y="5907"/>
                  </a:lnTo>
                  <a:lnTo>
                    <a:pt x="18199" y="6184"/>
                  </a:lnTo>
                  <a:lnTo>
                    <a:pt x="18399" y="6553"/>
                  </a:lnTo>
                  <a:lnTo>
                    <a:pt x="18599" y="6830"/>
                  </a:lnTo>
                  <a:lnTo>
                    <a:pt x="18699" y="7015"/>
                  </a:lnTo>
                  <a:lnTo>
                    <a:pt x="18799" y="7199"/>
                  </a:lnTo>
                  <a:lnTo>
                    <a:pt x="19099" y="7753"/>
                  </a:lnTo>
                  <a:lnTo>
                    <a:pt x="19399" y="8307"/>
                  </a:lnTo>
                  <a:lnTo>
                    <a:pt x="19699" y="8953"/>
                  </a:lnTo>
                  <a:lnTo>
                    <a:pt x="19999" y="9599"/>
                  </a:lnTo>
                  <a:lnTo>
                    <a:pt x="20099" y="10153"/>
                  </a:lnTo>
                  <a:lnTo>
                    <a:pt x="20299" y="10892"/>
                  </a:lnTo>
                  <a:lnTo>
                    <a:pt x="20399" y="11445"/>
                  </a:lnTo>
                  <a:lnTo>
                    <a:pt x="20599" y="12091"/>
                  </a:lnTo>
                  <a:lnTo>
                    <a:pt x="20599" y="12738"/>
                  </a:lnTo>
                  <a:lnTo>
                    <a:pt x="20699" y="13384"/>
                  </a:lnTo>
                  <a:lnTo>
                    <a:pt x="20699" y="14122"/>
                  </a:lnTo>
                  <a:lnTo>
                    <a:pt x="20599" y="14584"/>
                  </a:lnTo>
                  <a:lnTo>
                    <a:pt x="20599" y="15230"/>
                  </a:lnTo>
                  <a:lnTo>
                    <a:pt x="20499" y="15876"/>
                  </a:lnTo>
                  <a:lnTo>
                    <a:pt x="20399" y="16430"/>
                  </a:lnTo>
                  <a:lnTo>
                    <a:pt x="20399" y="16984"/>
                  </a:lnTo>
                  <a:lnTo>
                    <a:pt x="20199" y="17538"/>
                  </a:lnTo>
                  <a:lnTo>
                    <a:pt x="19999" y="17907"/>
                  </a:lnTo>
                  <a:lnTo>
                    <a:pt x="19799" y="18369"/>
                  </a:lnTo>
                  <a:lnTo>
                    <a:pt x="19499" y="18830"/>
                  </a:lnTo>
                  <a:lnTo>
                    <a:pt x="19199" y="19107"/>
                  </a:lnTo>
                  <a:lnTo>
                    <a:pt x="18900" y="19384"/>
                  </a:lnTo>
                  <a:lnTo>
                    <a:pt x="18499" y="19569"/>
                  </a:lnTo>
                  <a:lnTo>
                    <a:pt x="17999" y="19753"/>
                  </a:lnTo>
                  <a:lnTo>
                    <a:pt x="17699" y="19753"/>
                  </a:lnTo>
                  <a:lnTo>
                    <a:pt x="17199" y="19845"/>
                  </a:lnTo>
                  <a:lnTo>
                    <a:pt x="16699" y="19845"/>
                  </a:lnTo>
                  <a:lnTo>
                    <a:pt x="16200" y="19845"/>
                  </a:lnTo>
                  <a:lnTo>
                    <a:pt x="15599" y="19569"/>
                  </a:lnTo>
                  <a:lnTo>
                    <a:pt x="14999" y="19292"/>
                  </a:lnTo>
                  <a:lnTo>
                    <a:pt x="14299" y="18830"/>
                  </a:lnTo>
                  <a:lnTo>
                    <a:pt x="13699" y="18553"/>
                  </a:lnTo>
                  <a:lnTo>
                    <a:pt x="13500" y="18369"/>
                  </a:lnTo>
                  <a:lnTo>
                    <a:pt x="13299" y="18184"/>
                  </a:lnTo>
                  <a:lnTo>
                    <a:pt x="13099" y="18092"/>
                  </a:lnTo>
                  <a:lnTo>
                    <a:pt x="12899" y="17815"/>
                  </a:lnTo>
                  <a:lnTo>
                    <a:pt x="12799" y="17630"/>
                  </a:lnTo>
                  <a:lnTo>
                    <a:pt x="12499" y="17538"/>
                  </a:lnTo>
                  <a:lnTo>
                    <a:pt x="12399" y="17353"/>
                  </a:lnTo>
                  <a:lnTo>
                    <a:pt x="12199" y="17076"/>
                  </a:lnTo>
                  <a:lnTo>
                    <a:pt x="12099" y="16984"/>
                  </a:lnTo>
                  <a:lnTo>
                    <a:pt x="11899" y="16707"/>
                  </a:lnTo>
                  <a:lnTo>
                    <a:pt x="11699" y="16430"/>
                  </a:lnTo>
                  <a:lnTo>
                    <a:pt x="11499" y="16246"/>
                  </a:lnTo>
                  <a:lnTo>
                    <a:pt x="11499" y="16061"/>
                  </a:lnTo>
                  <a:lnTo>
                    <a:pt x="11299" y="15784"/>
                  </a:lnTo>
                  <a:lnTo>
                    <a:pt x="11099" y="15507"/>
                  </a:lnTo>
                  <a:lnTo>
                    <a:pt x="10999" y="15322"/>
                  </a:lnTo>
                  <a:lnTo>
                    <a:pt x="10699" y="15046"/>
                  </a:lnTo>
                  <a:lnTo>
                    <a:pt x="10599" y="14768"/>
                  </a:lnTo>
                  <a:lnTo>
                    <a:pt x="10399" y="14676"/>
                  </a:lnTo>
                  <a:lnTo>
                    <a:pt x="10299" y="14399"/>
                  </a:lnTo>
                  <a:lnTo>
                    <a:pt x="10199" y="14122"/>
                  </a:lnTo>
                  <a:lnTo>
                    <a:pt x="10099" y="13938"/>
                  </a:lnTo>
                  <a:lnTo>
                    <a:pt x="9899" y="13753"/>
                  </a:lnTo>
                  <a:lnTo>
                    <a:pt x="9699" y="13476"/>
                  </a:lnTo>
                  <a:lnTo>
                    <a:pt x="9699" y="13292"/>
                  </a:lnTo>
                  <a:lnTo>
                    <a:pt x="9699" y="13107"/>
                  </a:lnTo>
                  <a:lnTo>
                    <a:pt x="9499" y="12830"/>
                  </a:lnTo>
                  <a:lnTo>
                    <a:pt x="9499" y="12646"/>
                  </a:lnTo>
                  <a:lnTo>
                    <a:pt x="9299" y="12461"/>
                  </a:lnTo>
                  <a:lnTo>
                    <a:pt x="9299" y="12276"/>
                  </a:lnTo>
                  <a:lnTo>
                    <a:pt x="9199" y="12091"/>
                  </a:lnTo>
                  <a:lnTo>
                    <a:pt x="9099" y="11907"/>
                  </a:lnTo>
                  <a:lnTo>
                    <a:pt x="8999" y="11815"/>
                  </a:lnTo>
                  <a:lnTo>
                    <a:pt x="8999" y="11630"/>
                  </a:lnTo>
                  <a:lnTo>
                    <a:pt x="8999" y="11445"/>
                  </a:lnTo>
                  <a:lnTo>
                    <a:pt x="8799" y="11169"/>
                  </a:lnTo>
                  <a:lnTo>
                    <a:pt x="8599" y="10984"/>
                  </a:lnTo>
                  <a:lnTo>
                    <a:pt x="8499" y="10615"/>
                  </a:lnTo>
                  <a:lnTo>
                    <a:pt x="8399" y="10430"/>
                  </a:lnTo>
                  <a:lnTo>
                    <a:pt x="8299" y="10061"/>
                  </a:lnTo>
                  <a:lnTo>
                    <a:pt x="8199" y="9784"/>
                  </a:lnTo>
                  <a:lnTo>
                    <a:pt x="8100" y="9415"/>
                  </a:lnTo>
                  <a:lnTo>
                    <a:pt x="7999" y="9138"/>
                  </a:lnTo>
                  <a:lnTo>
                    <a:pt x="7999" y="8953"/>
                  </a:lnTo>
                  <a:lnTo>
                    <a:pt x="7899" y="8676"/>
                  </a:lnTo>
                  <a:lnTo>
                    <a:pt x="7899" y="8584"/>
                  </a:lnTo>
                  <a:lnTo>
                    <a:pt x="7799" y="8492"/>
                  </a:lnTo>
                  <a:lnTo>
                    <a:pt x="7899" y="8307"/>
                  </a:lnTo>
                  <a:lnTo>
                    <a:pt x="7899" y="8215"/>
                  </a:lnTo>
                  <a:lnTo>
                    <a:pt x="7899" y="8215"/>
                  </a:lnTo>
                  <a:lnTo>
                    <a:pt x="7899" y="8123"/>
                  </a:lnTo>
                  <a:lnTo>
                    <a:pt x="7899" y="8123"/>
                  </a:lnTo>
                  <a:lnTo>
                    <a:pt x="7799" y="8123"/>
                  </a:lnTo>
                  <a:lnTo>
                    <a:pt x="7799" y="8123"/>
                  </a:lnTo>
                  <a:lnTo>
                    <a:pt x="7799" y="8123"/>
                  </a:lnTo>
                  <a:lnTo>
                    <a:pt x="7799" y="8123"/>
                  </a:lnTo>
                  <a:lnTo>
                    <a:pt x="7999" y="8123"/>
                  </a:lnTo>
                  <a:lnTo>
                    <a:pt x="8199" y="8307"/>
                  </a:lnTo>
                  <a:lnTo>
                    <a:pt x="8499" y="8492"/>
                  </a:lnTo>
                  <a:lnTo>
                    <a:pt x="8599" y="8769"/>
                  </a:lnTo>
                  <a:lnTo>
                    <a:pt x="8999" y="8861"/>
                  </a:lnTo>
                  <a:lnTo>
                    <a:pt x="9199" y="9138"/>
                  </a:lnTo>
                  <a:lnTo>
                    <a:pt x="9499" y="9322"/>
                  </a:lnTo>
                  <a:lnTo>
                    <a:pt x="9699" y="9599"/>
                  </a:lnTo>
                  <a:lnTo>
                    <a:pt x="9999" y="9784"/>
                  </a:lnTo>
                  <a:lnTo>
                    <a:pt x="10199" y="9969"/>
                  </a:lnTo>
                  <a:lnTo>
                    <a:pt x="10499" y="10061"/>
                  </a:lnTo>
                  <a:lnTo>
                    <a:pt x="10599" y="10153"/>
                  </a:lnTo>
                  <a:lnTo>
                    <a:pt x="10699" y="10153"/>
                  </a:lnTo>
                  <a:lnTo>
                    <a:pt x="10800" y="10245"/>
                  </a:lnTo>
                  <a:lnTo>
                    <a:pt x="10899" y="10153"/>
                  </a:lnTo>
                  <a:lnTo>
                    <a:pt x="10999" y="9969"/>
                  </a:lnTo>
                  <a:lnTo>
                    <a:pt x="10999" y="9692"/>
                  </a:lnTo>
                  <a:lnTo>
                    <a:pt x="10999" y="9507"/>
                  </a:lnTo>
                  <a:lnTo>
                    <a:pt x="10800" y="9322"/>
                  </a:lnTo>
                  <a:lnTo>
                    <a:pt x="10599" y="9045"/>
                  </a:lnTo>
                  <a:lnTo>
                    <a:pt x="10499" y="8861"/>
                  </a:lnTo>
                  <a:lnTo>
                    <a:pt x="10199" y="8676"/>
                  </a:lnTo>
                  <a:lnTo>
                    <a:pt x="10099" y="8492"/>
                  </a:lnTo>
                  <a:lnTo>
                    <a:pt x="9799" y="8399"/>
                  </a:lnTo>
                  <a:lnTo>
                    <a:pt x="9499" y="8123"/>
                  </a:lnTo>
                  <a:lnTo>
                    <a:pt x="9299" y="7938"/>
                  </a:lnTo>
                  <a:lnTo>
                    <a:pt x="8899" y="7753"/>
                  </a:lnTo>
                  <a:lnTo>
                    <a:pt x="8699" y="7569"/>
                  </a:lnTo>
                  <a:lnTo>
                    <a:pt x="8299" y="7384"/>
                  </a:lnTo>
                  <a:lnTo>
                    <a:pt x="8199" y="7384"/>
                  </a:lnTo>
                  <a:lnTo>
                    <a:pt x="7899" y="7107"/>
                  </a:lnTo>
                  <a:lnTo>
                    <a:pt x="7799" y="6830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未知"/>
            <p:cNvSpPr/>
            <p:nvPr/>
          </p:nvSpPr>
          <p:spPr>
            <a:xfrm>
              <a:off x="2621160" y="5283720"/>
              <a:ext cx="255960" cy="90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99" y="7845"/>
                  </a:moveTo>
                  <a:lnTo>
                    <a:pt x="20399" y="7661"/>
                  </a:lnTo>
                  <a:lnTo>
                    <a:pt x="20699" y="7384"/>
                  </a:lnTo>
                  <a:lnTo>
                    <a:pt x="20399" y="7199"/>
                  </a:lnTo>
                  <a:lnTo>
                    <a:pt x="20699" y="6923"/>
                  </a:lnTo>
                  <a:lnTo>
                    <a:pt x="20699" y="6645"/>
                  </a:lnTo>
                  <a:lnTo>
                    <a:pt x="20699" y="6461"/>
                  </a:lnTo>
                  <a:lnTo>
                    <a:pt x="20699" y="6092"/>
                  </a:lnTo>
                  <a:lnTo>
                    <a:pt x="20699" y="5815"/>
                  </a:lnTo>
                  <a:lnTo>
                    <a:pt x="20999" y="5538"/>
                  </a:lnTo>
                  <a:lnTo>
                    <a:pt x="20999" y="5261"/>
                  </a:lnTo>
                  <a:lnTo>
                    <a:pt x="20699" y="4984"/>
                  </a:lnTo>
                  <a:lnTo>
                    <a:pt x="20999" y="4707"/>
                  </a:lnTo>
                  <a:lnTo>
                    <a:pt x="20999" y="4338"/>
                  </a:lnTo>
                  <a:lnTo>
                    <a:pt x="20699" y="4061"/>
                  </a:lnTo>
                  <a:lnTo>
                    <a:pt x="20999" y="3784"/>
                  </a:lnTo>
                  <a:lnTo>
                    <a:pt x="20999" y="3507"/>
                  </a:lnTo>
                  <a:lnTo>
                    <a:pt x="20699" y="3230"/>
                  </a:lnTo>
                  <a:lnTo>
                    <a:pt x="20399" y="2861"/>
                  </a:lnTo>
                  <a:lnTo>
                    <a:pt x="20399" y="2584"/>
                  </a:lnTo>
                  <a:lnTo>
                    <a:pt x="20399" y="2307"/>
                  </a:lnTo>
                  <a:lnTo>
                    <a:pt x="20099" y="2122"/>
                  </a:lnTo>
                  <a:lnTo>
                    <a:pt x="19799" y="1846"/>
                  </a:lnTo>
                  <a:lnTo>
                    <a:pt x="19799" y="1569"/>
                  </a:lnTo>
                  <a:lnTo>
                    <a:pt x="19199" y="1291"/>
                  </a:lnTo>
                  <a:lnTo>
                    <a:pt x="18599" y="1107"/>
                  </a:lnTo>
                  <a:lnTo>
                    <a:pt x="18299" y="830"/>
                  </a:lnTo>
                  <a:lnTo>
                    <a:pt x="17999" y="738"/>
                  </a:lnTo>
                  <a:lnTo>
                    <a:pt x="17099" y="645"/>
                  </a:lnTo>
                  <a:lnTo>
                    <a:pt x="16799" y="461"/>
                  </a:lnTo>
                  <a:lnTo>
                    <a:pt x="15899" y="276"/>
                  </a:lnTo>
                  <a:lnTo>
                    <a:pt x="15299" y="184"/>
                  </a:lnTo>
                  <a:lnTo>
                    <a:pt x="14399" y="0"/>
                  </a:lnTo>
                  <a:lnTo>
                    <a:pt x="14099" y="92"/>
                  </a:lnTo>
                  <a:lnTo>
                    <a:pt x="13799" y="92"/>
                  </a:lnTo>
                  <a:lnTo>
                    <a:pt x="13199" y="92"/>
                  </a:lnTo>
                  <a:lnTo>
                    <a:pt x="12899" y="184"/>
                  </a:lnTo>
                  <a:lnTo>
                    <a:pt x="12599" y="461"/>
                  </a:lnTo>
                  <a:lnTo>
                    <a:pt x="12299" y="645"/>
                  </a:lnTo>
                  <a:lnTo>
                    <a:pt x="11999" y="830"/>
                  </a:lnTo>
                  <a:lnTo>
                    <a:pt x="11699" y="1107"/>
                  </a:lnTo>
                  <a:lnTo>
                    <a:pt x="11399" y="1384"/>
                  </a:lnTo>
                  <a:lnTo>
                    <a:pt x="11399" y="1753"/>
                  </a:lnTo>
                  <a:lnTo>
                    <a:pt x="11399" y="2122"/>
                  </a:lnTo>
                  <a:lnTo>
                    <a:pt x="11699" y="2492"/>
                  </a:lnTo>
                  <a:lnTo>
                    <a:pt x="11699" y="2861"/>
                  </a:lnTo>
                  <a:lnTo>
                    <a:pt x="11699" y="3230"/>
                  </a:lnTo>
                  <a:lnTo>
                    <a:pt x="11999" y="3784"/>
                  </a:lnTo>
                  <a:lnTo>
                    <a:pt x="11999" y="4246"/>
                  </a:lnTo>
                  <a:lnTo>
                    <a:pt x="12299" y="4615"/>
                  </a:lnTo>
                  <a:lnTo>
                    <a:pt x="12599" y="5076"/>
                  </a:lnTo>
                  <a:lnTo>
                    <a:pt x="12899" y="5630"/>
                  </a:lnTo>
                  <a:lnTo>
                    <a:pt x="12899" y="5999"/>
                  </a:lnTo>
                  <a:lnTo>
                    <a:pt x="13199" y="6461"/>
                  </a:lnTo>
                  <a:lnTo>
                    <a:pt x="13199" y="7015"/>
                  </a:lnTo>
                  <a:lnTo>
                    <a:pt x="13500" y="7384"/>
                  </a:lnTo>
                  <a:lnTo>
                    <a:pt x="13799" y="7845"/>
                  </a:lnTo>
                  <a:lnTo>
                    <a:pt x="14099" y="8215"/>
                  </a:lnTo>
                  <a:lnTo>
                    <a:pt x="14399" y="8861"/>
                  </a:lnTo>
                  <a:lnTo>
                    <a:pt x="14399" y="9045"/>
                  </a:lnTo>
                  <a:lnTo>
                    <a:pt x="14699" y="9507"/>
                  </a:lnTo>
                  <a:lnTo>
                    <a:pt x="14999" y="9876"/>
                  </a:lnTo>
                  <a:lnTo>
                    <a:pt x="15299" y="10245"/>
                  </a:lnTo>
                  <a:lnTo>
                    <a:pt x="14999" y="10522"/>
                  </a:lnTo>
                  <a:lnTo>
                    <a:pt x="15299" y="10707"/>
                  </a:lnTo>
                  <a:lnTo>
                    <a:pt x="15599" y="11261"/>
                  </a:lnTo>
                  <a:lnTo>
                    <a:pt x="15599" y="11722"/>
                  </a:lnTo>
                  <a:lnTo>
                    <a:pt x="15899" y="12091"/>
                  </a:lnTo>
                  <a:lnTo>
                    <a:pt x="16200" y="12553"/>
                  </a:lnTo>
                  <a:lnTo>
                    <a:pt x="16200" y="12922"/>
                  </a:lnTo>
                  <a:lnTo>
                    <a:pt x="16200" y="13384"/>
                  </a:lnTo>
                  <a:lnTo>
                    <a:pt x="16499" y="13661"/>
                  </a:lnTo>
                  <a:lnTo>
                    <a:pt x="16499" y="14030"/>
                  </a:lnTo>
                  <a:lnTo>
                    <a:pt x="16499" y="14399"/>
                  </a:lnTo>
                  <a:lnTo>
                    <a:pt x="16200" y="14768"/>
                  </a:lnTo>
                  <a:lnTo>
                    <a:pt x="16200" y="15046"/>
                  </a:lnTo>
                  <a:lnTo>
                    <a:pt x="15899" y="15322"/>
                  </a:lnTo>
                  <a:lnTo>
                    <a:pt x="15599" y="15599"/>
                  </a:lnTo>
                  <a:lnTo>
                    <a:pt x="15599" y="15876"/>
                  </a:lnTo>
                  <a:lnTo>
                    <a:pt x="15299" y="16153"/>
                  </a:lnTo>
                  <a:lnTo>
                    <a:pt x="15299" y="16522"/>
                  </a:lnTo>
                  <a:lnTo>
                    <a:pt x="14699" y="16615"/>
                  </a:lnTo>
                  <a:lnTo>
                    <a:pt x="14399" y="16892"/>
                  </a:lnTo>
                  <a:lnTo>
                    <a:pt x="14099" y="17168"/>
                  </a:lnTo>
                  <a:lnTo>
                    <a:pt x="13799" y="17445"/>
                  </a:lnTo>
                  <a:lnTo>
                    <a:pt x="13500" y="17630"/>
                  </a:lnTo>
                  <a:lnTo>
                    <a:pt x="12899" y="17907"/>
                  </a:lnTo>
                  <a:lnTo>
                    <a:pt x="11999" y="18092"/>
                  </a:lnTo>
                  <a:lnTo>
                    <a:pt x="11699" y="18369"/>
                  </a:lnTo>
                  <a:lnTo>
                    <a:pt x="11399" y="18461"/>
                  </a:lnTo>
                  <a:lnTo>
                    <a:pt x="10800" y="18645"/>
                  </a:lnTo>
                  <a:lnTo>
                    <a:pt x="9899" y="18923"/>
                  </a:lnTo>
                  <a:lnTo>
                    <a:pt x="9299" y="19107"/>
                  </a:lnTo>
                  <a:lnTo>
                    <a:pt x="8699" y="19292"/>
                  </a:lnTo>
                  <a:lnTo>
                    <a:pt x="7799" y="19569"/>
                  </a:lnTo>
                  <a:lnTo>
                    <a:pt x="7499" y="19661"/>
                  </a:lnTo>
                  <a:lnTo>
                    <a:pt x="6599" y="19938"/>
                  </a:lnTo>
                  <a:lnTo>
                    <a:pt x="5999" y="20030"/>
                  </a:lnTo>
                  <a:lnTo>
                    <a:pt x="5699" y="20122"/>
                  </a:lnTo>
                  <a:lnTo>
                    <a:pt x="5099" y="20307"/>
                  </a:lnTo>
                  <a:lnTo>
                    <a:pt x="4199" y="20399"/>
                  </a:lnTo>
                  <a:lnTo>
                    <a:pt x="3599" y="20584"/>
                  </a:lnTo>
                  <a:lnTo>
                    <a:pt x="3299" y="20676"/>
                  </a:lnTo>
                  <a:lnTo>
                    <a:pt x="2700" y="20861"/>
                  </a:lnTo>
                  <a:lnTo>
                    <a:pt x="1799" y="21045"/>
                  </a:lnTo>
                  <a:lnTo>
                    <a:pt x="1499" y="21230"/>
                  </a:lnTo>
                  <a:lnTo>
                    <a:pt x="899" y="21322"/>
                  </a:lnTo>
                  <a:lnTo>
                    <a:pt x="599" y="21415"/>
                  </a:lnTo>
                  <a:lnTo>
                    <a:pt x="0" y="21507"/>
                  </a:lnTo>
                  <a:lnTo>
                    <a:pt x="0" y="21600"/>
                  </a:lnTo>
                  <a:lnTo>
                    <a:pt x="0" y="21600"/>
                  </a:lnTo>
                  <a:lnTo>
                    <a:pt x="0" y="21507"/>
                  </a:lnTo>
                  <a:lnTo>
                    <a:pt x="299" y="21415"/>
                  </a:lnTo>
                  <a:lnTo>
                    <a:pt x="1199" y="21230"/>
                  </a:lnTo>
                  <a:lnTo>
                    <a:pt x="1799" y="21045"/>
                  </a:lnTo>
                  <a:lnTo>
                    <a:pt x="2700" y="20861"/>
                  </a:lnTo>
                  <a:lnTo>
                    <a:pt x="3599" y="20676"/>
                  </a:lnTo>
                  <a:lnTo>
                    <a:pt x="4199" y="20492"/>
                  </a:lnTo>
                  <a:lnTo>
                    <a:pt x="5099" y="20492"/>
                  </a:lnTo>
                  <a:lnTo>
                    <a:pt x="5999" y="20307"/>
                  </a:lnTo>
                  <a:lnTo>
                    <a:pt x="6899" y="20215"/>
                  </a:lnTo>
                  <a:lnTo>
                    <a:pt x="7799" y="20030"/>
                  </a:lnTo>
                  <a:lnTo>
                    <a:pt x="8399" y="19845"/>
                  </a:lnTo>
                  <a:lnTo>
                    <a:pt x="9299" y="19753"/>
                  </a:lnTo>
                  <a:lnTo>
                    <a:pt x="9899" y="19569"/>
                  </a:lnTo>
                  <a:lnTo>
                    <a:pt x="10499" y="19476"/>
                  </a:lnTo>
                  <a:lnTo>
                    <a:pt x="11399" y="19199"/>
                  </a:lnTo>
                  <a:lnTo>
                    <a:pt x="12299" y="19015"/>
                  </a:lnTo>
                  <a:lnTo>
                    <a:pt x="12599" y="18923"/>
                  </a:lnTo>
                  <a:lnTo>
                    <a:pt x="13799" y="18738"/>
                  </a:lnTo>
                  <a:lnTo>
                    <a:pt x="14699" y="18553"/>
                  </a:lnTo>
                  <a:lnTo>
                    <a:pt x="14999" y="18369"/>
                  </a:lnTo>
                  <a:lnTo>
                    <a:pt x="15899" y="18184"/>
                  </a:lnTo>
                  <a:lnTo>
                    <a:pt x="16799" y="17999"/>
                  </a:lnTo>
                  <a:lnTo>
                    <a:pt x="16799" y="17907"/>
                  </a:lnTo>
                  <a:lnTo>
                    <a:pt x="17699" y="17630"/>
                  </a:lnTo>
                  <a:lnTo>
                    <a:pt x="17999" y="17353"/>
                  </a:lnTo>
                  <a:lnTo>
                    <a:pt x="18900" y="17076"/>
                  </a:lnTo>
                  <a:lnTo>
                    <a:pt x="19199" y="16892"/>
                  </a:lnTo>
                  <a:lnTo>
                    <a:pt x="19799" y="16615"/>
                  </a:lnTo>
                  <a:lnTo>
                    <a:pt x="20099" y="16246"/>
                  </a:lnTo>
                  <a:lnTo>
                    <a:pt x="20099" y="16061"/>
                  </a:lnTo>
                  <a:lnTo>
                    <a:pt x="20699" y="15784"/>
                  </a:lnTo>
                  <a:lnTo>
                    <a:pt x="20699" y="15415"/>
                  </a:lnTo>
                  <a:lnTo>
                    <a:pt x="20999" y="14953"/>
                  </a:lnTo>
                  <a:lnTo>
                    <a:pt x="20999" y="14768"/>
                  </a:lnTo>
                  <a:lnTo>
                    <a:pt x="20999" y="14676"/>
                  </a:lnTo>
                  <a:lnTo>
                    <a:pt x="20999" y="14492"/>
                  </a:lnTo>
                  <a:lnTo>
                    <a:pt x="20999" y="14215"/>
                  </a:lnTo>
                  <a:lnTo>
                    <a:pt x="21299" y="14030"/>
                  </a:lnTo>
                  <a:lnTo>
                    <a:pt x="21299" y="13753"/>
                  </a:lnTo>
                  <a:lnTo>
                    <a:pt x="21299" y="13569"/>
                  </a:lnTo>
                  <a:lnTo>
                    <a:pt x="21299" y="13292"/>
                  </a:lnTo>
                  <a:lnTo>
                    <a:pt x="21299" y="13107"/>
                  </a:lnTo>
                  <a:lnTo>
                    <a:pt x="21299" y="12922"/>
                  </a:lnTo>
                  <a:lnTo>
                    <a:pt x="21600" y="12553"/>
                  </a:lnTo>
                  <a:lnTo>
                    <a:pt x="21299" y="12369"/>
                  </a:lnTo>
                  <a:lnTo>
                    <a:pt x="21600" y="12091"/>
                  </a:lnTo>
                  <a:lnTo>
                    <a:pt x="21299" y="11815"/>
                  </a:lnTo>
                  <a:lnTo>
                    <a:pt x="20999" y="11538"/>
                  </a:lnTo>
                  <a:lnTo>
                    <a:pt x="21299" y="11445"/>
                  </a:lnTo>
                  <a:lnTo>
                    <a:pt x="21299" y="11169"/>
                  </a:lnTo>
                  <a:lnTo>
                    <a:pt x="21299" y="10892"/>
                  </a:lnTo>
                  <a:lnTo>
                    <a:pt x="20999" y="10707"/>
                  </a:lnTo>
                  <a:lnTo>
                    <a:pt x="21299" y="10522"/>
                  </a:lnTo>
                  <a:lnTo>
                    <a:pt x="20999" y="10245"/>
                  </a:lnTo>
                  <a:lnTo>
                    <a:pt x="21299" y="9969"/>
                  </a:lnTo>
                  <a:lnTo>
                    <a:pt x="20999" y="9876"/>
                  </a:lnTo>
                  <a:lnTo>
                    <a:pt x="20999" y="9599"/>
                  </a:lnTo>
                  <a:lnTo>
                    <a:pt x="20699" y="9322"/>
                  </a:lnTo>
                  <a:lnTo>
                    <a:pt x="20699" y="9138"/>
                  </a:lnTo>
                  <a:lnTo>
                    <a:pt x="20699" y="8861"/>
                  </a:lnTo>
                  <a:lnTo>
                    <a:pt x="20699" y="8676"/>
                  </a:lnTo>
                  <a:lnTo>
                    <a:pt x="20399" y="8492"/>
                  </a:lnTo>
                  <a:lnTo>
                    <a:pt x="20699" y="8307"/>
                  </a:lnTo>
                  <a:lnTo>
                    <a:pt x="20399" y="8030"/>
                  </a:lnTo>
                  <a:lnTo>
                    <a:pt x="20699" y="7845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未知"/>
            <p:cNvSpPr/>
            <p:nvPr/>
          </p:nvSpPr>
          <p:spPr>
            <a:xfrm>
              <a:off x="2156760" y="5259960"/>
              <a:ext cx="553680" cy="696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845" y="1079"/>
                  </a:moveTo>
                  <a:lnTo>
                    <a:pt x="11705" y="1319"/>
                  </a:lnTo>
                  <a:lnTo>
                    <a:pt x="11287" y="1559"/>
                  </a:lnTo>
                  <a:lnTo>
                    <a:pt x="11008" y="1799"/>
                  </a:lnTo>
                  <a:lnTo>
                    <a:pt x="10590" y="1919"/>
                  </a:lnTo>
                  <a:lnTo>
                    <a:pt x="10172" y="2159"/>
                  </a:lnTo>
                  <a:lnTo>
                    <a:pt x="9754" y="2399"/>
                  </a:lnTo>
                  <a:lnTo>
                    <a:pt x="9615" y="2519"/>
                  </a:lnTo>
                  <a:lnTo>
                    <a:pt x="9197" y="2759"/>
                  </a:lnTo>
                  <a:lnTo>
                    <a:pt x="8779" y="2879"/>
                  </a:lnTo>
                  <a:lnTo>
                    <a:pt x="8361" y="3119"/>
                  </a:lnTo>
                  <a:lnTo>
                    <a:pt x="8082" y="3239"/>
                  </a:lnTo>
                  <a:lnTo>
                    <a:pt x="7524" y="3359"/>
                  </a:lnTo>
                  <a:lnTo>
                    <a:pt x="7246" y="3599"/>
                  </a:lnTo>
                  <a:lnTo>
                    <a:pt x="6828" y="3719"/>
                  </a:lnTo>
                  <a:lnTo>
                    <a:pt x="6410" y="3959"/>
                  </a:lnTo>
                  <a:lnTo>
                    <a:pt x="5991" y="4199"/>
                  </a:lnTo>
                  <a:lnTo>
                    <a:pt x="5574" y="4319"/>
                  </a:lnTo>
                  <a:lnTo>
                    <a:pt x="5295" y="4559"/>
                  </a:lnTo>
                  <a:lnTo>
                    <a:pt x="4877" y="4799"/>
                  </a:lnTo>
                  <a:lnTo>
                    <a:pt x="4459" y="4919"/>
                  </a:lnTo>
                  <a:lnTo>
                    <a:pt x="4041" y="5159"/>
                  </a:lnTo>
                  <a:lnTo>
                    <a:pt x="3762" y="5279"/>
                  </a:lnTo>
                  <a:lnTo>
                    <a:pt x="3344" y="5519"/>
                  </a:lnTo>
                  <a:lnTo>
                    <a:pt x="2926" y="5759"/>
                  </a:lnTo>
                  <a:lnTo>
                    <a:pt x="2508" y="5879"/>
                  </a:lnTo>
                  <a:lnTo>
                    <a:pt x="2229" y="6119"/>
                  </a:lnTo>
                  <a:lnTo>
                    <a:pt x="1811" y="6239"/>
                  </a:lnTo>
                  <a:lnTo>
                    <a:pt x="1393" y="6479"/>
                  </a:lnTo>
                  <a:lnTo>
                    <a:pt x="1114" y="6599"/>
                  </a:lnTo>
                  <a:lnTo>
                    <a:pt x="696" y="6839"/>
                  </a:lnTo>
                  <a:lnTo>
                    <a:pt x="417" y="7079"/>
                  </a:lnTo>
                  <a:lnTo>
                    <a:pt x="0" y="7319"/>
                  </a:lnTo>
                  <a:lnTo>
                    <a:pt x="0" y="7319"/>
                  </a:lnTo>
                  <a:lnTo>
                    <a:pt x="139" y="7319"/>
                  </a:lnTo>
                  <a:lnTo>
                    <a:pt x="417" y="7199"/>
                  </a:lnTo>
                  <a:lnTo>
                    <a:pt x="696" y="7199"/>
                  </a:lnTo>
                  <a:lnTo>
                    <a:pt x="1254" y="7079"/>
                  </a:lnTo>
                  <a:lnTo>
                    <a:pt x="1532" y="6959"/>
                  </a:lnTo>
                  <a:lnTo>
                    <a:pt x="2090" y="6839"/>
                  </a:lnTo>
                  <a:lnTo>
                    <a:pt x="2647" y="6719"/>
                  </a:lnTo>
                  <a:lnTo>
                    <a:pt x="3344" y="6479"/>
                  </a:lnTo>
                  <a:lnTo>
                    <a:pt x="3623" y="6479"/>
                  </a:lnTo>
                  <a:lnTo>
                    <a:pt x="4180" y="6239"/>
                  </a:lnTo>
                  <a:lnTo>
                    <a:pt x="4877" y="5999"/>
                  </a:lnTo>
                  <a:lnTo>
                    <a:pt x="5434" y="5879"/>
                  </a:lnTo>
                  <a:lnTo>
                    <a:pt x="5852" y="5759"/>
                  </a:lnTo>
                  <a:lnTo>
                    <a:pt x="5991" y="5639"/>
                  </a:lnTo>
                  <a:lnTo>
                    <a:pt x="6410" y="5279"/>
                  </a:lnTo>
                  <a:lnTo>
                    <a:pt x="6689" y="5279"/>
                  </a:lnTo>
                  <a:lnTo>
                    <a:pt x="6967" y="5039"/>
                  </a:lnTo>
                  <a:lnTo>
                    <a:pt x="7106" y="4919"/>
                  </a:lnTo>
                  <a:lnTo>
                    <a:pt x="7524" y="4559"/>
                  </a:lnTo>
                  <a:lnTo>
                    <a:pt x="7803" y="4559"/>
                  </a:lnTo>
                  <a:lnTo>
                    <a:pt x="7803" y="4319"/>
                  </a:lnTo>
                  <a:lnTo>
                    <a:pt x="8221" y="4079"/>
                  </a:lnTo>
                  <a:lnTo>
                    <a:pt x="8639" y="3959"/>
                  </a:lnTo>
                  <a:lnTo>
                    <a:pt x="9057" y="3719"/>
                  </a:lnTo>
                  <a:lnTo>
                    <a:pt x="9336" y="3599"/>
                  </a:lnTo>
                  <a:lnTo>
                    <a:pt x="9754" y="3359"/>
                  </a:lnTo>
                  <a:lnTo>
                    <a:pt x="10033" y="3239"/>
                  </a:lnTo>
                  <a:lnTo>
                    <a:pt x="10451" y="3119"/>
                  </a:lnTo>
                  <a:lnTo>
                    <a:pt x="10869" y="2879"/>
                  </a:lnTo>
                  <a:lnTo>
                    <a:pt x="11148" y="2759"/>
                  </a:lnTo>
                  <a:lnTo>
                    <a:pt x="11566" y="2639"/>
                  </a:lnTo>
                  <a:lnTo>
                    <a:pt x="11845" y="2519"/>
                  </a:lnTo>
                  <a:lnTo>
                    <a:pt x="12123" y="2399"/>
                  </a:lnTo>
                  <a:lnTo>
                    <a:pt x="12541" y="2279"/>
                  </a:lnTo>
                  <a:lnTo>
                    <a:pt x="12959" y="2279"/>
                  </a:lnTo>
                  <a:lnTo>
                    <a:pt x="13378" y="2159"/>
                  </a:lnTo>
                  <a:lnTo>
                    <a:pt x="13656" y="2159"/>
                  </a:lnTo>
                  <a:lnTo>
                    <a:pt x="14074" y="2039"/>
                  </a:lnTo>
                  <a:lnTo>
                    <a:pt x="14213" y="2039"/>
                  </a:lnTo>
                  <a:lnTo>
                    <a:pt x="14632" y="2039"/>
                  </a:lnTo>
                  <a:lnTo>
                    <a:pt x="14910" y="2039"/>
                  </a:lnTo>
                  <a:lnTo>
                    <a:pt x="15189" y="2039"/>
                  </a:lnTo>
                  <a:lnTo>
                    <a:pt x="15468" y="2159"/>
                  </a:lnTo>
                  <a:lnTo>
                    <a:pt x="15746" y="2279"/>
                  </a:lnTo>
                  <a:lnTo>
                    <a:pt x="16025" y="2399"/>
                  </a:lnTo>
                  <a:lnTo>
                    <a:pt x="16304" y="2519"/>
                  </a:lnTo>
                  <a:lnTo>
                    <a:pt x="16582" y="2639"/>
                  </a:lnTo>
                  <a:lnTo>
                    <a:pt x="16861" y="3119"/>
                  </a:lnTo>
                  <a:lnTo>
                    <a:pt x="17001" y="3479"/>
                  </a:lnTo>
                  <a:lnTo>
                    <a:pt x="17279" y="3839"/>
                  </a:lnTo>
                  <a:lnTo>
                    <a:pt x="17558" y="4079"/>
                  </a:lnTo>
                  <a:lnTo>
                    <a:pt x="17697" y="4559"/>
                  </a:lnTo>
                  <a:lnTo>
                    <a:pt x="17837" y="5039"/>
                  </a:lnTo>
                  <a:lnTo>
                    <a:pt x="18115" y="5400"/>
                  </a:lnTo>
                  <a:lnTo>
                    <a:pt x="18255" y="5759"/>
                  </a:lnTo>
                  <a:lnTo>
                    <a:pt x="18255" y="6119"/>
                  </a:lnTo>
                  <a:lnTo>
                    <a:pt x="18394" y="6599"/>
                  </a:lnTo>
                  <a:lnTo>
                    <a:pt x="18534" y="7079"/>
                  </a:lnTo>
                  <a:lnTo>
                    <a:pt x="18673" y="7439"/>
                  </a:lnTo>
                  <a:lnTo>
                    <a:pt x="18673" y="7919"/>
                  </a:lnTo>
                  <a:lnTo>
                    <a:pt x="18673" y="8399"/>
                  </a:lnTo>
                  <a:lnTo>
                    <a:pt x="18812" y="8879"/>
                  </a:lnTo>
                  <a:lnTo>
                    <a:pt x="18812" y="9359"/>
                  </a:lnTo>
                  <a:lnTo>
                    <a:pt x="18812" y="9719"/>
                  </a:lnTo>
                  <a:lnTo>
                    <a:pt x="18673" y="10199"/>
                  </a:lnTo>
                  <a:lnTo>
                    <a:pt x="18812" y="10679"/>
                  </a:lnTo>
                  <a:lnTo>
                    <a:pt x="18812" y="11159"/>
                  </a:lnTo>
                  <a:lnTo>
                    <a:pt x="18812" y="11639"/>
                  </a:lnTo>
                  <a:lnTo>
                    <a:pt x="18673" y="11999"/>
                  </a:lnTo>
                  <a:lnTo>
                    <a:pt x="18673" y="12239"/>
                  </a:lnTo>
                  <a:lnTo>
                    <a:pt x="18673" y="12719"/>
                  </a:lnTo>
                  <a:lnTo>
                    <a:pt x="18673" y="13079"/>
                  </a:lnTo>
                  <a:lnTo>
                    <a:pt x="18394" y="13559"/>
                  </a:lnTo>
                  <a:lnTo>
                    <a:pt x="18394" y="13919"/>
                  </a:lnTo>
                  <a:lnTo>
                    <a:pt x="18394" y="14279"/>
                  </a:lnTo>
                  <a:lnTo>
                    <a:pt x="18115" y="14639"/>
                  </a:lnTo>
                  <a:lnTo>
                    <a:pt x="18115" y="14999"/>
                  </a:lnTo>
                  <a:lnTo>
                    <a:pt x="18115" y="15479"/>
                  </a:lnTo>
                  <a:lnTo>
                    <a:pt x="17837" y="15719"/>
                  </a:lnTo>
                  <a:lnTo>
                    <a:pt x="17837" y="15719"/>
                  </a:lnTo>
                  <a:lnTo>
                    <a:pt x="17558" y="15599"/>
                  </a:lnTo>
                  <a:lnTo>
                    <a:pt x="17419" y="15359"/>
                  </a:lnTo>
                  <a:lnTo>
                    <a:pt x="17001" y="15119"/>
                  </a:lnTo>
                  <a:lnTo>
                    <a:pt x="16582" y="14759"/>
                  </a:lnTo>
                  <a:lnTo>
                    <a:pt x="16025" y="14279"/>
                  </a:lnTo>
                  <a:lnTo>
                    <a:pt x="15607" y="13919"/>
                  </a:lnTo>
                  <a:lnTo>
                    <a:pt x="15050" y="13559"/>
                  </a:lnTo>
                  <a:lnTo>
                    <a:pt x="14492" y="13079"/>
                  </a:lnTo>
                  <a:lnTo>
                    <a:pt x="14074" y="12839"/>
                  </a:lnTo>
                  <a:lnTo>
                    <a:pt x="13656" y="12599"/>
                  </a:lnTo>
                  <a:lnTo>
                    <a:pt x="13378" y="12479"/>
                  </a:lnTo>
                  <a:lnTo>
                    <a:pt x="13099" y="12359"/>
                  </a:lnTo>
                  <a:lnTo>
                    <a:pt x="12820" y="12599"/>
                  </a:lnTo>
                  <a:lnTo>
                    <a:pt x="12680" y="12719"/>
                  </a:lnTo>
                  <a:lnTo>
                    <a:pt x="12820" y="13199"/>
                  </a:lnTo>
                  <a:lnTo>
                    <a:pt x="12959" y="13919"/>
                  </a:lnTo>
                  <a:lnTo>
                    <a:pt x="13099" y="14519"/>
                  </a:lnTo>
                  <a:lnTo>
                    <a:pt x="13378" y="14879"/>
                  </a:lnTo>
                  <a:lnTo>
                    <a:pt x="13656" y="15359"/>
                  </a:lnTo>
                  <a:lnTo>
                    <a:pt x="14074" y="15839"/>
                  </a:lnTo>
                  <a:lnTo>
                    <a:pt x="14353" y="16200"/>
                  </a:lnTo>
                  <a:lnTo>
                    <a:pt x="14632" y="16439"/>
                  </a:lnTo>
                  <a:lnTo>
                    <a:pt x="15189" y="16799"/>
                  </a:lnTo>
                  <a:lnTo>
                    <a:pt x="15468" y="17279"/>
                  </a:lnTo>
                  <a:lnTo>
                    <a:pt x="15746" y="17519"/>
                  </a:lnTo>
                  <a:lnTo>
                    <a:pt x="16165" y="17999"/>
                  </a:lnTo>
                  <a:lnTo>
                    <a:pt x="16304" y="18239"/>
                  </a:lnTo>
                  <a:lnTo>
                    <a:pt x="16722" y="18599"/>
                  </a:lnTo>
                  <a:lnTo>
                    <a:pt x="17001" y="19079"/>
                  </a:lnTo>
                  <a:lnTo>
                    <a:pt x="17140" y="19559"/>
                  </a:lnTo>
                  <a:lnTo>
                    <a:pt x="17419" y="19919"/>
                  </a:lnTo>
                  <a:lnTo>
                    <a:pt x="17558" y="20279"/>
                  </a:lnTo>
                  <a:lnTo>
                    <a:pt x="17837" y="20639"/>
                  </a:lnTo>
                  <a:lnTo>
                    <a:pt x="18115" y="20879"/>
                  </a:lnTo>
                  <a:lnTo>
                    <a:pt x="18394" y="21119"/>
                  </a:lnTo>
                  <a:lnTo>
                    <a:pt x="18952" y="21239"/>
                  </a:lnTo>
                  <a:lnTo>
                    <a:pt x="19091" y="21479"/>
                  </a:lnTo>
                  <a:lnTo>
                    <a:pt x="19509" y="21479"/>
                  </a:lnTo>
                  <a:lnTo>
                    <a:pt x="19927" y="21479"/>
                  </a:lnTo>
                  <a:lnTo>
                    <a:pt x="20345" y="21479"/>
                  </a:lnTo>
                  <a:lnTo>
                    <a:pt x="20763" y="21600"/>
                  </a:lnTo>
                  <a:lnTo>
                    <a:pt x="21181" y="21479"/>
                  </a:lnTo>
                  <a:lnTo>
                    <a:pt x="21460" y="21600"/>
                  </a:lnTo>
                  <a:lnTo>
                    <a:pt x="21321" y="21479"/>
                  </a:lnTo>
                  <a:lnTo>
                    <a:pt x="21600" y="21359"/>
                  </a:lnTo>
                  <a:lnTo>
                    <a:pt x="21600" y="21359"/>
                  </a:lnTo>
                  <a:lnTo>
                    <a:pt x="21600" y="21239"/>
                  </a:lnTo>
                  <a:lnTo>
                    <a:pt x="21600" y="20879"/>
                  </a:lnTo>
                  <a:lnTo>
                    <a:pt x="21321" y="20639"/>
                  </a:lnTo>
                  <a:lnTo>
                    <a:pt x="21321" y="20159"/>
                  </a:lnTo>
                  <a:lnTo>
                    <a:pt x="21181" y="19679"/>
                  </a:lnTo>
                  <a:lnTo>
                    <a:pt x="21181" y="19079"/>
                  </a:lnTo>
                  <a:lnTo>
                    <a:pt x="21321" y="18599"/>
                  </a:lnTo>
                  <a:lnTo>
                    <a:pt x="21321" y="17999"/>
                  </a:lnTo>
                  <a:lnTo>
                    <a:pt x="21321" y="17519"/>
                  </a:lnTo>
                  <a:lnTo>
                    <a:pt x="21321" y="17039"/>
                  </a:lnTo>
                  <a:lnTo>
                    <a:pt x="21321" y="16439"/>
                  </a:lnTo>
                  <a:lnTo>
                    <a:pt x="21460" y="15959"/>
                  </a:lnTo>
                  <a:lnTo>
                    <a:pt x="21460" y="15359"/>
                  </a:lnTo>
                  <a:lnTo>
                    <a:pt x="21460" y="14999"/>
                  </a:lnTo>
                  <a:lnTo>
                    <a:pt x="21600" y="14519"/>
                  </a:lnTo>
                  <a:lnTo>
                    <a:pt x="21460" y="14159"/>
                  </a:lnTo>
                  <a:lnTo>
                    <a:pt x="21600" y="13919"/>
                  </a:lnTo>
                  <a:lnTo>
                    <a:pt x="21460" y="13559"/>
                  </a:lnTo>
                  <a:lnTo>
                    <a:pt x="21321" y="13319"/>
                  </a:lnTo>
                  <a:lnTo>
                    <a:pt x="21460" y="12959"/>
                  </a:lnTo>
                  <a:lnTo>
                    <a:pt x="21460" y="12839"/>
                  </a:lnTo>
                  <a:lnTo>
                    <a:pt x="21460" y="12479"/>
                  </a:lnTo>
                  <a:lnTo>
                    <a:pt x="21460" y="12239"/>
                  </a:lnTo>
                  <a:lnTo>
                    <a:pt x="21321" y="11999"/>
                  </a:lnTo>
                  <a:lnTo>
                    <a:pt x="21321" y="11759"/>
                  </a:lnTo>
                  <a:lnTo>
                    <a:pt x="21181" y="11399"/>
                  </a:lnTo>
                  <a:lnTo>
                    <a:pt x="21042" y="11159"/>
                  </a:lnTo>
                  <a:lnTo>
                    <a:pt x="21181" y="10919"/>
                  </a:lnTo>
                  <a:lnTo>
                    <a:pt x="21181" y="10679"/>
                  </a:lnTo>
                  <a:lnTo>
                    <a:pt x="21042" y="10319"/>
                  </a:lnTo>
                  <a:lnTo>
                    <a:pt x="21042" y="9959"/>
                  </a:lnTo>
                  <a:lnTo>
                    <a:pt x="21042" y="9719"/>
                  </a:lnTo>
                  <a:lnTo>
                    <a:pt x="20902" y="9359"/>
                  </a:lnTo>
                  <a:lnTo>
                    <a:pt x="21042" y="9119"/>
                  </a:lnTo>
                  <a:lnTo>
                    <a:pt x="20902" y="8879"/>
                  </a:lnTo>
                  <a:lnTo>
                    <a:pt x="20902" y="8519"/>
                  </a:lnTo>
                  <a:lnTo>
                    <a:pt x="20902" y="8279"/>
                  </a:lnTo>
                  <a:lnTo>
                    <a:pt x="20902" y="7919"/>
                  </a:lnTo>
                  <a:lnTo>
                    <a:pt x="20763" y="7559"/>
                  </a:lnTo>
                  <a:lnTo>
                    <a:pt x="20763" y="7319"/>
                  </a:lnTo>
                  <a:lnTo>
                    <a:pt x="20763" y="7079"/>
                  </a:lnTo>
                  <a:lnTo>
                    <a:pt x="20763" y="6719"/>
                  </a:lnTo>
                  <a:lnTo>
                    <a:pt x="20624" y="6359"/>
                  </a:lnTo>
                  <a:lnTo>
                    <a:pt x="20484" y="5999"/>
                  </a:lnTo>
                  <a:lnTo>
                    <a:pt x="20484" y="5759"/>
                  </a:lnTo>
                  <a:lnTo>
                    <a:pt x="20345" y="5400"/>
                  </a:lnTo>
                  <a:lnTo>
                    <a:pt x="20484" y="5159"/>
                  </a:lnTo>
                  <a:lnTo>
                    <a:pt x="20345" y="4799"/>
                  </a:lnTo>
                  <a:lnTo>
                    <a:pt x="20345" y="4439"/>
                  </a:lnTo>
                  <a:lnTo>
                    <a:pt x="19927" y="3479"/>
                  </a:lnTo>
                  <a:lnTo>
                    <a:pt x="19509" y="2639"/>
                  </a:lnTo>
                  <a:lnTo>
                    <a:pt x="19091" y="1919"/>
                  </a:lnTo>
                  <a:lnTo>
                    <a:pt x="18673" y="1319"/>
                  </a:lnTo>
                  <a:lnTo>
                    <a:pt x="18115" y="959"/>
                  </a:lnTo>
                  <a:lnTo>
                    <a:pt x="17419" y="599"/>
                  </a:lnTo>
                  <a:lnTo>
                    <a:pt x="16861" y="359"/>
                  </a:lnTo>
                  <a:lnTo>
                    <a:pt x="16304" y="119"/>
                  </a:lnTo>
                  <a:lnTo>
                    <a:pt x="15607" y="0"/>
                  </a:lnTo>
                  <a:lnTo>
                    <a:pt x="14910" y="0"/>
                  </a:lnTo>
                  <a:lnTo>
                    <a:pt x="14353" y="119"/>
                  </a:lnTo>
                  <a:lnTo>
                    <a:pt x="13656" y="239"/>
                  </a:lnTo>
                  <a:lnTo>
                    <a:pt x="13238" y="359"/>
                  </a:lnTo>
                  <a:lnTo>
                    <a:pt x="12680" y="599"/>
                  </a:lnTo>
                  <a:lnTo>
                    <a:pt x="12123" y="839"/>
                  </a:lnTo>
                  <a:lnTo>
                    <a:pt x="11845" y="1079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2595600" y="4875840"/>
              <a:ext cx="196560" cy="198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814" y="423"/>
                  </a:lnTo>
                  <a:lnTo>
                    <a:pt x="20421" y="847"/>
                  </a:lnTo>
                  <a:lnTo>
                    <a:pt x="19636" y="1694"/>
                  </a:lnTo>
                  <a:lnTo>
                    <a:pt x="18458" y="1694"/>
                  </a:lnTo>
                  <a:lnTo>
                    <a:pt x="17672" y="2541"/>
                  </a:lnTo>
                  <a:lnTo>
                    <a:pt x="16887" y="2964"/>
                  </a:lnTo>
                  <a:lnTo>
                    <a:pt x="16494" y="2964"/>
                  </a:lnTo>
                  <a:lnTo>
                    <a:pt x="15316" y="3811"/>
                  </a:lnTo>
                  <a:lnTo>
                    <a:pt x="14138" y="4658"/>
                  </a:lnTo>
                  <a:lnTo>
                    <a:pt x="12959" y="4658"/>
                  </a:lnTo>
                  <a:lnTo>
                    <a:pt x="11781" y="5505"/>
                  </a:lnTo>
                  <a:lnTo>
                    <a:pt x="10996" y="6352"/>
                  </a:lnTo>
                  <a:lnTo>
                    <a:pt x="10210" y="6352"/>
                  </a:lnTo>
                  <a:lnTo>
                    <a:pt x="9032" y="7199"/>
                  </a:lnTo>
                  <a:lnTo>
                    <a:pt x="7854" y="7623"/>
                  </a:lnTo>
                  <a:lnTo>
                    <a:pt x="7069" y="8470"/>
                  </a:lnTo>
                  <a:lnTo>
                    <a:pt x="5890" y="8893"/>
                  </a:lnTo>
                  <a:lnTo>
                    <a:pt x="5105" y="9741"/>
                  </a:lnTo>
                  <a:lnTo>
                    <a:pt x="4319" y="10164"/>
                  </a:lnTo>
                  <a:lnTo>
                    <a:pt x="3534" y="11011"/>
                  </a:lnTo>
                  <a:lnTo>
                    <a:pt x="2748" y="11011"/>
                  </a:lnTo>
                  <a:lnTo>
                    <a:pt x="1963" y="11435"/>
                  </a:lnTo>
                  <a:lnTo>
                    <a:pt x="1177" y="12282"/>
                  </a:lnTo>
                  <a:lnTo>
                    <a:pt x="785" y="12705"/>
                  </a:lnTo>
                  <a:lnTo>
                    <a:pt x="392" y="13976"/>
                  </a:lnTo>
                  <a:lnTo>
                    <a:pt x="392" y="14823"/>
                  </a:lnTo>
                  <a:lnTo>
                    <a:pt x="0" y="15246"/>
                  </a:lnTo>
                  <a:lnTo>
                    <a:pt x="0" y="16093"/>
                  </a:lnTo>
                  <a:lnTo>
                    <a:pt x="392" y="16940"/>
                  </a:lnTo>
                  <a:lnTo>
                    <a:pt x="392" y="18211"/>
                  </a:lnTo>
                  <a:lnTo>
                    <a:pt x="392" y="18635"/>
                  </a:lnTo>
                  <a:lnTo>
                    <a:pt x="1570" y="19058"/>
                  </a:lnTo>
                  <a:lnTo>
                    <a:pt x="3141" y="21176"/>
                  </a:lnTo>
                  <a:lnTo>
                    <a:pt x="4712" y="21600"/>
                  </a:lnTo>
                  <a:lnTo>
                    <a:pt x="6283" y="21600"/>
                  </a:lnTo>
                  <a:lnTo>
                    <a:pt x="7854" y="20752"/>
                  </a:lnTo>
                  <a:lnTo>
                    <a:pt x="9425" y="19058"/>
                  </a:lnTo>
                  <a:lnTo>
                    <a:pt x="11388" y="17364"/>
                  </a:lnTo>
                  <a:lnTo>
                    <a:pt x="12959" y="15246"/>
                  </a:lnTo>
                  <a:lnTo>
                    <a:pt x="14530" y="13129"/>
                  </a:lnTo>
                  <a:lnTo>
                    <a:pt x="15708" y="11011"/>
                  </a:lnTo>
                  <a:lnTo>
                    <a:pt x="17279" y="8470"/>
                  </a:lnTo>
                  <a:lnTo>
                    <a:pt x="18458" y="6352"/>
                  </a:lnTo>
                  <a:lnTo>
                    <a:pt x="19243" y="4658"/>
                  </a:lnTo>
                  <a:lnTo>
                    <a:pt x="20814" y="2541"/>
                  </a:lnTo>
                  <a:lnTo>
                    <a:pt x="21207" y="1270"/>
                  </a:lnTo>
                  <a:lnTo>
                    <a:pt x="21207" y="423"/>
                  </a:lnTo>
                  <a:lnTo>
                    <a:pt x="21600" y="0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2564280" y="4707000"/>
              <a:ext cx="253440" cy="11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515" y="2090"/>
                  </a:moveTo>
                  <a:lnTo>
                    <a:pt x="15211" y="1393"/>
                  </a:lnTo>
                  <a:lnTo>
                    <a:pt x="15211" y="696"/>
                  </a:lnTo>
                  <a:lnTo>
                    <a:pt x="14907" y="0"/>
                  </a:lnTo>
                  <a:lnTo>
                    <a:pt x="14602" y="696"/>
                  </a:lnTo>
                  <a:lnTo>
                    <a:pt x="14298" y="1393"/>
                  </a:lnTo>
                  <a:lnTo>
                    <a:pt x="13385" y="2787"/>
                  </a:lnTo>
                  <a:lnTo>
                    <a:pt x="12472" y="3483"/>
                  </a:lnTo>
                  <a:lnTo>
                    <a:pt x="11256" y="4180"/>
                  </a:lnTo>
                  <a:lnTo>
                    <a:pt x="10951" y="4877"/>
                  </a:lnTo>
                  <a:lnTo>
                    <a:pt x="10039" y="4877"/>
                  </a:lnTo>
                  <a:lnTo>
                    <a:pt x="9126" y="5574"/>
                  </a:lnTo>
                  <a:lnTo>
                    <a:pt x="7909" y="5574"/>
                  </a:lnTo>
                  <a:lnTo>
                    <a:pt x="6692" y="5574"/>
                  </a:lnTo>
                  <a:lnTo>
                    <a:pt x="6084" y="5574"/>
                  </a:lnTo>
                  <a:lnTo>
                    <a:pt x="4867" y="6270"/>
                  </a:lnTo>
                  <a:lnTo>
                    <a:pt x="3954" y="5574"/>
                  </a:lnTo>
                  <a:lnTo>
                    <a:pt x="2737" y="5574"/>
                  </a:lnTo>
                  <a:lnTo>
                    <a:pt x="1825" y="6270"/>
                  </a:lnTo>
                  <a:lnTo>
                    <a:pt x="912" y="5574"/>
                  </a:lnTo>
                  <a:lnTo>
                    <a:pt x="0" y="6270"/>
                  </a:lnTo>
                  <a:lnTo>
                    <a:pt x="0" y="6270"/>
                  </a:lnTo>
                  <a:lnTo>
                    <a:pt x="0" y="6270"/>
                  </a:lnTo>
                  <a:lnTo>
                    <a:pt x="304" y="7664"/>
                  </a:lnTo>
                  <a:lnTo>
                    <a:pt x="608" y="9057"/>
                  </a:lnTo>
                  <a:lnTo>
                    <a:pt x="1216" y="9754"/>
                  </a:lnTo>
                  <a:lnTo>
                    <a:pt x="1825" y="11148"/>
                  </a:lnTo>
                  <a:lnTo>
                    <a:pt x="2737" y="13238"/>
                  </a:lnTo>
                  <a:lnTo>
                    <a:pt x="3346" y="14632"/>
                  </a:lnTo>
                  <a:lnTo>
                    <a:pt x="4258" y="15328"/>
                  </a:lnTo>
                  <a:lnTo>
                    <a:pt x="5475" y="16722"/>
                  </a:lnTo>
                  <a:lnTo>
                    <a:pt x="6388" y="18115"/>
                  </a:lnTo>
                  <a:lnTo>
                    <a:pt x="7605" y="18812"/>
                  </a:lnTo>
                  <a:lnTo>
                    <a:pt x="7909" y="20206"/>
                  </a:lnTo>
                  <a:lnTo>
                    <a:pt x="8822" y="21600"/>
                  </a:lnTo>
                  <a:lnTo>
                    <a:pt x="9735" y="21600"/>
                  </a:lnTo>
                  <a:lnTo>
                    <a:pt x="10343" y="21600"/>
                  </a:lnTo>
                  <a:lnTo>
                    <a:pt x="10951" y="20902"/>
                  </a:lnTo>
                  <a:lnTo>
                    <a:pt x="11256" y="20902"/>
                  </a:lnTo>
                  <a:lnTo>
                    <a:pt x="11864" y="20206"/>
                  </a:lnTo>
                  <a:lnTo>
                    <a:pt x="12168" y="20206"/>
                  </a:lnTo>
                  <a:lnTo>
                    <a:pt x="12777" y="20206"/>
                  </a:lnTo>
                  <a:lnTo>
                    <a:pt x="13689" y="19509"/>
                  </a:lnTo>
                  <a:lnTo>
                    <a:pt x="14298" y="20206"/>
                  </a:lnTo>
                  <a:lnTo>
                    <a:pt x="14907" y="19509"/>
                  </a:lnTo>
                  <a:lnTo>
                    <a:pt x="15819" y="18812"/>
                  </a:lnTo>
                  <a:lnTo>
                    <a:pt x="16428" y="18812"/>
                  </a:lnTo>
                  <a:lnTo>
                    <a:pt x="17036" y="18812"/>
                  </a:lnTo>
                  <a:lnTo>
                    <a:pt x="17644" y="17419"/>
                  </a:lnTo>
                  <a:lnTo>
                    <a:pt x="18253" y="17419"/>
                  </a:lnTo>
                  <a:lnTo>
                    <a:pt x="18861" y="16025"/>
                  </a:lnTo>
                  <a:lnTo>
                    <a:pt x="19165" y="15328"/>
                  </a:lnTo>
                  <a:lnTo>
                    <a:pt x="19774" y="14632"/>
                  </a:lnTo>
                  <a:lnTo>
                    <a:pt x="20382" y="13238"/>
                  </a:lnTo>
                  <a:lnTo>
                    <a:pt x="20991" y="11845"/>
                  </a:lnTo>
                  <a:lnTo>
                    <a:pt x="21295" y="11148"/>
                  </a:lnTo>
                  <a:lnTo>
                    <a:pt x="21600" y="9754"/>
                  </a:lnTo>
                  <a:lnTo>
                    <a:pt x="21295" y="8361"/>
                  </a:lnTo>
                  <a:lnTo>
                    <a:pt x="21600" y="7664"/>
                  </a:lnTo>
                  <a:lnTo>
                    <a:pt x="21295" y="6967"/>
                  </a:lnTo>
                  <a:lnTo>
                    <a:pt x="21295" y="6270"/>
                  </a:lnTo>
                  <a:lnTo>
                    <a:pt x="21295" y="5574"/>
                  </a:lnTo>
                  <a:lnTo>
                    <a:pt x="20687" y="4877"/>
                  </a:lnTo>
                  <a:lnTo>
                    <a:pt x="20078" y="4180"/>
                  </a:lnTo>
                  <a:lnTo>
                    <a:pt x="19470" y="4180"/>
                  </a:lnTo>
                  <a:lnTo>
                    <a:pt x="18557" y="3483"/>
                  </a:lnTo>
                  <a:lnTo>
                    <a:pt x="17340" y="2787"/>
                  </a:lnTo>
                  <a:lnTo>
                    <a:pt x="16123" y="2787"/>
                  </a:lnTo>
                  <a:lnTo>
                    <a:pt x="15515" y="2090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2127960" y="4411800"/>
              <a:ext cx="29304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458"/>
                  </a:moveTo>
                  <a:lnTo>
                    <a:pt x="20809" y="8639"/>
                  </a:lnTo>
                  <a:lnTo>
                    <a:pt x="20282" y="7048"/>
                  </a:lnTo>
                  <a:lnTo>
                    <a:pt x="19229" y="5684"/>
                  </a:lnTo>
                  <a:lnTo>
                    <a:pt x="18438" y="4319"/>
                  </a:lnTo>
                  <a:lnTo>
                    <a:pt x="17121" y="3182"/>
                  </a:lnTo>
                  <a:lnTo>
                    <a:pt x="16068" y="2273"/>
                  </a:lnTo>
                  <a:lnTo>
                    <a:pt x="14751" y="1364"/>
                  </a:lnTo>
                  <a:lnTo>
                    <a:pt x="13697" y="1136"/>
                  </a:lnTo>
                  <a:lnTo>
                    <a:pt x="12117" y="454"/>
                  </a:lnTo>
                  <a:lnTo>
                    <a:pt x="11063" y="227"/>
                  </a:lnTo>
                  <a:lnTo>
                    <a:pt x="9482" y="0"/>
                  </a:lnTo>
                  <a:lnTo>
                    <a:pt x="8429" y="0"/>
                  </a:lnTo>
                  <a:lnTo>
                    <a:pt x="7111" y="227"/>
                  </a:lnTo>
                  <a:lnTo>
                    <a:pt x="6058" y="454"/>
                  </a:lnTo>
                  <a:lnTo>
                    <a:pt x="4741" y="681"/>
                  </a:lnTo>
                  <a:lnTo>
                    <a:pt x="4477" y="1136"/>
                  </a:lnTo>
                  <a:lnTo>
                    <a:pt x="3951" y="1364"/>
                  </a:lnTo>
                  <a:lnTo>
                    <a:pt x="3424" y="1818"/>
                  </a:lnTo>
                  <a:lnTo>
                    <a:pt x="3424" y="2273"/>
                  </a:lnTo>
                  <a:lnTo>
                    <a:pt x="2897" y="2500"/>
                  </a:lnTo>
                  <a:lnTo>
                    <a:pt x="2897" y="3182"/>
                  </a:lnTo>
                  <a:lnTo>
                    <a:pt x="2370" y="3410"/>
                  </a:lnTo>
                  <a:lnTo>
                    <a:pt x="2107" y="3637"/>
                  </a:lnTo>
                  <a:lnTo>
                    <a:pt x="1843" y="4092"/>
                  </a:lnTo>
                  <a:lnTo>
                    <a:pt x="1843" y="4774"/>
                  </a:lnTo>
                  <a:lnTo>
                    <a:pt x="1317" y="5229"/>
                  </a:lnTo>
                  <a:lnTo>
                    <a:pt x="1580" y="5456"/>
                  </a:lnTo>
                  <a:lnTo>
                    <a:pt x="1317" y="5911"/>
                  </a:lnTo>
                  <a:lnTo>
                    <a:pt x="790" y="6138"/>
                  </a:lnTo>
                  <a:lnTo>
                    <a:pt x="790" y="6820"/>
                  </a:lnTo>
                  <a:lnTo>
                    <a:pt x="526" y="6820"/>
                  </a:lnTo>
                  <a:lnTo>
                    <a:pt x="0" y="7048"/>
                  </a:lnTo>
                  <a:lnTo>
                    <a:pt x="0" y="7275"/>
                  </a:lnTo>
                  <a:lnTo>
                    <a:pt x="0" y="7503"/>
                  </a:lnTo>
                  <a:lnTo>
                    <a:pt x="263" y="7730"/>
                  </a:lnTo>
                  <a:lnTo>
                    <a:pt x="526" y="7730"/>
                  </a:lnTo>
                  <a:lnTo>
                    <a:pt x="1053" y="7503"/>
                  </a:lnTo>
                  <a:lnTo>
                    <a:pt x="1317" y="7503"/>
                  </a:lnTo>
                  <a:lnTo>
                    <a:pt x="2107" y="7730"/>
                  </a:lnTo>
                  <a:lnTo>
                    <a:pt x="2634" y="7503"/>
                  </a:lnTo>
                  <a:lnTo>
                    <a:pt x="3160" y="7730"/>
                  </a:lnTo>
                  <a:lnTo>
                    <a:pt x="3951" y="7503"/>
                  </a:lnTo>
                  <a:lnTo>
                    <a:pt x="4741" y="7503"/>
                  </a:lnTo>
                  <a:lnTo>
                    <a:pt x="5531" y="7275"/>
                  </a:lnTo>
                  <a:lnTo>
                    <a:pt x="6058" y="7048"/>
                  </a:lnTo>
                  <a:lnTo>
                    <a:pt x="6321" y="7048"/>
                  </a:lnTo>
                  <a:lnTo>
                    <a:pt x="6848" y="6820"/>
                  </a:lnTo>
                  <a:lnTo>
                    <a:pt x="7375" y="6593"/>
                  </a:lnTo>
                  <a:lnTo>
                    <a:pt x="7638" y="6366"/>
                  </a:lnTo>
                  <a:lnTo>
                    <a:pt x="7902" y="6366"/>
                  </a:lnTo>
                  <a:lnTo>
                    <a:pt x="8165" y="6366"/>
                  </a:lnTo>
                  <a:lnTo>
                    <a:pt x="8429" y="6138"/>
                  </a:lnTo>
                  <a:lnTo>
                    <a:pt x="8955" y="6138"/>
                  </a:lnTo>
                  <a:lnTo>
                    <a:pt x="9482" y="6138"/>
                  </a:lnTo>
                  <a:lnTo>
                    <a:pt x="9746" y="5911"/>
                  </a:lnTo>
                  <a:lnTo>
                    <a:pt x="10272" y="5911"/>
                  </a:lnTo>
                  <a:lnTo>
                    <a:pt x="10536" y="5911"/>
                  </a:lnTo>
                  <a:lnTo>
                    <a:pt x="11063" y="5684"/>
                  </a:lnTo>
                  <a:lnTo>
                    <a:pt x="11326" y="5911"/>
                  </a:lnTo>
                  <a:lnTo>
                    <a:pt x="11590" y="6138"/>
                  </a:lnTo>
                  <a:lnTo>
                    <a:pt x="12117" y="6138"/>
                  </a:lnTo>
                  <a:lnTo>
                    <a:pt x="12643" y="6593"/>
                  </a:lnTo>
                  <a:lnTo>
                    <a:pt x="13170" y="7048"/>
                  </a:lnTo>
                  <a:lnTo>
                    <a:pt x="13434" y="7275"/>
                  </a:lnTo>
                  <a:lnTo>
                    <a:pt x="13697" y="7503"/>
                  </a:lnTo>
                  <a:lnTo>
                    <a:pt x="13960" y="7730"/>
                  </a:lnTo>
                  <a:lnTo>
                    <a:pt x="13960" y="7957"/>
                  </a:lnTo>
                  <a:lnTo>
                    <a:pt x="14224" y="8412"/>
                  </a:lnTo>
                  <a:lnTo>
                    <a:pt x="14487" y="8639"/>
                  </a:lnTo>
                  <a:lnTo>
                    <a:pt x="14487" y="8867"/>
                  </a:lnTo>
                  <a:lnTo>
                    <a:pt x="14487" y="9094"/>
                  </a:lnTo>
                  <a:lnTo>
                    <a:pt x="14751" y="9321"/>
                  </a:lnTo>
                  <a:lnTo>
                    <a:pt x="15014" y="9776"/>
                  </a:lnTo>
                  <a:lnTo>
                    <a:pt x="15014" y="10004"/>
                  </a:lnTo>
                  <a:lnTo>
                    <a:pt x="15014" y="10231"/>
                  </a:lnTo>
                  <a:lnTo>
                    <a:pt x="15541" y="10686"/>
                  </a:lnTo>
                  <a:lnTo>
                    <a:pt x="15541" y="10913"/>
                  </a:lnTo>
                  <a:lnTo>
                    <a:pt x="15541" y="10913"/>
                  </a:lnTo>
                  <a:lnTo>
                    <a:pt x="15541" y="11140"/>
                  </a:lnTo>
                  <a:lnTo>
                    <a:pt x="15541" y="11368"/>
                  </a:lnTo>
                  <a:lnTo>
                    <a:pt x="16068" y="12050"/>
                  </a:lnTo>
                  <a:lnTo>
                    <a:pt x="16068" y="12504"/>
                  </a:lnTo>
                  <a:lnTo>
                    <a:pt x="16331" y="13187"/>
                  </a:lnTo>
                  <a:lnTo>
                    <a:pt x="16594" y="13869"/>
                  </a:lnTo>
                  <a:lnTo>
                    <a:pt x="16331" y="14323"/>
                  </a:lnTo>
                  <a:lnTo>
                    <a:pt x="16331" y="15006"/>
                  </a:lnTo>
                  <a:lnTo>
                    <a:pt x="16068" y="15460"/>
                  </a:lnTo>
                  <a:lnTo>
                    <a:pt x="16068" y="15915"/>
                  </a:lnTo>
                  <a:lnTo>
                    <a:pt x="15541" y="16370"/>
                  </a:lnTo>
                  <a:lnTo>
                    <a:pt x="15277" y="16825"/>
                  </a:lnTo>
                  <a:lnTo>
                    <a:pt x="15014" y="17279"/>
                  </a:lnTo>
                  <a:lnTo>
                    <a:pt x="14751" y="17734"/>
                  </a:lnTo>
                  <a:lnTo>
                    <a:pt x="14224" y="18189"/>
                  </a:lnTo>
                  <a:lnTo>
                    <a:pt x="14224" y="18416"/>
                  </a:lnTo>
                  <a:lnTo>
                    <a:pt x="13697" y="18643"/>
                  </a:lnTo>
                  <a:lnTo>
                    <a:pt x="13434" y="18871"/>
                  </a:lnTo>
                  <a:lnTo>
                    <a:pt x="13434" y="18871"/>
                  </a:lnTo>
                  <a:lnTo>
                    <a:pt x="13170" y="19098"/>
                  </a:lnTo>
                  <a:lnTo>
                    <a:pt x="12907" y="19098"/>
                  </a:lnTo>
                  <a:lnTo>
                    <a:pt x="12643" y="18871"/>
                  </a:lnTo>
                  <a:lnTo>
                    <a:pt x="12380" y="18871"/>
                  </a:lnTo>
                  <a:lnTo>
                    <a:pt x="12117" y="18871"/>
                  </a:lnTo>
                  <a:lnTo>
                    <a:pt x="11326" y="18416"/>
                  </a:lnTo>
                  <a:lnTo>
                    <a:pt x="11326" y="18189"/>
                  </a:lnTo>
                  <a:lnTo>
                    <a:pt x="11063" y="17961"/>
                  </a:lnTo>
                  <a:lnTo>
                    <a:pt x="10536" y="17734"/>
                  </a:lnTo>
                  <a:lnTo>
                    <a:pt x="10272" y="17507"/>
                  </a:lnTo>
                  <a:lnTo>
                    <a:pt x="9746" y="17279"/>
                  </a:lnTo>
                  <a:lnTo>
                    <a:pt x="9219" y="17279"/>
                  </a:lnTo>
                  <a:lnTo>
                    <a:pt x="8955" y="16825"/>
                  </a:lnTo>
                  <a:lnTo>
                    <a:pt x="8692" y="16597"/>
                  </a:lnTo>
                  <a:lnTo>
                    <a:pt x="8429" y="16370"/>
                  </a:lnTo>
                  <a:lnTo>
                    <a:pt x="8165" y="16597"/>
                  </a:lnTo>
                  <a:lnTo>
                    <a:pt x="8429" y="16825"/>
                  </a:lnTo>
                  <a:lnTo>
                    <a:pt x="8429" y="17052"/>
                  </a:lnTo>
                  <a:lnTo>
                    <a:pt x="8429" y="17279"/>
                  </a:lnTo>
                  <a:lnTo>
                    <a:pt x="8429" y="17507"/>
                  </a:lnTo>
                  <a:lnTo>
                    <a:pt x="8692" y="17734"/>
                  </a:lnTo>
                  <a:lnTo>
                    <a:pt x="8692" y="17961"/>
                  </a:lnTo>
                  <a:lnTo>
                    <a:pt x="8692" y="18189"/>
                  </a:lnTo>
                  <a:lnTo>
                    <a:pt x="10272" y="19780"/>
                  </a:lnTo>
                  <a:lnTo>
                    <a:pt x="11326" y="20690"/>
                  </a:lnTo>
                  <a:lnTo>
                    <a:pt x="12643" y="21145"/>
                  </a:lnTo>
                  <a:lnTo>
                    <a:pt x="14224" y="21600"/>
                  </a:lnTo>
                  <a:lnTo>
                    <a:pt x="15277" y="21600"/>
                  </a:lnTo>
                  <a:lnTo>
                    <a:pt x="16331" y="21145"/>
                  </a:lnTo>
                  <a:lnTo>
                    <a:pt x="17648" y="20462"/>
                  </a:lnTo>
                  <a:lnTo>
                    <a:pt x="18175" y="19780"/>
                  </a:lnTo>
                  <a:lnTo>
                    <a:pt x="19492" y="18871"/>
                  </a:lnTo>
                  <a:lnTo>
                    <a:pt x="20282" y="17734"/>
                  </a:lnTo>
                  <a:lnTo>
                    <a:pt x="20546" y="16597"/>
                  </a:lnTo>
                  <a:lnTo>
                    <a:pt x="21072" y="15233"/>
                  </a:lnTo>
                  <a:lnTo>
                    <a:pt x="21336" y="14096"/>
                  </a:lnTo>
                  <a:lnTo>
                    <a:pt x="21600" y="12504"/>
                  </a:lnTo>
                  <a:lnTo>
                    <a:pt x="21600" y="11140"/>
                  </a:lnTo>
                  <a:lnTo>
                    <a:pt x="21600" y="10458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2224080" y="4841640"/>
              <a:ext cx="435960" cy="266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049" y="5634"/>
                  </a:moveTo>
                  <a:lnTo>
                    <a:pt x="14517" y="6260"/>
                  </a:lnTo>
                  <a:lnTo>
                    <a:pt x="14340" y="6573"/>
                  </a:lnTo>
                  <a:lnTo>
                    <a:pt x="13632" y="7199"/>
                  </a:lnTo>
                  <a:lnTo>
                    <a:pt x="13101" y="7825"/>
                  </a:lnTo>
                  <a:lnTo>
                    <a:pt x="12570" y="8452"/>
                  </a:lnTo>
                  <a:lnTo>
                    <a:pt x="12039" y="8452"/>
                  </a:lnTo>
                  <a:lnTo>
                    <a:pt x="11684" y="9078"/>
                  </a:lnTo>
                  <a:lnTo>
                    <a:pt x="10976" y="9391"/>
                  </a:lnTo>
                  <a:lnTo>
                    <a:pt x="10622" y="9704"/>
                  </a:lnTo>
                  <a:lnTo>
                    <a:pt x="9914" y="10017"/>
                  </a:lnTo>
                  <a:lnTo>
                    <a:pt x="9560" y="10330"/>
                  </a:lnTo>
                  <a:lnTo>
                    <a:pt x="9206" y="10956"/>
                  </a:lnTo>
                  <a:lnTo>
                    <a:pt x="8498" y="11582"/>
                  </a:lnTo>
                  <a:lnTo>
                    <a:pt x="8144" y="11895"/>
                  </a:lnTo>
                  <a:lnTo>
                    <a:pt x="7435" y="12521"/>
                  </a:lnTo>
                  <a:lnTo>
                    <a:pt x="6904" y="13147"/>
                  </a:lnTo>
                  <a:lnTo>
                    <a:pt x="6550" y="13147"/>
                  </a:lnTo>
                  <a:lnTo>
                    <a:pt x="6373" y="13147"/>
                  </a:lnTo>
                  <a:lnTo>
                    <a:pt x="5842" y="13460"/>
                  </a:lnTo>
                  <a:lnTo>
                    <a:pt x="5488" y="13147"/>
                  </a:lnTo>
                  <a:lnTo>
                    <a:pt x="5134" y="12834"/>
                  </a:lnTo>
                  <a:lnTo>
                    <a:pt x="4603" y="12521"/>
                  </a:lnTo>
                  <a:lnTo>
                    <a:pt x="4072" y="12208"/>
                  </a:lnTo>
                  <a:lnTo>
                    <a:pt x="3717" y="11582"/>
                  </a:lnTo>
                  <a:lnTo>
                    <a:pt x="3363" y="11269"/>
                  </a:lnTo>
                  <a:lnTo>
                    <a:pt x="3186" y="10643"/>
                  </a:lnTo>
                  <a:lnTo>
                    <a:pt x="2832" y="9704"/>
                  </a:lnTo>
                  <a:lnTo>
                    <a:pt x="2832" y="8765"/>
                  </a:lnTo>
                  <a:lnTo>
                    <a:pt x="2655" y="8452"/>
                  </a:lnTo>
                  <a:lnTo>
                    <a:pt x="2655" y="7513"/>
                  </a:lnTo>
                  <a:lnTo>
                    <a:pt x="2832" y="7199"/>
                  </a:lnTo>
                  <a:lnTo>
                    <a:pt x="2832" y="6573"/>
                  </a:lnTo>
                  <a:lnTo>
                    <a:pt x="3009" y="6260"/>
                  </a:lnTo>
                  <a:lnTo>
                    <a:pt x="2832" y="5634"/>
                  </a:lnTo>
                  <a:lnTo>
                    <a:pt x="3009" y="5321"/>
                  </a:lnTo>
                  <a:lnTo>
                    <a:pt x="3186" y="4695"/>
                  </a:lnTo>
                  <a:lnTo>
                    <a:pt x="3186" y="4382"/>
                  </a:lnTo>
                  <a:lnTo>
                    <a:pt x="3009" y="3756"/>
                  </a:lnTo>
                  <a:lnTo>
                    <a:pt x="3186" y="3130"/>
                  </a:lnTo>
                  <a:lnTo>
                    <a:pt x="3186" y="2504"/>
                  </a:lnTo>
                  <a:lnTo>
                    <a:pt x="3009" y="1878"/>
                  </a:lnTo>
                  <a:lnTo>
                    <a:pt x="3009" y="1878"/>
                  </a:lnTo>
                  <a:lnTo>
                    <a:pt x="2832" y="1564"/>
                  </a:lnTo>
                  <a:lnTo>
                    <a:pt x="2832" y="1252"/>
                  </a:lnTo>
                  <a:lnTo>
                    <a:pt x="2478" y="939"/>
                  </a:lnTo>
                  <a:lnTo>
                    <a:pt x="2478" y="312"/>
                  </a:lnTo>
                  <a:lnTo>
                    <a:pt x="2301" y="0"/>
                  </a:lnTo>
                  <a:lnTo>
                    <a:pt x="1947" y="312"/>
                  </a:lnTo>
                  <a:lnTo>
                    <a:pt x="1947" y="312"/>
                  </a:lnTo>
                  <a:lnTo>
                    <a:pt x="1593" y="312"/>
                  </a:lnTo>
                  <a:lnTo>
                    <a:pt x="1239" y="939"/>
                  </a:lnTo>
                  <a:lnTo>
                    <a:pt x="1062" y="2191"/>
                  </a:lnTo>
                  <a:lnTo>
                    <a:pt x="707" y="2817"/>
                  </a:lnTo>
                  <a:lnTo>
                    <a:pt x="530" y="4382"/>
                  </a:lnTo>
                  <a:lnTo>
                    <a:pt x="353" y="5947"/>
                  </a:lnTo>
                  <a:lnTo>
                    <a:pt x="176" y="7199"/>
                  </a:lnTo>
                  <a:lnTo>
                    <a:pt x="0" y="8452"/>
                  </a:lnTo>
                  <a:lnTo>
                    <a:pt x="0" y="10330"/>
                  </a:lnTo>
                  <a:lnTo>
                    <a:pt x="353" y="11895"/>
                  </a:lnTo>
                  <a:lnTo>
                    <a:pt x="530" y="13460"/>
                  </a:lnTo>
                  <a:lnTo>
                    <a:pt x="707" y="15026"/>
                  </a:lnTo>
                  <a:lnTo>
                    <a:pt x="1062" y="16591"/>
                  </a:lnTo>
                  <a:lnTo>
                    <a:pt x="1593" y="17530"/>
                  </a:lnTo>
                  <a:lnTo>
                    <a:pt x="2124" y="18782"/>
                  </a:lnTo>
                  <a:lnTo>
                    <a:pt x="2832" y="19408"/>
                  </a:lnTo>
                  <a:lnTo>
                    <a:pt x="3363" y="19721"/>
                  </a:lnTo>
                  <a:lnTo>
                    <a:pt x="4072" y="20347"/>
                  </a:lnTo>
                  <a:lnTo>
                    <a:pt x="4426" y="20660"/>
                  </a:lnTo>
                  <a:lnTo>
                    <a:pt x="4780" y="21286"/>
                  </a:lnTo>
                  <a:lnTo>
                    <a:pt x="5311" y="21286"/>
                  </a:lnTo>
                  <a:lnTo>
                    <a:pt x="6019" y="21286"/>
                  </a:lnTo>
                  <a:lnTo>
                    <a:pt x="6373" y="21600"/>
                  </a:lnTo>
                  <a:lnTo>
                    <a:pt x="6904" y="21286"/>
                  </a:lnTo>
                  <a:lnTo>
                    <a:pt x="7435" y="21600"/>
                  </a:lnTo>
                  <a:lnTo>
                    <a:pt x="7789" y="21286"/>
                  </a:lnTo>
                  <a:lnTo>
                    <a:pt x="8144" y="20973"/>
                  </a:lnTo>
                  <a:lnTo>
                    <a:pt x="8498" y="20660"/>
                  </a:lnTo>
                  <a:lnTo>
                    <a:pt x="9029" y="20660"/>
                  </a:lnTo>
                  <a:lnTo>
                    <a:pt x="9560" y="20034"/>
                  </a:lnTo>
                  <a:lnTo>
                    <a:pt x="9914" y="19721"/>
                  </a:lnTo>
                  <a:lnTo>
                    <a:pt x="10268" y="19095"/>
                  </a:lnTo>
                  <a:lnTo>
                    <a:pt x="10622" y="19095"/>
                  </a:lnTo>
                  <a:lnTo>
                    <a:pt x="10976" y="18469"/>
                  </a:lnTo>
                  <a:lnTo>
                    <a:pt x="11330" y="18156"/>
                  </a:lnTo>
                  <a:lnTo>
                    <a:pt x="11684" y="17530"/>
                  </a:lnTo>
                  <a:lnTo>
                    <a:pt x="12216" y="17217"/>
                  </a:lnTo>
                  <a:lnTo>
                    <a:pt x="12393" y="16591"/>
                  </a:lnTo>
                  <a:lnTo>
                    <a:pt x="12747" y="16278"/>
                  </a:lnTo>
                  <a:lnTo>
                    <a:pt x="13278" y="15651"/>
                  </a:lnTo>
                  <a:lnTo>
                    <a:pt x="13632" y="15651"/>
                  </a:lnTo>
                  <a:lnTo>
                    <a:pt x="13809" y="15026"/>
                  </a:lnTo>
                  <a:lnTo>
                    <a:pt x="14340" y="14712"/>
                  </a:lnTo>
                  <a:lnTo>
                    <a:pt x="14694" y="14399"/>
                  </a:lnTo>
                  <a:lnTo>
                    <a:pt x="15049" y="14399"/>
                  </a:lnTo>
                  <a:lnTo>
                    <a:pt x="15403" y="14399"/>
                  </a:lnTo>
                  <a:lnTo>
                    <a:pt x="15757" y="14086"/>
                  </a:lnTo>
                  <a:lnTo>
                    <a:pt x="16111" y="14086"/>
                  </a:lnTo>
                  <a:lnTo>
                    <a:pt x="16465" y="13773"/>
                  </a:lnTo>
                  <a:lnTo>
                    <a:pt x="16819" y="13773"/>
                  </a:lnTo>
                  <a:lnTo>
                    <a:pt x="17350" y="13460"/>
                  </a:lnTo>
                  <a:lnTo>
                    <a:pt x="17704" y="13147"/>
                  </a:lnTo>
                  <a:lnTo>
                    <a:pt x="18058" y="12521"/>
                  </a:lnTo>
                  <a:lnTo>
                    <a:pt x="18235" y="12521"/>
                  </a:lnTo>
                  <a:lnTo>
                    <a:pt x="18589" y="12208"/>
                  </a:lnTo>
                  <a:lnTo>
                    <a:pt x="19121" y="11582"/>
                  </a:lnTo>
                  <a:lnTo>
                    <a:pt x="19298" y="11269"/>
                  </a:lnTo>
                  <a:lnTo>
                    <a:pt x="19652" y="10643"/>
                  </a:lnTo>
                  <a:lnTo>
                    <a:pt x="20006" y="10330"/>
                  </a:lnTo>
                  <a:lnTo>
                    <a:pt x="20360" y="10017"/>
                  </a:lnTo>
                  <a:lnTo>
                    <a:pt x="20537" y="9078"/>
                  </a:lnTo>
                  <a:lnTo>
                    <a:pt x="20891" y="8765"/>
                  </a:lnTo>
                  <a:lnTo>
                    <a:pt x="20891" y="8452"/>
                  </a:lnTo>
                  <a:lnTo>
                    <a:pt x="21068" y="7513"/>
                  </a:lnTo>
                  <a:lnTo>
                    <a:pt x="21422" y="6886"/>
                  </a:lnTo>
                  <a:lnTo>
                    <a:pt x="21422" y="6260"/>
                  </a:lnTo>
                  <a:lnTo>
                    <a:pt x="21600" y="5634"/>
                  </a:lnTo>
                  <a:lnTo>
                    <a:pt x="21422" y="5008"/>
                  </a:lnTo>
                  <a:lnTo>
                    <a:pt x="21600" y="4382"/>
                  </a:lnTo>
                  <a:lnTo>
                    <a:pt x="21422" y="3756"/>
                  </a:lnTo>
                  <a:lnTo>
                    <a:pt x="21245" y="3130"/>
                  </a:lnTo>
                  <a:lnTo>
                    <a:pt x="21068" y="2504"/>
                  </a:lnTo>
                  <a:lnTo>
                    <a:pt x="20714" y="2504"/>
                  </a:lnTo>
                  <a:lnTo>
                    <a:pt x="20360" y="2191"/>
                  </a:lnTo>
                  <a:lnTo>
                    <a:pt x="20006" y="1564"/>
                  </a:lnTo>
                  <a:lnTo>
                    <a:pt x="19829" y="1878"/>
                  </a:lnTo>
                  <a:lnTo>
                    <a:pt x="19298" y="1564"/>
                  </a:lnTo>
                  <a:lnTo>
                    <a:pt x="18944" y="1878"/>
                  </a:lnTo>
                  <a:lnTo>
                    <a:pt x="18412" y="1878"/>
                  </a:lnTo>
                  <a:lnTo>
                    <a:pt x="18058" y="2504"/>
                  </a:lnTo>
                  <a:lnTo>
                    <a:pt x="17881" y="2504"/>
                  </a:lnTo>
                  <a:lnTo>
                    <a:pt x="17704" y="2504"/>
                  </a:lnTo>
                  <a:lnTo>
                    <a:pt x="17704" y="2817"/>
                  </a:lnTo>
                  <a:lnTo>
                    <a:pt x="17350" y="3130"/>
                  </a:lnTo>
                  <a:lnTo>
                    <a:pt x="17173" y="3130"/>
                  </a:lnTo>
                  <a:lnTo>
                    <a:pt x="16996" y="3443"/>
                  </a:lnTo>
                  <a:lnTo>
                    <a:pt x="16819" y="3756"/>
                  </a:lnTo>
                  <a:lnTo>
                    <a:pt x="16642" y="3756"/>
                  </a:lnTo>
                  <a:lnTo>
                    <a:pt x="16288" y="4382"/>
                  </a:lnTo>
                  <a:lnTo>
                    <a:pt x="16111" y="4382"/>
                  </a:lnTo>
                  <a:lnTo>
                    <a:pt x="16111" y="4695"/>
                  </a:lnTo>
                  <a:lnTo>
                    <a:pt x="15757" y="5008"/>
                  </a:lnTo>
                  <a:lnTo>
                    <a:pt x="15580" y="5321"/>
                  </a:lnTo>
                  <a:lnTo>
                    <a:pt x="15403" y="5321"/>
                  </a:lnTo>
                  <a:lnTo>
                    <a:pt x="15049" y="5634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1692360" y="4613040"/>
              <a:ext cx="475200" cy="460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795" y="14157"/>
                  </a:moveTo>
                  <a:lnTo>
                    <a:pt x="8282" y="13613"/>
                  </a:lnTo>
                  <a:lnTo>
                    <a:pt x="8607" y="13068"/>
                  </a:lnTo>
                  <a:lnTo>
                    <a:pt x="8769" y="12705"/>
                  </a:lnTo>
                  <a:lnTo>
                    <a:pt x="9094" y="11979"/>
                  </a:lnTo>
                  <a:lnTo>
                    <a:pt x="9256" y="11616"/>
                  </a:lnTo>
                  <a:lnTo>
                    <a:pt x="9744" y="11072"/>
                  </a:lnTo>
                  <a:lnTo>
                    <a:pt x="9906" y="10709"/>
                  </a:lnTo>
                  <a:lnTo>
                    <a:pt x="10393" y="10346"/>
                  </a:lnTo>
                  <a:lnTo>
                    <a:pt x="10718" y="10164"/>
                  </a:lnTo>
                  <a:lnTo>
                    <a:pt x="10881" y="9620"/>
                  </a:lnTo>
                  <a:lnTo>
                    <a:pt x="11043" y="9438"/>
                  </a:lnTo>
                  <a:lnTo>
                    <a:pt x="11368" y="9075"/>
                  </a:lnTo>
                  <a:lnTo>
                    <a:pt x="11693" y="8712"/>
                  </a:lnTo>
                  <a:lnTo>
                    <a:pt x="12017" y="8349"/>
                  </a:lnTo>
                  <a:lnTo>
                    <a:pt x="12342" y="7986"/>
                  </a:lnTo>
                  <a:lnTo>
                    <a:pt x="12504" y="7623"/>
                  </a:lnTo>
                  <a:lnTo>
                    <a:pt x="12829" y="7441"/>
                  </a:lnTo>
                  <a:lnTo>
                    <a:pt x="13154" y="7078"/>
                  </a:lnTo>
                  <a:lnTo>
                    <a:pt x="13317" y="6715"/>
                  </a:lnTo>
                  <a:lnTo>
                    <a:pt x="13642" y="6352"/>
                  </a:lnTo>
                  <a:lnTo>
                    <a:pt x="13966" y="6171"/>
                  </a:lnTo>
                  <a:lnTo>
                    <a:pt x="14291" y="5808"/>
                  </a:lnTo>
                  <a:lnTo>
                    <a:pt x="14778" y="5445"/>
                  </a:lnTo>
                  <a:lnTo>
                    <a:pt x="15103" y="5082"/>
                  </a:lnTo>
                  <a:lnTo>
                    <a:pt x="15428" y="4719"/>
                  </a:lnTo>
                  <a:lnTo>
                    <a:pt x="15915" y="4356"/>
                  </a:lnTo>
                  <a:lnTo>
                    <a:pt x="16565" y="3992"/>
                  </a:lnTo>
                  <a:lnTo>
                    <a:pt x="16890" y="3992"/>
                  </a:lnTo>
                  <a:lnTo>
                    <a:pt x="17539" y="3630"/>
                  </a:lnTo>
                  <a:lnTo>
                    <a:pt x="18026" y="3267"/>
                  </a:lnTo>
                  <a:lnTo>
                    <a:pt x="18839" y="3085"/>
                  </a:lnTo>
                  <a:lnTo>
                    <a:pt x="19488" y="2904"/>
                  </a:lnTo>
                  <a:lnTo>
                    <a:pt x="20300" y="2722"/>
                  </a:lnTo>
                  <a:lnTo>
                    <a:pt x="20625" y="2722"/>
                  </a:lnTo>
                  <a:lnTo>
                    <a:pt x="20950" y="2177"/>
                  </a:lnTo>
                  <a:lnTo>
                    <a:pt x="21275" y="1996"/>
                  </a:lnTo>
                  <a:lnTo>
                    <a:pt x="21437" y="1633"/>
                  </a:lnTo>
                  <a:lnTo>
                    <a:pt x="21600" y="1451"/>
                  </a:lnTo>
                  <a:lnTo>
                    <a:pt x="21600" y="1088"/>
                  </a:lnTo>
                  <a:lnTo>
                    <a:pt x="21275" y="725"/>
                  </a:lnTo>
                  <a:lnTo>
                    <a:pt x="21112" y="362"/>
                  </a:lnTo>
                  <a:lnTo>
                    <a:pt x="20787" y="181"/>
                  </a:lnTo>
                  <a:lnTo>
                    <a:pt x="20138" y="0"/>
                  </a:lnTo>
                  <a:lnTo>
                    <a:pt x="19650" y="181"/>
                  </a:lnTo>
                  <a:lnTo>
                    <a:pt x="19488" y="181"/>
                  </a:lnTo>
                  <a:lnTo>
                    <a:pt x="18839" y="362"/>
                  </a:lnTo>
                  <a:lnTo>
                    <a:pt x="18026" y="907"/>
                  </a:lnTo>
                  <a:lnTo>
                    <a:pt x="17377" y="1633"/>
                  </a:lnTo>
                  <a:lnTo>
                    <a:pt x="17052" y="1996"/>
                  </a:lnTo>
                  <a:lnTo>
                    <a:pt x="16727" y="2359"/>
                  </a:lnTo>
                  <a:lnTo>
                    <a:pt x="16078" y="2722"/>
                  </a:lnTo>
                  <a:lnTo>
                    <a:pt x="15590" y="3085"/>
                  </a:lnTo>
                  <a:lnTo>
                    <a:pt x="14941" y="3630"/>
                  </a:lnTo>
                  <a:lnTo>
                    <a:pt x="14453" y="3992"/>
                  </a:lnTo>
                  <a:lnTo>
                    <a:pt x="13966" y="4537"/>
                  </a:lnTo>
                  <a:lnTo>
                    <a:pt x="13154" y="5082"/>
                  </a:lnTo>
                  <a:lnTo>
                    <a:pt x="12667" y="5626"/>
                  </a:lnTo>
                  <a:lnTo>
                    <a:pt x="12017" y="5808"/>
                  </a:lnTo>
                  <a:lnTo>
                    <a:pt x="11368" y="6352"/>
                  </a:lnTo>
                  <a:lnTo>
                    <a:pt x="10718" y="6897"/>
                  </a:lnTo>
                  <a:lnTo>
                    <a:pt x="10068" y="7260"/>
                  </a:lnTo>
                  <a:lnTo>
                    <a:pt x="9419" y="7805"/>
                  </a:lnTo>
                  <a:lnTo>
                    <a:pt x="8607" y="8349"/>
                  </a:lnTo>
                  <a:lnTo>
                    <a:pt x="7957" y="8893"/>
                  </a:lnTo>
                  <a:lnTo>
                    <a:pt x="7307" y="9438"/>
                  </a:lnTo>
                  <a:lnTo>
                    <a:pt x="6658" y="9982"/>
                  </a:lnTo>
                  <a:lnTo>
                    <a:pt x="5846" y="10527"/>
                  </a:lnTo>
                  <a:lnTo>
                    <a:pt x="5359" y="10890"/>
                  </a:lnTo>
                  <a:lnTo>
                    <a:pt x="4709" y="11253"/>
                  </a:lnTo>
                  <a:lnTo>
                    <a:pt x="4222" y="11616"/>
                  </a:lnTo>
                  <a:lnTo>
                    <a:pt x="3572" y="12342"/>
                  </a:lnTo>
                  <a:lnTo>
                    <a:pt x="2923" y="12887"/>
                  </a:lnTo>
                  <a:lnTo>
                    <a:pt x="2598" y="13250"/>
                  </a:lnTo>
                  <a:lnTo>
                    <a:pt x="2111" y="13794"/>
                  </a:lnTo>
                  <a:lnTo>
                    <a:pt x="1786" y="14520"/>
                  </a:lnTo>
                  <a:lnTo>
                    <a:pt x="1299" y="14883"/>
                  </a:lnTo>
                  <a:lnTo>
                    <a:pt x="974" y="15428"/>
                  </a:lnTo>
                  <a:lnTo>
                    <a:pt x="811" y="15791"/>
                  </a:lnTo>
                  <a:lnTo>
                    <a:pt x="649" y="16154"/>
                  </a:lnTo>
                  <a:lnTo>
                    <a:pt x="324" y="16880"/>
                  </a:lnTo>
                  <a:lnTo>
                    <a:pt x="162" y="17787"/>
                  </a:lnTo>
                  <a:lnTo>
                    <a:pt x="0" y="18514"/>
                  </a:lnTo>
                  <a:lnTo>
                    <a:pt x="0" y="19240"/>
                  </a:lnTo>
                  <a:lnTo>
                    <a:pt x="162" y="19966"/>
                  </a:lnTo>
                  <a:lnTo>
                    <a:pt x="162" y="20329"/>
                  </a:lnTo>
                  <a:lnTo>
                    <a:pt x="324" y="20692"/>
                  </a:lnTo>
                  <a:lnTo>
                    <a:pt x="324" y="21055"/>
                  </a:lnTo>
                  <a:lnTo>
                    <a:pt x="649" y="21418"/>
                  </a:lnTo>
                  <a:lnTo>
                    <a:pt x="974" y="21600"/>
                  </a:lnTo>
                  <a:lnTo>
                    <a:pt x="1299" y="21418"/>
                  </a:lnTo>
                  <a:lnTo>
                    <a:pt x="1623" y="21418"/>
                  </a:lnTo>
                  <a:lnTo>
                    <a:pt x="1948" y="21236"/>
                  </a:lnTo>
                  <a:lnTo>
                    <a:pt x="2111" y="21055"/>
                  </a:lnTo>
                  <a:lnTo>
                    <a:pt x="2598" y="20692"/>
                  </a:lnTo>
                  <a:lnTo>
                    <a:pt x="2923" y="20329"/>
                  </a:lnTo>
                  <a:lnTo>
                    <a:pt x="3248" y="19784"/>
                  </a:lnTo>
                  <a:lnTo>
                    <a:pt x="3572" y="19240"/>
                  </a:lnTo>
                  <a:lnTo>
                    <a:pt x="4059" y="18695"/>
                  </a:lnTo>
                  <a:lnTo>
                    <a:pt x="4222" y="18514"/>
                  </a:lnTo>
                  <a:lnTo>
                    <a:pt x="4384" y="18151"/>
                  </a:lnTo>
                  <a:lnTo>
                    <a:pt x="4871" y="17787"/>
                  </a:lnTo>
                  <a:lnTo>
                    <a:pt x="5196" y="17606"/>
                  </a:lnTo>
                  <a:lnTo>
                    <a:pt x="5359" y="17243"/>
                  </a:lnTo>
                  <a:lnTo>
                    <a:pt x="5684" y="17061"/>
                  </a:lnTo>
                  <a:lnTo>
                    <a:pt x="6008" y="16880"/>
                  </a:lnTo>
                  <a:lnTo>
                    <a:pt x="6333" y="16517"/>
                  </a:lnTo>
                  <a:lnTo>
                    <a:pt x="6333" y="16336"/>
                  </a:lnTo>
                  <a:lnTo>
                    <a:pt x="6658" y="15972"/>
                  </a:lnTo>
                  <a:lnTo>
                    <a:pt x="6983" y="15610"/>
                  </a:lnTo>
                  <a:lnTo>
                    <a:pt x="7145" y="15246"/>
                  </a:lnTo>
                  <a:lnTo>
                    <a:pt x="7632" y="14520"/>
                  </a:lnTo>
                  <a:lnTo>
                    <a:pt x="7795" y="14157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2013120" y="5483520"/>
              <a:ext cx="590400" cy="1258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792" y="5781"/>
                  </a:moveTo>
                  <a:lnTo>
                    <a:pt x="15054" y="5582"/>
                  </a:lnTo>
                  <a:lnTo>
                    <a:pt x="15054" y="5383"/>
                  </a:lnTo>
                  <a:lnTo>
                    <a:pt x="15054" y="5117"/>
                  </a:lnTo>
                  <a:lnTo>
                    <a:pt x="15185" y="4918"/>
                  </a:lnTo>
                  <a:lnTo>
                    <a:pt x="15054" y="4652"/>
                  </a:lnTo>
                  <a:lnTo>
                    <a:pt x="15054" y="4386"/>
                  </a:lnTo>
                  <a:lnTo>
                    <a:pt x="14923" y="4053"/>
                  </a:lnTo>
                  <a:lnTo>
                    <a:pt x="14923" y="3788"/>
                  </a:lnTo>
                  <a:lnTo>
                    <a:pt x="14923" y="3522"/>
                  </a:lnTo>
                  <a:lnTo>
                    <a:pt x="14792" y="3190"/>
                  </a:lnTo>
                  <a:lnTo>
                    <a:pt x="14923" y="2924"/>
                  </a:lnTo>
                  <a:lnTo>
                    <a:pt x="15054" y="2658"/>
                  </a:lnTo>
                  <a:lnTo>
                    <a:pt x="14923" y="2459"/>
                  </a:lnTo>
                  <a:lnTo>
                    <a:pt x="15054" y="2193"/>
                  </a:lnTo>
                  <a:lnTo>
                    <a:pt x="15316" y="2060"/>
                  </a:lnTo>
                  <a:lnTo>
                    <a:pt x="15578" y="1860"/>
                  </a:lnTo>
                  <a:lnTo>
                    <a:pt x="15970" y="1727"/>
                  </a:lnTo>
                  <a:lnTo>
                    <a:pt x="16494" y="1594"/>
                  </a:lnTo>
                  <a:lnTo>
                    <a:pt x="17018" y="1328"/>
                  </a:lnTo>
                  <a:lnTo>
                    <a:pt x="17410" y="1129"/>
                  </a:lnTo>
                  <a:lnTo>
                    <a:pt x="18065" y="863"/>
                  </a:lnTo>
                  <a:lnTo>
                    <a:pt x="18588" y="664"/>
                  </a:lnTo>
                  <a:lnTo>
                    <a:pt x="18850" y="465"/>
                  </a:lnTo>
                  <a:lnTo>
                    <a:pt x="19374" y="265"/>
                  </a:lnTo>
                  <a:lnTo>
                    <a:pt x="19767" y="132"/>
                  </a:lnTo>
                  <a:lnTo>
                    <a:pt x="19897" y="66"/>
                  </a:lnTo>
                  <a:lnTo>
                    <a:pt x="20159" y="0"/>
                  </a:lnTo>
                  <a:lnTo>
                    <a:pt x="20028" y="66"/>
                  </a:lnTo>
                  <a:lnTo>
                    <a:pt x="19897" y="66"/>
                  </a:lnTo>
                  <a:lnTo>
                    <a:pt x="19505" y="199"/>
                  </a:lnTo>
                  <a:lnTo>
                    <a:pt x="18850" y="398"/>
                  </a:lnTo>
                  <a:lnTo>
                    <a:pt x="18196" y="731"/>
                  </a:lnTo>
                  <a:lnTo>
                    <a:pt x="17803" y="930"/>
                  </a:lnTo>
                  <a:lnTo>
                    <a:pt x="17148" y="1129"/>
                  </a:lnTo>
                  <a:lnTo>
                    <a:pt x="16756" y="1262"/>
                  </a:lnTo>
                  <a:lnTo>
                    <a:pt x="16494" y="1462"/>
                  </a:lnTo>
                  <a:lnTo>
                    <a:pt x="16101" y="1594"/>
                  </a:lnTo>
                  <a:lnTo>
                    <a:pt x="15578" y="1794"/>
                  </a:lnTo>
                  <a:lnTo>
                    <a:pt x="15316" y="1993"/>
                  </a:lnTo>
                  <a:lnTo>
                    <a:pt x="14792" y="2259"/>
                  </a:lnTo>
                  <a:lnTo>
                    <a:pt x="14661" y="2392"/>
                  </a:lnTo>
                  <a:lnTo>
                    <a:pt x="14268" y="2658"/>
                  </a:lnTo>
                  <a:lnTo>
                    <a:pt x="14007" y="2857"/>
                  </a:lnTo>
                  <a:lnTo>
                    <a:pt x="13876" y="2990"/>
                  </a:lnTo>
                  <a:lnTo>
                    <a:pt x="13483" y="3322"/>
                  </a:lnTo>
                  <a:lnTo>
                    <a:pt x="13352" y="3588"/>
                  </a:lnTo>
                  <a:lnTo>
                    <a:pt x="13352" y="3854"/>
                  </a:lnTo>
                  <a:lnTo>
                    <a:pt x="13352" y="4186"/>
                  </a:lnTo>
                  <a:lnTo>
                    <a:pt x="13221" y="4253"/>
                  </a:lnTo>
                  <a:lnTo>
                    <a:pt x="13221" y="4386"/>
                  </a:lnTo>
                  <a:lnTo>
                    <a:pt x="13221" y="4519"/>
                  </a:lnTo>
                  <a:lnTo>
                    <a:pt x="13221" y="4652"/>
                  </a:lnTo>
                  <a:lnTo>
                    <a:pt x="12959" y="4784"/>
                  </a:lnTo>
                  <a:lnTo>
                    <a:pt x="12959" y="5050"/>
                  </a:lnTo>
                  <a:lnTo>
                    <a:pt x="12828" y="5183"/>
                  </a:lnTo>
                  <a:lnTo>
                    <a:pt x="12828" y="5383"/>
                  </a:lnTo>
                  <a:lnTo>
                    <a:pt x="12698" y="5516"/>
                  </a:lnTo>
                  <a:lnTo>
                    <a:pt x="12698" y="5715"/>
                  </a:lnTo>
                  <a:lnTo>
                    <a:pt x="12698" y="5981"/>
                  </a:lnTo>
                  <a:lnTo>
                    <a:pt x="12567" y="6180"/>
                  </a:lnTo>
                  <a:lnTo>
                    <a:pt x="12567" y="6446"/>
                  </a:lnTo>
                  <a:lnTo>
                    <a:pt x="12567" y="6645"/>
                  </a:lnTo>
                  <a:lnTo>
                    <a:pt x="12436" y="6845"/>
                  </a:lnTo>
                  <a:lnTo>
                    <a:pt x="12567" y="7111"/>
                  </a:lnTo>
                  <a:lnTo>
                    <a:pt x="12567" y="7177"/>
                  </a:lnTo>
                  <a:lnTo>
                    <a:pt x="12567" y="7310"/>
                  </a:lnTo>
                  <a:lnTo>
                    <a:pt x="12567" y="7443"/>
                  </a:lnTo>
                  <a:lnTo>
                    <a:pt x="12698" y="7642"/>
                  </a:lnTo>
                  <a:lnTo>
                    <a:pt x="12698" y="7842"/>
                  </a:lnTo>
                  <a:lnTo>
                    <a:pt x="12828" y="8108"/>
                  </a:lnTo>
                  <a:lnTo>
                    <a:pt x="12828" y="8373"/>
                  </a:lnTo>
                  <a:lnTo>
                    <a:pt x="12828" y="8639"/>
                  </a:lnTo>
                  <a:lnTo>
                    <a:pt x="12959" y="8839"/>
                  </a:lnTo>
                  <a:lnTo>
                    <a:pt x="12828" y="9104"/>
                  </a:lnTo>
                  <a:lnTo>
                    <a:pt x="12959" y="9370"/>
                  </a:lnTo>
                  <a:lnTo>
                    <a:pt x="12959" y="9636"/>
                  </a:lnTo>
                  <a:lnTo>
                    <a:pt x="13090" y="9902"/>
                  </a:lnTo>
                  <a:lnTo>
                    <a:pt x="12959" y="9969"/>
                  </a:lnTo>
                  <a:lnTo>
                    <a:pt x="13090" y="10168"/>
                  </a:lnTo>
                  <a:lnTo>
                    <a:pt x="12959" y="10234"/>
                  </a:lnTo>
                  <a:lnTo>
                    <a:pt x="12959" y="10367"/>
                  </a:lnTo>
                  <a:lnTo>
                    <a:pt x="13090" y="10567"/>
                  </a:lnTo>
                  <a:lnTo>
                    <a:pt x="13221" y="10832"/>
                  </a:lnTo>
                  <a:lnTo>
                    <a:pt x="13352" y="11098"/>
                  </a:lnTo>
                  <a:lnTo>
                    <a:pt x="13483" y="11364"/>
                  </a:lnTo>
                  <a:lnTo>
                    <a:pt x="13745" y="11630"/>
                  </a:lnTo>
                  <a:lnTo>
                    <a:pt x="13876" y="11962"/>
                  </a:lnTo>
                  <a:lnTo>
                    <a:pt x="14138" y="12228"/>
                  </a:lnTo>
                  <a:lnTo>
                    <a:pt x="14399" y="12560"/>
                  </a:lnTo>
                  <a:lnTo>
                    <a:pt x="14530" y="12760"/>
                  </a:lnTo>
                  <a:lnTo>
                    <a:pt x="14792" y="13026"/>
                  </a:lnTo>
                  <a:lnTo>
                    <a:pt x="14923" y="13159"/>
                  </a:lnTo>
                  <a:lnTo>
                    <a:pt x="15054" y="13225"/>
                  </a:lnTo>
                  <a:lnTo>
                    <a:pt x="15185" y="13225"/>
                  </a:lnTo>
                  <a:lnTo>
                    <a:pt x="15316" y="13092"/>
                  </a:lnTo>
                  <a:lnTo>
                    <a:pt x="15316" y="12959"/>
                  </a:lnTo>
                  <a:lnTo>
                    <a:pt x="15316" y="12694"/>
                  </a:lnTo>
                  <a:lnTo>
                    <a:pt x="15447" y="12494"/>
                  </a:lnTo>
                  <a:lnTo>
                    <a:pt x="15316" y="12228"/>
                  </a:lnTo>
                  <a:lnTo>
                    <a:pt x="15185" y="11896"/>
                  </a:lnTo>
                  <a:lnTo>
                    <a:pt x="15054" y="11697"/>
                  </a:lnTo>
                  <a:lnTo>
                    <a:pt x="14923" y="11431"/>
                  </a:lnTo>
                  <a:lnTo>
                    <a:pt x="14792" y="11231"/>
                  </a:lnTo>
                  <a:lnTo>
                    <a:pt x="14661" y="10966"/>
                  </a:lnTo>
                  <a:lnTo>
                    <a:pt x="14792" y="10633"/>
                  </a:lnTo>
                  <a:lnTo>
                    <a:pt x="14661" y="10434"/>
                  </a:lnTo>
                  <a:lnTo>
                    <a:pt x="14661" y="10101"/>
                  </a:lnTo>
                  <a:lnTo>
                    <a:pt x="14661" y="9836"/>
                  </a:lnTo>
                  <a:lnTo>
                    <a:pt x="14792" y="9636"/>
                  </a:lnTo>
                  <a:lnTo>
                    <a:pt x="15054" y="9370"/>
                  </a:lnTo>
                  <a:lnTo>
                    <a:pt x="15316" y="9104"/>
                  </a:lnTo>
                  <a:lnTo>
                    <a:pt x="15447" y="8839"/>
                  </a:lnTo>
                  <a:lnTo>
                    <a:pt x="15708" y="8706"/>
                  </a:lnTo>
                  <a:lnTo>
                    <a:pt x="15839" y="8706"/>
                  </a:lnTo>
                  <a:lnTo>
                    <a:pt x="15970" y="8706"/>
                  </a:lnTo>
                  <a:lnTo>
                    <a:pt x="16232" y="8772"/>
                  </a:lnTo>
                  <a:lnTo>
                    <a:pt x="16363" y="8772"/>
                  </a:lnTo>
                  <a:lnTo>
                    <a:pt x="16494" y="8839"/>
                  </a:lnTo>
                  <a:lnTo>
                    <a:pt x="16756" y="8972"/>
                  </a:lnTo>
                  <a:lnTo>
                    <a:pt x="16887" y="9104"/>
                  </a:lnTo>
                  <a:lnTo>
                    <a:pt x="17148" y="9238"/>
                  </a:lnTo>
                  <a:lnTo>
                    <a:pt x="17279" y="9437"/>
                  </a:lnTo>
                  <a:lnTo>
                    <a:pt x="17279" y="9503"/>
                  </a:lnTo>
                  <a:lnTo>
                    <a:pt x="17541" y="9769"/>
                  </a:lnTo>
                  <a:lnTo>
                    <a:pt x="17803" y="9902"/>
                  </a:lnTo>
                  <a:lnTo>
                    <a:pt x="17803" y="10101"/>
                  </a:lnTo>
                  <a:lnTo>
                    <a:pt x="18065" y="10367"/>
                  </a:lnTo>
                  <a:lnTo>
                    <a:pt x="18196" y="10567"/>
                  </a:lnTo>
                  <a:lnTo>
                    <a:pt x="18327" y="10766"/>
                  </a:lnTo>
                  <a:lnTo>
                    <a:pt x="18458" y="11032"/>
                  </a:lnTo>
                  <a:lnTo>
                    <a:pt x="18588" y="11298"/>
                  </a:lnTo>
                  <a:lnTo>
                    <a:pt x="18719" y="11364"/>
                  </a:lnTo>
                  <a:lnTo>
                    <a:pt x="18719" y="11563"/>
                  </a:lnTo>
                  <a:lnTo>
                    <a:pt x="18850" y="11763"/>
                  </a:lnTo>
                  <a:lnTo>
                    <a:pt x="18981" y="11962"/>
                  </a:lnTo>
                  <a:lnTo>
                    <a:pt x="18981" y="12162"/>
                  </a:lnTo>
                  <a:lnTo>
                    <a:pt x="19112" y="12361"/>
                  </a:lnTo>
                  <a:lnTo>
                    <a:pt x="19243" y="12560"/>
                  </a:lnTo>
                  <a:lnTo>
                    <a:pt x="19374" y="12627"/>
                  </a:lnTo>
                  <a:lnTo>
                    <a:pt x="19374" y="12760"/>
                  </a:lnTo>
                  <a:lnTo>
                    <a:pt x="19374" y="12826"/>
                  </a:lnTo>
                  <a:lnTo>
                    <a:pt x="19505" y="12959"/>
                  </a:lnTo>
                  <a:lnTo>
                    <a:pt x="19505" y="12959"/>
                  </a:lnTo>
                  <a:lnTo>
                    <a:pt x="19505" y="13026"/>
                  </a:lnTo>
                  <a:lnTo>
                    <a:pt x="19636" y="13358"/>
                  </a:lnTo>
                  <a:lnTo>
                    <a:pt x="19767" y="13690"/>
                  </a:lnTo>
                  <a:lnTo>
                    <a:pt x="19897" y="13823"/>
                  </a:lnTo>
                  <a:lnTo>
                    <a:pt x="20028" y="14156"/>
                  </a:lnTo>
                  <a:lnTo>
                    <a:pt x="20028" y="14488"/>
                  </a:lnTo>
                  <a:lnTo>
                    <a:pt x="20159" y="14754"/>
                  </a:lnTo>
                  <a:lnTo>
                    <a:pt x="20159" y="15020"/>
                  </a:lnTo>
                  <a:lnTo>
                    <a:pt x="20290" y="15286"/>
                  </a:lnTo>
                  <a:lnTo>
                    <a:pt x="20421" y="15551"/>
                  </a:lnTo>
                  <a:lnTo>
                    <a:pt x="20421" y="15817"/>
                  </a:lnTo>
                  <a:lnTo>
                    <a:pt x="20552" y="16017"/>
                  </a:lnTo>
                  <a:lnTo>
                    <a:pt x="20421" y="16283"/>
                  </a:lnTo>
                  <a:lnTo>
                    <a:pt x="20421" y="16548"/>
                  </a:lnTo>
                  <a:lnTo>
                    <a:pt x="20421" y="16880"/>
                  </a:lnTo>
                  <a:lnTo>
                    <a:pt x="20421" y="17080"/>
                  </a:lnTo>
                  <a:lnTo>
                    <a:pt x="20290" y="17279"/>
                  </a:lnTo>
                  <a:lnTo>
                    <a:pt x="20290" y="17479"/>
                  </a:lnTo>
                  <a:lnTo>
                    <a:pt x="20290" y="17678"/>
                  </a:lnTo>
                  <a:lnTo>
                    <a:pt x="20159" y="17944"/>
                  </a:lnTo>
                  <a:lnTo>
                    <a:pt x="20028" y="18210"/>
                  </a:lnTo>
                  <a:lnTo>
                    <a:pt x="19897" y="18343"/>
                  </a:lnTo>
                  <a:lnTo>
                    <a:pt x="19767" y="18476"/>
                  </a:lnTo>
                  <a:lnTo>
                    <a:pt x="19636" y="18675"/>
                  </a:lnTo>
                  <a:lnTo>
                    <a:pt x="19505" y="18941"/>
                  </a:lnTo>
                  <a:lnTo>
                    <a:pt x="19374" y="19074"/>
                  </a:lnTo>
                  <a:lnTo>
                    <a:pt x="19112" y="19207"/>
                  </a:lnTo>
                  <a:lnTo>
                    <a:pt x="18981" y="19406"/>
                  </a:lnTo>
                  <a:lnTo>
                    <a:pt x="18719" y="19539"/>
                  </a:lnTo>
                  <a:lnTo>
                    <a:pt x="18588" y="19605"/>
                  </a:lnTo>
                  <a:lnTo>
                    <a:pt x="18196" y="19805"/>
                  </a:lnTo>
                  <a:lnTo>
                    <a:pt x="17803" y="20004"/>
                  </a:lnTo>
                  <a:lnTo>
                    <a:pt x="17803" y="20071"/>
                  </a:lnTo>
                  <a:lnTo>
                    <a:pt x="17410" y="20137"/>
                  </a:lnTo>
                  <a:lnTo>
                    <a:pt x="17018" y="20270"/>
                  </a:lnTo>
                  <a:lnTo>
                    <a:pt x="16625" y="20337"/>
                  </a:lnTo>
                  <a:lnTo>
                    <a:pt x="16363" y="20337"/>
                  </a:lnTo>
                  <a:lnTo>
                    <a:pt x="15970" y="20403"/>
                  </a:lnTo>
                  <a:lnTo>
                    <a:pt x="15708" y="20337"/>
                  </a:lnTo>
                  <a:lnTo>
                    <a:pt x="15316" y="20337"/>
                  </a:lnTo>
                  <a:lnTo>
                    <a:pt x="14923" y="20204"/>
                  </a:lnTo>
                  <a:lnTo>
                    <a:pt x="14399" y="20137"/>
                  </a:lnTo>
                  <a:lnTo>
                    <a:pt x="14007" y="20071"/>
                  </a:lnTo>
                  <a:lnTo>
                    <a:pt x="13745" y="20004"/>
                  </a:lnTo>
                  <a:lnTo>
                    <a:pt x="13352" y="19871"/>
                  </a:lnTo>
                  <a:lnTo>
                    <a:pt x="12959" y="19672"/>
                  </a:lnTo>
                  <a:lnTo>
                    <a:pt x="12436" y="19539"/>
                  </a:lnTo>
                  <a:lnTo>
                    <a:pt x="12174" y="19406"/>
                  </a:lnTo>
                  <a:lnTo>
                    <a:pt x="11781" y="19207"/>
                  </a:lnTo>
                  <a:lnTo>
                    <a:pt x="11388" y="19074"/>
                  </a:lnTo>
                  <a:lnTo>
                    <a:pt x="10996" y="18808"/>
                  </a:lnTo>
                  <a:lnTo>
                    <a:pt x="10603" y="18608"/>
                  </a:lnTo>
                  <a:lnTo>
                    <a:pt x="10210" y="18343"/>
                  </a:lnTo>
                  <a:lnTo>
                    <a:pt x="9686" y="18143"/>
                  </a:lnTo>
                  <a:lnTo>
                    <a:pt x="9425" y="18010"/>
                  </a:lnTo>
                  <a:lnTo>
                    <a:pt x="9032" y="17745"/>
                  </a:lnTo>
                  <a:lnTo>
                    <a:pt x="8639" y="17479"/>
                  </a:lnTo>
                  <a:lnTo>
                    <a:pt x="8246" y="17213"/>
                  </a:lnTo>
                  <a:lnTo>
                    <a:pt x="7854" y="17014"/>
                  </a:lnTo>
                  <a:lnTo>
                    <a:pt x="7723" y="16748"/>
                  </a:lnTo>
                  <a:lnTo>
                    <a:pt x="7330" y="16482"/>
                  </a:lnTo>
                  <a:lnTo>
                    <a:pt x="7069" y="16216"/>
                  </a:lnTo>
                  <a:lnTo>
                    <a:pt x="6676" y="15950"/>
                  </a:lnTo>
                  <a:lnTo>
                    <a:pt x="6414" y="15751"/>
                  </a:lnTo>
                  <a:lnTo>
                    <a:pt x="6152" y="15485"/>
                  </a:lnTo>
                  <a:lnTo>
                    <a:pt x="5890" y="15153"/>
                  </a:lnTo>
                  <a:lnTo>
                    <a:pt x="5629" y="14820"/>
                  </a:lnTo>
                  <a:lnTo>
                    <a:pt x="5367" y="14421"/>
                  </a:lnTo>
                  <a:lnTo>
                    <a:pt x="5105" y="14089"/>
                  </a:lnTo>
                  <a:lnTo>
                    <a:pt x="4843" y="13757"/>
                  </a:lnTo>
                  <a:lnTo>
                    <a:pt x="4581" y="13425"/>
                  </a:lnTo>
                  <a:lnTo>
                    <a:pt x="4189" y="13026"/>
                  </a:lnTo>
                  <a:lnTo>
                    <a:pt x="4057" y="12694"/>
                  </a:lnTo>
                  <a:lnTo>
                    <a:pt x="3927" y="12361"/>
                  </a:lnTo>
                  <a:lnTo>
                    <a:pt x="3665" y="12029"/>
                  </a:lnTo>
                  <a:lnTo>
                    <a:pt x="3534" y="11763"/>
                  </a:lnTo>
                  <a:lnTo>
                    <a:pt x="3534" y="11364"/>
                  </a:lnTo>
                  <a:lnTo>
                    <a:pt x="3403" y="11098"/>
                  </a:lnTo>
                  <a:lnTo>
                    <a:pt x="3272" y="10832"/>
                  </a:lnTo>
                  <a:lnTo>
                    <a:pt x="3272" y="10500"/>
                  </a:lnTo>
                  <a:lnTo>
                    <a:pt x="3141" y="10101"/>
                  </a:lnTo>
                  <a:lnTo>
                    <a:pt x="3141" y="9836"/>
                  </a:lnTo>
                  <a:lnTo>
                    <a:pt x="3141" y="9570"/>
                  </a:lnTo>
                  <a:lnTo>
                    <a:pt x="3141" y="9238"/>
                  </a:lnTo>
                  <a:lnTo>
                    <a:pt x="3141" y="8972"/>
                  </a:lnTo>
                  <a:lnTo>
                    <a:pt x="3141" y="8639"/>
                  </a:lnTo>
                  <a:lnTo>
                    <a:pt x="3272" y="8373"/>
                  </a:lnTo>
                  <a:lnTo>
                    <a:pt x="3403" y="8108"/>
                  </a:lnTo>
                  <a:lnTo>
                    <a:pt x="3403" y="7842"/>
                  </a:lnTo>
                  <a:lnTo>
                    <a:pt x="3534" y="7576"/>
                  </a:lnTo>
                  <a:lnTo>
                    <a:pt x="3665" y="7377"/>
                  </a:lnTo>
                  <a:lnTo>
                    <a:pt x="3796" y="7177"/>
                  </a:lnTo>
                  <a:lnTo>
                    <a:pt x="3927" y="6978"/>
                  </a:lnTo>
                  <a:lnTo>
                    <a:pt x="4189" y="6712"/>
                  </a:lnTo>
                  <a:lnTo>
                    <a:pt x="4319" y="6513"/>
                  </a:lnTo>
                  <a:lnTo>
                    <a:pt x="4581" y="6313"/>
                  </a:lnTo>
                  <a:lnTo>
                    <a:pt x="4843" y="6247"/>
                  </a:lnTo>
                  <a:lnTo>
                    <a:pt x="4974" y="6180"/>
                  </a:lnTo>
                  <a:lnTo>
                    <a:pt x="4974" y="6180"/>
                  </a:lnTo>
                  <a:lnTo>
                    <a:pt x="4843" y="6180"/>
                  </a:lnTo>
                  <a:lnTo>
                    <a:pt x="4712" y="6247"/>
                  </a:lnTo>
                  <a:lnTo>
                    <a:pt x="4319" y="6313"/>
                  </a:lnTo>
                  <a:lnTo>
                    <a:pt x="4057" y="6380"/>
                  </a:lnTo>
                  <a:lnTo>
                    <a:pt x="3796" y="6513"/>
                  </a:lnTo>
                  <a:lnTo>
                    <a:pt x="3534" y="6645"/>
                  </a:lnTo>
                  <a:lnTo>
                    <a:pt x="3141" y="6779"/>
                  </a:lnTo>
                  <a:lnTo>
                    <a:pt x="2748" y="6978"/>
                  </a:lnTo>
                  <a:lnTo>
                    <a:pt x="2356" y="7111"/>
                  </a:lnTo>
                  <a:lnTo>
                    <a:pt x="2094" y="7310"/>
                  </a:lnTo>
                  <a:lnTo>
                    <a:pt x="1701" y="7377"/>
                  </a:lnTo>
                  <a:lnTo>
                    <a:pt x="1570" y="7576"/>
                  </a:lnTo>
                  <a:lnTo>
                    <a:pt x="1308" y="7642"/>
                  </a:lnTo>
                  <a:lnTo>
                    <a:pt x="1047" y="7775"/>
                  </a:lnTo>
                  <a:lnTo>
                    <a:pt x="785" y="7842"/>
                  </a:lnTo>
                  <a:lnTo>
                    <a:pt x="654" y="8041"/>
                  </a:lnTo>
                  <a:lnTo>
                    <a:pt x="523" y="8307"/>
                  </a:lnTo>
                  <a:lnTo>
                    <a:pt x="261" y="8507"/>
                  </a:lnTo>
                  <a:lnTo>
                    <a:pt x="130" y="8706"/>
                  </a:lnTo>
                  <a:lnTo>
                    <a:pt x="0" y="9038"/>
                  </a:lnTo>
                  <a:lnTo>
                    <a:pt x="130" y="9238"/>
                  </a:lnTo>
                  <a:lnTo>
                    <a:pt x="0" y="9570"/>
                  </a:lnTo>
                  <a:lnTo>
                    <a:pt x="0" y="9902"/>
                  </a:lnTo>
                  <a:lnTo>
                    <a:pt x="0" y="10168"/>
                  </a:lnTo>
                  <a:lnTo>
                    <a:pt x="0" y="10500"/>
                  </a:lnTo>
                  <a:lnTo>
                    <a:pt x="0" y="10832"/>
                  </a:lnTo>
                  <a:lnTo>
                    <a:pt x="0" y="11231"/>
                  </a:lnTo>
                  <a:lnTo>
                    <a:pt x="130" y="11497"/>
                  </a:lnTo>
                  <a:lnTo>
                    <a:pt x="261" y="11896"/>
                  </a:lnTo>
                  <a:lnTo>
                    <a:pt x="392" y="12295"/>
                  </a:lnTo>
                  <a:lnTo>
                    <a:pt x="654" y="12627"/>
                  </a:lnTo>
                  <a:lnTo>
                    <a:pt x="785" y="13026"/>
                  </a:lnTo>
                  <a:lnTo>
                    <a:pt x="916" y="13425"/>
                  </a:lnTo>
                  <a:lnTo>
                    <a:pt x="1047" y="13757"/>
                  </a:lnTo>
                  <a:lnTo>
                    <a:pt x="1439" y="14222"/>
                  </a:lnTo>
                  <a:lnTo>
                    <a:pt x="1701" y="14555"/>
                  </a:lnTo>
                  <a:lnTo>
                    <a:pt x="1963" y="14953"/>
                  </a:lnTo>
                  <a:lnTo>
                    <a:pt x="2225" y="15352"/>
                  </a:lnTo>
                  <a:lnTo>
                    <a:pt x="2617" y="15751"/>
                  </a:lnTo>
                  <a:lnTo>
                    <a:pt x="3010" y="16083"/>
                  </a:lnTo>
                  <a:lnTo>
                    <a:pt x="3272" y="16548"/>
                  </a:lnTo>
                  <a:lnTo>
                    <a:pt x="3665" y="16814"/>
                  </a:lnTo>
                  <a:lnTo>
                    <a:pt x="4057" y="17213"/>
                  </a:lnTo>
                  <a:lnTo>
                    <a:pt x="4581" y="17545"/>
                  </a:lnTo>
                  <a:lnTo>
                    <a:pt x="4974" y="17877"/>
                  </a:lnTo>
                  <a:lnTo>
                    <a:pt x="5497" y="18143"/>
                  </a:lnTo>
                  <a:lnTo>
                    <a:pt x="6414" y="18808"/>
                  </a:lnTo>
                  <a:lnTo>
                    <a:pt x="7592" y="19406"/>
                  </a:lnTo>
                  <a:lnTo>
                    <a:pt x="8639" y="19938"/>
                  </a:lnTo>
                  <a:lnTo>
                    <a:pt x="9556" y="20337"/>
                  </a:lnTo>
                  <a:lnTo>
                    <a:pt x="10472" y="20669"/>
                  </a:lnTo>
                  <a:lnTo>
                    <a:pt x="11388" y="20935"/>
                  </a:lnTo>
                  <a:lnTo>
                    <a:pt x="12174" y="21201"/>
                  </a:lnTo>
                  <a:lnTo>
                    <a:pt x="12959" y="21400"/>
                  </a:lnTo>
                  <a:lnTo>
                    <a:pt x="13876" y="21533"/>
                  </a:lnTo>
                  <a:lnTo>
                    <a:pt x="14530" y="21533"/>
                  </a:lnTo>
                  <a:lnTo>
                    <a:pt x="15316" y="21600"/>
                  </a:lnTo>
                  <a:lnTo>
                    <a:pt x="15970" y="21600"/>
                  </a:lnTo>
                  <a:lnTo>
                    <a:pt x="16625" y="21466"/>
                  </a:lnTo>
                  <a:lnTo>
                    <a:pt x="17279" y="21400"/>
                  </a:lnTo>
                  <a:lnTo>
                    <a:pt x="17803" y="21201"/>
                  </a:lnTo>
                  <a:lnTo>
                    <a:pt x="18327" y="21001"/>
                  </a:lnTo>
                  <a:lnTo>
                    <a:pt x="18850" y="20735"/>
                  </a:lnTo>
                  <a:lnTo>
                    <a:pt x="19243" y="20536"/>
                  </a:lnTo>
                  <a:lnTo>
                    <a:pt x="19897" y="20270"/>
                  </a:lnTo>
                  <a:lnTo>
                    <a:pt x="20159" y="19871"/>
                  </a:lnTo>
                  <a:lnTo>
                    <a:pt x="20290" y="19539"/>
                  </a:lnTo>
                  <a:lnTo>
                    <a:pt x="20683" y="19207"/>
                  </a:lnTo>
                  <a:lnTo>
                    <a:pt x="20945" y="18742"/>
                  </a:lnTo>
                  <a:lnTo>
                    <a:pt x="21207" y="18343"/>
                  </a:lnTo>
                  <a:lnTo>
                    <a:pt x="21468" y="17944"/>
                  </a:lnTo>
                  <a:lnTo>
                    <a:pt x="21337" y="17479"/>
                  </a:lnTo>
                  <a:lnTo>
                    <a:pt x="21468" y="17080"/>
                  </a:lnTo>
                  <a:lnTo>
                    <a:pt x="21600" y="16681"/>
                  </a:lnTo>
                  <a:lnTo>
                    <a:pt x="21468" y="16149"/>
                  </a:lnTo>
                  <a:lnTo>
                    <a:pt x="21468" y="15751"/>
                  </a:lnTo>
                  <a:lnTo>
                    <a:pt x="21337" y="15219"/>
                  </a:lnTo>
                  <a:lnTo>
                    <a:pt x="21207" y="14820"/>
                  </a:lnTo>
                  <a:lnTo>
                    <a:pt x="21076" y="14687"/>
                  </a:lnTo>
                  <a:lnTo>
                    <a:pt x="21076" y="14488"/>
                  </a:lnTo>
                  <a:lnTo>
                    <a:pt x="20945" y="14289"/>
                  </a:lnTo>
                  <a:lnTo>
                    <a:pt x="20945" y="14089"/>
                  </a:lnTo>
                  <a:lnTo>
                    <a:pt x="20683" y="13890"/>
                  </a:lnTo>
                  <a:lnTo>
                    <a:pt x="20552" y="13690"/>
                  </a:lnTo>
                  <a:lnTo>
                    <a:pt x="20552" y="13558"/>
                  </a:lnTo>
                  <a:lnTo>
                    <a:pt x="20421" y="13358"/>
                  </a:lnTo>
                  <a:lnTo>
                    <a:pt x="20290" y="13225"/>
                  </a:lnTo>
                  <a:lnTo>
                    <a:pt x="20159" y="12959"/>
                  </a:lnTo>
                  <a:lnTo>
                    <a:pt x="19897" y="12760"/>
                  </a:lnTo>
                  <a:lnTo>
                    <a:pt x="19897" y="12560"/>
                  </a:lnTo>
                  <a:lnTo>
                    <a:pt x="19636" y="12428"/>
                  </a:lnTo>
                  <a:lnTo>
                    <a:pt x="19505" y="12162"/>
                  </a:lnTo>
                  <a:lnTo>
                    <a:pt x="19374" y="12029"/>
                  </a:lnTo>
                  <a:lnTo>
                    <a:pt x="19112" y="11829"/>
                  </a:lnTo>
                  <a:lnTo>
                    <a:pt x="19112" y="11630"/>
                  </a:lnTo>
                  <a:lnTo>
                    <a:pt x="18850" y="11431"/>
                  </a:lnTo>
                  <a:lnTo>
                    <a:pt x="18588" y="11364"/>
                  </a:lnTo>
                  <a:lnTo>
                    <a:pt x="18588" y="11165"/>
                  </a:lnTo>
                  <a:lnTo>
                    <a:pt x="18327" y="10899"/>
                  </a:lnTo>
                  <a:lnTo>
                    <a:pt x="18065" y="10700"/>
                  </a:lnTo>
                  <a:lnTo>
                    <a:pt x="17934" y="10500"/>
                  </a:lnTo>
                  <a:lnTo>
                    <a:pt x="17672" y="10367"/>
                  </a:lnTo>
                  <a:lnTo>
                    <a:pt x="17541" y="10168"/>
                  </a:lnTo>
                  <a:lnTo>
                    <a:pt x="17279" y="9902"/>
                  </a:lnTo>
                  <a:lnTo>
                    <a:pt x="17018" y="9769"/>
                  </a:lnTo>
                  <a:lnTo>
                    <a:pt x="16625" y="9503"/>
                  </a:lnTo>
                  <a:lnTo>
                    <a:pt x="16494" y="9370"/>
                  </a:lnTo>
                  <a:lnTo>
                    <a:pt x="16101" y="9238"/>
                  </a:lnTo>
                  <a:lnTo>
                    <a:pt x="15970" y="8972"/>
                  </a:lnTo>
                  <a:lnTo>
                    <a:pt x="15708" y="8772"/>
                  </a:lnTo>
                  <a:lnTo>
                    <a:pt x="15578" y="8706"/>
                  </a:lnTo>
                  <a:lnTo>
                    <a:pt x="15316" y="8507"/>
                  </a:lnTo>
                  <a:lnTo>
                    <a:pt x="15316" y="8373"/>
                  </a:lnTo>
                  <a:lnTo>
                    <a:pt x="15185" y="8174"/>
                  </a:lnTo>
                  <a:lnTo>
                    <a:pt x="15054" y="7975"/>
                  </a:lnTo>
                  <a:lnTo>
                    <a:pt x="14923" y="7709"/>
                  </a:lnTo>
                  <a:lnTo>
                    <a:pt x="14923" y="7510"/>
                  </a:lnTo>
                  <a:lnTo>
                    <a:pt x="14792" y="7310"/>
                  </a:lnTo>
                  <a:lnTo>
                    <a:pt x="14661" y="7044"/>
                  </a:lnTo>
                  <a:lnTo>
                    <a:pt x="14661" y="6845"/>
                  </a:lnTo>
                  <a:lnTo>
                    <a:pt x="14661" y="6579"/>
                  </a:lnTo>
                  <a:lnTo>
                    <a:pt x="14661" y="6380"/>
                  </a:lnTo>
                  <a:lnTo>
                    <a:pt x="14792" y="6247"/>
                  </a:lnTo>
                  <a:lnTo>
                    <a:pt x="14661" y="6047"/>
                  </a:lnTo>
                  <a:lnTo>
                    <a:pt x="14792" y="5914"/>
                  </a:lnTo>
                  <a:lnTo>
                    <a:pt x="14792" y="5781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未知"/>
          <p:cNvSpPr/>
          <p:nvPr/>
        </p:nvSpPr>
        <p:spPr>
          <a:xfrm>
            <a:off x="2282760" y="2293920"/>
            <a:ext cx="6897600" cy="459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511"/>
                </a:moveTo>
                <a:lnTo>
                  <a:pt x="18119" y="0"/>
                </a:lnTo>
                <a:lnTo>
                  <a:pt x="21552" y="70"/>
                </a:lnTo>
                <a:lnTo>
                  <a:pt x="21600" y="21600"/>
                </a:lnTo>
                <a:lnTo>
                  <a:pt x="0" y="21511"/>
                </a:lnTo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BDDE-FDEA-4A00-BE07-60BCCDF85B07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484F-35D0-4A6F-AA56-195564CE692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ru/imgres?imgurl=http://www.bel.ru/pics/news/2007/06/01/24651_60091.jpg&amp;imgrefurl=http://www.bel.ru/news/education/2007/06/01/24651.html&amp;usg=__QIItY3NGPG03TrTs5x5RQjtgaro=&amp;h=331&amp;w=441&amp;sz=42&amp;hl=ru&amp;start=1&amp;zoom=1&amp;tbnid=CBDVj5cZhGHP5M:&amp;tbnh=95&amp;tbnw=127&amp;ei=qSlNT4fWBonj4QS5q6WEAw&amp;prev=/search%3Fq%3D%25D0%25BA%25D0%25B0%25D1%2580%25D1%2582%25D0%25B8%25D0%25BD%25D0%25BA%25D0%25B8%2B%25D1%2581%25D1%2582%25D0%25BE%25D0%25BB%25D1%258F%25D1%2580%26hl%3Dru%26newwindow%3D1%26sa%3DN%26rlz%3D1G1ACEW_RURU472%26biw%3D1017%26bih%3D340%26tbm%3Disch%26prmd%3Dimvns&amp;itbs=1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google.ru/imgres?imgurl=http://mpokuzbass.ru/ru/news/img/&#1042;%2520&#1057;&#1061;&#1054;%2520&#1088;&#1072;&#1073;&#1086;&#1090;&#1072;&#1077;&#1090;%2520&#1083;&#1091;&#1095;&#1096;&#1072;&#1103;%2520&#1076;&#1086;&#1103;&#1088;&#1082;&#1072;.JPG&amp;imgrefurl=http://mpokuzbass.ru/ru/news/378&amp;usg=__8rsnkujfYxVRaQOK8b_KUtt0Hhs=&amp;h=768&amp;w=996&amp;sz=325&amp;hl=ru&amp;start=24&amp;zoom=1&amp;tbnid=nOMaoS0x6g5AfM:&amp;tbnh=115&amp;tbnw=149&amp;ei=4RZNT6_3B-HO4QSuv9D8Ag&amp;prev=/search%3Fq%3D%25D0%25BA%25D0%25B0%25D1%2580%25D1%2582%25D0%25B8%25D0%25BD%25D0%25BA%25D0%25B8%2B%25D0%25B4%25D0%25BE%25D1%258F%25D1%2580%25D0%25BA%25D0%25B0%26start%3D20%26hl%3Dru%26newwindow%3D1%26sa%3DN%26rlz%3D1G1ACEW_RURU472%26biw%3D1017%26bih%3D340%26tbm%3Disch%26prmd%3Dimvns&amp;itbs=1" TargetMode="External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google.ru/imgres?imgurl=http://www.sozhnews.info/uploads/posts/2010-08/1283022648_kobova-vera-arsenevna.jpg&amp;imgrefurl=http://www.sozhnews.info/economika/page/17/&amp;usg=__NCL824yUNbbfFKgV09LaRqh6sII=&amp;h=900&amp;w=1199&amp;sz=252&amp;hl=ru&amp;start=1&amp;zoom=1&amp;tbnid=STAIa_KXFCOm7M:&amp;tbnh=113&amp;tbnw=150&amp;ei=DyBNT-6KK_GQ4gTsnpzhAg&amp;prev=/search%3Fq%3D%25D0%25BA%25D0%25B0%25D1%2580%25D1%2582%25D0%25B8%25D0%25BD%25D0%25BA%25D0%25B8%2B%25D0%25BE%25D0%25B2%25D0%25BE%25D1%2589%25D0%25B5%25D0%25B2%25D0%25BE%25D0%25B4%26hl%3Dru%26newwindow%3D1%26sa%3DN%26rlz%3D1G1ACEW_RURU472%26biw%3D1017%26bih%3D340%26tbm%3Disch%26prmd%3Dimvns&amp;itbs=1" TargetMode="External"/><Relationship Id="rId2" Type="http://schemas.openxmlformats.org/officeDocument/2006/relationships/image" Target="../media/image33.jpeg"/><Relationship Id="rId3" Type="http://schemas.openxmlformats.org/officeDocument/2006/relationships/hyperlink" Target="http://www.google.ru/imgres?imgurl=http://www.kaicc.ru/client/ovoshevod/1.jpg&amp;imgrefurl=http://www.kaicc.ru/client/ovoshevod/ovosh.html&amp;usg=__wv6fypXXEqn76jU1Nk8thKX-q3o=&amp;h=445&amp;w=500&amp;sz=150&amp;hl=ru&amp;start=5&amp;zoom=1&amp;tbnid=bPHP6SIqL_-vzM:&amp;tbnh=116&amp;tbnw=130&amp;ei=DyBNT-6KK_GQ4gTsnpzhAg&amp;prev=/search%3Fq%3D%25D0%25BA%25D0%25B0%25D1%2580%25D1%2582%25D0%25B8%25D0%25BD%25D0%25BA%25D0%25B8%2B%25D0%25BE%25D0%25B2%25D0%25BE%25D1%2589%25D0%25B5%25D0%25B2%25D0%25BE%25D0%25B4%26hl%3Dru%26newwindow%3D1%26sa%3DN%26rlz%3D1G1ACEW_RURU472%26biw%3D1017%26bih%3D340%26tbm%3Disch%26prmd%3Dimvns&amp;itbs=1" TargetMode="External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google.ru/imgres?imgurl=http://gazetasadovod.ru/uploads/posts/2011-07/1309515469_dsc08032.jpg&amp;imgrefurl=http://gazetasadovod.ru/veg/1959-poliv-delo-tonkoe.html&amp;usg=__a9kGToSB1nScEw0ntUwInvuq3JE=&amp;h=531&amp;w=709&amp;sz=134&amp;hl=ru&amp;start=110&amp;zoom=1&amp;tbnid=TzyVoSu4-akJjM:&amp;tbnh=105&amp;tbnw=140&amp;ei=XSFNT9XVOYnm4QTC67HsAg&amp;prev=/search%3Fq%3D%25D0%25BA%25D0%25B0%25D1%2580%25D1%2582%25D0%25B8%25D0%25BD%25D0%25BA%25D0%25B8%2B%25D0%25BE%25D0%25B2%25D0%25BE%25D1%2589%25D0%25B5%25D0%25B2%25D0%25BE%25D0%25B4%26start%3D100%26hl%3Dru%26newwindow%3D1%26sa%3DN%26rlz%3D1G1ACEW_RURU472%26biw%3D1017%26bih%3D340%26tbm%3Disch%26prmd%3Dimvns&amp;itbs=1" TargetMode="External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google.ru/imgres?imgurl=http://www.matrix.com.ru/images/stories/news/tomat.jpg&amp;imgrefurl=http://www.matrix.com.ru/zdorovie-i-samorazvitie-news/516-zaboty-ovowevoda-vyrawivanie-rassady.html&amp;usg=__ddL5oBM8ZUjeHdwnwCSuMgJwHoo=&amp;h=235&amp;w=300&amp;sz=65&amp;hl=ru&amp;start=57&amp;zoom=1&amp;tbnid=9k0GU6RGxJSRzM:&amp;tbnh=91&amp;tbnw=116&amp;ei=oSBNT-_zKLD54QTV69TGAg&amp;prev=/search%3Fq%3D%25D0%25BA%25D0%25B0%25D1%2580%25D1%2582%25D0%25B8%25D0%25BD%25D0%25BA%25D0%25B8%2B%25D0%25BE%25D0%25B2%25D0%25BE%25D1%2589%25D0%25B5%25D0%25B2%25D0%25BE%25D0%25B4%26start%3D40%26hl%3Dru%26newwindow%3D1%26sa%3DN%26rlz%3D1G1ACEW_RURU472%26biw%3D1017%26bih%3D340%26tbm%3Disch%26prmd%3Dimvns&amp;itbs=1" TargetMode="External"/><Relationship Id="rId2" Type="http://schemas.openxmlformats.org/officeDocument/2006/relationships/image" Target="../media/image37.jpeg"/><Relationship Id="rId3" Type="http://schemas.openxmlformats.org/officeDocument/2006/relationships/hyperlink" Target="http://www.google.ru/imgres?imgurl=http://gazetasadovod.ru/uploads/posts/2012-01/1327127662_dsc00968.jpg&amp;imgrefurl=http://gazetasadovod.ru/veg/2668-kakie-semena-vysevat.html&amp;usg=__hl12yLFaEdvR62aTuEvFRB9MFfs=&amp;h=734&amp;w=709&amp;sz=165&amp;hl=ru&amp;start=62&amp;zoom=1&amp;tbnid=9G2UGxw3yvu3uM:&amp;tbnh=141&amp;tbnw=136&amp;ei=7CBNT7HODJT04QTpjLnSAg&amp;prev=/search%3Fq%3D%25D0%25BA%25D0%25B0%25D1%2580%25D1%2582%25D0%25B8%25D0%25BD%25D0%25BA%25D0%25B8%2B%25D0%25BE%25D0%25B2%25D0%25BE%25D1%2589%25D0%25B5%25D0%25B2%25D0%25BE%25D0%25B4%26start%3D60%26hl%3Dru%26newwindow%3D1%26sa%3DN%26rlz%3D1G1ACEW_RURU472%26biw%3D1017%26bih%3D340%26tbm%3Disch%26prmd%3Dimvns&amp;itbs=1" TargetMode="External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28"/>
          <p:cNvSpPr/>
          <p:nvPr/>
        </p:nvSpPr>
        <p:spPr>
          <a:xfrm>
            <a:off x="0" y="2565360"/>
            <a:ext cx="91440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c5212d"/>
                </a:solidFill>
                <a:latin typeface="Arial"/>
              </a:rPr>
              <a:t>ВЫБОР ПРОФЕССИИ </a:t>
            </a:r>
            <a:endParaRPr b="0" lang="en-US" sz="5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fae1e"/>
                </a:solidFill>
                <a:latin typeface="Arial"/>
              </a:rPr>
              <a:t>ЧЕЛОВЕК - ТЕХНИК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2410920" y="3213000"/>
            <a:ext cx="626436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c121"/>
                </a:solidFill>
                <a:latin typeface="Arial"/>
              </a:rPr>
              <a:t>Типичные направления образова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6c6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хническое образовани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6c6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валифицированные ремёсл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6c6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енные специа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2484360" y="1341360"/>
            <a:ext cx="61200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фессии, связанные с созданием, монтажом, сборкой и наладкой технических устройств, эксплуатацией технических средств и ремонтом оборуд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AutoShape 7"/>
          <p:cNvSpPr/>
          <p:nvPr/>
        </p:nvSpPr>
        <p:spPr>
          <a:xfrm>
            <a:off x="79567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2fae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9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1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6" dur="2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500"/>
                            </p:stCondLst>
                            <p:childTnLst>
                              <p:par>
                                <p:cTn id="258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0" dur="20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500"/>
                            </p:stCondLst>
                            <p:childTnLst>
                              <p:par>
                                <p:cTn id="262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4" dur="20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8500"/>
                            </p:stCondLst>
                            <p:childTnLst>
                              <p:par>
                                <p:cTn id="266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8" dur="20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634920" y="304920"/>
            <a:ext cx="4899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a47c0"/>
                </a:solidFill>
                <a:latin typeface="Arial"/>
              </a:rPr>
              <a:t>Шве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3885840" y="1523880"/>
            <a:ext cx="5257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Швея – специалист по пошиву изделий из различных материа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аботники этой специальности могут шить  обувь, различные  аксессуары (кошельки, пояса), автомобильные чехлы, платья, пальто, брюки, сумки, шубы и дублён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4" descr="shveya"/>
          <p:cNvPicPr/>
          <p:nvPr/>
        </p:nvPicPr>
        <p:blipFill>
          <a:blip r:embed="rId1"/>
          <a:stretch/>
        </p:blipFill>
        <p:spPr>
          <a:xfrm>
            <a:off x="304920" y="1905120"/>
            <a:ext cx="3733560" cy="2803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Необходимые качества: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1911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Швея должна обладать аккуратностью, терпением, усидчивостью, высокой концентрацией внимания, творческим подходом, ответственностью, исполнительностью, хорошей памятью и хорошим зрен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4" descr="1275562923_97931296_1-----1275562923"/>
          <p:cNvPicPr/>
          <p:nvPr/>
        </p:nvPicPr>
        <p:blipFill>
          <a:blip r:embed="rId1"/>
          <a:stretch/>
        </p:blipFill>
        <p:spPr>
          <a:xfrm>
            <a:off x="304920" y="3048120"/>
            <a:ext cx="2116080" cy="35812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shveya"/>
          <p:cNvPicPr/>
          <p:nvPr/>
        </p:nvPicPr>
        <p:blipFill>
          <a:blip r:embed="rId2"/>
          <a:stretch/>
        </p:blipFill>
        <p:spPr>
          <a:xfrm>
            <a:off x="1447920" y="1676520"/>
            <a:ext cx="2971800" cy="2392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Требования к профессиональной подготовк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1426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Швея должна знать технологию швейного производства; виды тканей, их пошивочные свойства, принципы работы обслуживаемого оборудования, правила ухода за ним. Она должна уметь подбирать номера игл и нитей, регулировать натяжение нити, высоту подъема лапки и величину ее давления, длину стежка; регулировать скорость машины при выполнении различных видов швов; подготавливать крой к работе, проверять его качество; выполнять различные строчки, соединять детали изделий при помощи швов; осуществлять уход, чистку и смазку машин, устранять неполадки в ни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5050"/>
                </a:solidFill>
                <a:latin typeface="Arial"/>
              </a:rPr>
              <a:t>Столя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900000" y="1267920"/>
            <a:ext cx="7467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толя́р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 — профессиональный рабочий, искусный мастер, обрабатывающий древесину и изготавливающий изделия из неё, а также изделия на деревянной основе, с использованием других материалов (пластика, металла, стекла и т.д). Столяр занимается изготовлением мебели, элементов интерьера, окон, лестниц и других столярных изделий, как в ручную, так и с использованием деревообрабатывающих станков и приспособлений. Столяр выполняет более точную, тонкую работу, чем плотни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толяры бывают: БЕЛОДЕРЕВЩИК, – столяр, специалист по изготовлению простых изделий (белое - чистое); и КРАСНОДЕРЕВЩИК – столяр, специалист по дорогим, сложным изделиям (красное - красиво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5"/>
          <p:cNvSpPr/>
          <p:nvPr/>
        </p:nvSpPr>
        <p:spPr>
          <a:xfrm>
            <a:off x="3738600" y="2800440"/>
            <a:ext cx="16668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Необходимые качества: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819160" y="1523880"/>
            <a:ext cx="60958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Monotype Corsiva"/>
              </a:rPr>
              <a:t>  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Как и в любой профессии при выполнении столярных работ нужно руководствоваться правилами техники безопасности, а также хорошо знать своё дело и уметь пользоваться инструментом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толяр должен обладать аккуратностью, терпением, высокой концентрацией внимания, творческим подходом, ответственностью, исполнительностью, хорошей памятью и хорошим зрен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Picture 5" descr="ANd9GcTP3LS52S-P38EdCkXy_nMecuv7iuplAPP0wCvPbL6fnqJpEANttcV4cw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628640"/>
            <a:ext cx="2735280" cy="20466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prod_2853-1-l"/>
          <p:cNvPicPr/>
          <p:nvPr/>
        </p:nvPicPr>
        <p:blipFill>
          <a:blip r:embed="rId3"/>
          <a:stretch/>
        </p:blipFill>
        <p:spPr>
          <a:xfrm>
            <a:off x="250920" y="3933720"/>
            <a:ext cx="2736720" cy="1925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Требования к профессиональной подготовк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742840" y="1523880"/>
            <a:ext cx="61722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Для безопасности столяр должен знать своё столярное дело, уметь пользоваться столярным инструментом, должен работать в специальной одежде, должен надевать при необходимости средства индивидуальной защиты (очки, перчатки, респиратор и т. п.) и должен знать правила техники безопас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Picture 8" descr="38_stolyar"/>
          <p:cNvPicPr/>
          <p:nvPr/>
        </p:nvPicPr>
        <p:blipFill>
          <a:blip r:embed="rId1"/>
          <a:stretch/>
        </p:blipFill>
        <p:spPr>
          <a:xfrm>
            <a:off x="324000" y="1989000"/>
            <a:ext cx="253980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5050"/>
                </a:solidFill>
                <a:latin typeface="Arial"/>
              </a:rPr>
              <a:t>Строи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038480" y="1523880"/>
            <a:ext cx="5105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троитель - профессия, требующая внимания и полной отдачи. Выбирая этот путь, человек должен понимать, что от результата его работы зависит безопасность людей. Существует множество классификаций данной профессии: каменщик, плотник, кровельщик, монтажник, маляр, штукатур, специалист по внутренней отдел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8" descr="%D1%81%D1%82%D1%80%D0%BE%D0%B8%D1%82%D0%B5%D0%BB%D1%8C"/>
          <p:cNvPicPr/>
          <p:nvPr/>
        </p:nvPicPr>
        <p:blipFill>
          <a:blip r:embed="rId1"/>
          <a:stretch/>
        </p:blipFill>
        <p:spPr>
          <a:xfrm>
            <a:off x="755640" y="1484280"/>
            <a:ext cx="2828880" cy="4392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2819160" y="1523880"/>
            <a:ext cx="60958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3505320" y="1688040"/>
            <a:ext cx="5181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пециалист по внутренним работ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Занимается отделочными работами. В его руках можно встретить такой инструмент с помощью которого он водружает на стену книжную полку или собирает корпусную мебель. Также в обязанности отделочника входит покраска стен, оклейка обоев.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609480" y="430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ahoma"/>
              </a:rPr>
              <a:t>Требования к профессиональной подготовк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Picture 9" descr="otdelka1"/>
          <p:cNvPicPr/>
          <p:nvPr/>
        </p:nvPicPr>
        <p:blipFill>
          <a:blip r:embed="rId1"/>
          <a:stretch/>
        </p:blipFill>
        <p:spPr>
          <a:xfrm>
            <a:off x="324000" y="1341360"/>
            <a:ext cx="2808000" cy="28083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1" descr="5-33613"/>
          <p:cNvPicPr/>
          <p:nvPr/>
        </p:nvPicPr>
        <p:blipFill>
          <a:blip r:embed="rId2"/>
          <a:stretch/>
        </p:blipFill>
        <p:spPr>
          <a:xfrm>
            <a:off x="324000" y="4365720"/>
            <a:ext cx="2952720" cy="2214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Требования к профессиональной подготовк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634920" y="1699920"/>
            <a:ext cx="5280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троитель - каменщ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Должен обладать недюжими физическими способностями, потому что в его обязанности входит сооружение стен, бетонных блоков и плит перекрытия. Такая работа не требует высшего образования, но обязывает со всей ответственностью ее выполнять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9" name="Picture 4" descr="wpid-V-poselke-strongStroitelstrong-avtobus-nasmert-sbil-pojilogo-mujchinu-1"/>
          <p:cNvPicPr/>
          <p:nvPr/>
        </p:nvPicPr>
        <p:blipFill>
          <a:blip r:embed="rId1"/>
          <a:stretch/>
        </p:blipFill>
        <p:spPr>
          <a:xfrm>
            <a:off x="324000" y="2060640"/>
            <a:ext cx="3384360" cy="3384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11280" y="62028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7169a"/>
                </a:solidFill>
                <a:latin typeface="Arial"/>
              </a:rPr>
              <a:t>ПРОФЕССИЯ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19"/>
          <p:cNvSpPr/>
          <p:nvPr/>
        </p:nvSpPr>
        <p:spPr>
          <a:xfrm>
            <a:off x="2484360" y="2205000"/>
            <a:ext cx="66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од трудовой деятельности, требующий определённой подготовки и являющийся обычно источником существова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29ff"/>
                </a:solidFill>
                <a:latin typeface="Arial"/>
              </a:rPr>
              <a:t>ЧЕЛОВЕК – ЗНАКОВАЯ СИСТЕМ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2484000" y="2997000"/>
            <a:ext cx="626436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c97f6"/>
                </a:solidFill>
                <a:latin typeface="Arial"/>
              </a:rPr>
              <a:t>Типичные направления образова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темати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изи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лопроизводств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ухуч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2484360" y="1557360"/>
            <a:ext cx="6120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фессии, связанные с цифрами и текстами, формулами и таблицами, с чертежами и картами, со звуковыми сигнал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AutoShape 6"/>
          <p:cNvSpPr/>
          <p:nvPr/>
        </p:nvSpPr>
        <p:spPr>
          <a:xfrm>
            <a:off x="795672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70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8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2" dur="2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20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500"/>
                            </p:stCondLst>
                            <p:childTnLst>
                              <p:par>
                                <p:cTn id="298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20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8500"/>
                            </p:stCondLst>
                            <p:childTnLst>
                              <p:par>
                                <p:cTn id="302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" dur="20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9" dur="20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11280" y="260280"/>
            <a:ext cx="6400800" cy="9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36017"/>
                </a:solidFill>
                <a:latin typeface="Arial"/>
              </a:rPr>
              <a:t>ЧЕЛОВЕК – ХУДОЖЕСТВЕННЫЙ ОБРА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2484360" y="3212640"/>
            <a:ext cx="61200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8937"/>
                </a:solidFill>
                <a:latin typeface="Arial"/>
              </a:rPr>
              <a:t>Типичные направления образова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6c6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кусств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6c6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узы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6c6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атр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6c6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нц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2410920" y="1341360"/>
            <a:ext cx="626436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фессии связанные с  созданием, проектированием, моделированием художественных произведений, с созданием изделий по образцу, эскиз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AutoShape 6"/>
          <p:cNvSpPr/>
          <p:nvPr/>
        </p:nvSpPr>
        <p:spPr>
          <a:xfrm>
            <a:off x="781200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7496"/>
                </a:moveTo>
                <a:lnTo>
                  <a:pt x="7301" y="7496"/>
                </a:lnTo>
                <a:lnTo>
                  <a:pt x="7301" y="12832"/>
                </a:lnTo>
                <a:cubicBezTo>
                  <a:pt x="7301" y="13754"/>
                  <a:pt x="8102" y="14485"/>
                  <a:pt x="9138" y="14485"/>
                </a:cubicBezTo>
                <a:lnTo>
                  <a:pt x="10800" y="14485"/>
                </a:lnTo>
                <a:cubicBezTo>
                  <a:pt x="11836" y="14485"/>
                  <a:pt x="12636" y="13754"/>
                  <a:pt x="12636" y="12832"/>
                </a:cubicBezTo>
                <a:lnTo>
                  <a:pt x="12636" y="7496"/>
                </a:lnTo>
                <a:lnTo>
                  <a:pt x="10800" y="7496"/>
                </a:lnTo>
                <a:lnTo>
                  <a:pt x="14308" y="3989"/>
                </a:lnTo>
                <a:lnTo>
                  <a:pt x="17981" y="7496"/>
                </a:lnTo>
                <a:lnTo>
                  <a:pt x="16144" y="7496"/>
                </a:lnTo>
                <a:lnTo>
                  <a:pt x="16144" y="12832"/>
                </a:lnTo>
                <a:cubicBezTo>
                  <a:pt x="16144" y="15599"/>
                  <a:pt x="13568" y="18158"/>
                  <a:pt x="10800" y="18158"/>
                </a:cubicBezTo>
                <a:lnTo>
                  <a:pt x="9138" y="18158"/>
                </a:lnTo>
                <a:cubicBezTo>
                  <a:pt x="6370" y="18158"/>
                  <a:pt x="3794" y="15599"/>
                  <a:pt x="3794" y="12832"/>
                </a:cubicBezTo>
                <a:close/>
              </a:path>
            </a:pathLst>
          </a:custGeom>
          <a:solidFill>
            <a:srgbClr val="e360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9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9" dur="1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31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3" dur="2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500"/>
                            </p:stCondLst>
                            <p:childTnLst>
                              <p:par>
                                <p:cTn id="335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7" dur="20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1" dur="20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8500"/>
                            </p:stCondLst>
                            <p:childTnLst>
                              <p:par>
                                <p:cTn id="343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5" dur="20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7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9" dur="2000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5050"/>
                </a:solidFill>
                <a:latin typeface="Arial"/>
              </a:rPr>
              <a:t>Маля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140000" y="1915920"/>
            <a:ext cx="5257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аляр (нем. mahler — живописец) — рабочий, специалист, занимающийся окраской зданий, сооружений, оборудования, инструмента и прочих предметов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Picture 5" descr="professij_maljr_stroitelnyi"/>
          <p:cNvPicPr/>
          <p:nvPr/>
        </p:nvPicPr>
        <p:blipFill>
          <a:blip r:embed="rId1"/>
          <a:stretch/>
        </p:blipFill>
        <p:spPr>
          <a:xfrm>
            <a:off x="395280" y="1844640"/>
            <a:ext cx="3382920" cy="3382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Необходимые качества: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04776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Для успешной деятельности необходимы следующие психофизиологические качества: хороший эстетический вкус, глазомер, координация движения рук, творческое воображение, внимательность и аккуратность в работе, способность работать на высо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5" descr="%D0%9C%D0%B0%D0%BB%D1%8F%D1%80-01"/>
          <p:cNvPicPr/>
          <p:nvPr/>
        </p:nvPicPr>
        <p:blipFill>
          <a:blip r:embed="rId1"/>
          <a:stretch/>
        </p:blipFill>
        <p:spPr>
          <a:xfrm>
            <a:off x="250920" y="155736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3486f94316c115a6a1384bcd84982365"/>
          <p:cNvPicPr/>
          <p:nvPr/>
        </p:nvPicPr>
        <p:blipFill>
          <a:blip r:embed="rId2"/>
          <a:stretch/>
        </p:blipFill>
        <p:spPr>
          <a:xfrm>
            <a:off x="179280" y="4437000"/>
            <a:ext cx="3025800" cy="2232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Требования к профессиональной подготовк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2819520" y="198108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н готовит под окраску бетонные, деревянные и металлические конструкции. Поверхности окрашивает вручную или при помощи валиков, краскопультов, пистолетов и других приспособлений, наклеивает обои. Он владеет приемами работы высококачественной и декоративной штукатурки, а также приемами многоцветной окраски фасадов, зданий специальными синтетическими составами.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Picture 5" descr="shtukatur-malyar_32909658_2_F"/>
          <p:cNvPicPr/>
          <p:nvPr/>
        </p:nvPicPr>
        <p:blipFill>
          <a:blip r:embed="rId1"/>
          <a:stretch/>
        </p:blipFill>
        <p:spPr>
          <a:xfrm>
            <a:off x="250920" y="2349360"/>
            <a:ext cx="2754360" cy="3672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11280" y="260280"/>
            <a:ext cx="6400800" cy="9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d90de9"/>
                </a:solidFill>
                <a:latin typeface="Arial"/>
              </a:rPr>
              <a:t>ЧЕЛОВЕК - ЧЕЛОВЕ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2484360" y="2852280"/>
            <a:ext cx="619128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1ae8"/>
                </a:solidFill>
                <a:latin typeface="Arial"/>
              </a:rPr>
              <a:t>Типичные направления образова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циальная служб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муникаци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школьное воспитание и детское развит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2410920" y="981000"/>
            <a:ext cx="62643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фессии, связанные с медицинским обслуживанием, бытовым обслуживанием, воспитанием и обучен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AutoShape 6"/>
          <p:cNvSpPr/>
          <p:nvPr/>
        </p:nvSpPr>
        <p:spPr>
          <a:xfrm>
            <a:off x="77407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9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9" dur="1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500"/>
                            </p:stCondLst>
                            <p:childTnLst>
                              <p:par>
                                <p:cTn id="371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3" dur="2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500"/>
                            </p:stCondLst>
                            <p:childTnLst>
                              <p:par>
                                <p:cTn id="37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7" dur="2000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500"/>
                            </p:stCondLst>
                            <p:childTnLst>
                              <p:par>
                                <p:cTn id="37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1" dur="2000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8500"/>
                            </p:stCondLst>
                            <p:childTnLst>
                              <p:par>
                                <p:cTn id="383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5" dur="2000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5050"/>
                </a:solidFill>
                <a:latin typeface="Tahoma"/>
              </a:rPr>
              <a:t>Дворни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73392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профессия, связанная с поддержанием чистоты и порядка во дворе и на улице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Picture 4" descr="1314675235_dsc_0289"/>
          <p:cNvPicPr/>
          <p:nvPr/>
        </p:nvPicPr>
        <p:blipFill>
          <a:blip r:embed="rId1"/>
          <a:stretch/>
        </p:blipFill>
        <p:spPr>
          <a:xfrm>
            <a:off x="304920" y="1523880"/>
            <a:ext cx="2563560" cy="281952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5" descr="%D0%94%D0%B2%D0%BE%D1%80%D0%BD%D0%B8%D0%BA-%D0%BF%D0%BE%D0%BC%D0%BE%D0%B3-%D0%BF%D0%BE%D0%BB%D0%B8%D1%86%D0%B8%D0%B8-%D0%B7%D0%B0%D0%B4%D0%B5%D1%80%D0%B6%D0%B0%D1%82%D1%8C-%D0%B7%D0%BB%D0%BE%D1%83%D0%BC%D1%8B%D1%88%D0%BB%D0%B5%D0%BD%D0%BD%D0%B8%D0%BA%D0%B0-%D1%80%D0%B5%D0%B7%D0%B0%D0%B2%D1%88%D0%B5%D0%B3%D0%BE-%D0%BA%D0%B0%D0%B1%D0%B5%D0%BB%D1%8C-"/>
          <p:cNvPicPr/>
          <p:nvPr/>
        </p:nvPicPr>
        <p:blipFill>
          <a:blip r:embed="rId2"/>
          <a:stretch/>
        </p:blipFill>
        <p:spPr>
          <a:xfrm>
            <a:off x="1981080" y="4191120"/>
            <a:ext cx="3581640" cy="2387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Необходимые качества: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419720" y="1523880"/>
            <a:ext cx="44956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о профессии дворника могут работать как мужчины, так и женщины, всех возрастов. Дворник должен обладать аккуратностью, терпением, вниманием, ответственностью, исполнительност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Picture 4" descr="moroz-dvornik"/>
          <p:cNvPicPr/>
          <p:nvPr/>
        </p:nvPicPr>
        <p:blipFill>
          <a:blip r:embed="rId1"/>
          <a:stretch/>
        </p:blipFill>
        <p:spPr>
          <a:xfrm>
            <a:off x="228600" y="1371600"/>
            <a:ext cx="3124080" cy="26431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" descr="35164101_dvornik"/>
          <p:cNvPicPr/>
          <p:nvPr/>
        </p:nvPicPr>
        <p:blipFill>
          <a:blip r:embed="rId2"/>
          <a:stretch/>
        </p:blipFill>
        <p:spPr>
          <a:xfrm>
            <a:off x="1752480" y="3657600"/>
            <a:ext cx="279108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Требования к профессиональной подготовк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2742840" y="1523880"/>
            <a:ext cx="61722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 работой дворника справится любой, кто готов к ней морально. Если человек согласен добросовестно выполнять свои функции, то он вполне может навести порядок где угодно. Специального образования работа дворника не требует. Нужно только уметь пользоваться орудиями труда и механизмами необходимыми для работы и соблюдать правила по техники безопасности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Единственным нюансом можно считать требование по отсутствию аллерг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Picture 4" descr="dd6873469335c46ce01d0bc387b33fbe"/>
          <p:cNvPicPr/>
          <p:nvPr/>
        </p:nvPicPr>
        <p:blipFill>
          <a:blip r:embed="rId1"/>
          <a:stretch/>
        </p:blipFill>
        <p:spPr>
          <a:xfrm>
            <a:off x="228600" y="2743200"/>
            <a:ext cx="2743200" cy="1978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5050"/>
                </a:solidFill>
                <a:latin typeface="Arial"/>
              </a:rPr>
              <a:t>Уборщи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038480" y="191592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рофессия, связанная с поддержанием чистоты и порядка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 офисе, на рынк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 школе, в гостинице, в кафе,  в столовой и т.п. Похожие профессии: горничная, санита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5" name="Picture 5" descr="125-12-01"/>
          <p:cNvPicPr/>
          <p:nvPr/>
        </p:nvPicPr>
        <p:blipFill>
          <a:blip r:embed="rId1"/>
          <a:stretch/>
        </p:blipFill>
        <p:spPr>
          <a:xfrm>
            <a:off x="900000" y="1700280"/>
            <a:ext cx="2859120" cy="4032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аиболее значимые группы профессий на рынке труда, связа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5"/>
          <p:cNvSpPr/>
          <p:nvPr/>
        </p:nvSpPr>
        <p:spPr>
          <a:xfrm>
            <a:off x="2195640" y="3141720"/>
            <a:ext cx="40384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 строительств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46"/>
          <p:cNvSpPr/>
          <p:nvPr/>
        </p:nvSpPr>
        <p:spPr>
          <a:xfrm>
            <a:off x="2195640" y="2060640"/>
            <a:ext cx="532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туристическим сервисо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49"/>
          <p:cNvSpPr/>
          <p:nvPr/>
        </p:nvSpPr>
        <p:spPr>
          <a:xfrm>
            <a:off x="2195640" y="1628640"/>
            <a:ext cx="5832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торгов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50"/>
          <p:cNvSpPr/>
          <p:nvPr/>
        </p:nvSpPr>
        <p:spPr>
          <a:xfrm>
            <a:off x="2340000" y="3789360"/>
            <a:ext cx="40384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 здравоохранени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52"/>
          <p:cNvSpPr/>
          <p:nvPr/>
        </p:nvSpPr>
        <p:spPr>
          <a:xfrm>
            <a:off x="2268360" y="2637000"/>
            <a:ext cx="5472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производств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54"/>
          <p:cNvSpPr/>
          <p:nvPr/>
        </p:nvSpPr>
        <p:spPr>
          <a:xfrm>
            <a:off x="2340000" y="4508640"/>
            <a:ext cx="6048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сельским хозяйств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Необходимые качества: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419720" y="1523880"/>
            <a:ext cx="44956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о профессии уборщицы могут работать как мужчины, так и женщины, всех возрастов. Уборщик должен обладать аккуратностью, терпением, вниманием, ответственностью, исполнительност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Picture 9" descr="cleaner2"/>
          <p:cNvPicPr/>
          <p:nvPr/>
        </p:nvPicPr>
        <p:blipFill>
          <a:blip r:embed="rId1"/>
          <a:stretch/>
        </p:blipFill>
        <p:spPr>
          <a:xfrm>
            <a:off x="1835280" y="3789360"/>
            <a:ext cx="2735280" cy="273528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1" descr="%D0%A4%D0%BE%D1%82%D0%BE0641"/>
          <p:cNvPicPr/>
          <p:nvPr/>
        </p:nvPicPr>
        <p:blipFill>
          <a:blip r:embed="rId2"/>
          <a:stretch/>
        </p:blipFill>
        <p:spPr>
          <a:xfrm>
            <a:off x="395280" y="1268280"/>
            <a:ext cx="2101680" cy="3384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Требования к профессиональной подготовк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2742840" y="1523880"/>
            <a:ext cx="61722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 работой уборщика справится любой, кто готов к ней морально. Если человек согласен добросовестно выполнять свои функции, то он вполне может навести порядок где угодно: в офисе, в школе и дома. Специального образования эта работа не требует. Нужно только уметь пользоваться шваброй, пылесосом, тряпкой и другими необходимыми для работы средствами и соблюдать правила по техники безопасности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Единственным нюансом можно считать требование по отсутствию аллерг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2" name="Picture 4" descr="cleaner"/>
          <p:cNvPicPr/>
          <p:nvPr/>
        </p:nvPicPr>
        <p:blipFill>
          <a:blip r:embed="rId1"/>
          <a:stretch/>
        </p:blipFill>
        <p:spPr>
          <a:xfrm>
            <a:off x="539640" y="1268280"/>
            <a:ext cx="2279880" cy="3672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cleaning-supplies"/>
          <p:cNvPicPr/>
          <p:nvPr/>
        </p:nvPicPr>
        <p:blipFill>
          <a:blip r:embed="rId2"/>
          <a:stretch/>
        </p:blipFill>
        <p:spPr>
          <a:xfrm>
            <a:off x="250920" y="4797360"/>
            <a:ext cx="2808360" cy="1881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411280" y="260280"/>
            <a:ext cx="6400800" cy="9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88c60"/>
                </a:solidFill>
                <a:latin typeface="Arial"/>
              </a:rPr>
              <a:t>ЧЕЛОВЕК - ПРИРО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2484000" y="3213000"/>
            <a:ext cx="6264360" cy="32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ae77"/>
                </a:solidFill>
                <a:latin typeface="Arial"/>
              </a:rPr>
              <a:t>Типичные направления образова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льскохозяйственное образовани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соводств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храна природ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2410920" y="1196640"/>
            <a:ext cx="6264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еятельность, связанная с изучением живой и неживой природой, с уходом за растениями и животными, профилактикой и лечением заболеваний растений и  живот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AutoShape 7"/>
          <p:cNvSpPr/>
          <p:nvPr/>
        </p:nvSpPr>
        <p:spPr>
          <a:xfrm>
            <a:off x="781200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7496"/>
                </a:moveTo>
                <a:lnTo>
                  <a:pt x="7301" y="7496"/>
                </a:lnTo>
                <a:lnTo>
                  <a:pt x="7301" y="12832"/>
                </a:lnTo>
                <a:cubicBezTo>
                  <a:pt x="7301" y="13754"/>
                  <a:pt x="8102" y="14485"/>
                  <a:pt x="9138" y="14485"/>
                </a:cubicBezTo>
                <a:lnTo>
                  <a:pt x="10800" y="14485"/>
                </a:lnTo>
                <a:cubicBezTo>
                  <a:pt x="11836" y="14485"/>
                  <a:pt x="12636" y="13754"/>
                  <a:pt x="12636" y="12832"/>
                </a:cubicBezTo>
                <a:lnTo>
                  <a:pt x="12636" y="7496"/>
                </a:lnTo>
                <a:lnTo>
                  <a:pt x="10800" y="7496"/>
                </a:lnTo>
                <a:lnTo>
                  <a:pt x="14308" y="3989"/>
                </a:lnTo>
                <a:lnTo>
                  <a:pt x="17981" y="7496"/>
                </a:lnTo>
                <a:lnTo>
                  <a:pt x="16144" y="7496"/>
                </a:lnTo>
                <a:lnTo>
                  <a:pt x="16144" y="12832"/>
                </a:lnTo>
                <a:cubicBezTo>
                  <a:pt x="16144" y="15599"/>
                  <a:pt x="13568" y="18158"/>
                  <a:pt x="10800" y="18158"/>
                </a:cubicBezTo>
                <a:lnTo>
                  <a:pt x="9138" y="18158"/>
                </a:lnTo>
                <a:cubicBezTo>
                  <a:pt x="6370" y="18158"/>
                  <a:pt x="3794" y="15599"/>
                  <a:pt x="3794" y="12832"/>
                </a:cubicBezTo>
                <a:close/>
              </a:path>
            </a:pathLst>
          </a:custGeom>
          <a:solidFill>
            <a:srgbClr val="188c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5" dur="10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407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9" dur="2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7"/>
                </a:solidFill>
                <a:latin typeface="Arial"/>
              </a:rPr>
              <a:t>Животново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3885840" y="1523880"/>
            <a:ext cx="5257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7"/>
                </a:solidFill>
                <a:latin typeface="Arial"/>
              </a:rPr>
              <a:t>Животновод (доярка, зверовод, телятница, конюх, птичница, свинарка) обеспечивает всесторонний уход за животными в хозяйстве: кормление, размножение, улучшение породы и т.д. Его задача — вырастить поголовье, отвечающее всем требованиям и стандартам данного вида.</a:t>
            </a:r>
            <a:r>
              <a:rPr b="0" lang="ru-RU" sz="3200" spc="-1" strike="noStrike">
                <a:solidFill>
                  <a:srgbClr val="fffff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Picture 5" descr="27999853_1"/>
          <p:cNvPicPr/>
          <p:nvPr/>
        </p:nvPicPr>
        <p:blipFill>
          <a:blip r:embed="rId1"/>
          <a:stretch/>
        </p:blipFill>
        <p:spPr>
          <a:xfrm>
            <a:off x="395280" y="765000"/>
            <a:ext cx="2325600" cy="3527640"/>
          </a:xfrm>
          <a:prstGeom prst="rect">
            <a:avLst/>
          </a:prstGeom>
          <a:ln w="0">
            <a:noFill/>
          </a:ln>
        </p:spPr>
      </p:pic>
      <p:sp>
        <p:nvSpPr>
          <p:cNvPr id="481" name="AutoShape 7"/>
          <p:cNvSpPr/>
          <p:nvPr/>
        </p:nvSpPr>
        <p:spPr>
          <a:xfrm>
            <a:off x="4129200" y="2800440"/>
            <a:ext cx="8856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2" name="Picture 9" descr="012610"/>
          <p:cNvPicPr/>
          <p:nvPr/>
        </p:nvPicPr>
        <p:blipFill>
          <a:blip r:embed="rId2"/>
          <a:stretch/>
        </p:blipFill>
        <p:spPr>
          <a:xfrm>
            <a:off x="1609560" y="3573360"/>
            <a:ext cx="218124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7"/>
                </a:solidFill>
                <a:latin typeface="Arial"/>
              </a:rPr>
              <a:t>Необходимые качества: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2209680" y="1412640"/>
            <a:ext cx="6934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7"/>
                </a:solidFill>
                <a:latin typeface="Arial"/>
              </a:rPr>
              <a:t>Животноводу важно иметь особые склонности к работе с животными, наблюдательность, способность мысленно представлять незримые биологические процессы, своевременно вмешиваясь в них. Животновод должен быть заботливым и внимательным другом животных, чтобы исключить такие изменения в их состоянии, которые могут оказаться непоправимыми. Необходимо уметь переносить неприятные запахи и тяжелый физический труд, сопровождающий уход за животными.</a:t>
            </a:r>
            <a:r>
              <a:rPr b="0" lang="ru-RU" sz="3200" spc="-1" strike="noStrike">
                <a:solidFill>
                  <a:srgbClr val="fffff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Picture 4" descr="03_01_00"/>
          <p:cNvPicPr/>
          <p:nvPr/>
        </p:nvPicPr>
        <p:blipFill>
          <a:blip r:embed="rId1"/>
          <a:stretch/>
        </p:blipFill>
        <p:spPr>
          <a:xfrm>
            <a:off x="179280" y="1197000"/>
            <a:ext cx="2160720" cy="179244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6" descr="3759_mrIeg_6gjv3wft"/>
          <p:cNvPicPr/>
          <p:nvPr/>
        </p:nvPicPr>
        <p:blipFill>
          <a:blip r:embed="rId2"/>
          <a:stretch/>
        </p:blipFill>
        <p:spPr>
          <a:xfrm>
            <a:off x="250920" y="4508640"/>
            <a:ext cx="2160360" cy="21603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8" descr="301109_pidunencko"/>
          <p:cNvPicPr/>
          <p:nvPr/>
        </p:nvPicPr>
        <p:blipFill>
          <a:blip r:embed="rId3"/>
          <a:stretch/>
        </p:blipFill>
        <p:spPr>
          <a:xfrm>
            <a:off x="0" y="2924280"/>
            <a:ext cx="2484360" cy="1635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7"/>
                </a:solidFill>
                <a:latin typeface="Arial"/>
              </a:rPr>
              <a:t>Требования к профессиональной подготовк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2133360" y="160020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7"/>
                </a:solidFill>
                <a:latin typeface="Arial"/>
              </a:rPr>
              <a:t>Животновод выполняет вспомогательные работы по уходу за откормочным и нагульным поголовьем крупного рогатого скота. Он подготавливает и раздает корма, убирает помещения, чистит животных, стойла и проходы. Животновод часто оказывает помощь в лечении и ветеринарной обработке животных.</a:t>
            </a: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7"/>
                </a:solidFill>
                <a:latin typeface="Arial"/>
              </a:rPr>
              <a:t>Он принимает потомство, следит за его развитием, взвешивает, ставит клейма специальными приемами.</a:t>
            </a:r>
            <a:r>
              <a:rPr b="0" lang="ru-RU" sz="2800" spc="-1" strike="noStrike">
                <a:solidFill>
                  <a:srgbClr val="fffff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0" name="Picture 7" descr="ANd9GcShEbBZa3TAgGfGGnz2ZRXq-nMAOlLJyIQSlghgZ9eZZyX9Nb9MFi4HluA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628640"/>
            <a:ext cx="2089080" cy="18716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9" descr="full_2009_01_14_WWW_9242"/>
          <p:cNvPicPr/>
          <p:nvPr/>
        </p:nvPicPr>
        <p:blipFill>
          <a:blip r:embed="rId3"/>
          <a:stretch/>
        </p:blipFill>
        <p:spPr>
          <a:xfrm>
            <a:off x="250920" y="3645000"/>
            <a:ext cx="2089080" cy="2376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7"/>
                </a:solidFill>
                <a:latin typeface="Arial"/>
              </a:rPr>
              <a:t>Овощево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114800" y="144756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7"/>
                </a:solidFill>
                <a:latin typeface="Arial"/>
              </a:rPr>
              <a:t>Овощеводство, пожалуй, одно из важнейших отраслей сельского хозяйства.  Овощевод специалист занимающийся выращиванием овощей</a:t>
            </a:r>
            <a:r>
              <a:rPr b="1" lang="ru-RU" sz="3200" spc="-1" strike="noStrike">
                <a:solidFill>
                  <a:srgbClr val="fffff7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5" descr="ANd9GcTD_kr1MgDZbF1vvrBtOO5HUdYS4aVamiHsqJ9LktnFI2vlldJLdevrJN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268280"/>
            <a:ext cx="3095640" cy="23320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7" descr="ANd9GcTKpfBmMUe2ONEOqwHaA0n6M4XQZ5ijJTW651RI-zgEPfb8mP4mZHA4e5o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3716280"/>
            <a:ext cx="3095640" cy="2760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7"/>
                </a:solidFill>
                <a:latin typeface="Arial"/>
              </a:rPr>
              <a:t>Необходимые качества: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380952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7"/>
                </a:solidFill>
                <a:latin typeface="Arial"/>
              </a:rPr>
              <a:t>Работа овощевода требует физической выносливости, ответственности и усердия. Помимо этого овощеводу потребуется терпение, целеустремлённость, организаторские способности.</a:t>
            </a:r>
            <a:r>
              <a:rPr b="0" lang="ru-RU" sz="3200" spc="-1" strike="noStrike">
                <a:solidFill>
                  <a:srgbClr val="fffff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7" descr="ANd9GcTxaLsrpQy6x-oJJNvRi3Sd8DWbNAzMTvRPJezWetqq-3QHYaIrhYptTK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4365720"/>
            <a:ext cx="3024000" cy="226836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5" descr="salat"/>
          <p:cNvPicPr/>
          <p:nvPr/>
        </p:nvPicPr>
        <p:blipFill>
          <a:blip r:embed="rId3"/>
          <a:stretch/>
        </p:blipFill>
        <p:spPr>
          <a:xfrm>
            <a:off x="395280" y="1484280"/>
            <a:ext cx="3600360" cy="2703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7"/>
                </a:solidFill>
                <a:latin typeface="Arial"/>
              </a:rPr>
              <a:t>Требования к профессиональной подготовк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2743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7"/>
                </a:solidFill>
                <a:latin typeface="Arial"/>
              </a:rPr>
              <a:t>Овощевод подготавливает почву к посеву и посадке (вспашка, боронование, рыхление). Осуществляет подготовку семян и посадочного материала. Ведёт посев полевых культур и производит посадку огородных культур. Выращивает и ухаживает за посевами и посадками (прополка, полив, окучивание, подвязывание растений). Проводит защиту растений от вредителей, то есть биохимическую обработку. Собирает урожай.</a:t>
            </a: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5" descr="ANd9GcTMWsBWM-SAL1eRe02etTWw5qZwyu7iNsSPbJQ8gcYinBvC6wGh-8C7_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341360"/>
            <a:ext cx="2519280" cy="19764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7" descr="ANd9GcRv-1sn_L2wqGdA_i_UOelXuhqh74SILRrqN4Eki2OzMbogq_pgBMBVKJAw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6880" y="3500280"/>
            <a:ext cx="2500560" cy="2592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7"/>
                </a:solidFill>
                <a:latin typeface="Arial"/>
              </a:rPr>
              <a:t>Озелени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284720" y="14126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7"/>
                </a:solidFill>
                <a:latin typeface="Arial"/>
              </a:rPr>
              <a:t>Благодаря работе озеленителя быстро вырастают деревья, кусты, появляются пышные цветники и альпийские горы. Однако их работа не заканчивается посадкой растений. За всем этим необходим профессиональный уход. Озеленители обеспечивают дальнейший грамотный уход за зелеными насаждени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6" name="Picture 11" descr="ANd9GcQk9wbT-ABHClQ-UIxSJXeXfBfRm2yLWNyHuFmnftL8MuPb_rh1&amp;t=1"/>
          <p:cNvPicPr/>
          <p:nvPr/>
        </p:nvPicPr>
        <p:blipFill>
          <a:blip r:embed="rId1"/>
          <a:stretch/>
        </p:blipFill>
        <p:spPr>
          <a:xfrm>
            <a:off x="179280" y="2060640"/>
            <a:ext cx="3888000" cy="2916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Факторы выбора професси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AutoShape 3"/>
          <p:cNvSpPr/>
          <p:nvPr/>
        </p:nvSpPr>
        <p:spPr>
          <a:xfrm>
            <a:off x="6659640" y="1700280"/>
            <a:ext cx="2057400" cy="1079280"/>
          </a:xfrm>
          <a:prstGeom prst="cube">
            <a:avLst>
              <a:gd name="adj" fmla="val 25000"/>
            </a:avLst>
          </a:prstGeom>
          <a:solidFill>
            <a:srgbClr val="33cc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Д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AutoShape 4"/>
          <p:cNvSpPr/>
          <p:nvPr/>
        </p:nvSpPr>
        <p:spPr>
          <a:xfrm>
            <a:off x="4500720" y="1700280"/>
            <a:ext cx="1981080" cy="1143000"/>
          </a:xfrm>
          <a:prstGeom prst="cube">
            <a:avLst>
              <a:gd name="adj" fmla="val 25000"/>
            </a:avLst>
          </a:prstGeom>
          <a:solidFill>
            <a:srgbClr val="33cc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ОГ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AutoShape 5"/>
          <p:cNvSpPr/>
          <p:nvPr/>
        </p:nvSpPr>
        <p:spPr>
          <a:xfrm>
            <a:off x="2195640" y="1773360"/>
            <a:ext cx="2054160" cy="1143000"/>
          </a:xfrm>
          <a:prstGeom prst="cube">
            <a:avLst>
              <a:gd name="adj" fmla="val 23194"/>
            </a:avLst>
          </a:prstGeom>
          <a:solidFill>
            <a:srgbClr val="33cc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ХОЧ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1127160" y="3394080"/>
            <a:ext cx="176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2124000" y="2997360"/>
            <a:ext cx="1844640" cy="17398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фесси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льные интерес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клон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4284720" y="2997360"/>
            <a:ext cx="2232000" cy="22885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стояние здоровь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фессиональная квалификаци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фессиональные способ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9"/>
          <p:cNvSpPr/>
          <p:nvPr/>
        </p:nvSpPr>
        <p:spPr>
          <a:xfrm>
            <a:off x="6659640" y="2997360"/>
            <a:ext cx="1904760" cy="17398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рос на    рынке труд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можности трудоустрой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10" descr="BS02064_"/>
          <p:cNvPicPr/>
          <p:nvPr/>
        </p:nvPicPr>
        <p:blipFill>
          <a:blip r:embed="rId1"/>
          <a:stretch/>
        </p:blipFill>
        <p:spPr>
          <a:xfrm>
            <a:off x="2268360" y="4924440"/>
            <a:ext cx="1798920" cy="1790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7"/>
                </a:solidFill>
                <a:latin typeface="Arial"/>
              </a:rPr>
              <a:t>Необходимые качества</a:t>
            </a: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: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0952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7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7"/>
                </a:solidFill>
                <a:latin typeface="Arial"/>
              </a:rPr>
              <a:t>Озеленитель должен обладать следующими качествами трудолюбие, физическая выносливость, целенаправленность. Для того чтобы получился шедевр, а не зеленый хаос, необходимы: воображение, цветовое зрение и хороший глазомер, эстетический вкус, тонкое чутье, чувство гармо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5" descr="1"/>
          <p:cNvPicPr/>
          <p:nvPr/>
        </p:nvPicPr>
        <p:blipFill>
          <a:blip r:embed="rId1"/>
          <a:stretch/>
        </p:blipFill>
        <p:spPr>
          <a:xfrm>
            <a:off x="250920" y="141300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6" descr="c247deca927b"/>
          <p:cNvPicPr/>
          <p:nvPr/>
        </p:nvPicPr>
        <p:blipFill>
          <a:blip r:embed="rId2"/>
          <a:stretch/>
        </p:blipFill>
        <p:spPr>
          <a:xfrm>
            <a:off x="611280" y="4292640"/>
            <a:ext cx="3024000" cy="2217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7"/>
                </a:solidFill>
                <a:latin typeface="Arial"/>
              </a:rPr>
              <a:t>Требования к профессиональной подготовк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834920" y="1412640"/>
            <a:ext cx="6933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7"/>
                </a:solidFill>
                <a:latin typeface="Arial"/>
              </a:rPr>
              <a:t>Озеленители выполняют следующие работы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7"/>
                </a:solidFill>
                <a:latin typeface="Arial"/>
              </a:rPr>
              <a:t>1. Осуществляет подготовку инструментов и посадочного материа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7"/>
                </a:solidFill>
                <a:latin typeface="Arial"/>
              </a:rPr>
              <a:t>2. Планирует и делает разметку дорожек, грядок, лунок для посад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7"/>
                </a:solidFill>
                <a:latin typeface="Arial"/>
              </a:rPr>
              <a:t>3. Занимается подготовкой почвы, рыхлением, удобрени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7"/>
                </a:solidFill>
                <a:latin typeface="Arial"/>
              </a:rPr>
              <a:t>4. Высаживает саженцы, рассаду на подготовленные гряд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7"/>
                </a:solidFill>
                <a:latin typeface="Arial"/>
              </a:rPr>
              <a:t>5. Осуществляет уход (формирование кроны подрастающих саженцев деревьев, декоративная стрижка древесно-кустарниковых растений, полив, подкормк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188c60"/>
                </a:solidFill>
                <a:latin typeface="Times New Roman"/>
              </a:rPr>
              <a:t>Формула выбора профессии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Oval 3"/>
          <p:cNvSpPr/>
          <p:nvPr/>
        </p:nvSpPr>
        <p:spPr>
          <a:xfrm>
            <a:off x="2771640" y="1773360"/>
            <a:ext cx="3124440" cy="2895480"/>
          </a:xfrm>
          <a:prstGeom prst="ellipse">
            <a:avLst/>
          </a:prstGeom>
          <a:solidFill>
            <a:srgbClr val="ffcc99">
              <a:alpha val="50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Times New Roman"/>
              </a:rPr>
              <a:t>хочу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Oval 4"/>
          <p:cNvSpPr/>
          <p:nvPr/>
        </p:nvSpPr>
        <p:spPr>
          <a:xfrm>
            <a:off x="4073400" y="3597120"/>
            <a:ext cx="3048120" cy="2819520"/>
          </a:xfrm>
          <a:prstGeom prst="ellipse">
            <a:avLst/>
          </a:prstGeom>
          <a:solidFill>
            <a:srgbClr val="cc99ff">
              <a:alpha val="50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Times New Roman"/>
              </a:rPr>
              <a:t>надо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Oval 5"/>
          <p:cNvSpPr/>
          <p:nvPr/>
        </p:nvSpPr>
        <p:spPr>
          <a:xfrm>
            <a:off x="5292720" y="1844640"/>
            <a:ext cx="2971800" cy="2819520"/>
          </a:xfrm>
          <a:prstGeom prst="ellipse">
            <a:avLst/>
          </a:prstGeom>
          <a:solidFill>
            <a:srgbClr val="ccffcc">
              <a:alpha val="50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Times New Roman"/>
              </a:rPr>
              <a:t>могу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49e20"/>
                </a:solidFill>
                <a:latin typeface="Arial"/>
              </a:rPr>
              <a:t>ОБЩАЯ СТРУКТУРА ПРОФЕССИОНАЛЬНОГО ОБРАЗОВАНИЯ ОБЛАСТИ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2411280" y="1916280"/>
            <a:ext cx="6354720" cy="44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4b81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чаль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1333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13337"/>
                </a:solidFill>
                <a:latin typeface="Arial"/>
              </a:rPr>
              <a:t>профессиональные лицеи, ПТ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4b81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н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1333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13337"/>
                </a:solidFill>
                <a:latin typeface="Arial"/>
              </a:rPr>
              <a:t>техникумы, колледж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4b81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4b81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сш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1333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13337"/>
                </a:solidFill>
                <a:latin typeface="Arial"/>
              </a:rPr>
              <a:t>ВУЗы </a:t>
            </a:r>
            <a:r>
              <a:rPr b="1" lang="ru-RU" sz="2000" spc="-1" strike="noStrike">
                <a:solidFill>
                  <a:srgbClr val="d13337"/>
                </a:solidFill>
                <a:latin typeface="Arial"/>
              </a:rPr>
              <a:t>(институты, университеты, академи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39b19d"/>
                </a:solidFill>
                <a:latin typeface="Arial"/>
              </a:rPr>
              <a:t>Информацию о профессиональных учебных заведениях можно получить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195280" y="1600200"/>
            <a:ext cx="69483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справочниках для поступающих в учебные заведе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компьютерных информационно-поисковых программах в сети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TERNET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рекламных объявлениях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библиотеках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Отделе планирования профессиональной карьеры и профориентаци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 личных посещениях учебных заведени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500"/>
                            </p:stCondLst>
                            <p:childTnLst>
                              <p:par>
                                <p:cTn id="180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500"/>
                            </p:stCondLst>
                            <p:childTnLst>
                              <p:par>
                                <p:cTn id="188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44534"/>
                </a:solidFill>
                <a:latin typeface="Arial"/>
              </a:rPr>
              <a:t>ПРОФЕССИОНАЛЬНЫЕ ТИПЫ ЛИЧНОСТИ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4b8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5050"/>
                </a:solidFill>
                <a:uFillTx/>
                <a:latin typeface="Arial"/>
              </a:rPr>
              <a:t>Человек - техник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4b8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5050"/>
                </a:solidFill>
                <a:uFillTx/>
                <a:latin typeface="Arial"/>
              </a:rPr>
              <a:t>Человек – знаковая систем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4b8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5050"/>
                </a:solidFill>
                <a:uFillTx/>
                <a:latin typeface="Arial"/>
              </a:rPr>
              <a:t>Человек – художественный образ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4b8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5050"/>
                </a:solidFill>
                <a:uFillTx/>
                <a:latin typeface="Arial"/>
              </a:rPr>
              <a:t>Человек - человек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4b8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5050"/>
                </a:solidFill>
                <a:uFillTx/>
                <a:latin typeface="Arial"/>
              </a:rPr>
              <a:t>Человек – приро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466992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0" y="0"/>
          <a:ext cx="9144000" cy="6689880"/>
        </p:xfrm>
        <a:graphic>
          <a:graphicData uri="http://schemas.openxmlformats.org/drawingml/2006/table">
            <a:tbl>
              <a:tblPr/>
              <a:tblGrid>
                <a:gridCol w="2484360"/>
                <a:gridCol w="3830760"/>
                <a:gridCol w="2828880"/>
              </a:tblGrid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Тип професс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рофесс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Учащие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00ff"/>
                          </a:solidFill>
                          <a:latin typeface="Arial"/>
                        </a:rPr>
                        <a:t>Человек-челове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рач, милиционер, соц.работник, продавец, менеджер, охранник, педагог, адвокат, психолог, страховой и коммерческий агент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Человек-техн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ик, водитель, столяр, токарь, швея, автослесарь, инженер-технолог, инженер-конструкто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Человек-знаковая систе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ссир, программист, экономист,  бухгалтер, аудитор, редактор, оператор ЭВМ, телефонист, оператор пром. установок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Человек- художествен-ный обра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реограф, архитектор, кондитер, художник, артист, журналист, парикмахер-модельер, музыкальный руководитель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Человек- природ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олог, ветеринар, флорист, геолог, лаборант, фармацевт, астроном, биолог, садовод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05:54:15Z</dcterms:created>
  <dc:creator>Тарасова</dc:creator>
  <dc:description/>
  <dc:language>en-US</dc:language>
  <cp:lastModifiedBy>user</cp:lastModifiedBy>
  <dcterms:modified xsi:type="dcterms:W3CDTF">2024-07-31T07:00:29Z</dcterms:modified>
  <cp:revision>3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21070D22A49947678C9544EEB22AD72E_12</vt:lpwstr>
  </property>
  <property fmtid="{D5CDD505-2E9C-101B-9397-08002B2CF9AE}" pid="3" name="KSOProductBuildVer">
    <vt:lpwstr>1049-12.2.0.17119</vt:lpwstr>
  </property>
  <property fmtid="{D5CDD505-2E9C-101B-9397-08002B2CF9AE}" pid="4" name="Version">
    <vt:r8>4</vt:r8>
  </property>
</Properties>
</file>