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8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37.png" ContentType="image/png"/>
  <Override PartName="/ppt/media/image9.wmf" ContentType="image/x-wmf"/>
  <Override PartName="/ppt/media/image14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019-52B7-46F0-AE0C-BF3F1052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0F7-D1C5-45FD-BBB0-BA1D5D6B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200D-17FE-40E8-B955-CB954162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C843-CD4E-4ADD-A13E-59B68B1B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EC1C9-1DB2-4C8F-B42E-9910C60F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D579-5152-405E-84F8-91CE516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56EC3-39CE-433A-B79D-712A27CA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5801-7B26-4EDE-B10C-9EFBFC4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7BDA-CCB2-4B33-83EB-3BC9FBA2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E3C2-A97C-4ED2-AF9E-90EE6870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512B-10FB-4D25-8A7F-90155CE0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4ADC5-F182-4D80-A91D-69B0F2C9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EE7-32B6-48E0-9D7E-0C2D1425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1959-0489-467A-B1F6-3282DCAC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6259E-7CBF-4777-B105-F32028F9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2876-5BED-4329-BA4C-E08F0766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D4D56-51DF-4E8F-A87C-268BA6F5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C9830-CE7B-4FAE-9187-D5C8FAA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E354-9485-404C-8ABE-818C257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BB0AA-B1FE-4836-82F6-F3AB121C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B1007-51FD-4AF2-AB0C-F858287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C792A-A768-46FD-8DE8-A40ABC20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F87C-4955-4AF1-AB54-830C00E8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BF8-E39D-49C0-AC3F-AADAEDBD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79D2-9CE8-489B-886C-FD84614F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9616B-3F0F-425F-BB70-91F8CD52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DD6F-01B9-4D2B-9AC5-11630689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E06DF-711C-4DC8-AEDF-2EB8CBFB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DDBEF-93D4-4FFE-BA06-17442F5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0BBE7-F60F-467A-9403-DD15577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1E512-8BB3-4F0E-BF34-A714B6DB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EE0FE-E42D-4480-B5A5-9B998A3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EACAE-B692-41D3-B29E-995EB0B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04F4E-C8CF-4446-A0F1-64ECCC8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243-3EF4-4657-9B06-7C628D22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5C2FE-AB2F-47A3-B6F0-ED83974D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A8EC5-0C2E-4D37-BFED-A2063A2C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917F8-D324-44D8-87C3-E2CD856A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4CB20-F761-4EE2-B5FC-2D8B71B8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6E11B-9645-4033-BEE5-F44BADB8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AB5C2-0C29-4828-A799-0A85064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F6576-3812-490B-B923-8E3AC898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9DA9F-636A-44DB-8258-AECAF172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47672-82C2-4465-8344-22BEE4BD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42C4C-6568-4902-BD77-477FAC5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968D-42FC-409C-B609-C8916A9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DD576-3ECE-48D5-AB5F-61DA8F4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3B0CE-AEDE-479D-BB5D-1B06E902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E50B4-0FA9-4D0A-8964-AAE8295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7C8F1-7C0C-4AEF-AC5D-A09854D0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2B159-A3E0-4BED-AD22-ED17A204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2B397-B1D0-4EF2-BD78-23293851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91904-5995-43CB-AB92-5EBE229C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A1A2A-81DC-482C-95CE-2E2A9CC4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A1A0-C2E7-4246-89E8-274951D1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944E2-AE60-4B68-9C98-15AF16A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6069-9B60-4E75-91F6-F864E871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F35D1-37D8-4416-80F2-E3D92FCB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8964B-B45F-4478-98DF-BC41CC1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E9C21-9C6B-4B24-8B0A-1159E2C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4D43B-BC5B-4578-A06C-09C7C22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2FFC8-4118-4D94-81FB-E3CFF701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AA7AB-80BC-429B-B26C-6083F67B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F5A31-3AE0-4D7C-A6E0-7A7E71FF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2C4AE-14AD-429D-AF25-27E9CFCA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C1467-C3BD-46EF-B143-D4C2A11E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36D78-F601-43AC-B21B-A7E9C477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C89E-7769-41C4-8C90-92FCF87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48CC1-FE5F-4E84-A770-D5C66CCF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B4E2A-AAF1-48B1-B38F-7531D2CF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972A9-8FB9-465A-AC59-518FE01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3A744-5066-4112-8FDE-609706C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41C6B-1BDB-4325-8169-C05B20C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6185F-B56E-44F3-B1A3-263DB4E8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F595B-67C6-4D22-B314-FEBCC0C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269E1-2D6E-4DA3-BBF7-243CCFF0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8A3B6-E3D2-4298-B86A-772D73CE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0039-FA01-4B0B-AE47-E023EA05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BFC5-BF43-4E13-A166-C85F3435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3B2F-EC08-4B61-8554-36938A9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460FE-A506-4DE6-8F2A-C33E0190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C5EB9-868E-4427-A9F5-956647A6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B5A2E-EFD7-421B-91E1-E53300CC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88CA3-EA6A-47C1-9057-A58B2CE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5F292-DC71-4555-9D8F-BDB8AC3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BEAB5-7B8A-417D-A565-E31334F5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54847-7AF3-480F-892F-D7C98FB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408-31C1-40E9-9CFD-D9CA0A4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904-BFAA-4FF6-8545-C3CC137D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549F1-73CE-44B3-B389-0FFA65F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D3241-6439-4CE9-9A6B-D6EF1664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BB99F-6D84-4CCC-BC5D-0FA9D93C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7E460-67FD-4CF8-8BF4-440A96B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C1166-0D32-473D-89D5-C72BCFFD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70460-847A-422D-A400-70556C9E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9C4ED-A5B9-4DF1-A327-A1E9DE51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CF472-DD0C-4283-B4C7-ECCB47F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65D24-92CF-45F1-90C6-0132539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D3CDE-0673-46DC-99F8-D81F5021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F0E-7177-4F3C-BBC5-96C4D23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EBF5C-5D41-48FC-9AA4-6CABAEEF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68952-6462-4E9B-9E83-A4479B3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96E60-CE4C-4FDE-9F5C-296D0E5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101FF-B85D-4BAB-92D4-007BB244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DC934-4DC5-4C69-985C-1D0EE583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3BB41-73B0-480C-BC7B-377B55F6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B6F34-1489-45C3-B4E7-0A5CD096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66899-5BBA-43AE-9025-43307494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644FA-D01D-4B1D-AA36-E0CA7BD3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3C176-136D-43BE-9340-9704317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CB89-0624-4636-97F7-F4A91F0F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74503-0611-4095-8384-1B53546E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F0BDD-9359-472D-AE64-91D29F1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A1D7E-DC52-445E-B5E4-CBAD81AF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6A434-1136-4F2D-95F6-589FF52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FCD4A-FA7E-48BA-B1BD-AD7C6E0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703E3-4F53-4184-9593-616E5CC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D42C7-B73E-4B2B-A14B-5430BB3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E5FDA-1D72-417C-9AC4-6C9493CD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E01B4-B1B8-43A8-9BB6-0C2BE01A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83E80-400C-40F9-8F4A-EC45B44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4FE1-1315-4EC7-A2FB-8BAE5CBB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73856-D2F4-49C0-BE20-28980A5D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937E1-27E7-4F69-B51F-2216387A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75194-8FD0-42DB-8E3E-30D49BC8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C1483-E144-4C8C-A5C8-A6432DF9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A75B7-DA33-481E-B919-29F62457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047A0-A557-406E-9890-CD06617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DCF4C-E303-4014-895F-DE3F2E98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DD9E2-B6E1-4BD6-A3AC-45611229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8EB27-85ED-4F2A-BAC7-5D6569C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5EE80-36F9-46D9-8734-FBAB1AC0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9A62-34C8-489D-8489-43310622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8241A-EF42-4EDE-A6B8-0C087985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B0735-C400-4673-9EE2-D08EAA56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60E75-4588-4C16-B2B9-6BBF2ADB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09D43-6090-42FB-B94B-230DFAF7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06B29-1402-4E17-866A-627A008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98A1D-F26C-44D7-A449-3958F185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7B1D4-0832-4D0F-8F8F-AC746C16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ABE4F-7F83-447F-AFD4-296AE712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F05F9-69E7-4FD8-816D-8DA433F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E14D8-7173-4BCE-9422-3436900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4E01-BE84-44B7-8EDC-D9592DE8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2CDF5-A426-4867-B0DC-4134EEEC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E8942-53CE-4558-9B78-1E915871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75F59-6544-4C7A-BE48-51D92CA7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616F4-F255-4176-86E6-F22FCBA8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FA1DB-909F-4C03-86B9-FD96D8C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9BEF6-2FE9-4C0E-B98B-A464EF97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6D868-C1DE-4121-921A-DC86C581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EA4B4-BD26-4B72-86F8-6830D533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E41D7-2B90-43D0-A657-50F9096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64EC5-6C21-4519-80B0-E590FDCF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F3CA-D835-48C8-8D36-CABE2C0F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0B80B-9540-4C3F-B52B-CFD3E229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7D0BA-9282-4937-88E3-BA1A5B0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B9ED7-48A9-45D2-9318-045AC4ED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433AB-3281-4F38-974E-61DA02BB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3E959-BD6A-4E9D-BFE6-2C34B802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4A37C-CD27-454B-B0FC-07EBC7A3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BB8A7-662E-4D86-9230-57A5DB96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011E2-D66A-494D-88C0-F3B86328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B4279-79B2-4E73-8175-16780D3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D9779-41DF-42CD-8FE7-05E3CF45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6397-AC27-4E7B-9667-95619B9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DAF344-6705-4E8E-8F16-0EED18A0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E904F-F0C7-4D4E-A8FB-64C5C37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8DDDC-5DC4-4D50-9A47-70DD0C0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3726C-3FAF-4C7E-BEBA-4985759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5C853-585E-47F1-B2A8-CD03420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C6FF7-BCD5-4BC3-8F24-4407FED1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FA8463-8AEA-46D9-B092-CB41227B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3CC0B-F77B-4129-860E-7E180964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5BE77-6A0B-44BC-9052-DDDD2548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F391A-7165-43B8-AACF-68577B1F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AFB3-CE37-4158-AB27-F769F741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DB8B1-3968-45E1-933E-8FD7256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BEE56-2B70-4290-B35E-6E3A72EE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7F061-54BE-4391-8ECE-0DE98DAD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165A6-87D7-4176-AA9C-10D8BD88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FDDE40-78D4-4E10-AE0D-62D3719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2288A-A467-43FF-B1A1-D452477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DBE62-74A7-465C-8789-3D901A14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9332D-5517-4724-9E71-9BA26148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E8E31-446D-4E2D-BB7E-B43F1CDC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54DDA-0636-41EB-A1BF-6DC7E514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1149-F0EA-4448-81AC-D21528A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11797-E769-4499-A954-6479F8D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D1AC9-E7D6-411D-BB8E-A0EB22E6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13E9C-7D44-4A19-9B6A-4E49EB77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50630-E32C-417A-984B-80E7D6B3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E990D-F568-437E-ACE5-E0EF430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4D13B-3A99-431D-8A68-0B496F5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967AED-A3F0-4E0B-8999-AA6F4A9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6E4A4-0C05-494F-A470-22A2BE8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F53EF-D9CB-4AA8-8515-35CE31B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E6661-E524-4395-85B4-54E0E33E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D45-483B-4289-A778-01333245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33B5-80B6-44CC-9263-91E34D0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48E13-0A99-41DC-987F-871CE93A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670EC-68C5-4BBA-B015-49AD5819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228897-DC47-4326-BC2F-09E9FD7E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940F02-5983-4694-ABF2-A949F56D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EBF5CB-0141-4A2F-9E67-776AC01F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77EEE6-B50C-47E2-AC1F-88F9F13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BE770-78B9-45F1-8C1F-A3F1AB2A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F8A75-8A84-44D0-8BBB-9851DFC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05846-B6CA-4735-ACB5-F562A37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37070A-8060-4431-BF0E-8AC27BB6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4D33-13FA-4EDC-A4F3-B2C6569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0F3E44-7077-4455-9CAD-721BBFC3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31C0F4-75E9-463F-AED0-378667ED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C9AE7-275B-46E7-8EA0-756E8E03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28FCEA-CEBB-4AC3-8E42-F6BF9778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93F8A-3AEB-4FBD-BAB4-C1CA95E3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4761BF-0DCB-4084-8268-AD101D48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ACBD64-AA42-4FBB-81D1-8B67DB8D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17C4BD-7D48-45D8-9A4B-7854B4BE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AA7B52-751E-4D20-8583-4B5A5F73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5D89BC-2038-4318-87CE-972A707C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AF1B4-C1FA-4126-BE4B-46CD54B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AD5B0-1C1C-430F-BD6B-CB55CD5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E52613-37CF-46EC-8548-B6109F7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B627DD-3C71-4BAA-AF7E-F3A44730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4B49A-D05B-4D34-8BD6-AAF46B0A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6D23CA-38BD-40CB-A45C-95B9461F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2FAC3C-6641-427D-AB9A-5E05D367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D1BCFF-17C4-4375-AB10-1AAC252D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2D8DB2-BBE1-4193-BA11-9AB2C616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08ED5-928C-4BD5-BEEF-7530F51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308E2B-B52C-4A2D-9A18-5F59CF5A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F66F-94F3-47AD-86B0-6E7844A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46610A-B344-4585-A1A0-15A83774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D19C8B-E4D9-484A-85C8-44ADB56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43FFFC-971E-481F-BB51-A16B8C7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99BA16-B4D7-4C21-BDA9-6F8BE743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FCB613-BB7D-4AEA-B1C7-09EFE98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09404-5A19-4D21-89B1-85E4C48F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EAAF3D-6671-40C3-8678-F9CC81E8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5CBEF2-70D2-4EB2-A585-24521462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CFCFCD-2480-4657-9687-7A3F3661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24D5B2-6FAB-4241-9679-A5A2726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0674-0553-4F4B-942B-94B9768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40D3C2-D610-4252-84E2-CFF23D49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DF4463-336D-4B3F-904E-9D249E62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6CFFEF-3DF2-4B80-AF4A-961E58A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31D47B-FBB0-411A-B145-793DCCDB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58D836-EF18-4082-9894-08696F3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DB85F0-46BE-4D47-BA38-0971351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E7F98B-7E56-46A0-94EB-79E52C8E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71B974-C12C-4FEB-8EF4-76555DCC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78D9D2-E377-41FF-AB7C-FA8B3D2D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5D201A-4861-4DAD-B786-397E7DF3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C64A-613A-4E89-989F-78A54921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71685B-78CB-4F95-B616-B4823E6B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AA6CD9-F73B-448C-833A-4BE6673F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33D95E-C3EC-487C-8FD9-A16EE8FA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8E6D7C-A09A-4074-A6D9-66D01C86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099403-FEA3-4A47-997E-8FEC7FC8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59E393-8ABB-4BE3-A65A-8E81E6C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83DE26-1298-4C7C-9D6B-753A1E1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313600-2B0D-406B-B2F6-BB2BED2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8FD210-875C-4AFF-8E0C-F41FE169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3F9A64-7319-435F-839D-C07961DE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403F-9CF7-49DC-AA39-708C3425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596F52-F20B-4B2A-BD52-AC23235D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59FA5A-E868-4861-AEC2-51BFB7B0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A70F46-ECF9-4A8D-B22D-6161709A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C8CE6D-95E6-48E7-BB7D-8F7E3067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AE1A1A-1BD3-4841-920B-57C1BD2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2E3B7C-92FD-4C2F-95C9-A5322CFC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E1B4CA-7A70-4B18-A184-1D36FEB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A0C766-B158-4A20-A08C-C3D1B894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6F182D-6470-45A6-920B-E24FA4C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C8A1DF-2A99-4600-A4C7-F3629CA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7DCF-EB1D-4274-BACB-3228987E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184C42-B675-4743-8241-BB9A1740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1E2BD7-1313-4D0A-B730-2C9A18C9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06D6CD-8957-41D9-AEF6-B0D1BB51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85AEE6-5698-4ED8-A29C-B1523A80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8651D4-D049-49E8-8820-9A0C3BE0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456F96-97A3-4920-8EF8-4D61C83E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698CA8-0ADB-4CCC-95A2-A2B2BC9F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635640-BEA5-49CC-87B7-1125862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644D3-FC1A-4143-97D1-775BC46E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7ABA0C-A416-4534-8368-61DE8EC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C792B-F34A-4498-938C-C96BBF22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AC1690-45CE-4EB7-B2E7-6E616128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13C6FC-5C3F-4A33-87B8-A87AA3B3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4E0FD2-96F5-4FC0-B3F9-7921190C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F550C2-0654-4F6B-83A7-CEF61B66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A45050-15DB-4715-B7D9-0621EA01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64E7A7-F6F2-4A96-8F01-E5C644E3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38A2D2-1257-47AD-B944-BAD42FC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8A3FF5-0E1B-4566-9A30-57F364B9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140558-BFBE-4454-8C02-E881D4E7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478435-BFB5-4622-B1B8-BDA5A514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64A4-BD92-4A40-8160-75C5A2BD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58E6A1-30B3-4A32-99D2-1F56B737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3D3222-490C-4BAF-A681-BFA6F5D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2A2024-F82E-434F-B80C-741A39F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7078C8-F469-49F3-AABF-74FE9AF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16D309-69D4-4A7C-B6F4-5F105E1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B73252-6CC8-41B0-8CAF-6DA4E6EE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B6870F-EC81-44AD-8916-FBB3F78E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F42CD6-EF9D-40F1-BAF9-8958F0F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C0924B-23C5-416B-A388-34045950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575DA5-42BD-4D41-9C3B-D1E4910F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49A-91EC-4D9D-A249-05C8EDE7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4EB35-0DCB-479E-A378-82D3F066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983204-9D1F-4E19-9798-23A103AD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01A7EA-0095-478A-94B8-A3A6821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48B294-C5D9-49D3-B390-D119975F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A94D10-FD69-4519-9E37-0CDB163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AD7428-1DF7-4B5A-87AE-C1B7D71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47CE6A-9216-48F5-B6D2-4F0B670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793E97-F1D7-4DAB-963D-77EED605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84D6D2-202B-41D3-A3A5-43904963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3A2FD3-7A06-48EC-B7F2-98697E65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B8DA94-269F-4009-A52B-5BC02F79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7156-3E04-4933-88C6-FCBF601A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8D1EA5-3183-400A-BAA4-3D8FCF15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8A2B99-C928-4D05-8441-4B372739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56AD1E-0D24-477F-84AA-A41C756E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37CB0E-CFE0-41CA-B0B0-14610243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F9FC32-EB81-4376-9019-03431B2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7DFA9F-1A1A-43FB-9362-D140F256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D85E61-A45F-4ECE-9DD2-AA535DF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3A7056-337B-4978-9380-0524772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A2651E-6DB1-4A03-944B-A701F899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781FFD-778A-4BE1-8264-9AC37465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1FAA-5407-43AF-8DBA-F21B3EA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98A07D-925C-4917-BAC5-1B786152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F0AB1A-34A3-4674-A174-BF7AF2AB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AC96C7-73CD-4A07-B0DE-CFFEA09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04CB76-AE1B-429A-8D38-09A4D8D1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13A78B-EB60-4971-8771-B5A71EB9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7F6A18-FB9E-44DD-887B-9BFF379A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0BF24D-4E5E-461A-A41D-7680DE3B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D676B8-F7B7-412A-B367-B49B8DB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AE80D6-3D6F-4F54-9946-EC94ED8F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0B4B9B-1F2F-419D-A1D6-87B2196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D03A-437C-41B1-848E-D03A191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78103D-A23E-44D1-A380-3AB4B2FD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B02AE4-0DB5-41F5-AEDC-AB203599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52C30D-C4F6-4DBC-8D82-97587356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66CCAE-D2D4-4850-920F-96BFE216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3CD2A9-276B-410C-BF9A-0B87B992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D37C7B-0ABA-4226-AE74-6A030C5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066F21-74E4-4BF6-8F32-F45015FC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DE750D-34FD-4D5B-881D-BDF08914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80BB80-DC0E-4978-A931-D682BA2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8AED1D-D55B-456F-B259-684AE05C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2229-14A0-4A2E-8340-49FD6E4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D129C7-2411-4442-B344-ADED80E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C431B8-5747-43E1-8E8D-D4F66D8C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18F807-59FD-46BC-A763-60F72CAE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5B8247-87BA-477E-A7C0-26615925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FD0373-9788-46B6-AF2A-645E3E0D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BFD3D4-7473-4444-963E-31C95E12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D7581F-3965-4B44-9B62-E5C5948C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F40374-085C-4154-9920-89DA748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48D4BE-2C86-4E9F-A4E0-C3A102E2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470C52-A191-4947-9A7F-6778E352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894A-6EA9-4780-8C87-80F1982B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F47B4D-6AAE-4527-9EAF-179565D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579544-9271-47FE-BA42-3DF35782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A8B0E0-0DFA-4CA3-BA47-201E5BB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61C8D5-1C18-4DA6-BBB5-11D9C143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285A3C-FE58-4BA6-880F-B298E2B4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2C2D3F-D1FE-4E17-959D-3CF8C4D1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9C678D-CD3C-4273-88BE-3B110E45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A7CF-D235-4F1B-AC2F-82509F67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71E3-C8F9-458C-A30F-1F0B0E8F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AEE7-09EC-40B9-A6DC-4EE66AAE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399-0512-459E-8245-69D0C984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66A-4550-4887-89B0-45D5BD6C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6BFE-90BD-4C37-B9CE-4684BA53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30E6-F860-4F26-B8FD-07B0F39B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0270-044F-43CD-98F0-D76BDBE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0DA0-A60F-4546-9998-D41EB37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4A00-FCC1-45CD-BB85-24D0D01B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52C2B-9E88-4121-9D6E-98573955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218B-F793-47C5-88DA-0CF4459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5824-F386-4733-935A-CB9EAA47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CEBF-AC47-407C-B390-ED6A6A1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3A6-3F9E-4056-89FA-F339B93D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B91A-3448-46C3-9588-5130A01B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2D77-7332-4429-B8EA-5DB2D9D7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8D7D-36D2-45AF-807E-B728D5E0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F367-88E4-40FE-8FEB-963B62C6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FBAE9-5D89-4ADC-88AC-3327CC9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F5CA3-3127-4F28-BE03-FAC7721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FEBB5-BBC5-43D8-8FA3-68E1988E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17E13-A86C-4BC7-9265-B1BCC8CE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1DD3-C5F6-45E0-A483-5CBF59E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3C00A-0CA3-48A6-88B1-B9B7181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568-968A-40CB-8EB4-32835A1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67A7-CDD9-494E-84E3-6009F43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A632-71BA-4CC7-906B-ABBECC0A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D34B-4600-4EBC-9852-E4937B40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8065F-CE16-4368-AB7C-54E51E66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39F57-3393-4D18-B28D-D747DA77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E45-33CA-4961-8092-4F1E0A0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81B4-4D3E-41B4-988A-51552126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04B6B-DEC4-4D5A-9C0B-A5E7AD4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A725-A2D5-4477-8340-D009DA5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96CA-0BAF-41D8-A698-F09D1D83207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0260-734B-4A63-9169-3AC8BA5ACA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D21-4140-4522-9613-A2135CF813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C4BE-8892-4EBF-90EA-7AE3A45F6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C59-E4B0-4524-ABE7-DC4C233A2BD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0FD-6C5F-4A42-97CB-BED54E0BC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B972-20FA-489E-ADC9-12ECF62786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CAD1-75CF-49F3-883A-4226E2825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0CD-8D89-4AA2-A190-D94026EABE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5204-EC86-4D0A-88A9-2CDF27002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255-476F-4C6C-80CA-6EAD41ADA03E}" type="datetime">
              <a:rPr b="0" lang="ru-RU" sz="9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326-537E-4549-92B4-C5C7DA1A342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399B-6F5D-453E-96AD-8B4D1DBCE9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3F7-3E63-41B1-800D-2E6C16862D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2A4-9D33-4472-837D-F07AD02D8D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5E90-49FB-4AAE-BD83-2085EDC267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F9F-6B2D-49B3-AF8D-A0D5903E9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8FF4-EB90-42E9-8F77-C4B6068B83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FA95-D111-4918-979F-B0241AC141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6E74-2BAD-42C9-8ABE-A30F372285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3EC4-AC5F-4696-AA97-B44C9CB38F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3FB9-E124-43B9-82B1-4BFA6FF451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8581-10CC-41B6-9AA2-242BD58568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0369-DDD1-4452-B614-1D10F10B05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0494-0A99-4A03-ABE2-F3BF9856AD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C700-D3C5-4851-8B6D-1B435649DC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6342-B004-4581-B3EC-069C7DE7EA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B340-3B39-40C8-B2B7-18F23BFEF6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686E-4EA7-4498-A0EC-CA09D1549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837-C37F-41F8-876D-DB082285EA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14FF-6F42-4A3B-B5EB-763DFD4AB2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EA1B-7C18-45C3-965D-85DEFD2147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088-05E9-42C9-887C-A781004B66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672E-E574-459F-A8D5-9F8F5DC133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2B26-1D61-4F1C-ACFE-3949214B14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88CD-45DC-4C6B-9714-2EADAE4955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99C6-836A-43D6-ABAC-28E85FD3A1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D332-C1A0-4670-AC11-35180F42EB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CBC-E638-42DE-80FA-E0748F7BD0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5CD6-93D4-4BC7-AC79-082522ED9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29AD-EC72-4539-8A16-2BC8DF4824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A666-1FFC-453F-8AD6-E9B7DCDFD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648-8C16-483B-8C68-2A038B2200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8AC1-A55B-43B8-8F19-5ED2F3A61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3CB-4FA9-4C39-A398-39CA5F7565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8873-0BF4-454B-91D3-C7A7DCC80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1" name="Замещающее содержимое 100" descr=""/>
          <p:cNvPicPr/>
          <p:nvPr/>
        </p:nvPicPr>
        <p:blipFill>
          <a:blip r:embed="rId1"/>
          <a:srcRect l="10022" t="0" r="10340" b="0"/>
          <a:stretch/>
        </p:blipFill>
        <p:spPr>
          <a:xfrm>
            <a:off x="108000" y="44280"/>
            <a:ext cx="9246960" cy="6834240"/>
          </a:xfrm>
          <a:prstGeom prst="rect">
            <a:avLst/>
          </a:prstGeom>
          <a:ln w="0">
            <a:noFill/>
          </a:ln>
        </p:spPr>
      </p:pic>
      <p:sp>
        <p:nvSpPr>
          <p:cNvPr id="1562" name="Текстовое поле 4"/>
          <p:cNvSpPr/>
          <p:nvPr/>
        </p:nvSpPr>
        <p:spPr>
          <a:xfrm>
            <a:off x="1692360" y="1557360"/>
            <a:ext cx="59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.02.2022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авильные и неправильные дроби. Сравнение дроб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записать в тетрад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Picture 2" descr=""/>
          <p:cNvPicPr/>
          <p:nvPr/>
        </p:nvPicPr>
        <p:blipFill>
          <a:blip r:embed="rId1"/>
          <a:srcRect l="21858" t="31127" r="16158" b="34424"/>
          <a:stretch/>
        </p:blipFill>
        <p:spPr>
          <a:xfrm>
            <a:off x="468360" y="1844640"/>
            <a:ext cx="8064360" cy="2521080"/>
          </a:xfrm>
          <a:prstGeom prst="rect">
            <a:avLst/>
          </a:prstGeom>
          <a:ln w="0">
            <a:noFill/>
          </a:ln>
        </p:spPr>
      </p:pic>
      <p:pic>
        <p:nvPicPr>
          <p:cNvPr id="1631" name="Текстовое поле 1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199728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Текстовое поле 3" descr=""/>
          <p:cNvPicPr/>
          <p:nvPr/>
        </p:nvPicPr>
        <p:blipFill>
          <a:blip r:embed="rId1"/>
          <a:stretch/>
        </p:blipFill>
        <p:spPr>
          <a:xfrm>
            <a:off x="853920" y="1581120"/>
            <a:ext cx="4988160" cy="3538440"/>
          </a:xfrm>
          <a:prstGeom prst="rect">
            <a:avLst/>
          </a:prstGeom>
          <a:ln w="0">
            <a:noFill/>
          </a:ln>
        </p:spPr>
      </p:pic>
      <p:pic>
        <p:nvPicPr>
          <p:cNvPr id="1633" name="Изображение 4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1912680" cy="1874880"/>
          </a:xfrm>
          <a:prstGeom prst="rect">
            <a:avLst/>
          </a:prstGeom>
          <a:ln w="0">
            <a:noFill/>
          </a:ln>
        </p:spPr>
      </p:pic>
      <p:pic>
        <p:nvPicPr>
          <p:cNvPr id="1634" name="Текстовое поле 5" descr=""/>
          <p:cNvPicPr/>
          <p:nvPr/>
        </p:nvPicPr>
        <p:blipFill>
          <a:blip r:embed="rId3"/>
          <a:stretch/>
        </p:blipFill>
        <p:spPr>
          <a:xfrm>
            <a:off x="1476360" y="333360"/>
            <a:ext cx="275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5" name="Текстовое поле 1" descr=""/>
          <p:cNvPicPr/>
          <p:nvPr/>
        </p:nvPicPr>
        <p:blipFill>
          <a:blip r:embed="rId1"/>
          <a:stretch/>
        </p:blipFill>
        <p:spPr>
          <a:xfrm>
            <a:off x="1763640" y="1555920"/>
            <a:ext cx="651852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Изображение 38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1533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Текстовое поле 1"/>
          <p:cNvSpPr/>
          <p:nvPr/>
        </p:nvSpPr>
        <p:spPr>
          <a:xfrm>
            <a:off x="1979640" y="620640"/>
            <a:ext cx="5230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араграф 26, ответить на вопросы 4-7, реши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№ 724 (1-6), 726,73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р 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8" name="Изображение 99" descr=""/>
          <p:cNvPicPr/>
          <p:nvPr/>
        </p:nvPicPr>
        <p:blipFill>
          <a:blip r:embed="rId1"/>
          <a:stretch/>
        </p:blipFill>
        <p:spPr>
          <a:xfrm>
            <a:off x="1260360" y="333360"/>
            <a:ext cx="6691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4033800" cy="691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 Light"/>
              </a:rPr>
              <a:t>Устн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4" name="Объект 3" descr=""/>
          <p:cNvPicPr/>
          <p:nvPr/>
        </p:nvPicPr>
        <p:blipFill>
          <a:blip r:embed="rId1"/>
          <a:srcRect l="0" t="808" r="14045" b="0"/>
          <a:stretch/>
        </p:blipFill>
        <p:spPr>
          <a:xfrm>
            <a:off x="900000" y="1341360"/>
            <a:ext cx="7936200" cy="4513320"/>
          </a:xfrm>
          <a:prstGeom prst="rect">
            <a:avLst/>
          </a:prstGeom>
          <a:ln w="0">
            <a:noFill/>
          </a:ln>
        </p:spPr>
      </p:pic>
      <p:pic>
        <p:nvPicPr>
          <p:cNvPr id="1565" name="Object 8" descr=""/>
          <p:cNvPicPr/>
          <p:nvPr/>
        </p:nvPicPr>
        <p:blipFill>
          <a:blip r:embed="rId2"/>
          <a:stretch/>
        </p:blipFill>
        <p:spPr>
          <a:xfrm>
            <a:off x="7524720" y="1773360"/>
            <a:ext cx="1068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Заголовок 1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86520" cy="1438200"/>
          </a:xfrm>
          <a:prstGeom prst="rect">
            <a:avLst/>
          </a:prstGeom>
          <a:ln w="0">
            <a:noFill/>
          </a:ln>
        </p:spPr>
      </p:pic>
      <p:sp>
        <p:nvSpPr>
          <p:cNvPr id="1567" name="TextBox 2"/>
          <p:cNvSpPr/>
          <p:nvPr/>
        </p:nvSpPr>
        <p:spPr>
          <a:xfrm>
            <a:off x="212760" y="213372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из приведенных ниже дробей являются правильны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TextBox 4" descr=""/>
          <p:cNvPicPr/>
          <p:nvPr/>
        </p:nvPicPr>
        <p:blipFill>
          <a:blip r:embed="rId2"/>
          <a:stretch/>
        </p:blipFill>
        <p:spPr>
          <a:xfrm>
            <a:off x="846000" y="3108240"/>
            <a:ext cx="7417080" cy="887400"/>
          </a:xfrm>
          <a:prstGeom prst="rect">
            <a:avLst/>
          </a:prstGeom>
          <a:ln w="0">
            <a:noFill/>
          </a:ln>
        </p:spPr>
      </p:pic>
      <p:sp>
        <p:nvSpPr>
          <p:cNvPr id="1569" name="TextBox 5"/>
          <p:cNvSpPr/>
          <p:nvPr/>
        </p:nvSpPr>
        <p:spPr>
          <a:xfrm>
            <a:off x="457200" y="4713120"/>
            <a:ext cx="85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из приведенных ниже дробей являются неправильны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Заголовок 1" descr=""/>
          <p:cNvPicPr/>
          <p:nvPr/>
        </p:nvPicPr>
        <p:blipFill>
          <a:blip r:embed="rId1"/>
          <a:stretch/>
        </p:blipFill>
        <p:spPr>
          <a:xfrm>
            <a:off x="1979640" y="-314280"/>
            <a:ext cx="6407280" cy="132552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2" name="TextBox 6" descr=""/>
          <p:cNvPicPr/>
          <p:nvPr/>
        </p:nvPicPr>
        <p:blipFill>
          <a:blip r:embed="rId2"/>
          <a:stretch/>
        </p:blipFill>
        <p:spPr>
          <a:xfrm>
            <a:off x="3419640" y="2131920"/>
            <a:ext cx="4260600" cy="887400"/>
          </a:xfrm>
          <a:prstGeom prst="rect">
            <a:avLst/>
          </a:prstGeom>
          <a:ln w="0">
            <a:noFill/>
          </a:ln>
        </p:spPr>
      </p:pic>
      <p:pic>
        <p:nvPicPr>
          <p:cNvPr id="1573" name="TextBox 7" descr=""/>
          <p:cNvPicPr/>
          <p:nvPr/>
        </p:nvPicPr>
        <p:blipFill>
          <a:blip r:embed="rId3"/>
          <a:stretch/>
        </p:blipFill>
        <p:spPr>
          <a:xfrm>
            <a:off x="3851280" y="3571920"/>
            <a:ext cx="3060720" cy="888840"/>
          </a:xfrm>
          <a:prstGeom prst="rect">
            <a:avLst/>
          </a:prstGeom>
          <a:ln w="0">
            <a:noFill/>
          </a:ln>
        </p:spPr>
      </p:pic>
      <p:sp>
        <p:nvSpPr>
          <p:cNvPr id="1574" name="Текстовое поле 3"/>
          <p:cNvSpPr/>
          <p:nvPr/>
        </p:nvSpPr>
        <p:spPr>
          <a:xfrm>
            <a:off x="466560" y="378936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Заголовок 1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86520" cy="797040"/>
          </a:xfrm>
          <a:prstGeom prst="rect">
            <a:avLst/>
          </a:prstGeom>
          <a:ln w="0">
            <a:noFill/>
          </a:ln>
        </p:spPr>
      </p:pic>
      <p:sp>
        <p:nvSpPr>
          <p:cNvPr id="1576" name="TextBox 4"/>
          <p:cNvSpPr/>
          <p:nvPr/>
        </p:nvSpPr>
        <p:spPr>
          <a:xfrm>
            <a:off x="2425320" y="155736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кновенные дро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TextBox 5"/>
          <p:cNvSpPr/>
          <p:nvPr/>
        </p:nvSpPr>
        <p:spPr>
          <a:xfrm>
            <a:off x="406800" y="270828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TextBox 7"/>
          <p:cNvSpPr/>
          <p:nvPr/>
        </p:nvSpPr>
        <p:spPr>
          <a:xfrm>
            <a:off x="5754600" y="270828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9" name="Прямая со стрелкой 11"/>
          <p:cNvCxnSpPr>
            <a:stCxn id="1576" idx="2"/>
          </p:cNvCxnSpPr>
          <p:nvPr/>
        </p:nvCxnSpPr>
        <p:spPr>
          <a:xfrm flipH="1">
            <a:off x="2483640" y="2141280"/>
            <a:ext cx="1932840" cy="64044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580" name="Прямая со стрелкой 13"/>
          <p:cNvCxnSpPr>
            <a:stCxn id="1576" idx="2"/>
          </p:cNvCxnSpPr>
          <p:nvPr/>
        </p:nvCxnSpPr>
        <p:spPr>
          <a:xfrm>
            <a:off x="4416480" y="2141280"/>
            <a:ext cx="2100960" cy="64044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arrow" w="med"/>
          </a:ln>
        </p:spPr>
      </p:cxnSp>
      <p:pic>
        <p:nvPicPr>
          <p:cNvPr id="1581" name="Прямоугольник 14" descr=""/>
          <p:cNvPicPr/>
          <p:nvPr/>
        </p:nvPicPr>
        <p:blipFill>
          <a:blip r:embed="rId2"/>
          <a:stretch/>
        </p:blipFill>
        <p:spPr>
          <a:xfrm>
            <a:off x="1306440" y="3571920"/>
            <a:ext cx="468360" cy="617400"/>
          </a:xfrm>
          <a:prstGeom prst="rect">
            <a:avLst/>
          </a:prstGeom>
          <a:ln w="0">
            <a:noFill/>
          </a:ln>
        </p:spPr>
      </p:pic>
      <p:pic>
        <p:nvPicPr>
          <p:cNvPr id="1582" name="Прямоугольник 15" descr=""/>
          <p:cNvPicPr/>
          <p:nvPr/>
        </p:nvPicPr>
        <p:blipFill>
          <a:blip r:embed="rId3"/>
          <a:stretch/>
        </p:blipFill>
        <p:spPr>
          <a:xfrm>
            <a:off x="6659640" y="3571920"/>
            <a:ext cx="728640" cy="617400"/>
          </a:xfrm>
          <a:prstGeom prst="rect">
            <a:avLst/>
          </a:prstGeom>
          <a:ln w="0">
            <a:noFill/>
          </a:ln>
        </p:spPr>
      </p:pic>
      <p:pic>
        <p:nvPicPr>
          <p:cNvPr id="1583" name="Рисунок 20" descr=""/>
          <p:cNvPicPr/>
          <p:nvPr/>
        </p:nvPicPr>
        <p:blipFill>
          <a:blip r:embed="rId4"/>
          <a:stretch/>
        </p:blipFill>
        <p:spPr>
          <a:xfrm>
            <a:off x="2749680" y="2786040"/>
            <a:ext cx="3193920" cy="4071960"/>
          </a:xfrm>
          <a:prstGeom prst="rect">
            <a:avLst/>
          </a:prstGeom>
          <a:ln w="0">
            <a:noFill/>
          </a:ln>
        </p:spPr>
      </p:pic>
      <p:pic>
        <p:nvPicPr>
          <p:cNvPr id="1584" name="Текстовое поле 1" descr=""/>
          <p:cNvPicPr/>
          <p:nvPr/>
        </p:nvPicPr>
        <p:blipFill>
          <a:blip r:embed="rId5"/>
          <a:stretch/>
        </p:blipFill>
        <p:spPr>
          <a:xfrm>
            <a:off x="2411280" y="44280"/>
            <a:ext cx="4492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5" name="Group 104" descr=""/>
          <p:cNvPicPr/>
          <p:nvPr/>
        </p:nvPicPr>
        <p:blipFill>
          <a:blip r:embed="rId1"/>
          <a:stretch/>
        </p:blipFill>
        <p:spPr>
          <a:xfrm>
            <a:off x="571680" y="542880"/>
            <a:ext cx="1520640" cy="1809720"/>
          </a:xfrm>
          <a:prstGeom prst="rect">
            <a:avLst/>
          </a:prstGeom>
          <a:ln w="0">
            <a:noFill/>
          </a:ln>
        </p:spPr>
      </p:pic>
      <p:sp>
        <p:nvSpPr>
          <p:cNvPr id="1586" name="AutoShape 68"/>
          <p:cNvSpPr/>
          <p:nvPr/>
        </p:nvSpPr>
        <p:spPr>
          <a:xfrm>
            <a:off x="2548080" y="620640"/>
            <a:ext cx="1979640" cy="468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AutoShape 69"/>
          <p:cNvSpPr/>
          <p:nvPr/>
        </p:nvSpPr>
        <p:spPr>
          <a:xfrm>
            <a:off x="2506680" y="1197000"/>
            <a:ext cx="2062080" cy="576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AutoShape 70"/>
          <p:cNvSpPr/>
          <p:nvPr/>
        </p:nvSpPr>
        <p:spPr>
          <a:xfrm>
            <a:off x="2274840" y="1838160"/>
            <a:ext cx="2683080" cy="509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намен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AutoShape 76"/>
          <p:cNvSpPr/>
          <p:nvPr/>
        </p:nvSpPr>
        <p:spPr>
          <a:xfrm>
            <a:off x="2554200" y="2637000"/>
            <a:ext cx="2340000" cy="496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AutoShape 77"/>
          <p:cNvSpPr/>
          <p:nvPr/>
        </p:nvSpPr>
        <p:spPr>
          <a:xfrm>
            <a:off x="2657520" y="3228840"/>
            <a:ext cx="2062080" cy="576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рав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AutoShape 78"/>
          <p:cNvSpPr/>
          <p:nvPr/>
        </p:nvSpPr>
        <p:spPr>
          <a:xfrm>
            <a:off x="2554200" y="3852720"/>
            <a:ext cx="2340000" cy="49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наменате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2" name="Group 108" descr=""/>
          <p:cNvPicPr/>
          <p:nvPr/>
        </p:nvPicPr>
        <p:blipFill>
          <a:blip r:embed="rId2"/>
          <a:stretch/>
        </p:blipFill>
        <p:spPr>
          <a:xfrm>
            <a:off x="5504040" y="3568680"/>
            <a:ext cx="3531960" cy="1809720"/>
          </a:xfrm>
          <a:prstGeom prst="rect">
            <a:avLst/>
          </a:prstGeom>
          <a:ln w="0">
            <a:noFill/>
          </a:ln>
        </p:spPr>
      </p:pic>
      <p:sp>
        <p:nvSpPr>
          <p:cNvPr id="1593" name="AutoShape 84"/>
          <p:cNvSpPr/>
          <p:nvPr/>
        </p:nvSpPr>
        <p:spPr>
          <a:xfrm>
            <a:off x="2522520" y="4869000"/>
            <a:ext cx="2573280" cy="509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AutoShape 85"/>
          <p:cNvSpPr/>
          <p:nvPr/>
        </p:nvSpPr>
        <p:spPr>
          <a:xfrm>
            <a:off x="2779560" y="5400720"/>
            <a:ext cx="2062440" cy="576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AutoShape 86"/>
          <p:cNvSpPr/>
          <p:nvPr/>
        </p:nvSpPr>
        <p:spPr>
          <a:xfrm>
            <a:off x="2684520" y="6027840"/>
            <a:ext cx="2251080" cy="509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намен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6" name="Group 106"/>
          <p:cNvGrpSpPr/>
          <p:nvPr/>
        </p:nvGrpSpPr>
        <p:grpSpPr>
          <a:xfrm>
            <a:off x="684360" y="4869000"/>
            <a:ext cx="1511280" cy="1800000"/>
            <a:chOff x="684360" y="4869000"/>
            <a:chExt cx="1511280" cy="1800000"/>
          </a:xfrm>
        </p:grpSpPr>
        <p:sp>
          <p:nvSpPr>
            <p:cNvPr id="1597" name="AutoShape 96"/>
            <p:cNvSpPr/>
            <p:nvPr/>
          </p:nvSpPr>
          <p:spPr>
            <a:xfrm>
              <a:off x="684360" y="4869000"/>
              <a:ext cx="1511280" cy="180000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1800000"/>
                <a:gd name="textAreaBottom" fmla="*/ 1726560 h 1800000"/>
              </a:gdLst>
              <a:ahLst/>
              <a:rect l="textAreaLeft" t="textAreaTop" r="textAreaRight" b="textAreaBottom"/>
              <a:pathLst>
                <a:path w="21600" h="25726">
                  <a:moveTo>
                    <a:pt x="3600" y="0"/>
                  </a:moveTo>
                  <a:arcTo wR="3600" hR="3600" stAng="16200000" swAng="-5400000"/>
                  <a:lnTo>
                    <a:pt x="0" y="22126"/>
                  </a:lnTo>
                  <a:arcTo wR="3600" hR="3600" stAng="10800000" swAng="-5400000"/>
                  <a:lnTo>
                    <a:pt x="18000" y="257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Text Box 87"/>
            <p:cNvSpPr/>
            <p:nvPr/>
          </p:nvSpPr>
          <p:spPr>
            <a:xfrm>
              <a:off x="1116000" y="5084640"/>
              <a:ext cx="5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Text Box 88"/>
            <p:cNvSpPr/>
            <p:nvPr/>
          </p:nvSpPr>
          <p:spPr>
            <a:xfrm>
              <a:off x="1116000" y="5661000"/>
              <a:ext cx="5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1187280" y="5754600"/>
              <a:ext cx="433440" cy="360"/>
              <a:chOff x="1187280" y="5754600"/>
              <a:chExt cx="433440" cy="360"/>
            </a:xfrm>
          </p:grpSpPr>
          <p:sp>
            <p:nvSpPr>
              <p:cNvPr id="1601" name="Line 89"/>
              <p:cNvSpPr/>
              <p:nvPr/>
            </p:nvSpPr>
            <p:spPr>
              <a:xfrm>
                <a:off x="1187280" y="5754600"/>
                <a:ext cx="43344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"/>
              <p:cNvSpPr txBox="1"/>
              <p:nvPr/>
            </p:nvSpPr>
            <p:spPr>
              <a:xfrm>
                <a:off x="1187280" y="575460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3" name="Group 105"/>
          <p:cNvGrpSpPr/>
          <p:nvPr/>
        </p:nvGrpSpPr>
        <p:grpSpPr>
          <a:xfrm>
            <a:off x="611280" y="2637000"/>
            <a:ext cx="1511280" cy="1800000"/>
            <a:chOff x="611280" y="2637000"/>
            <a:chExt cx="1511280" cy="1800000"/>
          </a:xfrm>
        </p:grpSpPr>
        <p:sp>
          <p:nvSpPr>
            <p:cNvPr id="1604" name="AutoShape 95"/>
            <p:cNvSpPr/>
            <p:nvPr/>
          </p:nvSpPr>
          <p:spPr>
            <a:xfrm>
              <a:off x="611280" y="2637000"/>
              <a:ext cx="1511280" cy="180000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1800000"/>
                <a:gd name="textAreaBottom" fmla="*/ 1726560 h 1800000"/>
              </a:gdLst>
              <a:ahLst/>
              <a:rect l="textAreaLeft" t="textAreaTop" r="textAreaRight" b="textAreaBottom"/>
              <a:pathLst>
                <a:path w="21600" h="25726">
                  <a:moveTo>
                    <a:pt x="3600" y="0"/>
                  </a:moveTo>
                  <a:arcTo wR="3600" hR="3600" stAng="16200000" swAng="-5400000"/>
                  <a:lnTo>
                    <a:pt x="0" y="22126"/>
                  </a:lnTo>
                  <a:arcTo wR="3600" hR="3600" stAng="10800000" swAng="-5400000"/>
                  <a:lnTo>
                    <a:pt x="18000" y="257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Text Box 90"/>
            <p:cNvSpPr/>
            <p:nvPr/>
          </p:nvSpPr>
          <p:spPr>
            <a:xfrm>
              <a:off x="1042920" y="2852640"/>
              <a:ext cx="57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Text Box 91"/>
            <p:cNvSpPr/>
            <p:nvPr/>
          </p:nvSpPr>
          <p:spPr>
            <a:xfrm>
              <a:off x="1042920" y="3429000"/>
              <a:ext cx="57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1114560" y="3522600"/>
              <a:ext cx="433080" cy="360"/>
              <a:chOff x="1114560" y="3522600"/>
              <a:chExt cx="433080" cy="360"/>
            </a:xfrm>
          </p:grpSpPr>
          <p:sp>
            <p:nvSpPr>
              <p:cNvPr id="1608" name="Line 92"/>
              <p:cNvSpPr/>
              <p:nvPr/>
            </p:nvSpPr>
            <p:spPr>
              <a:xfrm>
                <a:off x="1114560" y="3522600"/>
                <a:ext cx="43308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"/>
              <p:cNvSpPr txBox="1"/>
              <p:nvPr/>
            </p:nvSpPr>
            <p:spPr>
              <a:xfrm>
                <a:off x="1114560" y="3522600"/>
                <a:ext cx="43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10" name="Group 107" descr=""/>
          <p:cNvPicPr/>
          <p:nvPr/>
        </p:nvPicPr>
        <p:blipFill>
          <a:blip r:embed="rId3"/>
          <a:stretch/>
        </p:blipFill>
        <p:spPr>
          <a:xfrm>
            <a:off x="5345280" y="547560"/>
            <a:ext cx="36097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611" name="Group 103"/>
          <p:cNvGrpSpPr/>
          <p:nvPr/>
        </p:nvGrpSpPr>
        <p:grpSpPr>
          <a:xfrm>
            <a:off x="3378240" y="2486160"/>
            <a:ext cx="2077920" cy="4182840"/>
            <a:chOff x="3378240" y="2486160"/>
            <a:chExt cx="2077920" cy="4182840"/>
          </a:xfrm>
        </p:grpSpPr>
        <p:sp>
          <p:nvSpPr>
            <p:cNvPr id="1612" name="AutoShape 93"/>
            <p:cNvSpPr/>
            <p:nvPr/>
          </p:nvSpPr>
          <p:spPr>
            <a:xfrm>
              <a:off x="5095800" y="2492280"/>
              <a:ext cx="360360" cy="417672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3392640" y="6662880"/>
              <a:ext cx="1728720" cy="360"/>
              <a:chOff x="3392640" y="6662880"/>
              <a:chExt cx="1728720" cy="360"/>
            </a:xfrm>
          </p:grpSpPr>
          <p:sp>
            <p:nvSpPr>
              <p:cNvPr id="1614" name="Line 101"/>
              <p:cNvSpPr/>
              <p:nvPr/>
            </p:nvSpPr>
            <p:spPr>
              <a:xfrm flipH="1">
                <a:off x="3392640" y="6662880"/>
                <a:ext cx="172872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"/>
              <p:cNvSpPr txBox="1"/>
              <p:nvPr/>
            </p:nvSpPr>
            <p:spPr>
              <a:xfrm>
                <a:off x="3392640" y="666288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3378240" y="2486160"/>
              <a:ext cx="1728720" cy="360"/>
              <a:chOff x="3378240" y="2486160"/>
              <a:chExt cx="1728720" cy="360"/>
            </a:xfrm>
          </p:grpSpPr>
          <p:sp>
            <p:nvSpPr>
              <p:cNvPr id="1617" name="Line 102"/>
              <p:cNvSpPr/>
              <p:nvPr/>
            </p:nvSpPr>
            <p:spPr>
              <a:xfrm flipH="1">
                <a:off x="3378240" y="2486160"/>
                <a:ext cx="172872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"/>
              <p:cNvSpPr txBox="1"/>
              <p:nvPr/>
            </p:nvSpPr>
            <p:spPr>
              <a:xfrm>
                <a:off x="3378240" y="248616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19" name="Текстовое поле 9"/>
          <p:cNvSpPr/>
          <p:nvPr/>
        </p:nvSpPr>
        <p:spPr>
          <a:xfrm>
            <a:off x="2195640" y="100080"/>
            <a:ext cx="23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втор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800"/>
                            </p:stCondLst>
                            <p:childTnLst>
                              <p:par>
                                <p:cTn id="11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300"/>
                            </p:stCondLst>
                            <p:childTnLst>
                              <p:par>
                                <p:cTn id="1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0" name="Заголовок 1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86520" cy="1325520"/>
          </a:xfrm>
          <a:prstGeom prst="rect">
            <a:avLst/>
          </a:prstGeom>
          <a:ln w="0">
            <a:noFill/>
          </a:ln>
        </p:spPr>
      </p:pic>
      <p:sp>
        <p:nvSpPr>
          <p:cNvPr id="1621" name="TextBox 2"/>
          <p:cNvSpPr/>
          <p:nvPr/>
        </p:nvSpPr>
        <p:spPr>
          <a:xfrm>
            <a:off x="2841480" y="4653000"/>
            <a:ext cx="43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из дробей будет больш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2" name="TextBox 4" descr=""/>
          <p:cNvPicPr/>
          <p:nvPr/>
        </p:nvPicPr>
        <p:blipFill>
          <a:blip r:embed="rId2"/>
          <a:stretch/>
        </p:blipFill>
        <p:spPr>
          <a:xfrm>
            <a:off x="682560" y="1628640"/>
            <a:ext cx="1728720" cy="1063800"/>
          </a:xfrm>
          <a:prstGeom prst="rect">
            <a:avLst/>
          </a:prstGeom>
          <a:ln w="0">
            <a:noFill/>
          </a:ln>
        </p:spPr>
      </p:pic>
      <p:pic>
        <p:nvPicPr>
          <p:cNvPr id="1623" name="Рисунок 29" descr=""/>
          <p:cNvPicPr/>
          <p:nvPr/>
        </p:nvPicPr>
        <p:blipFill>
          <a:blip r:embed="rId3"/>
          <a:stretch/>
        </p:blipFill>
        <p:spPr>
          <a:xfrm>
            <a:off x="6012000" y="1643040"/>
            <a:ext cx="2369880" cy="2370240"/>
          </a:xfrm>
          <a:prstGeom prst="rect">
            <a:avLst/>
          </a:prstGeom>
          <a:ln w="0">
            <a:noFill/>
          </a:ln>
        </p:spPr>
      </p:pic>
      <p:pic>
        <p:nvPicPr>
          <p:cNvPr id="1624" name="Рисунок 30" descr=""/>
          <p:cNvPicPr/>
          <p:nvPr/>
        </p:nvPicPr>
        <p:blipFill>
          <a:blip r:embed="rId4"/>
          <a:stretch/>
        </p:blipFill>
        <p:spPr>
          <a:xfrm>
            <a:off x="2700360" y="1596960"/>
            <a:ext cx="24145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1D1-C41A-4863-A9AC-5347BA705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6" name="Изображение 2" descr=""/>
          <p:cNvPicPr/>
          <p:nvPr/>
        </p:nvPicPr>
        <p:blipFill>
          <a:blip r:embed="rId1"/>
          <a:stretch/>
        </p:blipFill>
        <p:spPr>
          <a:xfrm>
            <a:off x="990720" y="958680"/>
            <a:ext cx="7683480" cy="5762880"/>
          </a:xfrm>
          <a:prstGeom prst="rect">
            <a:avLst/>
          </a:prstGeom>
          <a:ln w="0">
            <a:noFill/>
          </a:ln>
        </p:spPr>
      </p:pic>
      <p:pic>
        <p:nvPicPr>
          <p:cNvPr id="1627" name="Текстовое поле 3" descr=""/>
          <p:cNvPicPr/>
          <p:nvPr/>
        </p:nvPicPr>
        <p:blipFill>
          <a:blip r:embed="rId2"/>
          <a:stretch/>
        </p:blipFill>
        <p:spPr>
          <a:xfrm>
            <a:off x="1320840" y="404640"/>
            <a:ext cx="60735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Picture 17" descr=""/>
          <p:cNvPicPr/>
          <p:nvPr/>
        </p:nvPicPr>
        <p:blipFill>
          <a:blip r:embed="rId1"/>
          <a:srcRect l="21858" t="37032" r="16158" b="27534"/>
          <a:stretch/>
        </p:blipFill>
        <p:spPr>
          <a:xfrm>
            <a:off x="0" y="2060640"/>
            <a:ext cx="9185400" cy="2952720"/>
          </a:xfrm>
          <a:prstGeom prst="rect">
            <a:avLst/>
          </a:prstGeom>
          <a:ln w="0">
            <a:noFill/>
          </a:ln>
        </p:spPr>
      </p:pic>
      <p:pic>
        <p:nvPicPr>
          <p:cNvPr id="1629" name="Текстовое поле 1" descr=""/>
          <p:cNvPicPr/>
          <p:nvPr/>
        </p:nvPicPr>
        <p:blipFill>
          <a:blip r:embed="rId2"/>
          <a:stretch/>
        </p:blipFill>
        <p:spPr>
          <a:xfrm>
            <a:off x="2286000" y="441360"/>
            <a:ext cx="4680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31T08:04:00Z</dcterms:created>
  <dc:creator>Ксения Лебедева</dc:creator>
  <dc:description/>
  <dc:language>en-US</dc:language>
  <cp:lastModifiedBy>lilija55m</cp:lastModifiedBy>
  <dcterms:modified xsi:type="dcterms:W3CDTF">2022-01-31T14:36:12Z</dcterms:modified>
  <cp:revision>15</cp:revision>
  <dc:subject/>
  <dc:title>Правильные и неправильные дроби. Сравнение дроб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FE39F1B804E478783809DDC1AE74494</vt:lpwstr>
  </property>
  <property fmtid="{D5CDD505-2E9C-101B-9397-08002B2CF9AE}" pid="3" name="KSOProductBuildVer">
    <vt:lpwstr>1049-11.2.0.10463</vt:lpwstr>
  </property>
</Properties>
</file>