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37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13F-41A6-4F06-80E0-08BF1221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683-1C25-4B2F-BC6E-39BB0E1C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DC92-59CC-491E-9F54-26AD875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F793-7C40-4BE7-B344-F8D18127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17D5-4B8C-4C26-B0BE-B082F1C9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C57FD-EB36-4617-9C6C-0CEAACD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A7B5-32DE-482A-A2DF-41D96053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1785-8939-4308-A0DD-6CA05A0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64DC-5DA6-4B2F-AA8A-F2169A5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F1D7-0F66-4ED1-A62A-E49D517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EE66-916C-41E0-907B-E70BC5A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69E3-3316-473F-A9B0-40C788AA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48D-3877-4C8C-B705-2A1943B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148D-5EF8-46FE-8A9F-9E218826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5E8A1-74B7-4543-B8E2-714E80F9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15491-0322-467E-997C-1B02299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2897-3762-4F8B-93AC-796A294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6AA2B-2624-414B-81A1-0403951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6A6B-08C5-4084-A32D-4FA217E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E27A-8CA8-4742-A6B6-229FAFC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39FE-4BBB-454F-A270-E08A39C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096B1-9FF1-4174-9507-9448A93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57F58-F6DF-4AD2-9F75-F6A84A0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67A-DB1D-494E-856D-6FFE637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644E-A458-4019-A6D4-44AAF9F9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F8088-3163-406E-AE7B-F4035C4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C65D6-D670-401F-92AE-5A7EF11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DD0B-BF0D-48B9-9DA6-5EC91B39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ECBDB-0130-48A4-86D5-7C8A4C6B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32E84-3002-4D43-90D9-C217BD0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466C-B81D-4E06-8AFE-FD6C9EEA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ABFB-0F29-4AE2-BF43-5D197E2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6924F-D82B-4965-A02D-97EF5A2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1B7A3-3B1F-4686-B4A5-E0455C0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7F24-C002-427E-8096-E4F0C554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0846-2976-4CB1-9A1D-12611C56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35339-C184-47D0-9819-EAE02125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BF4C7-FC24-47BD-AA7E-949F26E1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0BD65-DD0F-4CAA-A1D6-F4FB3230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3044D-425E-495E-AB35-D082D87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4A3F0-5A00-4828-A067-25FB2C6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0367E-0909-41CE-B7B7-B7B448E9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2B501-6222-4ABD-BFEB-C9D81C3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B297C-9F80-4DE6-A3A2-FBF075BF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25B2A-A9A0-4A83-9D42-985CA1C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92ED-D70F-454C-8949-5EC1282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239EA-38B9-4127-B8A6-80C9D33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2C5AB-13C9-46F4-8AB5-6D954569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759AE-2673-4616-B790-9F1359C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C9BB5-D1B1-4564-BBB9-6122D030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DE2EF-B62A-47AB-9ACD-AC7E31A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716C3-4C7C-49B6-8C41-DBBB8AD4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FD587-BDA1-46DE-9AF9-660D26A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1B75C-EFB5-4624-B01D-F5F9D4F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58061-FC69-4E40-B272-70CE2215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B7D6A-4D12-4DCD-9432-D4A14DF3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B2D6-CA1A-4892-80A4-B38A43C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30C2-EC72-4291-B748-DC96DF49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534EB-1943-4036-81DE-BADB6A0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AF4D8-F591-4F36-BFFB-F3D334A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07D7E-2E5F-4966-8BA8-30BBF34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DA001-AE7A-4E5B-8266-D7E7C145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4467D-F49A-4BC6-9FCC-40ABD4B8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64186-BDF9-41B6-B526-5D9448B4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F0B12-BA1D-4351-B977-261B3A5E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25CE2-A360-45B7-8369-BA63AAAF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DB44A-4955-4B5A-AF09-52738C3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6140-F3F5-43FA-AF3B-838CEF5F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BA5B7-C142-4B3B-976A-D4C61C7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1436-8967-41EE-94FD-5909D36B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364BC-7A3D-4A8C-9841-2099A6B0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1B6C4-A142-454F-B835-BC29097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5EA9D-B2D9-4733-BAC2-23D5A6A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4360D-3864-44C6-BF8C-AAA433AB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CCD08-B054-4D11-8AE5-E168BCC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737A6-0559-4325-8AB0-5DD243F7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956E8-CC16-4B3A-9B97-DA4B0B4F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F2FA-C12C-41B3-B3D8-0C312411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2A13-0532-43A1-834A-90B54305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19E-E0D9-429D-808C-D255906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F5D72-AE20-4C4D-B57B-3C351CAA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C67A4-B0A5-4192-8DF0-7725F10C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AA3CD-54C4-4462-9632-4A341BD7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899DA-6472-47A0-957A-7C04446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DDE54-181E-46B2-9E38-11952A1B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FEE22-B440-4B5D-B2BD-3C005252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523DE-9C4D-414D-AFEA-5818B03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B16-8FA5-4F33-9D5F-6553F91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F06F-FE8C-4C1F-9F3C-717FAC5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228D9-DD58-45A0-9944-86478F2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AC11B-64CA-41D1-A756-7A6ED95C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293BF-9E85-44E2-81EA-80E74411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DC3F2-E936-4BF8-876D-0214317E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2C9FA-868D-4A48-9511-4DB5BFF4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921C8-6805-44C5-AB39-F6495CDB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CD8B5-353D-4C84-8BFF-03A64D8E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26312-8484-498E-8CDD-F0A8759B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8EB09-2A57-46AD-81F7-3D7DB14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88E76-D1F4-44E0-A25D-AB1CA10F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3E09-C0AA-4501-BADE-146657A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D6CB3-818A-4688-9494-2A4BCD01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56D62-3629-4B3E-B952-19188B4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B3490-CCD7-4570-A313-8B9A39B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EB8A7-D8E9-4E66-B827-5B462EEE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AD78C-E970-4D47-8373-2F500034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3C809-43F6-46D5-B397-2EAD9257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5F2D7-2BE8-48DE-9732-8BE6B19D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D4578-3334-4E4D-955E-7312E062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9ADDD-0EC4-4B78-A5FF-3A5A4C9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1426C-FC42-4DE0-8F70-7202BF0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CD7E-80B9-4B85-A69F-8B77C76E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6EED8-C219-4A41-8692-7E1592A2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B507F-7773-4BEF-AE06-B253C4D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B018C-F437-4D15-8685-5AE72606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927E7-149E-4BFD-A378-E0467A5F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A81C92-DD07-4ECF-9B02-8CB935D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D6843-6531-4479-9147-1CBCAA30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366C8-10A2-4163-8CCB-D877C29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6B70B-4CC3-47D8-9EAB-E0B3ECE0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4F513-C2BF-4870-B1DC-54C8F3DB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EFEDE-7870-4E8B-A4DD-B756385B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FB96-94EF-4F01-A7D0-EF061641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623AD-427B-4393-9F78-251F993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B703A-3226-414B-8565-3C662F4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8D8E0-A116-4A30-8611-E943A55D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DAE23-D2C5-4A24-A11F-4A1C7DD6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7AE87-8565-4E0F-BC15-D31CD88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F5FC3-09B6-4B91-A8DB-19E91242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DAB12-D80B-4435-B89E-37BAC3D5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D0E95-FEF4-45C3-B98F-3E25FA2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8F178-B116-42AB-8FB4-7D19060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173CF-8AEB-46FB-AC0F-37FAF11B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0000-4B07-431E-82A4-0665D4F5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80274-8377-428C-BE7D-8DE36594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6A680-1AF5-4C8B-BF2D-546BA7F9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94367C-626B-4B7B-AAB0-8D2CE3DE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5C24E-DCEF-4EA6-9E19-835015C8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7EACF-5DC2-440B-B8B9-F2C8ACB8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ECC38-339C-4939-8CDF-BA599F2B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4A3C5-8974-45C0-9620-32EDD51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C86037-53D8-4907-BB1D-A3759669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96215-8221-4A9F-9A45-1D2F9E25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229C5-2D0F-467F-AD93-04C87D7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21B1-0089-4D4E-A136-4E9A3E08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B27CA-2C29-48C8-9A44-1A9CA29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1CB6F-FE65-4F90-9810-D202A41B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642F5-454C-407A-8D1E-D8A54C9D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91BDF-E860-4558-BF7C-AB8C38D4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0644F-A9D3-41E9-AFF6-22B4B5A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F8418-EF80-4319-A565-3EE01BF6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22B45E-384E-4177-A0C0-2AE1AD1B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58F3C-9FF2-49E5-9711-B08ACD5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51E67-6D8B-419A-BB2B-51E2566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8DE40-E4F0-48E2-9EAB-E0917B9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DAF5-4D95-446D-BCAD-B32DBD3D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CA0F6-0B00-48D2-9F1E-8CDBD00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31A78-E284-4CA2-8CEC-0B28CA8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C90A8-ACF6-4997-BAF6-B8E93AD8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CD3C1-F37A-4E54-A465-80A5261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703B9-4F24-4CD5-BD3E-6408E4C7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9C7AC-3AE1-474E-B796-E39BFC6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CD96D-3090-4DC5-892E-FE9244E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5CF2E-A2F2-4612-9F00-73D8494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C7432-D7D4-4015-8887-2BB59283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A0357-CAFD-41E0-81CA-FC97C2E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0A0D-472E-4349-BEED-06A4ADB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A3797-4EC0-4615-986D-331C3D0C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D1640-2DCF-4ABC-8D51-D9FC583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80057-DBF2-405A-BB21-19998489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1F694-7E9E-4430-931C-645F161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189B7-69F2-4E77-853F-E96809CE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CB393-5DA8-4964-9B51-4EC95FDB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F1105-120A-4C18-B39D-96C87381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D6A0F8-7905-4D68-8DC0-620E87DF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C9048-53F0-428C-9391-2B83FAC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8D9BA-E3B9-4657-817B-018F384A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FBB0-45FD-4F5C-A8C7-95B8CC5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ACD76-2F73-4D49-BB0E-B81491F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D3EAB-C702-416C-9ED0-0935C56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7B7A6-224F-42B5-907C-3846A727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5AF98-6B01-403B-87D9-3F4F6D7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448FD-EA0A-48B0-A0B1-762CCA4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72179-7CC1-4197-81D4-2D0396E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EA570-EFF5-4EAD-8A6E-1304527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A1407-A9CE-4B58-A4D2-E0A001D0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06528-63B3-4D3E-BDCB-2C8A9655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A745C-784A-4F18-BF0F-8217415E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4BE9-D04D-4B65-8444-05C0E1E2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EFE88-F990-4491-B191-AB1FE61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DB0A2-2598-4898-8386-30D88BA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D17FC-E2BB-4E48-B86F-8832D0B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C0670-CFDE-4256-BA6B-8B3C0FF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C59F0-8AE5-4026-AAC7-887B8046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2DA91-F23F-49F8-914C-566EA1C8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5FBDB-7D22-416C-8105-CBFE54A5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0E061-47D7-4F11-A430-38B5F83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3B2181-7123-40FA-B124-09895CD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B7552-B004-451E-81A4-49570FCB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ECD-EF86-46DB-B4C3-1090BAF6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CF30-605B-4711-99C9-CB9A2745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3EE47-BD68-4135-82E1-8E6AAE32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2986F9-4329-4C0B-A05D-FD613D92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707A0-8AB1-47F2-9449-86E83A2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25343-F485-4414-92F9-C857DCC8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5132A-5706-4410-9999-40419E5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7E978-3140-41E3-9B48-B3CC9345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CE7657-2764-4789-959F-E2D2950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014EF-38C0-48ED-8AF0-82A8F5E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33831-2075-45B7-9477-3158DC0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10217A-EBE2-40C2-87FB-5E7D014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DB23-4E42-4448-BC47-2BE2378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44F684-D785-4800-BDB8-CCFD5A22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62C12-C3C8-4015-93DD-954BB4FA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5B8D83-C8A5-42D9-A56F-356550D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29B4E6-0A6B-4B40-8E3B-E147749F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A2196-8416-46EB-8A9F-3136DD16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2D26B6-AFF7-463C-ADE7-B289FEE3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BAB09C-2261-41B9-A1AE-15696F1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EC31D-083F-4C9A-9036-CE6D8765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E4BAD-8016-465F-B23B-BF9CFFA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CA472-8694-43B5-96E1-42D72BF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1AFC-7020-4A8C-AFBE-CDCC2186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F625B8-059D-4DCF-8548-6B24EB5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65AEF-BFD8-4129-935B-CD4852D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27D0A7-D412-4B2C-A34B-0C7CF7E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08498-A8C0-4618-AC4C-571881AF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D16188-87E1-4B1E-A9A5-97F9C8B4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1DB0D-100F-4ACD-9BA1-CF3981B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1FE981-8356-46A3-BE0B-B9E6B333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9D9714-00A4-4D50-9515-FFB339B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146D2-E155-4E78-82C3-1F8A71B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35E261-5A8C-456F-B8C4-67C37F0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E1A0-DDFD-4F9A-9DE7-5F3D75A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CD809-C0A4-44B9-8B3E-BFB67FAD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79A7F-2B07-4EFA-9BFB-E8D6D1D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B62B54-B5B9-4D47-90D4-203B72E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6F2F7C-067A-46CA-B430-E955E9C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230CE3-443D-4E3E-AF69-39A630BB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F0B929-BA29-4F57-8E0B-41B31ACF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66711E-B262-422D-A1DA-B51E2043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D3DD4-0244-4B47-B5D2-821B27BD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5A925D-7323-4404-AAA9-6F929DD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14AA5E-6EBB-4D48-8FC3-57A68F2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420B-04AF-4BDE-A511-4A014313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C8CC02-F0DE-456D-A81A-D388497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8D6D7-FD84-4434-865F-9454FEB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7EA42E-90ED-4C74-A62B-085826F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886BC4-9B63-4E5A-AFF5-EF63F3D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6C987D-7EBF-4572-87AB-5355640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82E234-8709-4433-AF73-448C5AF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C310E-0C20-480D-BE55-5656D2F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4FFDA0-E3C5-46DC-9FD5-0AC65C72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DD297-FCBA-401E-B3F0-0CAD0558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B865AB-120C-4AFA-BB48-DD248F9E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6B78-52BC-4BA6-B81E-37144341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821FD9-36D8-4938-9382-33E465DA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E4AE7C-6A11-49F5-98E3-1AEAC5B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3EBD1-78AF-4220-A895-663BC0B8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00102D-023C-429C-B614-52995729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3C2C31-E015-40F4-9CEB-B6A8AE7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0D9DC2-7EA7-4528-84BF-521D1B1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F71A11-3912-4A19-958F-D9D2FE8A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AA548D-4A69-4DCA-B4FB-508E2C1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528B2D-924E-43B0-9DD0-9C3BB37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16D649-7743-49D7-B111-562475EC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D228-0F73-48F7-9EB6-0E0134DB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FB389-924C-402C-B98D-0EAD80EF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B228A3-0EB3-4161-9728-3AE61C0D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8F99D8-2251-4625-B915-854F3B1A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255F6A-AF61-4A4E-BC94-6353E11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F72A3-5AE2-45B3-9076-C654D3D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6BFA82-CAA1-4189-A96A-EB72262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FD0418-0588-49D1-A706-204C1911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109828-4813-4963-A02A-B8CF56B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3ACCFD-90EC-40C9-B103-29BA1ED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54B98F-2FFA-438C-829C-8396433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B54A-84AC-4185-A49F-F43DAED2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78750F-DBCD-403F-88C1-9B1C790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88EF10-5352-424F-A8AA-6063952A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98C880-5AB1-4999-B53F-90114A1F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614279-23E7-41D7-9B0D-83F9CFCA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E0A75-7764-426C-ADF6-C6865945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65D043-E2B1-46BF-8ABB-6ACFD83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715E18-0FFD-48FF-A9EC-3D320F3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FB1D3B-E20A-48E4-8570-797262A0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7EE4BC-471D-4505-BB3F-825C524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9A5BBE-C315-4752-B684-E7CF64C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A014-3ABA-4777-8F38-1D0FAB17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91D10E-0857-457C-99CF-474A9FDD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AFCB66-76E9-43E3-B590-A6AFE8C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9E7A7C-615B-4D29-A124-DB771EB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9D55E6-CB29-40CE-BBE7-AAAC254D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5B061B-2DBB-402F-996A-4E862F4A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9E5A5-9E9C-4CFF-9B57-753E063F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BDC17B-AB81-435A-A950-E6DC389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3EC5BD-4E87-4DBA-9370-4730142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D8BD58-3CF0-4C5C-AEDC-60C2928E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14ABEA-4DA2-46F1-BC36-D33E672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DDB0-2D78-4E27-B965-D810377B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75255E-0574-4579-B16D-447824C3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737D52-4818-497F-8756-3600CC2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FA6686-1227-4B80-A192-270AF65D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2FCEF-C4EC-49A1-BFF3-2C833E3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18B36E-5010-4F6F-B25B-72BEF58E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945584-5887-406B-987D-FFCE410D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997EE-DF40-4CB0-ACF7-611D2620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21C4F-3B6E-4E6C-9DEB-380FD599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97501C-F253-422C-99E6-6183CFD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560827-1F39-49D4-A305-61AC042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0C7-000F-4D25-93A2-A7CA7DED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C82B-F7E2-47CF-B4D3-E5B21C1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282A8C-6EE5-4CAF-974A-096B5FD5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6BB3F6-2243-4467-8359-90464E0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71C9D8-7647-4634-81E4-4DFE6AA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8D94C1-D05D-472C-BDC3-7C90C9E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F3E310-DD52-4747-9D3A-8D9A0C3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0439C7-7AC4-475D-AF44-4755A35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7E6731-E53E-47BC-9497-F1CBF83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80CA0F-BA80-4545-A493-57828C8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2A41F1-8CE3-4583-BD21-3BC8DE3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E29A4C-BB76-4C34-AFBD-B325E693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C70D-E500-4608-A0E3-14A30CD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8C71C1-EEC4-4604-9AB9-D19C0CA8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89F733-C98D-4DC0-93B9-CF1B4C19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EE1501-2B00-4DBD-B17E-C029223E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BC91E1-4183-484C-AFBD-5B8D1735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2A758B-86D4-4E51-BEA3-5F4E60FC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5A444E-F50F-41BA-B3CD-140A9B9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46A344-4AEF-4B6F-99A3-149E16E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9DC6AD-8FE3-41CD-BB6A-97AAA82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65EB15-4EA1-4AA9-99DD-7DEDC562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E09DB4-CD64-4FCB-B837-DF7E430E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615C-1DBE-4EDD-B0A7-4A5BE1E5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99AE8D-4D7C-4D56-AA5D-D23B4FA0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972409-FED8-49D1-AAAB-5541A133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DC121C-8AB9-4437-BEE2-10E70DD8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09C53D-4242-4B55-A282-3F485999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1B5296-BE6A-4D80-B749-6D9D57D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1ED606-3CA0-4BF3-9443-3C659F98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EA34B1-3CAE-43E9-9640-6FBB6244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6B66EC-6BEE-406A-800D-C91373E3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9B7276-F0A1-4B3D-B44A-EBD90C3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8ABD16-9613-48B5-91B5-6EAB7BA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A325-0A4E-446C-80E4-C18808F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9E9F4A-96FC-44B0-91C4-61D2990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5A124B-7CFF-4759-ADE9-19D09792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9F93E-9934-448A-9F41-1BE7FD4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F4EE3E-57B9-47DA-A6AB-B016A6DB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888592-D7A2-4202-A7A3-95F320B6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C1BA5D-6388-4337-95AF-DA3E917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CF3ED4-B3F6-448A-BC6E-3460A9A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DA2CC3-3421-46DE-B8E8-FA3F9BF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06DD21-0D09-42A6-B043-8416714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2CF7A7-13C3-4114-9177-9AD69FF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8501-2BC9-48D7-A8C7-52CC1C1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8A5032-151D-482E-862D-C9297D2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49034A-CF7F-45BE-8E89-ED289B4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F6513B-9449-41AF-87B5-D0E8BD2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720099-3AC9-4BDF-B7DC-9E969D5D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3C08A6-2D2B-4ACE-A84B-FE0CB3DB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74A126-61D4-469A-97D6-DE12B50A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AB4C86-C1DC-407D-84C8-93C1514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6AD05C-B927-463B-8110-A68AC56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B2CD7E-D41B-4FE4-9CC8-EA28EAA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639107-4FDB-47AE-9E27-DD870299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95C1-65DB-4319-ABD8-32FD9A1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F4D125-A5BB-43F3-B2E9-EC4C1AF0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EB3BDE-B381-4245-9C0E-4EA93FD6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0C34CB-03D6-492D-A17E-262E1CF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B7B915-542C-44C2-86E2-5320066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A2B86E-C36C-49D6-AC78-E7D0A2E1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7EC185-C671-4E3F-82A0-CB222A1E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44E554-048B-4D68-A448-1248B83A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5191-BE03-4C55-BA0C-B74025E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7C0E-B464-4E76-8EC6-43F1670D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829B-BAFE-4493-8C01-30A56425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940-C274-46B6-8E2F-D19B004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75E-3165-4076-9E1B-AFA62F3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4836-8F5D-4EA9-83B3-CD39A653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AD16-0B04-44E4-8BD9-8ACCC10C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38426-7AD3-4A2E-870B-186FA4A5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B3BC3-8609-4CD6-A886-89EF5062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2C2A-ED24-41D9-8F4E-59F1D6B6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59A9-4C6C-478D-810A-8C73154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BDBDB-7070-4D61-96F1-E77B134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5BF3D-92B3-4425-83F3-8CDD51D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7481-F7B5-4912-ABC2-4C88FA8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D6B-F069-4DEC-B0E3-7A89786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57BD-4D07-480D-B010-4074778D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19D4-0061-4775-9E06-95B4622A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5027-9508-4482-8C9A-5EE8DF50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3E79-F185-427A-A201-9684B695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513E-C210-4FD9-B8A9-E5BBE930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08AB-1D1B-4E27-8DC0-F1F7C294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4B17-189C-45FE-818A-5C373DB7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7B23-122E-4B54-96E8-6D94D80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61D7C-E42A-44E2-AE8B-A296F9FC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383B-DFC3-4809-95DF-7034CE9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AEB-7A74-4DAE-BA2D-2F372AB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A8A3C-0C64-4835-976E-D1FBAF9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933B-2573-4264-A2F2-558F869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A2124-46C3-4493-A4FC-0E42BD11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46755-1198-43C9-9B24-B1969820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3A01-18EB-421F-B507-D5FBCF7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79F-10A3-4BBB-8818-6E94C18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F19A1-F119-4CA2-AA81-A7CE931A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227EC-AA29-47E4-A2E3-12321305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677BD-173E-482F-BC58-174D2806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CCE-62B3-49B9-ABB9-4DCB3ED8D2A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3342-909C-441B-A865-CF257B37C1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0656-AB9C-444E-B486-CA9E2F9442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7D40-6CFB-4B6C-B43E-1421472C9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3C6-2F27-43F7-8844-B5434675D5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D8E-241A-4EEC-92E5-577234CEE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C0D-59B5-48B6-8FDA-FBD5C46EA7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41DB-5BF8-44C0-9729-A00CB89F7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2B63-25B9-48DA-A19D-4DD8272E091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717-161C-43DB-91C4-624C82767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FB96-D67F-43B0-8241-5D8E04B13FB3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AEEA-D51F-4FFB-8DCC-F59480EF2C9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5A2-6647-4FF5-B0F0-E68D2E41FD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405-DA92-4BA9-B7EC-ECA0419E5E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0C9-DB73-4A52-A475-F9519593DE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BD09-C51D-430F-8AE8-6393319644F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08D-A5FA-4B12-9FF3-A69641F5E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520-740A-4939-8D9D-1AD6F2859C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3F3-24B1-4B1F-A23E-0A207DEA46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492B-971F-4952-BEF7-4430D11CDA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257-D0BA-44E0-923B-2E25EF540B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D084-5C8F-48CC-A96D-30F7A05908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9D5-BB16-491B-8914-6A90FCC489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3CF2-266E-4290-A909-B2D92DC0F6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B41B-13F5-4DB6-A084-BC7B22268B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F5C-C561-4016-AA13-324469188C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24F-DCF4-4EB9-818D-D25DC46E99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82B-CBA8-4641-8CEA-57D9D0302D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3E4-1151-4D69-B1DF-569ADDF78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D4D-9E30-45C0-AC76-66A5AF41C6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35E1-43F3-4F63-8CEE-56520DDD42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829-A77F-4A38-BBE0-45E84FE338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CA78-4B37-47EB-B972-318E1CF28B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325-F4C9-4A64-9826-E2B86EB0F9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A25-36E7-45EF-A78A-E656C5AE09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0AB-B2E6-4C6A-BD3F-CF5FD954A8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DF8D-8958-4689-8204-0693BA99F1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5A4-84A4-4C55-8EC8-8C3D110C3D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E770-760F-4C52-9EDB-614BE2E5D6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627A-24C2-498F-BA1C-DFAE0623E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EDF-02B8-440A-8FCC-49842BB7AF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825-10C7-4746-8E8B-3A03A4262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546-8B55-40F4-B3E2-1FDDF54E6E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EA0-02C4-4385-A90A-56B476D463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6"/>
          <p:cNvSpPr/>
          <p:nvPr/>
        </p:nvSpPr>
        <p:spPr>
          <a:xfrm>
            <a:off x="5601600" y="648828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© Wondershar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FD9D-69FF-438B-B7B5-344E184D77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95FD-8097-419C-B773-E0D91B05E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1" name="Замещающее содержимое 100" descr=""/>
          <p:cNvPicPr/>
          <p:nvPr/>
        </p:nvPicPr>
        <p:blipFill>
          <a:blip r:embed="rId1"/>
          <a:srcRect l="10022" t="0" r="10340" b="0"/>
          <a:stretch/>
        </p:blipFill>
        <p:spPr>
          <a:xfrm>
            <a:off x="108000" y="44280"/>
            <a:ext cx="9246960" cy="6834240"/>
          </a:xfrm>
          <a:prstGeom prst="rect">
            <a:avLst/>
          </a:prstGeom>
          <a:ln w="0">
            <a:noFill/>
          </a:ln>
        </p:spPr>
      </p:pic>
      <p:sp>
        <p:nvSpPr>
          <p:cNvPr id="1562" name="Текстовое поле 4"/>
          <p:cNvSpPr/>
          <p:nvPr/>
        </p:nvSpPr>
        <p:spPr>
          <a:xfrm>
            <a:off x="1692360" y="155736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.02.2022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авильные и неправильные дроби. Сравнение дроб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записать в тетрад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2" descr=""/>
          <p:cNvPicPr/>
          <p:nvPr/>
        </p:nvPicPr>
        <p:blipFill>
          <a:blip r:embed="rId1"/>
          <a:srcRect l="21858" t="31127" r="16158" b="34424"/>
          <a:stretch/>
        </p:blipFill>
        <p:spPr>
          <a:xfrm>
            <a:off x="468360" y="1844640"/>
            <a:ext cx="8064360" cy="2521080"/>
          </a:xfrm>
          <a:prstGeom prst="rect">
            <a:avLst/>
          </a:prstGeom>
          <a:ln w="0">
            <a:noFill/>
          </a:ln>
        </p:spPr>
      </p:pic>
      <p:pic>
        <p:nvPicPr>
          <p:cNvPr id="1631" name="Текстовое поле 1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199728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Текстовое поле 3" descr=""/>
          <p:cNvPicPr/>
          <p:nvPr/>
        </p:nvPicPr>
        <p:blipFill>
          <a:blip r:embed="rId1"/>
          <a:stretch/>
        </p:blipFill>
        <p:spPr>
          <a:xfrm>
            <a:off x="853920" y="1581120"/>
            <a:ext cx="4988160" cy="3538440"/>
          </a:xfrm>
          <a:prstGeom prst="rect">
            <a:avLst/>
          </a:prstGeom>
          <a:ln w="0">
            <a:noFill/>
          </a:ln>
        </p:spPr>
      </p:pic>
      <p:pic>
        <p:nvPicPr>
          <p:cNvPr id="1633" name="Изображение 4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1912680" cy="1874880"/>
          </a:xfrm>
          <a:prstGeom prst="rect">
            <a:avLst/>
          </a:prstGeom>
          <a:ln w="0">
            <a:noFill/>
          </a:ln>
        </p:spPr>
      </p:pic>
      <p:pic>
        <p:nvPicPr>
          <p:cNvPr id="1634" name="Текстовое поле 5" descr=""/>
          <p:cNvPicPr/>
          <p:nvPr/>
        </p:nvPicPr>
        <p:blipFill>
          <a:blip r:embed="rId3"/>
          <a:stretch/>
        </p:blipFill>
        <p:spPr>
          <a:xfrm>
            <a:off x="1476360" y="333360"/>
            <a:ext cx="275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5" name="Текстовое поле 1" descr=""/>
          <p:cNvPicPr/>
          <p:nvPr/>
        </p:nvPicPr>
        <p:blipFill>
          <a:blip r:embed="rId1"/>
          <a:stretch/>
        </p:blipFill>
        <p:spPr>
          <a:xfrm>
            <a:off x="1763640" y="1555920"/>
            <a:ext cx="651852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Изображение 38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53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Текстовое поле 1"/>
          <p:cNvSpPr/>
          <p:nvPr/>
        </p:nvSpPr>
        <p:spPr>
          <a:xfrm>
            <a:off x="1979640" y="620640"/>
            <a:ext cx="5230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араграф 26, ответить на вопросы 4-7, реши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№ 724 (1-6), 726,73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р 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8" name="Изображение 99" descr=""/>
          <p:cNvPicPr/>
          <p:nvPr/>
        </p:nvPicPr>
        <p:blipFill>
          <a:blip r:embed="rId1"/>
          <a:stretch/>
        </p:blipFill>
        <p:spPr>
          <a:xfrm>
            <a:off x="1260360" y="333360"/>
            <a:ext cx="6691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4033800" cy="69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Устно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4" name="Объект 3" descr=""/>
          <p:cNvPicPr/>
          <p:nvPr/>
        </p:nvPicPr>
        <p:blipFill>
          <a:blip r:embed="rId1"/>
          <a:srcRect l="0" t="808" r="14045" b="0"/>
          <a:stretch/>
        </p:blipFill>
        <p:spPr>
          <a:xfrm>
            <a:off x="900000" y="1341360"/>
            <a:ext cx="7936200" cy="4513320"/>
          </a:xfrm>
          <a:prstGeom prst="rect">
            <a:avLst/>
          </a:prstGeom>
          <a:ln w="0">
            <a:noFill/>
          </a:ln>
        </p:spPr>
      </p:pic>
      <p:pic>
        <p:nvPicPr>
          <p:cNvPr id="1565" name="Object 8" descr=""/>
          <p:cNvPicPr/>
          <p:nvPr/>
        </p:nvPicPr>
        <p:blipFill>
          <a:blip r:embed="rId2"/>
          <a:stretch/>
        </p:blipFill>
        <p:spPr>
          <a:xfrm>
            <a:off x="7524720" y="1773360"/>
            <a:ext cx="1068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Заголовок 1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6520" cy="1438200"/>
          </a:xfrm>
          <a:prstGeom prst="rect">
            <a:avLst/>
          </a:prstGeom>
          <a:ln w="0">
            <a:noFill/>
          </a:ln>
        </p:spPr>
      </p:pic>
      <p:sp>
        <p:nvSpPr>
          <p:cNvPr id="1567" name="TextBox 2"/>
          <p:cNvSpPr/>
          <p:nvPr/>
        </p:nvSpPr>
        <p:spPr>
          <a:xfrm>
            <a:off x="212760" y="213372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из приведенных ниже дробей являются правильны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TextBox 4" descr=""/>
          <p:cNvPicPr/>
          <p:nvPr/>
        </p:nvPicPr>
        <p:blipFill>
          <a:blip r:embed="rId2"/>
          <a:stretch/>
        </p:blipFill>
        <p:spPr>
          <a:xfrm>
            <a:off x="846000" y="3108240"/>
            <a:ext cx="7417080" cy="887400"/>
          </a:xfrm>
          <a:prstGeom prst="rect">
            <a:avLst/>
          </a:prstGeom>
          <a:ln w="0">
            <a:noFill/>
          </a:ln>
        </p:spPr>
      </p:pic>
      <p:sp>
        <p:nvSpPr>
          <p:cNvPr id="1569" name="TextBox 5"/>
          <p:cNvSpPr/>
          <p:nvPr/>
        </p:nvSpPr>
        <p:spPr>
          <a:xfrm>
            <a:off x="457200" y="4713120"/>
            <a:ext cx="85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из приведенных ниже дробей являются неправильны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0" name="Заголовок 1" descr=""/>
          <p:cNvPicPr/>
          <p:nvPr/>
        </p:nvPicPr>
        <p:blipFill>
          <a:blip r:embed="rId1"/>
          <a:stretch/>
        </p:blipFill>
        <p:spPr>
          <a:xfrm>
            <a:off x="1979640" y="-314280"/>
            <a:ext cx="6407280" cy="132552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2" name="TextBox 6" descr=""/>
          <p:cNvPicPr/>
          <p:nvPr/>
        </p:nvPicPr>
        <p:blipFill>
          <a:blip r:embed="rId2"/>
          <a:stretch/>
        </p:blipFill>
        <p:spPr>
          <a:xfrm>
            <a:off x="3419640" y="2131920"/>
            <a:ext cx="4260600" cy="887400"/>
          </a:xfrm>
          <a:prstGeom prst="rect">
            <a:avLst/>
          </a:prstGeom>
          <a:ln w="0">
            <a:noFill/>
          </a:ln>
        </p:spPr>
      </p:pic>
      <p:pic>
        <p:nvPicPr>
          <p:cNvPr id="1573" name="TextBox 7" descr=""/>
          <p:cNvPicPr/>
          <p:nvPr/>
        </p:nvPicPr>
        <p:blipFill>
          <a:blip r:embed="rId3"/>
          <a:stretch/>
        </p:blipFill>
        <p:spPr>
          <a:xfrm>
            <a:off x="3851280" y="3571920"/>
            <a:ext cx="3060720" cy="888840"/>
          </a:xfrm>
          <a:prstGeom prst="rect">
            <a:avLst/>
          </a:prstGeom>
          <a:ln w="0">
            <a:noFill/>
          </a:ln>
        </p:spPr>
      </p:pic>
      <p:sp>
        <p:nvSpPr>
          <p:cNvPr id="1574" name="Текстовое поле 3"/>
          <p:cNvSpPr/>
          <p:nvPr/>
        </p:nvSpPr>
        <p:spPr>
          <a:xfrm>
            <a:off x="466560" y="378936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Заголовок 1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6520" cy="797040"/>
          </a:xfrm>
          <a:prstGeom prst="rect">
            <a:avLst/>
          </a:prstGeom>
          <a:ln w="0">
            <a:noFill/>
          </a:ln>
        </p:spPr>
      </p:pic>
      <p:sp>
        <p:nvSpPr>
          <p:cNvPr id="1576" name="TextBox 4"/>
          <p:cNvSpPr/>
          <p:nvPr/>
        </p:nvSpPr>
        <p:spPr>
          <a:xfrm>
            <a:off x="2425320" y="155736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кновенные дро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5"/>
          <p:cNvSpPr/>
          <p:nvPr/>
        </p:nvSpPr>
        <p:spPr>
          <a:xfrm>
            <a:off x="406800" y="270828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7"/>
          <p:cNvSpPr/>
          <p:nvPr/>
        </p:nvSpPr>
        <p:spPr>
          <a:xfrm>
            <a:off x="5754600" y="2708280"/>
            <a:ext cx="27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ави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9" name="Прямая со стрелкой 11"/>
          <p:cNvCxnSpPr>
            <a:stCxn id="1576" idx="2"/>
          </p:cNvCxnSpPr>
          <p:nvPr/>
        </p:nvCxnSpPr>
        <p:spPr>
          <a:xfrm flipH="1">
            <a:off x="2483640" y="2141280"/>
            <a:ext cx="1932840" cy="6404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arrow" w="med"/>
          </a:ln>
        </p:spPr>
      </p:cxnSp>
      <p:cxnSp>
        <p:nvCxnSpPr>
          <p:cNvPr id="1580" name="Прямая со стрелкой 13"/>
          <p:cNvCxnSpPr>
            <a:stCxn id="1576" idx="2"/>
          </p:cNvCxnSpPr>
          <p:nvPr/>
        </p:nvCxnSpPr>
        <p:spPr>
          <a:xfrm>
            <a:off x="4416480" y="2141280"/>
            <a:ext cx="2100960" cy="64044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arrow" w="med"/>
          </a:ln>
        </p:spPr>
      </p:cxnSp>
      <p:pic>
        <p:nvPicPr>
          <p:cNvPr id="1581" name="Прямоугольник 14" descr=""/>
          <p:cNvPicPr/>
          <p:nvPr/>
        </p:nvPicPr>
        <p:blipFill>
          <a:blip r:embed="rId2"/>
          <a:stretch/>
        </p:blipFill>
        <p:spPr>
          <a:xfrm>
            <a:off x="1306440" y="3571920"/>
            <a:ext cx="468360" cy="617400"/>
          </a:xfrm>
          <a:prstGeom prst="rect">
            <a:avLst/>
          </a:prstGeom>
          <a:ln w="0">
            <a:noFill/>
          </a:ln>
        </p:spPr>
      </p:pic>
      <p:pic>
        <p:nvPicPr>
          <p:cNvPr id="1582" name="Прямоугольник 15" descr=""/>
          <p:cNvPicPr/>
          <p:nvPr/>
        </p:nvPicPr>
        <p:blipFill>
          <a:blip r:embed="rId3"/>
          <a:stretch/>
        </p:blipFill>
        <p:spPr>
          <a:xfrm>
            <a:off x="6659640" y="3571920"/>
            <a:ext cx="728640" cy="617400"/>
          </a:xfrm>
          <a:prstGeom prst="rect">
            <a:avLst/>
          </a:prstGeom>
          <a:ln w="0">
            <a:noFill/>
          </a:ln>
        </p:spPr>
      </p:pic>
      <p:pic>
        <p:nvPicPr>
          <p:cNvPr id="1583" name="Рисунок 20" descr=""/>
          <p:cNvPicPr/>
          <p:nvPr/>
        </p:nvPicPr>
        <p:blipFill>
          <a:blip r:embed="rId4"/>
          <a:stretch/>
        </p:blipFill>
        <p:spPr>
          <a:xfrm>
            <a:off x="2749680" y="2786040"/>
            <a:ext cx="3193920" cy="4071960"/>
          </a:xfrm>
          <a:prstGeom prst="rect">
            <a:avLst/>
          </a:prstGeom>
          <a:ln w="0">
            <a:noFill/>
          </a:ln>
        </p:spPr>
      </p:pic>
      <p:pic>
        <p:nvPicPr>
          <p:cNvPr id="1584" name="Текстовое поле 1" descr=""/>
          <p:cNvPicPr/>
          <p:nvPr/>
        </p:nvPicPr>
        <p:blipFill>
          <a:blip r:embed="rId5"/>
          <a:stretch/>
        </p:blipFill>
        <p:spPr>
          <a:xfrm>
            <a:off x="2411280" y="44280"/>
            <a:ext cx="4492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5" name="Group 104" descr=""/>
          <p:cNvPicPr/>
          <p:nvPr/>
        </p:nvPicPr>
        <p:blipFill>
          <a:blip r:embed="rId1"/>
          <a:stretch/>
        </p:blipFill>
        <p:spPr>
          <a:xfrm>
            <a:off x="571680" y="542880"/>
            <a:ext cx="1520640" cy="1809720"/>
          </a:xfrm>
          <a:prstGeom prst="rect">
            <a:avLst/>
          </a:prstGeom>
          <a:ln w="0">
            <a:noFill/>
          </a:ln>
        </p:spPr>
      </p:pic>
      <p:sp>
        <p:nvSpPr>
          <p:cNvPr id="1586" name="AutoShape 68"/>
          <p:cNvSpPr/>
          <p:nvPr/>
        </p:nvSpPr>
        <p:spPr>
          <a:xfrm>
            <a:off x="2548080" y="620640"/>
            <a:ext cx="1979640" cy="468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AutoShape 69"/>
          <p:cNvSpPr/>
          <p:nvPr/>
        </p:nvSpPr>
        <p:spPr>
          <a:xfrm>
            <a:off x="2506680" y="1197000"/>
            <a:ext cx="206208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AutoShape 70"/>
          <p:cNvSpPr/>
          <p:nvPr/>
        </p:nvSpPr>
        <p:spPr>
          <a:xfrm>
            <a:off x="2274840" y="1838160"/>
            <a:ext cx="26830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AutoShape 76"/>
          <p:cNvSpPr/>
          <p:nvPr/>
        </p:nvSpPr>
        <p:spPr>
          <a:xfrm>
            <a:off x="2554200" y="2637000"/>
            <a:ext cx="2340000" cy="496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AutoShape 77"/>
          <p:cNvSpPr/>
          <p:nvPr/>
        </p:nvSpPr>
        <p:spPr>
          <a:xfrm>
            <a:off x="2657520" y="3228840"/>
            <a:ext cx="206208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рав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AutoShape 78"/>
          <p:cNvSpPr/>
          <p:nvPr/>
        </p:nvSpPr>
        <p:spPr>
          <a:xfrm>
            <a:off x="2554200" y="3852720"/>
            <a:ext cx="2340000" cy="497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2" name="Group 108" descr=""/>
          <p:cNvPicPr/>
          <p:nvPr/>
        </p:nvPicPr>
        <p:blipFill>
          <a:blip r:embed="rId2"/>
          <a:stretch/>
        </p:blipFill>
        <p:spPr>
          <a:xfrm>
            <a:off x="5504040" y="3568680"/>
            <a:ext cx="3531960" cy="1809720"/>
          </a:xfrm>
          <a:prstGeom prst="rect">
            <a:avLst/>
          </a:prstGeom>
          <a:ln w="0">
            <a:noFill/>
          </a:ln>
        </p:spPr>
      </p:pic>
      <p:sp>
        <p:nvSpPr>
          <p:cNvPr id="1593" name="AutoShape 84"/>
          <p:cNvSpPr/>
          <p:nvPr/>
        </p:nvSpPr>
        <p:spPr>
          <a:xfrm>
            <a:off x="2522520" y="4869000"/>
            <a:ext cx="25732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исли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AutoShape 85"/>
          <p:cNvSpPr/>
          <p:nvPr/>
        </p:nvSpPr>
        <p:spPr>
          <a:xfrm>
            <a:off x="2779560" y="5400720"/>
            <a:ext cx="2062440" cy="576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AutoShape 86"/>
          <p:cNvSpPr/>
          <p:nvPr/>
        </p:nvSpPr>
        <p:spPr>
          <a:xfrm>
            <a:off x="2684520" y="6027840"/>
            <a:ext cx="2251080" cy="509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намен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6" name="Group 106"/>
          <p:cNvGrpSpPr/>
          <p:nvPr/>
        </p:nvGrpSpPr>
        <p:grpSpPr>
          <a:xfrm>
            <a:off x="684360" y="4869000"/>
            <a:ext cx="1511280" cy="1800000"/>
            <a:chOff x="684360" y="4869000"/>
            <a:chExt cx="1511280" cy="1800000"/>
          </a:xfrm>
        </p:grpSpPr>
        <p:sp>
          <p:nvSpPr>
            <p:cNvPr id="1597" name="AutoShape 96"/>
            <p:cNvSpPr/>
            <p:nvPr/>
          </p:nvSpPr>
          <p:spPr>
            <a:xfrm>
              <a:off x="684360" y="4869000"/>
              <a:ext cx="1511280" cy="180000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1800000"/>
                <a:gd name="textAreaBottom" fmla="*/ 1726560 h 1800000"/>
              </a:gdLst>
              <a:ahLst/>
              <a:rect l="textAreaLeft" t="textAreaTop" r="textAreaRight" b="textAreaBottom"/>
              <a:pathLst>
                <a:path w="21600" h="25726">
                  <a:moveTo>
                    <a:pt x="3600" y="0"/>
                  </a:moveTo>
                  <a:arcTo wR="3600" hR="3600" stAng="16200000" swAng="-5400000"/>
                  <a:lnTo>
                    <a:pt x="0" y="22126"/>
                  </a:lnTo>
                  <a:arcTo wR="3600" hR="3600" stAng="10800000" swAng="-5400000"/>
                  <a:lnTo>
                    <a:pt x="18000" y="25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Text Box 87"/>
            <p:cNvSpPr/>
            <p:nvPr/>
          </p:nvSpPr>
          <p:spPr>
            <a:xfrm>
              <a:off x="1116000" y="5084640"/>
              <a:ext cx="5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Text Box 88"/>
            <p:cNvSpPr/>
            <p:nvPr/>
          </p:nvSpPr>
          <p:spPr>
            <a:xfrm>
              <a:off x="1116000" y="5661000"/>
              <a:ext cx="5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1187280" y="5754600"/>
              <a:ext cx="433440" cy="360"/>
              <a:chOff x="1187280" y="5754600"/>
              <a:chExt cx="433440" cy="360"/>
            </a:xfrm>
          </p:grpSpPr>
          <p:sp>
            <p:nvSpPr>
              <p:cNvPr id="1601" name="Line 89"/>
              <p:cNvSpPr/>
              <p:nvPr/>
            </p:nvSpPr>
            <p:spPr>
              <a:xfrm>
                <a:off x="1187280" y="5754600"/>
                <a:ext cx="43344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"/>
              <p:cNvSpPr txBox="1"/>
              <p:nvPr/>
            </p:nvSpPr>
            <p:spPr>
              <a:xfrm>
                <a:off x="1187280" y="575460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3" name="Group 105"/>
          <p:cNvGrpSpPr/>
          <p:nvPr/>
        </p:nvGrpSpPr>
        <p:grpSpPr>
          <a:xfrm>
            <a:off x="611280" y="2637000"/>
            <a:ext cx="1511280" cy="1800000"/>
            <a:chOff x="611280" y="2637000"/>
            <a:chExt cx="1511280" cy="1800000"/>
          </a:xfrm>
        </p:grpSpPr>
        <p:sp>
          <p:nvSpPr>
            <p:cNvPr id="1604" name="AutoShape 95"/>
            <p:cNvSpPr/>
            <p:nvPr/>
          </p:nvSpPr>
          <p:spPr>
            <a:xfrm>
              <a:off x="611280" y="2637000"/>
              <a:ext cx="1511280" cy="180000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1800000"/>
                <a:gd name="textAreaBottom" fmla="*/ 1726560 h 1800000"/>
              </a:gdLst>
              <a:ahLst/>
              <a:rect l="textAreaLeft" t="textAreaTop" r="textAreaRight" b="textAreaBottom"/>
              <a:pathLst>
                <a:path w="21600" h="25726">
                  <a:moveTo>
                    <a:pt x="3600" y="0"/>
                  </a:moveTo>
                  <a:arcTo wR="3600" hR="3600" stAng="16200000" swAng="-5400000"/>
                  <a:lnTo>
                    <a:pt x="0" y="22126"/>
                  </a:lnTo>
                  <a:arcTo wR="3600" hR="3600" stAng="10800000" swAng="-5400000"/>
                  <a:lnTo>
                    <a:pt x="18000" y="25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Text Box 90"/>
            <p:cNvSpPr/>
            <p:nvPr/>
          </p:nvSpPr>
          <p:spPr>
            <a:xfrm>
              <a:off x="1042920" y="2852640"/>
              <a:ext cx="57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Text Box 91"/>
            <p:cNvSpPr/>
            <p:nvPr/>
          </p:nvSpPr>
          <p:spPr>
            <a:xfrm>
              <a:off x="1042920" y="3429000"/>
              <a:ext cx="57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cf004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1114560" y="3522600"/>
              <a:ext cx="433080" cy="360"/>
              <a:chOff x="1114560" y="3522600"/>
              <a:chExt cx="433080" cy="360"/>
            </a:xfrm>
          </p:grpSpPr>
          <p:sp>
            <p:nvSpPr>
              <p:cNvPr id="1608" name="Line 92"/>
              <p:cNvSpPr/>
              <p:nvPr/>
            </p:nvSpPr>
            <p:spPr>
              <a:xfrm>
                <a:off x="1114560" y="3522600"/>
                <a:ext cx="43308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"/>
              <p:cNvSpPr txBox="1"/>
              <p:nvPr/>
            </p:nvSpPr>
            <p:spPr>
              <a:xfrm>
                <a:off x="1114560" y="3522600"/>
                <a:ext cx="43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10" name="Group 107" descr=""/>
          <p:cNvPicPr/>
          <p:nvPr/>
        </p:nvPicPr>
        <p:blipFill>
          <a:blip r:embed="rId3"/>
          <a:stretch/>
        </p:blipFill>
        <p:spPr>
          <a:xfrm>
            <a:off x="5345280" y="547560"/>
            <a:ext cx="360972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611" name="Group 103"/>
          <p:cNvGrpSpPr/>
          <p:nvPr/>
        </p:nvGrpSpPr>
        <p:grpSpPr>
          <a:xfrm>
            <a:off x="3378240" y="2486160"/>
            <a:ext cx="2077920" cy="4182840"/>
            <a:chOff x="3378240" y="2486160"/>
            <a:chExt cx="2077920" cy="4182840"/>
          </a:xfrm>
        </p:grpSpPr>
        <p:sp>
          <p:nvSpPr>
            <p:cNvPr id="1612" name="AutoShape 93"/>
            <p:cNvSpPr/>
            <p:nvPr/>
          </p:nvSpPr>
          <p:spPr>
            <a:xfrm>
              <a:off x="5095800" y="2492280"/>
              <a:ext cx="360360" cy="417672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3392640" y="6662880"/>
              <a:ext cx="1728720" cy="360"/>
              <a:chOff x="3392640" y="6662880"/>
              <a:chExt cx="1728720" cy="360"/>
            </a:xfrm>
          </p:grpSpPr>
          <p:sp>
            <p:nvSpPr>
              <p:cNvPr id="1614" name="Line 101"/>
              <p:cNvSpPr/>
              <p:nvPr/>
            </p:nvSpPr>
            <p:spPr>
              <a:xfrm flipH="1">
                <a:off x="3392640" y="6662880"/>
                <a:ext cx="1728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>
                <a:off x="3392640" y="666288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3378240" y="2486160"/>
              <a:ext cx="1728720" cy="360"/>
              <a:chOff x="3378240" y="2486160"/>
              <a:chExt cx="1728720" cy="360"/>
            </a:xfrm>
          </p:grpSpPr>
          <p:sp>
            <p:nvSpPr>
              <p:cNvPr id="1617" name="Line 102"/>
              <p:cNvSpPr/>
              <p:nvPr/>
            </p:nvSpPr>
            <p:spPr>
              <a:xfrm flipH="1">
                <a:off x="3378240" y="2486160"/>
                <a:ext cx="172872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>
                <a:off x="3378240" y="248616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19" name="Текстовое поле 9"/>
          <p:cNvSpPr/>
          <p:nvPr/>
        </p:nvSpPr>
        <p:spPr>
          <a:xfrm>
            <a:off x="2195640" y="10008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втор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0" name="Заголовок 1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86520" cy="1325520"/>
          </a:xfrm>
          <a:prstGeom prst="rect">
            <a:avLst/>
          </a:prstGeom>
          <a:ln w="0">
            <a:noFill/>
          </a:ln>
        </p:spPr>
      </p:pic>
      <p:sp>
        <p:nvSpPr>
          <p:cNvPr id="1621" name="TextBox 2"/>
          <p:cNvSpPr/>
          <p:nvPr/>
        </p:nvSpPr>
        <p:spPr>
          <a:xfrm>
            <a:off x="2841480" y="4653000"/>
            <a:ext cx="43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ая из дробей будет больш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2" name="TextBox 4" descr=""/>
          <p:cNvPicPr/>
          <p:nvPr/>
        </p:nvPicPr>
        <p:blipFill>
          <a:blip r:embed="rId2"/>
          <a:stretch/>
        </p:blipFill>
        <p:spPr>
          <a:xfrm>
            <a:off x="682560" y="1628640"/>
            <a:ext cx="1728720" cy="1063800"/>
          </a:xfrm>
          <a:prstGeom prst="rect">
            <a:avLst/>
          </a:prstGeom>
          <a:ln w="0">
            <a:noFill/>
          </a:ln>
        </p:spPr>
      </p:pic>
      <p:pic>
        <p:nvPicPr>
          <p:cNvPr id="1623" name="Рисунок 29" descr=""/>
          <p:cNvPicPr/>
          <p:nvPr/>
        </p:nvPicPr>
        <p:blipFill>
          <a:blip r:embed="rId3"/>
          <a:stretch/>
        </p:blipFill>
        <p:spPr>
          <a:xfrm>
            <a:off x="6012000" y="164304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1624" name="Рисунок 30" descr=""/>
          <p:cNvPicPr/>
          <p:nvPr/>
        </p:nvPicPr>
        <p:blipFill>
          <a:blip r:embed="rId4"/>
          <a:stretch/>
        </p:blipFill>
        <p:spPr>
          <a:xfrm>
            <a:off x="2700360" y="1596960"/>
            <a:ext cx="2414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5BC-D80B-4F50-B0B0-26DCEA5B6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6" name="Изображение 2" descr=""/>
          <p:cNvPicPr/>
          <p:nvPr/>
        </p:nvPicPr>
        <p:blipFill>
          <a:blip r:embed="rId1"/>
          <a:stretch/>
        </p:blipFill>
        <p:spPr>
          <a:xfrm>
            <a:off x="990720" y="958680"/>
            <a:ext cx="7683480" cy="5762880"/>
          </a:xfrm>
          <a:prstGeom prst="rect">
            <a:avLst/>
          </a:prstGeom>
          <a:ln w="0">
            <a:noFill/>
          </a:ln>
        </p:spPr>
      </p:pic>
      <p:pic>
        <p:nvPicPr>
          <p:cNvPr id="1627" name="Текстовое поле 3" descr=""/>
          <p:cNvPicPr/>
          <p:nvPr/>
        </p:nvPicPr>
        <p:blipFill>
          <a:blip r:embed="rId2"/>
          <a:stretch/>
        </p:blipFill>
        <p:spPr>
          <a:xfrm>
            <a:off x="1320840" y="404640"/>
            <a:ext cx="60735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Picture 17" descr=""/>
          <p:cNvPicPr/>
          <p:nvPr/>
        </p:nvPicPr>
        <p:blipFill>
          <a:blip r:embed="rId1"/>
          <a:srcRect l="21858" t="37032" r="16158" b="27534"/>
          <a:stretch/>
        </p:blipFill>
        <p:spPr>
          <a:xfrm>
            <a:off x="0" y="2060640"/>
            <a:ext cx="9185400" cy="2952720"/>
          </a:xfrm>
          <a:prstGeom prst="rect">
            <a:avLst/>
          </a:prstGeom>
          <a:ln w="0">
            <a:noFill/>
          </a:ln>
        </p:spPr>
      </p:pic>
      <p:pic>
        <p:nvPicPr>
          <p:cNvPr id="1629" name="Текстовое поле 1" descr=""/>
          <p:cNvPicPr/>
          <p:nvPr/>
        </p:nvPicPr>
        <p:blipFill>
          <a:blip r:embed="rId2"/>
          <a:stretch/>
        </p:blipFill>
        <p:spPr>
          <a:xfrm>
            <a:off x="2286000" y="441360"/>
            <a:ext cx="4680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08:04:00Z</dcterms:created>
  <dc:creator>Ксения Лебедева</dc:creator>
  <dc:description/>
  <dc:language>en-US</dc:language>
  <cp:lastModifiedBy>lilija55m</cp:lastModifiedBy>
  <dcterms:modified xsi:type="dcterms:W3CDTF">2022-01-31T14:36:12Z</dcterms:modified>
  <cp:revision>15</cp:revision>
  <dc:subject/>
  <dc:title>Правильные и неправильные дроби. Сравнение дроб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FE39F1B804E478783809DDC1AE74494</vt:lpwstr>
  </property>
  <property fmtid="{D5CDD505-2E9C-101B-9397-08002B2CF9AE}" pid="3" name="KSOProductBuildVer">
    <vt:lpwstr>1049-11.2.0.10463</vt:lpwstr>
  </property>
</Properties>
</file>