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B9EC-8F0F-4556-B3A5-324E3C697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00B8-4652-421D-AAF4-31ADF90DD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A123-3018-46D4-9232-E3A3C335E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D65A-C402-415F-8137-69FC41E43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AAAC-2C33-40E6-BAD6-061F896C2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D41C-D71E-4900-9A25-A1BA77226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8FC9-9FE1-42B6-9E85-B32A8D8D9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0467-A1DB-462E-859C-66B9B0C8D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5DF9-0A62-4BA0-BDE4-3C36B798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C834-4024-4611-9FAD-424C681A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97F0-7020-49AD-B2F4-62DFE97D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CA9D-9329-4633-8942-B424763D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C231F-C9A0-4291-92BA-F8B6B2F1FE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1644830904_60-phonoteka-org-p-pastelnie-ottenki-fon-6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14240" y="1856880"/>
            <a:ext cx="7772400" cy="22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вятое февраля</a:t>
            </a:r>
            <a:br>
              <a:rPr sz="6600"/>
            </a:b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ная работ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3" descr="1644830904_60-phonoteka-org-p-pastelnie-ottenki-fon-6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285840" y="2571840"/>
            <a:ext cx="8534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, 7, 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0" y="2571840"/>
            <a:ext cx="8569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https://cdn1.ozone.ru/s3/multimedia-z/6017206883.jpg"/>
          <p:cNvPicPr/>
          <p:nvPr/>
        </p:nvPicPr>
        <p:blipFill>
          <a:blip r:embed="rId2"/>
          <a:stretch/>
        </p:blipFill>
        <p:spPr>
          <a:xfrm>
            <a:off x="6072120" y="1500120"/>
            <a:ext cx="2719440" cy="2719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https://sun9-80.userapi.com/impf/c637718/v637718392/e76/lPLDKLcSPc8.jpg?size=600x575&amp;quality=96&amp;sign=301b1bfb4825696fce4c049ae0058930&amp;c_uniq_tag=HTbdtgpbTlzP3b_XVDo9fobndNtqpEoAlynkJool-dY&amp;type=album"/>
          <p:cNvPicPr/>
          <p:nvPr/>
        </p:nvPicPr>
        <p:blipFill>
          <a:blip r:embed="rId3"/>
          <a:stretch/>
        </p:blipFill>
        <p:spPr>
          <a:xfrm>
            <a:off x="357120" y="1357200"/>
            <a:ext cx="2743200" cy="262908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3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5" descr="https://avatars.mds.yandex.net/i?id=a49870fb2313a02d0375cf8e5425d3238fe86225-9657345-images-thumbs&amp;n=13"/>
          <p:cNvPicPr/>
          <p:nvPr/>
        </p:nvPicPr>
        <p:blipFill>
          <a:blip r:embed="rId4"/>
          <a:stretch/>
        </p:blipFill>
        <p:spPr>
          <a:xfrm>
            <a:off x="3357720" y="2214720"/>
            <a:ext cx="2357280" cy="2184120"/>
          </a:xfrm>
          <a:prstGeom prst="rect">
            <a:avLst/>
          </a:prstGeom>
          <a:ln w="0">
            <a:noFill/>
          </a:ln>
        </p:spPr>
      </p:pic>
      <p:sp>
        <p:nvSpPr>
          <p:cNvPr id="77" name="TextBox 9"/>
          <p:cNvSpPr/>
          <p:nvPr/>
        </p:nvSpPr>
        <p:spPr>
          <a:xfrm>
            <a:off x="1071720" y="214200"/>
            <a:ext cx="75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образуйте количественные числительные в порядков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поставьте порядковые числительные с картин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3" descr="1644830904_60-phonoteka-org-p-pastelnie-ottenki-fon-6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285840" y="1214280"/>
            <a:ext cx="8658000" cy="25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й год войны был самым тяжелым для советского народ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ом году началась Великая Отечественная войн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3" descr="1644830904_60-phonoteka-org-p-pastelnie-ottenki-fon-6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5"/>
          <p:cNvSpPr/>
          <p:nvPr/>
        </p:nvSpPr>
        <p:spPr>
          <a:xfrm>
            <a:off x="0" y="357120"/>
            <a:ext cx="9144000" cy="83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онение составных порядковых числительны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меняется только последнее сло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 п.   тысяча девятьсот сорок перв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. п.    тысяча девятьсот сорок перв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. п.   тысяча девятьсот сорок перв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му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п.   тысяча девятьсот сорок перв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ый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 п.   тысяча девятьсот сорок перв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ы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 п.   (о) тысяча девятьсот сорок перв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395280" y="2606760"/>
            <a:ext cx="8569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2" descr="1644830904_60-phonoteka-org-p-pastelnie-ottenki-fon-6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4"/>
          <p:cNvSpPr/>
          <p:nvPr/>
        </p:nvSpPr>
        <p:spPr>
          <a:xfrm>
            <a:off x="0" y="-1037520"/>
            <a:ext cx="8858160" cy="71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а перевернула 31 страницу учебни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5 километр мы преодолели с труд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окада Ленинграда длилась 872 дн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3" descr="1644830904_60-phonoteka-org-p-pastelnie-ottenki-fon-6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571320" y="213840"/>
            <a:ext cx="72738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"/>
          <p:cNvSpPr/>
          <p:nvPr/>
        </p:nvSpPr>
        <p:spPr>
          <a:xfrm>
            <a:off x="0" y="135720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 На … уроке русского языка мы изучили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амым простым заданием оказалось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Самым сложным заданием оказалось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2" descr="1644830904_60-phonoteka-org-p-pastelnie-ottenki-fon-6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14200" y="642960"/>
            <a:ext cx="8569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c50b45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е 469, страница 59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3" descr="1644830904_60-phonoteka-org-p-pastelnie-ottenki-fon-6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0" y="642960"/>
            <a:ext cx="91440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Великой Отечественной войны Ленинград пережил 900 тяжелейших дней и ночей. Город оказался в кольце фронтов. Вражеские войска Германии и Финляндии не смогли его взять, но блокировали со всех сторон. Людям грозила голодная смерть. Норма хлеба в это время была от 125 до 250 граммов в день. В домах не было ни газа, ни электричества, ни воды. Но город героически держался. Работали предприятия. По ней на Большую землю вывезли свыше 50000 тысяч человек. По этой опасной и непрочной дороге подвозили продовольствие. Блокада была окончательно ликвидирована только в конце января 1944 го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3" descr="1644830904_60-phonoteka-org-p-pastelnie-ottenki-fon-6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68000" y="714240"/>
            <a:ext cx="84963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разряд очень любит порядок,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для него, словно мёд, очень сладок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ый по счёту? Первый, пятый, седьмой,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может быть, даже сто сорок восьмой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 группа просто исключительная,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Называется  ………      числительно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И. Демченк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4" descr="1644830904_60-phonoteka-org-p-pastelnie-ottenki-fon-6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14240" y="1499760"/>
            <a:ext cx="7848720" cy="30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онение порядковых числительны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4" descr="1644830904_60-phonoteka-org-p-pastelnie-ottenki-fon-6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14200" y="1642680"/>
            <a:ext cx="868680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Повторить… 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подробнее познакомиться с … 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учиться правильно …  и отличать …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7" descr="1644830904_60-phonoteka-org-p-pastelnie-ottenki-fon-6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3"/>
          <p:cNvSpPr/>
          <p:nvPr/>
        </p:nvSpPr>
        <p:spPr>
          <a:xfrm>
            <a:off x="539640" y="981000"/>
            <a:ext cx="76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357120" y="3857760"/>
            <a:ext cx="8131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й год войны был самым т.желым для советского наро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те синтаксический разбор предлож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sm_users_img-249760"/>
          <p:cNvPicPr/>
          <p:nvPr/>
        </p:nvPicPr>
        <p:blipFill>
          <a:blip r:embed="rId2"/>
          <a:stretch/>
        </p:blipFill>
        <p:spPr>
          <a:xfrm>
            <a:off x="785880" y="357120"/>
            <a:ext cx="3132000" cy="1709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5fa007d31ec6"/>
          <p:cNvPicPr/>
          <p:nvPr/>
        </p:nvPicPr>
        <p:blipFill>
          <a:blip r:embed="rId3"/>
          <a:stretch/>
        </p:blipFill>
        <p:spPr>
          <a:xfrm>
            <a:off x="5500800" y="285840"/>
            <a:ext cx="2000160" cy="3000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a27e7d08fc0f"/>
          <p:cNvPicPr/>
          <p:nvPr/>
        </p:nvPicPr>
        <p:blipFill>
          <a:blip r:embed="rId4"/>
          <a:stretch/>
        </p:blipFill>
        <p:spPr>
          <a:xfrm>
            <a:off x="1928880" y="1500120"/>
            <a:ext cx="4033800" cy="22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5" descr="1644830904_60-phonoteka-org-p-pastelnie-ottenki-fon-6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0" y="907560"/>
            <a:ext cx="388944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Book Antiqua"/>
              </a:rPr>
              <a:t>Тяжелый г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одзаголовок 2"/>
          <p:cNvSpPr/>
          <p:nvPr/>
        </p:nvSpPr>
        <p:spPr>
          <a:xfrm>
            <a:off x="395280" y="836640"/>
            <a:ext cx="4321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Book Antiqua"/>
              </a:rPr>
              <a:t>Первый г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одзаголовок 2"/>
          <p:cNvSpPr/>
          <p:nvPr/>
        </p:nvSpPr>
        <p:spPr>
          <a:xfrm>
            <a:off x="2916360" y="1989000"/>
            <a:ext cx="309564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 Antiqua"/>
              </a:rPr>
              <a:t>Какой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571680" y="3436920"/>
            <a:ext cx="820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ипотеза: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кажем, что порядковые числительные изменяются так же, как и прилагательны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3" descr="1644830904_60-phonoteka-org-p-pastelnie-ottenki-fon-6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6880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онение прилагательн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1285920" y="2017800"/>
            <a:ext cx="6886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 п. (какой?) тяжел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ый</a:t>
            </a: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. П. (какого?)тяжел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го</a:t>
            </a: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п.  (какой?)тяжел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ый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. п. (какому?)тяжел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му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п.  (каким?)тяжел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ым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д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п. (каком?) о тяжел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м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д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3" descr="1644830904_60-phonoteka-org-p-pastelnie-ottenki-fon-6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5"/>
          <p:cNvSpPr/>
          <p:nvPr/>
        </p:nvSpPr>
        <p:spPr>
          <a:xfrm>
            <a:off x="3071880" y="785880"/>
            <a:ext cx="322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95280" y="1801080"/>
            <a:ext cx="856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ковые числительные изменяются по родам, числам и падежам так же, как и прилагательные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1T23:35:36Z</dcterms:created>
  <dc:creator>Sony</dc:creator>
  <dc:description/>
  <dc:language>en-US</dc:language>
  <cp:lastModifiedBy>Валентина</cp:lastModifiedBy>
  <dcterms:modified xsi:type="dcterms:W3CDTF">2024-07-31T08:08:34Z</dcterms:modified>
  <cp:revision>59</cp:revision>
  <dc:subject/>
  <dc:title>Образовательный проект  учителя русского языка и литературы Баталиной Н.И.</dc:title>
</cp:coreProperties>
</file>