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A6A65-5B67-4FAE-80DF-3A17091FA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0F5E8-022F-4947-AF30-0CE75D1D9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6547B-9A2E-403E-A3F1-96377DAB9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9450C-617E-4E11-AC24-8E76B59A5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3E78E-4783-468C-8F50-A9438FEDB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135B3-4DC0-4B4A-9E44-48B9BE429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83021-7CF9-4E31-895F-B62BC63BC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DC1C3-68F5-437E-BE73-B6975D5B0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90DA5-F30F-4CD1-9983-17F5B82AD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E2CEC-EA7B-4E29-8136-930D1E2F6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997C4-38C4-4B4F-A7EC-9D99C9C6D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AF68D-D889-4BAB-9263-881D90B12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3B0BA-B77B-4C71-BF2E-56210DA53DF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3" descr="1644830904_60-phonoteka-org-p-pastelnie-ottenki-fon-6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14240" y="1856880"/>
            <a:ext cx="7772400" cy="224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вятое февраля</a:t>
            </a:r>
            <a:br>
              <a:rPr sz="6600"/>
            </a:br>
            <a:r>
              <a:rPr b="0" lang="ru-RU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сная работ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Рисунок 3" descr="1644830904_60-phonoteka-org-p-pastelnie-ottenki-fon-6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5"/>
          <p:cNvSpPr/>
          <p:nvPr/>
        </p:nvSpPr>
        <p:spPr>
          <a:xfrm>
            <a:off x="285840" y="2571840"/>
            <a:ext cx="853416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Arial"/>
              </a:rPr>
              <a:t>     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, 7, 1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Arial"/>
              </a:rPr>
              <a:t>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6"/>
          <p:cNvSpPr/>
          <p:nvPr/>
        </p:nvSpPr>
        <p:spPr>
          <a:xfrm>
            <a:off x="0" y="2571840"/>
            <a:ext cx="8569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5" descr="https://cdn1.ozone.ru/s3/multimedia-z/6017206883.jpg"/>
          <p:cNvPicPr/>
          <p:nvPr/>
        </p:nvPicPr>
        <p:blipFill>
          <a:blip r:embed="rId2"/>
          <a:stretch/>
        </p:blipFill>
        <p:spPr>
          <a:xfrm>
            <a:off x="6072120" y="1500120"/>
            <a:ext cx="2719440" cy="27194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9" descr="https://sun9-80.userapi.com/impf/c637718/v637718392/e76/lPLDKLcSPc8.jpg?size=600x575&amp;quality=96&amp;sign=301b1bfb4825696fce4c049ae0058930&amp;c_uniq_tag=HTbdtgpbTlzP3b_XVDo9fobndNtqpEoAlynkJool-dY&amp;type=album"/>
          <p:cNvPicPr/>
          <p:nvPr/>
        </p:nvPicPr>
        <p:blipFill>
          <a:blip r:embed="rId3"/>
          <a:stretch/>
        </p:blipFill>
        <p:spPr>
          <a:xfrm>
            <a:off x="357120" y="1357200"/>
            <a:ext cx="2743200" cy="2629080"/>
          </a:xfrm>
          <a:prstGeom prst="rect">
            <a:avLst/>
          </a:prstGeom>
          <a:ln w="0">
            <a:noFill/>
          </a:ln>
        </p:spPr>
      </p:pic>
      <p:sp>
        <p:nvSpPr>
          <p:cNvPr id="74" name="AutoShape 11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13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15" descr="https://avatars.mds.yandex.net/i?id=a49870fb2313a02d0375cf8e5425d3238fe86225-9657345-images-thumbs&amp;n=13"/>
          <p:cNvPicPr/>
          <p:nvPr/>
        </p:nvPicPr>
        <p:blipFill>
          <a:blip r:embed="rId4"/>
          <a:stretch/>
        </p:blipFill>
        <p:spPr>
          <a:xfrm>
            <a:off x="3357720" y="2214720"/>
            <a:ext cx="2357280" cy="2184120"/>
          </a:xfrm>
          <a:prstGeom prst="rect">
            <a:avLst/>
          </a:prstGeom>
          <a:ln w="0">
            <a:noFill/>
          </a:ln>
        </p:spPr>
      </p:pic>
      <p:sp>
        <p:nvSpPr>
          <p:cNvPr id="77" name="TextBox 9"/>
          <p:cNvSpPr/>
          <p:nvPr/>
        </p:nvSpPr>
        <p:spPr>
          <a:xfrm>
            <a:off x="1071720" y="214200"/>
            <a:ext cx="7500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образуйте количественные числительные в порядковы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поставьте порядковые числительные с картинк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Рисунок 3" descr="1644830904_60-phonoteka-org-p-pastelnie-ottenki-fon-6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 txBox="1"/>
          <p:nvPr/>
        </p:nvSpPr>
        <p:spPr>
          <a:xfrm>
            <a:off x="285840" y="1214280"/>
            <a:ext cx="8658000" cy="250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ый год войны был самым тяжелым для советского народ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аком году началась Великая Отечественная война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Рисунок 3" descr="1644830904_60-phonoteka-org-p-pastelnie-ottenki-fon-6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5"/>
          <p:cNvSpPr/>
          <p:nvPr/>
        </p:nvSpPr>
        <p:spPr>
          <a:xfrm>
            <a:off x="0" y="357120"/>
            <a:ext cx="9144000" cy="83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лонение составных порядковых числительных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зменяется только последнее сло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. п.   тысяча девятьсот сорок перв</a:t>
            </a: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. п.    тысяча девятьсот сорок перв</a:t>
            </a: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г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. п.   тысяча девятьсот сорок перв</a:t>
            </a: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му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. п.   тысяча девятьсот сорок перв</a:t>
            </a: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ый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. п.   тысяча девятьсот сорок перв</a:t>
            </a: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ым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. п.   (о) тысяча девятьсот сорок перв</a:t>
            </a: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Arial"/>
              </a:rPr>
              <a:t>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6"/>
          <p:cNvSpPr/>
          <p:nvPr/>
        </p:nvSpPr>
        <p:spPr>
          <a:xfrm>
            <a:off x="395280" y="2606760"/>
            <a:ext cx="8569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Рисунок 2" descr="1644830904_60-phonoteka-org-p-pastelnie-ottenki-fon-6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4"/>
          <p:cNvSpPr/>
          <p:nvPr/>
        </p:nvSpPr>
        <p:spPr>
          <a:xfrm>
            <a:off x="0" y="-1037520"/>
            <a:ext cx="8858160" cy="71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ша перевернула 31 страницу учебник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5 километр мы преодолели с трудом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окада Ленинграда длилась 872 дня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Рисунок 3" descr="1644830904_60-phonoteka-org-p-pastelnie-ottenki-fon-6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571320" y="213840"/>
            <a:ext cx="7273800" cy="10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флекс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рямоугольник 1"/>
          <p:cNvSpPr/>
          <p:nvPr/>
        </p:nvSpPr>
        <p:spPr>
          <a:xfrm>
            <a:off x="0" y="1357200"/>
            <a:ext cx="9144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  На … уроке русского языка мы изучили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Самым простым заданием оказалось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Самым сложным заданием оказалось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Рисунок 2" descr="1644830904_60-phonoteka-org-p-pastelnie-ottenki-fon-6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214200" y="642960"/>
            <a:ext cx="85694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0" spc="-1" strike="noStrike">
                <a:solidFill>
                  <a:srgbClr val="c50b45"/>
                </a:solidFill>
                <a:latin typeface="Times New Roman"/>
                <a:ea typeface="Times New Roman"/>
              </a:rPr>
              <a:t>Домашнее задание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жнение 469, страница 59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Рисунок 3" descr="1644830904_60-phonoteka-org-p-pastelnie-ottenki-fon-6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0" y="642960"/>
            <a:ext cx="9144000" cy="38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 время Великой Отечественной войны Ленинград пережил 900 тяжелейших дней и ночей. Город оказался в кольце фронтов. Вражеские войска Германии и Финляндии не смогли его взять, но блокировали со всех сторон. Людям грозила голодная смерть. Норма хлеба в это время была от 125 до 250 граммов в день. В домах не было ни газа, ни электричества, ни воды. Но город героически держался. Работали предприятия. По ней на Большую землю вывезли свыше 50000 тысяч человек. По этой опасной и непрочной дороге подвозили продовольствие. Блокада была окончательно ликвидирована только в конце января 1944 год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Рисунок 3" descr="1644830904_60-phonoteka-org-p-pastelnie-ottenki-fon-6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68000" y="714240"/>
            <a:ext cx="8496360" cy="50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т разряд очень любит порядок,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 для него, словно мёд, очень сладок.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торый по счёту? Первый, пятый, седьмой,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может быть, даже сто сорок восьмой.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а группа просто исключительная,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Называется  ………      числительное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. И. Демченк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Рисунок 4" descr="1644830904_60-phonoteka-org-p-pastelnie-ottenki-fon-6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714240" y="1499760"/>
            <a:ext cx="7848720" cy="30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лонение порядковых числительных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Рисунок 4" descr="1644830904_60-phonoteka-org-p-pastelnie-ottenki-fon-6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и: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14200" y="1642680"/>
            <a:ext cx="8686800" cy="40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Повторить… 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подробнее познакомиться с … 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учиться правильно …  и отличать … 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Рисунок 7" descr="1644830904_60-phonoteka-org-p-pastelnie-ottenki-fon-6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Прямоугольник 3"/>
          <p:cNvSpPr/>
          <p:nvPr/>
        </p:nvSpPr>
        <p:spPr>
          <a:xfrm>
            <a:off x="539640" y="981000"/>
            <a:ext cx="7632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5"/>
          <p:cNvSpPr/>
          <p:nvPr/>
        </p:nvSpPr>
        <p:spPr>
          <a:xfrm>
            <a:off x="357120" y="3857760"/>
            <a:ext cx="8131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ый год войны был самым т.желым для советского народ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ите синтаксический разбор предложени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6" descr="sm_users_img-249760"/>
          <p:cNvPicPr/>
          <p:nvPr/>
        </p:nvPicPr>
        <p:blipFill>
          <a:blip r:embed="rId2"/>
          <a:stretch/>
        </p:blipFill>
        <p:spPr>
          <a:xfrm>
            <a:off x="785880" y="357120"/>
            <a:ext cx="3132000" cy="1709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7" descr="5fa007d31ec6"/>
          <p:cNvPicPr/>
          <p:nvPr/>
        </p:nvPicPr>
        <p:blipFill>
          <a:blip r:embed="rId3"/>
          <a:stretch/>
        </p:blipFill>
        <p:spPr>
          <a:xfrm>
            <a:off x="5500800" y="285840"/>
            <a:ext cx="2000160" cy="30002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8" descr="a27e7d08fc0f"/>
          <p:cNvPicPr/>
          <p:nvPr/>
        </p:nvPicPr>
        <p:blipFill>
          <a:blip r:embed="rId4"/>
          <a:stretch/>
        </p:blipFill>
        <p:spPr>
          <a:xfrm>
            <a:off x="1928880" y="1500120"/>
            <a:ext cx="4033800" cy="22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Рисунок 5" descr="1644830904_60-phonoteka-org-p-pastelnie-ottenki-fon-6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0" y="907560"/>
            <a:ext cx="388944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Book Antiqua"/>
              </a:rPr>
              <a:t>Тяжелый го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одзаголовок 2"/>
          <p:cNvSpPr/>
          <p:nvPr/>
        </p:nvSpPr>
        <p:spPr>
          <a:xfrm>
            <a:off x="395280" y="836640"/>
            <a:ext cx="43210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Book Antiqua"/>
              </a:rPr>
              <a:t>Первый го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одзаголовок 2"/>
          <p:cNvSpPr/>
          <p:nvPr/>
        </p:nvSpPr>
        <p:spPr>
          <a:xfrm>
            <a:off x="2916360" y="1989000"/>
            <a:ext cx="309564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Book Antiqua"/>
              </a:rPr>
              <a:t>Какой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7"/>
          <p:cNvSpPr/>
          <p:nvPr/>
        </p:nvSpPr>
        <p:spPr>
          <a:xfrm>
            <a:off x="571680" y="3436920"/>
            <a:ext cx="8208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Гипотеза: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окажем, что порядковые числительные изменяются так же, как и прилагательны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Рисунок 3" descr="1644830904_60-phonoteka-org-p-pastelnie-ottenki-fon-6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6880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лонение прилагательног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5"/>
          <p:cNvSpPr/>
          <p:nvPr/>
        </p:nvSpPr>
        <p:spPr>
          <a:xfrm>
            <a:off x="1285920" y="2017800"/>
            <a:ext cx="68864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. п. (какой?) тяжел</a:t>
            </a: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ый</a:t>
            </a:r>
            <a:r>
              <a:rPr b="0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. П. (какого?)тяжел</a:t>
            </a: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го</a:t>
            </a:r>
            <a:r>
              <a:rPr b="0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д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.п.  (какой?)тяжел</a:t>
            </a: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ый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о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. п. (какому?)тяжел</a:t>
            </a: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му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од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.п.  (каким?)тяжел</a:t>
            </a: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ым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одо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.п. (каком?) о тяжел</a:t>
            </a: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м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од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Рисунок 3" descr="1644830904_60-phonoteka-org-p-pastelnie-ottenki-fon-6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5"/>
          <p:cNvSpPr/>
          <p:nvPr/>
        </p:nvSpPr>
        <p:spPr>
          <a:xfrm>
            <a:off x="3071880" y="785880"/>
            <a:ext cx="322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вод: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395280" y="1801080"/>
            <a:ext cx="8569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ядковые числительные изменяются по родам, числам и падежам так же, как и прилагательные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11T23:35:36Z</dcterms:created>
  <dc:creator>Sony</dc:creator>
  <dc:description/>
  <dc:language>en-US</dc:language>
  <cp:lastModifiedBy>Валентина</cp:lastModifiedBy>
  <dcterms:modified xsi:type="dcterms:W3CDTF">2024-07-31T08:08:34Z</dcterms:modified>
  <cp:revision>59</cp:revision>
  <dc:subject/>
  <dc:title>Образовательный проект  учителя русского языка и литературы Баталиной Н.И.</dc:title>
</cp:coreProperties>
</file>