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F07-1773-4129-A0A5-C90AC3D7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B15-6DA2-4D17-9992-69A925F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31C-DA01-4C58-B22B-137AAA2B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D26-36D6-421F-9672-1B08C0F1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B85-AA1C-400E-802E-CFCFE23E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18C-B348-458B-B4C6-CD2CAC6E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B5B-6AB7-4065-92AE-2E6520E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5F6-9B38-41A2-886F-771D315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2EB-D16F-459E-84A8-733505DD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EA3-BFE3-43F1-A68F-BB1F483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CB0-162B-44A1-A6C6-991D626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BCA-3F97-4A78-BDB6-622647C9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D2C0-5A92-41ED-89D8-FABE090D8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«Улыбнись миру, </a:t>
            </a:r>
            <a:br>
              <a:rPr sz="4000"/>
            </a:b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и мир улыбнется тебе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Занимательная лингви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акими частями речи могут быть слова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ой, гол, стекло, с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Что означает выражение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опасть впросак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и каково его происхожд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оставьте предложения с этими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Фон-3\10241735928.jpg"/>
          <p:cNvPicPr/>
          <p:nvPr/>
        </p:nvPicPr>
        <p:blipFill>
          <a:blip r:embed="rId1"/>
          <a:stretch/>
        </p:blipFill>
        <p:spPr>
          <a:xfrm>
            <a:off x="8424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Лексика.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Фразеология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овторить пройденное по теме «Лексика и фразеология» в предыдущих класс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акрепить знания по т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Активизировать творческие способности уче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вторение раздела «Лекси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то изучает лекс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ково самое общее деление слов по значен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акие группы слов вам извест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то такое фразеологизм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500200" y="1714680"/>
            <a:ext cx="41436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ловарный состав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500200" y="3357720"/>
            <a:ext cx="41436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днозначные и многозна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428760" y="4572000"/>
            <a:ext cx="8715240" cy="64296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инонимы, антонимы, омонимы, паронимы, устаревшие слова, неологизмы, профессио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71760" y="5929200"/>
            <a:ext cx="650052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Устойчивые сочетания слов с переносным знач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ите слова по их лексическому зна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астный вид метафоры, наделение предметного мира человеческими свойствами, его одушев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вторение одинаковых или сходных звуков в слове, во фра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исьменное или устное изложение основных положений одной или нескольких работ в форме докл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6572160" y="2714760"/>
            <a:ext cx="228600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5643720" y="3786120"/>
            <a:ext cx="307152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5643720" y="6000840"/>
            <a:ext cx="3071520" cy="500040"/>
          </a:xfrm>
          <a:prstGeom prst="rect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фе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кое из перечисленных слов имеет значение «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вялый, равнодушный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Пессимист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Апат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Цин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Аскетич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7172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пределите, к каким лексическим группам относятся слова в данном тек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Когда выстраивается шеренга солдат, то впереди становятся самые рослые и бравые, а в конце всегда бывает маленький солдатик. Так дом Пантелеевны стоял в самом конце и был самый маленький, в три оконца. Про такие дома говорят, что они пирогом крыты, блином подпер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Я бросил березовую жердь на землю и присел на лавочку перед до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Как называется ваша деревня? – спросил 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Чистый Д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Чего Чисты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Д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А что такое – Чистый Д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Это, батюшка, деревня наша, – толковала Пантелеев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нтонимы: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слый – маленький; впереди – в конце; раньше – по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нонимы: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глядел – вид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иалектизмы: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дор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Фон-3\10241755566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ексическая ра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думайте по два предложения с фразеологизм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1 вариант – с книжными по происхожд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2 вариант – с народ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Хорошо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владеть п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– редкий дар. Нашим футболистам удалось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одержать победу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в важном мат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 другой день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ни свет ни заря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за уже проснулась. Только что мы о нем говорили, а он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легок на помин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8:00:27Z</dcterms:created>
  <dc:creator>Царегородцева Елена</dc:creator>
  <dc:description/>
  <dc:language>en-US</dc:language>
  <cp:lastModifiedBy>365 Pro Plus</cp:lastModifiedBy>
  <dcterms:modified xsi:type="dcterms:W3CDTF">2024-07-31T11:24:32Z</dcterms:modified>
  <cp:revision>21</cp:revision>
  <dc:subject/>
  <dc:title>Слайд 1</dc:title>
</cp:coreProperties>
</file>