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40FF-BE1C-4DE7-9802-F789CA2E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2BBA-E471-4375-8917-9D16E1C0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26FF-B192-441E-A0BF-149AFDB6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12A-2F10-4686-866B-82E701F2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62F7-E1E2-401D-B679-BFCA199F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636-DDC4-4F30-B215-531BB406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4D86-EC7D-42D1-9A8D-619656C2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BEEE-F255-4FAF-B17B-96C6465F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2B9-EA98-4287-A23C-6AB7DB60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B643-6685-4207-8965-7FFCAE82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61B-8914-4515-941A-B3EB7A3B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B004-FCF4-454E-921C-C194A519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7B16-C7CB-4A67-A477-B4E118F27A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Фон-3\10241755566.jpg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«Улыбнись миру, </a:t>
            </a:r>
            <a:br>
              <a:rPr sz="4000"/>
            </a:b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и мир улыбнется тебе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:\Фон-3\10241755566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Занимательная лингвис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акими частями речи могут быть слова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мой, гол, стекло, сев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Что означает выражение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попасть впросак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 и каково его происхожд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оставьте предложения с этими слов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:\Фон-3\10241735928.jpg"/>
          <p:cNvPicPr/>
          <p:nvPr/>
        </p:nvPicPr>
        <p:blipFill>
          <a:blip r:embed="rId1"/>
          <a:stretch/>
        </p:blipFill>
        <p:spPr>
          <a:xfrm>
            <a:off x="84240" y="0"/>
            <a:ext cx="9077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Лексика.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Фразеология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Фон-3\10241755566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е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Повторить пройденное по теме «Лексика и фразеология» в предыдущих класс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Закрепить знания по те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Активизировать творческие способности уче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Фон-3\10241755566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вторение раздела «Лекси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Что изучает лекс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Каково самое общее деление слов по значени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Какие группы слов вам извест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Что такое фразеологизм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500200" y="1714680"/>
            <a:ext cx="4143600" cy="500040"/>
          </a:xfrm>
          <a:prstGeom prst="rect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ловарный состав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2500200" y="3357720"/>
            <a:ext cx="4143600" cy="500040"/>
          </a:xfrm>
          <a:prstGeom prst="rect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Однозначные и многозна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428760" y="4572000"/>
            <a:ext cx="8715240" cy="642960"/>
          </a:xfrm>
          <a:prstGeom prst="rect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Синонимы, антонимы, омонимы, паронимы, устаревшие слова, неологизмы, профессиональны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1571760" y="5929200"/>
            <a:ext cx="6500520" cy="500040"/>
          </a:xfrm>
          <a:prstGeom prst="rect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Устойчивые сочетания слов с переносным знач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:\Фон-3\10241755566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Лексическая ра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пределите слова по их лексическому знач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Частный вид метафоры, наделение предметного мира человеческими свойствами, его одушевл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вторение одинаковых или сходных звуков в слове, во фраз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исьменное или устное изложение основных положений одной или нескольких работ в форме докл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6572160" y="2714760"/>
            <a:ext cx="2286000" cy="500040"/>
          </a:xfrm>
          <a:prstGeom prst="rect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лицетво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5643720" y="3786120"/>
            <a:ext cx="3071520" cy="500040"/>
          </a:xfrm>
          <a:prstGeom prst="rect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Аллитер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5643720" y="6000840"/>
            <a:ext cx="3071520" cy="500040"/>
          </a:xfrm>
          <a:prstGeom prst="rect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ефер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:\Фон-3\10241755566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Лексическая ра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акое из перечисленных слов имеет значение «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вялый, равнодушный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Пессимистич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Апатич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Цинич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Аскетичны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F:\Фон-3\10241755566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Лексическая работ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07172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Определите, к каким лексическим группам относятся слова в данном текс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Когда выстраивается шеренга солдат, то впереди становятся самые рослые и бравые, а в конце всегда бывает маленький солдатик. Так дом Пантелеевны стоял в самом конце и был самый маленький, в три оконца. Про такие дома говорят, что они пирогом крыты, блином подпер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            </a:t>
            </a: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Я бросил березовую жердь на землю и присел на лавочку перед дом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Как называется ваша деревня? – спросил 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Чистый Д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Чего Чисты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Д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А что такое – Чистый Дор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Это, батюшка, деревня наша, – толковала Пантелеев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:\Фон-3\10241755566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Лексическая ра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Антонимы: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рослый – маленький; впереди – в конце; раньше – по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инонимы: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глядел – виде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Диалектизмы: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дор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F:\Фон-3\10241755566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Лексическая ра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идумайте по два предложения с фразеологизм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1 вариант – с книжными по происхожд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2 вариант – с народны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Хорошо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владеть пером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– редкий дар. Нашим футболистам удалось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одержать победу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в важном матч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а другой день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ни свет ни заря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иза уже проснулась. Только что мы о нем говорили, а он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легок на помине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8:00:27Z</dcterms:created>
  <dc:creator>Царегородцева Елена</dc:creator>
  <dc:description/>
  <dc:language>en-US</dc:language>
  <cp:lastModifiedBy>365 Pro Plus</cp:lastModifiedBy>
  <dcterms:modified xsi:type="dcterms:W3CDTF">2024-07-31T11:24:32Z</dcterms:modified>
  <cp:revision>21</cp:revision>
  <dc:subject/>
  <dc:title>Слайд 1</dc:title>
</cp:coreProperties>
</file>