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FBC-C79E-4E54-A27F-D8DC4B53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8C0-8CC8-41BF-88FE-4E7ED07E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576-7A78-4CDE-8557-A9B57E6F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B06-3BF3-4F70-8E41-F773DB7E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76C-4B9B-4671-936B-7D651058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7F0-84AD-4BDB-B381-DA4268AC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370-935D-431B-9C57-95C69088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51C-0B32-47B5-837B-C4FDCE18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F50-361A-4B98-81B4-2199F28F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711-4A3C-4353-8F14-0FE44A3A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587-5FE8-426D-9AD0-5C481C9D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F87-BF4C-446D-A090-0EC9DC27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B6B0-861A-4BD7-A1C9-276D87B70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Урок по повести Л. Андреева «Иуда Искарио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2920" y="5373360"/>
            <a:ext cx="4248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полнила Сорокина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715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24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522900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Путь к Голгоф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Тридцать сребре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4979" r="0" b="0"/>
          <a:stretch/>
        </p:blipFill>
        <p:spPr>
          <a:xfrm>
            <a:off x="1979640" y="1052640"/>
            <a:ext cx="52578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«Куда же мне идт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«Встреть же меня ласково, я очень устал, Иисус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0" r="0" b="72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Эпигра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56000" y="1341000"/>
            <a:ext cx="4788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ди один и исцеляй слепых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бы узнать в тяжелый час сомненья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еников злорадное глумление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равнодушие тол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. Ахматова. 191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392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Леонид Николаевич Андреев</a:t>
            </a:r>
            <a:br>
              <a:rPr sz="4000"/>
            </a:b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 (1871-191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5616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96108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Они рады бы отделиться друг от друга, но терновый венец связывает их неразрывно” (Л.Андрее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4032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Иуда Искари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176720" cy="547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00720" y="1125360"/>
            <a:ext cx="441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50"/>
                            </p:stCondLst>
                            <p:childTnLst>
                              <p:par>
                                <p:cTn id="1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Тайная вече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0:21:40Z</dcterms:created>
  <dc:creator>дом</dc:creator>
  <dc:description/>
  <dc:language>en-US</dc:language>
  <cp:lastModifiedBy>дом</cp:lastModifiedBy>
  <dcterms:modified xsi:type="dcterms:W3CDTF">2010-03-11T08:42:00Z</dcterms:modified>
  <cp:revision>11</cp:revision>
  <dc:subject/>
  <dc:title>Урок по повести Л. Андреева «Иуда Искариот»</dc:title>
</cp:coreProperties>
</file>