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2.jpeg" ContentType="image/jpeg"/>
  <Override PartName="/ppt/media/image1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04D8-7950-46C9-A8CB-E15CEA2D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60B-D116-4C7D-950C-8CCC9C1B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3F73-513B-43E3-B081-F7666B4E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259B-798C-424B-9CB2-47F6D8F6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8E84-25D4-4939-B636-3F11291E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EB6-28E6-4EFF-A157-85B936E3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4C8-E457-4F6B-9FA9-901BD39A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4B7B-AA21-402A-A19A-B8A21AD7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3E38-E548-401B-A4AD-07B7216D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D6A3-7B6D-4F4F-8107-781D525B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987E-2B38-4AFD-A12C-D6994629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6548-9C74-41A0-AB9E-322CC9BF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6611-C57D-4AB1-9F54-C8AC95F89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Урок по повести Л. Андреева «Иуда Искарио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2920" y="5373360"/>
            <a:ext cx="42483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ыполнила Сорокина Е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92360" y="1844640"/>
            <a:ext cx="57150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240" y="0"/>
            <a:ext cx="911376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522900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Путь к Голгоф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909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Тридцать сребре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0" t="4979" r="0" b="0"/>
          <a:stretch/>
        </p:blipFill>
        <p:spPr>
          <a:xfrm>
            <a:off x="1979640" y="1052640"/>
            <a:ext cx="525780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554508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«Куда же мне идти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979640" y="981000"/>
            <a:ext cx="4762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22936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«Встреть же меня ласково, я очень устал, Иисус…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rcRect l="0" t="0" r="0" b="72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Эпиграф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356000" y="1341000"/>
            <a:ext cx="4788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ди один и исцеляй слепых,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тобы узнать в тяжелый час сомненья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чеников злорадное глумление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 равнодушие тол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. Ахматова. 1915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3923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Arial"/>
              </a:rPr>
              <a:t>Леонид Николаевич Андреев</a:t>
            </a:r>
            <a:br>
              <a:rPr sz="4000"/>
            </a:br>
            <a:r>
              <a:rPr b="1" i="1" lang="en-US" sz="4000" spc="-1" strike="noStrike">
                <a:solidFill>
                  <a:srgbClr val="663300"/>
                </a:solidFill>
                <a:latin typeface="Arial"/>
              </a:rPr>
              <a:t> (1871-191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5616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3961080" cy="5040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663300"/>
                </a:solidFill>
                <a:latin typeface="Arial"/>
              </a:rPr>
              <a:t>Они рады бы отделиться друг от друга, но терновый венец связывает их неразрывно” (Л.Андрее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88000" y="1557360"/>
            <a:ext cx="4032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908000" y="0"/>
            <a:ext cx="547236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Иуда Искари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4176720" cy="5472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00720" y="1125360"/>
            <a:ext cx="44100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50"/>
                            </p:stCondLst>
                            <p:childTnLst>
                              <p:par>
                                <p:cTn id="1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Тайная вече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0:21:40Z</dcterms:created>
  <dc:creator>дом</dc:creator>
  <dc:description/>
  <dc:language>en-US</dc:language>
  <cp:lastModifiedBy>дом</cp:lastModifiedBy>
  <dcterms:modified xsi:type="dcterms:W3CDTF">2010-03-11T08:42:00Z</dcterms:modified>
  <cp:revision>11</cp:revision>
  <dc:subject/>
  <dc:title>Урок по повести Л. Андреева «Иуда Искариот»</dc:title>
</cp:coreProperties>
</file>