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DF2-DC32-4676-8C06-1082FE99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49D-4E01-4CB5-A240-238A7C6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EA9-E2E8-4D1A-A85C-1D39A8AA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8FB-0E1C-4C8D-B124-4074B65C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2E2C-FD0D-4A22-B988-FC894FDD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B9AC-1D80-4DF7-B937-B8A501B4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9783-7F00-467A-B43B-A022CAD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C2EC-215F-47CE-9043-EE5AA122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C4D9-84BE-4FAE-969F-FF34C12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053-5F28-4B17-B349-1EF57680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951A-664D-4ED6-83F2-5B2BAFE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B65-8F7E-4A29-9A2C-7223A02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A42C-1766-4D4F-B6F1-A5E4920A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F10-19A4-4F5C-9B26-03F28BF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A39-3FCE-4C3E-B600-CFB3C191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944-13F1-40E7-913B-FAABFF38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180-2570-469D-8334-962401E0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C70B-9B58-43B8-AB0B-5DCFF65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AC2F-D3DC-4FB5-A043-DCE5C64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DC48-763F-4B9C-97AA-F7F4E4C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32BF-116E-4908-BB54-5D33681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7199-05D6-4A90-8778-E078B85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D5C-9DD8-48A5-826D-9F152BE2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2D65-53CA-4B05-B534-60C968B4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DD16-18CE-48AE-8A13-090DA9C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B61E-4B1C-4FBE-B0D8-A8C5550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8A22-A316-434E-9181-3C39330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7FFE-F9CA-45BF-9974-AB72E3E8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0B85-6CBE-455B-8CFD-A82D9A06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409F-48C1-4337-B318-5564B049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8F50-AACD-4B20-A1F1-FFE0034C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C3D7-FBC6-4E96-B407-AFCBD52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7C15-EBC2-4677-95E4-0AA08E9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87-B521-4C6B-BF76-722EA78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C67E-ED0E-439A-9837-AA2A6CE9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215C-A399-46F8-AD4A-651DD8FB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4B6F-9765-4A48-9E69-144E9FE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B4BA-68C5-4C3D-A14D-C2DE999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5839-C720-4739-9A42-0D39AE4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ACBD-8970-4B1A-80DF-F0E3D5A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537A-91CE-4311-966D-F0767EA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BB46-9FB9-41C7-940D-104AC795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4610-B700-4B7C-9D11-F482B6E5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B6E-60D1-42C6-9D16-0D3CA7A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2B5-CCBA-4D0B-AE4D-706093C7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267-8DE0-4BBD-876E-FB9680A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683-4456-4597-82CB-A8217AE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6D9-FD73-4DD9-AF9E-7660F6C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19C1C-9763-4C62-8559-E16A5A580605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6480"/>
            <a:ext cx="9144360" cy="5150520"/>
            <a:chOff x="-360" y="-6480"/>
            <a:chExt cx="9144360" cy="5150520"/>
          </a:xfrm>
        </p:grpSpPr>
        <p:sp>
          <p:nvSpPr>
            <p:cNvPr id="53" name="Straight Connector 31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0"/>
              <a:ext cx="631800" cy="42501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E1801-B1E6-4CC1-B837-2B428B240605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05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49D0C-2735-4E9B-8674-C0CA697863D9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59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120C9-342D-4B43-BC2C-15FC546D6A2A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203120"/>
            <a:ext cx="668340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Уравнения с параметром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07960" y="1620360"/>
            <a:ext cx="6446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357200" y="2500200"/>
            <a:ext cx="64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Неизвестные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нято обозначать последними буквами латинского алфавита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х, у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z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…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араметры – первыми буквами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а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…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1258920" y="238428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равнением с параметро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зывают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уравнение вида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) = 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которое надо решить относительно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 в котором буквой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обозначено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произвольное действительное числ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1366920" y="2373480"/>
            <a:ext cx="65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шить уравнение с параметро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– значит для каждого значения параметра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найти множество всех корн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данного уравнения или доказать, что корней н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468360" y="119160"/>
            <a:ext cx="72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Пример 1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ешить уравнение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x = 1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366840" y="91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475920" y="1419120"/>
            <a:ext cx="25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если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 ≠ 0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453960" y="202572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 = 0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2933280" y="2120760"/>
            <a:ext cx="57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x = 1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не имеет решений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Прямоугольник 9" descr=""/>
          <p:cNvPicPr/>
          <p:nvPr/>
        </p:nvPicPr>
        <p:blipFill>
          <a:blip r:embed="rId1"/>
          <a:stretch/>
        </p:blipFill>
        <p:spPr>
          <a:xfrm>
            <a:off x="469800" y="3024360"/>
            <a:ext cx="7991640" cy="48096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11" descr=""/>
          <p:cNvPicPr/>
          <p:nvPr/>
        </p:nvPicPr>
        <p:blipFill>
          <a:blip r:embed="rId2"/>
          <a:stretch/>
        </p:blipFill>
        <p:spPr>
          <a:xfrm>
            <a:off x="2846520" y="1189080"/>
            <a:ext cx="143964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68360" y="3398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Пример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шить уравнение 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1 = x + 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Прямоугольник 9" descr=""/>
          <p:cNvPicPr/>
          <p:nvPr/>
        </p:nvPicPr>
        <p:blipFill>
          <a:blip r:embed="rId1"/>
          <a:stretch/>
        </p:blipFill>
        <p:spPr>
          <a:xfrm>
            <a:off x="469800" y="3895560"/>
            <a:ext cx="799164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468360" y="1138320"/>
            <a:ext cx="2146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1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1)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550800" y="2433600"/>
            <a:ext cx="33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≠ 0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≠ ±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TextBox 11" descr=""/>
          <p:cNvPicPr/>
          <p:nvPr/>
        </p:nvPicPr>
        <p:blipFill>
          <a:blip r:embed="rId2"/>
          <a:stretch/>
        </p:blipFill>
        <p:spPr>
          <a:xfrm>
            <a:off x="3833640" y="2292480"/>
            <a:ext cx="131148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12" descr=""/>
          <p:cNvPicPr/>
          <p:nvPr/>
        </p:nvPicPr>
        <p:blipFill>
          <a:blip r:embed="rId3"/>
          <a:stretch/>
        </p:blipFill>
        <p:spPr>
          <a:xfrm>
            <a:off x="5005440" y="2292480"/>
            <a:ext cx="1755720" cy="6094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3"/>
          <p:cNvSpPr/>
          <p:nvPr/>
        </p:nvSpPr>
        <p:spPr>
          <a:xfrm>
            <a:off x="468360" y="29401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0 · x = 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3673440" y="294012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авнение не имеет решений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468360" y="3435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. 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–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0 · x = 0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TextBox 16" descr=""/>
          <p:cNvPicPr/>
          <p:nvPr/>
        </p:nvPicPr>
        <p:blipFill>
          <a:blip r:embed="rId4"/>
          <a:stretch/>
        </p:blipFill>
        <p:spPr>
          <a:xfrm>
            <a:off x="3822840" y="3438360"/>
            <a:ext cx="852480" cy="365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341280"/>
            <a:ext cx="4821480" cy="4809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68360" y="1138320"/>
            <a:ext cx="2146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ДЗ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474840" y="24336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468360" y="3079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879640" y="113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 = 2a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авнение не имеет решений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68360" y="40035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, то уравнение имеет единственное решение x = 2a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a = 2, то уравнение не имеет решен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468360" y="3398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Пример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4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шить уравнени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|x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a| = 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TextBox 8" descr=""/>
          <p:cNvPicPr/>
          <p:nvPr/>
        </p:nvPicPr>
        <p:blipFill>
          <a:blip r:embed="rId1"/>
          <a:stretch/>
        </p:blipFill>
        <p:spPr>
          <a:xfrm>
            <a:off x="469800" y="1298520"/>
            <a:ext cx="1346400" cy="371520"/>
          </a:xfrm>
          <a:prstGeom prst="rect">
            <a:avLst/>
          </a:prstGeom>
          <a:ln w="0">
            <a:noFill/>
          </a:ln>
        </p:spPr>
      </p:pic>
      <p:pic>
        <p:nvPicPr>
          <p:cNvPr id="252" name="TextBox 9" descr=""/>
          <p:cNvPicPr/>
          <p:nvPr/>
        </p:nvPicPr>
        <p:blipFill>
          <a:blip r:embed="rId2"/>
          <a:stretch/>
        </p:blipFill>
        <p:spPr>
          <a:xfrm>
            <a:off x="1768320" y="1298520"/>
            <a:ext cx="474840" cy="37152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12" descr=""/>
          <p:cNvPicPr/>
          <p:nvPr/>
        </p:nvPicPr>
        <p:blipFill>
          <a:blip r:embed="rId3"/>
          <a:stretch/>
        </p:blipFill>
        <p:spPr>
          <a:xfrm>
            <a:off x="2341440" y="1116000"/>
            <a:ext cx="122400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13" descr=""/>
          <p:cNvPicPr/>
          <p:nvPr/>
        </p:nvPicPr>
        <p:blipFill>
          <a:blip r:embed="rId4"/>
          <a:stretch/>
        </p:blipFill>
        <p:spPr>
          <a:xfrm>
            <a:off x="2378160" y="1450800"/>
            <a:ext cx="1339920" cy="371520"/>
          </a:xfrm>
          <a:prstGeom prst="rect">
            <a:avLst/>
          </a:prstGeom>
          <a:ln w="0">
            <a:noFill/>
          </a:ln>
        </p:spPr>
      </p:pic>
      <p:sp>
        <p:nvSpPr>
          <p:cNvPr id="255" name="Левая фигурная скобка 11"/>
          <p:cNvSpPr/>
          <p:nvPr/>
        </p:nvSpPr>
        <p:spPr>
          <a:xfrm>
            <a:off x="2290680" y="1216080"/>
            <a:ext cx="98640" cy="536400"/>
          </a:xfrm>
          <a:custGeom>
            <a:avLst/>
            <a:gdLst>
              <a:gd name="textAreaLeft" fmla="*/ 63000 w 98640"/>
              <a:gd name="textAreaRight" fmla="*/ 99000 w 98640"/>
              <a:gd name="textAreaTop" fmla="*/ 20880 h 536400"/>
              <a:gd name="textAreaBottom" fmla="*/ 515520 h 53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9"/>
                  <a:pt x="10800" y="2697"/>
                </a:cubicBezTo>
                <a:lnTo>
                  <a:pt x="10800" y="8103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9"/>
                  <a:pt x="10800" y="13497"/>
                </a:cubicBezTo>
                <a:lnTo>
                  <a:pt x="10800" y="18903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TextBox 15" descr=""/>
          <p:cNvPicPr/>
          <p:nvPr/>
        </p:nvPicPr>
        <p:blipFill>
          <a:blip r:embed="rId5"/>
          <a:stretch/>
        </p:blipFill>
        <p:spPr>
          <a:xfrm>
            <a:off x="3749760" y="1298520"/>
            <a:ext cx="474480" cy="37152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6" descr=""/>
          <p:cNvPicPr/>
          <p:nvPr/>
        </p:nvPicPr>
        <p:blipFill>
          <a:blip r:embed="rId6"/>
          <a:stretch/>
        </p:blipFill>
        <p:spPr>
          <a:xfrm>
            <a:off x="4370400" y="1116000"/>
            <a:ext cx="122544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TextBox 17" descr=""/>
          <p:cNvPicPr/>
          <p:nvPr/>
        </p:nvPicPr>
        <p:blipFill>
          <a:blip r:embed="rId7"/>
          <a:stretch/>
        </p:blipFill>
        <p:spPr>
          <a:xfrm>
            <a:off x="4413240" y="1450800"/>
            <a:ext cx="1170000" cy="371520"/>
          </a:xfrm>
          <a:prstGeom prst="rect">
            <a:avLst/>
          </a:prstGeom>
          <a:ln w="0">
            <a:noFill/>
          </a:ln>
        </p:spPr>
      </p:pic>
      <p:sp>
        <p:nvSpPr>
          <p:cNvPr id="259" name="Левая фигурная скобка 18"/>
          <p:cNvSpPr/>
          <p:nvPr/>
        </p:nvSpPr>
        <p:spPr>
          <a:xfrm>
            <a:off x="4322880" y="1216080"/>
            <a:ext cx="98280" cy="536400"/>
          </a:xfrm>
          <a:custGeom>
            <a:avLst/>
            <a:gdLst>
              <a:gd name="textAreaLeft" fmla="*/ 63000 w 98280"/>
              <a:gd name="textAreaRight" fmla="*/ 98640 w 98280"/>
              <a:gd name="textAreaTop" fmla="*/ 20880 h 536400"/>
              <a:gd name="textAreaBottom" fmla="*/ 515520 h 53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9"/>
                  <a:pt x="10800" y="2697"/>
                </a:cubicBezTo>
                <a:lnTo>
                  <a:pt x="10800" y="8103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9"/>
                  <a:pt x="10800" y="13497"/>
                </a:cubicBezTo>
                <a:lnTo>
                  <a:pt x="10800" y="18903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14"/>
          <p:cNvSpPr/>
          <p:nvPr/>
        </p:nvSpPr>
        <p:spPr>
          <a:xfrm>
            <a:off x="601560" y="2017800"/>
            <a:ext cx="204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+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19"/>
          <p:cNvSpPr/>
          <p:nvPr/>
        </p:nvSpPr>
        <p:spPr>
          <a:xfrm>
            <a:off x="468360" y="2558880"/>
            <a:ext cx="29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+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7960" y="1620360"/>
            <a:ext cx="6446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7:16:42Z</dcterms:created>
  <dc:creator>Knop</dc:creator>
  <dc:description/>
  <dc:language>en-US</dc:language>
  <cp:lastModifiedBy>Professional</cp:lastModifiedBy>
  <dcterms:modified xsi:type="dcterms:W3CDTF">2024-04-07T14:21:20Z</dcterms:modified>
  <cp:revision>26</cp:revision>
  <dc:subject/>
  <dc:title>Презентация PowerPoint</dc:title>
</cp:coreProperties>
</file>