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90D2-D7A4-4C4E-BD6A-F16A5E1B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644688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7960" y="3140280"/>
            <a:ext cx="644688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8707-1249-42F0-8B37-659B2CAC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7960" y="314028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11680" y="314028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A5CA-E89E-45DF-A331-DC605815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687760" y="162036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867920" y="162036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07960" y="314028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687760" y="314028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867920" y="314028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E1C1-656E-452C-8767-A0943B09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4F10-3F66-41AF-AA86-897B0F85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07960" y="1620360"/>
            <a:ext cx="6446880" cy="29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A22C-4E2A-4B8F-B49F-47022F85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644688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0FC0-71B0-428E-B6EB-D65C8430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31A3-4AB3-4964-A467-F18D12DE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3573-FB3A-4C0F-BCAB-8FE2B22F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07960" y="457200"/>
            <a:ext cx="6446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629F-CF72-4C26-BE5E-D81B4001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7960" y="314028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E9A7-DF55-46E1-9E39-5EE5F387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507960" y="1620360"/>
            <a:ext cx="6446880" cy="29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CB14-21A5-4F26-9F9F-BF54FF88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11680" y="314028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1969-0171-42FB-B8D3-5593F45C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07960" y="3140280"/>
            <a:ext cx="644688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59F4-3A37-48DB-9403-62D113B2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644688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7960" y="3140280"/>
            <a:ext cx="644688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3F79-13C1-4E52-89A6-A8613F01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7960" y="314028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11680" y="314028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D27D-2236-4137-8B7B-DD124EB9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687760" y="162036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67920" y="162036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07960" y="314028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687760" y="314028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867920" y="314028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2563-FDF4-4C65-9EB7-1D6E7B7C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F9DEF-052E-4DFE-AEA0-36171A13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07960" y="1620360"/>
            <a:ext cx="6446880" cy="29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79495-4D53-4899-B66E-674A08AF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644688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B3792-AD16-4023-9AD2-76F65A7F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1A927-EE3B-4CE8-AEAD-D0B7D549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0DC6A-1AC0-40ED-85DF-5F4ABE3A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644688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7272-412C-4879-8D6E-3B46E4AA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507960" y="457200"/>
            <a:ext cx="6446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2FE33-10B7-45F8-8463-ED2C7FC4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7960" y="314028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42374-12EE-4B78-810C-5C3B231A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11680" y="314028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245E3-9825-4F5B-9008-333E7786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7960" y="3140280"/>
            <a:ext cx="644688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0DFE2-7475-4426-AC8F-5029EB18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644688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7960" y="3140280"/>
            <a:ext cx="644688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438D6-40B0-46D3-9A2A-CA9C68D3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7960" y="314028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11680" y="314028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6BB9E-8B4E-43C9-A277-B8F2E7B3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87760" y="162036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867920" y="162036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07960" y="314028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687760" y="314028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867920" y="314028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4D421-7946-4E20-967C-57A0E27B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9B2CD-5542-4D56-A0E5-1777CA44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07960" y="1620360"/>
            <a:ext cx="6446880" cy="29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0EC5D-A3C6-42A3-9F13-4FCB3675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644688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40253-98D6-425E-81D9-A427132A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CE3D-67FC-4C19-AE41-A74E6FC6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34D66-C9A2-447B-839E-4E06861E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6685F-BDB7-4D09-B1B1-2CD97BA2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07960" y="457200"/>
            <a:ext cx="6446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82ADD-5BF2-4EDE-AD05-D4B48244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7960" y="314028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06D81-69D2-417F-BFD2-CB08874F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11680" y="314028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E00B9-CFA8-4F56-BCBC-4EE41B82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7960" y="3140280"/>
            <a:ext cx="644688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35EA2-3380-4569-82DB-7CD8ECFE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644688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7960" y="3140280"/>
            <a:ext cx="644688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FCD8C-CA89-4B08-8BB4-569D35C6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7960" y="314028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11680" y="314028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A023F-8E0F-456E-B93B-83572CDA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687760" y="162036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67920" y="162036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7960" y="314028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687760" y="314028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867920" y="3140280"/>
            <a:ext cx="207576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2C467-1E53-42DA-83D0-0C365C51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A44C-7A25-4F42-BA71-BB58F0A0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507960" y="457200"/>
            <a:ext cx="6446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25B1-B198-4E33-9778-F2D9A999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7960" y="314028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24A5-F4CB-4633-BD63-64C697E7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11680" y="314028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7281-E758-4240-847C-C4170323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796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11680" y="1620360"/>
            <a:ext cx="314604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7960" y="3140280"/>
            <a:ext cx="6446880" cy="13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493B-C1E4-4C8E-9052-108C0306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6480"/>
            <a:ext cx="9144000" cy="5150520"/>
            <a:chOff x="0" y="-6480"/>
            <a:chExt cx="9144000" cy="5150520"/>
          </a:xfrm>
        </p:grpSpPr>
        <p:sp>
          <p:nvSpPr>
            <p:cNvPr id="1" name="Straight Connector 19"/>
            <p:cNvSpPr/>
            <p:nvPr/>
          </p:nvSpPr>
          <p:spPr>
            <a:xfrm>
              <a:off x="7028280" y="0"/>
              <a:ext cx="914400" cy="51440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5568840" y="2761200"/>
              <a:ext cx="3572640" cy="23824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6886080" y="-6480"/>
              <a:ext cx="2255400" cy="515016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7202520" y="-6480"/>
              <a:ext cx="1941480" cy="515016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6699240" y="2286000"/>
              <a:ext cx="2444760" cy="28576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7000920" y="-6480"/>
              <a:ext cx="2140560" cy="515016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8174160" y="-6480"/>
              <a:ext cx="967320" cy="515016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8204400" y="-6480"/>
              <a:ext cx="937080" cy="515016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7778880" y="2692440"/>
              <a:ext cx="1362600" cy="24512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3009960"/>
              <a:ext cx="336240" cy="2133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507960" y="1620360"/>
            <a:ext cx="644688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557280" indent="-21420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85716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3" marL="120024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4" marL="154296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3960" y="4530240"/>
            <a:ext cx="684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6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507600" y="4530240"/>
            <a:ext cx="472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3640" y="4530240"/>
            <a:ext cx="511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6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9BCD2-442F-4DB0-9A57-E907EDC137C9}" type="slidenum">
              <a:rPr b="0" lang="ru-RU" sz="6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6480"/>
            <a:ext cx="9144360" cy="5150520"/>
            <a:chOff x="-360" y="-6480"/>
            <a:chExt cx="9144360" cy="5150520"/>
          </a:xfrm>
        </p:grpSpPr>
        <p:sp>
          <p:nvSpPr>
            <p:cNvPr id="53" name="Straight Connector 31"/>
            <p:cNvSpPr/>
            <p:nvPr/>
          </p:nvSpPr>
          <p:spPr>
            <a:xfrm>
              <a:off x="7028280" y="0"/>
              <a:ext cx="914400" cy="51440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5568840" y="2761200"/>
              <a:ext cx="3572640" cy="23824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6886080" y="-6480"/>
              <a:ext cx="2255400" cy="515016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7202520" y="-6480"/>
              <a:ext cx="1941480" cy="515016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6699240" y="2286000"/>
              <a:ext cx="2444760" cy="28576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7000920" y="-6480"/>
              <a:ext cx="2140560" cy="515016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8174160" y="-6480"/>
              <a:ext cx="967320" cy="515016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8204400" y="-6480"/>
              <a:ext cx="937080" cy="515016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7778880" y="2692440"/>
              <a:ext cx="1362600" cy="24512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0"/>
              <a:ext cx="631800" cy="425016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507960" y="1620360"/>
            <a:ext cx="644688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557280" indent="-21420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85716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3" marL="120024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4" marL="154296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3960" y="4530240"/>
            <a:ext cx="684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6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07600" y="4530240"/>
            <a:ext cx="472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3640" y="4530240"/>
            <a:ext cx="511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6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B022D8-7A10-4744-A227-60F36A89A331}" type="slidenum">
              <a:rPr b="0" lang="ru-RU" sz="6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6480"/>
            <a:ext cx="9144000" cy="5150520"/>
            <a:chOff x="0" y="-6480"/>
            <a:chExt cx="9144000" cy="5150520"/>
          </a:xfrm>
        </p:grpSpPr>
        <p:sp>
          <p:nvSpPr>
            <p:cNvPr id="105" name="Straight Connector 19"/>
            <p:cNvSpPr/>
            <p:nvPr/>
          </p:nvSpPr>
          <p:spPr>
            <a:xfrm>
              <a:off x="7028280" y="0"/>
              <a:ext cx="914400" cy="51440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5568840" y="2761200"/>
              <a:ext cx="3572640" cy="23824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6886080" y="-6480"/>
              <a:ext cx="2255400" cy="515016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7202520" y="-6480"/>
              <a:ext cx="1941480" cy="515016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6699240" y="2286000"/>
              <a:ext cx="2444760" cy="28576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7000920" y="-6480"/>
              <a:ext cx="2140560" cy="515016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8174160" y="-6480"/>
              <a:ext cx="967320" cy="515016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8204400" y="-6480"/>
              <a:ext cx="937080" cy="515016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7778880" y="2692440"/>
              <a:ext cx="1362600" cy="24512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3009960"/>
              <a:ext cx="336240" cy="2133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06440" y="592200"/>
            <a:ext cx="4572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669000" y="2165400"/>
            <a:ext cx="457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620360"/>
            <a:ext cx="644688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557280" indent="-21420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85716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3" marL="120024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4" marL="154296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3960" y="4530240"/>
            <a:ext cx="684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6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507600" y="4530240"/>
            <a:ext cx="472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3640" y="4530240"/>
            <a:ext cx="511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6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15EBB-2F63-469C-9F51-AE0495057705}" type="slidenum">
              <a:rPr b="0" lang="ru-RU" sz="6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6480"/>
            <a:ext cx="9144000" cy="5150520"/>
            <a:chOff x="0" y="-6480"/>
            <a:chExt cx="9144000" cy="5150520"/>
          </a:xfrm>
        </p:grpSpPr>
        <p:sp>
          <p:nvSpPr>
            <p:cNvPr id="159" name="Straight Connector 19"/>
            <p:cNvSpPr/>
            <p:nvPr/>
          </p:nvSpPr>
          <p:spPr>
            <a:xfrm>
              <a:off x="7028280" y="0"/>
              <a:ext cx="914400" cy="51440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5568840" y="2761200"/>
              <a:ext cx="3572640" cy="23824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6886080" y="-6480"/>
              <a:ext cx="2255400" cy="515016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7202520" y="-6480"/>
              <a:ext cx="1941480" cy="515016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6699240" y="2286000"/>
              <a:ext cx="2444760" cy="28576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7000920" y="-6480"/>
              <a:ext cx="2140560" cy="515016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8174160" y="-6480"/>
              <a:ext cx="967320" cy="515016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8204400" y="-6480"/>
              <a:ext cx="937080" cy="515016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7778880" y="2692440"/>
              <a:ext cx="1362600" cy="24512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3009960"/>
              <a:ext cx="336240" cy="2133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06440" y="592200"/>
            <a:ext cx="4572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669000" y="2165400"/>
            <a:ext cx="457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27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07960" y="1620360"/>
            <a:ext cx="644688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557280" indent="-21420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85716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3" marL="120024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4" marL="1542960" indent="-171360">
              <a:spcBef>
                <a:spcPts val="75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5" marL="1542960" indent="-171360">
              <a:spcBef>
                <a:spcPts val="75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6" marL="1542960" indent="-171360">
              <a:spcBef>
                <a:spcPts val="75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3960" y="4530240"/>
            <a:ext cx="684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6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507600" y="4530240"/>
            <a:ext cx="472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3640" y="4530240"/>
            <a:ext cx="511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6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58459E-9A26-470B-8C86-CA8604DF6199}" type="slidenum">
              <a:rPr b="0" lang="ru-RU" sz="6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7280" y="1203120"/>
            <a:ext cx="6683400" cy="96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rebuchet MS"/>
              </a:rPr>
              <a:t>Уравнения с параметром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07960" y="1620360"/>
            <a:ext cx="64468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D:\Algebra 10\2.png"/>
          <p:cNvPicPr/>
          <p:nvPr/>
        </p:nvPicPr>
        <p:blipFill>
          <a:blip r:embed="rId1"/>
          <a:stretch/>
        </p:blipFill>
        <p:spPr>
          <a:xfrm>
            <a:off x="826920" y="490680"/>
            <a:ext cx="7672680" cy="424944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3"/>
          <p:cNvSpPr/>
          <p:nvPr/>
        </p:nvSpPr>
        <p:spPr>
          <a:xfrm>
            <a:off x="1357200" y="2500200"/>
            <a:ext cx="645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Неизвестные величины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инято обозначать последними буквами латинского алфавита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(х, у,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z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,…)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параметры – первыми буквами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(а,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b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c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, …)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D:\Algebra 10\2.png"/>
          <p:cNvPicPr/>
          <p:nvPr/>
        </p:nvPicPr>
        <p:blipFill>
          <a:blip r:embed="rId1"/>
          <a:stretch/>
        </p:blipFill>
        <p:spPr>
          <a:xfrm>
            <a:off x="826920" y="490680"/>
            <a:ext cx="7672680" cy="424944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3"/>
          <p:cNvSpPr/>
          <p:nvPr/>
        </p:nvSpPr>
        <p:spPr>
          <a:xfrm>
            <a:off x="1258920" y="2384280"/>
            <a:ext cx="640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равнением с параметром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называют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уравнение вида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x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) = 0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которое надо решить относительно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и в котором буквой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обозначено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произвольное действительное число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D:\Algebra 10\2.png"/>
          <p:cNvPicPr/>
          <p:nvPr/>
        </p:nvPicPr>
        <p:blipFill>
          <a:blip r:embed="rId1"/>
          <a:stretch/>
        </p:blipFill>
        <p:spPr>
          <a:xfrm>
            <a:off x="826920" y="490680"/>
            <a:ext cx="7672680" cy="424944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3"/>
          <p:cNvSpPr/>
          <p:nvPr/>
        </p:nvSpPr>
        <p:spPr>
          <a:xfrm>
            <a:off x="1366920" y="2373480"/>
            <a:ext cx="651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Решить уравнение с параметром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– значит для каждого значения параметра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найти множество всех корней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данного уравнения или доказать, что корней нет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468360" y="119160"/>
            <a:ext cx="721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mbria"/>
              </a:rPr>
              <a:t>Пример 1.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Решить уравнение </a:t>
            </a: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ax = 1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Прямая соединительная линия 3"/>
          <p:cNvSpPr/>
          <p:nvPr/>
        </p:nvSpPr>
        <p:spPr>
          <a:xfrm>
            <a:off x="539640" y="824040"/>
            <a:ext cx="8064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Прямоугольник 4"/>
          <p:cNvSpPr/>
          <p:nvPr/>
        </p:nvSpPr>
        <p:spPr>
          <a:xfrm>
            <a:off x="366840" y="915840"/>
            <a:ext cx="219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mbria"/>
              </a:rPr>
              <a:t>Решение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Прямоугольник 5"/>
          <p:cNvSpPr/>
          <p:nvPr/>
        </p:nvSpPr>
        <p:spPr>
          <a:xfrm>
            <a:off x="475920" y="1419120"/>
            <a:ext cx="25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1. если </a:t>
            </a: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a ≠ 0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Прямоугольник 7"/>
          <p:cNvSpPr/>
          <p:nvPr/>
        </p:nvSpPr>
        <p:spPr>
          <a:xfrm>
            <a:off x="453960" y="2025720"/>
            <a:ext cx="25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если </a:t>
            </a: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a = 0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Прямоугольник 8"/>
          <p:cNvSpPr/>
          <p:nvPr/>
        </p:nvSpPr>
        <p:spPr>
          <a:xfrm>
            <a:off x="2933280" y="2120760"/>
            <a:ext cx="57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x = 1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– </a:t>
            </a: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не имеет решений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Прямоугольник 9" descr=""/>
          <p:cNvPicPr/>
          <p:nvPr/>
        </p:nvPicPr>
        <p:blipFill>
          <a:blip r:embed="rId1"/>
          <a:stretch/>
        </p:blipFill>
        <p:spPr>
          <a:xfrm>
            <a:off x="469800" y="3024360"/>
            <a:ext cx="7991640" cy="480960"/>
          </a:xfrm>
          <a:prstGeom prst="rect">
            <a:avLst/>
          </a:prstGeom>
          <a:ln w="0">
            <a:noFill/>
          </a:ln>
        </p:spPr>
      </p:pic>
      <p:pic>
        <p:nvPicPr>
          <p:cNvPr id="227" name="TextBox 11" descr=""/>
          <p:cNvPicPr/>
          <p:nvPr/>
        </p:nvPicPr>
        <p:blipFill>
          <a:blip r:embed="rId2"/>
          <a:stretch/>
        </p:blipFill>
        <p:spPr>
          <a:xfrm>
            <a:off x="2846520" y="1189080"/>
            <a:ext cx="1439640" cy="90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468360" y="3398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Пример </a:t>
            </a: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2</a:t>
            </a: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Решить уравнение  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ru-RU" sz="1800" spc="-1" strike="noStrike" baseline="30000">
                <a:solidFill>
                  <a:srgbClr val="ff0000"/>
                </a:solidFill>
                <a:latin typeface="Cambria"/>
              </a:rPr>
              <a:t>2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x </a:t>
            </a: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–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 1 = x + a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Прямая соединительная линия 3"/>
          <p:cNvSpPr/>
          <p:nvPr/>
        </p:nvSpPr>
        <p:spPr>
          <a:xfrm>
            <a:off x="539640" y="824040"/>
            <a:ext cx="8064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Прямоугольник 4"/>
          <p:cNvSpPr/>
          <p:nvPr/>
        </p:nvSpPr>
        <p:spPr>
          <a:xfrm>
            <a:off x="413640" y="91584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Прямоугольник 9" descr=""/>
          <p:cNvPicPr/>
          <p:nvPr/>
        </p:nvPicPr>
        <p:blipFill>
          <a:blip r:embed="rId1"/>
          <a:stretch/>
        </p:blipFill>
        <p:spPr>
          <a:xfrm>
            <a:off x="469800" y="3895560"/>
            <a:ext cx="799164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2"/>
          <p:cNvSpPr/>
          <p:nvPr/>
        </p:nvSpPr>
        <p:spPr>
          <a:xfrm>
            <a:off x="468360" y="1138320"/>
            <a:ext cx="21463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1 =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+ 1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1) =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+ 1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Прямоугольник 10"/>
          <p:cNvSpPr/>
          <p:nvPr/>
        </p:nvSpPr>
        <p:spPr>
          <a:xfrm>
            <a:off x="550800" y="2433600"/>
            <a:ext cx="33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если 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ru-RU" sz="1800" spc="-1" strike="noStrike" baseline="30000">
                <a:solidFill>
                  <a:srgbClr val="ff0000"/>
                </a:solidFill>
                <a:latin typeface="Cambria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 – 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1 ≠ 0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, то есть 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a ≠ ±1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TextBox 11" descr=""/>
          <p:cNvPicPr/>
          <p:nvPr/>
        </p:nvPicPr>
        <p:blipFill>
          <a:blip r:embed="rId2"/>
          <a:stretch/>
        </p:blipFill>
        <p:spPr>
          <a:xfrm>
            <a:off x="3833640" y="2292480"/>
            <a:ext cx="131148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TextBox 12" descr=""/>
          <p:cNvPicPr/>
          <p:nvPr/>
        </p:nvPicPr>
        <p:blipFill>
          <a:blip r:embed="rId3"/>
          <a:stretch/>
        </p:blipFill>
        <p:spPr>
          <a:xfrm>
            <a:off x="5005440" y="2292480"/>
            <a:ext cx="1755720" cy="60948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13"/>
          <p:cNvSpPr/>
          <p:nvPr/>
        </p:nvSpPr>
        <p:spPr>
          <a:xfrm>
            <a:off x="468360" y="2940120"/>
            <a:ext cx="32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если 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a = 1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, то есть 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0 · x = 2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Прямоугольник 14"/>
          <p:cNvSpPr/>
          <p:nvPr/>
        </p:nvSpPr>
        <p:spPr>
          <a:xfrm>
            <a:off x="3673440" y="2940120"/>
            <a:ext cx="37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уравнение не имеет решений;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Прямоугольник 15"/>
          <p:cNvSpPr/>
          <p:nvPr/>
        </p:nvSpPr>
        <p:spPr>
          <a:xfrm>
            <a:off x="468360" y="3435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3. если 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a = –1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, то есть 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0 · x = 0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TextBox 16" descr=""/>
          <p:cNvPicPr/>
          <p:nvPr/>
        </p:nvPicPr>
        <p:blipFill>
          <a:blip r:embed="rId4"/>
          <a:stretch/>
        </p:blipFill>
        <p:spPr>
          <a:xfrm>
            <a:off x="3822840" y="3438360"/>
            <a:ext cx="852480" cy="365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Прямоугольник 1" descr=""/>
          <p:cNvPicPr/>
          <p:nvPr/>
        </p:nvPicPr>
        <p:blipFill>
          <a:blip r:embed="rId1"/>
          <a:stretch/>
        </p:blipFill>
        <p:spPr>
          <a:xfrm>
            <a:off x="469800" y="341280"/>
            <a:ext cx="4821480" cy="48096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ая соединительная линия 3"/>
          <p:cNvSpPr/>
          <p:nvPr/>
        </p:nvSpPr>
        <p:spPr>
          <a:xfrm>
            <a:off x="539640" y="824040"/>
            <a:ext cx="8064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Прямоугольник 4"/>
          <p:cNvSpPr/>
          <p:nvPr/>
        </p:nvSpPr>
        <p:spPr>
          <a:xfrm>
            <a:off x="413640" y="91584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468360" y="1138320"/>
            <a:ext cx="21463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ДЗ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≠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≠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Прямоугольник 10"/>
          <p:cNvSpPr/>
          <p:nvPr/>
        </p:nvSpPr>
        <p:spPr>
          <a:xfrm>
            <a:off x="474840" y="243360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2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0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2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468360" y="30798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х</a:t>
            </a: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≠</a:t>
            </a: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4</a:t>
            </a: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2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≠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≠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Прямоугольник 6"/>
          <p:cNvSpPr/>
          <p:nvPr/>
        </p:nvSpPr>
        <p:spPr>
          <a:xfrm>
            <a:off x="2879640" y="1138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а</a:t>
            </a: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≠</a:t>
            </a: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: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x = 2a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a = 2</a:t>
            </a: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: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уравнение не имеет решений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Прямоугольник 7"/>
          <p:cNvSpPr/>
          <p:nvPr/>
        </p:nvSpPr>
        <p:spPr>
          <a:xfrm>
            <a:off x="468360" y="40035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если 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≠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2, то уравнение имеет единственное решение x = 2a;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если a = 2, то уравнение не имеет решений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468360" y="3398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Пример </a:t>
            </a: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4</a:t>
            </a: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Решить уравнени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|x </a:t>
            </a: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–</a:t>
            </a: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 a| = 2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Прямая соединительная линия 3"/>
          <p:cNvSpPr/>
          <p:nvPr/>
        </p:nvSpPr>
        <p:spPr>
          <a:xfrm>
            <a:off x="539640" y="824040"/>
            <a:ext cx="8064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Прямоугольник 4"/>
          <p:cNvSpPr/>
          <p:nvPr/>
        </p:nvSpPr>
        <p:spPr>
          <a:xfrm>
            <a:off x="413640" y="91584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TextBox 8" descr=""/>
          <p:cNvPicPr/>
          <p:nvPr/>
        </p:nvPicPr>
        <p:blipFill>
          <a:blip r:embed="rId1"/>
          <a:stretch/>
        </p:blipFill>
        <p:spPr>
          <a:xfrm>
            <a:off x="469800" y="1298520"/>
            <a:ext cx="1346400" cy="371520"/>
          </a:xfrm>
          <a:prstGeom prst="rect">
            <a:avLst/>
          </a:prstGeom>
          <a:ln w="0">
            <a:noFill/>
          </a:ln>
        </p:spPr>
      </p:pic>
      <p:pic>
        <p:nvPicPr>
          <p:cNvPr id="252" name="TextBox 9" descr=""/>
          <p:cNvPicPr/>
          <p:nvPr/>
        </p:nvPicPr>
        <p:blipFill>
          <a:blip r:embed="rId2"/>
          <a:stretch/>
        </p:blipFill>
        <p:spPr>
          <a:xfrm>
            <a:off x="1768320" y="1298520"/>
            <a:ext cx="474840" cy="371520"/>
          </a:xfrm>
          <a:prstGeom prst="rect">
            <a:avLst/>
          </a:prstGeom>
          <a:ln w="0">
            <a:noFill/>
          </a:ln>
        </p:spPr>
      </p:pic>
      <p:pic>
        <p:nvPicPr>
          <p:cNvPr id="253" name="TextBox 12" descr=""/>
          <p:cNvPicPr/>
          <p:nvPr/>
        </p:nvPicPr>
        <p:blipFill>
          <a:blip r:embed="rId3"/>
          <a:stretch/>
        </p:blipFill>
        <p:spPr>
          <a:xfrm>
            <a:off x="2341440" y="1116000"/>
            <a:ext cx="1224000" cy="365040"/>
          </a:xfrm>
          <a:prstGeom prst="rect">
            <a:avLst/>
          </a:prstGeom>
          <a:ln w="0">
            <a:noFill/>
          </a:ln>
        </p:spPr>
      </p:pic>
      <p:pic>
        <p:nvPicPr>
          <p:cNvPr id="254" name="TextBox 13" descr=""/>
          <p:cNvPicPr/>
          <p:nvPr/>
        </p:nvPicPr>
        <p:blipFill>
          <a:blip r:embed="rId4"/>
          <a:stretch/>
        </p:blipFill>
        <p:spPr>
          <a:xfrm>
            <a:off x="2378160" y="1450800"/>
            <a:ext cx="1339920" cy="371520"/>
          </a:xfrm>
          <a:prstGeom prst="rect">
            <a:avLst/>
          </a:prstGeom>
          <a:ln w="0">
            <a:noFill/>
          </a:ln>
        </p:spPr>
      </p:pic>
      <p:sp>
        <p:nvSpPr>
          <p:cNvPr id="255" name="Левая фигурная скобка 11"/>
          <p:cNvSpPr/>
          <p:nvPr/>
        </p:nvSpPr>
        <p:spPr>
          <a:xfrm>
            <a:off x="2290680" y="1216080"/>
            <a:ext cx="98640" cy="536400"/>
          </a:xfrm>
          <a:custGeom>
            <a:avLst/>
            <a:gdLst>
              <a:gd name="textAreaLeft" fmla="*/ 63000 w 98640"/>
              <a:gd name="textAreaRight" fmla="*/ 99000 w 98640"/>
              <a:gd name="textAreaTop" fmla="*/ 20880 h 536400"/>
              <a:gd name="textAreaBottom" fmla="*/ 515520 h 53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9"/>
                  <a:pt x="10800" y="2697"/>
                </a:cubicBezTo>
                <a:lnTo>
                  <a:pt x="10800" y="8103"/>
                </a:lnTo>
                <a:cubicBezTo>
                  <a:pt x="10800" y="9452"/>
                  <a:pt x="5400" y="10800"/>
                  <a:pt x="0" y="10800"/>
                </a:cubicBezTo>
                <a:cubicBezTo>
                  <a:pt x="5400" y="10800"/>
                  <a:pt x="10800" y="12149"/>
                  <a:pt x="10800" y="13497"/>
                </a:cubicBezTo>
                <a:lnTo>
                  <a:pt x="10800" y="18903"/>
                </a:lnTo>
                <a:cubicBezTo>
                  <a:pt x="10800" y="20252"/>
                  <a:pt x="16200" y="21600"/>
                  <a:pt x="21600" y="21600"/>
                </a:cubicBezTo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6" name="TextBox 15" descr=""/>
          <p:cNvPicPr/>
          <p:nvPr/>
        </p:nvPicPr>
        <p:blipFill>
          <a:blip r:embed="rId5"/>
          <a:stretch/>
        </p:blipFill>
        <p:spPr>
          <a:xfrm>
            <a:off x="3749760" y="1298520"/>
            <a:ext cx="474480" cy="371520"/>
          </a:xfrm>
          <a:prstGeom prst="rect">
            <a:avLst/>
          </a:prstGeom>
          <a:ln w="0">
            <a:noFill/>
          </a:ln>
        </p:spPr>
      </p:pic>
      <p:pic>
        <p:nvPicPr>
          <p:cNvPr id="257" name="TextBox 16" descr=""/>
          <p:cNvPicPr/>
          <p:nvPr/>
        </p:nvPicPr>
        <p:blipFill>
          <a:blip r:embed="rId6"/>
          <a:stretch/>
        </p:blipFill>
        <p:spPr>
          <a:xfrm>
            <a:off x="4370400" y="1116000"/>
            <a:ext cx="1225440" cy="365040"/>
          </a:xfrm>
          <a:prstGeom prst="rect">
            <a:avLst/>
          </a:prstGeom>
          <a:ln w="0">
            <a:noFill/>
          </a:ln>
        </p:spPr>
      </p:pic>
      <p:pic>
        <p:nvPicPr>
          <p:cNvPr id="258" name="TextBox 17" descr=""/>
          <p:cNvPicPr/>
          <p:nvPr/>
        </p:nvPicPr>
        <p:blipFill>
          <a:blip r:embed="rId7"/>
          <a:stretch/>
        </p:blipFill>
        <p:spPr>
          <a:xfrm>
            <a:off x="4413240" y="1450800"/>
            <a:ext cx="1170000" cy="371520"/>
          </a:xfrm>
          <a:prstGeom prst="rect">
            <a:avLst/>
          </a:prstGeom>
          <a:ln w="0">
            <a:noFill/>
          </a:ln>
        </p:spPr>
      </p:pic>
      <p:sp>
        <p:nvSpPr>
          <p:cNvPr id="259" name="Левая фигурная скобка 18"/>
          <p:cNvSpPr/>
          <p:nvPr/>
        </p:nvSpPr>
        <p:spPr>
          <a:xfrm>
            <a:off x="4322880" y="1216080"/>
            <a:ext cx="98280" cy="536400"/>
          </a:xfrm>
          <a:custGeom>
            <a:avLst/>
            <a:gdLst>
              <a:gd name="textAreaLeft" fmla="*/ 63000 w 98280"/>
              <a:gd name="textAreaRight" fmla="*/ 98640 w 98280"/>
              <a:gd name="textAreaTop" fmla="*/ 20880 h 536400"/>
              <a:gd name="textAreaBottom" fmla="*/ 515520 h 53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9"/>
                  <a:pt x="10800" y="2697"/>
                </a:cubicBezTo>
                <a:lnTo>
                  <a:pt x="10800" y="8103"/>
                </a:lnTo>
                <a:cubicBezTo>
                  <a:pt x="10800" y="9452"/>
                  <a:pt x="5400" y="10800"/>
                  <a:pt x="0" y="10800"/>
                </a:cubicBezTo>
                <a:cubicBezTo>
                  <a:pt x="5400" y="10800"/>
                  <a:pt x="10800" y="12149"/>
                  <a:pt x="10800" y="13497"/>
                </a:cubicBezTo>
                <a:lnTo>
                  <a:pt x="10800" y="18903"/>
                </a:lnTo>
                <a:cubicBezTo>
                  <a:pt x="10800" y="20252"/>
                  <a:pt x="16200" y="21600"/>
                  <a:pt x="21600" y="21600"/>
                </a:cubicBezTo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Прямоугольник 14"/>
          <p:cNvSpPr/>
          <p:nvPr/>
        </p:nvSpPr>
        <p:spPr>
          <a:xfrm>
            <a:off x="601560" y="2017800"/>
            <a:ext cx="204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x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= a + 2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x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= a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2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Прямоугольник 19"/>
          <p:cNvSpPr/>
          <p:nvPr/>
        </p:nvSpPr>
        <p:spPr>
          <a:xfrm>
            <a:off x="468360" y="2558880"/>
            <a:ext cx="295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mbria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x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= a + 2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x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= a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2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7960" y="457200"/>
            <a:ext cx="644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7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07960" y="1620360"/>
            <a:ext cx="64468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3T17:16:42Z</dcterms:created>
  <dc:creator>Knop</dc:creator>
  <dc:description/>
  <dc:language>en-US</dc:language>
  <cp:lastModifiedBy>Professional</cp:lastModifiedBy>
  <dcterms:modified xsi:type="dcterms:W3CDTF">2024-04-07T14:21:20Z</dcterms:modified>
  <cp:revision>26</cp:revision>
  <dc:subject/>
  <dc:title>Презентация PowerPoint</dc:title>
</cp:coreProperties>
</file>