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4BE-8A52-4D74-A648-5B5AF4CC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43E-3F0C-4B08-9FC5-97A504A9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936-CB75-4364-8837-16F32646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FA2-14E2-4AFC-8D5E-F98D89F3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B8B-C3F8-4BD0-829A-E5B36518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6CA-BBEB-476D-B479-AE4142E5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9FD4-E34E-4CE0-A784-8B0A8541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6BF-E4F7-47E9-A92C-F2A00FA5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76CD-1A24-4DD7-B0A6-16AF31E5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3E5-9BA4-45FB-9B75-D74EF9DB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B7D-D250-4269-9094-74B99863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91F-52B1-46BA-9C5E-D5CA02F7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2"/>
          <p:cNvSpPr/>
          <p:nvPr/>
        </p:nvSpPr>
        <p:spPr>
          <a:xfrm>
            <a:off x="228600" y="228600"/>
            <a:ext cx="8686800" cy="6477120"/>
          </a:xfrm>
          <a:prstGeom prst="roundRect">
            <a:avLst>
              <a:gd name="adj" fmla="val 8213"/>
            </a:avLst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4916-F666-41B0-A14F-1FAC4D982C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223"/>
          <p:cNvPicPr/>
          <p:nvPr/>
        </p:nvPicPr>
        <p:blipFill>
          <a:blip r:embed="rId4"/>
          <a:stretch/>
        </p:blipFill>
        <p:spPr>
          <a:xfrm>
            <a:off x="152280" y="152280"/>
            <a:ext cx="1067040" cy="101916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28600" y="228600"/>
            <a:ext cx="8915400" cy="6527880"/>
            <a:chOff x="228600" y="228600"/>
            <a:chExt cx="8915400" cy="6527880"/>
          </a:xfrm>
        </p:grpSpPr>
        <p:sp>
          <p:nvSpPr>
            <p:cNvPr id="44" name="Freeform 7"/>
            <p:cNvSpPr/>
            <p:nvPr/>
          </p:nvSpPr>
          <p:spPr>
            <a:xfrm>
              <a:off x="228600" y="228600"/>
              <a:ext cx="8534520" cy="553716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5537160"/>
                <a:gd name="textAreaBottom" fmla="*/ 5537520 h 5537160"/>
              </a:gdLst>
              <a:ahLst/>
              <a:rect l="textAreaLeft" t="textAreaTop" r="textAreaRight" b="textAreaBottom"/>
              <a:pathLst>
                <a:path w="5040" h="3200">
                  <a:moveTo>
                    <a:pt x="0" y="2976"/>
                  </a:moveTo>
                  <a:cubicBezTo>
                    <a:pt x="136" y="2604"/>
                    <a:pt x="272" y="2232"/>
                    <a:pt x="432" y="2208"/>
                  </a:cubicBezTo>
                  <a:cubicBezTo>
                    <a:pt x="592" y="2184"/>
                    <a:pt x="192" y="3200"/>
                    <a:pt x="960" y="2832"/>
                  </a:cubicBezTo>
                  <a:cubicBezTo>
                    <a:pt x="1728" y="2464"/>
                    <a:pt x="3384" y="1232"/>
                    <a:pt x="5040" y="0"/>
                  </a:cubicBezTo>
                </a:path>
              </a:pathLst>
            </a:custGeom>
            <a:noFill/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57200" y="533520"/>
              <a:ext cx="8610480" cy="5537160"/>
            </a:xfrm>
            <a:custGeom>
              <a:avLst/>
              <a:gdLst>
                <a:gd name="textAreaLeft" fmla="*/ 0 w 8610480"/>
                <a:gd name="textAreaRight" fmla="*/ 8610840 w 8610480"/>
                <a:gd name="textAreaTop" fmla="*/ 0 h 5537160"/>
                <a:gd name="textAreaBottom" fmla="*/ 5537520 h 5537160"/>
              </a:gdLst>
              <a:ahLst/>
              <a:rect l="textAreaLeft" t="textAreaTop" r="textAreaRight" b="textAreaBottom"/>
              <a:pathLst>
                <a:path w="5040" h="3200">
                  <a:moveTo>
                    <a:pt x="0" y="2976"/>
                  </a:moveTo>
                  <a:cubicBezTo>
                    <a:pt x="136" y="2604"/>
                    <a:pt x="272" y="2232"/>
                    <a:pt x="432" y="2208"/>
                  </a:cubicBezTo>
                  <a:cubicBezTo>
                    <a:pt x="592" y="2184"/>
                    <a:pt x="192" y="3200"/>
                    <a:pt x="960" y="2832"/>
                  </a:cubicBezTo>
                  <a:cubicBezTo>
                    <a:pt x="1728" y="2464"/>
                    <a:pt x="3384" y="1232"/>
                    <a:pt x="5040" y="0"/>
                  </a:cubicBezTo>
                </a:path>
              </a:pathLst>
            </a:custGeom>
            <a:noFill/>
            <a:ln w="9360">
              <a:solidFill>
                <a:srgbClr val="9873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685800" y="1066680"/>
              <a:ext cx="8458200" cy="530856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308560"/>
                <a:gd name="textAreaBottom" fmla="*/ 5308920 h 5308560"/>
              </a:gdLst>
              <a:ahLst/>
              <a:rect l="textAreaLeft" t="textAreaTop" r="textAreaRight" b="textAreaBottom"/>
              <a:pathLst>
                <a:path w="5040" h="3200">
                  <a:moveTo>
                    <a:pt x="0" y="2976"/>
                  </a:moveTo>
                  <a:cubicBezTo>
                    <a:pt x="136" y="2604"/>
                    <a:pt x="272" y="2232"/>
                    <a:pt x="432" y="2208"/>
                  </a:cubicBezTo>
                  <a:cubicBezTo>
                    <a:pt x="592" y="2184"/>
                    <a:pt x="192" y="3200"/>
                    <a:pt x="960" y="2832"/>
                  </a:cubicBezTo>
                  <a:cubicBezTo>
                    <a:pt x="1728" y="2464"/>
                    <a:pt x="3384" y="1232"/>
                    <a:pt x="5040" y="0"/>
                  </a:cubicBezTo>
                </a:path>
              </a:pathLst>
            </a:custGeom>
            <a:noFill/>
            <a:ln w="25560">
              <a:solidFill>
                <a:srgbClr val="9e9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066680" y="1676520"/>
              <a:ext cx="8001000" cy="5079960"/>
            </a:xfrm>
            <a:custGeom>
              <a:avLst/>
              <a:gdLst>
                <a:gd name="textAreaLeft" fmla="*/ 0 w 8001000"/>
                <a:gd name="textAreaRight" fmla="*/ 8001360 w 8001000"/>
                <a:gd name="textAreaTop" fmla="*/ 0 h 5079960"/>
                <a:gd name="textAreaBottom" fmla="*/ 5080320 h 5079960"/>
              </a:gdLst>
              <a:ahLst/>
              <a:rect l="textAreaLeft" t="textAreaTop" r="textAreaRight" b="textAreaBottom"/>
              <a:pathLst>
                <a:path w="5040" h="3200">
                  <a:moveTo>
                    <a:pt x="0" y="2976"/>
                  </a:moveTo>
                  <a:cubicBezTo>
                    <a:pt x="136" y="2604"/>
                    <a:pt x="272" y="2232"/>
                    <a:pt x="432" y="2208"/>
                  </a:cubicBezTo>
                  <a:cubicBezTo>
                    <a:pt x="592" y="2184"/>
                    <a:pt x="192" y="3200"/>
                    <a:pt x="960" y="2832"/>
                  </a:cubicBezTo>
                  <a:cubicBezTo>
                    <a:pt x="1728" y="2464"/>
                    <a:pt x="3384" y="1232"/>
                    <a:pt x="5040" y="0"/>
                  </a:cubicBezTo>
                </a:path>
              </a:pathLst>
            </a:custGeom>
            <a:noFill/>
            <a:ln w="25560">
              <a:solidFill>
                <a:srgbClr val="bcb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AutoShape 12"/>
          <p:cNvSpPr/>
          <p:nvPr/>
        </p:nvSpPr>
        <p:spPr>
          <a:xfrm>
            <a:off x="533520" y="1295280"/>
            <a:ext cx="8076960" cy="3353040"/>
          </a:xfrm>
          <a:prstGeom prst="roundRect">
            <a:avLst>
              <a:gd name="adj" fmla="val 9755"/>
            </a:avLst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223"/>
          <p:cNvPicPr/>
          <p:nvPr/>
        </p:nvPicPr>
        <p:blipFill>
          <a:blip r:embed="rId3"/>
          <a:stretch/>
        </p:blipFill>
        <p:spPr>
          <a:xfrm>
            <a:off x="7086600" y="4800600"/>
            <a:ext cx="1371600" cy="130968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pic>
        <p:nvPicPr>
          <p:cNvPr id="50" name="Picture 25" descr="43"/>
          <p:cNvPicPr/>
          <p:nvPr/>
        </p:nvPicPr>
        <p:blipFill>
          <a:blip r:embed="rId4"/>
          <a:stretch/>
        </p:blipFill>
        <p:spPr>
          <a:xfrm>
            <a:off x="3048120" y="3352680"/>
            <a:ext cx="2904840" cy="228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пользование мыслительных карт Тони Бьюз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114440" y="52578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воспитатель МДОУ №122 г.Макеевка  Назаренко Ю.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762120" y="533520"/>
            <a:ext cx="678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Комунальное муниципальное дошкольное образовательное учреждение №12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города Макее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143000" y="762120"/>
            <a:ext cx="746748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ПРАВИЛА НА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1. Используются только цветные карандаши, маркеры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. Основная идея, проблема или слово располагается в цент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3. Для изображения центральной идеи можно использовать рисунки, карти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4. Каждая главная ветвь имеет свой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5. Главные ветви соединяются с центральной идеей, а ветви второго, третьего и т.д. порядка соединяются с главными ветв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6. Ветви должны быть изогнутыми, а не прямыми (как ветви дерев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7.  Над каждой линией – ветвью пишется только одно ключевое сло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8. Для лучшего запоминания и усвоения желательно использовать рисунки, картинки, ассоциации о каждом сл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9. Разросшиеся ветви можно заключать в контуры, чтобы они не смешивались с соседними ветв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447920" y="914400"/>
            <a:ext cx="655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СВОЙ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агляд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влека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апомина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воеврем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озможность пересмо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990720" y="990720"/>
            <a:ext cx="7619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ВОЗМОЖ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высить мотивацию, качество знаний, конкурентно спосо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звивать  предметные и коммуникативные компетенции, творческие спосо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ктивизировать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ыявлять причины затруд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орректировать знания воспита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295280" y="182880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" descr=""/>
          <p:cNvPicPr/>
          <p:nvPr/>
        </p:nvPicPr>
        <p:blipFill>
          <a:blip r:embed="rId1"/>
          <a:stretch/>
        </p:blipFill>
        <p:spPr>
          <a:xfrm>
            <a:off x="12600" y="3962520"/>
            <a:ext cx="914400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4587840" y="3962520"/>
            <a:ext cx="3952800" cy="2590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1066680" y="1066680"/>
            <a:ext cx="7473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Мыслительная карта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от англ.сл.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MindMap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 – это техника представления любого процесса или события, мысли или идеи в комплексной, систематизируемой графической фор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2" descr=""/>
          <p:cNvPicPr/>
          <p:nvPr/>
        </p:nvPicPr>
        <p:blipFill>
          <a:blip r:embed="rId1"/>
          <a:stretch/>
        </p:blipFill>
        <p:spPr>
          <a:xfrm>
            <a:off x="1320840" y="800280"/>
            <a:ext cx="6756480" cy="5067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2554920" y="5867280"/>
            <a:ext cx="485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ТОНИ БЬЮЗЕ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0" y="576360"/>
            <a:ext cx="91440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rcRect l="0" t="18908" r="0" b="0"/>
          <a:stretch/>
        </p:blipFill>
        <p:spPr>
          <a:xfrm>
            <a:off x="228600" y="1457280"/>
            <a:ext cx="8839080" cy="537696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523880" y="4572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Преиму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990720" y="990720"/>
            <a:ext cx="7010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Могут использоваться для</a:t>
            </a:r>
            <a:r>
              <a:rPr b="0" i="1" lang="ru-RU" sz="2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зучение нов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акрепл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бобщ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ланирование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аписание доклада, научно-исследов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дготовка проекта,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порядочивание и систематизац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онспект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950760" y="762120"/>
            <a:ext cx="77360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858960" y="762120"/>
            <a:ext cx="767556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G:\итоговый круглый стол\наши МК\2015-06-03 19.08.52.jpg"/>
          <p:cNvPicPr/>
          <p:nvPr/>
        </p:nvPicPr>
        <p:blipFill>
          <a:blip r:embed="rId1"/>
          <a:srcRect l="1561" t="7498" r="2814" b="3752"/>
          <a:stretch/>
        </p:blipFill>
        <p:spPr>
          <a:xfrm>
            <a:off x="714240" y="838080"/>
            <a:ext cx="804096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19-03-16T11:30:14Z</dcterms:modified>
  <cp:revision>20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