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639-B77D-4F8F-91CC-0B83113B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984-7543-418C-BDD1-5EF3D9C0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5CE-69B6-4873-B2F9-1B0C7958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AEE-8343-48BA-8CF8-BF5A8EDC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D44-0D42-46F0-9DB2-23D6580B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749-741A-4A52-97A0-753B8B5B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87D-3D59-45E8-8A6A-F791104A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6BF-28EE-431E-A4C7-F1EB1409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1EB-A6CA-4BF9-8848-9B5A4761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64C-7C99-4075-B99A-3F49BFED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6F5-924C-471B-B649-753859CD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57C-8C41-487A-A663-B1C860A4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EB0A-E408-48B0-B363-ADAB2777DB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5537160"/>
                <a:gd name="textAreaBottom" fmla="*/ 5537520 h 55371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custGeom>
              <a:avLst/>
              <a:gdLst>
                <a:gd name="textAreaLeft" fmla="*/ 0 w 8610480"/>
                <a:gd name="textAreaRight" fmla="*/ 8610840 w 8610480"/>
                <a:gd name="textAreaTop" fmla="*/ 0 h 5537160"/>
                <a:gd name="textAreaBottom" fmla="*/ 5537520 h 55371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308560"/>
                <a:gd name="textAreaBottom" fmla="*/ 5308920 h 53085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custGeom>
              <a:avLst/>
              <a:gdLst>
                <a:gd name="textAreaLeft" fmla="*/ 0 w 8001000"/>
                <a:gd name="textAreaRight" fmla="*/ 8001360 w 8001000"/>
                <a:gd name="textAreaTop" fmla="*/ 0 h 5079960"/>
                <a:gd name="textAreaBottom" fmla="*/ 5080320 h 50799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пользование мыслительных карт Тони Бьюз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14440" y="52578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воспитатель МДОУ №122 г.Макеевка  Назаренко Ю.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762120" y="53352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Комунальное муниципальное дошкольное образовательное учреждение №1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города Макее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43000" y="762120"/>
            <a:ext cx="746748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АВИЛА НА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. Используются только цветные карандаши, маркер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. Основная идея, проблема или слово располагается в цент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3. Для изображения центральной идеи можно использовать рисунки, карти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4. Каждая главная ветвь имеет сво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5. Главные ветви соединяются с центральной идеей, а ветви второго, третьего и т.д. порядка соединяются с главными ветв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6. Ветви должны быть изогнутыми, а не прямыми (как ветви дере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7.  Над каждой линией – ветвью пишется только одно ключевое сл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8. Для лучшего запоминания и усвоения желательно использовать рисунки, картинки, ассоциации о каждом с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9. Разросшиеся ветви можно заключать в контуры, чтобы они не смешивались с соседними ветв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447920" y="914400"/>
            <a:ext cx="655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гля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ивлек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поминае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воевре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зможность пересмо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990720" y="990720"/>
            <a:ext cx="761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ВОЗМОЖ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высить мотивацию, качество знаний, конкурентно 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вивать  предметные и коммуникативные компетенции, творчески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ктивизировать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являть причины затруд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орректировать знания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295280" y="18288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12600" y="3962520"/>
            <a:ext cx="914400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4587840" y="3962520"/>
            <a:ext cx="3952800" cy="2590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066680" y="1066680"/>
            <a:ext cx="7473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Мыслительная карта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от англ.сл.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indMap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 – это техника представления любого процесса или события, мысли или идеи в комплексной, систематизируемой графической ф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1320840" y="800280"/>
            <a:ext cx="6756480" cy="5067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2554920" y="5867280"/>
            <a:ext cx="485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ТОНИ БЬЮЗ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0" y="576360"/>
            <a:ext cx="9144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rcRect l="0" t="18908" r="0" b="0"/>
          <a:stretch/>
        </p:blipFill>
        <p:spPr>
          <a:xfrm>
            <a:off x="228600" y="1457280"/>
            <a:ext cx="8839080" cy="5376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52388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еиму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990720" y="990720"/>
            <a:ext cx="7010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Могут использоваться для</a:t>
            </a:r>
            <a:r>
              <a:rPr b="0" i="1" lang="ru-RU" sz="2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зучение нов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Закрепл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бобщ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ланировани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аписание доклада, научно-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проекта,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порядочивание и систематиз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онспект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950760" y="762120"/>
            <a:ext cx="77360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858960" y="762120"/>
            <a:ext cx="767556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G:\итоговый круглый стол\наши МК\2015-06-03 19.08.52.jpg"/>
          <p:cNvPicPr/>
          <p:nvPr/>
        </p:nvPicPr>
        <p:blipFill>
          <a:blip r:embed="rId1"/>
          <a:srcRect l="1561" t="7498" r="2814" b="3752"/>
          <a:stretch/>
        </p:blipFill>
        <p:spPr>
          <a:xfrm>
            <a:off x="714240" y="838080"/>
            <a:ext cx="80409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9-03-16T11:30:14Z</dcterms:modified>
  <cp:revision>20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