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44.png" ContentType="image/png"/>
  <Override PartName="/ppt/media/image40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2022-B488-4BE0-A8F4-9C37DDC1F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0DE7-0756-4D86-8158-666D9D69A6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7DBB-CEF9-4715-AB3E-6FD611591B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682-28F1-45E2-94EE-ED744F89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258-D253-4B5E-8723-F6A755F5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37D-06E2-4959-B04D-84658F9E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E59-D20D-4E70-B01E-7DCAEB67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0E27-A0EE-4AEB-962C-8A784108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8C55-EFCA-483F-969E-D984A7EC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2A2D-DC72-4A0C-AF76-706C506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DA6F-470A-49AC-B417-9DAE32B7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71BA-78A1-441D-A0DB-B278F14F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7F0F-3B9F-4FAB-912D-D1A88201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FB87-5DD3-487E-A401-4995E72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095-36C5-4A0C-8A3F-FDD25CA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E012-E8C8-463E-83FB-68D4853D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6BD-4142-4D02-AAE9-3B7B22C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13C9-94FE-4C6A-B068-FD1865A2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4EAD-1A0D-4EE7-94D1-458B51E3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0322-143C-445B-A300-7E7B0038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F37-25B2-41F0-83F9-BFCB6FD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F21-81DF-4DCF-A258-476452B1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469-6900-4FB8-96E3-EB21C915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328-1C36-4F6E-BCEA-7B5C6F6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DDF-EDE2-4E14-AF7D-AE784CD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B3D-A70A-4665-9460-ABC5AD17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B61-D1DA-4AA8-8FFF-0DB12388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BCBE-DC95-4061-80CB-6097C5FB8E5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4AF1-3AAA-43F3-ADCA-19C8E6D89B5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62120" y="849240"/>
            <a:ext cx="86090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и художественно – прикладной обработки материал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Ажурная скульптур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Администратор.BEST-1L978XSESC\Downloads\пров 2.jpg"/>
          <p:cNvPicPr/>
          <p:nvPr/>
        </p:nvPicPr>
        <p:blipFill>
          <a:blip r:embed="rId2"/>
          <a:stretch/>
        </p:blipFill>
        <p:spPr>
          <a:xfrm>
            <a:off x="4838760" y="3632040"/>
            <a:ext cx="3147840" cy="203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Администратор.BEST-1L978XSESC\Downloads\пров 3.jpg"/>
          <p:cNvPicPr/>
          <p:nvPr/>
        </p:nvPicPr>
        <p:blipFill>
          <a:blip r:embed="rId3"/>
          <a:stretch/>
        </p:blipFill>
        <p:spPr>
          <a:xfrm>
            <a:off x="3916440" y="544680"/>
            <a:ext cx="3722760" cy="279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Администратор.BEST-1L978XSESC\Downloads\пров 4.jpg"/>
          <p:cNvPicPr/>
          <p:nvPr/>
        </p:nvPicPr>
        <p:blipFill>
          <a:blip r:embed="rId4"/>
          <a:stretch/>
        </p:blipFill>
        <p:spPr>
          <a:xfrm>
            <a:off x="785880" y="3763800"/>
            <a:ext cx="324144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Администратор.BEST-1L978XSESC\Downloads\пров 1.jpg"/>
          <p:cNvPicPr/>
          <p:nvPr/>
        </p:nvPicPr>
        <p:blipFill>
          <a:blip r:embed="rId5"/>
          <a:stretch/>
        </p:blipFill>
        <p:spPr>
          <a:xfrm>
            <a:off x="404640" y="1100160"/>
            <a:ext cx="305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-250920" y="1517760"/>
            <a:ext cx="2557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-130320" y="1490760"/>
            <a:ext cx="92566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Ювелир</a:t>
            </a:r>
            <a:r>
              <a:rPr b="0" lang="ru-RU" sz="6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— специалист по изготовлению и ремонту ювелирных украшен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Украш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 качестве амулета или талисма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Застегивается или скрепляется одежда, обувь или пояс и укрепляется причес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-266760" y="-88920"/>
            <a:ext cx="97664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Образцы элементов из проволоки для дизайна поделки</a:t>
            </a: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C:\Users\user\Desktop\Урок\Медведь\Обработанные\Слайд 15.jpg"/>
          <p:cNvPicPr/>
          <p:nvPr/>
        </p:nvPicPr>
        <p:blipFill>
          <a:blip r:embed="rId1"/>
          <a:stretch/>
        </p:blipFill>
        <p:spPr>
          <a:xfrm>
            <a:off x="127080" y="1131840"/>
            <a:ext cx="887724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Цепоч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30891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87280" y="69192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почка состоит из множества замкнутых звенье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Формы цепочек бывают самые ра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Картинка 29 из 8532"/>
          <p:cNvPicPr/>
          <p:nvPr/>
        </p:nvPicPr>
        <p:blipFill>
          <a:blip r:embed="rId2"/>
          <a:stretch/>
        </p:blipFill>
        <p:spPr>
          <a:xfrm>
            <a:off x="3708360" y="2276640"/>
            <a:ext cx="3311640" cy="3286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Картинка 40 из 8532"/>
          <p:cNvPicPr/>
          <p:nvPr/>
        </p:nvPicPr>
        <p:blipFill>
          <a:blip r:embed="rId3"/>
          <a:stretch/>
        </p:blipFill>
        <p:spPr>
          <a:xfrm>
            <a:off x="7026120" y="2556000"/>
            <a:ext cx="1995480" cy="381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Картинка 64 из 8532"/>
          <p:cNvPicPr/>
          <p:nvPr/>
        </p:nvPicPr>
        <p:blipFill>
          <a:blip r:embed="rId4"/>
          <a:stretch/>
        </p:blipFill>
        <p:spPr>
          <a:xfrm>
            <a:off x="1332000" y="4888080"/>
            <a:ext cx="2381040" cy="190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goldjewelry"/>
          <p:cNvPicPr/>
          <p:nvPr/>
        </p:nvPicPr>
        <p:blipFill>
          <a:blip r:embed="rId5"/>
          <a:stretch/>
        </p:blipFill>
        <p:spPr>
          <a:xfrm>
            <a:off x="250920" y="2421000"/>
            <a:ext cx="32414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1401840" y="189000"/>
            <a:ext cx="685152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Картинка 96 из 8532"/>
          <p:cNvPicPr/>
          <p:nvPr/>
        </p:nvPicPr>
        <p:blipFill>
          <a:blip r:embed="rId2"/>
          <a:stretch/>
        </p:blipFill>
        <p:spPr>
          <a:xfrm>
            <a:off x="468360" y="907920"/>
            <a:ext cx="2266920" cy="3810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123 из 7686"/>
          <p:cNvPicPr/>
          <p:nvPr/>
        </p:nvPicPr>
        <p:blipFill>
          <a:blip r:embed="rId3"/>
          <a:stretch/>
        </p:blipFill>
        <p:spPr>
          <a:xfrm>
            <a:off x="3132000" y="2349360"/>
            <a:ext cx="2664000" cy="316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Картинка 159 из 5509"/>
          <p:cNvPicPr/>
          <p:nvPr/>
        </p:nvPicPr>
        <p:blipFill>
          <a:blip r:embed="rId4"/>
          <a:stretch/>
        </p:blipFill>
        <p:spPr>
          <a:xfrm>
            <a:off x="5940360" y="3357720"/>
            <a:ext cx="3006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рисунок8"/>
          <p:cNvPicPr/>
          <p:nvPr/>
        </p:nvPicPr>
        <p:blipFill>
          <a:blip r:embed="rId1"/>
          <a:stretch/>
        </p:blipFill>
        <p:spPr>
          <a:xfrm>
            <a:off x="4932360" y="666720"/>
            <a:ext cx="3995640" cy="360036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3" descr=""/>
          <p:cNvPicPr/>
          <p:nvPr/>
        </p:nvPicPr>
        <p:blipFill>
          <a:blip r:embed="rId2"/>
          <a:stretch/>
        </p:blipFill>
        <p:spPr>
          <a:xfrm>
            <a:off x="0" y="-189000"/>
            <a:ext cx="8894880" cy="932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рисунок6"/>
          <p:cNvPicPr/>
          <p:nvPr/>
        </p:nvPicPr>
        <p:blipFill>
          <a:blip r:embed="rId3"/>
          <a:stretch/>
        </p:blipFill>
        <p:spPr>
          <a:xfrm>
            <a:off x="3774960" y="42512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Картинка 96 из 8532"/>
          <p:cNvPicPr/>
          <p:nvPr/>
        </p:nvPicPr>
        <p:blipFill>
          <a:blip r:embed="rId4"/>
          <a:stretch/>
        </p:blipFill>
        <p:spPr>
          <a:xfrm>
            <a:off x="179280" y="907920"/>
            <a:ext cx="41036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95120" y="9986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74960" indent="-131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   При работе надежно закрепите заготовку с оправкой в тис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31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   Работать можно только исправным инструменто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    При отрезании заготовки нельзя подносить проволоку близко к лиц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    Нельзя держать левую руку близко к месту сгиба заготовк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    На руке, удерживающей заготовку, должна быть надета рукавиц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    Не стойте за спиной работающего и не работайте, если кто-то стоит за 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31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Администратор.BEST-1L978XSESC\Desktop\проволока конспект\скорпион\158.jpg"/>
          <p:cNvPicPr/>
          <p:nvPr/>
        </p:nvPicPr>
        <p:blipFill>
          <a:blip r:embed="rId2"/>
          <a:stretch/>
        </p:blipFill>
        <p:spPr>
          <a:xfrm>
            <a:off x="162000" y="1314360"/>
            <a:ext cx="4275000" cy="3205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Users\Администратор.BEST-1L978XSESC\Desktop\проволока конспект\скорпион\161.jpg"/>
          <p:cNvPicPr/>
          <p:nvPr/>
        </p:nvPicPr>
        <p:blipFill>
          <a:blip r:embed="rId3"/>
          <a:stretch/>
        </p:blipFill>
        <p:spPr>
          <a:xfrm>
            <a:off x="4443480" y="2604960"/>
            <a:ext cx="44812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:\Users\Администратор.BEST-1L978XSESC\Desktop\проволока конспект\скорпион\163.jpg"/>
          <p:cNvPicPr/>
          <p:nvPr/>
        </p:nvPicPr>
        <p:blipFill>
          <a:blip r:embed="rId1"/>
          <a:stretch/>
        </p:blipFill>
        <p:spPr>
          <a:xfrm>
            <a:off x="4732200" y="2909880"/>
            <a:ext cx="4067280" cy="304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C:\Users\Администратор.BEST-1L978XSESC\Desktop\проволока конспект\скорпион\162.jpg"/>
          <p:cNvPicPr/>
          <p:nvPr/>
        </p:nvPicPr>
        <p:blipFill>
          <a:blip r:embed="rId2"/>
          <a:stretch/>
        </p:blipFill>
        <p:spPr>
          <a:xfrm>
            <a:off x="407880" y="401760"/>
            <a:ext cx="40640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717480" y="1447920"/>
            <a:ext cx="860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мекалка и ум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к успеху веду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Администратор.BEST-1L978XSESC\Desktop\проволока конспект\скорпион\164.jpg"/>
          <p:cNvPicPr/>
          <p:nvPr/>
        </p:nvPicPr>
        <p:blipFill>
          <a:blip r:embed="rId1"/>
          <a:stretch/>
        </p:blipFill>
        <p:spPr>
          <a:xfrm>
            <a:off x="228600" y="504720"/>
            <a:ext cx="4325760" cy="3245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Администратор.BEST-1L978XSESC\Desktop\проволока конспект\скорпион\165.jpg"/>
          <p:cNvPicPr/>
          <p:nvPr/>
        </p:nvPicPr>
        <p:blipFill>
          <a:blip r:embed="rId2"/>
          <a:stretch/>
        </p:blipFill>
        <p:spPr>
          <a:xfrm>
            <a:off x="4502160" y="3313080"/>
            <a:ext cx="44924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Администратор.BEST-1L978XSESC\Desktop\проволока конспект\скорпион\166.jpg"/>
          <p:cNvPicPr/>
          <p:nvPr/>
        </p:nvPicPr>
        <p:blipFill>
          <a:blip r:embed="rId1"/>
          <a:stretch/>
        </p:blipFill>
        <p:spPr>
          <a:xfrm>
            <a:off x="184320" y="939960"/>
            <a:ext cx="4306680" cy="32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Администратор.BEST-1L978XSESC\Desktop\проволока конспект\скорпион\169.jpg"/>
          <p:cNvPicPr/>
          <p:nvPr/>
        </p:nvPicPr>
        <p:blipFill>
          <a:blip r:embed="rId2"/>
          <a:stretch/>
        </p:blipFill>
        <p:spPr>
          <a:xfrm>
            <a:off x="4398840" y="2894040"/>
            <a:ext cx="45738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 меня сегодня лучше всего получилос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 узнал, ч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не больше всего понравилос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Я хотел бы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927000" y="692280"/>
            <a:ext cx="701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одолжи предложе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228600" y="1417680"/>
            <a:ext cx="8686800" cy="37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1) подготовить сообщение об истории возникновения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2) составить технологическую карту изготовления любого изделия из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3) изготовить любое изделие из проволоки, используя технологическую кар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 rot="20388600">
            <a:off x="298080" y="2301120"/>
            <a:ext cx="82296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ПАСИБО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ЗА УРОК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8" descr="C:\Users\Администратор.BEST-1L978XSESC\Downloads\пробел.jpg"/>
          <p:cNvPicPr/>
          <p:nvPr/>
        </p:nvPicPr>
        <p:blipFill>
          <a:blip r:embed="rId1"/>
          <a:stretch/>
        </p:blipFill>
        <p:spPr>
          <a:xfrm>
            <a:off x="176040" y="1758960"/>
            <a:ext cx="2440080" cy="2446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9" descr="C:\Users\Администратор.BEST-1L978XSESC\Downloads\вол.jpg"/>
          <p:cNvPicPr/>
          <p:nvPr/>
        </p:nvPicPr>
        <p:blipFill>
          <a:blip r:embed="rId2"/>
          <a:stretch/>
        </p:blipFill>
        <p:spPr>
          <a:xfrm>
            <a:off x="2874960" y="2076480"/>
            <a:ext cx="3132000" cy="182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0" descr="C:\Users\Администратор.BEST-1L978XSESC\Downloads\ока.jpg"/>
          <p:cNvPicPr/>
          <p:nvPr/>
        </p:nvPicPr>
        <p:blipFill>
          <a:blip r:embed="rId3"/>
          <a:stretch/>
        </p:blipFill>
        <p:spPr>
          <a:xfrm>
            <a:off x="6170760" y="212256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94" name="TextBox 80"/>
          <p:cNvSpPr/>
          <p:nvPr/>
        </p:nvSpPr>
        <p:spPr>
          <a:xfrm>
            <a:off x="1924200" y="3743280"/>
            <a:ext cx="77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,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82"/>
          <p:cNvSpPr/>
          <p:nvPr/>
        </p:nvSpPr>
        <p:spPr>
          <a:xfrm>
            <a:off x="2616120" y="5054760"/>
            <a:ext cx="45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ОВОЛ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дминистратор.BEST-1L978XSESC\Downloads\оружие.jpg"/>
          <p:cNvPicPr/>
          <p:nvPr/>
        </p:nvPicPr>
        <p:blipFill>
          <a:blip r:embed="rId1"/>
          <a:stretch/>
        </p:blipFill>
        <p:spPr>
          <a:xfrm>
            <a:off x="5241960" y="668160"/>
            <a:ext cx="3406680" cy="272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Администратор.BEST-1L978XSESC\Downloads\изюм.jpg"/>
          <p:cNvPicPr/>
          <p:nvPr/>
        </p:nvPicPr>
        <p:blipFill>
          <a:blip r:embed="rId2"/>
          <a:stretch/>
        </p:blipFill>
        <p:spPr>
          <a:xfrm>
            <a:off x="152280" y="1222200"/>
            <a:ext cx="3637080" cy="217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3895560" y="1955880"/>
            <a:ext cx="15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5135400" y="3254400"/>
            <a:ext cx="8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,,,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2905200" y="3192480"/>
            <a:ext cx="5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,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200400" y="489600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ЗДЕЛ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Администратор.BEST-1L978XSESC\Downloads\шпион.jpg"/>
          <p:cNvPicPr/>
          <p:nvPr/>
        </p:nvPicPr>
        <p:blipFill>
          <a:blip r:embed="rId1"/>
          <a:stretch/>
        </p:blipFill>
        <p:spPr>
          <a:xfrm>
            <a:off x="5400720" y="1008000"/>
            <a:ext cx="2811240" cy="281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Администратор.BEST-1L978XSESC\Downloads\скорлупа.jpg"/>
          <p:cNvPicPr/>
          <p:nvPr/>
        </p:nvPicPr>
        <p:blipFill>
          <a:blip r:embed="rId2"/>
          <a:stretch/>
        </p:blipFill>
        <p:spPr>
          <a:xfrm>
            <a:off x="493560" y="992160"/>
            <a:ext cx="3543480" cy="27925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241800" y="3559320"/>
            <a:ext cx="7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,,,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400720" y="35593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784600" y="5124600"/>
            <a:ext cx="38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ОРПИ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-361800" y="2565360"/>
            <a:ext cx="984240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Изготовление изделия из проволоки. Модель «СКОРПИ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cb084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8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-361800" y="2565360"/>
            <a:ext cx="984240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cb084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54160" y="1982880"/>
            <a:ext cx="846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Научиться изготавливать изделие из проволоки «Скорпион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-457200" y="901800"/>
            <a:ext cx="9766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Проволока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- это металлическое изделие (полуфабрикат) большой длины, но небольшого поперечного сечения разной форм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-401760" y="-244440"/>
            <a:ext cx="9983880" cy="16351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4716360" y="1811160"/>
            <a:ext cx="4176720" cy="1584360"/>
          </a:xfrm>
          <a:prstGeom prst="downArrowCallout">
            <a:avLst>
              <a:gd name="adj1" fmla="val 65911"/>
              <a:gd name="adj2" fmla="val 65905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ыч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509760" y="3213000"/>
            <a:ext cx="790560" cy="3593880"/>
            <a:chOff x="509760" y="3213000"/>
            <a:chExt cx="790560" cy="3593880"/>
          </a:xfrm>
        </p:grpSpPr>
        <p:sp>
          <p:nvSpPr>
            <p:cNvPr id="116" name="AutoShape 5"/>
            <p:cNvSpPr/>
            <p:nvPr/>
          </p:nvSpPr>
          <p:spPr>
            <a:xfrm rot="5400000">
              <a:off x="-840960" y="4665240"/>
              <a:ext cx="3492360" cy="790560"/>
            </a:xfrm>
            <a:custGeom>
              <a:avLst/>
              <a:gdLst>
                <a:gd name="textAreaLeft" fmla="*/ 0 w 3492360"/>
                <a:gd name="textAreaRight" fmla="*/ 3492720 w 34923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 rot="16200000">
              <a:off x="-643320" y="4583520"/>
              <a:ext cx="31050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ЗОЛОТ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1979640" y="3262320"/>
            <a:ext cx="790560" cy="3592440"/>
            <a:chOff x="1979640" y="3262320"/>
            <a:chExt cx="790560" cy="3592440"/>
          </a:xfrm>
        </p:grpSpPr>
        <p:sp>
          <p:nvSpPr>
            <p:cNvPr id="119" name="AutoShape 8"/>
            <p:cNvSpPr/>
            <p:nvPr/>
          </p:nvSpPr>
          <p:spPr>
            <a:xfrm rot="5400000">
              <a:off x="682560" y="4732200"/>
              <a:ext cx="3384360" cy="790560"/>
            </a:xfrm>
            <a:custGeom>
              <a:avLst/>
              <a:gdLst>
                <a:gd name="textAreaLeft" fmla="*/ 0 w 3384360"/>
                <a:gd name="textAreaRight" fmla="*/ 3384720 w 33843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 rot="16200000">
              <a:off x="569160" y="4875840"/>
              <a:ext cx="3592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СЕРЕБР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3492360" y="3160800"/>
            <a:ext cx="790560" cy="3633480"/>
            <a:chOff x="3492360" y="3160800"/>
            <a:chExt cx="790560" cy="3633480"/>
          </a:xfrm>
        </p:grpSpPr>
        <p:sp>
          <p:nvSpPr>
            <p:cNvPr id="122" name="AutoShape 11"/>
            <p:cNvSpPr/>
            <p:nvPr/>
          </p:nvSpPr>
          <p:spPr>
            <a:xfrm rot="5400000">
              <a:off x="2135880" y="4647240"/>
              <a:ext cx="3503160" cy="790560"/>
            </a:xfrm>
            <a:custGeom>
              <a:avLst/>
              <a:gdLst>
                <a:gd name="textAreaLeft" fmla="*/ 0 w 3503160"/>
                <a:gd name="textAreaRight" fmla="*/ 3503520 w 350316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 rot="16200000">
              <a:off x="2156400" y="4704480"/>
              <a:ext cx="3592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ПЛАТ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Picture 13" descr="i?id=2567682&amp;tov=4"/>
          <p:cNvPicPr/>
          <p:nvPr/>
        </p:nvPicPr>
        <p:blipFill>
          <a:blip r:embed="rId2"/>
          <a:stretch/>
        </p:blipFill>
        <p:spPr>
          <a:xfrm>
            <a:off x="146160" y="620640"/>
            <a:ext cx="2376360" cy="12812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4"/>
          <p:cNvSpPr/>
          <p:nvPr/>
        </p:nvSpPr>
        <p:spPr>
          <a:xfrm>
            <a:off x="293760" y="1836720"/>
            <a:ext cx="4176720" cy="1582920"/>
          </a:xfrm>
          <a:prstGeom prst="downArrowCallout">
            <a:avLst>
              <a:gd name="adj1" fmla="val 65971"/>
              <a:gd name="adj2" fmla="val 65965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Драгоцен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15"/>
          <p:cNvGrpSpPr/>
          <p:nvPr/>
        </p:nvGrpSpPr>
        <p:grpSpPr>
          <a:xfrm>
            <a:off x="5003640" y="3317760"/>
            <a:ext cx="790560" cy="3495600"/>
            <a:chOff x="5003640" y="3317760"/>
            <a:chExt cx="790560" cy="3495600"/>
          </a:xfrm>
        </p:grpSpPr>
        <p:sp>
          <p:nvSpPr>
            <p:cNvPr id="127" name="AutoShape 16"/>
            <p:cNvSpPr/>
            <p:nvPr/>
          </p:nvSpPr>
          <p:spPr>
            <a:xfrm rot="5400000">
              <a:off x="3651120" y="4670280"/>
              <a:ext cx="3495600" cy="790560"/>
            </a:xfrm>
            <a:custGeom>
              <a:avLst/>
              <a:gdLst>
                <a:gd name="textAreaLeft" fmla="*/ 0 w 3495600"/>
                <a:gd name="textAreaRight" fmla="*/ 3495960 w 349560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28" y="0"/>
                  </a:lnTo>
                  <a:lnTo>
                    <a:pt x="21600" y="10800"/>
                  </a:lnTo>
                  <a:lnTo>
                    <a:pt x="1822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75b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 rot="16200000">
              <a:off x="4091760" y="4697640"/>
              <a:ext cx="2617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 Black"/>
                </a:rPr>
                <a:t>СТАЛ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" name="Group 18" descr=""/>
          <p:cNvPicPr/>
          <p:nvPr/>
        </p:nvPicPr>
        <p:blipFill>
          <a:blip r:embed="rId3"/>
          <a:stretch/>
        </p:blipFill>
        <p:spPr>
          <a:xfrm>
            <a:off x="6381720" y="3456000"/>
            <a:ext cx="903240" cy="33782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1"/>
          <p:cNvSpPr/>
          <p:nvPr/>
        </p:nvSpPr>
        <p:spPr>
          <a:xfrm rot="5400000">
            <a:off x="6496920" y="4528440"/>
            <a:ext cx="3711600" cy="792000"/>
          </a:xfrm>
          <a:custGeom>
            <a:avLst/>
            <a:gdLst>
              <a:gd name="textAreaLeft" fmla="*/ 0 w 3711600"/>
              <a:gd name="textAreaRight" fmla="*/ 3711960 w 37116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28" y="0"/>
                </a:lnTo>
                <a:lnTo>
                  <a:pt x="21600" y="10800"/>
                </a:lnTo>
                <a:lnTo>
                  <a:pt x="18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5b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 rot="16200000">
            <a:off x="6687000" y="4691520"/>
            <a:ext cx="3348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АЛЮМИ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24:08Z</dcterms:created>
  <dc:creator>Андрей Николаевич</dc:creator>
  <dc:description/>
  <dc:language>en-US</dc:language>
  <cp:lastModifiedBy>Николай Алексеев</cp:lastModifiedBy>
  <dcterms:modified xsi:type="dcterms:W3CDTF">2022-11-07T15:06:02Z</dcterms:modified>
  <cp:revision>97</cp:revision>
  <dc:subject/>
  <dc:title>Слайд 1</dc:title>
</cp:coreProperties>
</file>