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519-741C-4002-AA7D-E55A9BDF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768-4A65-42D9-AB49-69D4A7A8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85F-1C6C-4B7D-8CC0-4D826DE8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590-0D9D-4721-A9B3-1864CE78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8A9-E6B2-4270-BB18-B82D956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4E5-C8BF-47C0-8064-637F194E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EC5-F0E8-4B20-A546-B245A1F3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493-54C5-472D-B19C-F076F83A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8192-13F0-4D66-AA43-B734508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DC4B-AEE9-4840-A3CD-F7F74119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AE76-AB4D-495C-B77E-2909E4D6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C74-3203-47F7-B96B-9FD5ABA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1F0-6E0B-4BC7-925F-5B0913B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8CB-BC30-437C-974A-C673FA29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052B-E1CD-4C32-8298-A70295F6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B1BD-C3B5-4E1C-9081-300F9F45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8D4-E7DB-40B2-A359-7BDBFDC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DE5D2-4F42-467A-AF0F-98C605C3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11885-E014-40CF-AA71-8DDC2D70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93AD6-17F8-4ED8-8F91-14D17F24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3FF79-3A71-4ABF-85C7-167B4F7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E4348-C153-44AD-AD01-50D42E81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FBA-5E6D-4112-9529-28B8FBD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DC8B3-5D19-4B33-B2F4-EDCFD74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F4670-9AD3-4CB5-AA13-46731F4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41AB1-EAC9-458A-A873-F2BDEA0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702C7-4D20-4C65-91D7-51AB602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71E13-FE1F-4C98-9C83-F75BE6B9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92824-6C5D-46FF-9979-682F2BC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B0A6A-5996-478D-9525-C49CB367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2399-FBFD-43D9-AC1D-F9BC9427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F3864-E23B-479C-9838-0084C68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A39E-8660-4213-BD6C-CA45892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1F1-BBB3-43B9-AD53-ACA771B3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9D8E2-EF15-43AB-A3D9-649A300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56DF-14EF-492F-83FA-874D467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7EDD-280C-4395-87AA-C479CE5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D26B-DADB-4865-B0A7-03485936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F4A6-D294-4778-8053-304A819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697A-9E3D-4E59-ADAA-C8F4D8E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6FE5-3214-4512-9643-267B582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DE19-3AAF-4320-8300-F82105EB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3EDD-6A2F-407A-A4A5-1F8C416C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7C1ED-3590-4AD7-AFC9-76B6D008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A0F-8BDC-4FFE-96B6-E485653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343DB-94C4-40FC-87E9-A1023204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DA701-ACC6-4D07-9734-93A9210A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403C7-10BF-43E5-85BA-A4627B3A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8517D-83EE-403D-B0CB-99D9812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41CCA-DEFC-4C7F-B9C7-F0C8B553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6C1F8-81D4-4CE9-B0DF-9F578F0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A829E-3BEA-4915-BB9D-BDB6059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B01A9-F8F0-4A24-9097-61D0BFB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9CEE9-345D-483F-8D09-EAA26479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D4AD1-ADA1-4C07-91A7-A169E404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87B-75E1-414B-B45F-F722C752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FC9E7-1FD3-4EE5-A4EC-A2DD43C5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4FA91-029F-4859-9425-AC0AB6E0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C6537-5EB0-431C-8555-7611933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E132F-28F5-497B-84AF-96B42319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BF2D2-C364-4BC2-8CC0-95CCB7F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C29A4-025D-4C8C-95A3-1FAC5160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8FE80-168E-4A5D-A641-60A7A34F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BAFC6-C9E9-4270-B313-FD311074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61771-296E-44E3-873C-07EA904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18F15-A35E-4936-B9B8-4B5CDE1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E90-747D-4138-9D5F-6C8070B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F62F1-5943-434C-AB75-0121D30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39238-20B3-4E14-ABC4-03E69885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8CADB-01D6-4A17-9857-DEF3F8F8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93BC0-6047-4435-A51F-B8EF2DF9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B18FF-09B0-4735-BF47-A556BECF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3596D-8F48-48A1-8E74-2C3FA48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59160-B813-42D3-A6E1-5DA60544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190E2-B43A-4F3D-8F00-C0542D79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4DD92-7B3B-4E13-8B54-2D034B4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88303-D055-400B-BA07-76B35AA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374-F6C8-4DCD-AD08-44DACC6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D2EDD-6331-4A90-A893-09C9D12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0FCB2-C1D9-42C7-A378-8D3F65B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74435-A12D-4E29-90E7-08F39E3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C7A2E-322D-4B36-94B5-BF760F19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C159E-5040-4FD7-8E3E-1DA9829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379-967F-48B7-8E44-F9FB619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4F6D-EB77-4491-A50F-963B0317BF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5609-9647-48F4-B061-90A183F896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CD92-3B25-48A3-96CD-8D4436D7A6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3F1E-1CD3-4A48-9089-E371C5CA0E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B189-DD67-4FC8-9476-A57CA5F387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B596-EE2C-4FBB-853E-8A6D57F1C4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EE71-F0FC-488B-83CE-2FD975FE35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83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ТРЕБОВАНИЯ ФГОС К РАБОЧЕЙ ПРОГРАММЕ ПО ЛИТЕРАТУР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9454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ир Лариса Алексеевн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5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 Петербург, 2024 г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2307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 содержит следующие све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, автора и год издания учебно-методического комплекта и «авторской программы», на основе которой составлена рабочая программа учебного кур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ь и задачи учебного кур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класса, в котором будет реализован данный учебный кур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ичество учебных часов, на которое рассчитана рабочая программа учебного кур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арактерные для учебного курса формы организации деятельности обучающих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ецифические для учебного курса формы контроля освоения обучающимися содержания (текущего, промежуточного, итоговог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1724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 рабочей программы обычно включает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ное наименование образовательного учреждения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иф утверждения программы (согласование с заместителем директора по УВР и директором школы с указанием даты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 учебного курса, для изучения которого написана программ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казание параллели, класса, где реализуется программ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милию, имя и отчество разработчика программы (одного или нескольких)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валификационную категорию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 города, населенного пункт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д разработки программ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итературы как учебного предмета (метапредметная роль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мые компетен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еста учебного предмета, курса в учебном пла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разделе указывается количество часов по учебному плану, который входит в состав ООП, разработанной в данном О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метапредметные и предметные результаты освоения конкретного учебного предмета, курса (Указаны в ФГОС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части программы перечисляются дидактические единицы, т.е. термины, определения, понятия и т. п., подлежащие усвоению в процессе изучения дисциплины и составляющие содержание учебного предме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1011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с определением основных видов учебной деятельности может включать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 тем, разделов учебного курса, последовательность их изуче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ичество часов, отведенных на изучение темы, раздела учебного курс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ды деятельности обучающихся и (или) возможные формы контрол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равления творческой, проектной, исследовательской деятельности обучающих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яснения по использованию в процессе обучения компьютерного оборудования, программного обеспечения, дидактических средств, учебного оборудования, цифровых образовательных ресурс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алендарно-тематического планирования может быть определена локальным акт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образовательного учреждения, управления образованием или министерства образования субъекта федерац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1724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учебно-методического и материально-технического обеспечения образовательного процесса может включат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тературу (основную и дополнительную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дактические материал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бное оборудов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пьютерное оборудов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граммное обеспеч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ифровые образовательные ресур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2307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изучения учебного предмета, кур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изучения учебного предмета оформляются с использованием формулировок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н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чен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 возможность научи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формулировка отражает знания и учебные действия, которые принципиально необходимы для обучения в школе и могут быть освоены подавляющим большинством учени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формулировка связана со знаниями и учебными действиями, которые смогут продемонстрировать только отдельные мотивированные и способные учащиеся или которые имеют пропедевтически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рограммы обычно конкретизируется локальными актами образовательных учреждений, поэтому целесообразно ориентироваться на требования и образцы, разработанные в конкретной шко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291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бному предмету – это нормативно-правовой документ, предназначенный для реализации требований ФГОС к условиям и результатам образования обучающихся по конкретному предмету учебного плана обще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-1011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чей программы – создание условий для планирования, организации и управления образовательным процессом по определенной учебной дисциплине (образовательной области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рабочей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ь представление о практической реализации компонентов ФГОС при изучении конкретного предмета (курс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ретно определить содержание, объем, порядок изучения учебной дисциплины (курса) с учетом целей, задач и особенностей учебно-воспитательного процесса образовательного учреждения и контингента обучающих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-230760"/>
            <a:ext cx="75708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рабочей программы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ативная: является документом, обязательным для выполнения в полном объеме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еполагания: определяет цели образовательной деятельности, на достижение которых ориентировано проектирование педагогического процесса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я содержания образования: фиксирует состав элементов содержания, подлежащих усвоению учащимися, а также степень их трудности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цессуальная: определяет логическую последовательность усвоения элементов содержания, организационные формы и методы, средства и условия обучения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очная: выявляет уровни усвоения элементов содержания, объекты контроля и критерии оценки уровня обученности учащихся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ется учителем (группой учителей, специалистов по данному предмет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1724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П должна соответствовать следующим документа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ому государственному образовательному стандарту основного общего образования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й образовательной программе основного общего образования, составной частью которой является данная рабочая программ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ому перечню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 (утверждается приказом Министерства образования и науки РФ каждый год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требования ФГОС к структуре и содержанию рабочей програм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1011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000" y="692280"/>
            <a:ext cx="8147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 должна содержа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яснительную записку, в которой конкретизируются общие цели основного общего образования с учётом специфики учебного предме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ую характеристику учебного предмета, кур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исание места учебного предмета, курса в учебном плане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остные, метапредметные и предметные результаты освоения конкретного учебного предмета, кур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держание учебного предмета, кур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атическое планирование с определением основных видо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исание учебно-методического и материально-технического обеспечения образовательного процес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нируемые результаты изучения учебного предмета, курс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6T16:18:38Z</dcterms:created>
  <dc:creator>ADMIN</dc:creator>
  <dc:description/>
  <dc:language>en-US</dc:language>
  <cp:lastModifiedBy>ADMIN</cp:lastModifiedBy>
  <dcterms:modified xsi:type="dcterms:W3CDTF">2024-07-16T17:02:32Z</dcterms:modified>
  <cp:revision>5</cp:revision>
  <dc:subject/>
  <dc:title>Требования ФГОС к рабочей программе по литературе</dc:title>
</cp:coreProperties>
</file>