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1A2-6EBD-48FC-9913-27656CD8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05D6-6F56-4B11-A953-6F6E24D2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30B9-96E6-4B86-AA90-AD7A9394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76B-9370-475C-9B0F-35E9D440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1E24-0BF1-4C6A-AA87-AF8A9F10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E63A-D1BA-46EB-BCAC-2D4330EA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1A8A-699A-4648-95F9-3C865D24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B797-E4AE-46E6-AFE1-C21DEEF3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F7A4-8849-448F-9D37-219DCE76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FAE7-757C-46BD-9AC5-88A6633C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E973-BEAA-40EC-A9D3-9DC72920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9DD-9F59-4D45-998A-396C1D55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FC3A-2C00-4910-B139-04036554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4F00-5EB9-442B-B362-38821ED5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6112-89C3-4360-801D-2222639F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82D0-8AAE-4FEA-9A51-5C3F2D43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419C-B748-4EC2-A66E-C10F7CF5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AC493-4BB3-4CE3-B7FF-FAFCD0F2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DE280-1993-4781-A086-E84F47A4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1B689-3856-45D5-8F62-31A68938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62E80-997E-4033-8F0B-4AD98472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EED15-8D33-4D88-9155-E317D786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1460-8DD5-48E5-8C51-19153A44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ABF8D-2280-49DA-A5D9-C0E064B3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475ED-2A8A-4A19-8FC5-355758E3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58149-B8BA-4F9E-890A-5E3BF1FB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81DD7-6A7C-4068-92FA-47979205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9986D-97D6-475E-8F45-8E45037E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0D44A2-4FE5-4128-BEC8-3A3C97B7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9AD74-2207-49B0-AB99-33840022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A5AFB-6F18-4E7E-9CF9-61816DD8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C0830-AED6-4D4A-9281-AE2C8AAB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BC5A8-5958-4BDC-9C7D-DA5BC580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299-274F-489C-BAFA-D3947A1B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D944C-3067-4EE2-A434-3C81A22B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C9173-DCF7-44C6-9BBB-5CBAE648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12B60-E717-458E-BF1A-1C089913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4ABDC-0639-4605-A1FB-7355B141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4DF9A-E208-43D7-AE67-06F1FBF6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23ED7-ABB6-4828-B43E-0F1AE3BC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2F0DF-67C4-48DD-967B-5A615F4D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AC739-E21E-4E3E-B895-D8FDA2BE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1C32E-18EC-4670-9BF6-F182C493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62EE8E-69A1-4BA0-A4F2-84875589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7B95-5D5C-4E2D-94E8-97B151EE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595A68-4554-4146-8915-17E1ABF9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904D6A-5AFA-47DB-AE79-DFB9991D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979810-092C-4BAA-8061-C7A746BB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B5C7F-9814-45AB-98DA-C9EFAA2D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1B42D8-8C77-4227-825E-15684855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3AF87-7A74-4938-896F-D41F7AFA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1E2484-552E-4C72-A8C2-D081AF85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489767-DDA5-435A-9392-BA679EF7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B3257D-C818-4EA6-A600-59226A4F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1CA82-BC4F-45B1-912E-895FC19C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5EEC-F8DD-49FE-8F8D-4516F5B3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062B7-3BA4-439F-9BD3-0AD6179B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83C24C-18C0-457B-965C-E2456DFA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FF623E-850E-4A78-958B-5034E3FF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56EF1E-E365-4BF8-975F-68D29145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D78FD5-6D25-4B00-887F-3EA639BD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022343-1C25-4DF0-9830-D0ECD23B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44C502-6A43-4C3A-B7EA-FFABB381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D9E2EA-79EA-4143-BA52-0DC66C77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C8590E-D783-446F-A9AC-494C2476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42E331-BC7C-4668-A56C-D150F62C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D2F-8C6C-4B4A-A967-1790A1AC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BFBB3A-48CB-452D-B013-9E880834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2D92B3-E439-4FB9-B8F8-597B6141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E933E0-7117-40BE-9E86-2F881DDF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8747EC-7ED6-4F38-9700-DBCE2695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795F67-8CAE-48DD-8117-178D46FC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A58ECD-2A61-42E5-9846-FD5DA766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2DFAC0-B407-4821-BD2B-8D557F25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43E492-2CAD-4C24-8F9A-4640682D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91369C-FE51-4AC0-BC20-7EF311A6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CE7BE0-BE39-40FB-89AF-2D0EE577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F3D9-01B2-4E7E-90EA-3D664721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69ACF2-17FE-452E-BC25-5246D6BF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5C8DD0-AE63-4223-8478-C313D875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BEE15C-AE7F-4AC6-9FF8-D8B1C59C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B9FAC8-E6CD-4A35-B414-540E7B39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01172B-FF70-4E3C-A574-1542F021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B980-3637-481E-95EF-6F680A8A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74D5-FAD2-4D30-A6B1-B517AB910D3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0476-D578-43B2-A9F4-72425B70470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D211-66D1-4AAA-94C1-AFF6A6377B3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BEE1-4286-4058-8425-A7863673B91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35BA-FE6B-43C1-9253-AC69E6A3790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917B-248D-4580-BBC9-83142BBDEE3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A709-B89D-4389-A005-05B0D05387E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69832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ТРЕБОВАНИЯ ФГОС К РАБОЧЕЙ ПРОГРАММЕ ПО ЛИТЕРАТУР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94548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гир Лариса Алексеевна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№ 53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анкт- Петербург, 2024 г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23076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39280" y="692280"/>
            <a:ext cx="81471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ительная записка содержит следующие свед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звание, автора и год издания учебно-методического комплекта и «авторской программы», на основе которой составлена рабочая программа учебного курс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ель и задачи учебного курс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класса, в котором будет реализован данный учебный курс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личество учебных часов, на которое рассчитана рабочая программа учебного курс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арактерные для учебного курса формы организации деятельности обучающих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ецифические для учебного курса формы контроля освоения обучающимися содержания (текущего, промежуточного, итогового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-17244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ульный лист рабочей программы обычно включает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лное наименование образовательного учреждения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риф утверждения программы (согласование с заместителем директора по УВР и директором школы с указанием даты)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звание учебного курса, для изучения которого написана программа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казание параллели, класса, где реализуется программа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амилию, имя и отчество разработчика программы (одного или нескольких),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валификационную категорию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звание города, населенного пункта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д разработки программы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учебного предмета, кур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литературы как учебного предмета (метапредметная роль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мые компетен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8000" y="981000"/>
            <a:ext cx="8218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места учебного предмета, курса в учебном план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разделе указывается количество часов по учебному плану, который входит в состав ООП, разработанной в данном О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, метапредметные и предметные результаты освоения конкретного учебного предмета, курса (Указаны в ФГОС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чебного предмета, кур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части программы перечисляются дидактические единицы, т.е. термины, определения, понятия и т. п., подлежащие усвоению в процессе изучения дисциплины и составляющие содержание учебного предме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10116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планирование с определением основных видов учебной деятельности может включать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звание тем, разделов учебного курса, последовательность их изучен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личество часов, отведенных на изучение темы, раздела учебного курса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иды деятельности обучающихся и (или) возможные формы контрол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правления творческой, проектной, исследовательской деятельности обучающихс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яснения по использованию в процессе обучения компьютерного оборудования, программного обеспечения, дидактических средств, учебного оборудования, цифровых образовательных ресурсов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календарно-тематического планирования может быть определена локальным акт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вне образовательного учреждения, управления образованием или министерства образования субъекта федераци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17244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учебно-методического и материально-технического обеспечения образовательного процесса может включать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итературу (основную и дополнительную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дактические материал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чебное оборудовани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мпьютерное оборудовани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граммное обеспечени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ифровые образовательные ресурс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23076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е результаты изучения учебного предмета, курс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е результаты изучения учебного предмета оформляются с использованием формулировок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чени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чени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 возможность научи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формулировка отражает знания и учебные действия, которые принципиально необходимы для обучения в школе и могут быть освоены подавляющим большинством ученик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формулировка связана со знаниями и учебными действиями, которые смогут продемонстрировать только отдельные мотивированные и способные учащиеся или которые имеют пропедевтический характер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программы обычно конкретизируется локальными актами образовательных учреждений, поэтому целесообразно ориентироваться на требования и образцы, разработанные в конкретной школ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-2916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чебному предмету – это нормативно-правовой документ, предназначенный для реализации требований ФГОС к условиям и результатам образования обучающихся по конкретному предмету учебного плана общеобразовательного учрежд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-10116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чей программы – создание условий для планирования, организации и управления образовательным процессом по определенной учебной дисциплине (образовательной области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рабочей программ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ть представление о практической реализации компонентов ФГОС при изучении конкретного предмета (курса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кретно определить содержание, объем, порядок изучения учебной дисциплины (курса) с учетом целей, задач и особенностей учебно-воспитательного процесса образовательного учреждения и контингента обучающих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6000" y="-230760"/>
            <a:ext cx="75708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000" y="76500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рабочей программы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рмативная: является документом, обязательным для выполнения в полном объеме;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леполагания: определяет цели образовательной деятельности, на достижение которых ориентировано проектирование педагогического процесса;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еделения содержания образования: фиксирует состав элементов содержания, подлежащих усвоению учащимися, а также степень их трудности;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цессуальная: определяет логическую последовательность усвоения элементов содержания, организационные формы и методы, средства и условия обучения;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очная: выявляет уровни усвоения элементов содержания, объекты контроля и критерии оценки уровня обученности учащихся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атывается учителем (группой учителей, специалистов по данному предмету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17244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00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П должна соответствовать следующим документа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ому государственному образовательному стандарту основного общего образования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ой образовательной программе основного общего образования, составной частью которой является данная рабочая программа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ому перечню учебников, рекомендованных (допущенных) к использованию в образовательном процессе в образовательных учреждениях, реализующих образовательные программы общего образования и имеющих государственную аккредитацию (утверждается приказом Министерства образования и науки РФ каждый год)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ы требования ФГОС к структуре и содержанию рабочей программы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10116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68000" y="692280"/>
            <a:ext cx="8147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 должна содержать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яснительную записку, в которой конкретизируются общие цели основного общего образования с учётом специфики учебного предмет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щую характеристику учебного предмета, курс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исание места учебного предмета, курса в учебном плане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ичностные, метапредметные и предметные результаты освоения конкретного учебного предмета, курс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держание учебного предмета, курс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матическое планирование с определением основных видов учебной деятельности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исание учебно-методического и материально-технического обеспечения образовательного процесс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ланируемые результаты изучения учебного предмета, курс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16T16:18:38Z</dcterms:created>
  <dc:creator>ADMIN</dc:creator>
  <dc:description/>
  <dc:language>en-US</dc:language>
  <cp:lastModifiedBy>ADMIN</cp:lastModifiedBy>
  <dcterms:modified xsi:type="dcterms:W3CDTF">2024-07-16T17:02:32Z</dcterms:modified>
  <cp:revision>5</cp:revision>
  <dc:subject/>
  <dc:title>Требования ФГОС к рабочей программе по литературе</dc:title>
</cp:coreProperties>
</file>