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32D-39B8-45A0-886A-749255DD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4E9-578F-4166-9E86-26786F94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132-55CA-48D1-99BC-B74FBA16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441E-CD84-4417-BA5A-00637B1C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E268-4DA9-40E2-A29B-DB9D7308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52FE-D8B3-44E1-AC89-28314544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8A0E-7017-45CF-8DE0-CBA96B10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CA7A-E060-4F5B-9F6F-6F0389CA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205B-E2C5-4ACB-AD07-3FA91FCB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F634-FFEA-43E4-AA0C-F40C9F09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58F6-6FBA-4A4A-B0F1-CE9B62E5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E29-CE4A-4400-AEA6-1E983013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B260-20BE-48FC-90E4-D4B332D2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03E1-4E24-4619-A6E6-9783200B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C88F-96A9-4301-BBA0-E352688A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3FE8-190E-494A-978F-380C16DD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DD18-26C9-4B0F-94B2-41419141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7E7F6-6001-4827-8CEF-3363F9C1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EBDA0-889A-4E66-AC4F-085115EF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0BE3D-EAF3-47E6-9E0E-670E1D7A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FF520-2D27-43C6-82E2-67FA130F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06907-4A6E-4E34-A67F-0E64D8E9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CE5-A582-450D-AAD7-0BF677BE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E5AE9-EB69-410A-B366-E4CB7968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156F7-76AF-4A5D-B172-B714F14B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E704-8879-4007-B586-49D47FF8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00E84-FC71-4445-A9FE-CA6C331E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3427-503E-4DD3-8AB6-776CB032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5DA87-CE06-49E4-A180-7C243B84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D639-9ECB-471E-B4AF-72870A05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B50-2A1C-455F-9110-5A2AFF85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876-2C56-48CF-BDD7-A006B39B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7E3-FA55-49D5-A001-AAED0734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7550-71FA-4C50-9D12-EBB77444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FE7-90F9-4E9C-8A61-822DD8BF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B6E-B181-4B24-8668-31456BCC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d"/>
            </a:gs>
            <a:gs pos="100000">
              <a:srgbClr val="eef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E0B4-CE45-4DC1-9686-50F9D70CE57A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d"/>
            </a:gs>
            <a:gs pos="100000">
              <a:srgbClr val="eef7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6F69-243F-4303-B11E-92BF249730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7E70-D923-4184-8E0F-3292F040FE9A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http://planeta.moy.su/_bl/214/76723237.png"/>
          <p:cNvPicPr/>
          <p:nvPr/>
        </p:nvPicPr>
        <p:blipFill>
          <a:blip r:embed="rId1"/>
          <a:stretch/>
        </p:blipFill>
        <p:spPr>
          <a:xfrm>
            <a:off x="1042920" y="1700280"/>
            <a:ext cx="7274160" cy="4824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11520" y="189000"/>
            <a:ext cx="9155160" cy="132552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Методы изучения природ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Измерительные прибор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2" name="Picture 2" descr="https://thumbs.dreamstime.com/b/%D0%BD%D0%B0%D0%B1%D0%BE%D1%80-%D0%B8%D0%B7%D0%BC%D0%B5%D1%80%D0%B8%D1%82%D0%B5%D0%BB%D1%8C%D0%BD%D1%8B%D1%85-%D0%BF%D1%80%D0%B8%D0%B1%D0%BE%D1%80%D0%BE%D0%B2-%D0%B4%D0%BB%D1%8F-%D1%82%D0%BE%D0%B3%D0%BE-%D1%87%D1%82%D0%BE%D0%B1%D1%8B-%D0%B8%D0%B7%D0%BC%D0%B5%D1%80%D0%B8%D1%82%D1%8C-%D1%82%D0%B5%D0%BC%D0%BF%D0%B5%D1%80%D0%B0%D1%82%D1%83%D1%80%D1%83-166604460.jpg"/>
          <p:cNvPicPr/>
          <p:nvPr/>
        </p:nvPicPr>
        <p:blipFill>
          <a:blip r:embed="rId1"/>
          <a:stretch/>
        </p:blipFill>
        <p:spPr>
          <a:xfrm>
            <a:off x="1704960" y="1125360"/>
            <a:ext cx="57340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188640"/>
            <a:ext cx="7886880" cy="15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Лабораторная работа </a:t>
            </a:r>
            <a:br>
              <a:rPr sz="3300"/>
            </a:b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“Измерение объектов”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4" name="Объект 2" descr=""/>
          <p:cNvPicPr/>
          <p:nvPr/>
        </p:nvPicPr>
        <p:blipFill>
          <a:blip r:embed="rId1"/>
          <a:stretch/>
        </p:blipFill>
        <p:spPr>
          <a:xfrm>
            <a:off x="12600" y="1676520"/>
            <a:ext cx="89553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Ход работ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95280" y="1844280"/>
            <a:ext cx="84247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98400" indent="-698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мерьте ширину и длину листьев у предложенных видов растений. Результаты измерений запишите в таблиц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98400" indent="-698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считайте и запишите среднее значения измеренных величин (4 см + 5 см + 4 см =13 см; 13/3= 4,3 см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Выводы: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биологический объект имеет свои размер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узнать размеры, необходимо выбрать параметр измерений и измерить его при помощи линей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определения среднего значения измерения проводились на нескольких образц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13"/>
          <p:cNvSpPr/>
          <p:nvPr/>
        </p:nvSpPr>
        <p:spPr>
          <a:xfrm flipH="1">
            <a:off x="2195280" y="1197000"/>
            <a:ext cx="936360" cy="280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4140360" y="1197000"/>
            <a:ext cx="576000" cy="280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1763640" y="260280"/>
            <a:ext cx="5113440" cy="935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Методы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зучения природы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0" y="148428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1. Наблюде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4716360" y="170028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3.Эксперимент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983280" y="177336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4.Измере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41" name="Picture 8" descr="Солнца затмение"/>
          <p:cNvPicPr/>
          <p:nvPr/>
        </p:nvPicPr>
        <p:blipFill>
          <a:blip r:embed="rId1"/>
          <a:stretch/>
        </p:blipFill>
        <p:spPr>
          <a:xfrm>
            <a:off x="0" y="2421000"/>
            <a:ext cx="1992240" cy="1584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Давления измерение"/>
          <p:cNvPicPr/>
          <p:nvPr/>
        </p:nvPicPr>
        <p:blipFill>
          <a:blip r:embed="rId2"/>
          <a:stretch/>
        </p:blipFill>
        <p:spPr>
          <a:xfrm>
            <a:off x="6750000" y="2852640"/>
            <a:ext cx="2394000" cy="1584360"/>
          </a:xfrm>
          <a:prstGeom prst="rect">
            <a:avLst/>
          </a:prstGeom>
          <a:ln w="0">
            <a:noFill/>
          </a:ln>
        </p:spPr>
      </p:pic>
      <p:sp>
        <p:nvSpPr>
          <p:cNvPr id="243" name="Line 12"/>
          <p:cNvSpPr/>
          <p:nvPr/>
        </p:nvSpPr>
        <p:spPr>
          <a:xfrm flipH="1">
            <a:off x="1332000" y="1197000"/>
            <a:ext cx="151272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3924360" y="1197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5724360" y="1197000"/>
            <a:ext cx="237672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46" name="Picture 15" descr="Горение железа"/>
          <p:cNvPicPr/>
          <p:nvPr/>
        </p:nvPicPr>
        <p:blipFill>
          <a:blip r:embed="rId3"/>
          <a:stretch/>
        </p:blipFill>
        <p:spPr>
          <a:xfrm>
            <a:off x="5148360" y="2637000"/>
            <a:ext cx="1576440" cy="223200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6"/>
          <p:cNvSpPr/>
          <p:nvPr/>
        </p:nvSpPr>
        <p:spPr>
          <a:xfrm>
            <a:off x="2340000" y="177336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2.Описа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5364000" y="1197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395280" y="400536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5.Сравне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700360" y="4005360"/>
            <a:ext cx="251928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6.Моделирова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51" name="Picture 17" descr="http://doublex.ru/upload/c8/1e/72/2/1d8bb27b_big.jpg"/>
          <p:cNvPicPr/>
          <p:nvPr/>
        </p:nvPicPr>
        <p:blipFill>
          <a:blip r:embed="rId4"/>
          <a:stretch/>
        </p:blipFill>
        <p:spPr>
          <a:xfrm>
            <a:off x="826920" y="4935600"/>
            <a:ext cx="1297080" cy="1922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http://www.render.ru/images/uploads/Image/Tutor/max/305/align.jpg"/>
          <p:cNvPicPr/>
          <p:nvPr/>
        </p:nvPicPr>
        <p:blipFill>
          <a:blip r:embed="rId5"/>
          <a:stretch/>
        </p:blipFill>
        <p:spPr>
          <a:xfrm>
            <a:off x="2627280" y="5057640"/>
            <a:ext cx="2624040" cy="1800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" descr="http://dic.academic.ru/pictures/wiki/files/50/250px-Leonhart_Fuchs_Historia_Stirpium.jpg"/>
          <p:cNvPicPr/>
          <p:nvPr/>
        </p:nvPicPr>
        <p:blipFill>
          <a:blip r:embed="rId6"/>
          <a:stretch/>
        </p:blipFill>
        <p:spPr>
          <a:xfrm>
            <a:off x="2627280" y="2708280"/>
            <a:ext cx="14144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5440" y="1450800"/>
            <a:ext cx="88185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снувшись утром, дочка сказала папе, что она заболе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делает папа, чтобы убедиться в болезни дочер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http://greenbag.ru/sites/default/files/photos/3/sovets/doctor.jpg"/>
          <p:cNvPicPr/>
          <p:nvPr/>
        </p:nvPicPr>
        <p:blipFill>
          <a:blip r:embed="rId1"/>
          <a:stretch/>
        </p:blipFill>
        <p:spPr>
          <a:xfrm>
            <a:off x="1979640" y="3395520"/>
            <a:ext cx="4896000" cy="3270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8319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Задача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28240" y="907920"/>
            <a:ext cx="873612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  <a:ea typeface="Times New Roman"/>
              </a:rPr>
              <a:t>Измерени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 — фиксирование данных об изучаемом объекте, его свойствах с помощью измерительных прибор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Скругленный прямоугольник 5"/>
          <p:cNvSpPr/>
          <p:nvPr/>
        </p:nvSpPr>
        <p:spPr>
          <a:xfrm>
            <a:off x="0" y="0"/>
            <a:ext cx="2484360" cy="765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Словарь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59" name="Picture 6" descr="Picture background"/>
          <p:cNvPicPr/>
          <p:nvPr/>
        </p:nvPicPr>
        <p:blipFill>
          <a:blip r:embed="rId1"/>
          <a:stretch/>
        </p:blipFill>
        <p:spPr>
          <a:xfrm>
            <a:off x="468360" y="2354400"/>
            <a:ext cx="795492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АД"/>
          <p:cNvPicPr/>
          <p:nvPr/>
        </p:nvPicPr>
        <p:blipFill>
          <a:blip r:embed="rId1"/>
          <a:stretch/>
        </p:blipFill>
        <p:spPr>
          <a:xfrm>
            <a:off x="368280" y="1224000"/>
            <a:ext cx="8062920" cy="5319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223560" y="314280"/>
            <a:ext cx="8353800" cy="70344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Измерение артериального давления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Picture background"/>
          <p:cNvPicPr/>
          <p:nvPr/>
        </p:nvPicPr>
        <p:blipFill>
          <a:blip r:embed="rId1"/>
          <a:stretch/>
        </p:blipFill>
        <p:spPr>
          <a:xfrm>
            <a:off x="917640" y="1844640"/>
            <a:ext cx="7308720" cy="48722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79280" y="314280"/>
            <a:ext cx="8785440" cy="70344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Измерение массы тела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5"/>
          <p:cNvSpPr/>
          <p:nvPr/>
        </p:nvSpPr>
        <p:spPr>
          <a:xfrm>
            <a:off x="216000" y="333360"/>
            <a:ext cx="8712000" cy="70344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Измерение скорости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65" name="Picture 5" descr="https://i.ytimg.com/vi/9lIcF6v5Fxo/hqdefault.jpg"/>
          <p:cNvPicPr/>
          <p:nvPr/>
        </p:nvPicPr>
        <p:blipFill>
          <a:blip r:embed="rId1"/>
          <a:srcRect l="0" t="12199" r="0" b="12199"/>
          <a:stretch/>
        </p:blipFill>
        <p:spPr>
          <a:xfrm>
            <a:off x="455760" y="1557360"/>
            <a:ext cx="8232480" cy="466740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Picture background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068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Picture background"/>
          <p:cNvPicPr/>
          <p:nvPr/>
        </p:nvPicPr>
        <p:blipFill>
          <a:blip r:embed="rId2"/>
          <a:srcRect l="0" t="6891" r="0" b="0"/>
          <a:stretch/>
        </p:blipFill>
        <p:spPr>
          <a:xfrm>
            <a:off x="0" y="449280"/>
            <a:ext cx="914400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Picture background"/>
          <p:cNvPicPr/>
          <p:nvPr/>
        </p:nvPicPr>
        <p:blipFill>
          <a:blip r:embed="rId1"/>
          <a:srcRect l="0" t="30028" r="0" b="11095"/>
          <a:stretch/>
        </p:blipFill>
        <p:spPr>
          <a:xfrm>
            <a:off x="-25560" y="1916280"/>
            <a:ext cx="9144000" cy="40338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216000" y="333360"/>
            <a:ext cx="8712000" cy="70344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alibri"/>
              </a:rPr>
              <a:t>Измерение в биологии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1:58:35Z</dcterms:created>
  <dc:creator>user</dc:creator>
  <dc:description/>
  <dc:language>en-US</dc:language>
  <cp:lastModifiedBy>jivop</cp:lastModifiedBy>
  <dcterms:modified xsi:type="dcterms:W3CDTF">2024-07-27T15:24:49Z</dcterms:modified>
  <cp:revision>36</cp:revision>
  <dc:subject/>
  <dc:title>Слайд 1</dc:title>
</cp:coreProperties>
</file>