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5E1-9D57-4E26-9C67-2979184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EFB-CA11-4B51-A918-F699C620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1D7-3410-4252-9D6B-ADD3C7E6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8D7-A6F9-442B-B14E-F8407335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18C2-7456-47BF-853D-7639A0D5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529E-A366-4B4B-8295-0FDAC6B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36D-C674-449C-80D5-E8BEBA18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2AE1-C34D-4262-8247-88656CD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A5B-B654-41FD-8B39-D7020AE9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7E8-6D90-43EF-89BD-6136477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7A2E-5D08-4072-9A90-FC66BCD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785-B435-490D-9DD6-95249DA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B70-384B-4529-9A9D-3E35AB7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25E-C38E-4EA5-9927-2E1DA67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30E-4C78-4C00-A7A8-D81EB464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3AB-EB23-4A42-B505-7962BC6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3C32-C7EF-4075-9713-8FDD6712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3559-42B9-46E9-BDB6-65CFB4FA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9323-2081-4F4C-88DB-AC2BA30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7277-F5A6-4F75-978D-D5D580F1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0CE4-4CCB-490A-835C-E3B2370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58F5-F03D-4201-A334-A6CD52F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B58-E03B-4B69-8AFD-F31DCBE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362A-73F5-47A2-9EDD-B2D6EF9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A755-070B-488D-BC12-AA9CF76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FCDB-F6BB-47CD-8469-03BDE16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9C14-A542-4CFB-8B6C-B1A3F91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1C78-E347-47C9-A8AF-7BA0A0E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0BC3-EBDE-4225-87EB-64ED988D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7AFD-5A79-4F9A-9298-99C9817E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4C7-C991-404F-85A5-C625899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C07-1977-4F7E-9D51-A37F004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ED0-0BED-440E-A8DD-9532702B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138-4A67-4D1F-9FA9-A29FCEB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0CD-AD35-4D7B-A558-4D51333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114-7616-45D8-B723-6F4B237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d"/>
            </a:gs>
            <a:gs pos="100000">
              <a:srgbClr val="eef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751-AA3A-4627-8CB7-D49B45FE364B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d"/>
            </a:gs>
            <a:gs pos="100000">
              <a:srgbClr val="eef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F3A-33A5-457D-B6A5-5213C4520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9AC-BF46-47A1-B0B9-6AB0865D952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planeta.moy.su/_bl/214/76723237.png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24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11520" y="189000"/>
            <a:ext cx="915516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етоды изучения при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Измерительные прибор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2" name="Picture 2" descr="https://thumbs.dreamstime.com/b/%D0%BD%D0%B0%D0%B1%D0%BE%D1%80-%D0%B8%D0%B7%D0%BC%D0%B5%D1%80%D0%B8%D1%82%D0%B5%D0%BB%D1%8C%D0%BD%D1%8B%D1%85-%D0%BF%D1%80%D0%B8%D0%B1%D0%BE%D1%80%D0%BE%D0%B2-%D0%B4%D0%BB%D1%8F-%D1%82%D0%BE%D0%B3%D0%BE-%D1%87%D1%82%D0%BE%D0%B1%D1%8B-%D0%B8%D0%B7%D0%BC%D0%B5%D1%80%D0%B8%D1%82%D1%8C-%D1%82%D0%B5%D0%BC%D0%BF%D0%B5%D1%80%D0%B0%D1%82%D1%83%D1%80%D1%83-166604460.jpg"/>
          <p:cNvPicPr/>
          <p:nvPr/>
        </p:nvPicPr>
        <p:blipFill>
          <a:blip r:embed="rId1"/>
          <a:stretch/>
        </p:blipFill>
        <p:spPr>
          <a:xfrm>
            <a:off x="1704960" y="1125360"/>
            <a:ext cx="5734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188640"/>
            <a:ext cx="7886880" cy="15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Лабораторная работа </a:t>
            </a:r>
            <a:br>
              <a:rPr sz="33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“Измерение объектов”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4" name="Объект 2" descr=""/>
          <p:cNvPicPr/>
          <p:nvPr/>
        </p:nvPicPr>
        <p:blipFill>
          <a:blip r:embed="rId1"/>
          <a:stretch/>
        </p:blipFill>
        <p:spPr>
          <a:xfrm>
            <a:off x="12600" y="1676520"/>
            <a:ext cx="8955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Ход работ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844280"/>
            <a:ext cx="8424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мерьте ширину и длину листьев у предложенных видов растений. Результаты измерений запишите в таблиц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98400" indent="-698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читайте и запишите среднее значения измеренных величин (4 см + 5 см + 4 см =13 см; 13/3= 4,3 с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Выводы: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биологический объект имеет свои размер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 размеры, необходимо выбрать параметр измерений и измерить его при помощи линей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пределения среднего значения измерения проводились на нескольких образц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13"/>
          <p:cNvSpPr/>
          <p:nvPr/>
        </p:nvSpPr>
        <p:spPr>
          <a:xfrm flipH="1">
            <a:off x="2195280" y="1197000"/>
            <a:ext cx="93636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4140360" y="1197000"/>
            <a:ext cx="57600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763640" y="260280"/>
            <a:ext cx="5113440" cy="93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зучения прир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0" y="1484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1. Наблюд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4716360" y="1700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3.Эксперимент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98328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4.Измер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1" name="Picture 8" descr="Солнца затмение"/>
          <p:cNvPicPr/>
          <p:nvPr/>
        </p:nvPicPr>
        <p:blipFill>
          <a:blip r:embed="rId1"/>
          <a:stretch/>
        </p:blipFill>
        <p:spPr>
          <a:xfrm>
            <a:off x="0" y="2421000"/>
            <a:ext cx="1992240" cy="158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Давления измерение"/>
          <p:cNvPicPr/>
          <p:nvPr/>
        </p:nvPicPr>
        <p:blipFill>
          <a:blip r:embed="rId2"/>
          <a:stretch/>
        </p:blipFill>
        <p:spPr>
          <a:xfrm>
            <a:off x="6750000" y="2852640"/>
            <a:ext cx="2394000" cy="1584360"/>
          </a:xfrm>
          <a:prstGeom prst="rect">
            <a:avLst/>
          </a:prstGeom>
          <a:ln w="0">
            <a:noFill/>
          </a:ln>
        </p:spPr>
      </p:pic>
      <p:sp>
        <p:nvSpPr>
          <p:cNvPr id="243" name="Line 12"/>
          <p:cNvSpPr/>
          <p:nvPr/>
        </p:nvSpPr>
        <p:spPr>
          <a:xfrm flipH="1">
            <a:off x="1332000" y="1197000"/>
            <a:ext cx="151272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392436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5724360" y="1197000"/>
            <a:ext cx="237672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6" name="Picture 15" descr="Горение железа"/>
          <p:cNvPicPr/>
          <p:nvPr/>
        </p:nvPicPr>
        <p:blipFill>
          <a:blip r:embed="rId3"/>
          <a:stretch/>
        </p:blipFill>
        <p:spPr>
          <a:xfrm>
            <a:off x="5148360" y="263700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6"/>
          <p:cNvSpPr/>
          <p:nvPr/>
        </p:nvSpPr>
        <p:spPr>
          <a:xfrm>
            <a:off x="234000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2.Опис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36400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95280" y="4005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5.Сравн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700360" y="4005360"/>
            <a:ext cx="251928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6.Моделиров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1" name="Picture 17" descr="http://doublex.ru/upload/c8/1e/72/2/1d8bb27b_big.jpg"/>
          <p:cNvPicPr/>
          <p:nvPr/>
        </p:nvPicPr>
        <p:blipFill>
          <a:blip r:embed="rId4"/>
          <a:stretch/>
        </p:blipFill>
        <p:spPr>
          <a:xfrm>
            <a:off x="826920" y="4935600"/>
            <a:ext cx="1297080" cy="1922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http://www.render.ru/images/uploads/Image/Tutor/max/305/align.jpg"/>
          <p:cNvPicPr/>
          <p:nvPr/>
        </p:nvPicPr>
        <p:blipFill>
          <a:blip r:embed="rId5"/>
          <a:stretch/>
        </p:blipFill>
        <p:spPr>
          <a:xfrm>
            <a:off x="2627280" y="5057640"/>
            <a:ext cx="2624040" cy="180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http://dic.academic.ru/pictures/wiki/files/50/250px-Leonhart_Fuchs_Historia_Stirpium.jpg"/>
          <p:cNvPicPr/>
          <p:nvPr/>
        </p:nvPicPr>
        <p:blipFill>
          <a:blip r:embed="rId6"/>
          <a:stretch/>
        </p:blipFill>
        <p:spPr>
          <a:xfrm>
            <a:off x="2627280" y="2708280"/>
            <a:ext cx="14144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5440" y="1450800"/>
            <a:ext cx="88185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нувшись утром, дочка сказала папе, что она забол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делает папа, чтобы убедиться в болезни дочер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http://greenbag.ru/sites/default/files/photos/3/sovets/doctor.jpg"/>
          <p:cNvPicPr/>
          <p:nvPr/>
        </p:nvPicPr>
        <p:blipFill>
          <a:blip r:embed="rId1"/>
          <a:stretch/>
        </p:blipFill>
        <p:spPr>
          <a:xfrm>
            <a:off x="1979640" y="3395520"/>
            <a:ext cx="4896000" cy="3270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Задача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240" y="907920"/>
            <a:ext cx="87361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мер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фиксирование данных об изучаемом объекте, его свойствах с помощью измерительных прибо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0" y="0"/>
            <a:ext cx="2484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9" name="Picture 6" descr="Picture background"/>
          <p:cNvPicPr/>
          <p:nvPr/>
        </p:nvPicPr>
        <p:blipFill>
          <a:blip r:embed="rId1"/>
          <a:stretch/>
        </p:blipFill>
        <p:spPr>
          <a:xfrm>
            <a:off x="468360" y="2354400"/>
            <a:ext cx="795492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АД"/>
          <p:cNvPicPr/>
          <p:nvPr/>
        </p:nvPicPr>
        <p:blipFill>
          <a:blip r:embed="rId1"/>
          <a:stretch/>
        </p:blipFill>
        <p:spPr>
          <a:xfrm>
            <a:off x="368280" y="1224000"/>
            <a:ext cx="8062920" cy="5319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223560" y="314280"/>
            <a:ext cx="83538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артериального давления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Picture background"/>
          <p:cNvPicPr/>
          <p:nvPr/>
        </p:nvPicPr>
        <p:blipFill>
          <a:blip r:embed="rId1"/>
          <a:stretch/>
        </p:blipFill>
        <p:spPr>
          <a:xfrm>
            <a:off x="917640" y="1844640"/>
            <a:ext cx="7308720" cy="4872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79280" y="314280"/>
            <a:ext cx="878544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массы тел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5"/>
          <p:cNvSpPr/>
          <p:nvPr/>
        </p:nvSpPr>
        <p:spPr>
          <a:xfrm>
            <a:off x="216000" y="333360"/>
            <a:ext cx="87120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скорости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5" name="Picture 5" descr="https://i.ytimg.com/vi/9lIcF6v5Fxo/hqdefault.jpg"/>
          <p:cNvPicPr/>
          <p:nvPr/>
        </p:nvPicPr>
        <p:blipFill>
          <a:blip r:embed="rId1"/>
          <a:srcRect l="0" t="12199" r="0" b="12199"/>
          <a:stretch/>
        </p:blipFill>
        <p:spPr>
          <a:xfrm>
            <a:off x="455760" y="1557360"/>
            <a:ext cx="8232480" cy="46674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Picture background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06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icture background"/>
          <p:cNvPicPr/>
          <p:nvPr/>
        </p:nvPicPr>
        <p:blipFill>
          <a:blip r:embed="rId2"/>
          <a:srcRect l="0" t="6891" r="0" b="0"/>
          <a:stretch/>
        </p:blipFill>
        <p:spPr>
          <a:xfrm>
            <a:off x="0" y="449280"/>
            <a:ext cx="9144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Picture background"/>
          <p:cNvPicPr/>
          <p:nvPr/>
        </p:nvPicPr>
        <p:blipFill>
          <a:blip r:embed="rId1"/>
          <a:srcRect l="0" t="30028" r="0" b="11095"/>
          <a:stretch/>
        </p:blipFill>
        <p:spPr>
          <a:xfrm>
            <a:off x="-25560" y="1916280"/>
            <a:ext cx="9144000" cy="4033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216000" y="333360"/>
            <a:ext cx="87120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в биологии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1:58:35Z</dcterms:created>
  <dc:creator>user</dc:creator>
  <dc:description/>
  <dc:language>en-US</dc:language>
  <cp:lastModifiedBy>jivop</cp:lastModifiedBy>
  <dcterms:modified xsi:type="dcterms:W3CDTF">2024-07-27T15:24:49Z</dcterms:modified>
  <cp:revision>36</cp:revision>
  <dc:subject/>
  <dc:title>Слайд 1</dc:title>
</cp:coreProperties>
</file>