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202-E58E-4445-9015-650DA3D7D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методы изучения природы вы еще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опы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опыт отличается от наблюд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слайд. Как мы назовем этот опыт? Что мы выясним в результате этого опы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146-C46B-45D4-96F4-0A85CFE7CA25}" type="slidenum">
              <a:rPr b="0" lang="ru-RU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780E-2673-4519-951B-83E5E1E4A481}" type="slidenum">
              <a:rPr b="0" lang="ru-RU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3AD-43D8-483F-8858-4761CD4A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A76-7EE1-4BA3-817F-59C930B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538-57F8-4EA2-A7BC-79A2A774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578-F52E-4996-9085-0BFE7506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FBC1-2C92-426A-A364-AD43FDB1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AD4-2BA0-402C-9E76-1EFA6882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B75-2B94-4155-9C9C-59ED3DE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103-1730-41F9-9B00-60B1C21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3CD-F08F-41CE-A61A-5D776C5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2AE6-9786-4A3C-92A1-CC71D153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BAA4-28E1-494E-ABC7-F92E60E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0C6-766A-4700-B82C-551F6146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5BE5-6EFA-49FF-9EC6-1290BB3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D874-8AB4-42E4-9BBD-E0C8C1B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0CA2-0807-443F-B808-56EED1E0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8F3A-9285-41DA-AC86-3FE473BB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8890-B9BE-4739-9588-820FA7DB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ABF4-5052-48B7-8693-4BDDF425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5963-97B2-4F8E-808E-1865460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F1AB-E8FB-45C7-BEE4-C770E8C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DD31-ECD3-4866-ACBC-4F4671F4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D9B9-5420-4843-8555-3C70AFB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AEF-B8CB-4920-888F-2C96BB79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E81C-4929-46DA-97F4-503A1522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EE68-2E22-402D-9248-07678DC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A1D6-03D8-46C4-8092-DA2B2B0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1B5D-E5FB-4CFC-86C0-545D97D8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F0F1-AF6A-4271-9D15-D164DBDD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6CB1-67B6-4EE3-9006-76B3CB65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D16A-2372-4E82-A734-3809A956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FC5-A548-4F7A-93A2-805EC9A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1BA-23A4-4C67-A5BA-E5B05144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C93-49C3-4A80-9332-7F75DE9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B0D-DA60-4BE9-A9E1-A0C790F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4D8-5412-4F52-98F0-7BED6C6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DB6-003E-4FAF-A67D-A9F9B51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bf8"/>
            </a:gs>
            <a:gs pos="100000">
              <a:srgbClr val="ebe6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F641-4C96-45EF-A91C-68C7BDC3B895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bf8"/>
            </a:gs>
            <a:gs pos="100000">
              <a:srgbClr val="ebe6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540-239D-442D-A37B-93483D955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8f5"/>
            </a:gs>
            <a:gs pos="100000">
              <a:srgbClr val="fad8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C3A-CE6C-459E-805E-BBECDB86BA0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planeta.moy.su/_bl/214/76723237.png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2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1520" y="189000"/>
            <a:ext cx="9155160" cy="132552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етоды изучения при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78920"/>
            <a:ext cx="8064720" cy="11430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План работы исследовател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250920" y="148428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становка цели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Выбор метода исследовани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роведение исследовани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Получение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Объяснение полученных результатов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13"/>
          <p:cNvSpPr/>
          <p:nvPr/>
        </p:nvSpPr>
        <p:spPr>
          <a:xfrm flipH="1">
            <a:off x="2195280" y="1197000"/>
            <a:ext cx="93636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4140360" y="1197000"/>
            <a:ext cx="576000" cy="280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763640" y="260280"/>
            <a:ext cx="5113440" cy="935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зучения природы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0" y="1484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1. Наблюд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716360" y="170028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3.Эксперимент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98328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4.Измер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48" name="Picture 8" descr="Солнца затмение"/>
          <p:cNvPicPr/>
          <p:nvPr/>
        </p:nvPicPr>
        <p:blipFill>
          <a:blip r:embed="rId1"/>
          <a:stretch/>
        </p:blipFill>
        <p:spPr>
          <a:xfrm>
            <a:off x="0" y="2421000"/>
            <a:ext cx="1992240" cy="15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Давления измерение"/>
          <p:cNvPicPr/>
          <p:nvPr/>
        </p:nvPicPr>
        <p:blipFill>
          <a:blip r:embed="rId2"/>
          <a:stretch/>
        </p:blipFill>
        <p:spPr>
          <a:xfrm>
            <a:off x="6750000" y="2852640"/>
            <a:ext cx="2394000" cy="1584360"/>
          </a:xfrm>
          <a:prstGeom prst="rect">
            <a:avLst/>
          </a:prstGeom>
          <a:ln w="0">
            <a:noFill/>
          </a:ln>
        </p:spPr>
      </p:pic>
      <p:sp>
        <p:nvSpPr>
          <p:cNvPr id="250" name="Line 12"/>
          <p:cNvSpPr/>
          <p:nvPr/>
        </p:nvSpPr>
        <p:spPr>
          <a:xfrm flipH="1">
            <a:off x="1332000" y="1197000"/>
            <a:ext cx="151272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92436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5724360" y="1197000"/>
            <a:ext cx="237672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3" name="Picture 15" descr="Горение железа"/>
          <p:cNvPicPr/>
          <p:nvPr/>
        </p:nvPicPr>
        <p:blipFill>
          <a:blip r:embed="rId3"/>
          <a:stretch/>
        </p:blipFill>
        <p:spPr>
          <a:xfrm>
            <a:off x="5148360" y="2637000"/>
            <a:ext cx="157644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/>
          <p:cNvSpPr/>
          <p:nvPr/>
        </p:nvSpPr>
        <p:spPr>
          <a:xfrm>
            <a:off x="2340000" y="1773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2.Опис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5364000" y="1197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95280" y="4005360"/>
            <a:ext cx="216072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5.Сравне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2700360" y="4005360"/>
            <a:ext cx="2519280" cy="934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6.Моделирование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8" name="Picture 17" descr="http://doublex.ru/upload/c8/1e/72/2/1d8bb27b_big.jpg"/>
          <p:cNvPicPr/>
          <p:nvPr/>
        </p:nvPicPr>
        <p:blipFill>
          <a:blip r:embed="rId4"/>
          <a:stretch/>
        </p:blipFill>
        <p:spPr>
          <a:xfrm>
            <a:off x="826920" y="4935600"/>
            <a:ext cx="1297080" cy="1922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http://www.render.ru/images/uploads/Image/Tutor/max/305/align.jpg"/>
          <p:cNvPicPr/>
          <p:nvPr/>
        </p:nvPicPr>
        <p:blipFill>
          <a:blip r:embed="rId5"/>
          <a:stretch/>
        </p:blipFill>
        <p:spPr>
          <a:xfrm>
            <a:off x="2627280" y="5057640"/>
            <a:ext cx="262404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1" descr="http://dic.academic.ru/pictures/wiki/files/50/250px-Leonhart_Fuchs_Historia_Stirpium.jpg"/>
          <p:cNvPicPr/>
          <p:nvPr/>
        </p:nvPicPr>
        <p:blipFill>
          <a:blip r:embed="rId6"/>
          <a:stretch/>
        </p:blipFill>
        <p:spPr>
          <a:xfrm>
            <a:off x="2627280" y="2708280"/>
            <a:ext cx="14144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Задача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Содержимое 2" descr=""/>
          <p:cNvPicPr/>
          <p:nvPr/>
        </p:nvPicPr>
        <p:blipFill>
          <a:blip r:embed="rId1"/>
          <a:stretch/>
        </p:blipFill>
        <p:spPr>
          <a:xfrm>
            <a:off x="324000" y="1292400"/>
            <a:ext cx="8496000" cy="213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Picture background"/>
          <p:cNvPicPr/>
          <p:nvPr/>
        </p:nvPicPr>
        <p:blipFill>
          <a:blip r:embed="rId2"/>
          <a:stretch/>
        </p:blipFill>
        <p:spPr>
          <a:xfrm>
            <a:off x="468360" y="3840120"/>
            <a:ext cx="2084400" cy="2781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Picture background"/>
          <p:cNvPicPr/>
          <p:nvPr/>
        </p:nvPicPr>
        <p:blipFill>
          <a:blip r:embed="rId3"/>
          <a:stretch/>
        </p:blipFill>
        <p:spPr>
          <a:xfrm>
            <a:off x="2916360" y="384012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Picture background"/>
          <p:cNvPicPr/>
          <p:nvPr/>
        </p:nvPicPr>
        <p:blipFill>
          <a:blip r:embed="rId4"/>
          <a:stretch/>
        </p:blipFill>
        <p:spPr>
          <a:xfrm>
            <a:off x="6410160" y="3844800"/>
            <a:ext cx="25657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04840" y="857160"/>
            <a:ext cx="873432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кспери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в переводе с латинского языка означает «опыт», «проба». Это еще один метод изучения природы. При проведении опыта человек повторяет, воспроизводит в лаборатории то или иное природное явление</a:t>
            </a:r>
            <a:r>
              <a:rPr b="0" lang="ru-RU" sz="32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0" y="0"/>
            <a:ext cx="2484360" cy="765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8" name="Picture 8" descr="Picture background"/>
          <p:cNvPicPr/>
          <p:nvPr/>
        </p:nvPicPr>
        <p:blipFill>
          <a:blip r:embed="rId1"/>
          <a:stretch/>
        </p:blipFill>
        <p:spPr>
          <a:xfrm>
            <a:off x="1763640" y="3068640"/>
            <a:ext cx="5292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1685880" y="260280"/>
            <a:ext cx="6105960" cy="106884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 различные удобрения влияют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на рост и развитие растений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0" name="Picture 4" descr="Picture background"/>
          <p:cNvPicPr/>
          <p:nvPr/>
        </p:nvPicPr>
        <p:blipFill>
          <a:blip r:embed="rId1"/>
          <a:stretch/>
        </p:blipFill>
        <p:spPr>
          <a:xfrm>
            <a:off x="1187280" y="1484280"/>
            <a:ext cx="710280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678960" y="260280"/>
            <a:ext cx="8117640" cy="581400"/>
          </a:xfrm>
          <a:prstGeom prst="rect">
            <a:avLst/>
          </a:pr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Какие условия нужны для прорастания семян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2" name="Picture 2" descr="Picture background"/>
          <p:cNvPicPr/>
          <p:nvPr/>
        </p:nvPicPr>
        <p:blipFill>
          <a:blip r:embed="rId1"/>
          <a:srcRect l="0" t="19510" r="0" b="6891"/>
          <a:stretch/>
        </p:blipFill>
        <p:spPr>
          <a:xfrm>
            <a:off x="0" y="1341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179280" y="189000"/>
            <a:ext cx="8785440" cy="2016000"/>
          </a:xfrm>
          <a:prstGeom prst="rect">
            <a:avLst/>
          </a:prstGeom>
          <a:solidFill>
            <a:srgbClr val="f4b183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С помощью опытов изучают поведение животных, их язык, память, сообразительность, способность находить дорогу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74" name="Picture 8" descr="Picture background"/>
          <p:cNvPicPr/>
          <p:nvPr/>
        </p:nvPicPr>
        <p:blipFill>
          <a:blip r:embed="rId1"/>
          <a:srcRect l="7232" t="7030" r="5213" b="14675"/>
          <a:stretch/>
        </p:blipFill>
        <p:spPr>
          <a:xfrm>
            <a:off x="1257480" y="2228760"/>
            <a:ext cx="66294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AutoShape 2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3152880" y="160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Прямоугольник 8"/>
          <p:cNvSpPr/>
          <p:nvPr/>
        </p:nvSpPr>
        <p:spPr>
          <a:xfrm>
            <a:off x="108000" y="392040"/>
            <a:ext cx="53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Выяснено, например, что перелетные птицы во время своих путешествий ориентируются по солнцу и звездам. Узнать это помогли очень интересные эксперименты. 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сенью и весной птиц содержали в специальной клетке, откуда они могли видеть солнце. Птицы поворачивались в ту сторону, куда они полетели бы, если бы были свободны. Когда с помощью зеркал ученые изменили направление солнечных лучей, как бы передвинули солнце, птицы повернулись вслед за ним. Так было доказано, что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ни ориентируются по солнцу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одобные опыты проводили и по ночам. Пока птицы видели ночное небо, они располагались в правильном направлении. Но вот их поместили в планетарий и стали менять расположение звезд на искусственном небе. И птицы, доверившись этому небу, поворачивались совсем не туда. Это означало, что они действительно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риентируются по звездам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82" name="Picture 6" descr="https://thumbs.dreamstime.com/z/flock-canada-geese-flying-blue-sky-flock-canada-geese-flying-clear-blue-sky-107998148.jpg"/>
          <p:cNvPicPr/>
          <p:nvPr/>
        </p:nvPicPr>
        <p:blipFill>
          <a:blip r:embed="rId1"/>
          <a:srcRect l="0" t="0" r="0" b="5756"/>
          <a:stretch/>
        </p:blipFill>
        <p:spPr>
          <a:xfrm>
            <a:off x="5527800" y="768240"/>
            <a:ext cx="3541680" cy="53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0" y="765000"/>
            <a:ext cx="8674200" cy="9194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1403280" y="82440"/>
            <a:ext cx="6553440" cy="100836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Calibri"/>
              </a:rPr>
              <a:t>Запомни!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179280" y="141768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ксперимент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 – это метод исследования, который предусматривает создание неких специальных условий для исследования природного объект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179280" y="3639960"/>
            <a:ext cx="867420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рвое условие: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эксперимент всегда ставят не на одном, а на нескольких объектах исследования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торое условие: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результаты единственного эксперимента нельзя считать убедительными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1:58:35Z</dcterms:created>
  <dc:creator>user</dc:creator>
  <dc:description/>
  <dc:language>en-US</dc:language>
  <cp:lastModifiedBy>jivop</cp:lastModifiedBy>
  <dcterms:modified xsi:type="dcterms:W3CDTF">2024-07-27T15:42:04Z</dcterms:modified>
  <cp:revision>37</cp:revision>
  <dc:subject/>
  <dc:title>Слайд 1</dc:title>
</cp:coreProperties>
</file>