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A3AF-C1F8-4428-BD7C-37DBE3352F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методы изучения природы вы еще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опы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опыт отличается от наблюд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на слайд. Как мы назовем этот опыт? Что мы выясним в результате этого опы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10EB-0AD2-4B0E-8861-F9F99CAD13DA}" type="slidenum">
              <a:rPr b="0" lang="ru-RU" sz="12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85E-E7D7-47F2-B084-89982B9ED516}" type="slidenum">
              <a:rPr b="0" lang="ru-RU" sz="12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A8D-7424-47E3-A781-1A3A388D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C8E-DA56-458A-ACB0-412FEC13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3C3-5AFB-4FB2-8CDE-44712268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B6D-2652-4788-8ED4-57FAE857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2175-6C3E-4350-BB2A-860425C3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A3C6-142C-4709-87C3-538CB948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0384-143B-4159-A66D-C0373FDC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723D-A9CF-43DB-B48A-F373E90F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DC44-65D9-43D8-BF8D-26431F71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1E9B-6711-4FA0-8368-0CE67D9C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40DD-75C4-49DC-8848-B9458370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CEC-60E3-4BA5-B7FF-1501613F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83DA-20FF-482E-B2EC-61151C6C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78BE-440E-4D01-AB40-3ECACD5D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71EC-34CF-48AB-9833-6ED1BB85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288C-D0C5-4267-9DA5-E559FF8E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0D09-F075-4B0F-8FC2-C351401A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AD3C-1D58-44C1-8D4A-586AC065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5A98-24DF-40F4-AC06-7FB64266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5172-59B2-4B72-AA0A-0245355E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F641-CB68-4EE2-9028-FCCFBB82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CFBF-2AD8-4564-A795-B042E70E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70E-A033-4D69-A396-63896D7D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510F-D8CE-4D5C-9972-06DDDBF5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12C5E-B1BA-4B93-948F-64A6A09B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C6E6-5965-4CC5-B752-21C9277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66CC-80EF-4427-B6BB-7A72D6F6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0770-DAD1-436F-B2D7-355D2BD6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9F42D-30C6-412E-BEF3-000A7137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0C1A-1661-4F16-A260-CE27FB21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19C-6976-4935-8048-5695AB98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785-BE74-428E-9D1C-4C87C453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477-8831-4D5F-8660-587821CD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2F2-FEA4-4C52-B15C-118F3C94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A13-6C32-44DE-8A2C-70A33B89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E82-6021-4A1E-8C64-10186E25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bf8"/>
            </a:gs>
            <a:gs pos="100000">
              <a:srgbClr val="ebe6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540B-C84A-4340-811D-E1990DDEC455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bf8"/>
            </a:gs>
            <a:gs pos="100000">
              <a:srgbClr val="ebe6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C6CB-8083-4E8C-89EB-BCBC3E4CA0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5"/>
            </a:gs>
            <a:gs pos="100000">
              <a:srgbClr val="fad8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DEF5-F503-4757-9F21-C2DCB1B332EE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http://planeta.moy.su/_bl/214/76723237.png"/>
          <p:cNvPicPr/>
          <p:nvPr/>
        </p:nvPicPr>
        <p:blipFill>
          <a:blip r:embed="rId1"/>
          <a:stretch/>
        </p:blipFill>
        <p:spPr>
          <a:xfrm>
            <a:off x="1042920" y="1700280"/>
            <a:ext cx="7274160" cy="4824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11520" y="189000"/>
            <a:ext cx="9155160" cy="132552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Методы изучения природ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178920"/>
            <a:ext cx="8064720" cy="11430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 Light"/>
              </a:rPr>
              <a:t>План работы исследователя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250920" y="1484280"/>
            <a:ext cx="756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становка цели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бор метода исследования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роведение исследования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лучение результатов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Объяснение полученных результатов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13"/>
          <p:cNvSpPr/>
          <p:nvPr/>
        </p:nvSpPr>
        <p:spPr>
          <a:xfrm flipH="1">
            <a:off x="2195280" y="1197000"/>
            <a:ext cx="936360" cy="28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4140360" y="1197000"/>
            <a:ext cx="576000" cy="28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1763640" y="260280"/>
            <a:ext cx="5113440" cy="93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етоды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зучения природы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0" y="148428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1. Наблюд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716360" y="170028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3.Эксперимент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6983280" y="1773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4.Измер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48" name="Picture 8" descr="Солнца затмение"/>
          <p:cNvPicPr/>
          <p:nvPr/>
        </p:nvPicPr>
        <p:blipFill>
          <a:blip r:embed="rId1"/>
          <a:stretch/>
        </p:blipFill>
        <p:spPr>
          <a:xfrm>
            <a:off x="0" y="2421000"/>
            <a:ext cx="1992240" cy="15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Давления измерение"/>
          <p:cNvPicPr/>
          <p:nvPr/>
        </p:nvPicPr>
        <p:blipFill>
          <a:blip r:embed="rId2"/>
          <a:stretch/>
        </p:blipFill>
        <p:spPr>
          <a:xfrm>
            <a:off x="6750000" y="2852640"/>
            <a:ext cx="2394000" cy="1584360"/>
          </a:xfrm>
          <a:prstGeom prst="rect">
            <a:avLst/>
          </a:prstGeom>
          <a:ln w="0">
            <a:noFill/>
          </a:ln>
        </p:spPr>
      </p:pic>
      <p:sp>
        <p:nvSpPr>
          <p:cNvPr id="250" name="Line 12"/>
          <p:cNvSpPr/>
          <p:nvPr/>
        </p:nvSpPr>
        <p:spPr>
          <a:xfrm flipH="1">
            <a:off x="1332000" y="1197000"/>
            <a:ext cx="151272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3924360" y="1197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5724360" y="1197000"/>
            <a:ext cx="237672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53" name="Picture 15" descr="Горение железа"/>
          <p:cNvPicPr/>
          <p:nvPr/>
        </p:nvPicPr>
        <p:blipFill>
          <a:blip r:embed="rId3"/>
          <a:stretch/>
        </p:blipFill>
        <p:spPr>
          <a:xfrm>
            <a:off x="5148360" y="2637000"/>
            <a:ext cx="1576440" cy="22320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6"/>
          <p:cNvSpPr/>
          <p:nvPr/>
        </p:nvSpPr>
        <p:spPr>
          <a:xfrm>
            <a:off x="2340000" y="1773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2.Описа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5364000" y="1197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395280" y="4005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5.Сравн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2700360" y="4005360"/>
            <a:ext cx="251928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6.Моделирова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58" name="Picture 17" descr="http://doublex.ru/upload/c8/1e/72/2/1d8bb27b_big.jpg"/>
          <p:cNvPicPr/>
          <p:nvPr/>
        </p:nvPicPr>
        <p:blipFill>
          <a:blip r:embed="rId4"/>
          <a:stretch/>
        </p:blipFill>
        <p:spPr>
          <a:xfrm>
            <a:off x="826920" y="4935600"/>
            <a:ext cx="1297080" cy="1922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http://www.render.ru/images/uploads/Image/Tutor/max/305/align.jpg"/>
          <p:cNvPicPr/>
          <p:nvPr/>
        </p:nvPicPr>
        <p:blipFill>
          <a:blip r:embed="rId5"/>
          <a:stretch/>
        </p:blipFill>
        <p:spPr>
          <a:xfrm>
            <a:off x="2627280" y="5057640"/>
            <a:ext cx="262404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1" descr="http://dic.academic.ru/pictures/wiki/files/50/250px-Leonhart_Fuchs_Historia_Stirpium.jpg"/>
          <p:cNvPicPr/>
          <p:nvPr/>
        </p:nvPicPr>
        <p:blipFill>
          <a:blip r:embed="rId6"/>
          <a:stretch/>
        </p:blipFill>
        <p:spPr>
          <a:xfrm>
            <a:off x="2627280" y="2708280"/>
            <a:ext cx="14144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31960"/>
          </a:xfrm>
          <a:prstGeom prst="rect">
            <a:avLst/>
          </a:prstGeom>
          <a:solidFill>
            <a:srgbClr val="f4b18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Задача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2" name="Содержимое 2" descr=""/>
          <p:cNvPicPr/>
          <p:nvPr/>
        </p:nvPicPr>
        <p:blipFill>
          <a:blip r:embed="rId1"/>
          <a:stretch/>
        </p:blipFill>
        <p:spPr>
          <a:xfrm>
            <a:off x="324000" y="1292400"/>
            <a:ext cx="8496000" cy="2139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Picture background"/>
          <p:cNvPicPr/>
          <p:nvPr/>
        </p:nvPicPr>
        <p:blipFill>
          <a:blip r:embed="rId2"/>
          <a:stretch/>
        </p:blipFill>
        <p:spPr>
          <a:xfrm>
            <a:off x="468360" y="3840120"/>
            <a:ext cx="2084400" cy="2781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Picture background"/>
          <p:cNvPicPr/>
          <p:nvPr/>
        </p:nvPicPr>
        <p:blipFill>
          <a:blip r:embed="rId3"/>
          <a:stretch/>
        </p:blipFill>
        <p:spPr>
          <a:xfrm>
            <a:off x="2916360" y="384012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Picture background"/>
          <p:cNvPicPr/>
          <p:nvPr/>
        </p:nvPicPr>
        <p:blipFill>
          <a:blip r:embed="rId4"/>
          <a:stretch/>
        </p:blipFill>
        <p:spPr>
          <a:xfrm>
            <a:off x="6410160" y="3844800"/>
            <a:ext cx="25657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04840" y="857160"/>
            <a:ext cx="873432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Экспери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в переводе с латинского языка означает «опыт», «проба». Это еще один метод изучения природы. При проведении опыта человек повторяет, воспроизводит в лаборатории то или иное природное явление</a:t>
            </a:r>
            <a:r>
              <a:rPr b="0" lang="ru-RU" sz="32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0" y="0"/>
            <a:ext cx="2484360" cy="765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ловарь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68" name="Picture 8" descr="Picture background"/>
          <p:cNvPicPr/>
          <p:nvPr/>
        </p:nvPicPr>
        <p:blipFill>
          <a:blip r:embed="rId1"/>
          <a:stretch/>
        </p:blipFill>
        <p:spPr>
          <a:xfrm>
            <a:off x="1763640" y="3068640"/>
            <a:ext cx="5292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1685880" y="260280"/>
            <a:ext cx="6105960" cy="1068840"/>
          </a:xfrm>
          <a:prstGeom prst="rect">
            <a:avLst/>
          </a:prstGeom>
          <a:solidFill>
            <a:srgbClr val="f4b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Как различные удобрения влияют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на рост и развитие растений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0" name="Picture 4" descr="Picture background"/>
          <p:cNvPicPr/>
          <p:nvPr/>
        </p:nvPicPr>
        <p:blipFill>
          <a:blip r:embed="rId1"/>
          <a:stretch/>
        </p:blipFill>
        <p:spPr>
          <a:xfrm>
            <a:off x="1187280" y="1484280"/>
            <a:ext cx="7102800" cy="52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5"/>
          <p:cNvSpPr/>
          <p:nvPr/>
        </p:nvSpPr>
        <p:spPr>
          <a:xfrm>
            <a:off x="678960" y="260280"/>
            <a:ext cx="8117640" cy="581400"/>
          </a:xfrm>
          <a:prstGeom prst="rect">
            <a:avLst/>
          </a:prstGeom>
          <a:solidFill>
            <a:srgbClr val="f4b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Какие условия нужны для прорастания семян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2" name="Picture 2" descr="Picture background"/>
          <p:cNvPicPr/>
          <p:nvPr/>
        </p:nvPicPr>
        <p:blipFill>
          <a:blip r:embed="rId1"/>
          <a:srcRect l="0" t="19510" r="0" b="6891"/>
          <a:stretch/>
        </p:blipFill>
        <p:spPr>
          <a:xfrm>
            <a:off x="0" y="1341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2"/>
          <p:cNvSpPr/>
          <p:nvPr/>
        </p:nvSpPr>
        <p:spPr>
          <a:xfrm>
            <a:off x="179280" y="189000"/>
            <a:ext cx="8785440" cy="201600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С помощью опытов изучают поведение животных, их язык, память, сообразительность, способность находить дорогу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4" name="Picture 8" descr="Picture background"/>
          <p:cNvPicPr/>
          <p:nvPr/>
        </p:nvPicPr>
        <p:blipFill>
          <a:blip r:embed="rId1"/>
          <a:srcRect l="7232" t="7030" r="5213" b="14675"/>
          <a:stretch/>
        </p:blipFill>
        <p:spPr>
          <a:xfrm>
            <a:off x="1257480" y="2228760"/>
            <a:ext cx="66294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6" name="AutoShape 2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1" name="Прямоугольник 8"/>
          <p:cNvSpPr/>
          <p:nvPr/>
        </p:nvSpPr>
        <p:spPr>
          <a:xfrm>
            <a:off x="108000" y="392040"/>
            <a:ext cx="53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Выяснено, например, что перелетные птицы во время своих путешествий ориентируются по солнцу и звездам. Узнать это помогли очень интересные эксперименты.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сенью и весной птиц содержали в специальной клетке, откуда они могли видеть солнце. Птицы поворачивались в ту сторону, куда они полетели бы, если бы были свободны. Когда с помощью зеркал ученые изменили направление солнечных лучей, как бы передвинули солнце, птицы повернулись вслед за ним. Так было доказано, что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ни ориентируются по солнцу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одобные опыты проводили и по ночам. Пока птицы видели ночное небо, они располагались в правильном направлении. Но вот их поместили в планетарий и стали менять расположение звезд на искусственном небе. И птицы, доверившись этому небу, поворачивались совсем не туда. Это означало, что они действительно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риентируются по звезда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82" name="Picture 6" descr="https://thumbs.dreamstime.com/z/flock-canada-geese-flying-blue-sky-flock-canada-geese-flying-clear-blue-sky-107998148.jpg"/>
          <p:cNvPicPr/>
          <p:nvPr/>
        </p:nvPicPr>
        <p:blipFill>
          <a:blip r:embed="rId1"/>
          <a:srcRect l="0" t="0" r="0" b="5756"/>
          <a:stretch/>
        </p:blipFill>
        <p:spPr>
          <a:xfrm>
            <a:off x="5527800" y="768240"/>
            <a:ext cx="3541680" cy="532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4" descr="Рисунок3.png"/>
          <p:cNvPicPr/>
          <p:nvPr/>
        </p:nvPicPr>
        <p:blipFill>
          <a:blip r:embed="rId1"/>
          <a:stretch/>
        </p:blipFill>
        <p:spPr>
          <a:xfrm>
            <a:off x="0" y="765000"/>
            <a:ext cx="8674200" cy="9194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"/>
          <p:cNvSpPr/>
          <p:nvPr/>
        </p:nvSpPr>
        <p:spPr>
          <a:xfrm>
            <a:off x="1403280" y="82440"/>
            <a:ext cx="6553440" cy="100836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Calibri"/>
              </a:rPr>
              <a:t>Запомни!</a:t>
            </a:r>
            <a:endParaRPr b="0" lang="en-US" sz="6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179280" y="1417680"/>
            <a:ext cx="88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Эксперимент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– это метод исследования, который предусматривает создание неких специальных условий для исследования природного объекта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6" name="Прямоугольник 8"/>
          <p:cNvSpPr/>
          <p:nvPr/>
        </p:nvSpPr>
        <p:spPr>
          <a:xfrm>
            <a:off x="179280" y="3639960"/>
            <a:ext cx="867420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ервое условие: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эксперимент всегда ставят не на одном, а на нескольких объектах исследования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торое условие: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результаты единственного эксперимента нельзя считать убедительными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1:58:35Z</dcterms:created>
  <dc:creator>user</dc:creator>
  <dc:description/>
  <dc:language>en-US</dc:language>
  <cp:lastModifiedBy>jivop</cp:lastModifiedBy>
  <dcterms:modified xsi:type="dcterms:W3CDTF">2024-07-27T15:42:04Z</dcterms:modified>
  <cp:revision>37</cp:revision>
  <dc:subject/>
  <dc:title>Слайд 1</dc:title>
</cp:coreProperties>
</file>